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7.jpeg" ContentType="image/jpeg"/>
  <Override PartName="/ppt/media/image26.png" ContentType="image/png"/>
  <Override PartName="/ppt/media/image25.png" ContentType="image/png"/>
  <Override PartName="/ppt/media/image23.png" ContentType="image/png"/>
  <Override PartName="/ppt/media/image9.wmf" ContentType="image/x-wmf"/>
  <Override PartName="/ppt/media/image14.png" ContentType="image/png"/>
  <Override PartName="/ppt/media/image34.jpeg" ContentType="image/jpeg"/>
  <Override PartName="/ppt/media/image11.png" ContentType="image/png"/>
  <Override PartName="/ppt/media/image18.png" ContentType="image/png"/>
  <Override PartName="/ppt/media/image6.jpeg" ContentType="image/jpeg"/>
  <Override PartName="/ppt/media/image13.png" ContentType="image/png"/>
  <Override PartName="/ppt/media/image8.wmf" ContentType="image/x-wmf"/>
  <Override PartName="/ppt/media/image10.png" ContentType="image/png"/>
  <Override PartName="/ppt/media/image35.jpeg" ContentType="image/jpeg"/>
  <Override PartName="/ppt/media/image32.png" ContentType="image/png"/>
  <Override PartName="/ppt/media/image33.png" ContentType="image/png"/>
  <Override PartName="/ppt/media/image12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20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907588" cy="6858000"/>
  <p:notesSz cx="9902825" cy="6642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7058-5932-467A-96FC-4AB8C60D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A898-B603-4036-91B2-FB637A72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77D2-C0E2-4810-B0DD-294892FDB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581D-50FA-4808-B10F-7A6C897F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2393-4AA8-4F4E-828B-C76CCB72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D920-D6A1-404F-895B-18E72311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91AA-B807-4A91-A4E2-E25FB91B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7F88-B517-41EE-A0F0-D9264CEA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8E90-7F33-464B-98B0-5A1B62F9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FEB2-B094-433F-8E56-8BD2A37B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C90F-7EC5-4A7D-A29E-52083756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67E3-76B9-4590-95BA-CE0EF7FC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21A9-FB40-40F8-8A39-23D94F9CB3C4}" type="slidenum"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60012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Garamond"/>
              </a:rPr>
              <a:t>KIRK DECT-Z System 1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0"/>
            <a:ext cx="5657760" cy="6858000"/>
            <a:chOff x="0" y="0"/>
            <a:chExt cx="5657760" cy="6858000"/>
          </a:xfrm>
        </p:grpSpPr>
        <p:sp>
          <p:nvSpPr>
            <p:cNvPr id="43" name=""/>
            <p:cNvSpPr/>
            <p:nvPr/>
          </p:nvSpPr>
          <p:spPr>
            <a:xfrm>
              <a:off x="0" y="0"/>
              <a:ext cx="2057400" cy="3429000"/>
            </a:xfrm>
            <a:prstGeom prst="rect">
              <a:avLst/>
            </a:prstGeom>
            <a:solidFill>
              <a:srgbClr val="000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3429000"/>
              <a:ext cx="2057400" cy="3429000"/>
            </a:xfrm>
            <a:prstGeom prst="rect">
              <a:avLst/>
            </a:pr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47800" y="6324480"/>
              <a:ext cx="3045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353200" y="6324480"/>
              <a:ext cx="3045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185760" y="2055960"/>
              <a:ext cx="1574640" cy="271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" name=""/>
            <p:cNvGrpSpPr/>
            <p:nvPr/>
          </p:nvGrpSpPr>
          <p:grpSpPr>
            <a:xfrm>
              <a:off x="195120" y="380880"/>
              <a:ext cx="1517400" cy="821880"/>
              <a:chOff x="195120" y="380880"/>
              <a:chExt cx="1517400" cy="821880"/>
            </a:xfrm>
          </p:grpSpPr>
          <p:sp>
            <p:nvSpPr>
              <p:cNvPr id="49" name=""/>
              <p:cNvSpPr/>
              <p:nvPr/>
            </p:nvSpPr>
            <p:spPr>
              <a:xfrm>
                <a:off x="372960" y="380880"/>
                <a:ext cx="313200" cy="387360"/>
              </a:xfrm>
              <a:custGeom>
                <a:avLst/>
                <a:gdLst/>
                <a:ahLst/>
                <a:rect l="l" t="t" r="r" b="b"/>
                <a:pathLst>
                  <a:path w="1606" h="1987">
                    <a:moveTo>
                      <a:pt x="29" y="1655"/>
                    </a:moveTo>
                    <a:lnTo>
                      <a:pt x="79" y="1682"/>
                    </a:lnTo>
                    <a:lnTo>
                      <a:pt x="623" y="1957"/>
                    </a:lnTo>
                    <a:lnTo>
                      <a:pt x="684" y="1987"/>
                    </a:lnTo>
                    <a:lnTo>
                      <a:pt x="687" y="1916"/>
                    </a:lnTo>
                    <a:lnTo>
                      <a:pt x="691" y="1864"/>
                    </a:lnTo>
                    <a:lnTo>
                      <a:pt x="697" y="1814"/>
                    </a:lnTo>
                    <a:lnTo>
                      <a:pt x="704" y="1763"/>
                    </a:lnTo>
                    <a:lnTo>
                      <a:pt x="713" y="1714"/>
                    </a:lnTo>
                    <a:lnTo>
                      <a:pt x="724" y="1665"/>
                    </a:lnTo>
                    <a:lnTo>
                      <a:pt x="737" y="1616"/>
                    </a:lnTo>
                    <a:lnTo>
                      <a:pt x="751" y="1569"/>
                    </a:lnTo>
                    <a:lnTo>
                      <a:pt x="767" y="1522"/>
                    </a:lnTo>
                    <a:lnTo>
                      <a:pt x="784" y="1476"/>
                    </a:lnTo>
                    <a:lnTo>
                      <a:pt x="803" y="1431"/>
                    </a:lnTo>
                    <a:lnTo>
                      <a:pt x="824" y="1386"/>
                    </a:lnTo>
                    <a:lnTo>
                      <a:pt x="846" y="1343"/>
                    </a:lnTo>
                    <a:lnTo>
                      <a:pt x="869" y="1300"/>
                    </a:lnTo>
                    <a:lnTo>
                      <a:pt x="894" y="1257"/>
                    </a:lnTo>
                    <a:lnTo>
                      <a:pt x="920" y="1217"/>
                    </a:lnTo>
                    <a:lnTo>
                      <a:pt x="948" y="1177"/>
                    </a:lnTo>
                    <a:lnTo>
                      <a:pt x="976" y="1137"/>
                    </a:lnTo>
                    <a:lnTo>
                      <a:pt x="1007" y="1100"/>
                    </a:lnTo>
                    <a:lnTo>
                      <a:pt x="1038" y="1063"/>
                    </a:lnTo>
                    <a:lnTo>
                      <a:pt x="1071" y="1027"/>
                    </a:lnTo>
                    <a:lnTo>
                      <a:pt x="1105" y="993"/>
                    </a:lnTo>
                    <a:lnTo>
                      <a:pt x="1140" y="959"/>
                    </a:lnTo>
                    <a:lnTo>
                      <a:pt x="1176" y="927"/>
                    </a:lnTo>
                    <a:lnTo>
                      <a:pt x="1213" y="896"/>
                    </a:lnTo>
                    <a:lnTo>
                      <a:pt x="1250" y="866"/>
                    </a:lnTo>
                    <a:lnTo>
                      <a:pt x="1290" y="838"/>
                    </a:lnTo>
                    <a:lnTo>
                      <a:pt x="1331" y="810"/>
                    </a:lnTo>
                    <a:lnTo>
                      <a:pt x="1372" y="785"/>
                    </a:lnTo>
                    <a:lnTo>
                      <a:pt x="1414" y="760"/>
                    </a:lnTo>
                    <a:lnTo>
                      <a:pt x="1457" y="737"/>
                    </a:lnTo>
                    <a:lnTo>
                      <a:pt x="1501" y="716"/>
                    </a:lnTo>
                    <a:lnTo>
                      <a:pt x="1546" y="696"/>
                    </a:lnTo>
                    <a:lnTo>
                      <a:pt x="1584" y="680"/>
                    </a:lnTo>
                    <a:lnTo>
                      <a:pt x="1594" y="673"/>
                    </a:lnTo>
                    <a:lnTo>
                      <a:pt x="1600" y="665"/>
                    </a:lnTo>
                    <a:lnTo>
                      <a:pt x="1604" y="658"/>
                    </a:lnTo>
                    <a:lnTo>
                      <a:pt x="1606" y="650"/>
                    </a:lnTo>
                    <a:lnTo>
                      <a:pt x="1605" y="638"/>
                    </a:lnTo>
                    <a:lnTo>
                      <a:pt x="1603" y="632"/>
                    </a:lnTo>
                    <a:lnTo>
                      <a:pt x="1586" y="586"/>
                    </a:lnTo>
                    <a:lnTo>
                      <a:pt x="1385" y="31"/>
                    </a:lnTo>
                    <a:lnTo>
                      <a:pt x="1381" y="18"/>
                    </a:lnTo>
                    <a:lnTo>
                      <a:pt x="1380" y="13"/>
                    </a:lnTo>
                    <a:lnTo>
                      <a:pt x="1372" y="5"/>
                    </a:lnTo>
                    <a:lnTo>
                      <a:pt x="1367" y="2"/>
                    </a:lnTo>
                    <a:lnTo>
                      <a:pt x="1359" y="0"/>
                    </a:lnTo>
                    <a:lnTo>
                      <a:pt x="1349" y="0"/>
                    </a:lnTo>
                    <a:lnTo>
                      <a:pt x="1337" y="3"/>
                    </a:lnTo>
                    <a:lnTo>
                      <a:pt x="1307" y="14"/>
                    </a:lnTo>
                    <a:lnTo>
                      <a:pt x="1248" y="37"/>
                    </a:lnTo>
                    <a:lnTo>
                      <a:pt x="1190" y="63"/>
                    </a:lnTo>
                    <a:lnTo>
                      <a:pt x="1133" y="89"/>
                    </a:lnTo>
                    <a:lnTo>
                      <a:pt x="1076" y="119"/>
                    </a:lnTo>
                    <a:lnTo>
                      <a:pt x="1021" y="149"/>
                    </a:lnTo>
                    <a:lnTo>
                      <a:pt x="966" y="181"/>
                    </a:lnTo>
                    <a:lnTo>
                      <a:pt x="913" y="215"/>
                    </a:lnTo>
                    <a:lnTo>
                      <a:pt x="861" y="251"/>
                    </a:lnTo>
                    <a:lnTo>
                      <a:pt x="810" y="289"/>
                    </a:lnTo>
                    <a:lnTo>
                      <a:pt x="759" y="328"/>
                    </a:lnTo>
                    <a:lnTo>
                      <a:pt x="711" y="369"/>
                    </a:lnTo>
                    <a:lnTo>
                      <a:pt x="663" y="411"/>
                    </a:lnTo>
                    <a:lnTo>
                      <a:pt x="616" y="455"/>
                    </a:lnTo>
                    <a:lnTo>
                      <a:pt x="572" y="501"/>
                    </a:lnTo>
                    <a:lnTo>
                      <a:pt x="528" y="547"/>
                    </a:lnTo>
                    <a:lnTo>
                      <a:pt x="485" y="595"/>
                    </a:lnTo>
                    <a:lnTo>
                      <a:pt x="443" y="645"/>
                    </a:lnTo>
                    <a:lnTo>
                      <a:pt x="404" y="695"/>
                    </a:lnTo>
                    <a:lnTo>
                      <a:pt x="365" y="747"/>
                    </a:lnTo>
                    <a:lnTo>
                      <a:pt x="329" y="800"/>
                    </a:lnTo>
                    <a:lnTo>
                      <a:pt x="294" y="854"/>
                    </a:lnTo>
                    <a:lnTo>
                      <a:pt x="260" y="910"/>
                    </a:lnTo>
                    <a:lnTo>
                      <a:pt x="228" y="967"/>
                    </a:lnTo>
                    <a:lnTo>
                      <a:pt x="197" y="1024"/>
                    </a:lnTo>
                    <a:lnTo>
                      <a:pt x="169" y="1084"/>
                    </a:lnTo>
                    <a:lnTo>
                      <a:pt x="142" y="1144"/>
                    </a:lnTo>
                    <a:lnTo>
                      <a:pt x="116" y="1204"/>
                    </a:lnTo>
                    <a:lnTo>
                      <a:pt x="93" y="1266"/>
                    </a:lnTo>
                    <a:lnTo>
                      <a:pt x="71" y="1329"/>
                    </a:lnTo>
                    <a:lnTo>
                      <a:pt x="52" y="1392"/>
                    </a:lnTo>
                    <a:lnTo>
                      <a:pt x="34" y="1457"/>
                    </a:lnTo>
                    <a:lnTo>
                      <a:pt x="18" y="1522"/>
                    </a:lnTo>
                    <a:lnTo>
                      <a:pt x="2" y="1593"/>
                    </a:lnTo>
                    <a:lnTo>
                      <a:pt x="0" y="1610"/>
                    </a:lnTo>
                    <a:lnTo>
                      <a:pt x="1" y="1623"/>
                    </a:lnTo>
                    <a:lnTo>
                      <a:pt x="6" y="1634"/>
                    </a:lnTo>
                    <a:lnTo>
                      <a:pt x="11" y="1643"/>
                    </a:lnTo>
                    <a:lnTo>
                      <a:pt x="17" y="1648"/>
                    </a:lnTo>
                    <a:lnTo>
                      <a:pt x="23" y="1652"/>
                    </a:lnTo>
                    <a:lnTo>
                      <a:pt x="29" y="1655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72960" y="770040"/>
                <a:ext cx="313200" cy="387360"/>
              </a:xfrm>
              <a:custGeom>
                <a:avLst/>
                <a:gdLst/>
                <a:ahLst/>
                <a:rect l="l" t="t" r="r" b="b"/>
                <a:pathLst>
                  <a:path w="1606" h="1985">
                    <a:moveTo>
                      <a:pt x="29" y="333"/>
                    </a:moveTo>
                    <a:lnTo>
                      <a:pt x="79" y="306"/>
                    </a:lnTo>
                    <a:lnTo>
                      <a:pt x="623" y="31"/>
                    </a:lnTo>
                    <a:lnTo>
                      <a:pt x="684" y="0"/>
                    </a:lnTo>
                    <a:lnTo>
                      <a:pt x="687" y="72"/>
                    </a:lnTo>
                    <a:lnTo>
                      <a:pt x="691" y="123"/>
                    </a:lnTo>
                    <a:lnTo>
                      <a:pt x="697" y="174"/>
                    </a:lnTo>
                    <a:lnTo>
                      <a:pt x="704" y="224"/>
                    </a:lnTo>
                    <a:lnTo>
                      <a:pt x="713" y="273"/>
                    </a:lnTo>
                    <a:lnTo>
                      <a:pt x="724" y="323"/>
                    </a:lnTo>
                    <a:lnTo>
                      <a:pt x="737" y="371"/>
                    </a:lnTo>
                    <a:lnTo>
                      <a:pt x="751" y="418"/>
                    </a:lnTo>
                    <a:lnTo>
                      <a:pt x="767" y="465"/>
                    </a:lnTo>
                    <a:lnTo>
                      <a:pt x="784" y="512"/>
                    </a:lnTo>
                    <a:lnTo>
                      <a:pt x="803" y="557"/>
                    </a:lnTo>
                    <a:lnTo>
                      <a:pt x="824" y="602"/>
                    </a:lnTo>
                    <a:lnTo>
                      <a:pt x="846" y="645"/>
                    </a:lnTo>
                    <a:lnTo>
                      <a:pt x="869" y="688"/>
                    </a:lnTo>
                    <a:lnTo>
                      <a:pt x="894" y="730"/>
                    </a:lnTo>
                    <a:lnTo>
                      <a:pt x="920" y="771"/>
                    </a:lnTo>
                    <a:lnTo>
                      <a:pt x="948" y="811"/>
                    </a:lnTo>
                    <a:lnTo>
                      <a:pt x="976" y="850"/>
                    </a:lnTo>
                    <a:lnTo>
                      <a:pt x="1007" y="888"/>
                    </a:lnTo>
                    <a:lnTo>
                      <a:pt x="1038" y="924"/>
                    </a:lnTo>
                    <a:lnTo>
                      <a:pt x="1071" y="961"/>
                    </a:lnTo>
                    <a:lnTo>
                      <a:pt x="1105" y="995"/>
                    </a:lnTo>
                    <a:lnTo>
                      <a:pt x="1140" y="1029"/>
                    </a:lnTo>
                    <a:lnTo>
                      <a:pt x="1176" y="1061"/>
                    </a:lnTo>
                    <a:lnTo>
                      <a:pt x="1213" y="1092"/>
                    </a:lnTo>
                    <a:lnTo>
                      <a:pt x="1252" y="1122"/>
                    </a:lnTo>
                    <a:lnTo>
                      <a:pt x="1290" y="1151"/>
                    </a:lnTo>
                    <a:lnTo>
                      <a:pt x="1331" y="1177"/>
                    </a:lnTo>
                    <a:lnTo>
                      <a:pt x="1372" y="1203"/>
                    </a:lnTo>
                    <a:lnTo>
                      <a:pt x="1414" y="1227"/>
                    </a:lnTo>
                    <a:lnTo>
                      <a:pt x="1457" y="1250"/>
                    </a:lnTo>
                    <a:lnTo>
                      <a:pt x="1501" y="1271"/>
                    </a:lnTo>
                    <a:lnTo>
                      <a:pt x="1546" y="1292"/>
                    </a:lnTo>
                    <a:lnTo>
                      <a:pt x="1584" y="1308"/>
                    </a:lnTo>
                    <a:lnTo>
                      <a:pt x="1594" y="1315"/>
                    </a:lnTo>
                    <a:lnTo>
                      <a:pt x="1600" y="1323"/>
                    </a:lnTo>
                    <a:lnTo>
                      <a:pt x="1605" y="1331"/>
                    </a:lnTo>
                    <a:lnTo>
                      <a:pt x="1606" y="1337"/>
                    </a:lnTo>
                    <a:lnTo>
                      <a:pt x="1605" y="1349"/>
                    </a:lnTo>
                    <a:lnTo>
                      <a:pt x="1603" y="1355"/>
                    </a:lnTo>
                    <a:lnTo>
                      <a:pt x="1586" y="1401"/>
                    </a:lnTo>
                    <a:lnTo>
                      <a:pt x="1388" y="1950"/>
                    </a:lnTo>
                    <a:lnTo>
                      <a:pt x="1381" y="1965"/>
                    </a:lnTo>
                    <a:lnTo>
                      <a:pt x="1379" y="1970"/>
                    </a:lnTo>
                    <a:lnTo>
                      <a:pt x="1371" y="1978"/>
                    </a:lnTo>
                    <a:lnTo>
                      <a:pt x="1366" y="1983"/>
                    </a:lnTo>
                    <a:lnTo>
                      <a:pt x="1358" y="1985"/>
                    </a:lnTo>
                    <a:lnTo>
                      <a:pt x="1348" y="1985"/>
                    </a:lnTo>
                    <a:lnTo>
                      <a:pt x="1338" y="1983"/>
                    </a:lnTo>
                    <a:lnTo>
                      <a:pt x="1302" y="1969"/>
                    </a:lnTo>
                    <a:lnTo>
                      <a:pt x="1242" y="1942"/>
                    </a:lnTo>
                    <a:lnTo>
                      <a:pt x="1181" y="1915"/>
                    </a:lnTo>
                    <a:lnTo>
                      <a:pt x="1123" y="1886"/>
                    </a:lnTo>
                    <a:lnTo>
                      <a:pt x="1066" y="1857"/>
                    </a:lnTo>
                    <a:lnTo>
                      <a:pt x="1009" y="1824"/>
                    </a:lnTo>
                    <a:lnTo>
                      <a:pt x="954" y="1791"/>
                    </a:lnTo>
                    <a:lnTo>
                      <a:pt x="901" y="1756"/>
                    </a:lnTo>
                    <a:lnTo>
                      <a:pt x="848" y="1719"/>
                    </a:lnTo>
                    <a:lnTo>
                      <a:pt x="796" y="1682"/>
                    </a:lnTo>
                    <a:lnTo>
                      <a:pt x="747" y="1642"/>
                    </a:lnTo>
                    <a:lnTo>
                      <a:pt x="698" y="1602"/>
                    </a:lnTo>
                    <a:lnTo>
                      <a:pt x="650" y="1560"/>
                    </a:lnTo>
                    <a:lnTo>
                      <a:pt x="604" y="1517"/>
                    </a:lnTo>
                    <a:lnTo>
                      <a:pt x="559" y="1472"/>
                    </a:lnTo>
                    <a:lnTo>
                      <a:pt x="517" y="1426"/>
                    </a:lnTo>
                    <a:lnTo>
                      <a:pt x="475" y="1379"/>
                    </a:lnTo>
                    <a:lnTo>
                      <a:pt x="434" y="1331"/>
                    </a:lnTo>
                    <a:lnTo>
                      <a:pt x="395" y="1281"/>
                    </a:lnTo>
                    <a:lnTo>
                      <a:pt x="358" y="1230"/>
                    </a:lnTo>
                    <a:lnTo>
                      <a:pt x="323" y="1178"/>
                    </a:lnTo>
                    <a:lnTo>
                      <a:pt x="287" y="1124"/>
                    </a:lnTo>
                    <a:lnTo>
                      <a:pt x="255" y="1070"/>
                    </a:lnTo>
                    <a:lnTo>
                      <a:pt x="224" y="1014"/>
                    </a:lnTo>
                    <a:lnTo>
                      <a:pt x="194" y="957"/>
                    </a:lnTo>
                    <a:lnTo>
                      <a:pt x="166" y="900"/>
                    </a:lnTo>
                    <a:lnTo>
                      <a:pt x="139" y="841"/>
                    </a:lnTo>
                    <a:lnTo>
                      <a:pt x="115" y="781"/>
                    </a:lnTo>
                    <a:lnTo>
                      <a:pt x="92" y="720"/>
                    </a:lnTo>
                    <a:lnTo>
                      <a:pt x="71" y="658"/>
                    </a:lnTo>
                    <a:lnTo>
                      <a:pt x="52" y="595"/>
                    </a:lnTo>
                    <a:lnTo>
                      <a:pt x="34" y="530"/>
                    </a:lnTo>
                    <a:lnTo>
                      <a:pt x="18" y="465"/>
                    </a:lnTo>
                    <a:lnTo>
                      <a:pt x="3" y="394"/>
                    </a:lnTo>
                    <a:lnTo>
                      <a:pt x="0" y="378"/>
                    </a:lnTo>
                    <a:lnTo>
                      <a:pt x="1" y="364"/>
                    </a:lnTo>
                    <a:lnTo>
                      <a:pt x="6" y="353"/>
                    </a:lnTo>
                    <a:lnTo>
                      <a:pt x="11" y="346"/>
                    </a:lnTo>
                    <a:lnTo>
                      <a:pt x="17" y="339"/>
                    </a:lnTo>
                    <a:lnTo>
                      <a:pt x="23" y="336"/>
                    </a:lnTo>
                    <a:lnTo>
                      <a:pt x="29" y="333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16320" y="698400"/>
                <a:ext cx="137880" cy="147600"/>
              </a:xfrm>
              <a:custGeom>
                <a:avLst/>
                <a:gdLst/>
                <a:ahLst/>
                <a:rect l="l" t="t" r="r" b="b"/>
                <a:pathLst>
                  <a:path w="714" h="759">
                    <a:moveTo>
                      <a:pt x="699" y="379"/>
                    </a:moveTo>
                    <a:lnTo>
                      <a:pt x="706" y="375"/>
                    </a:lnTo>
                    <a:lnTo>
                      <a:pt x="710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09" y="351"/>
                    </a:lnTo>
                    <a:lnTo>
                      <a:pt x="705" y="346"/>
                    </a:lnTo>
                    <a:lnTo>
                      <a:pt x="699" y="342"/>
                    </a:lnTo>
                    <a:lnTo>
                      <a:pt x="35" y="4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3" y="11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735"/>
                    </a:lnTo>
                    <a:lnTo>
                      <a:pt x="1" y="743"/>
                    </a:lnTo>
                    <a:lnTo>
                      <a:pt x="3" y="748"/>
                    </a:lnTo>
                    <a:lnTo>
                      <a:pt x="5" y="753"/>
                    </a:lnTo>
                    <a:lnTo>
                      <a:pt x="10" y="757"/>
                    </a:lnTo>
                    <a:lnTo>
                      <a:pt x="15" y="759"/>
                    </a:lnTo>
                    <a:lnTo>
                      <a:pt x="21" y="759"/>
                    </a:lnTo>
                    <a:lnTo>
                      <a:pt x="27" y="758"/>
                    </a:lnTo>
                    <a:lnTo>
                      <a:pt x="34" y="755"/>
                    </a:lnTo>
                    <a:lnTo>
                      <a:pt x="699" y="379"/>
                    </a:lnTo>
                    <a:close/>
                  </a:path>
                </a:pathLst>
              </a:custGeom>
              <a:solidFill>
                <a:srgbClr val="00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95120" y="701640"/>
                <a:ext cx="138240" cy="146160"/>
              </a:xfrm>
              <a:custGeom>
                <a:avLst/>
                <a:gdLst/>
                <a:ahLst/>
                <a:rect l="l" t="t" r="r" b="b"/>
                <a:pathLst>
                  <a:path w="714" h="758">
                    <a:moveTo>
                      <a:pt x="701" y="379"/>
                    </a:moveTo>
                    <a:lnTo>
                      <a:pt x="706" y="374"/>
                    </a:lnTo>
                    <a:lnTo>
                      <a:pt x="711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11" y="350"/>
                    </a:lnTo>
                    <a:lnTo>
                      <a:pt x="706" y="346"/>
                    </a:lnTo>
                    <a:lnTo>
                      <a:pt x="700" y="342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0" y="734"/>
                    </a:lnTo>
                    <a:lnTo>
                      <a:pt x="1" y="742"/>
                    </a:lnTo>
                    <a:lnTo>
                      <a:pt x="3" y="749"/>
                    </a:lnTo>
                    <a:lnTo>
                      <a:pt x="7" y="753"/>
                    </a:lnTo>
                    <a:lnTo>
                      <a:pt x="10" y="756"/>
                    </a:lnTo>
                    <a:lnTo>
                      <a:pt x="15" y="758"/>
                    </a:lnTo>
                    <a:lnTo>
                      <a:pt x="21" y="758"/>
                    </a:lnTo>
                    <a:lnTo>
                      <a:pt x="27" y="757"/>
                    </a:lnTo>
                    <a:lnTo>
                      <a:pt x="34" y="754"/>
                    </a:lnTo>
                    <a:lnTo>
                      <a:pt x="701" y="379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34200" y="517680"/>
                <a:ext cx="180720" cy="250560"/>
              </a:xfrm>
              <a:custGeom>
                <a:avLst/>
                <a:gdLst/>
                <a:ahLst/>
                <a:rect l="l" t="t" r="r" b="b"/>
                <a:pathLst>
                  <a:path w="930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30" y="1293"/>
                    </a:lnTo>
                    <a:lnTo>
                      <a:pt x="713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136160" y="517680"/>
                <a:ext cx="31680" cy="25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5360" y="517680"/>
                <a:ext cx="155520" cy="250560"/>
              </a:xfrm>
              <a:custGeom>
                <a:avLst/>
                <a:gdLst/>
                <a:ahLst/>
                <a:rect l="l" t="t" r="r" b="b"/>
                <a:pathLst>
                  <a:path w="803" h="1293">
                    <a:moveTo>
                      <a:pt x="803" y="1293"/>
                    </a:moveTo>
                    <a:lnTo>
                      <a:pt x="607" y="1293"/>
                    </a:lnTo>
                    <a:lnTo>
                      <a:pt x="228" y="746"/>
                    </a:lnTo>
                    <a:lnTo>
                      <a:pt x="161" y="746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283" y="1"/>
                    </a:lnTo>
                    <a:lnTo>
                      <a:pt x="327" y="4"/>
                    </a:lnTo>
                    <a:lnTo>
                      <a:pt x="370" y="8"/>
                    </a:lnTo>
                    <a:lnTo>
                      <a:pt x="413" y="16"/>
                    </a:lnTo>
                    <a:lnTo>
                      <a:pt x="456" y="27"/>
                    </a:lnTo>
                    <a:lnTo>
                      <a:pt x="497" y="41"/>
                    </a:lnTo>
                    <a:lnTo>
                      <a:pt x="536" y="61"/>
                    </a:lnTo>
                    <a:lnTo>
                      <a:pt x="556" y="73"/>
                    </a:lnTo>
                    <a:lnTo>
                      <a:pt x="574" y="87"/>
                    </a:lnTo>
                    <a:lnTo>
                      <a:pt x="592" y="101"/>
                    </a:lnTo>
                    <a:lnTo>
                      <a:pt x="608" y="118"/>
                    </a:lnTo>
                    <a:lnTo>
                      <a:pt x="623" y="135"/>
                    </a:lnTo>
                    <a:lnTo>
                      <a:pt x="637" y="153"/>
                    </a:lnTo>
                    <a:lnTo>
                      <a:pt x="650" y="173"/>
                    </a:lnTo>
                    <a:lnTo>
                      <a:pt x="661" y="192"/>
                    </a:lnTo>
                    <a:lnTo>
                      <a:pt x="671" y="212"/>
                    </a:lnTo>
                    <a:lnTo>
                      <a:pt x="680" y="233"/>
                    </a:lnTo>
                    <a:lnTo>
                      <a:pt x="694" y="277"/>
                    </a:lnTo>
                    <a:lnTo>
                      <a:pt x="700" y="300"/>
                    </a:lnTo>
                    <a:lnTo>
                      <a:pt x="703" y="323"/>
                    </a:lnTo>
                    <a:lnTo>
                      <a:pt x="705" y="346"/>
                    </a:lnTo>
                    <a:lnTo>
                      <a:pt x="705" y="369"/>
                    </a:lnTo>
                    <a:lnTo>
                      <a:pt x="704" y="403"/>
                    </a:lnTo>
                    <a:lnTo>
                      <a:pt x="700" y="436"/>
                    </a:lnTo>
                    <a:lnTo>
                      <a:pt x="693" y="469"/>
                    </a:lnTo>
                    <a:lnTo>
                      <a:pt x="683" y="500"/>
                    </a:lnTo>
                    <a:lnTo>
                      <a:pt x="671" y="531"/>
                    </a:lnTo>
                    <a:lnTo>
                      <a:pt x="657" y="558"/>
                    </a:lnTo>
                    <a:lnTo>
                      <a:pt x="639" y="585"/>
                    </a:lnTo>
                    <a:lnTo>
                      <a:pt x="621" y="611"/>
                    </a:lnTo>
                    <a:lnTo>
                      <a:pt x="599" y="634"/>
                    </a:lnTo>
                    <a:lnTo>
                      <a:pt x="576" y="655"/>
                    </a:lnTo>
                    <a:lnTo>
                      <a:pt x="550" y="673"/>
                    </a:lnTo>
                    <a:lnTo>
                      <a:pt x="523" y="691"/>
                    </a:lnTo>
                    <a:lnTo>
                      <a:pt x="493" y="704"/>
                    </a:lnTo>
                    <a:lnTo>
                      <a:pt x="463" y="716"/>
                    </a:lnTo>
                    <a:lnTo>
                      <a:pt x="430" y="725"/>
                    </a:lnTo>
                    <a:lnTo>
                      <a:pt x="396" y="730"/>
                    </a:lnTo>
                    <a:lnTo>
                      <a:pt x="803" y="1293"/>
                    </a:lnTo>
                    <a:close/>
                    <a:moveTo>
                      <a:pt x="161" y="612"/>
                    </a:moveTo>
                    <a:lnTo>
                      <a:pt x="213" y="612"/>
                    </a:lnTo>
                    <a:lnTo>
                      <a:pt x="274" y="611"/>
                    </a:lnTo>
                    <a:lnTo>
                      <a:pt x="335" y="604"/>
                    </a:lnTo>
                    <a:lnTo>
                      <a:pt x="365" y="599"/>
                    </a:lnTo>
                    <a:lnTo>
                      <a:pt x="393" y="591"/>
                    </a:lnTo>
                    <a:lnTo>
                      <a:pt x="420" y="582"/>
                    </a:lnTo>
                    <a:lnTo>
                      <a:pt x="445" y="571"/>
                    </a:lnTo>
                    <a:lnTo>
                      <a:pt x="469" y="557"/>
                    </a:lnTo>
                    <a:lnTo>
                      <a:pt x="490" y="540"/>
                    </a:lnTo>
                    <a:lnTo>
                      <a:pt x="509" y="522"/>
                    </a:lnTo>
                    <a:lnTo>
                      <a:pt x="524" y="499"/>
                    </a:lnTo>
                    <a:lnTo>
                      <a:pt x="537" y="473"/>
                    </a:lnTo>
                    <a:lnTo>
                      <a:pt x="547" y="445"/>
                    </a:lnTo>
                    <a:lnTo>
                      <a:pt x="553" y="412"/>
                    </a:lnTo>
                    <a:lnTo>
                      <a:pt x="555" y="376"/>
                    </a:lnTo>
                    <a:lnTo>
                      <a:pt x="553" y="339"/>
                    </a:lnTo>
                    <a:lnTo>
                      <a:pt x="546" y="308"/>
                    </a:lnTo>
                    <a:lnTo>
                      <a:pt x="536" y="279"/>
                    </a:lnTo>
                    <a:lnTo>
                      <a:pt x="523" y="254"/>
                    </a:lnTo>
                    <a:lnTo>
                      <a:pt x="505" y="232"/>
                    </a:lnTo>
                    <a:lnTo>
                      <a:pt x="486" y="213"/>
                    </a:lnTo>
                    <a:lnTo>
                      <a:pt x="464" y="198"/>
                    </a:lnTo>
                    <a:lnTo>
                      <a:pt x="440" y="184"/>
                    </a:lnTo>
                    <a:lnTo>
                      <a:pt x="413" y="173"/>
                    </a:lnTo>
                    <a:lnTo>
                      <a:pt x="385" y="164"/>
                    </a:lnTo>
                    <a:lnTo>
                      <a:pt x="356" y="157"/>
                    </a:lnTo>
                    <a:lnTo>
                      <a:pt x="325" y="152"/>
                    </a:lnTo>
                    <a:lnTo>
                      <a:pt x="296" y="148"/>
                    </a:lnTo>
                    <a:lnTo>
                      <a:pt x="265" y="146"/>
                    </a:lnTo>
                    <a:lnTo>
                      <a:pt x="204" y="144"/>
                    </a:lnTo>
                    <a:lnTo>
                      <a:pt x="161" y="144"/>
                    </a:lnTo>
                    <a:lnTo>
                      <a:pt x="161" y="6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387080" y="5176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929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29" y="1293"/>
                    </a:lnTo>
                    <a:lnTo>
                      <a:pt x="712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23040" y="847800"/>
                <a:ext cx="50760" cy="133200"/>
              </a:xfrm>
              <a:custGeom>
                <a:avLst/>
                <a:gdLst/>
                <a:ahLst/>
                <a:rect l="l" t="t" r="r" b="b"/>
                <a:pathLst>
                  <a:path w="264" h="687">
                    <a:moveTo>
                      <a:pt x="169" y="687"/>
                    </a:moveTo>
                    <a:lnTo>
                      <a:pt x="74" y="687"/>
                    </a:lnTo>
                    <a:lnTo>
                      <a:pt x="74" y="279"/>
                    </a:lnTo>
                    <a:lnTo>
                      <a:pt x="0" y="279"/>
                    </a:lnTo>
                    <a:lnTo>
                      <a:pt x="0" y="190"/>
                    </a:lnTo>
                    <a:lnTo>
                      <a:pt x="74" y="190"/>
                    </a:lnTo>
                    <a:lnTo>
                      <a:pt x="74" y="0"/>
                    </a:lnTo>
                    <a:lnTo>
                      <a:pt x="169" y="0"/>
                    </a:lnTo>
                    <a:lnTo>
                      <a:pt x="169" y="190"/>
                    </a:lnTo>
                    <a:lnTo>
                      <a:pt x="264" y="190"/>
                    </a:lnTo>
                    <a:lnTo>
                      <a:pt x="264" y="279"/>
                    </a:lnTo>
                    <a:lnTo>
                      <a:pt x="169" y="279"/>
                    </a:lnTo>
                    <a:lnTo>
                      <a:pt x="169" y="6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977040" y="882720"/>
                <a:ext cx="9180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5" y="280"/>
                    </a:moveTo>
                    <a:lnTo>
                      <a:pt x="98" y="311"/>
                    </a:lnTo>
                    <a:lnTo>
                      <a:pt x="106" y="341"/>
                    </a:lnTo>
                    <a:lnTo>
                      <a:pt x="119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8" y="415"/>
                    </a:lnTo>
                    <a:lnTo>
                      <a:pt x="170" y="423"/>
                    </a:lnTo>
                    <a:lnTo>
                      <a:pt x="184" y="431"/>
                    </a:lnTo>
                    <a:lnTo>
                      <a:pt x="197" y="437"/>
                    </a:lnTo>
                    <a:lnTo>
                      <a:pt x="213" y="441"/>
                    </a:lnTo>
                    <a:lnTo>
                      <a:pt x="229" y="443"/>
                    </a:lnTo>
                    <a:lnTo>
                      <a:pt x="245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5" y="430"/>
                    </a:lnTo>
                    <a:lnTo>
                      <a:pt x="333" y="418"/>
                    </a:lnTo>
                    <a:lnTo>
                      <a:pt x="351" y="405"/>
                    </a:lnTo>
                    <a:lnTo>
                      <a:pt x="366" y="388"/>
                    </a:lnTo>
                    <a:lnTo>
                      <a:pt x="380" y="368"/>
                    </a:lnTo>
                    <a:lnTo>
                      <a:pt x="394" y="348"/>
                    </a:lnTo>
                    <a:lnTo>
                      <a:pt x="475" y="394"/>
                    </a:lnTo>
                    <a:lnTo>
                      <a:pt x="455" y="424"/>
                    </a:lnTo>
                    <a:lnTo>
                      <a:pt x="433" y="451"/>
                    </a:lnTo>
                    <a:lnTo>
                      <a:pt x="407" y="474"/>
                    </a:lnTo>
                    <a:lnTo>
                      <a:pt x="378" y="494"/>
                    </a:lnTo>
                    <a:lnTo>
                      <a:pt x="347" y="509"/>
                    </a:lnTo>
                    <a:lnTo>
                      <a:pt x="315" y="520"/>
                    </a:lnTo>
                    <a:lnTo>
                      <a:pt x="279" y="528"/>
                    </a:lnTo>
                    <a:lnTo>
                      <a:pt x="244" y="530"/>
                    </a:lnTo>
                    <a:lnTo>
                      <a:pt x="217" y="528"/>
                    </a:lnTo>
                    <a:lnTo>
                      <a:pt x="191" y="524"/>
                    </a:lnTo>
                    <a:lnTo>
                      <a:pt x="165" y="518"/>
                    </a:lnTo>
                    <a:lnTo>
                      <a:pt x="142" y="509"/>
                    </a:lnTo>
                    <a:lnTo>
                      <a:pt x="120" y="498"/>
                    </a:lnTo>
                    <a:lnTo>
                      <a:pt x="101" y="485"/>
                    </a:lnTo>
                    <a:lnTo>
                      <a:pt x="82" y="471"/>
                    </a:lnTo>
                    <a:lnTo>
                      <a:pt x="66" y="454"/>
                    </a:lnTo>
                    <a:lnTo>
                      <a:pt x="50" y="435"/>
                    </a:lnTo>
                    <a:lnTo>
                      <a:pt x="37" y="416"/>
                    </a:lnTo>
                    <a:lnTo>
                      <a:pt x="26" y="394"/>
                    </a:lnTo>
                    <a:lnTo>
                      <a:pt x="16" y="371"/>
                    </a:lnTo>
                    <a:lnTo>
                      <a:pt x="10" y="346"/>
                    </a:lnTo>
                    <a:lnTo>
                      <a:pt x="4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4" y="213"/>
                    </a:lnTo>
                    <a:lnTo>
                      <a:pt x="9" y="186"/>
                    </a:lnTo>
                    <a:lnTo>
                      <a:pt x="15" y="161"/>
                    </a:lnTo>
                    <a:lnTo>
                      <a:pt x="24" y="138"/>
                    </a:lnTo>
                    <a:lnTo>
                      <a:pt x="34" y="116"/>
                    </a:lnTo>
                    <a:lnTo>
                      <a:pt x="47" y="95"/>
                    </a:lnTo>
                    <a:lnTo>
                      <a:pt x="61" y="76"/>
                    </a:lnTo>
                    <a:lnTo>
                      <a:pt x="77" y="60"/>
                    </a:lnTo>
                    <a:lnTo>
                      <a:pt x="95" y="45"/>
                    </a:lnTo>
                    <a:lnTo>
                      <a:pt x="115" y="31"/>
                    </a:lnTo>
                    <a:lnTo>
                      <a:pt x="137" y="20"/>
                    </a:lnTo>
                    <a:lnTo>
                      <a:pt x="160" y="12"/>
                    </a:lnTo>
                    <a:lnTo>
                      <a:pt x="185" y="5"/>
                    </a:lnTo>
                    <a:lnTo>
                      <a:pt x="213" y="2"/>
                    </a:lnTo>
                    <a:lnTo>
                      <a:pt x="242" y="0"/>
                    </a:lnTo>
                    <a:lnTo>
                      <a:pt x="271" y="2"/>
                    </a:lnTo>
                    <a:lnTo>
                      <a:pt x="297" y="5"/>
                    </a:lnTo>
                    <a:lnTo>
                      <a:pt x="322" y="12"/>
                    </a:lnTo>
                    <a:lnTo>
                      <a:pt x="345" y="20"/>
                    </a:lnTo>
                    <a:lnTo>
                      <a:pt x="366" y="31"/>
                    </a:lnTo>
                    <a:lnTo>
                      <a:pt x="385" y="45"/>
                    </a:lnTo>
                    <a:lnTo>
                      <a:pt x="402" y="60"/>
                    </a:lnTo>
                    <a:lnTo>
                      <a:pt x="418" y="76"/>
                    </a:lnTo>
                    <a:lnTo>
                      <a:pt x="431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0" y="161"/>
                    </a:lnTo>
                    <a:lnTo>
                      <a:pt x="467" y="185"/>
                    </a:lnTo>
                    <a:lnTo>
                      <a:pt x="471" y="210"/>
                    </a:lnTo>
                    <a:lnTo>
                      <a:pt x="474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5" y="280"/>
                    </a:lnTo>
                    <a:close/>
                    <a:moveTo>
                      <a:pt x="379" y="207"/>
                    </a:moveTo>
                    <a:lnTo>
                      <a:pt x="373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5" y="117"/>
                    </a:lnTo>
                    <a:lnTo>
                      <a:pt x="316" y="103"/>
                    </a:lnTo>
                    <a:lnTo>
                      <a:pt x="294" y="92"/>
                    </a:lnTo>
                    <a:lnTo>
                      <a:pt x="270" y="85"/>
                    </a:lnTo>
                    <a:lnTo>
                      <a:pt x="242" y="83"/>
                    </a:lnTo>
                    <a:lnTo>
                      <a:pt x="215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1" y="137"/>
                    </a:lnTo>
                    <a:lnTo>
                      <a:pt x="117" y="158"/>
                    </a:lnTo>
                    <a:lnTo>
                      <a:pt x="107" y="182"/>
                    </a:lnTo>
                    <a:lnTo>
                      <a:pt x="101" y="207"/>
                    </a:lnTo>
                    <a:lnTo>
                      <a:pt x="379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086480" y="846000"/>
                <a:ext cx="1908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18520" y="882720"/>
                <a:ext cx="9216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7" y="280"/>
                    </a:moveTo>
                    <a:lnTo>
                      <a:pt x="99" y="311"/>
                    </a:lnTo>
                    <a:lnTo>
                      <a:pt x="108" y="341"/>
                    </a:lnTo>
                    <a:lnTo>
                      <a:pt x="120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9" y="415"/>
                    </a:lnTo>
                    <a:lnTo>
                      <a:pt x="171" y="423"/>
                    </a:lnTo>
                    <a:lnTo>
                      <a:pt x="185" y="431"/>
                    </a:lnTo>
                    <a:lnTo>
                      <a:pt x="199" y="437"/>
                    </a:lnTo>
                    <a:lnTo>
                      <a:pt x="213" y="441"/>
                    </a:lnTo>
                    <a:lnTo>
                      <a:pt x="230" y="443"/>
                    </a:lnTo>
                    <a:lnTo>
                      <a:pt x="246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6" y="430"/>
                    </a:lnTo>
                    <a:lnTo>
                      <a:pt x="335" y="418"/>
                    </a:lnTo>
                    <a:lnTo>
                      <a:pt x="351" y="405"/>
                    </a:lnTo>
                    <a:lnTo>
                      <a:pt x="367" y="388"/>
                    </a:lnTo>
                    <a:lnTo>
                      <a:pt x="381" y="368"/>
                    </a:lnTo>
                    <a:lnTo>
                      <a:pt x="395" y="348"/>
                    </a:lnTo>
                    <a:lnTo>
                      <a:pt x="475" y="394"/>
                    </a:lnTo>
                    <a:lnTo>
                      <a:pt x="457" y="424"/>
                    </a:lnTo>
                    <a:lnTo>
                      <a:pt x="434" y="451"/>
                    </a:lnTo>
                    <a:lnTo>
                      <a:pt x="407" y="474"/>
                    </a:lnTo>
                    <a:lnTo>
                      <a:pt x="379" y="494"/>
                    </a:lnTo>
                    <a:lnTo>
                      <a:pt x="348" y="509"/>
                    </a:lnTo>
                    <a:lnTo>
                      <a:pt x="315" y="520"/>
                    </a:lnTo>
                    <a:lnTo>
                      <a:pt x="281" y="528"/>
                    </a:lnTo>
                    <a:lnTo>
                      <a:pt x="245" y="530"/>
                    </a:lnTo>
                    <a:lnTo>
                      <a:pt x="218" y="528"/>
                    </a:lnTo>
                    <a:lnTo>
                      <a:pt x="191" y="524"/>
                    </a:lnTo>
                    <a:lnTo>
                      <a:pt x="166" y="518"/>
                    </a:lnTo>
                    <a:lnTo>
                      <a:pt x="143" y="509"/>
                    </a:lnTo>
                    <a:lnTo>
                      <a:pt x="121" y="498"/>
                    </a:lnTo>
                    <a:lnTo>
                      <a:pt x="101" y="485"/>
                    </a:lnTo>
                    <a:lnTo>
                      <a:pt x="83" y="471"/>
                    </a:lnTo>
                    <a:lnTo>
                      <a:pt x="66" y="454"/>
                    </a:lnTo>
                    <a:lnTo>
                      <a:pt x="51" y="435"/>
                    </a:lnTo>
                    <a:lnTo>
                      <a:pt x="38" y="416"/>
                    </a:lnTo>
                    <a:lnTo>
                      <a:pt x="27" y="394"/>
                    </a:lnTo>
                    <a:lnTo>
                      <a:pt x="18" y="371"/>
                    </a:lnTo>
                    <a:lnTo>
                      <a:pt x="10" y="346"/>
                    </a:lnTo>
                    <a:lnTo>
                      <a:pt x="5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5" y="213"/>
                    </a:lnTo>
                    <a:lnTo>
                      <a:pt x="9" y="186"/>
                    </a:lnTo>
                    <a:lnTo>
                      <a:pt x="16" y="161"/>
                    </a:lnTo>
                    <a:lnTo>
                      <a:pt x="24" y="138"/>
                    </a:lnTo>
                    <a:lnTo>
                      <a:pt x="35" y="116"/>
                    </a:lnTo>
                    <a:lnTo>
                      <a:pt x="48" y="95"/>
                    </a:lnTo>
                    <a:lnTo>
                      <a:pt x="62" y="76"/>
                    </a:lnTo>
                    <a:lnTo>
                      <a:pt x="78" y="60"/>
                    </a:lnTo>
                    <a:lnTo>
                      <a:pt x="96" y="45"/>
                    </a:lnTo>
                    <a:lnTo>
                      <a:pt x="116" y="31"/>
                    </a:lnTo>
                    <a:lnTo>
                      <a:pt x="137" y="20"/>
                    </a:lnTo>
                    <a:lnTo>
                      <a:pt x="162" y="12"/>
                    </a:lnTo>
                    <a:lnTo>
                      <a:pt x="187" y="5"/>
                    </a:lnTo>
                    <a:lnTo>
                      <a:pt x="214" y="2"/>
                    </a:lnTo>
                    <a:lnTo>
                      <a:pt x="243" y="0"/>
                    </a:lnTo>
                    <a:lnTo>
                      <a:pt x="271" y="2"/>
                    </a:lnTo>
                    <a:lnTo>
                      <a:pt x="299" y="5"/>
                    </a:lnTo>
                    <a:lnTo>
                      <a:pt x="323" y="12"/>
                    </a:lnTo>
                    <a:lnTo>
                      <a:pt x="346" y="20"/>
                    </a:lnTo>
                    <a:lnTo>
                      <a:pt x="367" y="31"/>
                    </a:lnTo>
                    <a:lnTo>
                      <a:pt x="386" y="45"/>
                    </a:lnTo>
                    <a:lnTo>
                      <a:pt x="403" y="60"/>
                    </a:lnTo>
                    <a:lnTo>
                      <a:pt x="418" y="76"/>
                    </a:lnTo>
                    <a:lnTo>
                      <a:pt x="432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1" y="161"/>
                    </a:lnTo>
                    <a:lnTo>
                      <a:pt x="468" y="185"/>
                    </a:lnTo>
                    <a:lnTo>
                      <a:pt x="472" y="210"/>
                    </a:lnTo>
                    <a:lnTo>
                      <a:pt x="475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7" y="280"/>
                    </a:lnTo>
                    <a:close/>
                    <a:moveTo>
                      <a:pt x="380" y="207"/>
                    </a:moveTo>
                    <a:lnTo>
                      <a:pt x="374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6" y="117"/>
                    </a:lnTo>
                    <a:lnTo>
                      <a:pt x="317" y="103"/>
                    </a:lnTo>
                    <a:lnTo>
                      <a:pt x="295" y="92"/>
                    </a:lnTo>
                    <a:lnTo>
                      <a:pt x="270" y="85"/>
                    </a:lnTo>
                    <a:lnTo>
                      <a:pt x="243" y="83"/>
                    </a:lnTo>
                    <a:lnTo>
                      <a:pt x="216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2" y="137"/>
                    </a:lnTo>
                    <a:lnTo>
                      <a:pt x="119" y="158"/>
                    </a:lnTo>
                    <a:lnTo>
                      <a:pt x="108" y="182"/>
                    </a:lnTo>
                    <a:lnTo>
                      <a:pt x="101" y="207"/>
                    </a:lnTo>
                    <a:lnTo>
                      <a:pt x="380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225080" y="882720"/>
                <a:ext cx="77760" cy="101520"/>
              </a:xfrm>
              <a:custGeom>
                <a:avLst/>
                <a:gdLst/>
                <a:ahLst/>
                <a:rect l="l" t="t" r="r" b="b"/>
                <a:pathLst>
                  <a:path w="404" h="530">
                    <a:moveTo>
                      <a:pt x="404" y="157"/>
                    </a:moveTo>
                    <a:lnTo>
                      <a:pt x="389" y="141"/>
                    </a:lnTo>
                    <a:lnTo>
                      <a:pt x="373" y="127"/>
                    </a:lnTo>
                    <a:lnTo>
                      <a:pt x="358" y="116"/>
                    </a:lnTo>
                    <a:lnTo>
                      <a:pt x="340" y="106"/>
                    </a:lnTo>
                    <a:lnTo>
                      <a:pt x="321" y="99"/>
                    </a:lnTo>
                    <a:lnTo>
                      <a:pt x="303" y="94"/>
                    </a:lnTo>
                    <a:lnTo>
                      <a:pt x="283" y="91"/>
                    </a:lnTo>
                    <a:lnTo>
                      <a:pt x="261" y="90"/>
                    </a:lnTo>
                    <a:lnTo>
                      <a:pt x="245" y="91"/>
                    </a:lnTo>
                    <a:lnTo>
                      <a:pt x="227" y="93"/>
                    </a:lnTo>
                    <a:lnTo>
                      <a:pt x="212" y="97"/>
                    </a:lnTo>
                    <a:lnTo>
                      <a:pt x="196" y="104"/>
                    </a:lnTo>
                    <a:lnTo>
                      <a:pt x="182" y="112"/>
                    </a:lnTo>
                    <a:lnTo>
                      <a:pt x="168" y="120"/>
                    </a:lnTo>
                    <a:lnTo>
                      <a:pt x="156" y="130"/>
                    </a:lnTo>
                    <a:lnTo>
                      <a:pt x="144" y="142"/>
                    </a:lnTo>
                    <a:lnTo>
                      <a:pt x="133" y="154"/>
                    </a:lnTo>
                    <a:lnTo>
                      <a:pt x="124" y="169"/>
                    </a:lnTo>
                    <a:lnTo>
                      <a:pt x="115" y="183"/>
                    </a:lnTo>
                    <a:lnTo>
                      <a:pt x="109" y="198"/>
                    </a:lnTo>
                    <a:lnTo>
                      <a:pt x="103" y="214"/>
                    </a:lnTo>
                    <a:lnTo>
                      <a:pt x="99" y="230"/>
                    </a:lnTo>
                    <a:lnTo>
                      <a:pt x="97" y="247"/>
                    </a:lnTo>
                    <a:lnTo>
                      <a:pt x="96" y="264"/>
                    </a:lnTo>
                    <a:lnTo>
                      <a:pt x="97" y="283"/>
                    </a:lnTo>
                    <a:lnTo>
                      <a:pt x="99" y="300"/>
                    </a:lnTo>
                    <a:lnTo>
                      <a:pt x="103" y="318"/>
                    </a:lnTo>
                    <a:lnTo>
                      <a:pt x="109" y="334"/>
                    </a:lnTo>
                    <a:lnTo>
                      <a:pt x="115" y="350"/>
                    </a:lnTo>
                    <a:lnTo>
                      <a:pt x="124" y="364"/>
                    </a:lnTo>
                    <a:lnTo>
                      <a:pt x="133" y="378"/>
                    </a:lnTo>
                    <a:lnTo>
                      <a:pt x="144" y="390"/>
                    </a:lnTo>
                    <a:lnTo>
                      <a:pt x="156" y="401"/>
                    </a:lnTo>
                    <a:lnTo>
                      <a:pt x="169" y="411"/>
                    </a:lnTo>
                    <a:lnTo>
                      <a:pt x="183" y="420"/>
                    </a:lnTo>
                    <a:lnTo>
                      <a:pt x="199" y="427"/>
                    </a:lnTo>
                    <a:lnTo>
                      <a:pt x="215" y="432"/>
                    </a:lnTo>
                    <a:lnTo>
                      <a:pt x="232" y="437"/>
                    </a:lnTo>
                    <a:lnTo>
                      <a:pt x="249" y="439"/>
                    </a:lnTo>
                    <a:lnTo>
                      <a:pt x="268" y="440"/>
                    </a:lnTo>
                    <a:lnTo>
                      <a:pt x="289" y="439"/>
                    </a:lnTo>
                    <a:lnTo>
                      <a:pt x="307" y="435"/>
                    </a:lnTo>
                    <a:lnTo>
                      <a:pt x="326" y="430"/>
                    </a:lnTo>
                    <a:lnTo>
                      <a:pt x="343" y="422"/>
                    </a:lnTo>
                    <a:lnTo>
                      <a:pt x="360" y="412"/>
                    </a:lnTo>
                    <a:lnTo>
                      <a:pt x="375" y="401"/>
                    </a:lnTo>
                    <a:lnTo>
                      <a:pt x="389" y="388"/>
                    </a:lnTo>
                    <a:lnTo>
                      <a:pt x="404" y="374"/>
                    </a:lnTo>
                    <a:lnTo>
                      <a:pt x="404" y="497"/>
                    </a:lnTo>
                    <a:lnTo>
                      <a:pt x="371" y="511"/>
                    </a:lnTo>
                    <a:lnTo>
                      <a:pt x="338" y="522"/>
                    </a:lnTo>
                    <a:lnTo>
                      <a:pt x="303" y="528"/>
                    </a:lnTo>
                    <a:lnTo>
                      <a:pt x="267" y="530"/>
                    </a:lnTo>
                    <a:lnTo>
                      <a:pt x="239" y="528"/>
                    </a:lnTo>
                    <a:lnTo>
                      <a:pt x="213" y="524"/>
                    </a:lnTo>
                    <a:lnTo>
                      <a:pt x="188" y="518"/>
                    </a:lnTo>
                    <a:lnTo>
                      <a:pt x="164" y="509"/>
                    </a:lnTo>
                    <a:lnTo>
                      <a:pt x="140" y="499"/>
                    </a:lnTo>
                    <a:lnTo>
                      <a:pt x="119" y="486"/>
                    </a:lnTo>
                    <a:lnTo>
                      <a:pt x="98" y="472"/>
                    </a:lnTo>
                    <a:lnTo>
                      <a:pt x="79" y="454"/>
                    </a:lnTo>
                    <a:lnTo>
                      <a:pt x="62" y="437"/>
                    </a:lnTo>
                    <a:lnTo>
                      <a:pt x="46" y="416"/>
                    </a:lnTo>
                    <a:lnTo>
                      <a:pt x="33" y="395"/>
                    </a:lnTo>
                    <a:lnTo>
                      <a:pt x="21" y="372"/>
                    </a:lnTo>
                    <a:lnTo>
                      <a:pt x="12" y="348"/>
                    </a:lnTo>
                    <a:lnTo>
                      <a:pt x="6" y="322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6" y="213"/>
                    </a:lnTo>
                    <a:lnTo>
                      <a:pt x="12" y="186"/>
                    </a:lnTo>
                    <a:lnTo>
                      <a:pt x="21" y="161"/>
                    </a:lnTo>
                    <a:lnTo>
                      <a:pt x="33" y="138"/>
                    </a:lnTo>
                    <a:lnTo>
                      <a:pt x="46" y="115"/>
                    </a:lnTo>
                    <a:lnTo>
                      <a:pt x="62" y="95"/>
                    </a:lnTo>
                    <a:lnTo>
                      <a:pt x="79" y="76"/>
                    </a:lnTo>
                    <a:lnTo>
                      <a:pt x="98" y="59"/>
                    </a:lnTo>
                    <a:lnTo>
                      <a:pt x="119" y="45"/>
                    </a:lnTo>
                    <a:lnTo>
                      <a:pt x="142" y="31"/>
                    </a:lnTo>
                    <a:lnTo>
                      <a:pt x="165" y="20"/>
                    </a:lnTo>
                    <a:lnTo>
                      <a:pt x="190" y="12"/>
                    </a:lnTo>
                    <a:lnTo>
                      <a:pt x="216" y="5"/>
                    </a:lnTo>
                    <a:lnTo>
                      <a:pt x="244" y="2"/>
                    </a:lnTo>
                    <a:lnTo>
                      <a:pt x="272" y="0"/>
                    </a:lnTo>
                    <a:lnTo>
                      <a:pt x="306" y="2"/>
                    </a:lnTo>
                    <a:lnTo>
                      <a:pt x="340" y="8"/>
                    </a:lnTo>
                    <a:lnTo>
                      <a:pt x="373" y="18"/>
                    </a:lnTo>
                    <a:lnTo>
                      <a:pt x="404" y="32"/>
                    </a:lnTo>
                    <a:lnTo>
                      <a:pt x="404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314000" y="882720"/>
                <a:ext cx="102960" cy="101520"/>
              </a:xfrm>
              <a:custGeom>
                <a:avLst/>
                <a:gdLst/>
                <a:ahLst/>
                <a:rect l="l" t="t" r="r" b="b"/>
                <a:pathLst>
                  <a:path w="532" h="530">
                    <a:moveTo>
                      <a:pt x="532" y="264"/>
                    </a:moveTo>
                    <a:lnTo>
                      <a:pt x="530" y="293"/>
                    </a:lnTo>
                    <a:lnTo>
                      <a:pt x="527" y="319"/>
                    </a:lnTo>
                    <a:lnTo>
                      <a:pt x="520" y="344"/>
                    </a:lnTo>
                    <a:lnTo>
                      <a:pt x="511" y="370"/>
                    </a:lnTo>
                    <a:lnTo>
                      <a:pt x="501" y="393"/>
                    </a:lnTo>
                    <a:lnTo>
                      <a:pt x="487" y="415"/>
                    </a:lnTo>
                    <a:lnTo>
                      <a:pt x="472" y="434"/>
                    </a:lnTo>
                    <a:lnTo>
                      <a:pt x="454" y="453"/>
                    </a:lnTo>
                    <a:lnTo>
                      <a:pt x="436" y="471"/>
                    </a:lnTo>
                    <a:lnTo>
                      <a:pt x="416" y="485"/>
                    </a:lnTo>
                    <a:lnTo>
                      <a:pt x="394" y="498"/>
                    </a:lnTo>
                    <a:lnTo>
                      <a:pt x="370" y="509"/>
                    </a:lnTo>
                    <a:lnTo>
                      <a:pt x="346" y="518"/>
                    </a:lnTo>
                    <a:lnTo>
                      <a:pt x="321" y="524"/>
                    </a:lnTo>
                    <a:lnTo>
                      <a:pt x="293" y="528"/>
                    </a:lnTo>
                    <a:lnTo>
                      <a:pt x="266" y="530"/>
                    </a:lnTo>
                    <a:lnTo>
                      <a:pt x="238" y="528"/>
                    </a:lnTo>
                    <a:lnTo>
                      <a:pt x="212" y="524"/>
                    </a:lnTo>
                    <a:lnTo>
                      <a:pt x="187" y="518"/>
                    </a:lnTo>
                    <a:lnTo>
                      <a:pt x="162" y="509"/>
                    </a:lnTo>
                    <a:lnTo>
                      <a:pt x="139" y="498"/>
                    </a:lnTo>
                    <a:lnTo>
                      <a:pt x="117" y="485"/>
                    </a:lnTo>
                    <a:lnTo>
                      <a:pt x="97" y="471"/>
                    </a:lnTo>
                    <a:lnTo>
                      <a:pt x="78" y="453"/>
                    </a:lnTo>
                    <a:lnTo>
                      <a:pt x="61" y="434"/>
                    </a:lnTo>
                    <a:lnTo>
                      <a:pt x="45" y="415"/>
                    </a:lnTo>
                    <a:lnTo>
                      <a:pt x="32" y="393"/>
                    </a:lnTo>
                    <a:lnTo>
                      <a:pt x="21" y="370"/>
                    </a:lnTo>
                    <a:lnTo>
                      <a:pt x="12" y="344"/>
                    </a:lnTo>
                    <a:lnTo>
                      <a:pt x="6" y="319"/>
                    </a:lnTo>
                    <a:lnTo>
                      <a:pt x="3" y="293"/>
                    </a:lnTo>
                    <a:lnTo>
                      <a:pt x="0" y="264"/>
                    </a:lnTo>
                    <a:lnTo>
                      <a:pt x="3" y="237"/>
                    </a:lnTo>
                    <a:lnTo>
                      <a:pt x="6" y="210"/>
                    </a:lnTo>
                    <a:lnTo>
                      <a:pt x="12" y="185"/>
                    </a:lnTo>
                    <a:lnTo>
                      <a:pt x="21" y="160"/>
                    </a:lnTo>
                    <a:lnTo>
                      <a:pt x="32" y="137"/>
                    </a:lnTo>
                    <a:lnTo>
                      <a:pt x="45" y="115"/>
                    </a:lnTo>
                    <a:lnTo>
                      <a:pt x="61" y="95"/>
                    </a:lnTo>
                    <a:lnTo>
                      <a:pt x="78" y="76"/>
                    </a:lnTo>
                    <a:lnTo>
                      <a:pt x="97" y="59"/>
                    </a:lnTo>
                    <a:lnTo>
                      <a:pt x="117" y="45"/>
                    </a:lnTo>
                    <a:lnTo>
                      <a:pt x="139" y="31"/>
                    </a:lnTo>
                    <a:lnTo>
                      <a:pt x="162" y="20"/>
                    </a:lnTo>
                    <a:lnTo>
                      <a:pt x="187" y="12"/>
                    </a:lnTo>
                    <a:lnTo>
                      <a:pt x="212" y="5"/>
                    </a:lnTo>
                    <a:lnTo>
                      <a:pt x="238" y="2"/>
                    </a:lnTo>
                    <a:lnTo>
                      <a:pt x="266" y="0"/>
                    </a:lnTo>
                    <a:lnTo>
                      <a:pt x="293" y="2"/>
                    </a:lnTo>
                    <a:lnTo>
                      <a:pt x="321" y="5"/>
                    </a:lnTo>
                    <a:lnTo>
                      <a:pt x="346" y="12"/>
                    </a:lnTo>
                    <a:lnTo>
                      <a:pt x="370" y="20"/>
                    </a:lnTo>
                    <a:lnTo>
                      <a:pt x="394" y="31"/>
                    </a:lnTo>
                    <a:lnTo>
                      <a:pt x="416" y="45"/>
                    </a:lnTo>
                    <a:lnTo>
                      <a:pt x="436" y="59"/>
                    </a:lnTo>
                    <a:lnTo>
                      <a:pt x="454" y="76"/>
                    </a:lnTo>
                    <a:lnTo>
                      <a:pt x="472" y="95"/>
                    </a:lnTo>
                    <a:lnTo>
                      <a:pt x="487" y="115"/>
                    </a:lnTo>
                    <a:lnTo>
                      <a:pt x="501" y="137"/>
                    </a:lnTo>
                    <a:lnTo>
                      <a:pt x="511" y="160"/>
                    </a:lnTo>
                    <a:lnTo>
                      <a:pt x="520" y="185"/>
                    </a:lnTo>
                    <a:lnTo>
                      <a:pt x="527" y="210"/>
                    </a:lnTo>
                    <a:lnTo>
                      <a:pt x="530" y="237"/>
                    </a:lnTo>
                    <a:lnTo>
                      <a:pt x="532" y="264"/>
                    </a:lnTo>
                    <a:close/>
                    <a:moveTo>
                      <a:pt x="96" y="264"/>
                    </a:moveTo>
                    <a:lnTo>
                      <a:pt x="97" y="282"/>
                    </a:lnTo>
                    <a:lnTo>
                      <a:pt x="100" y="299"/>
                    </a:lnTo>
                    <a:lnTo>
                      <a:pt x="103" y="316"/>
                    </a:lnTo>
                    <a:lnTo>
                      <a:pt x="110" y="331"/>
                    </a:lnTo>
                    <a:lnTo>
                      <a:pt x="117" y="346"/>
                    </a:lnTo>
                    <a:lnTo>
                      <a:pt x="125" y="361"/>
                    </a:lnTo>
                    <a:lnTo>
                      <a:pt x="135" y="374"/>
                    </a:lnTo>
                    <a:lnTo>
                      <a:pt x="146" y="386"/>
                    </a:lnTo>
                    <a:lnTo>
                      <a:pt x="158" y="398"/>
                    </a:lnTo>
                    <a:lnTo>
                      <a:pt x="171" y="408"/>
                    </a:lnTo>
                    <a:lnTo>
                      <a:pt x="185" y="417"/>
                    </a:lnTo>
                    <a:lnTo>
                      <a:pt x="200" y="424"/>
                    </a:lnTo>
                    <a:lnTo>
                      <a:pt x="215" y="430"/>
                    </a:lnTo>
                    <a:lnTo>
                      <a:pt x="232" y="434"/>
                    </a:lnTo>
                    <a:lnTo>
                      <a:pt x="248" y="437"/>
                    </a:lnTo>
                    <a:lnTo>
                      <a:pt x="266" y="438"/>
                    </a:lnTo>
                    <a:lnTo>
                      <a:pt x="283" y="437"/>
                    </a:lnTo>
                    <a:lnTo>
                      <a:pt x="301" y="434"/>
                    </a:lnTo>
                    <a:lnTo>
                      <a:pt x="317" y="430"/>
                    </a:lnTo>
                    <a:lnTo>
                      <a:pt x="333" y="424"/>
                    </a:lnTo>
                    <a:lnTo>
                      <a:pt x="348" y="417"/>
                    </a:lnTo>
                    <a:lnTo>
                      <a:pt x="361" y="408"/>
                    </a:lnTo>
                    <a:lnTo>
                      <a:pt x="374" y="398"/>
                    </a:lnTo>
                    <a:lnTo>
                      <a:pt x="386" y="386"/>
                    </a:lnTo>
                    <a:lnTo>
                      <a:pt x="397" y="374"/>
                    </a:lnTo>
                    <a:lnTo>
                      <a:pt x="407" y="361"/>
                    </a:lnTo>
                    <a:lnTo>
                      <a:pt x="416" y="346"/>
                    </a:lnTo>
                    <a:lnTo>
                      <a:pt x="423" y="331"/>
                    </a:lnTo>
                    <a:lnTo>
                      <a:pt x="428" y="316"/>
                    </a:lnTo>
                    <a:lnTo>
                      <a:pt x="433" y="299"/>
                    </a:lnTo>
                    <a:lnTo>
                      <a:pt x="436" y="282"/>
                    </a:lnTo>
                    <a:lnTo>
                      <a:pt x="436" y="264"/>
                    </a:lnTo>
                    <a:lnTo>
                      <a:pt x="436" y="248"/>
                    </a:lnTo>
                    <a:lnTo>
                      <a:pt x="433" y="230"/>
                    </a:lnTo>
                    <a:lnTo>
                      <a:pt x="428" y="214"/>
                    </a:lnTo>
                    <a:lnTo>
                      <a:pt x="423" y="197"/>
                    </a:lnTo>
                    <a:lnTo>
                      <a:pt x="416" y="183"/>
                    </a:lnTo>
                    <a:lnTo>
                      <a:pt x="407" y="169"/>
                    </a:lnTo>
                    <a:lnTo>
                      <a:pt x="397" y="154"/>
                    </a:lnTo>
                    <a:lnTo>
                      <a:pt x="386" y="142"/>
                    </a:lnTo>
                    <a:lnTo>
                      <a:pt x="374" y="131"/>
                    </a:lnTo>
                    <a:lnTo>
                      <a:pt x="361" y="121"/>
                    </a:lnTo>
                    <a:lnTo>
                      <a:pt x="348" y="113"/>
                    </a:lnTo>
                    <a:lnTo>
                      <a:pt x="333" y="105"/>
                    </a:lnTo>
                    <a:lnTo>
                      <a:pt x="317" y="99"/>
                    </a:lnTo>
                    <a:lnTo>
                      <a:pt x="301" y="95"/>
                    </a:lnTo>
                    <a:lnTo>
                      <a:pt x="283" y="92"/>
                    </a:lnTo>
                    <a:lnTo>
                      <a:pt x="266" y="92"/>
                    </a:lnTo>
                    <a:lnTo>
                      <a:pt x="248" y="92"/>
                    </a:lnTo>
                    <a:lnTo>
                      <a:pt x="232" y="95"/>
                    </a:lnTo>
                    <a:lnTo>
                      <a:pt x="215" y="99"/>
                    </a:lnTo>
                    <a:lnTo>
                      <a:pt x="200" y="105"/>
                    </a:lnTo>
                    <a:lnTo>
                      <a:pt x="185" y="113"/>
                    </a:lnTo>
                    <a:lnTo>
                      <a:pt x="171" y="121"/>
                    </a:lnTo>
                    <a:lnTo>
                      <a:pt x="158" y="131"/>
                    </a:lnTo>
                    <a:lnTo>
                      <a:pt x="146" y="142"/>
                    </a:lnTo>
                    <a:lnTo>
                      <a:pt x="135" y="154"/>
                    </a:lnTo>
                    <a:lnTo>
                      <a:pt x="125" y="169"/>
                    </a:lnTo>
                    <a:lnTo>
                      <a:pt x="117" y="183"/>
                    </a:lnTo>
                    <a:lnTo>
                      <a:pt x="110" y="197"/>
                    </a:lnTo>
                    <a:lnTo>
                      <a:pt x="103" y="214"/>
                    </a:lnTo>
                    <a:lnTo>
                      <a:pt x="100" y="230"/>
                    </a:lnTo>
                    <a:lnTo>
                      <a:pt x="97" y="248"/>
                    </a:lnTo>
                    <a:lnTo>
                      <a:pt x="96" y="2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30280" y="882720"/>
                <a:ext cx="133200" cy="98280"/>
              </a:xfrm>
              <a:custGeom>
                <a:avLst/>
                <a:gdLst/>
                <a:ahLst/>
                <a:rect l="l" t="t" r="r" b="b"/>
                <a:pathLst>
                  <a:path w="690" h="512">
                    <a:moveTo>
                      <a:pt x="96" y="77"/>
                    </a:moveTo>
                    <a:lnTo>
                      <a:pt x="98" y="77"/>
                    </a:lnTo>
                    <a:lnTo>
                      <a:pt x="109" y="62"/>
                    </a:lnTo>
                    <a:lnTo>
                      <a:pt x="122" y="47"/>
                    </a:lnTo>
                    <a:lnTo>
                      <a:pt x="137" y="34"/>
                    </a:lnTo>
                    <a:lnTo>
                      <a:pt x="154" y="23"/>
                    </a:lnTo>
                    <a:lnTo>
                      <a:pt x="171" y="13"/>
                    </a:lnTo>
                    <a:lnTo>
                      <a:pt x="190" y="6"/>
                    </a:lnTo>
                    <a:lnTo>
                      <a:pt x="210" y="2"/>
                    </a:lnTo>
                    <a:lnTo>
                      <a:pt x="229" y="0"/>
                    </a:lnTo>
                    <a:lnTo>
                      <a:pt x="253" y="2"/>
                    </a:lnTo>
                    <a:lnTo>
                      <a:pt x="274" y="6"/>
                    </a:lnTo>
                    <a:lnTo>
                      <a:pt x="295" y="13"/>
                    </a:lnTo>
                    <a:lnTo>
                      <a:pt x="314" y="24"/>
                    </a:lnTo>
                    <a:lnTo>
                      <a:pt x="330" y="36"/>
                    </a:lnTo>
                    <a:lnTo>
                      <a:pt x="346" y="51"/>
                    </a:lnTo>
                    <a:lnTo>
                      <a:pt x="360" y="69"/>
                    </a:lnTo>
                    <a:lnTo>
                      <a:pt x="373" y="88"/>
                    </a:lnTo>
                    <a:lnTo>
                      <a:pt x="385" y="69"/>
                    </a:lnTo>
                    <a:lnTo>
                      <a:pt x="401" y="52"/>
                    </a:lnTo>
                    <a:lnTo>
                      <a:pt x="418" y="37"/>
                    </a:lnTo>
                    <a:lnTo>
                      <a:pt x="438" y="24"/>
                    </a:lnTo>
                    <a:lnTo>
                      <a:pt x="458" y="14"/>
                    </a:lnTo>
                    <a:lnTo>
                      <a:pt x="480" y="6"/>
                    </a:lnTo>
                    <a:lnTo>
                      <a:pt x="503" y="2"/>
                    </a:lnTo>
                    <a:lnTo>
                      <a:pt x="526" y="0"/>
                    </a:lnTo>
                    <a:lnTo>
                      <a:pt x="550" y="1"/>
                    </a:lnTo>
                    <a:lnTo>
                      <a:pt x="571" y="5"/>
                    </a:lnTo>
                    <a:lnTo>
                      <a:pt x="589" y="11"/>
                    </a:lnTo>
                    <a:lnTo>
                      <a:pt x="607" y="17"/>
                    </a:lnTo>
                    <a:lnTo>
                      <a:pt x="622" y="27"/>
                    </a:lnTo>
                    <a:lnTo>
                      <a:pt x="635" y="38"/>
                    </a:lnTo>
                    <a:lnTo>
                      <a:pt x="647" y="51"/>
                    </a:lnTo>
                    <a:lnTo>
                      <a:pt x="657" y="65"/>
                    </a:lnTo>
                    <a:lnTo>
                      <a:pt x="666" y="81"/>
                    </a:lnTo>
                    <a:lnTo>
                      <a:pt x="673" y="97"/>
                    </a:lnTo>
                    <a:lnTo>
                      <a:pt x="678" y="115"/>
                    </a:lnTo>
                    <a:lnTo>
                      <a:pt x="684" y="133"/>
                    </a:lnTo>
                    <a:lnTo>
                      <a:pt x="689" y="173"/>
                    </a:lnTo>
                    <a:lnTo>
                      <a:pt x="690" y="215"/>
                    </a:lnTo>
                    <a:lnTo>
                      <a:pt x="690" y="512"/>
                    </a:lnTo>
                    <a:lnTo>
                      <a:pt x="595" y="512"/>
                    </a:lnTo>
                    <a:lnTo>
                      <a:pt x="595" y="230"/>
                    </a:lnTo>
                    <a:lnTo>
                      <a:pt x="595" y="206"/>
                    </a:lnTo>
                    <a:lnTo>
                      <a:pt x="593" y="181"/>
                    </a:lnTo>
                    <a:lnTo>
                      <a:pt x="588" y="157"/>
                    </a:lnTo>
                    <a:lnTo>
                      <a:pt x="580" y="133"/>
                    </a:lnTo>
                    <a:lnTo>
                      <a:pt x="568" y="114"/>
                    </a:lnTo>
                    <a:lnTo>
                      <a:pt x="561" y="106"/>
                    </a:lnTo>
                    <a:lnTo>
                      <a:pt x="552" y="98"/>
                    </a:lnTo>
                    <a:lnTo>
                      <a:pt x="542" y="93"/>
                    </a:lnTo>
                    <a:lnTo>
                      <a:pt x="531" y="88"/>
                    </a:lnTo>
                    <a:lnTo>
                      <a:pt x="517" y="86"/>
                    </a:lnTo>
                    <a:lnTo>
                      <a:pt x="503" y="85"/>
                    </a:lnTo>
                    <a:lnTo>
                      <a:pt x="484" y="86"/>
                    </a:lnTo>
                    <a:lnTo>
                      <a:pt x="469" y="90"/>
                    </a:lnTo>
                    <a:lnTo>
                      <a:pt x="454" y="95"/>
                    </a:lnTo>
                    <a:lnTo>
                      <a:pt x="442" y="103"/>
                    </a:lnTo>
                    <a:lnTo>
                      <a:pt x="432" y="112"/>
                    </a:lnTo>
                    <a:lnTo>
                      <a:pt x="423" y="123"/>
                    </a:lnTo>
                    <a:lnTo>
                      <a:pt x="416" y="135"/>
                    </a:lnTo>
                    <a:lnTo>
                      <a:pt x="409" y="148"/>
                    </a:lnTo>
                    <a:lnTo>
                      <a:pt x="401" y="176"/>
                    </a:lnTo>
                    <a:lnTo>
                      <a:pt x="396" y="207"/>
                    </a:lnTo>
                    <a:lnTo>
                      <a:pt x="394" y="238"/>
                    </a:lnTo>
                    <a:lnTo>
                      <a:pt x="393" y="267"/>
                    </a:lnTo>
                    <a:lnTo>
                      <a:pt x="393" y="512"/>
                    </a:lnTo>
                    <a:lnTo>
                      <a:pt x="297" y="512"/>
                    </a:lnTo>
                    <a:lnTo>
                      <a:pt x="297" y="249"/>
                    </a:lnTo>
                    <a:lnTo>
                      <a:pt x="297" y="224"/>
                    </a:lnTo>
                    <a:lnTo>
                      <a:pt x="295" y="196"/>
                    </a:lnTo>
                    <a:lnTo>
                      <a:pt x="292" y="169"/>
                    </a:lnTo>
                    <a:lnTo>
                      <a:pt x="285" y="142"/>
                    </a:lnTo>
                    <a:lnTo>
                      <a:pt x="280" y="130"/>
                    </a:lnTo>
                    <a:lnTo>
                      <a:pt x="273" y="119"/>
                    </a:lnTo>
                    <a:lnTo>
                      <a:pt x="267" y="110"/>
                    </a:lnTo>
                    <a:lnTo>
                      <a:pt x="258" y="102"/>
                    </a:lnTo>
                    <a:lnTo>
                      <a:pt x="247" y="95"/>
                    </a:lnTo>
                    <a:lnTo>
                      <a:pt x="235" y="90"/>
                    </a:lnTo>
                    <a:lnTo>
                      <a:pt x="222" y="86"/>
                    </a:lnTo>
                    <a:lnTo>
                      <a:pt x="206" y="85"/>
                    </a:lnTo>
                    <a:lnTo>
                      <a:pt x="188" y="86"/>
                    </a:lnTo>
                    <a:lnTo>
                      <a:pt x="172" y="90"/>
                    </a:lnTo>
                    <a:lnTo>
                      <a:pt x="158" y="95"/>
                    </a:lnTo>
                    <a:lnTo>
                      <a:pt x="146" y="103"/>
                    </a:lnTo>
                    <a:lnTo>
                      <a:pt x="135" y="112"/>
                    </a:lnTo>
                    <a:lnTo>
                      <a:pt x="126" y="123"/>
                    </a:lnTo>
                    <a:lnTo>
                      <a:pt x="119" y="135"/>
                    </a:lnTo>
                    <a:lnTo>
                      <a:pt x="113" y="148"/>
                    </a:lnTo>
                    <a:lnTo>
                      <a:pt x="103" y="176"/>
                    </a:lnTo>
                    <a:lnTo>
                      <a:pt x="99" y="207"/>
                    </a:lnTo>
                    <a:lnTo>
                      <a:pt x="97" y="238"/>
                    </a:lnTo>
                    <a:lnTo>
                      <a:pt x="96" y="267"/>
                    </a:lnTo>
                    <a:lnTo>
                      <a:pt x="96" y="512"/>
                    </a:lnTo>
                    <a:lnTo>
                      <a:pt x="0" y="512"/>
                    </a:lnTo>
                    <a:lnTo>
                      <a:pt x="0" y="15"/>
                    </a:lnTo>
                    <a:lnTo>
                      <a:pt x="96" y="15"/>
                    </a:lnTo>
                    <a:lnTo>
                      <a:pt x="96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04240" y="1022400"/>
                <a:ext cx="9082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a-DK" sz="600" spc="-1" strike="noStrike">
                    <a:solidFill>
                      <a:srgbClr val="ffffff"/>
                    </a:solidFill>
                    <a:latin typeface="Futura Bk BT"/>
                  </a:rPr>
                  <a:t>www.kirktelecom.dk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3360" y="2857320"/>
            <a:ext cx="767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Инсталляция и администрирование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5F6C-DE9E-4F38-8715-E48365FDC3E2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"/>
          <p:cNvGrpSpPr/>
          <p:nvPr/>
        </p:nvGrpSpPr>
        <p:grpSpPr>
          <a:xfrm>
            <a:off x="0" y="0"/>
            <a:ext cx="5657760" cy="6858000"/>
            <a:chOff x="0" y="0"/>
            <a:chExt cx="5657760" cy="6858000"/>
          </a:xfrm>
        </p:grpSpPr>
        <p:sp>
          <p:nvSpPr>
            <p:cNvPr id="370" name=""/>
            <p:cNvSpPr/>
            <p:nvPr/>
          </p:nvSpPr>
          <p:spPr>
            <a:xfrm>
              <a:off x="0" y="0"/>
              <a:ext cx="2057400" cy="3429000"/>
            </a:xfrm>
            <a:prstGeom prst="rect">
              <a:avLst/>
            </a:prstGeom>
            <a:solidFill>
              <a:srgbClr val="000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0" y="3429000"/>
              <a:ext cx="2057400" cy="3429000"/>
            </a:xfrm>
            <a:prstGeom prst="rect">
              <a:avLst/>
            </a:pr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47800" y="6324480"/>
              <a:ext cx="3045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53200" y="6324480"/>
              <a:ext cx="3045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4" name="" descr=""/>
            <p:cNvPicPr/>
            <p:nvPr/>
          </p:nvPicPr>
          <p:blipFill>
            <a:blip r:embed="rId1"/>
            <a:stretch/>
          </p:blipFill>
          <p:spPr>
            <a:xfrm>
              <a:off x="185760" y="2055960"/>
              <a:ext cx="1574640" cy="271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5" name=""/>
            <p:cNvGrpSpPr/>
            <p:nvPr/>
          </p:nvGrpSpPr>
          <p:grpSpPr>
            <a:xfrm>
              <a:off x="195120" y="380880"/>
              <a:ext cx="1517400" cy="821880"/>
              <a:chOff x="195120" y="380880"/>
              <a:chExt cx="1517400" cy="821880"/>
            </a:xfrm>
          </p:grpSpPr>
          <p:sp>
            <p:nvSpPr>
              <p:cNvPr id="376" name=""/>
              <p:cNvSpPr/>
              <p:nvPr/>
            </p:nvSpPr>
            <p:spPr>
              <a:xfrm>
                <a:off x="372960" y="380880"/>
                <a:ext cx="313200" cy="387360"/>
              </a:xfrm>
              <a:custGeom>
                <a:avLst/>
                <a:gdLst/>
                <a:ahLst/>
                <a:rect l="l" t="t" r="r" b="b"/>
                <a:pathLst>
                  <a:path w="1606" h="1987">
                    <a:moveTo>
                      <a:pt x="29" y="1655"/>
                    </a:moveTo>
                    <a:lnTo>
                      <a:pt x="79" y="1682"/>
                    </a:lnTo>
                    <a:lnTo>
                      <a:pt x="623" y="1957"/>
                    </a:lnTo>
                    <a:lnTo>
                      <a:pt x="684" y="1987"/>
                    </a:lnTo>
                    <a:lnTo>
                      <a:pt x="687" y="1916"/>
                    </a:lnTo>
                    <a:lnTo>
                      <a:pt x="691" y="1864"/>
                    </a:lnTo>
                    <a:lnTo>
                      <a:pt x="697" y="1814"/>
                    </a:lnTo>
                    <a:lnTo>
                      <a:pt x="704" y="1763"/>
                    </a:lnTo>
                    <a:lnTo>
                      <a:pt x="713" y="1714"/>
                    </a:lnTo>
                    <a:lnTo>
                      <a:pt x="724" y="1665"/>
                    </a:lnTo>
                    <a:lnTo>
                      <a:pt x="737" y="1616"/>
                    </a:lnTo>
                    <a:lnTo>
                      <a:pt x="751" y="1569"/>
                    </a:lnTo>
                    <a:lnTo>
                      <a:pt x="767" y="1522"/>
                    </a:lnTo>
                    <a:lnTo>
                      <a:pt x="784" y="1476"/>
                    </a:lnTo>
                    <a:lnTo>
                      <a:pt x="803" y="1431"/>
                    </a:lnTo>
                    <a:lnTo>
                      <a:pt x="824" y="1386"/>
                    </a:lnTo>
                    <a:lnTo>
                      <a:pt x="846" y="1343"/>
                    </a:lnTo>
                    <a:lnTo>
                      <a:pt x="869" y="1300"/>
                    </a:lnTo>
                    <a:lnTo>
                      <a:pt x="894" y="1257"/>
                    </a:lnTo>
                    <a:lnTo>
                      <a:pt x="920" y="1217"/>
                    </a:lnTo>
                    <a:lnTo>
                      <a:pt x="948" y="1177"/>
                    </a:lnTo>
                    <a:lnTo>
                      <a:pt x="976" y="1137"/>
                    </a:lnTo>
                    <a:lnTo>
                      <a:pt x="1007" y="1100"/>
                    </a:lnTo>
                    <a:lnTo>
                      <a:pt x="1038" y="1063"/>
                    </a:lnTo>
                    <a:lnTo>
                      <a:pt x="1071" y="1027"/>
                    </a:lnTo>
                    <a:lnTo>
                      <a:pt x="1105" y="993"/>
                    </a:lnTo>
                    <a:lnTo>
                      <a:pt x="1140" y="959"/>
                    </a:lnTo>
                    <a:lnTo>
                      <a:pt x="1176" y="927"/>
                    </a:lnTo>
                    <a:lnTo>
                      <a:pt x="1213" y="896"/>
                    </a:lnTo>
                    <a:lnTo>
                      <a:pt x="1250" y="866"/>
                    </a:lnTo>
                    <a:lnTo>
                      <a:pt x="1290" y="838"/>
                    </a:lnTo>
                    <a:lnTo>
                      <a:pt x="1331" y="810"/>
                    </a:lnTo>
                    <a:lnTo>
                      <a:pt x="1372" y="785"/>
                    </a:lnTo>
                    <a:lnTo>
                      <a:pt x="1414" y="760"/>
                    </a:lnTo>
                    <a:lnTo>
                      <a:pt x="1457" y="737"/>
                    </a:lnTo>
                    <a:lnTo>
                      <a:pt x="1501" y="716"/>
                    </a:lnTo>
                    <a:lnTo>
                      <a:pt x="1546" y="696"/>
                    </a:lnTo>
                    <a:lnTo>
                      <a:pt x="1584" y="680"/>
                    </a:lnTo>
                    <a:lnTo>
                      <a:pt x="1594" y="673"/>
                    </a:lnTo>
                    <a:lnTo>
                      <a:pt x="1600" y="665"/>
                    </a:lnTo>
                    <a:lnTo>
                      <a:pt x="1604" y="658"/>
                    </a:lnTo>
                    <a:lnTo>
                      <a:pt x="1606" y="650"/>
                    </a:lnTo>
                    <a:lnTo>
                      <a:pt x="1605" y="638"/>
                    </a:lnTo>
                    <a:lnTo>
                      <a:pt x="1603" y="632"/>
                    </a:lnTo>
                    <a:lnTo>
                      <a:pt x="1586" y="586"/>
                    </a:lnTo>
                    <a:lnTo>
                      <a:pt x="1385" y="31"/>
                    </a:lnTo>
                    <a:lnTo>
                      <a:pt x="1381" y="18"/>
                    </a:lnTo>
                    <a:lnTo>
                      <a:pt x="1380" y="13"/>
                    </a:lnTo>
                    <a:lnTo>
                      <a:pt x="1372" y="5"/>
                    </a:lnTo>
                    <a:lnTo>
                      <a:pt x="1367" y="2"/>
                    </a:lnTo>
                    <a:lnTo>
                      <a:pt x="1359" y="0"/>
                    </a:lnTo>
                    <a:lnTo>
                      <a:pt x="1349" y="0"/>
                    </a:lnTo>
                    <a:lnTo>
                      <a:pt x="1337" y="3"/>
                    </a:lnTo>
                    <a:lnTo>
                      <a:pt x="1307" y="14"/>
                    </a:lnTo>
                    <a:lnTo>
                      <a:pt x="1248" y="37"/>
                    </a:lnTo>
                    <a:lnTo>
                      <a:pt x="1190" y="63"/>
                    </a:lnTo>
                    <a:lnTo>
                      <a:pt x="1133" y="89"/>
                    </a:lnTo>
                    <a:lnTo>
                      <a:pt x="1076" y="119"/>
                    </a:lnTo>
                    <a:lnTo>
                      <a:pt x="1021" y="149"/>
                    </a:lnTo>
                    <a:lnTo>
                      <a:pt x="966" y="181"/>
                    </a:lnTo>
                    <a:lnTo>
                      <a:pt x="913" y="215"/>
                    </a:lnTo>
                    <a:lnTo>
                      <a:pt x="861" y="251"/>
                    </a:lnTo>
                    <a:lnTo>
                      <a:pt x="810" y="289"/>
                    </a:lnTo>
                    <a:lnTo>
                      <a:pt x="759" y="328"/>
                    </a:lnTo>
                    <a:lnTo>
                      <a:pt x="711" y="369"/>
                    </a:lnTo>
                    <a:lnTo>
                      <a:pt x="663" y="411"/>
                    </a:lnTo>
                    <a:lnTo>
                      <a:pt x="616" y="455"/>
                    </a:lnTo>
                    <a:lnTo>
                      <a:pt x="572" y="501"/>
                    </a:lnTo>
                    <a:lnTo>
                      <a:pt x="528" y="547"/>
                    </a:lnTo>
                    <a:lnTo>
                      <a:pt x="485" y="595"/>
                    </a:lnTo>
                    <a:lnTo>
                      <a:pt x="443" y="645"/>
                    </a:lnTo>
                    <a:lnTo>
                      <a:pt x="404" y="695"/>
                    </a:lnTo>
                    <a:lnTo>
                      <a:pt x="365" y="747"/>
                    </a:lnTo>
                    <a:lnTo>
                      <a:pt x="329" y="800"/>
                    </a:lnTo>
                    <a:lnTo>
                      <a:pt x="294" y="854"/>
                    </a:lnTo>
                    <a:lnTo>
                      <a:pt x="260" y="910"/>
                    </a:lnTo>
                    <a:lnTo>
                      <a:pt x="228" y="967"/>
                    </a:lnTo>
                    <a:lnTo>
                      <a:pt x="197" y="1024"/>
                    </a:lnTo>
                    <a:lnTo>
                      <a:pt x="169" y="1084"/>
                    </a:lnTo>
                    <a:lnTo>
                      <a:pt x="142" y="1144"/>
                    </a:lnTo>
                    <a:lnTo>
                      <a:pt x="116" y="1204"/>
                    </a:lnTo>
                    <a:lnTo>
                      <a:pt x="93" y="1266"/>
                    </a:lnTo>
                    <a:lnTo>
                      <a:pt x="71" y="1329"/>
                    </a:lnTo>
                    <a:lnTo>
                      <a:pt x="52" y="1392"/>
                    </a:lnTo>
                    <a:lnTo>
                      <a:pt x="34" y="1457"/>
                    </a:lnTo>
                    <a:lnTo>
                      <a:pt x="18" y="1522"/>
                    </a:lnTo>
                    <a:lnTo>
                      <a:pt x="2" y="1593"/>
                    </a:lnTo>
                    <a:lnTo>
                      <a:pt x="0" y="1610"/>
                    </a:lnTo>
                    <a:lnTo>
                      <a:pt x="1" y="1623"/>
                    </a:lnTo>
                    <a:lnTo>
                      <a:pt x="6" y="1634"/>
                    </a:lnTo>
                    <a:lnTo>
                      <a:pt x="11" y="1643"/>
                    </a:lnTo>
                    <a:lnTo>
                      <a:pt x="17" y="1648"/>
                    </a:lnTo>
                    <a:lnTo>
                      <a:pt x="23" y="1652"/>
                    </a:lnTo>
                    <a:lnTo>
                      <a:pt x="29" y="1655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72960" y="770040"/>
                <a:ext cx="313200" cy="387360"/>
              </a:xfrm>
              <a:custGeom>
                <a:avLst/>
                <a:gdLst/>
                <a:ahLst/>
                <a:rect l="l" t="t" r="r" b="b"/>
                <a:pathLst>
                  <a:path w="1606" h="1985">
                    <a:moveTo>
                      <a:pt x="29" y="333"/>
                    </a:moveTo>
                    <a:lnTo>
                      <a:pt x="79" y="306"/>
                    </a:lnTo>
                    <a:lnTo>
                      <a:pt x="623" y="31"/>
                    </a:lnTo>
                    <a:lnTo>
                      <a:pt x="684" y="0"/>
                    </a:lnTo>
                    <a:lnTo>
                      <a:pt x="687" y="72"/>
                    </a:lnTo>
                    <a:lnTo>
                      <a:pt x="691" y="123"/>
                    </a:lnTo>
                    <a:lnTo>
                      <a:pt x="697" y="174"/>
                    </a:lnTo>
                    <a:lnTo>
                      <a:pt x="704" y="224"/>
                    </a:lnTo>
                    <a:lnTo>
                      <a:pt x="713" y="273"/>
                    </a:lnTo>
                    <a:lnTo>
                      <a:pt x="724" y="323"/>
                    </a:lnTo>
                    <a:lnTo>
                      <a:pt x="737" y="371"/>
                    </a:lnTo>
                    <a:lnTo>
                      <a:pt x="751" y="418"/>
                    </a:lnTo>
                    <a:lnTo>
                      <a:pt x="767" y="465"/>
                    </a:lnTo>
                    <a:lnTo>
                      <a:pt x="784" y="512"/>
                    </a:lnTo>
                    <a:lnTo>
                      <a:pt x="803" y="557"/>
                    </a:lnTo>
                    <a:lnTo>
                      <a:pt x="824" y="602"/>
                    </a:lnTo>
                    <a:lnTo>
                      <a:pt x="846" y="645"/>
                    </a:lnTo>
                    <a:lnTo>
                      <a:pt x="869" y="688"/>
                    </a:lnTo>
                    <a:lnTo>
                      <a:pt x="894" y="730"/>
                    </a:lnTo>
                    <a:lnTo>
                      <a:pt x="920" y="771"/>
                    </a:lnTo>
                    <a:lnTo>
                      <a:pt x="948" y="811"/>
                    </a:lnTo>
                    <a:lnTo>
                      <a:pt x="976" y="850"/>
                    </a:lnTo>
                    <a:lnTo>
                      <a:pt x="1007" y="888"/>
                    </a:lnTo>
                    <a:lnTo>
                      <a:pt x="1038" y="924"/>
                    </a:lnTo>
                    <a:lnTo>
                      <a:pt x="1071" y="961"/>
                    </a:lnTo>
                    <a:lnTo>
                      <a:pt x="1105" y="995"/>
                    </a:lnTo>
                    <a:lnTo>
                      <a:pt x="1140" y="1029"/>
                    </a:lnTo>
                    <a:lnTo>
                      <a:pt x="1176" y="1061"/>
                    </a:lnTo>
                    <a:lnTo>
                      <a:pt x="1213" y="1092"/>
                    </a:lnTo>
                    <a:lnTo>
                      <a:pt x="1252" y="1122"/>
                    </a:lnTo>
                    <a:lnTo>
                      <a:pt x="1290" y="1151"/>
                    </a:lnTo>
                    <a:lnTo>
                      <a:pt x="1331" y="1177"/>
                    </a:lnTo>
                    <a:lnTo>
                      <a:pt x="1372" y="1203"/>
                    </a:lnTo>
                    <a:lnTo>
                      <a:pt x="1414" y="1227"/>
                    </a:lnTo>
                    <a:lnTo>
                      <a:pt x="1457" y="1250"/>
                    </a:lnTo>
                    <a:lnTo>
                      <a:pt x="1501" y="1271"/>
                    </a:lnTo>
                    <a:lnTo>
                      <a:pt x="1546" y="1292"/>
                    </a:lnTo>
                    <a:lnTo>
                      <a:pt x="1584" y="1308"/>
                    </a:lnTo>
                    <a:lnTo>
                      <a:pt x="1594" y="1315"/>
                    </a:lnTo>
                    <a:lnTo>
                      <a:pt x="1600" y="1323"/>
                    </a:lnTo>
                    <a:lnTo>
                      <a:pt x="1605" y="1331"/>
                    </a:lnTo>
                    <a:lnTo>
                      <a:pt x="1606" y="1337"/>
                    </a:lnTo>
                    <a:lnTo>
                      <a:pt x="1605" y="1349"/>
                    </a:lnTo>
                    <a:lnTo>
                      <a:pt x="1603" y="1355"/>
                    </a:lnTo>
                    <a:lnTo>
                      <a:pt x="1586" y="1401"/>
                    </a:lnTo>
                    <a:lnTo>
                      <a:pt x="1388" y="1950"/>
                    </a:lnTo>
                    <a:lnTo>
                      <a:pt x="1381" y="1965"/>
                    </a:lnTo>
                    <a:lnTo>
                      <a:pt x="1379" y="1970"/>
                    </a:lnTo>
                    <a:lnTo>
                      <a:pt x="1371" y="1978"/>
                    </a:lnTo>
                    <a:lnTo>
                      <a:pt x="1366" y="1983"/>
                    </a:lnTo>
                    <a:lnTo>
                      <a:pt x="1358" y="1985"/>
                    </a:lnTo>
                    <a:lnTo>
                      <a:pt x="1348" y="1985"/>
                    </a:lnTo>
                    <a:lnTo>
                      <a:pt x="1338" y="1983"/>
                    </a:lnTo>
                    <a:lnTo>
                      <a:pt x="1302" y="1969"/>
                    </a:lnTo>
                    <a:lnTo>
                      <a:pt x="1242" y="1942"/>
                    </a:lnTo>
                    <a:lnTo>
                      <a:pt x="1181" y="1915"/>
                    </a:lnTo>
                    <a:lnTo>
                      <a:pt x="1123" y="1886"/>
                    </a:lnTo>
                    <a:lnTo>
                      <a:pt x="1066" y="1857"/>
                    </a:lnTo>
                    <a:lnTo>
                      <a:pt x="1009" y="1824"/>
                    </a:lnTo>
                    <a:lnTo>
                      <a:pt x="954" y="1791"/>
                    </a:lnTo>
                    <a:lnTo>
                      <a:pt x="901" y="1756"/>
                    </a:lnTo>
                    <a:lnTo>
                      <a:pt x="848" y="1719"/>
                    </a:lnTo>
                    <a:lnTo>
                      <a:pt x="796" y="1682"/>
                    </a:lnTo>
                    <a:lnTo>
                      <a:pt x="747" y="1642"/>
                    </a:lnTo>
                    <a:lnTo>
                      <a:pt x="698" y="1602"/>
                    </a:lnTo>
                    <a:lnTo>
                      <a:pt x="650" y="1560"/>
                    </a:lnTo>
                    <a:lnTo>
                      <a:pt x="604" y="1517"/>
                    </a:lnTo>
                    <a:lnTo>
                      <a:pt x="559" y="1472"/>
                    </a:lnTo>
                    <a:lnTo>
                      <a:pt x="517" y="1426"/>
                    </a:lnTo>
                    <a:lnTo>
                      <a:pt x="475" y="1379"/>
                    </a:lnTo>
                    <a:lnTo>
                      <a:pt x="434" y="1331"/>
                    </a:lnTo>
                    <a:lnTo>
                      <a:pt x="395" y="1281"/>
                    </a:lnTo>
                    <a:lnTo>
                      <a:pt x="358" y="1230"/>
                    </a:lnTo>
                    <a:lnTo>
                      <a:pt x="323" y="1178"/>
                    </a:lnTo>
                    <a:lnTo>
                      <a:pt x="287" y="1124"/>
                    </a:lnTo>
                    <a:lnTo>
                      <a:pt x="255" y="1070"/>
                    </a:lnTo>
                    <a:lnTo>
                      <a:pt x="224" y="1014"/>
                    </a:lnTo>
                    <a:lnTo>
                      <a:pt x="194" y="957"/>
                    </a:lnTo>
                    <a:lnTo>
                      <a:pt x="166" y="900"/>
                    </a:lnTo>
                    <a:lnTo>
                      <a:pt x="139" y="841"/>
                    </a:lnTo>
                    <a:lnTo>
                      <a:pt x="115" y="781"/>
                    </a:lnTo>
                    <a:lnTo>
                      <a:pt x="92" y="720"/>
                    </a:lnTo>
                    <a:lnTo>
                      <a:pt x="71" y="658"/>
                    </a:lnTo>
                    <a:lnTo>
                      <a:pt x="52" y="595"/>
                    </a:lnTo>
                    <a:lnTo>
                      <a:pt x="34" y="530"/>
                    </a:lnTo>
                    <a:lnTo>
                      <a:pt x="18" y="465"/>
                    </a:lnTo>
                    <a:lnTo>
                      <a:pt x="3" y="394"/>
                    </a:lnTo>
                    <a:lnTo>
                      <a:pt x="0" y="378"/>
                    </a:lnTo>
                    <a:lnTo>
                      <a:pt x="1" y="364"/>
                    </a:lnTo>
                    <a:lnTo>
                      <a:pt x="6" y="353"/>
                    </a:lnTo>
                    <a:lnTo>
                      <a:pt x="11" y="346"/>
                    </a:lnTo>
                    <a:lnTo>
                      <a:pt x="17" y="339"/>
                    </a:lnTo>
                    <a:lnTo>
                      <a:pt x="23" y="336"/>
                    </a:lnTo>
                    <a:lnTo>
                      <a:pt x="29" y="333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16320" y="698400"/>
                <a:ext cx="137880" cy="147600"/>
              </a:xfrm>
              <a:custGeom>
                <a:avLst/>
                <a:gdLst/>
                <a:ahLst/>
                <a:rect l="l" t="t" r="r" b="b"/>
                <a:pathLst>
                  <a:path w="714" h="759">
                    <a:moveTo>
                      <a:pt x="699" y="379"/>
                    </a:moveTo>
                    <a:lnTo>
                      <a:pt x="706" y="375"/>
                    </a:lnTo>
                    <a:lnTo>
                      <a:pt x="710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09" y="351"/>
                    </a:lnTo>
                    <a:lnTo>
                      <a:pt x="705" y="346"/>
                    </a:lnTo>
                    <a:lnTo>
                      <a:pt x="699" y="342"/>
                    </a:lnTo>
                    <a:lnTo>
                      <a:pt x="35" y="4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3" y="11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735"/>
                    </a:lnTo>
                    <a:lnTo>
                      <a:pt x="1" y="743"/>
                    </a:lnTo>
                    <a:lnTo>
                      <a:pt x="3" y="748"/>
                    </a:lnTo>
                    <a:lnTo>
                      <a:pt x="5" y="753"/>
                    </a:lnTo>
                    <a:lnTo>
                      <a:pt x="10" y="757"/>
                    </a:lnTo>
                    <a:lnTo>
                      <a:pt x="15" y="759"/>
                    </a:lnTo>
                    <a:lnTo>
                      <a:pt x="21" y="759"/>
                    </a:lnTo>
                    <a:lnTo>
                      <a:pt x="27" y="758"/>
                    </a:lnTo>
                    <a:lnTo>
                      <a:pt x="34" y="755"/>
                    </a:lnTo>
                    <a:lnTo>
                      <a:pt x="699" y="379"/>
                    </a:lnTo>
                    <a:close/>
                  </a:path>
                </a:pathLst>
              </a:custGeom>
              <a:solidFill>
                <a:srgbClr val="00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95120" y="701640"/>
                <a:ext cx="138240" cy="146160"/>
              </a:xfrm>
              <a:custGeom>
                <a:avLst/>
                <a:gdLst/>
                <a:ahLst/>
                <a:rect l="l" t="t" r="r" b="b"/>
                <a:pathLst>
                  <a:path w="714" h="758">
                    <a:moveTo>
                      <a:pt x="701" y="379"/>
                    </a:moveTo>
                    <a:lnTo>
                      <a:pt x="706" y="374"/>
                    </a:lnTo>
                    <a:lnTo>
                      <a:pt x="711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11" y="350"/>
                    </a:lnTo>
                    <a:lnTo>
                      <a:pt x="706" y="346"/>
                    </a:lnTo>
                    <a:lnTo>
                      <a:pt x="700" y="342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0" y="734"/>
                    </a:lnTo>
                    <a:lnTo>
                      <a:pt x="1" y="742"/>
                    </a:lnTo>
                    <a:lnTo>
                      <a:pt x="3" y="749"/>
                    </a:lnTo>
                    <a:lnTo>
                      <a:pt x="7" y="753"/>
                    </a:lnTo>
                    <a:lnTo>
                      <a:pt x="10" y="756"/>
                    </a:lnTo>
                    <a:lnTo>
                      <a:pt x="15" y="758"/>
                    </a:lnTo>
                    <a:lnTo>
                      <a:pt x="21" y="758"/>
                    </a:lnTo>
                    <a:lnTo>
                      <a:pt x="27" y="757"/>
                    </a:lnTo>
                    <a:lnTo>
                      <a:pt x="34" y="754"/>
                    </a:lnTo>
                    <a:lnTo>
                      <a:pt x="701" y="379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934200" y="517680"/>
                <a:ext cx="180720" cy="250560"/>
              </a:xfrm>
              <a:custGeom>
                <a:avLst/>
                <a:gdLst/>
                <a:ahLst/>
                <a:rect l="l" t="t" r="r" b="b"/>
                <a:pathLst>
                  <a:path w="930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30" y="1293"/>
                    </a:lnTo>
                    <a:lnTo>
                      <a:pt x="713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136160" y="517680"/>
                <a:ext cx="31680" cy="25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215360" y="517680"/>
                <a:ext cx="155520" cy="250560"/>
              </a:xfrm>
              <a:custGeom>
                <a:avLst/>
                <a:gdLst/>
                <a:ahLst/>
                <a:rect l="l" t="t" r="r" b="b"/>
                <a:pathLst>
                  <a:path w="803" h="1293">
                    <a:moveTo>
                      <a:pt x="803" y="1293"/>
                    </a:moveTo>
                    <a:lnTo>
                      <a:pt x="607" y="1293"/>
                    </a:lnTo>
                    <a:lnTo>
                      <a:pt x="228" y="746"/>
                    </a:lnTo>
                    <a:lnTo>
                      <a:pt x="161" y="746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283" y="1"/>
                    </a:lnTo>
                    <a:lnTo>
                      <a:pt x="327" y="4"/>
                    </a:lnTo>
                    <a:lnTo>
                      <a:pt x="370" y="8"/>
                    </a:lnTo>
                    <a:lnTo>
                      <a:pt x="413" y="16"/>
                    </a:lnTo>
                    <a:lnTo>
                      <a:pt x="456" y="27"/>
                    </a:lnTo>
                    <a:lnTo>
                      <a:pt x="497" y="41"/>
                    </a:lnTo>
                    <a:lnTo>
                      <a:pt x="536" y="61"/>
                    </a:lnTo>
                    <a:lnTo>
                      <a:pt x="556" y="73"/>
                    </a:lnTo>
                    <a:lnTo>
                      <a:pt x="574" y="87"/>
                    </a:lnTo>
                    <a:lnTo>
                      <a:pt x="592" y="101"/>
                    </a:lnTo>
                    <a:lnTo>
                      <a:pt x="608" y="118"/>
                    </a:lnTo>
                    <a:lnTo>
                      <a:pt x="623" y="135"/>
                    </a:lnTo>
                    <a:lnTo>
                      <a:pt x="637" y="153"/>
                    </a:lnTo>
                    <a:lnTo>
                      <a:pt x="650" y="173"/>
                    </a:lnTo>
                    <a:lnTo>
                      <a:pt x="661" y="192"/>
                    </a:lnTo>
                    <a:lnTo>
                      <a:pt x="671" y="212"/>
                    </a:lnTo>
                    <a:lnTo>
                      <a:pt x="680" y="233"/>
                    </a:lnTo>
                    <a:lnTo>
                      <a:pt x="694" y="277"/>
                    </a:lnTo>
                    <a:lnTo>
                      <a:pt x="700" y="300"/>
                    </a:lnTo>
                    <a:lnTo>
                      <a:pt x="703" y="323"/>
                    </a:lnTo>
                    <a:lnTo>
                      <a:pt x="705" y="346"/>
                    </a:lnTo>
                    <a:lnTo>
                      <a:pt x="705" y="369"/>
                    </a:lnTo>
                    <a:lnTo>
                      <a:pt x="704" y="403"/>
                    </a:lnTo>
                    <a:lnTo>
                      <a:pt x="700" y="436"/>
                    </a:lnTo>
                    <a:lnTo>
                      <a:pt x="693" y="469"/>
                    </a:lnTo>
                    <a:lnTo>
                      <a:pt x="683" y="500"/>
                    </a:lnTo>
                    <a:lnTo>
                      <a:pt x="671" y="531"/>
                    </a:lnTo>
                    <a:lnTo>
                      <a:pt x="657" y="558"/>
                    </a:lnTo>
                    <a:lnTo>
                      <a:pt x="639" y="585"/>
                    </a:lnTo>
                    <a:lnTo>
                      <a:pt x="621" y="611"/>
                    </a:lnTo>
                    <a:lnTo>
                      <a:pt x="599" y="634"/>
                    </a:lnTo>
                    <a:lnTo>
                      <a:pt x="576" y="655"/>
                    </a:lnTo>
                    <a:lnTo>
                      <a:pt x="550" y="673"/>
                    </a:lnTo>
                    <a:lnTo>
                      <a:pt x="523" y="691"/>
                    </a:lnTo>
                    <a:lnTo>
                      <a:pt x="493" y="704"/>
                    </a:lnTo>
                    <a:lnTo>
                      <a:pt x="463" y="716"/>
                    </a:lnTo>
                    <a:lnTo>
                      <a:pt x="430" y="725"/>
                    </a:lnTo>
                    <a:lnTo>
                      <a:pt x="396" y="730"/>
                    </a:lnTo>
                    <a:lnTo>
                      <a:pt x="803" y="1293"/>
                    </a:lnTo>
                    <a:close/>
                    <a:moveTo>
                      <a:pt x="161" y="612"/>
                    </a:moveTo>
                    <a:lnTo>
                      <a:pt x="213" y="612"/>
                    </a:lnTo>
                    <a:lnTo>
                      <a:pt x="274" y="611"/>
                    </a:lnTo>
                    <a:lnTo>
                      <a:pt x="335" y="604"/>
                    </a:lnTo>
                    <a:lnTo>
                      <a:pt x="365" y="599"/>
                    </a:lnTo>
                    <a:lnTo>
                      <a:pt x="393" y="591"/>
                    </a:lnTo>
                    <a:lnTo>
                      <a:pt x="420" y="582"/>
                    </a:lnTo>
                    <a:lnTo>
                      <a:pt x="445" y="571"/>
                    </a:lnTo>
                    <a:lnTo>
                      <a:pt x="469" y="557"/>
                    </a:lnTo>
                    <a:lnTo>
                      <a:pt x="490" y="540"/>
                    </a:lnTo>
                    <a:lnTo>
                      <a:pt x="509" y="522"/>
                    </a:lnTo>
                    <a:lnTo>
                      <a:pt x="524" y="499"/>
                    </a:lnTo>
                    <a:lnTo>
                      <a:pt x="537" y="473"/>
                    </a:lnTo>
                    <a:lnTo>
                      <a:pt x="547" y="445"/>
                    </a:lnTo>
                    <a:lnTo>
                      <a:pt x="553" y="412"/>
                    </a:lnTo>
                    <a:lnTo>
                      <a:pt x="555" y="376"/>
                    </a:lnTo>
                    <a:lnTo>
                      <a:pt x="553" y="339"/>
                    </a:lnTo>
                    <a:lnTo>
                      <a:pt x="546" y="308"/>
                    </a:lnTo>
                    <a:lnTo>
                      <a:pt x="536" y="279"/>
                    </a:lnTo>
                    <a:lnTo>
                      <a:pt x="523" y="254"/>
                    </a:lnTo>
                    <a:lnTo>
                      <a:pt x="505" y="232"/>
                    </a:lnTo>
                    <a:lnTo>
                      <a:pt x="486" y="213"/>
                    </a:lnTo>
                    <a:lnTo>
                      <a:pt x="464" y="198"/>
                    </a:lnTo>
                    <a:lnTo>
                      <a:pt x="440" y="184"/>
                    </a:lnTo>
                    <a:lnTo>
                      <a:pt x="413" y="173"/>
                    </a:lnTo>
                    <a:lnTo>
                      <a:pt x="385" y="164"/>
                    </a:lnTo>
                    <a:lnTo>
                      <a:pt x="356" y="157"/>
                    </a:lnTo>
                    <a:lnTo>
                      <a:pt x="325" y="152"/>
                    </a:lnTo>
                    <a:lnTo>
                      <a:pt x="296" y="148"/>
                    </a:lnTo>
                    <a:lnTo>
                      <a:pt x="265" y="146"/>
                    </a:lnTo>
                    <a:lnTo>
                      <a:pt x="204" y="144"/>
                    </a:lnTo>
                    <a:lnTo>
                      <a:pt x="161" y="144"/>
                    </a:lnTo>
                    <a:lnTo>
                      <a:pt x="161" y="6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387080" y="5176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929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29" y="1293"/>
                    </a:lnTo>
                    <a:lnTo>
                      <a:pt x="712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923040" y="847800"/>
                <a:ext cx="50760" cy="133200"/>
              </a:xfrm>
              <a:custGeom>
                <a:avLst/>
                <a:gdLst/>
                <a:ahLst/>
                <a:rect l="l" t="t" r="r" b="b"/>
                <a:pathLst>
                  <a:path w="264" h="687">
                    <a:moveTo>
                      <a:pt x="169" y="687"/>
                    </a:moveTo>
                    <a:lnTo>
                      <a:pt x="74" y="687"/>
                    </a:lnTo>
                    <a:lnTo>
                      <a:pt x="74" y="279"/>
                    </a:lnTo>
                    <a:lnTo>
                      <a:pt x="0" y="279"/>
                    </a:lnTo>
                    <a:lnTo>
                      <a:pt x="0" y="190"/>
                    </a:lnTo>
                    <a:lnTo>
                      <a:pt x="74" y="190"/>
                    </a:lnTo>
                    <a:lnTo>
                      <a:pt x="74" y="0"/>
                    </a:lnTo>
                    <a:lnTo>
                      <a:pt x="169" y="0"/>
                    </a:lnTo>
                    <a:lnTo>
                      <a:pt x="169" y="190"/>
                    </a:lnTo>
                    <a:lnTo>
                      <a:pt x="264" y="190"/>
                    </a:lnTo>
                    <a:lnTo>
                      <a:pt x="264" y="279"/>
                    </a:lnTo>
                    <a:lnTo>
                      <a:pt x="169" y="279"/>
                    </a:lnTo>
                    <a:lnTo>
                      <a:pt x="169" y="6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977040" y="882720"/>
                <a:ext cx="9180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5" y="280"/>
                    </a:moveTo>
                    <a:lnTo>
                      <a:pt x="98" y="311"/>
                    </a:lnTo>
                    <a:lnTo>
                      <a:pt x="106" y="341"/>
                    </a:lnTo>
                    <a:lnTo>
                      <a:pt x="119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8" y="415"/>
                    </a:lnTo>
                    <a:lnTo>
                      <a:pt x="170" y="423"/>
                    </a:lnTo>
                    <a:lnTo>
                      <a:pt x="184" y="431"/>
                    </a:lnTo>
                    <a:lnTo>
                      <a:pt x="197" y="437"/>
                    </a:lnTo>
                    <a:lnTo>
                      <a:pt x="213" y="441"/>
                    </a:lnTo>
                    <a:lnTo>
                      <a:pt x="229" y="443"/>
                    </a:lnTo>
                    <a:lnTo>
                      <a:pt x="245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5" y="430"/>
                    </a:lnTo>
                    <a:lnTo>
                      <a:pt x="333" y="418"/>
                    </a:lnTo>
                    <a:lnTo>
                      <a:pt x="351" y="405"/>
                    </a:lnTo>
                    <a:lnTo>
                      <a:pt x="366" y="388"/>
                    </a:lnTo>
                    <a:lnTo>
                      <a:pt x="380" y="368"/>
                    </a:lnTo>
                    <a:lnTo>
                      <a:pt x="394" y="348"/>
                    </a:lnTo>
                    <a:lnTo>
                      <a:pt x="475" y="394"/>
                    </a:lnTo>
                    <a:lnTo>
                      <a:pt x="455" y="424"/>
                    </a:lnTo>
                    <a:lnTo>
                      <a:pt x="433" y="451"/>
                    </a:lnTo>
                    <a:lnTo>
                      <a:pt x="407" y="474"/>
                    </a:lnTo>
                    <a:lnTo>
                      <a:pt x="378" y="494"/>
                    </a:lnTo>
                    <a:lnTo>
                      <a:pt x="347" y="509"/>
                    </a:lnTo>
                    <a:lnTo>
                      <a:pt x="315" y="520"/>
                    </a:lnTo>
                    <a:lnTo>
                      <a:pt x="279" y="528"/>
                    </a:lnTo>
                    <a:lnTo>
                      <a:pt x="244" y="530"/>
                    </a:lnTo>
                    <a:lnTo>
                      <a:pt x="217" y="528"/>
                    </a:lnTo>
                    <a:lnTo>
                      <a:pt x="191" y="524"/>
                    </a:lnTo>
                    <a:lnTo>
                      <a:pt x="165" y="518"/>
                    </a:lnTo>
                    <a:lnTo>
                      <a:pt x="142" y="509"/>
                    </a:lnTo>
                    <a:lnTo>
                      <a:pt x="120" y="498"/>
                    </a:lnTo>
                    <a:lnTo>
                      <a:pt x="101" y="485"/>
                    </a:lnTo>
                    <a:lnTo>
                      <a:pt x="82" y="471"/>
                    </a:lnTo>
                    <a:lnTo>
                      <a:pt x="66" y="454"/>
                    </a:lnTo>
                    <a:lnTo>
                      <a:pt x="50" y="435"/>
                    </a:lnTo>
                    <a:lnTo>
                      <a:pt x="37" y="416"/>
                    </a:lnTo>
                    <a:lnTo>
                      <a:pt x="26" y="394"/>
                    </a:lnTo>
                    <a:lnTo>
                      <a:pt x="16" y="371"/>
                    </a:lnTo>
                    <a:lnTo>
                      <a:pt x="10" y="346"/>
                    </a:lnTo>
                    <a:lnTo>
                      <a:pt x="4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4" y="213"/>
                    </a:lnTo>
                    <a:lnTo>
                      <a:pt x="9" y="186"/>
                    </a:lnTo>
                    <a:lnTo>
                      <a:pt x="15" y="161"/>
                    </a:lnTo>
                    <a:lnTo>
                      <a:pt x="24" y="138"/>
                    </a:lnTo>
                    <a:lnTo>
                      <a:pt x="34" y="116"/>
                    </a:lnTo>
                    <a:lnTo>
                      <a:pt x="47" y="95"/>
                    </a:lnTo>
                    <a:lnTo>
                      <a:pt x="61" y="76"/>
                    </a:lnTo>
                    <a:lnTo>
                      <a:pt x="77" y="60"/>
                    </a:lnTo>
                    <a:lnTo>
                      <a:pt x="95" y="45"/>
                    </a:lnTo>
                    <a:lnTo>
                      <a:pt x="115" y="31"/>
                    </a:lnTo>
                    <a:lnTo>
                      <a:pt x="137" y="20"/>
                    </a:lnTo>
                    <a:lnTo>
                      <a:pt x="160" y="12"/>
                    </a:lnTo>
                    <a:lnTo>
                      <a:pt x="185" y="5"/>
                    </a:lnTo>
                    <a:lnTo>
                      <a:pt x="213" y="2"/>
                    </a:lnTo>
                    <a:lnTo>
                      <a:pt x="242" y="0"/>
                    </a:lnTo>
                    <a:lnTo>
                      <a:pt x="271" y="2"/>
                    </a:lnTo>
                    <a:lnTo>
                      <a:pt x="297" y="5"/>
                    </a:lnTo>
                    <a:lnTo>
                      <a:pt x="322" y="12"/>
                    </a:lnTo>
                    <a:lnTo>
                      <a:pt x="345" y="20"/>
                    </a:lnTo>
                    <a:lnTo>
                      <a:pt x="366" y="31"/>
                    </a:lnTo>
                    <a:lnTo>
                      <a:pt x="385" y="45"/>
                    </a:lnTo>
                    <a:lnTo>
                      <a:pt x="402" y="60"/>
                    </a:lnTo>
                    <a:lnTo>
                      <a:pt x="418" y="76"/>
                    </a:lnTo>
                    <a:lnTo>
                      <a:pt x="431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0" y="161"/>
                    </a:lnTo>
                    <a:lnTo>
                      <a:pt x="467" y="185"/>
                    </a:lnTo>
                    <a:lnTo>
                      <a:pt x="471" y="210"/>
                    </a:lnTo>
                    <a:lnTo>
                      <a:pt x="474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5" y="280"/>
                    </a:lnTo>
                    <a:close/>
                    <a:moveTo>
                      <a:pt x="379" y="207"/>
                    </a:moveTo>
                    <a:lnTo>
                      <a:pt x="373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5" y="117"/>
                    </a:lnTo>
                    <a:lnTo>
                      <a:pt x="316" y="103"/>
                    </a:lnTo>
                    <a:lnTo>
                      <a:pt x="294" y="92"/>
                    </a:lnTo>
                    <a:lnTo>
                      <a:pt x="270" y="85"/>
                    </a:lnTo>
                    <a:lnTo>
                      <a:pt x="242" y="83"/>
                    </a:lnTo>
                    <a:lnTo>
                      <a:pt x="215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1" y="137"/>
                    </a:lnTo>
                    <a:lnTo>
                      <a:pt x="117" y="158"/>
                    </a:lnTo>
                    <a:lnTo>
                      <a:pt x="107" y="182"/>
                    </a:lnTo>
                    <a:lnTo>
                      <a:pt x="101" y="207"/>
                    </a:lnTo>
                    <a:lnTo>
                      <a:pt x="379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086480" y="846000"/>
                <a:ext cx="1908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118520" y="882720"/>
                <a:ext cx="9216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7" y="280"/>
                    </a:moveTo>
                    <a:lnTo>
                      <a:pt x="99" y="311"/>
                    </a:lnTo>
                    <a:lnTo>
                      <a:pt x="108" y="341"/>
                    </a:lnTo>
                    <a:lnTo>
                      <a:pt x="120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9" y="415"/>
                    </a:lnTo>
                    <a:lnTo>
                      <a:pt x="171" y="423"/>
                    </a:lnTo>
                    <a:lnTo>
                      <a:pt x="185" y="431"/>
                    </a:lnTo>
                    <a:lnTo>
                      <a:pt x="199" y="437"/>
                    </a:lnTo>
                    <a:lnTo>
                      <a:pt x="213" y="441"/>
                    </a:lnTo>
                    <a:lnTo>
                      <a:pt x="230" y="443"/>
                    </a:lnTo>
                    <a:lnTo>
                      <a:pt x="246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6" y="430"/>
                    </a:lnTo>
                    <a:lnTo>
                      <a:pt x="335" y="418"/>
                    </a:lnTo>
                    <a:lnTo>
                      <a:pt x="351" y="405"/>
                    </a:lnTo>
                    <a:lnTo>
                      <a:pt x="367" y="388"/>
                    </a:lnTo>
                    <a:lnTo>
                      <a:pt x="381" y="368"/>
                    </a:lnTo>
                    <a:lnTo>
                      <a:pt x="395" y="348"/>
                    </a:lnTo>
                    <a:lnTo>
                      <a:pt x="475" y="394"/>
                    </a:lnTo>
                    <a:lnTo>
                      <a:pt x="457" y="424"/>
                    </a:lnTo>
                    <a:lnTo>
                      <a:pt x="434" y="451"/>
                    </a:lnTo>
                    <a:lnTo>
                      <a:pt x="407" y="474"/>
                    </a:lnTo>
                    <a:lnTo>
                      <a:pt x="379" y="494"/>
                    </a:lnTo>
                    <a:lnTo>
                      <a:pt x="348" y="509"/>
                    </a:lnTo>
                    <a:lnTo>
                      <a:pt x="315" y="520"/>
                    </a:lnTo>
                    <a:lnTo>
                      <a:pt x="281" y="528"/>
                    </a:lnTo>
                    <a:lnTo>
                      <a:pt x="245" y="530"/>
                    </a:lnTo>
                    <a:lnTo>
                      <a:pt x="218" y="528"/>
                    </a:lnTo>
                    <a:lnTo>
                      <a:pt x="191" y="524"/>
                    </a:lnTo>
                    <a:lnTo>
                      <a:pt x="166" y="518"/>
                    </a:lnTo>
                    <a:lnTo>
                      <a:pt x="143" y="509"/>
                    </a:lnTo>
                    <a:lnTo>
                      <a:pt x="121" y="498"/>
                    </a:lnTo>
                    <a:lnTo>
                      <a:pt x="101" y="485"/>
                    </a:lnTo>
                    <a:lnTo>
                      <a:pt x="83" y="471"/>
                    </a:lnTo>
                    <a:lnTo>
                      <a:pt x="66" y="454"/>
                    </a:lnTo>
                    <a:lnTo>
                      <a:pt x="51" y="435"/>
                    </a:lnTo>
                    <a:lnTo>
                      <a:pt x="38" y="416"/>
                    </a:lnTo>
                    <a:lnTo>
                      <a:pt x="27" y="394"/>
                    </a:lnTo>
                    <a:lnTo>
                      <a:pt x="18" y="371"/>
                    </a:lnTo>
                    <a:lnTo>
                      <a:pt x="10" y="346"/>
                    </a:lnTo>
                    <a:lnTo>
                      <a:pt x="5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5" y="213"/>
                    </a:lnTo>
                    <a:lnTo>
                      <a:pt x="9" y="186"/>
                    </a:lnTo>
                    <a:lnTo>
                      <a:pt x="16" y="161"/>
                    </a:lnTo>
                    <a:lnTo>
                      <a:pt x="24" y="138"/>
                    </a:lnTo>
                    <a:lnTo>
                      <a:pt x="35" y="116"/>
                    </a:lnTo>
                    <a:lnTo>
                      <a:pt x="48" y="95"/>
                    </a:lnTo>
                    <a:lnTo>
                      <a:pt x="62" y="76"/>
                    </a:lnTo>
                    <a:lnTo>
                      <a:pt x="78" y="60"/>
                    </a:lnTo>
                    <a:lnTo>
                      <a:pt x="96" y="45"/>
                    </a:lnTo>
                    <a:lnTo>
                      <a:pt x="116" y="31"/>
                    </a:lnTo>
                    <a:lnTo>
                      <a:pt x="137" y="20"/>
                    </a:lnTo>
                    <a:lnTo>
                      <a:pt x="162" y="12"/>
                    </a:lnTo>
                    <a:lnTo>
                      <a:pt x="187" y="5"/>
                    </a:lnTo>
                    <a:lnTo>
                      <a:pt x="214" y="2"/>
                    </a:lnTo>
                    <a:lnTo>
                      <a:pt x="243" y="0"/>
                    </a:lnTo>
                    <a:lnTo>
                      <a:pt x="271" y="2"/>
                    </a:lnTo>
                    <a:lnTo>
                      <a:pt x="299" y="5"/>
                    </a:lnTo>
                    <a:lnTo>
                      <a:pt x="323" y="12"/>
                    </a:lnTo>
                    <a:lnTo>
                      <a:pt x="346" y="20"/>
                    </a:lnTo>
                    <a:lnTo>
                      <a:pt x="367" y="31"/>
                    </a:lnTo>
                    <a:lnTo>
                      <a:pt x="386" y="45"/>
                    </a:lnTo>
                    <a:lnTo>
                      <a:pt x="403" y="60"/>
                    </a:lnTo>
                    <a:lnTo>
                      <a:pt x="418" y="76"/>
                    </a:lnTo>
                    <a:lnTo>
                      <a:pt x="432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1" y="161"/>
                    </a:lnTo>
                    <a:lnTo>
                      <a:pt x="468" y="185"/>
                    </a:lnTo>
                    <a:lnTo>
                      <a:pt x="472" y="210"/>
                    </a:lnTo>
                    <a:lnTo>
                      <a:pt x="475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7" y="280"/>
                    </a:lnTo>
                    <a:close/>
                    <a:moveTo>
                      <a:pt x="380" y="207"/>
                    </a:moveTo>
                    <a:lnTo>
                      <a:pt x="374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6" y="117"/>
                    </a:lnTo>
                    <a:lnTo>
                      <a:pt x="317" y="103"/>
                    </a:lnTo>
                    <a:lnTo>
                      <a:pt x="295" y="92"/>
                    </a:lnTo>
                    <a:lnTo>
                      <a:pt x="270" y="85"/>
                    </a:lnTo>
                    <a:lnTo>
                      <a:pt x="243" y="83"/>
                    </a:lnTo>
                    <a:lnTo>
                      <a:pt x="216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2" y="137"/>
                    </a:lnTo>
                    <a:lnTo>
                      <a:pt x="119" y="158"/>
                    </a:lnTo>
                    <a:lnTo>
                      <a:pt x="108" y="182"/>
                    </a:lnTo>
                    <a:lnTo>
                      <a:pt x="101" y="207"/>
                    </a:lnTo>
                    <a:lnTo>
                      <a:pt x="380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225080" y="882720"/>
                <a:ext cx="77760" cy="101520"/>
              </a:xfrm>
              <a:custGeom>
                <a:avLst/>
                <a:gdLst/>
                <a:ahLst/>
                <a:rect l="l" t="t" r="r" b="b"/>
                <a:pathLst>
                  <a:path w="404" h="530">
                    <a:moveTo>
                      <a:pt x="404" y="157"/>
                    </a:moveTo>
                    <a:lnTo>
                      <a:pt x="389" y="141"/>
                    </a:lnTo>
                    <a:lnTo>
                      <a:pt x="373" y="127"/>
                    </a:lnTo>
                    <a:lnTo>
                      <a:pt x="358" y="116"/>
                    </a:lnTo>
                    <a:lnTo>
                      <a:pt x="340" y="106"/>
                    </a:lnTo>
                    <a:lnTo>
                      <a:pt x="321" y="99"/>
                    </a:lnTo>
                    <a:lnTo>
                      <a:pt x="303" y="94"/>
                    </a:lnTo>
                    <a:lnTo>
                      <a:pt x="283" y="91"/>
                    </a:lnTo>
                    <a:lnTo>
                      <a:pt x="261" y="90"/>
                    </a:lnTo>
                    <a:lnTo>
                      <a:pt x="245" y="91"/>
                    </a:lnTo>
                    <a:lnTo>
                      <a:pt x="227" y="93"/>
                    </a:lnTo>
                    <a:lnTo>
                      <a:pt x="212" y="97"/>
                    </a:lnTo>
                    <a:lnTo>
                      <a:pt x="196" y="104"/>
                    </a:lnTo>
                    <a:lnTo>
                      <a:pt x="182" y="112"/>
                    </a:lnTo>
                    <a:lnTo>
                      <a:pt x="168" y="120"/>
                    </a:lnTo>
                    <a:lnTo>
                      <a:pt x="156" y="130"/>
                    </a:lnTo>
                    <a:lnTo>
                      <a:pt x="144" y="142"/>
                    </a:lnTo>
                    <a:lnTo>
                      <a:pt x="133" y="154"/>
                    </a:lnTo>
                    <a:lnTo>
                      <a:pt x="124" y="169"/>
                    </a:lnTo>
                    <a:lnTo>
                      <a:pt x="115" y="183"/>
                    </a:lnTo>
                    <a:lnTo>
                      <a:pt x="109" y="198"/>
                    </a:lnTo>
                    <a:lnTo>
                      <a:pt x="103" y="214"/>
                    </a:lnTo>
                    <a:lnTo>
                      <a:pt x="99" y="230"/>
                    </a:lnTo>
                    <a:lnTo>
                      <a:pt x="97" y="247"/>
                    </a:lnTo>
                    <a:lnTo>
                      <a:pt x="96" y="264"/>
                    </a:lnTo>
                    <a:lnTo>
                      <a:pt x="97" y="283"/>
                    </a:lnTo>
                    <a:lnTo>
                      <a:pt x="99" y="300"/>
                    </a:lnTo>
                    <a:lnTo>
                      <a:pt x="103" y="318"/>
                    </a:lnTo>
                    <a:lnTo>
                      <a:pt x="109" y="334"/>
                    </a:lnTo>
                    <a:lnTo>
                      <a:pt x="115" y="350"/>
                    </a:lnTo>
                    <a:lnTo>
                      <a:pt x="124" y="364"/>
                    </a:lnTo>
                    <a:lnTo>
                      <a:pt x="133" y="378"/>
                    </a:lnTo>
                    <a:lnTo>
                      <a:pt x="144" y="390"/>
                    </a:lnTo>
                    <a:lnTo>
                      <a:pt x="156" y="401"/>
                    </a:lnTo>
                    <a:lnTo>
                      <a:pt x="169" y="411"/>
                    </a:lnTo>
                    <a:lnTo>
                      <a:pt x="183" y="420"/>
                    </a:lnTo>
                    <a:lnTo>
                      <a:pt x="199" y="427"/>
                    </a:lnTo>
                    <a:lnTo>
                      <a:pt x="215" y="432"/>
                    </a:lnTo>
                    <a:lnTo>
                      <a:pt x="232" y="437"/>
                    </a:lnTo>
                    <a:lnTo>
                      <a:pt x="249" y="439"/>
                    </a:lnTo>
                    <a:lnTo>
                      <a:pt x="268" y="440"/>
                    </a:lnTo>
                    <a:lnTo>
                      <a:pt x="289" y="439"/>
                    </a:lnTo>
                    <a:lnTo>
                      <a:pt x="307" y="435"/>
                    </a:lnTo>
                    <a:lnTo>
                      <a:pt x="326" y="430"/>
                    </a:lnTo>
                    <a:lnTo>
                      <a:pt x="343" y="422"/>
                    </a:lnTo>
                    <a:lnTo>
                      <a:pt x="360" y="412"/>
                    </a:lnTo>
                    <a:lnTo>
                      <a:pt x="375" y="401"/>
                    </a:lnTo>
                    <a:lnTo>
                      <a:pt x="389" y="388"/>
                    </a:lnTo>
                    <a:lnTo>
                      <a:pt x="404" y="374"/>
                    </a:lnTo>
                    <a:lnTo>
                      <a:pt x="404" y="497"/>
                    </a:lnTo>
                    <a:lnTo>
                      <a:pt x="371" y="511"/>
                    </a:lnTo>
                    <a:lnTo>
                      <a:pt x="338" y="522"/>
                    </a:lnTo>
                    <a:lnTo>
                      <a:pt x="303" y="528"/>
                    </a:lnTo>
                    <a:lnTo>
                      <a:pt x="267" y="530"/>
                    </a:lnTo>
                    <a:lnTo>
                      <a:pt x="239" y="528"/>
                    </a:lnTo>
                    <a:lnTo>
                      <a:pt x="213" y="524"/>
                    </a:lnTo>
                    <a:lnTo>
                      <a:pt x="188" y="518"/>
                    </a:lnTo>
                    <a:lnTo>
                      <a:pt x="164" y="509"/>
                    </a:lnTo>
                    <a:lnTo>
                      <a:pt x="140" y="499"/>
                    </a:lnTo>
                    <a:lnTo>
                      <a:pt x="119" y="486"/>
                    </a:lnTo>
                    <a:lnTo>
                      <a:pt x="98" y="472"/>
                    </a:lnTo>
                    <a:lnTo>
                      <a:pt x="79" y="454"/>
                    </a:lnTo>
                    <a:lnTo>
                      <a:pt x="62" y="437"/>
                    </a:lnTo>
                    <a:lnTo>
                      <a:pt x="46" y="416"/>
                    </a:lnTo>
                    <a:lnTo>
                      <a:pt x="33" y="395"/>
                    </a:lnTo>
                    <a:lnTo>
                      <a:pt x="21" y="372"/>
                    </a:lnTo>
                    <a:lnTo>
                      <a:pt x="12" y="348"/>
                    </a:lnTo>
                    <a:lnTo>
                      <a:pt x="6" y="322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6" y="213"/>
                    </a:lnTo>
                    <a:lnTo>
                      <a:pt x="12" y="186"/>
                    </a:lnTo>
                    <a:lnTo>
                      <a:pt x="21" y="161"/>
                    </a:lnTo>
                    <a:lnTo>
                      <a:pt x="33" y="138"/>
                    </a:lnTo>
                    <a:lnTo>
                      <a:pt x="46" y="115"/>
                    </a:lnTo>
                    <a:lnTo>
                      <a:pt x="62" y="95"/>
                    </a:lnTo>
                    <a:lnTo>
                      <a:pt x="79" y="76"/>
                    </a:lnTo>
                    <a:lnTo>
                      <a:pt x="98" y="59"/>
                    </a:lnTo>
                    <a:lnTo>
                      <a:pt x="119" y="45"/>
                    </a:lnTo>
                    <a:lnTo>
                      <a:pt x="142" y="31"/>
                    </a:lnTo>
                    <a:lnTo>
                      <a:pt x="165" y="20"/>
                    </a:lnTo>
                    <a:lnTo>
                      <a:pt x="190" y="12"/>
                    </a:lnTo>
                    <a:lnTo>
                      <a:pt x="216" y="5"/>
                    </a:lnTo>
                    <a:lnTo>
                      <a:pt x="244" y="2"/>
                    </a:lnTo>
                    <a:lnTo>
                      <a:pt x="272" y="0"/>
                    </a:lnTo>
                    <a:lnTo>
                      <a:pt x="306" y="2"/>
                    </a:lnTo>
                    <a:lnTo>
                      <a:pt x="340" y="8"/>
                    </a:lnTo>
                    <a:lnTo>
                      <a:pt x="373" y="18"/>
                    </a:lnTo>
                    <a:lnTo>
                      <a:pt x="404" y="32"/>
                    </a:lnTo>
                    <a:lnTo>
                      <a:pt x="404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314000" y="882720"/>
                <a:ext cx="102960" cy="101520"/>
              </a:xfrm>
              <a:custGeom>
                <a:avLst/>
                <a:gdLst/>
                <a:ahLst/>
                <a:rect l="l" t="t" r="r" b="b"/>
                <a:pathLst>
                  <a:path w="532" h="530">
                    <a:moveTo>
                      <a:pt x="532" y="264"/>
                    </a:moveTo>
                    <a:lnTo>
                      <a:pt x="530" y="293"/>
                    </a:lnTo>
                    <a:lnTo>
                      <a:pt x="527" y="319"/>
                    </a:lnTo>
                    <a:lnTo>
                      <a:pt x="520" y="344"/>
                    </a:lnTo>
                    <a:lnTo>
                      <a:pt x="511" y="370"/>
                    </a:lnTo>
                    <a:lnTo>
                      <a:pt x="501" y="393"/>
                    </a:lnTo>
                    <a:lnTo>
                      <a:pt x="487" y="415"/>
                    </a:lnTo>
                    <a:lnTo>
                      <a:pt x="472" y="434"/>
                    </a:lnTo>
                    <a:lnTo>
                      <a:pt x="454" y="453"/>
                    </a:lnTo>
                    <a:lnTo>
                      <a:pt x="436" y="471"/>
                    </a:lnTo>
                    <a:lnTo>
                      <a:pt x="416" y="485"/>
                    </a:lnTo>
                    <a:lnTo>
                      <a:pt x="394" y="498"/>
                    </a:lnTo>
                    <a:lnTo>
                      <a:pt x="370" y="509"/>
                    </a:lnTo>
                    <a:lnTo>
                      <a:pt x="346" y="518"/>
                    </a:lnTo>
                    <a:lnTo>
                      <a:pt x="321" y="524"/>
                    </a:lnTo>
                    <a:lnTo>
                      <a:pt x="293" y="528"/>
                    </a:lnTo>
                    <a:lnTo>
                      <a:pt x="266" y="530"/>
                    </a:lnTo>
                    <a:lnTo>
                      <a:pt x="238" y="528"/>
                    </a:lnTo>
                    <a:lnTo>
                      <a:pt x="212" y="524"/>
                    </a:lnTo>
                    <a:lnTo>
                      <a:pt x="187" y="518"/>
                    </a:lnTo>
                    <a:lnTo>
                      <a:pt x="162" y="509"/>
                    </a:lnTo>
                    <a:lnTo>
                      <a:pt x="139" y="498"/>
                    </a:lnTo>
                    <a:lnTo>
                      <a:pt x="117" y="485"/>
                    </a:lnTo>
                    <a:lnTo>
                      <a:pt x="97" y="471"/>
                    </a:lnTo>
                    <a:lnTo>
                      <a:pt x="78" y="453"/>
                    </a:lnTo>
                    <a:lnTo>
                      <a:pt x="61" y="434"/>
                    </a:lnTo>
                    <a:lnTo>
                      <a:pt x="45" y="415"/>
                    </a:lnTo>
                    <a:lnTo>
                      <a:pt x="32" y="393"/>
                    </a:lnTo>
                    <a:lnTo>
                      <a:pt x="21" y="370"/>
                    </a:lnTo>
                    <a:lnTo>
                      <a:pt x="12" y="344"/>
                    </a:lnTo>
                    <a:lnTo>
                      <a:pt x="6" y="319"/>
                    </a:lnTo>
                    <a:lnTo>
                      <a:pt x="3" y="293"/>
                    </a:lnTo>
                    <a:lnTo>
                      <a:pt x="0" y="264"/>
                    </a:lnTo>
                    <a:lnTo>
                      <a:pt x="3" y="237"/>
                    </a:lnTo>
                    <a:lnTo>
                      <a:pt x="6" y="210"/>
                    </a:lnTo>
                    <a:lnTo>
                      <a:pt x="12" y="185"/>
                    </a:lnTo>
                    <a:lnTo>
                      <a:pt x="21" y="160"/>
                    </a:lnTo>
                    <a:lnTo>
                      <a:pt x="32" y="137"/>
                    </a:lnTo>
                    <a:lnTo>
                      <a:pt x="45" y="115"/>
                    </a:lnTo>
                    <a:lnTo>
                      <a:pt x="61" y="95"/>
                    </a:lnTo>
                    <a:lnTo>
                      <a:pt x="78" y="76"/>
                    </a:lnTo>
                    <a:lnTo>
                      <a:pt x="97" y="59"/>
                    </a:lnTo>
                    <a:lnTo>
                      <a:pt x="117" y="45"/>
                    </a:lnTo>
                    <a:lnTo>
                      <a:pt x="139" y="31"/>
                    </a:lnTo>
                    <a:lnTo>
                      <a:pt x="162" y="20"/>
                    </a:lnTo>
                    <a:lnTo>
                      <a:pt x="187" y="12"/>
                    </a:lnTo>
                    <a:lnTo>
                      <a:pt x="212" y="5"/>
                    </a:lnTo>
                    <a:lnTo>
                      <a:pt x="238" y="2"/>
                    </a:lnTo>
                    <a:lnTo>
                      <a:pt x="266" y="0"/>
                    </a:lnTo>
                    <a:lnTo>
                      <a:pt x="293" y="2"/>
                    </a:lnTo>
                    <a:lnTo>
                      <a:pt x="321" y="5"/>
                    </a:lnTo>
                    <a:lnTo>
                      <a:pt x="346" y="12"/>
                    </a:lnTo>
                    <a:lnTo>
                      <a:pt x="370" y="20"/>
                    </a:lnTo>
                    <a:lnTo>
                      <a:pt x="394" y="31"/>
                    </a:lnTo>
                    <a:lnTo>
                      <a:pt x="416" y="45"/>
                    </a:lnTo>
                    <a:lnTo>
                      <a:pt x="436" y="59"/>
                    </a:lnTo>
                    <a:lnTo>
                      <a:pt x="454" y="76"/>
                    </a:lnTo>
                    <a:lnTo>
                      <a:pt x="472" y="95"/>
                    </a:lnTo>
                    <a:lnTo>
                      <a:pt x="487" y="115"/>
                    </a:lnTo>
                    <a:lnTo>
                      <a:pt x="501" y="137"/>
                    </a:lnTo>
                    <a:lnTo>
                      <a:pt x="511" y="160"/>
                    </a:lnTo>
                    <a:lnTo>
                      <a:pt x="520" y="185"/>
                    </a:lnTo>
                    <a:lnTo>
                      <a:pt x="527" y="210"/>
                    </a:lnTo>
                    <a:lnTo>
                      <a:pt x="530" y="237"/>
                    </a:lnTo>
                    <a:lnTo>
                      <a:pt x="532" y="264"/>
                    </a:lnTo>
                    <a:close/>
                    <a:moveTo>
                      <a:pt x="96" y="264"/>
                    </a:moveTo>
                    <a:lnTo>
                      <a:pt x="97" y="282"/>
                    </a:lnTo>
                    <a:lnTo>
                      <a:pt x="100" y="299"/>
                    </a:lnTo>
                    <a:lnTo>
                      <a:pt x="103" y="316"/>
                    </a:lnTo>
                    <a:lnTo>
                      <a:pt x="110" y="331"/>
                    </a:lnTo>
                    <a:lnTo>
                      <a:pt x="117" y="346"/>
                    </a:lnTo>
                    <a:lnTo>
                      <a:pt x="125" y="361"/>
                    </a:lnTo>
                    <a:lnTo>
                      <a:pt x="135" y="374"/>
                    </a:lnTo>
                    <a:lnTo>
                      <a:pt x="146" y="386"/>
                    </a:lnTo>
                    <a:lnTo>
                      <a:pt x="158" y="398"/>
                    </a:lnTo>
                    <a:lnTo>
                      <a:pt x="171" y="408"/>
                    </a:lnTo>
                    <a:lnTo>
                      <a:pt x="185" y="417"/>
                    </a:lnTo>
                    <a:lnTo>
                      <a:pt x="200" y="424"/>
                    </a:lnTo>
                    <a:lnTo>
                      <a:pt x="215" y="430"/>
                    </a:lnTo>
                    <a:lnTo>
                      <a:pt x="232" y="434"/>
                    </a:lnTo>
                    <a:lnTo>
                      <a:pt x="248" y="437"/>
                    </a:lnTo>
                    <a:lnTo>
                      <a:pt x="266" y="438"/>
                    </a:lnTo>
                    <a:lnTo>
                      <a:pt x="283" y="437"/>
                    </a:lnTo>
                    <a:lnTo>
                      <a:pt x="301" y="434"/>
                    </a:lnTo>
                    <a:lnTo>
                      <a:pt x="317" y="430"/>
                    </a:lnTo>
                    <a:lnTo>
                      <a:pt x="333" y="424"/>
                    </a:lnTo>
                    <a:lnTo>
                      <a:pt x="348" y="417"/>
                    </a:lnTo>
                    <a:lnTo>
                      <a:pt x="361" y="408"/>
                    </a:lnTo>
                    <a:lnTo>
                      <a:pt x="374" y="398"/>
                    </a:lnTo>
                    <a:lnTo>
                      <a:pt x="386" y="386"/>
                    </a:lnTo>
                    <a:lnTo>
                      <a:pt x="397" y="374"/>
                    </a:lnTo>
                    <a:lnTo>
                      <a:pt x="407" y="361"/>
                    </a:lnTo>
                    <a:lnTo>
                      <a:pt x="416" y="346"/>
                    </a:lnTo>
                    <a:lnTo>
                      <a:pt x="423" y="331"/>
                    </a:lnTo>
                    <a:lnTo>
                      <a:pt x="428" y="316"/>
                    </a:lnTo>
                    <a:lnTo>
                      <a:pt x="433" y="299"/>
                    </a:lnTo>
                    <a:lnTo>
                      <a:pt x="436" y="282"/>
                    </a:lnTo>
                    <a:lnTo>
                      <a:pt x="436" y="264"/>
                    </a:lnTo>
                    <a:lnTo>
                      <a:pt x="436" y="248"/>
                    </a:lnTo>
                    <a:lnTo>
                      <a:pt x="433" y="230"/>
                    </a:lnTo>
                    <a:lnTo>
                      <a:pt x="428" y="214"/>
                    </a:lnTo>
                    <a:lnTo>
                      <a:pt x="423" y="197"/>
                    </a:lnTo>
                    <a:lnTo>
                      <a:pt x="416" y="183"/>
                    </a:lnTo>
                    <a:lnTo>
                      <a:pt x="407" y="169"/>
                    </a:lnTo>
                    <a:lnTo>
                      <a:pt x="397" y="154"/>
                    </a:lnTo>
                    <a:lnTo>
                      <a:pt x="386" y="142"/>
                    </a:lnTo>
                    <a:lnTo>
                      <a:pt x="374" y="131"/>
                    </a:lnTo>
                    <a:lnTo>
                      <a:pt x="361" y="121"/>
                    </a:lnTo>
                    <a:lnTo>
                      <a:pt x="348" y="113"/>
                    </a:lnTo>
                    <a:lnTo>
                      <a:pt x="333" y="105"/>
                    </a:lnTo>
                    <a:lnTo>
                      <a:pt x="317" y="99"/>
                    </a:lnTo>
                    <a:lnTo>
                      <a:pt x="301" y="95"/>
                    </a:lnTo>
                    <a:lnTo>
                      <a:pt x="283" y="92"/>
                    </a:lnTo>
                    <a:lnTo>
                      <a:pt x="266" y="92"/>
                    </a:lnTo>
                    <a:lnTo>
                      <a:pt x="248" y="92"/>
                    </a:lnTo>
                    <a:lnTo>
                      <a:pt x="232" y="95"/>
                    </a:lnTo>
                    <a:lnTo>
                      <a:pt x="215" y="99"/>
                    </a:lnTo>
                    <a:lnTo>
                      <a:pt x="200" y="105"/>
                    </a:lnTo>
                    <a:lnTo>
                      <a:pt x="185" y="113"/>
                    </a:lnTo>
                    <a:lnTo>
                      <a:pt x="171" y="121"/>
                    </a:lnTo>
                    <a:lnTo>
                      <a:pt x="158" y="131"/>
                    </a:lnTo>
                    <a:lnTo>
                      <a:pt x="146" y="142"/>
                    </a:lnTo>
                    <a:lnTo>
                      <a:pt x="135" y="154"/>
                    </a:lnTo>
                    <a:lnTo>
                      <a:pt x="125" y="169"/>
                    </a:lnTo>
                    <a:lnTo>
                      <a:pt x="117" y="183"/>
                    </a:lnTo>
                    <a:lnTo>
                      <a:pt x="110" y="197"/>
                    </a:lnTo>
                    <a:lnTo>
                      <a:pt x="103" y="214"/>
                    </a:lnTo>
                    <a:lnTo>
                      <a:pt x="100" y="230"/>
                    </a:lnTo>
                    <a:lnTo>
                      <a:pt x="97" y="248"/>
                    </a:lnTo>
                    <a:lnTo>
                      <a:pt x="96" y="2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430280" y="882720"/>
                <a:ext cx="133200" cy="98280"/>
              </a:xfrm>
              <a:custGeom>
                <a:avLst/>
                <a:gdLst/>
                <a:ahLst/>
                <a:rect l="l" t="t" r="r" b="b"/>
                <a:pathLst>
                  <a:path w="690" h="512">
                    <a:moveTo>
                      <a:pt x="96" y="77"/>
                    </a:moveTo>
                    <a:lnTo>
                      <a:pt x="98" y="77"/>
                    </a:lnTo>
                    <a:lnTo>
                      <a:pt x="109" y="62"/>
                    </a:lnTo>
                    <a:lnTo>
                      <a:pt x="122" y="47"/>
                    </a:lnTo>
                    <a:lnTo>
                      <a:pt x="137" y="34"/>
                    </a:lnTo>
                    <a:lnTo>
                      <a:pt x="154" y="23"/>
                    </a:lnTo>
                    <a:lnTo>
                      <a:pt x="171" y="13"/>
                    </a:lnTo>
                    <a:lnTo>
                      <a:pt x="190" y="6"/>
                    </a:lnTo>
                    <a:lnTo>
                      <a:pt x="210" y="2"/>
                    </a:lnTo>
                    <a:lnTo>
                      <a:pt x="229" y="0"/>
                    </a:lnTo>
                    <a:lnTo>
                      <a:pt x="253" y="2"/>
                    </a:lnTo>
                    <a:lnTo>
                      <a:pt x="274" y="6"/>
                    </a:lnTo>
                    <a:lnTo>
                      <a:pt x="295" y="13"/>
                    </a:lnTo>
                    <a:lnTo>
                      <a:pt x="314" y="24"/>
                    </a:lnTo>
                    <a:lnTo>
                      <a:pt x="330" y="36"/>
                    </a:lnTo>
                    <a:lnTo>
                      <a:pt x="346" y="51"/>
                    </a:lnTo>
                    <a:lnTo>
                      <a:pt x="360" y="69"/>
                    </a:lnTo>
                    <a:lnTo>
                      <a:pt x="373" y="88"/>
                    </a:lnTo>
                    <a:lnTo>
                      <a:pt x="385" y="69"/>
                    </a:lnTo>
                    <a:lnTo>
                      <a:pt x="401" y="52"/>
                    </a:lnTo>
                    <a:lnTo>
                      <a:pt x="418" y="37"/>
                    </a:lnTo>
                    <a:lnTo>
                      <a:pt x="438" y="24"/>
                    </a:lnTo>
                    <a:lnTo>
                      <a:pt x="458" y="14"/>
                    </a:lnTo>
                    <a:lnTo>
                      <a:pt x="480" y="6"/>
                    </a:lnTo>
                    <a:lnTo>
                      <a:pt x="503" y="2"/>
                    </a:lnTo>
                    <a:lnTo>
                      <a:pt x="526" y="0"/>
                    </a:lnTo>
                    <a:lnTo>
                      <a:pt x="550" y="1"/>
                    </a:lnTo>
                    <a:lnTo>
                      <a:pt x="571" y="5"/>
                    </a:lnTo>
                    <a:lnTo>
                      <a:pt x="589" y="11"/>
                    </a:lnTo>
                    <a:lnTo>
                      <a:pt x="607" y="17"/>
                    </a:lnTo>
                    <a:lnTo>
                      <a:pt x="622" y="27"/>
                    </a:lnTo>
                    <a:lnTo>
                      <a:pt x="635" y="38"/>
                    </a:lnTo>
                    <a:lnTo>
                      <a:pt x="647" y="51"/>
                    </a:lnTo>
                    <a:lnTo>
                      <a:pt x="657" y="65"/>
                    </a:lnTo>
                    <a:lnTo>
                      <a:pt x="666" y="81"/>
                    </a:lnTo>
                    <a:lnTo>
                      <a:pt x="673" y="97"/>
                    </a:lnTo>
                    <a:lnTo>
                      <a:pt x="678" y="115"/>
                    </a:lnTo>
                    <a:lnTo>
                      <a:pt x="684" y="133"/>
                    </a:lnTo>
                    <a:lnTo>
                      <a:pt x="689" y="173"/>
                    </a:lnTo>
                    <a:lnTo>
                      <a:pt x="690" y="215"/>
                    </a:lnTo>
                    <a:lnTo>
                      <a:pt x="690" y="512"/>
                    </a:lnTo>
                    <a:lnTo>
                      <a:pt x="595" y="512"/>
                    </a:lnTo>
                    <a:lnTo>
                      <a:pt x="595" y="230"/>
                    </a:lnTo>
                    <a:lnTo>
                      <a:pt x="595" y="206"/>
                    </a:lnTo>
                    <a:lnTo>
                      <a:pt x="593" y="181"/>
                    </a:lnTo>
                    <a:lnTo>
                      <a:pt x="588" y="157"/>
                    </a:lnTo>
                    <a:lnTo>
                      <a:pt x="580" y="133"/>
                    </a:lnTo>
                    <a:lnTo>
                      <a:pt x="568" y="114"/>
                    </a:lnTo>
                    <a:lnTo>
                      <a:pt x="561" y="106"/>
                    </a:lnTo>
                    <a:lnTo>
                      <a:pt x="552" y="98"/>
                    </a:lnTo>
                    <a:lnTo>
                      <a:pt x="542" y="93"/>
                    </a:lnTo>
                    <a:lnTo>
                      <a:pt x="531" y="88"/>
                    </a:lnTo>
                    <a:lnTo>
                      <a:pt x="517" y="86"/>
                    </a:lnTo>
                    <a:lnTo>
                      <a:pt x="503" y="85"/>
                    </a:lnTo>
                    <a:lnTo>
                      <a:pt x="484" y="86"/>
                    </a:lnTo>
                    <a:lnTo>
                      <a:pt x="469" y="90"/>
                    </a:lnTo>
                    <a:lnTo>
                      <a:pt x="454" y="95"/>
                    </a:lnTo>
                    <a:lnTo>
                      <a:pt x="442" y="103"/>
                    </a:lnTo>
                    <a:lnTo>
                      <a:pt x="432" y="112"/>
                    </a:lnTo>
                    <a:lnTo>
                      <a:pt x="423" y="123"/>
                    </a:lnTo>
                    <a:lnTo>
                      <a:pt x="416" y="135"/>
                    </a:lnTo>
                    <a:lnTo>
                      <a:pt x="409" y="148"/>
                    </a:lnTo>
                    <a:lnTo>
                      <a:pt x="401" y="176"/>
                    </a:lnTo>
                    <a:lnTo>
                      <a:pt x="396" y="207"/>
                    </a:lnTo>
                    <a:lnTo>
                      <a:pt x="394" y="238"/>
                    </a:lnTo>
                    <a:lnTo>
                      <a:pt x="393" y="267"/>
                    </a:lnTo>
                    <a:lnTo>
                      <a:pt x="393" y="512"/>
                    </a:lnTo>
                    <a:lnTo>
                      <a:pt x="297" y="512"/>
                    </a:lnTo>
                    <a:lnTo>
                      <a:pt x="297" y="249"/>
                    </a:lnTo>
                    <a:lnTo>
                      <a:pt x="297" y="224"/>
                    </a:lnTo>
                    <a:lnTo>
                      <a:pt x="295" y="196"/>
                    </a:lnTo>
                    <a:lnTo>
                      <a:pt x="292" y="169"/>
                    </a:lnTo>
                    <a:lnTo>
                      <a:pt x="285" y="142"/>
                    </a:lnTo>
                    <a:lnTo>
                      <a:pt x="280" y="130"/>
                    </a:lnTo>
                    <a:lnTo>
                      <a:pt x="273" y="119"/>
                    </a:lnTo>
                    <a:lnTo>
                      <a:pt x="267" y="110"/>
                    </a:lnTo>
                    <a:lnTo>
                      <a:pt x="258" y="102"/>
                    </a:lnTo>
                    <a:lnTo>
                      <a:pt x="247" y="95"/>
                    </a:lnTo>
                    <a:lnTo>
                      <a:pt x="235" y="90"/>
                    </a:lnTo>
                    <a:lnTo>
                      <a:pt x="222" y="86"/>
                    </a:lnTo>
                    <a:lnTo>
                      <a:pt x="206" y="85"/>
                    </a:lnTo>
                    <a:lnTo>
                      <a:pt x="188" y="86"/>
                    </a:lnTo>
                    <a:lnTo>
                      <a:pt x="172" y="90"/>
                    </a:lnTo>
                    <a:lnTo>
                      <a:pt x="158" y="95"/>
                    </a:lnTo>
                    <a:lnTo>
                      <a:pt x="146" y="103"/>
                    </a:lnTo>
                    <a:lnTo>
                      <a:pt x="135" y="112"/>
                    </a:lnTo>
                    <a:lnTo>
                      <a:pt x="126" y="123"/>
                    </a:lnTo>
                    <a:lnTo>
                      <a:pt x="119" y="135"/>
                    </a:lnTo>
                    <a:lnTo>
                      <a:pt x="113" y="148"/>
                    </a:lnTo>
                    <a:lnTo>
                      <a:pt x="103" y="176"/>
                    </a:lnTo>
                    <a:lnTo>
                      <a:pt x="99" y="207"/>
                    </a:lnTo>
                    <a:lnTo>
                      <a:pt x="97" y="238"/>
                    </a:lnTo>
                    <a:lnTo>
                      <a:pt x="96" y="267"/>
                    </a:lnTo>
                    <a:lnTo>
                      <a:pt x="96" y="512"/>
                    </a:lnTo>
                    <a:lnTo>
                      <a:pt x="0" y="512"/>
                    </a:lnTo>
                    <a:lnTo>
                      <a:pt x="0" y="15"/>
                    </a:lnTo>
                    <a:lnTo>
                      <a:pt x="96" y="15"/>
                    </a:lnTo>
                    <a:lnTo>
                      <a:pt x="96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04240" y="1022400"/>
                <a:ext cx="9082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a-DK" sz="600" spc="-1" strike="noStrike">
                    <a:solidFill>
                      <a:srgbClr val="ffffff"/>
                    </a:solidFill>
                    <a:latin typeface="Futura Bk BT"/>
                  </a:rPr>
                  <a:t>www.kirktelecom.dk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381400" y="0"/>
            <a:ext cx="752472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цедура инсталля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81400" y="704880"/>
            <a:ext cx="7235640" cy="3240"/>
          </a:xfrm>
          <a:prstGeom prst="line">
            <a:avLst/>
          </a:prstGeom>
          <a:ln cap="sq"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864520" y="1203480"/>
            <a:ext cx="5585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da-D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естирование территории</a:t>
            </a:r>
            <a:r>
              <a:rPr b="1" lang="da-DK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da-D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рректировка с учетом необходимого трафика</a:t>
            </a:r>
            <a:r>
              <a:rPr b="1" lang="da-DK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da-D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борка и включение контроллера</a:t>
            </a:r>
            <a:r>
              <a:rPr b="1" lang="da-DK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da-D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полнение базы данных абонентов</a:t>
            </a:r>
            <a:r>
              <a:rPr b="1" lang="da-DK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da-D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нфигурирование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WU</a:t>
            </a:r>
            <a:r>
              <a:rPr b="1" lang="da-DK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da-D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ставление задержек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FP</a:t>
            </a:r>
            <a:r>
              <a:rPr b="1" lang="da-DK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da-D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егистрация абонентских устройств</a:t>
            </a:r>
            <a:r>
              <a:rPr b="1" lang="da-DK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da-D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хранение резервной копии данных</a:t>
            </a:r>
            <a:r>
              <a:rPr b="1" lang="da-DK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da-D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мплексное тестирование</a:t>
            </a:r>
            <a:r>
              <a:rPr b="1" lang="da-DK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lang="da-D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зможные корректировки</a:t>
            </a:r>
            <a:r>
              <a:rPr b="1" lang="da-DK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a-D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6B47-AC2B-4FD3-9BFA-6D766514123E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889360" y="457200"/>
            <a:ext cx="6521400" cy="0"/>
          </a:xfrm>
          <a:prstGeom prst="line">
            <a:avLst/>
          </a:prstGeom>
          <a:ln cap="sq"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0" y="0"/>
            <a:ext cx="6129000" cy="6858000"/>
            <a:chOff x="0" y="0"/>
            <a:chExt cx="6129000" cy="6858000"/>
          </a:xfrm>
        </p:grpSpPr>
        <p:sp>
          <p:nvSpPr>
            <p:cNvPr id="397" name=""/>
            <p:cNvSpPr/>
            <p:nvPr/>
          </p:nvSpPr>
          <p:spPr>
            <a:xfrm>
              <a:off x="0" y="0"/>
              <a:ext cx="2228760" cy="3429000"/>
            </a:xfrm>
            <a:prstGeom prst="rect">
              <a:avLst/>
            </a:prstGeom>
            <a:solidFill>
              <a:srgbClr val="000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0" y="3429000"/>
              <a:ext cx="2228760" cy="3429000"/>
            </a:xfrm>
            <a:prstGeom prst="rect">
              <a:avLst/>
            </a:pr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1836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79924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1" name="" descr=""/>
            <p:cNvPicPr/>
            <p:nvPr/>
          </p:nvPicPr>
          <p:blipFill>
            <a:blip r:embed="rId1"/>
            <a:stretch/>
          </p:blipFill>
          <p:spPr>
            <a:xfrm>
              <a:off x="201240" y="2055960"/>
              <a:ext cx="1705680" cy="271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2" name=""/>
            <p:cNvGrpSpPr/>
            <p:nvPr/>
          </p:nvGrpSpPr>
          <p:grpSpPr>
            <a:xfrm>
              <a:off x="211320" y="380880"/>
              <a:ext cx="1605600" cy="821880"/>
              <a:chOff x="211320" y="380880"/>
              <a:chExt cx="1605600" cy="821880"/>
            </a:xfrm>
          </p:grpSpPr>
          <p:sp>
            <p:nvSpPr>
              <p:cNvPr id="403" name=""/>
              <p:cNvSpPr/>
              <p:nvPr/>
            </p:nvSpPr>
            <p:spPr>
              <a:xfrm>
                <a:off x="403920" y="38088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7">
                    <a:moveTo>
                      <a:pt x="29" y="1655"/>
                    </a:moveTo>
                    <a:lnTo>
                      <a:pt x="79" y="1682"/>
                    </a:lnTo>
                    <a:lnTo>
                      <a:pt x="623" y="1957"/>
                    </a:lnTo>
                    <a:lnTo>
                      <a:pt x="684" y="1987"/>
                    </a:lnTo>
                    <a:lnTo>
                      <a:pt x="687" y="1916"/>
                    </a:lnTo>
                    <a:lnTo>
                      <a:pt x="691" y="1864"/>
                    </a:lnTo>
                    <a:lnTo>
                      <a:pt x="697" y="1814"/>
                    </a:lnTo>
                    <a:lnTo>
                      <a:pt x="704" y="1763"/>
                    </a:lnTo>
                    <a:lnTo>
                      <a:pt x="713" y="1714"/>
                    </a:lnTo>
                    <a:lnTo>
                      <a:pt x="724" y="1665"/>
                    </a:lnTo>
                    <a:lnTo>
                      <a:pt x="737" y="1616"/>
                    </a:lnTo>
                    <a:lnTo>
                      <a:pt x="751" y="1569"/>
                    </a:lnTo>
                    <a:lnTo>
                      <a:pt x="767" y="1522"/>
                    </a:lnTo>
                    <a:lnTo>
                      <a:pt x="784" y="1476"/>
                    </a:lnTo>
                    <a:lnTo>
                      <a:pt x="803" y="1431"/>
                    </a:lnTo>
                    <a:lnTo>
                      <a:pt x="824" y="1386"/>
                    </a:lnTo>
                    <a:lnTo>
                      <a:pt x="846" y="1343"/>
                    </a:lnTo>
                    <a:lnTo>
                      <a:pt x="869" y="1300"/>
                    </a:lnTo>
                    <a:lnTo>
                      <a:pt x="894" y="1257"/>
                    </a:lnTo>
                    <a:lnTo>
                      <a:pt x="920" y="1217"/>
                    </a:lnTo>
                    <a:lnTo>
                      <a:pt x="948" y="1177"/>
                    </a:lnTo>
                    <a:lnTo>
                      <a:pt x="976" y="1137"/>
                    </a:lnTo>
                    <a:lnTo>
                      <a:pt x="1007" y="1100"/>
                    </a:lnTo>
                    <a:lnTo>
                      <a:pt x="1038" y="1063"/>
                    </a:lnTo>
                    <a:lnTo>
                      <a:pt x="1071" y="1027"/>
                    </a:lnTo>
                    <a:lnTo>
                      <a:pt x="1105" y="993"/>
                    </a:lnTo>
                    <a:lnTo>
                      <a:pt x="1140" y="959"/>
                    </a:lnTo>
                    <a:lnTo>
                      <a:pt x="1176" y="927"/>
                    </a:lnTo>
                    <a:lnTo>
                      <a:pt x="1213" y="896"/>
                    </a:lnTo>
                    <a:lnTo>
                      <a:pt x="1250" y="866"/>
                    </a:lnTo>
                    <a:lnTo>
                      <a:pt x="1290" y="838"/>
                    </a:lnTo>
                    <a:lnTo>
                      <a:pt x="1331" y="810"/>
                    </a:lnTo>
                    <a:lnTo>
                      <a:pt x="1372" y="785"/>
                    </a:lnTo>
                    <a:lnTo>
                      <a:pt x="1414" y="760"/>
                    </a:lnTo>
                    <a:lnTo>
                      <a:pt x="1457" y="737"/>
                    </a:lnTo>
                    <a:lnTo>
                      <a:pt x="1501" y="716"/>
                    </a:lnTo>
                    <a:lnTo>
                      <a:pt x="1546" y="696"/>
                    </a:lnTo>
                    <a:lnTo>
                      <a:pt x="1584" y="680"/>
                    </a:lnTo>
                    <a:lnTo>
                      <a:pt x="1594" y="673"/>
                    </a:lnTo>
                    <a:lnTo>
                      <a:pt x="1600" y="665"/>
                    </a:lnTo>
                    <a:lnTo>
                      <a:pt x="1604" y="658"/>
                    </a:lnTo>
                    <a:lnTo>
                      <a:pt x="1606" y="650"/>
                    </a:lnTo>
                    <a:lnTo>
                      <a:pt x="1605" y="638"/>
                    </a:lnTo>
                    <a:lnTo>
                      <a:pt x="1603" y="632"/>
                    </a:lnTo>
                    <a:lnTo>
                      <a:pt x="1586" y="586"/>
                    </a:lnTo>
                    <a:lnTo>
                      <a:pt x="1385" y="31"/>
                    </a:lnTo>
                    <a:lnTo>
                      <a:pt x="1381" y="18"/>
                    </a:lnTo>
                    <a:lnTo>
                      <a:pt x="1380" y="13"/>
                    </a:lnTo>
                    <a:lnTo>
                      <a:pt x="1372" y="5"/>
                    </a:lnTo>
                    <a:lnTo>
                      <a:pt x="1367" y="2"/>
                    </a:lnTo>
                    <a:lnTo>
                      <a:pt x="1359" y="0"/>
                    </a:lnTo>
                    <a:lnTo>
                      <a:pt x="1349" y="0"/>
                    </a:lnTo>
                    <a:lnTo>
                      <a:pt x="1337" y="3"/>
                    </a:lnTo>
                    <a:lnTo>
                      <a:pt x="1307" y="14"/>
                    </a:lnTo>
                    <a:lnTo>
                      <a:pt x="1248" y="37"/>
                    </a:lnTo>
                    <a:lnTo>
                      <a:pt x="1190" y="63"/>
                    </a:lnTo>
                    <a:lnTo>
                      <a:pt x="1133" y="89"/>
                    </a:lnTo>
                    <a:lnTo>
                      <a:pt x="1076" y="119"/>
                    </a:lnTo>
                    <a:lnTo>
                      <a:pt x="1021" y="149"/>
                    </a:lnTo>
                    <a:lnTo>
                      <a:pt x="966" y="181"/>
                    </a:lnTo>
                    <a:lnTo>
                      <a:pt x="913" y="215"/>
                    </a:lnTo>
                    <a:lnTo>
                      <a:pt x="861" y="251"/>
                    </a:lnTo>
                    <a:lnTo>
                      <a:pt x="810" y="289"/>
                    </a:lnTo>
                    <a:lnTo>
                      <a:pt x="759" y="328"/>
                    </a:lnTo>
                    <a:lnTo>
                      <a:pt x="711" y="369"/>
                    </a:lnTo>
                    <a:lnTo>
                      <a:pt x="663" y="411"/>
                    </a:lnTo>
                    <a:lnTo>
                      <a:pt x="616" y="455"/>
                    </a:lnTo>
                    <a:lnTo>
                      <a:pt x="572" y="501"/>
                    </a:lnTo>
                    <a:lnTo>
                      <a:pt x="528" y="547"/>
                    </a:lnTo>
                    <a:lnTo>
                      <a:pt x="485" y="595"/>
                    </a:lnTo>
                    <a:lnTo>
                      <a:pt x="443" y="645"/>
                    </a:lnTo>
                    <a:lnTo>
                      <a:pt x="404" y="695"/>
                    </a:lnTo>
                    <a:lnTo>
                      <a:pt x="365" y="747"/>
                    </a:lnTo>
                    <a:lnTo>
                      <a:pt x="329" y="800"/>
                    </a:lnTo>
                    <a:lnTo>
                      <a:pt x="294" y="854"/>
                    </a:lnTo>
                    <a:lnTo>
                      <a:pt x="260" y="910"/>
                    </a:lnTo>
                    <a:lnTo>
                      <a:pt x="228" y="967"/>
                    </a:lnTo>
                    <a:lnTo>
                      <a:pt x="197" y="1024"/>
                    </a:lnTo>
                    <a:lnTo>
                      <a:pt x="169" y="1084"/>
                    </a:lnTo>
                    <a:lnTo>
                      <a:pt x="142" y="1144"/>
                    </a:lnTo>
                    <a:lnTo>
                      <a:pt x="116" y="1204"/>
                    </a:lnTo>
                    <a:lnTo>
                      <a:pt x="93" y="1266"/>
                    </a:lnTo>
                    <a:lnTo>
                      <a:pt x="71" y="1329"/>
                    </a:lnTo>
                    <a:lnTo>
                      <a:pt x="52" y="1392"/>
                    </a:lnTo>
                    <a:lnTo>
                      <a:pt x="34" y="1457"/>
                    </a:lnTo>
                    <a:lnTo>
                      <a:pt x="18" y="1522"/>
                    </a:lnTo>
                    <a:lnTo>
                      <a:pt x="2" y="1593"/>
                    </a:lnTo>
                    <a:lnTo>
                      <a:pt x="0" y="1610"/>
                    </a:lnTo>
                    <a:lnTo>
                      <a:pt x="1" y="1623"/>
                    </a:lnTo>
                    <a:lnTo>
                      <a:pt x="6" y="1634"/>
                    </a:lnTo>
                    <a:lnTo>
                      <a:pt x="11" y="1643"/>
                    </a:lnTo>
                    <a:lnTo>
                      <a:pt x="17" y="1648"/>
                    </a:lnTo>
                    <a:lnTo>
                      <a:pt x="23" y="1652"/>
                    </a:lnTo>
                    <a:lnTo>
                      <a:pt x="29" y="1655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03920" y="77004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5">
                    <a:moveTo>
                      <a:pt x="29" y="333"/>
                    </a:moveTo>
                    <a:lnTo>
                      <a:pt x="79" y="306"/>
                    </a:lnTo>
                    <a:lnTo>
                      <a:pt x="623" y="31"/>
                    </a:lnTo>
                    <a:lnTo>
                      <a:pt x="684" y="0"/>
                    </a:lnTo>
                    <a:lnTo>
                      <a:pt x="687" y="72"/>
                    </a:lnTo>
                    <a:lnTo>
                      <a:pt x="691" y="123"/>
                    </a:lnTo>
                    <a:lnTo>
                      <a:pt x="697" y="174"/>
                    </a:lnTo>
                    <a:lnTo>
                      <a:pt x="704" y="224"/>
                    </a:lnTo>
                    <a:lnTo>
                      <a:pt x="713" y="273"/>
                    </a:lnTo>
                    <a:lnTo>
                      <a:pt x="724" y="323"/>
                    </a:lnTo>
                    <a:lnTo>
                      <a:pt x="737" y="371"/>
                    </a:lnTo>
                    <a:lnTo>
                      <a:pt x="751" y="418"/>
                    </a:lnTo>
                    <a:lnTo>
                      <a:pt x="767" y="465"/>
                    </a:lnTo>
                    <a:lnTo>
                      <a:pt x="784" y="512"/>
                    </a:lnTo>
                    <a:lnTo>
                      <a:pt x="803" y="557"/>
                    </a:lnTo>
                    <a:lnTo>
                      <a:pt x="824" y="602"/>
                    </a:lnTo>
                    <a:lnTo>
                      <a:pt x="846" y="645"/>
                    </a:lnTo>
                    <a:lnTo>
                      <a:pt x="869" y="688"/>
                    </a:lnTo>
                    <a:lnTo>
                      <a:pt x="894" y="730"/>
                    </a:lnTo>
                    <a:lnTo>
                      <a:pt x="920" y="771"/>
                    </a:lnTo>
                    <a:lnTo>
                      <a:pt x="948" y="811"/>
                    </a:lnTo>
                    <a:lnTo>
                      <a:pt x="976" y="850"/>
                    </a:lnTo>
                    <a:lnTo>
                      <a:pt x="1007" y="888"/>
                    </a:lnTo>
                    <a:lnTo>
                      <a:pt x="1038" y="924"/>
                    </a:lnTo>
                    <a:lnTo>
                      <a:pt x="1071" y="961"/>
                    </a:lnTo>
                    <a:lnTo>
                      <a:pt x="1105" y="995"/>
                    </a:lnTo>
                    <a:lnTo>
                      <a:pt x="1140" y="1029"/>
                    </a:lnTo>
                    <a:lnTo>
                      <a:pt x="1176" y="1061"/>
                    </a:lnTo>
                    <a:lnTo>
                      <a:pt x="1213" y="1092"/>
                    </a:lnTo>
                    <a:lnTo>
                      <a:pt x="1252" y="1122"/>
                    </a:lnTo>
                    <a:lnTo>
                      <a:pt x="1290" y="1151"/>
                    </a:lnTo>
                    <a:lnTo>
                      <a:pt x="1331" y="1177"/>
                    </a:lnTo>
                    <a:lnTo>
                      <a:pt x="1372" y="1203"/>
                    </a:lnTo>
                    <a:lnTo>
                      <a:pt x="1414" y="1227"/>
                    </a:lnTo>
                    <a:lnTo>
                      <a:pt x="1457" y="1250"/>
                    </a:lnTo>
                    <a:lnTo>
                      <a:pt x="1501" y="1271"/>
                    </a:lnTo>
                    <a:lnTo>
                      <a:pt x="1546" y="1292"/>
                    </a:lnTo>
                    <a:lnTo>
                      <a:pt x="1584" y="1308"/>
                    </a:lnTo>
                    <a:lnTo>
                      <a:pt x="1594" y="1315"/>
                    </a:lnTo>
                    <a:lnTo>
                      <a:pt x="1600" y="1323"/>
                    </a:lnTo>
                    <a:lnTo>
                      <a:pt x="1605" y="1331"/>
                    </a:lnTo>
                    <a:lnTo>
                      <a:pt x="1606" y="1337"/>
                    </a:lnTo>
                    <a:lnTo>
                      <a:pt x="1605" y="1349"/>
                    </a:lnTo>
                    <a:lnTo>
                      <a:pt x="1603" y="1355"/>
                    </a:lnTo>
                    <a:lnTo>
                      <a:pt x="1586" y="1401"/>
                    </a:lnTo>
                    <a:lnTo>
                      <a:pt x="1388" y="1950"/>
                    </a:lnTo>
                    <a:lnTo>
                      <a:pt x="1381" y="1965"/>
                    </a:lnTo>
                    <a:lnTo>
                      <a:pt x="1379" y="1970"/>
                    </a:lnTo>
                    <a:lnTo>
                      <a:pt x="1371" y="1978"/>
                    </a:lnTo>
                    <a:lnTo>
                      <a:pt x="1366" y="1983"/>
                    </a:lnTo>
                    <a:lnTo>
                      <a:pt x="1358" y="1985"/>
                    </a:lnTo>
                    <a:lnTo>
                      <a:pt x="1348" y="1985"/>
                    </a:lnTo>
                    <a:lnTo>
                      <a:pt x="1338" y="1983"/>
                    </a:lnTo>
                    <a:lnTo>
                      <a:pt x="1302" y="1969"/>
                    </a:lnTo>
                    <a:lnTo>
                      <a:pt x="1242" y="1942"/>
                    </a:lnTo>
                    <a:lnTo>
                      <a:pt x="1181" y="1915"/>
                    </a:lnTo>
                    <a:lnTo>
                      <a:pt x="1123" y="1886"/>
                    </a:lnTo>
                    <a:lnTo>
                      <a:pt x="1066" y="1857"/>
                    </a:lnTo>
                    <a:lnTo>
                      <a:pt x="1009" y="1824"/>
                    </a:lnTo>
                    <a:lnTo>
                      <a:pt x="954" y="1791"/>
                    </a:lnTo>
                    <a:lnTo>
                      <a:pt x="901" y="1756"/>
                    </a:lnTo>
                    <a:lnTo>
                      <a:pt x="848" y="1719"/>
                    </a:lnTo>
                    <a:lnTo>
                      <a:pt x="796" y="1682"/>
                    </a:lnTo>
                    <a:lnTo>
                      <a:pt x="747" y="1642"/>
                    </a:lnTo>
                    <a:lnTo>
                      <a:pt x="698" y="1602"/>
                    </a:lnTo>
                    <a:lnTo>
                      <a:pt x="650" y="1560"/>
                    </a:lnTo>
                    <a:lnTo>
                      <a:pt x="604" y="1517"/>
                    </a:lnTo>
                    <a:lnTo>
                      <a:pt x="559" y="1472"/>
                    </a:lnTo>
                    <a:lnTo>
                      <a:pt x="517" y="1426"/>
                    </a:lnTo>
                    <a:lnTo>
                      <a:pt x="475" y="1379"/>
                    </a:lnTo>
                    <a:lnTo>
                      <a:pt x="434" y="1331"/>
                    </a:lnTo>
                    <a:lnTo>
                      <a:pt x="395" y="1281"/>
                    </a:lnTo>
                    <a:lnTo>
                      <a:pt x="358" y="1230"/>
                    </a:lnTo>
                    <a:lnTo>
                      <a:pt x="323" y="1178"/>
                    </a:lnTo>
                    <a:lnTo>
                      <a:pt x="287" y="1124"/>
                    </a:lnTo>
                    <a:lnTo>
                      <a:pt x="255" y="1070"/>
                    </a:lnTo>
                    <a:lnTo>
                      <a:pt x="224" y="1014"/>
                    </a:lnTo>
                    <a:lnTo>
                      <a:pt x="194" y="957"/>
                    </a:lnTo>
                    <a:lnTo>
                      <a:pt x="166" y="900"/>
                    </a:lnTo>
                    <a:lnTo>
                      <a:pt x="139" y="841"/>
                    </a:lnTo>
                    <a:lnTo>
                      <a:pt x="115" y="781"/>
                    </a:lnTo>
                    <a:lnTo>
                      <a:pt x="92" y="720"/>
                    </a:lnTo>
                    <a:lnTo>
                      <a:pt x="71" y="658"/>
                    </a:lnTo>
                    <a:lnTo>
                      <a:pt x="52" y="595"/>
                    </a:lnTo>
                    <a:lnTo>
                      <a:pt x="34" y="530"/>
                    </a:lnTo>
                    <a:lnTo>
                      <a:pt x="18" y="465"/>
                    </a:lnTo>
                    <a:lnTo>
                      <a:pt x="3" y="394"/>
                    </a:lnTo>
                    <a:lnTo>
                      <a:pt x="0" y="378"/>
                    </a:lnTo>
                    <a:lnTo>
                      <a:pt x="1" y="364"/>
                    </a:lnTo>
                    <a:lnTo>
                      <a:pt x="6" y="353"/>
                    </a:lnTo>
                    <a:lnTo>
                      <a:pt x="11" y="346"/>
                    </a:lnTo>
                    <a:lnTo>
                      <a:pt x="17" y="339"/>
                    </a:lnTo>
                    <a:lnTo>
                      <a:pt x="23" y="336"/>
                    </a:lnTo>
                    <a:lnTo>
                      <a:pt x="29" y="333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67440" y="698400"/>
                <a:ext cx="149400" cy="147600"/>
              </a:xfrm>
              <a:custGeom>
                <a:avLst/>
                <a:gdLst/>
                <a:ahLst/>
                <a:rect l="l" t="t" r="r" b="b"/>
                <a:pathLst>
                  <a:path w="714" h="759">
                    <a:moveTo>
                      <a:pt x="699" y="379"/>
                    </a:moveTo>
                    <a:lnTo>
                      <a:pt x="706" y="375"/>
                    </a:lnTo>
                    <a:lnTo>
                      <a:pt x="710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09" y="351"/>
                    </a:lnTo>
                    <a:lnTo>
                      <a:pt x="705" y="346"/>
                    </a:lnTo>
                    <a:lnTo>
                      <a:pt x="699" y="342"/>
                    </a:lnTo>
                    <a:lnTo>
                      <a:pt x="35" y="4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3" y="11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735"/>
                    </a:lnTo>
                    <a:lnTo>
                      <a:pt x="1" y="743"/>
                    </a:lnTo>
                    <a:lnTo>
                      <a:pt x="3" y="748"/>
                    </a:lnTo>
                    <a:lnTo>
                      <a:pt x="5" y="753"/>
                    </a:lnTo>
                    <a:lnTo>
                      <a:pt x="10" y="757"/>
                    </a:lnTo>
                    <a:lnTo>
                      <a:pt x="15" y="759"/>
                    </a:lnTo>
                    <a:lnTo>
                      <a:pt x="21" y="759"/>
                    </a:lnTo>
                    <a:lnTo>
                      <a:pt x="27" y="758"/>
                    </a:lnTo>
                    <a:lnTo>
                      <a:pt x="34" y="755"/>
                    </a:lnTo>
                    <a:lnTo>
                      <a:pt x="699" y="379"/>
                    </a:lnTo>
                    <a:close/>
                  </a:path>
                </a:pathLst>
              </a:custGeom>
              <a:solidFill>
                <a:srgbClr val="00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11320" y="701640"/>
                <a:ext cx="149760" cy="146160"/>
              </a:xfrm>
              <a:custGeom>
                <a:avLst/>
                <a:gdLst/>
                <a:ahLst/>
                <a:rect l="l" t="t" r="r" b="b"/>
                <a:pathLst>
                  <a:path w="714" h="758">
                    <a:moveTo>
                      <a:pt x="701" y="379"/>
                    </a:moveTo>
                    <a:lnTo>
                      <a:pt x="706" y="374"/>
                    </a:lnTo>
                    <a:lnTo>
                      <a:pt x="711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11" y="350"/>
                    </a:lnTo>
                    <a:lnTo>
                      <a:pt x="706" y="346"/>
                    </a:lnTo>
                    <a:lnTo>
                      <a:pt x="700" y="342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0" y="734"/>
                    </a:lnTo>
                    <a:lnTo>
                      <a:pt x="1" y="742"/>
                    </a:lnTo>
                    <a:lnTo>
                      <a:pt x="3" y="749"/>
                    </a:lnTo>
                    <a:lnTo>
                      <a:pt x="7" y="753"/>
                    </a:lnTo>
                    <a:lnTo>
                      <a:pt x="10" y="756"/>
                    </a:lnTo>
                    <a:lnTo>
                      <a:pt x="15" y="758"/>
                    </a:lnTo>
                    <a:lnTo>
                      <a:pt x="21" y="758"/>
                    </a:lnTo>
                    <a:lnTo>
                      <a:pt x="27" y="757"/>
                    </a:lnTo>
                    <a:lnTo>
                      <a:pt x="34" y="754"/>
                    </a:lnTo>
                    <a:lnTo>
                      <a:pt x="701" y="379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011960" y="517680"/>
                <a:ext cx="195840" cy="250560"/>
              </a:xfrm>
              <a:custGeom>
                <a:avLst/>
                <a:gdLst/>
                <a:ahLst/>
                <a:rect l="l" t="t" r="r" b="b"/>
                <a:pathLst>
                  <a:path w="930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30" y="1293"/>
                    </a:lnTo>
                    <a:lnTo>
                      <a:pt x="713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230480" y="517680"/>
                <a:ext cx="34200" cy="25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316520" y="517680"/>
                <a:ext cx="168480" cy="250560"/>
              </a:xfrm>
              <a:custGeom>
                <a:avLst/>
                <a:gdLst/>
                <a:ahLst/>
                <a:rect l="l" t="t" r="r" b="b"/>
                <a:pathLst>
                  <a:path w="803" h="1293">
                    <a:moveTo>
                      <a:pt x="803" y="1293"/>
                    </a:moveTo>
                    <a:lnTo>
                      <a:pt x="607" y="1293"/>
                    </a:lnTo>
                    <a:lnTo>
                      <a:pt x="228" y="746"/>
                    </a:lnTo>
                    <a:lnTo>
                      <a:pt x="161" y="746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283" y="1"/>
                    </a:lnTo>
                    <a:lnTo>
                      <a:pt x="327" y="4"/>
                    </a:lnTo>
                    <a:lnTo>
                      <a:pt x="370" y="8"/>
                    </a:lnTo>
                    <a:lnTo>
                      <a:pt x="413" y="16"/>
                    </a:lnTo>
                    <a:lnTo>
                      <a:pt x="456" y="27"/>
                    </a:lnTo>
                    <a:lnTo>
                      <a:pt x="497" y="41"/>
                    </a:lnTo>
                    <a:lnTo>
                      <a:pt x="536" y="61"/>
                    </a:lnTo>
                    <a:lnTo>
                      <a:pt x="556" y="73"/>
                    </a:lnTo>
                    <a:lnTo>
                      <a:pt x="574" y="87"/>
                    </a:lnTo>
                    <a:lnTo>
                      <a:pt x="592" y="101"/>
                    </a:lnTo>
                    <a:lnTo>
                      <a:pt x="608" y="118"/>
                    </a:lnTo>
                    <a:lnTo>
                      <a:pt x="623" y="135"/>
                    </a:lnTo>
                    <a:lnTo>
                      <a:pt x="637" y="153"/>
                    </a:lnTo>
                    <a:lnTo>
                      <a:pt x="650" y="173"/>
                    </a:lnTo>
                    <a:lnTo>
                      <a:pt x="661" y="192"/>
                    </a:lnTo>
                    <a:lnTo>
                      <a:pt x="671" y="212"/>
                    </a:lnTo>
                    <a:lnTo>
                      <a:pt x="680" y="233"/>
                    </a:lnTo>
                    <a:lnTo>
                      <a:pt x="694" y="277"/>
                    </a:lnTo>
                    <a:lnTo>
                      <a:pt x="700" y="300"/>
                    </a:lnTo>
                    <a:lnTo>
                      <a:pt x="703" y="323"/>
                    </a:lnTo>
                    <a:lnTo>
                      <a:pt x="705" y="346"/>
                    </a:lnTo>
                    <a:lnTo>
                      <a:pt x="705" y="369"/>
                    </a:lnTo>
                    <a:lnTo>
                      <a:pt x="704" y="403"/>
                    </a:lnTo>
                    <a:lnTo>
                      <a:pt x="700" y="436"/>
                    </a:lnTo>
                    <a:lnTo>
                      <a:pt x="693" y="469"/>
                    </a:lnTo>
                    <a:lnTo>
                      <a:pt x="683" y="500"/>
                    </a:lnTo>
                    <a:lnTo>
                      <a:pt x="671" y="531"/>
                    </a:lnTo>
                    <a:lnTo>
                      <a:pt x="657" y="558"/>
                    </a:lnTo>
                    <a:lnTo>
                      <a:pt x="639" y="585"/>
                    </a:lnTo>
                    <a:lnTo>
                      <a:pt x="621" y="611"/>
                    </a:lnTo>
                    <a:lnTo>
                      <a:pt x="599" y="634"/>
                    </a:lnTo>
                    <a:lnTo>
                      <a:pt x="576" y="655"/>
                    </a:lnTo>
                    <a:lnTo>
                      <a:pt x="550" y="673"/>
                    </a:lnTo>
                    <a:lnTo>
                      <a:pt x="523" y="691"/>
                    </a:lnTo>
                    <a:lnTo>
                      <a:pt x="493" y="704"/>
                    </a:lnTo>
                    <a:lnTo>
                      <a:pt x="463" y="716"/>
                    </a:lnTo>
                    <a:lnTo>
                      <a:pt x="430" y="725"/>
                    </a:lnTo>
                    <a:lnTo>
                      <a:pt x="396" y="730"/>
                    </a:lnTo>
                    <a:lnTo>
                      <a:pt x="803" y="1293"/>
                    </a:lnTo>
                    <a:close/>
                    <a:moveTo>
                      <a:pt x="161" y="612"/>
                    </a:moveTo>
                    <a:lnTo>
                      <a:pt x="213" y="612"/>
                    </a:lnTo>
                    <a:lnTo>
                      <a:pt x="274" y="611"/>
                    </a:lnTo>
                    <a:lnTo>
                      <a:pt x="335" y="604"/>
                    </a:lnTo>
                    <a:lnTo>
                      <a:pt x="365" y="599"/>
                    </a:lnTo>
                    <a:lnTo>
                      <a:pt x="393" y="591"/>
                    </a:lnTo>
                    <a:lnTo>
                      <a:pt x="420" y="582"/>
                    </a:lnTo>
                    <a:lnTo>
                      <a:pt x="445" y="571"/>
                    </a:lnTo>
                    <a:lnTo>
                      <a:pt x="469" y="557"/>
                    </a:lnTo>
                    <a:lnTo>
                      <a:pt x="490" y="540"/>
                    </a:lnTo>
                    <a:lnTo>
                      <a:pt x="509" y="522"/>
                    </a:lnTo>
                    <a:lnTo>
                      <a:pt x="524" y="499"/>
                    </a:lnTo>
                    <a:lnTo>
                      <a:pt x="537" y="473"/>
                    </a:lnTo>
                    <a:lnTo>
                      <a:pt x="547" y="445"/>
                    </a:lnTo>
                    <a:lnTo>
                      <a:pt x="553" y="412"/>
                    </a:lnTo>
                    <a:lnTo>
                      <a:pt x="555" y="376"/>
                    </a:lnTo>
                    <a:lnTo>
                      <a:pt x="553" y="339"/>
                    </a:lnTo>
                    <a:lnTo>
                      <a:pt x="546" y="308"/>
                    </a:lnTo>
                    <a:lnTo>
                      <a:pt x="536" y="279"/>
                    </a:lnTo>
                    <a:lnTo>
                      <a:pt x="523" y="254"/>
                    </a:lnTo>
                    <a:lnTo>
                      <a:pt x="505" y="232"/>
                    </a:lnTo>
                    <a:lnTo>
                      <a:pt x="486" y="213"/>
                    </a:lnTo>
                    <a:lnTo>
                      <a:pt x="464" y="198"/>
                    </a:lnTo>
                    <a:lnTo>
                      <a:pt x="440" y="184"/>
                    </a:lnTo>
                    <a:lnTo>
                      <a:pt x="413" y="173"/>
                    </a:lnTo>
                    <a:lnTo>
                      <a:pt x="385" y="164"/>
                    </a:lnTo>
                    <a:lnTo>
                      <a:pt x="356" y="157"/>
                    </a:lnTo>
                    <a:lnTo>
                      <a:pt x="325" y="152"/>
                    </a:lnTo>
                    <a:lnTo>
                      <a:pt x="296" y="148"/>
                    </a:lnTo>
                    <a:lnTo>
                      <a:pt x="265" y="146"/>
                    </a:lnTo>
                    <a:lnTo>
                      <a:pt x="204" y="144"/>
                    </a:lnTo>
                    <a:lnTo>
                      <a:pt x="161" y="144"/>
                    </a:lnTo>
                    <a:lnTo>
                      <a:pt x="161" y="6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02280" y="517680"/>
                <a:ext cx="196200" cy="250560"/>
              </a:xfrm>
              <a:custGeom>
                <a:avLst/>
                <a:gdLst/>
                <a:ahLst/>
                <a:rect l="l" t="t" r="r" b="b"/>
                <a:pathLst>
                  <a:path w="929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29" y="1293"/>
                    </a:lnTo>
                    <a:lnTo>
                      <a:pt x="712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999720" y="847800"/>
                <a:ext cx="54720" cy="133200"/>
              </a:xfrm>
              <a:custGeom>
                <a:avLst/>
                <a:gdLst/>
                <a:ahLst/>
                <a:rect l="l" t="t" r="r" b="b"/>
                <a:pathLst>
                  <a:path w="264" h="687">
                    <a:moveTo>
                      <a:pt x="169" y="687"/>
                    </a:moveTo>
                    <a:lnTo>
                      <a:pt x="74" y="687"/>
                    </a:lnTo>
                    <a:lnTo>
                      <a:pt x="74" y="279"/>
                    </a:lnTo>
                    <a:lnTo>
                      <a:pt x="0" y="279"/>
                    </a:lnTo>
                    <a:lnTo>
                      <a:pt x="0" y="190"/>
                    </a:lnTo>
                    <a:lnTo>
                      <a:pt x="74" y="190"/>
                    </a:lnTo>
                    <a:lnTo>
                      <a:pt x="74" y="0"/>
                    </a:lnTo>
                    <a:lnTo>
                      <a:pt x="169" y="0"/>
                    </a:lnTo>
                    <a:lnTo>
                      <a:pt x="169" y="190"/>
                    </a:lnTo>
                    <a:lnTo>
                      <a:pt x="264" y="190"/>
                    </a:lnTo>
                    <a:lnTo>
                      <a:pt x="264" y="279"/>
                    </a:lnTo>
                    <a:lnTo>
                      <a:pt x="169" y="279"/>
                    </a:lnTo>
                    <a:lnTo>
                      <a:pt x="169" y="6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058400" y="882720"/>
                <a:ext cx="9936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5" y="280"/>
                    </a:moveTo>
                    <a:lnTo>
                      <a:pt x="98" y="311"/>
                    </a:lnTo>
                    <a:lnTo>
                      <a:pt x="106" y="341"/>
                    </a:lnTo>
                    <a:lnTo>
                      <a:pt x="119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8" y="415"/>
                    </a:lnTo>
                    <a:lnTo>
                      <a:pt x="170" y="423"/>
                    </a:lnTo>
                    <a:lnTo>
                      <a:pt x="184" y="431"/>
                    </a:lnTo>
                    <a:lnTo>
                      <a:pt x="197" y="437"/>
                    </a:lnTo>
                    <a:lnTo>
                      <a:pt x="213" y="441"/>
                    </a:lnTo>
                    <a:lnTo>
                      <a:pt x="229" y="443"/>
                    </a:lnTo>
                    <a:lnTo>
                      <a:pt x="245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5" y="430"/>
                    </a:lnTo>
                    <a:lnTo>
                      <a:pt x="333" y="418"/>
                    </a:lnTo>
                    <a:lnTo>
                      <a:pt x="351" y="405"/>
                    </a:lnTo>
                    <a:lnTo>
                      <a:pt x="366" y="388"/>
                    </a:lnTo>
                    <a:lnTo>
                      <a:pt x="380" y="368"/>
                    </a:lnTo>
                    <a:lnTo>
                      <a:pt x="394" y="348"/>
                    </a:lnTo>
                    <a:lnTo>
                      <a:pt x="475" y="394"/>
                    </a:lnTo>
                    <a:lnTo>
                      <a:pt x="455" y="424"/>
                    </a:lnTo>
                    <a:lnTo>
                      <a:pt x="433" y="451"/>
                    </a:lnTo>
                    <a:lnTo>
                      <a:pt x="407" y="474"/>
                    </a:lnTo>
                    <a:lnTo>
                      <a:pt x="378" y="494"/>
                    </a:lnTo>
                    <a:lnTo>
                      <a:pt x="347" y="509"/>
                    </a:lnTo>
                    <a:lnTo>
                      <a:pt x="315" y="520"/>
                    </a:lnTo>
                    <a:lnTo>
                      <a:pt x="279" y="528"/>
                    </a:lnTo>
                    <a:lnTo>
                      <a:pt x="244" y="530"/>
                    </a:lnTo>
                    <a:lnTo>
                      <a:pt x="217" y="528"/>
                    </a:lnTo>
                    <a:lnTo>
                      <a:pt x="191" y="524"/>
                    </a:lnTo>
                    <a:lnTo>
                      <a:pt x="165" y="518"/>
                    </a:lnTo>
                    <a:lnTo>
                      <a:pt x="142" y="509"/>
                    </a:lnTo>
                    <a:lnTo>
                      <a:pt x="120" y="498"/>
                    </a:lnTo>
                    <a:lnTo>
                      <a:pt x="101" y="485"/>
                    </a:lnTo>
                    <a:lnTo>
                      <a:pt x="82" y="471"/>
                    </a:lnTo>
                    <a:lnTo>
                      <a:pt x="66" y="454"/>
                    </a:lnTo>
                    <a:lnTo>
                      <a:pt x="50" y="435"/>
                    </a:lnTo>
                    <a:lnTo>
                      <a:pt x="37" y="416"/>
                    </a:lnTo>
                    <a:lnTo>
                      <a:pt x="26" y="394"/>
                    </a:lnTo>
                    <a:lnTo>
                      <a:pt x="16" y="371"/>
                    </a:lnTo>
                    <a:lnTo>
                      <a:pt x="10" y="346"/>
                    </a:lnTo>
                    <a:lnTo>
                      <a:pt x="4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4" y="213"/>
                    </a:lnTo>
                    <a:lnTo>
                      <a:pt x="9" y="186"/>
                    </a:lnTo>
                    <a:lnTo>
                      <a:pt x="15" y="161"/>
                    </a:lnTo>
                    <a:lnTo>
                      <a:pt x="24" y="138"/>
                    </a:lnTo>
                    <a:lnTo>
                      <a:pt x="34" y="116"/>
                    </a:lnTo>
                    <a:lnTo>
                      <a:pt x="47" y="95"/>
                    </a:lnTo>
                    <a:lnTo>
                      <a:pt x="61" y="76"/>
                    </a:lnTo>
                    <a:lnTo>
                      <a:pt x="77" y="60"/>
                    </a:lnTo>
                    <a:lnTo>
                      <a:pt x="95" y="45"/>
                    </a:lnTo>
                    <a:lnTo>
                      <a:pt x="115" y="31"/>
                    </a:lnTo>
                    <a:lnTo>
                      <a:pt x="137" y="20"/>
                    </a:lnTo>
                    <a:lnTo>
                      <a:pt x="160" y="12"/>
                    </a:lnTo>
                    <a:lnTo>
                      <a:pt x="185" y="5"/>
                    </a:lnTo>
                    <a:lnTo>
                      <a:pt x="213" y="2"/>
                    </a:lnTo>
                    <a:lnTo>
                      <a:pt x="242" y="0"/>
                    </a:lnTo>
                    <a:lnTo>
                      <a:pt x="271" y="2"/>
                    </a:lnTo>
                    <a:lnTo>
                      <a:pt x="297" y="5"/>
                    </a:lnTo>
                    <a:lnTo>
                      <a:pt x="322" y="12"/>
                    </a:lnTo>
                    <a:lnTo>
                      <a:pt x="345" y="20"/>
                    </a:lnTo>
                    <a:lnTo>
                      <a:pt x="366" y="31"/>
                    </a:lnTo>
                    <a:lnTo>
                      <a:pt x="385" y="45"/>
                    </a:lnTo>
                    <a:lnTo>
                      <a:pt x="402" y="60"/>
                    </a:lnTo>
                    <a:lnTo>
                      <a:pt x="418" y="76"/>
                    </a:lnTo>
                    <a:lnTo>
                      <a:pt x="431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0" y="161"/>
                    </a:lnTo>
                    <a:lnTo>
                      <a:pt x="467" y="185"/>
                    </a:lnTo>
                    <a:lnTo>
                      <a:pt x="471" y="210"/>
                    </a:lnTo>
                    <a:lnTo>
                      <a:pt x="474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5" y="280"/>
                    </a:lnTo>
                    <a:close/>
                    <a:moveTo>
                      <a:pt x="379" y="207"/>
                    </a:moveTo>
                    <a:lnTo>
                      <a:pt x="373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5" y="117"/>
                    </a:lnTo>
                    <a:lnTo>
                      <a:pt x="316" y="103"/>
                    </a:lnTo>
                    <a:lnTo>
                      <a:pt x="294" y="92"/>
                    </a:lnTo>
                    <a:lnTo>
                      <a:pt x="270" y="85"/>
                    </a:lnTo>
                    <a:lnTo>
                      <a:pt x="242" y="83"/>
                    </a:lnTo>
                    <a:lnTo>
                      <a:pt x="215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1" y="137"/>
                    </a:lnTo>
                    <a:lnTo>
                      <a:pt x="117" y="158"/>
                    </a:lnTo>
                    <a:lnTo>
                      <a:pt x="107" y="182"/>
                    </a:lnTo>
                    <a:lnTo>
                      <a:pt x="101" y="207"/>
                    </a:lnTo>
                    <a:lnTo>
                      <a:pt x="379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177200" y="846000"/>
                <a:ext cx="2052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211400" y="882720"/>
                <a:ext cx="9972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7" y="280"/>
                    </a:moveTo>
                    <a:lnTo>
                      <a:pt x="99" y="311"/>
                    </a:lnTo>
                    <a:lnTo>
                      <a:pt x="108" y="341"/>
                    </a:lnTo>
                    <a:lnTo>
                      <a:pt x="120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9" y="415"/>
                    </a:lnTo>
                    <a:lnTo>
                      <a:pt x="171" y="423"/>
                    </a:lnTo>
                    <a:lnTo>
                      <a:pt x="185" y="431"/>
                    </a:lnTo>
                    <a:lnTo>
                      <a:pt x="199" y="437"/>
                    </a:lnTo>
                    <a:lnTo>
                      <a:pt x="213" y="441"/>
                    </a:lnTo>
                    <a:lnTo>
                      <a:pt x="230" y="443"/>
                    </a:lnTo>
                    <a:lnTo>
                      <a:pt x="246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6" y="430"/>
                    </a:lnTo>
                    <a:lnTo>
                      <a:pt x="335" y="418"/>
                    </a:lnTo>
                    <a:lnTo>
                      <a:pt x="351" y="405"/>
                    </a:lnTo>
                    <a:lnTo>
                      <a:pt x="367" y="388"/>
                    </a:lnTo>
                    <a:lnTo>
                      <a:pt x="381" y="368"/>
                    </a:lnTo>
                    <a:lnTo>
                      <a:pt x="395" y="348"/>
                    </a:lnTo>
                    <a:lnTo>
                      <a:pt x="475" y="394"/>
                    </a:lnTo>
                    <a:lnTo>
                      <a:pt x="457" y="424"/>
                    </a:lnTo>
                    <a:lnTo>
                      <a:pt x="434" y="451"/>
                    </a:lnTo>
                    <a:lnTo>
                      <a:pt x="407" y="474"/>
                    </a:lnTo>
                    <a:lnTo>
                      <a:pt x="379" y="494"/>
                    </a:lnTo>
                    <a:lnTo>
                      <a:pt x="348" y="509"/>
                    </a:lnTo>
                    <a:lnTo>
                      <a:pt x="315" y="520"/>
                    </a:lnTo>
                    <a:lnTo>
                      <a:pt x="281" y="528"/>
                    </a:lnTo>
                    <a:lnTo>
                      <a:pt x="245" y="530"/>
                    </a:lnTo>
                    <a:lnTo>
                      <a:pt x="218" y="528"/>
                    </a:lnTo>
                    <a:lnTo>
                      <a:pt x="191" y="524"/>
                    </a:lnTo>
                    <a:lnTo>
                      <a:pt x="166" y="518"/>
                    </a:lnTo>
                    <a:lnTo>
                      <a:pt x="143" y="509"/>
                    </a:lnTo>
                    <a:lnTo>
                      <a:pt x="121" y="498"/>
                    </a:lnTo>
                    <a:lnTo>
                      <a:pt x="101" y="485"/>
                    </a:lnTo>
                    <a:lnTo>
                      <a:pt x="83" y="471"/>
                    </a:lnTo>
                    <a:lnTo>
                      <a:pt x="66" y="454"/>
                    </a:lnTo>
                    <a:lnTo>
                      <a:pt x="51" y="435"/>
                    </a:lnTo>
                    <a:lnTo>
                      <a:pt x="38" y="416"/>
                    </a:lnTo>
                    <a:lnTo>
                      <a:pt x="27" y="394"/>
                    </a:lnTo>
                    <a:lnTo>
                      <a:pt x="18" y="371"/>
                    </a:lnTo>
                    <a:lnTo>
                      <a:pt x="10" y="346"/>
                    </a:lnTo>
                    <a:lnTo>
                      <a:pt x="5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5" y="213"/>
                    </a:lnTo>
                    <a:lnTo>
                      <a:pt x="9" y="186"/>
                    </a:lnTo>
                    <a:lnTo>
                      <a:pt x="16" y="161"/>
                    </a:lnTo>
                    <a:lnTo>
                      <a:pt x="24" y="138"/>
                    </a:lnTo>
                    <a:lnTo>
                      <a:pt x="35" y="116"/>
                    </a:lnTo>
                    <a:lnTo>
                      <a:pt x="48" y="95"/>
                    </a:lnTo>
                    <a:lnTo>
                      <a:pt x="62" y="76"/>
                    </a:lnTo>
                    <a:lnTo>
                      <a:pt x="78" y="60"/>
                    </a:lnTo>
                    <a:lnTo>
                      <a:pt x="96" y="45"/>
                    </a:lnTo>
                    <a:lnTo>
                      <a:pt x="116" y="31"/>
                    </a:lnTo>
                    <a:lnTo>
                      <a:pt x="137" y="20"/>
                    </a:lnTo>
                    <a:lnTo>
                      <a:pt x="162" y="12"/>
                    </a:lnTo>
                    <a:lnTo>
                      <a:pt x="187" y="5"/>
                    </a:lnTo>
                    <a:lnTo>
                      <a:pt x="214" y="2"/>
                    </a:lnTo>
                    <a:lnTo>
                      <a:pt x="243" y="0"/>
                    </a:lnTo>
                    <a:lnTo>
                      <a:pt x="271" y="2"/>
                    </a:lnTo>
                    <a:lnTo>
                      <a:pt x="299" y="5"/>
                    </a:lnTo>
                    <a:lnTo>
                      <a:pt x="323" y="12"/>
                    </a:lnTo>
                    <a:lnTo>
                      <a:pt x="346" y="20"/>
                    </a:lnTo>
                    <a:lnTo>
                      <a:pt x="367" y="31"/>
                    </a:lnTo>
                    <a:lnTo>
                      <a:pt x="386" y="45"/>
                    </a:lnTo>
                    <a:lnTo>
                      <a:pt x="403" y="60"/>
                    </a:lnTo>
                    <a:lnTo>
                      <a:pt x="418" y="76"/>
                    </a:lnTo>
                    <a:lnTo>
                      <a:pt x="432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1" y="161"/>
                    </a:lnTo>
                    <a:lnTo>
                      <a:pt x="468" y="185"/>
                    </a:lnTo>
                    <a:lnTo>
                      <a:pt x="472" y="210"/>
                    </a:lnTo>
                    <a:lnTo>
                      <a:pt x="475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7" y="280"/>
                    </a:lnTo>
                    <a:close/>
                    <a:moveTo>
                      <a:pt x="380" y="207"/>
                    </a:moveTo>
                    <a:lnTo>
                      <a:pt x="374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6" y="117"/>
                    </a:lnTo>
                    <a:lnTo>
                      <a:pt x="317" y="103"/>
                    </a:lnTo>
                    <a:lnTo>
                      <a:pt x="295" y="92"/>
                    </a:lnTo>
                    <a:lnTo>
                      <a:pt x="270" y="85"/>
                    </a:lnTo>
                    <a:lnTo>
                      <a:pt x="243" y="83"/>
                    </a:lnTo>
                    <a:lnTo>
                      <a:pt x="216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2" y="137"/>
                    </a:lnTo>
                    <a:lnTo>
                      <a:pt x="119" y="158"/>
                    </a:lnTo>
                    <a:lnTo>
                      <a:pt x="108" y="182"/>
                    </a:lnTo>
                    <a:lnTo>
                      <a:pt x="101" y="207"/>
                    </a:lnTo>
                    <a:lnTo>
                      <a:pt x="380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326960" y="882720"/>
                <a:ext cx="84240" cy="101520"/>
              </a:xfrm>
              <a:custGeom>
                <a:avLst/>
                <a:gdLst/>
                <a:ahLst/>
                <a:rect l="l" t="t" r="r" b="b"/>
                <a:pathLst>
                  <a:path w="404" h="530">
                    <a:moveTo>
                      <a:pt x="404" y="157"/>
                    </a:moveTo>
                    <a:lnTo>
                      <a:pt x="389" y="141"/>
                    </a:lnTo>
                    <a:lnTo>
                      <a:pt x="373" y="127"/>
                    </a:lnTo>
                    <a:lnTo>
                      <a:pt x="358" y="116"/>
                    </a:lnTo>
                    <a:lnTo>
                      <a:pt x="340" y="106"/>
                    </a:lnTo>
                    <a:lnTo>
                      <a:pt x="321" y="99"/>
                    </a:lnTo>
                    <a:lnTo>
                      <a:pt x="303" y="94"/>
                    </a:lnTo>
                    <a:lnTo>
                      <a:pt x="283" y="91"/>
                    </a:lnTo>
                    <a:lnTo>
                      <a:pt x="261" y="90"/>
                    </a:lnTo>
                    <a:lnTo>
                      <a:pt x="245" y="91"/>
                    </a:lnTo>
                    <a:lnTo>
                      <a:pt x="227" y="93"/>
                    </a:lnTo>
                    <a:lnTo>
                      <a:pt x="212" y="97"/>
                    </a:lnTo>
                    <a:lnTo>
                      <a:pt x="196" y="104"/>
                    </a:lnTo>
                    <a:lnTo>
                      <a:pt x="182" y="112"/>
                    </a:lnTo>
                    <a:lnTo>
                      <a:pt x="168" y="120"/>
                    </a:lnTo>
                    <a:lnTo>
                      <a:pt x="156" y="130"/>
                    </a:lnTo>
                    <a:lnTo>
                      <a:pt x="144" y="142"/>
                    </a:lnTo>
                    <a:lnTo>
                      <a:pt x="133" y="154"/>
                    </a:lnTo>
                    <a:lnTo>
                      <a:pt x="124" y="169"/>
                    </a:lnTo>
                    <a:lnTo>
                      <a:pt x="115" y="183"/>
                    </a:lnTo>
                    <a:lnTo>
                      <a:pt x="109" y="198"/>
                    </a:lnTo>
                    <a:lnTo>
                      <a:pt x="103" y="214"/>
                    </a:lnTo>
                    <a:lnTo>
                      <a:pt x="99" y="230"/>
                    </a:lnTo>
                    <a:lnTo>
                      <a:pt x="97" y="247"/>
                    </a:lnTo>
                    <a:lnTo>
                      <a:pt x="96" y="264"/>
                    </a:lnTo>
                    <a:lnTo>
                      <a:pt x="97" y="283"/>
                    </a:lnTo>
                    <a:lnTo>
                      <a:pt x="99" y="300"/>
                    </a:lnTo>
                    <a:lnTo>
                      <a:pt x="103" y="318"/>
                    </a:lnTo>
                    <a:lnTo>
                      <a:pt x="109" y="334"/>
                    </a:lnTo>
                    <a:lnTo>
                      <a:pt x="115" y="350"/>
                    </a:lnTo>
                    <a:lnTo>
                      <a:pt x="124" y="364"/>
                    </a:lnTo>
                    <a:lnTo>
                      <a:pt x="133" y="378"/>
                    </a:lnTo>
                    <a:lnTo>
                      <a:pt x="144" y="390"/>
                    </a:lnTo>
                    <a:lnTo>
                      <a:pt x="156" y="401"/>
                    </a:lnTo>
                    <a:lnTo>
                      <a:pt x="169" y="411"/>
                    </a:lnTo>
                    <a:lnTo>
                      <a:pt x="183" y="420"/>
                    </a:lnTo>
                    <a:lnTo>
                      <a:pt x="199" y="427"/>
                    </a:lnTo>
                    <a:lnTo>
                      <a:pt x="215" y="432"/>
                    </a:lnTo>
                    <a:lnTo>
                      <a:pt x="232" y="437"/>
                    </a:lnTo>
                    <a:lnTo>
                      <a:pt x="249" y="439"/>
                    </a:lnTo>
                    <a:lnTo>
                      <a:pt x="268" y="440"/>
                    </a:lnTo>
                    <a:lnTo>
                      <a:pt x="289" y="439"/>
                    </a:lnTo>
                    <a:lnTo>
                      <a:pt x="307" y="435"/>
                    </a:lnTo>
                    <a:lnTo>
                      <a:pt x="326" y="430"/>
                    </a:lnTo>
                    <a:lnTo>
                      <a:pt x="343" y="422"/>
                    </a:lnTo>
                    <a:lnTo>
                      <a:pt x="360" y="412"/>
                    </a:lnTo>
                    <a:lnTo>
                      <a:pt x="375" y="401"/>
                    </a:lnTo>
                    <a:lnTo>
                      <a:pt x="389" y="388"/>
                    </a:lnTo>
                    <a:lnTo>
                      <a:pt x="404" y="374"/>
                    </a:lnTo>
                    <a:lnTo>
                      <a:pt x="404" y="497"/>
                    </a:lnTo>
                    <a:lnTo>
                      <a:pt x="371" y="511"/>
                    </a:lnTo>
                    <a:lnTo>
                      <a:pt x="338" y="522"/>
                    </a:lnTo>
                    <a:lnTo>
                      <a:pt x="303" y="528"/>
                    </a:lnTo>
                    <a:lnTo>
                      <a:pt x="267" y="530"/>
                    </a:lnTo>
                    <a:lnTo>
                      <a:pt x="239" y="528"/>
                    </a:lnTo>
                    <a:lnTo>
                      <a:pt x="213" y="524"/>
                    </a:lnTo>
                    <a:lnTo>
                      <a:pt x="188" y="518"/>
                    </a:lnTo>
                    <a:lnTo>
                      <a:pt x="164" y="509"/>
                    </a:lnTo>
                    <a:lnTo>
                      <a:pt x="140" y="499"/>
                    </a:lnTo>
                    <a:lnTo>
                      <a:pt x="119" y="486"/>
                    </a:lnTo>
                    <a:lnTo>
                      <a:pt x="98" y="472"/>
                    </a:lnTo>
                    <a:lnTo>
                      <a:pt x="79" y="454"/>
                    </a:lnTo>
                    <a:lnTo>
                      <a:pt x="62" y="437"/>
                    </a:lnTo>
                    <a:lnTo>
                      <a:pt x="46" y="416"/>
                    </a:lnTo>
                    <a:lnTo>
                      <a:pt x="33" y="395"/>
                    </a:lnTo>
                    <a:lnTo>
                      <a:pt x="21" y="372"/>
                    </a:lnTo>
                    <a:lnTo>
                      <a:pt x="12" y="348"/>
                    </a:lnTo>
                    <a:lnTo>
                      <a:pt x="6" y="322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6" y="213"/>
                    </a:lnTo>
                    <a:lnTo>
                      <a:pt x="12" y="186"/>
                    </a:lnTo>
                    <a:lnTo>
                      <a:pt x="21" y="161"/>
                    </a:lnTo>
                    <a:lnTo>
                      <a:pt x="33" y="138"/>
                    </a:lnTo>
                    <a:lnTo>
                      <a:pt x="46" y="115"/>
                    </a:lnTo>
                    <a:lnTo>
                      <a:pt x="62" y="95"/>
                    </a:lnTo>
                    <a:lnTo>
                      <a:pt x="79" y="76"/>
                    </a:lnTo>
                    <a:lnTo>
                      <a:pt x="98" y="59"/>
                    </a:lnTo>
                    <a:lnTo>
                      <a:pt x="119" y="45"/>
                    </a:lnTo>
                    <a:lnTo>
                      <a:pt x="142" y="31"/>
                    </a:lnTo>
                    <a:lnTo>
                      <a:pt x="165" y="20"/>
                    </a:lnTo>
                    <a:lnTo>
                      <a:pt x="190" y="12"/>
                    </a:lnTo>
                    <a:lnTo>
                      <a:pt x="216" y="5"/>
                    </a:lnTo>
                    <a:lnTo>
                      <a:pt x="244" y="2"/>
                    </a:lnTo>
                    <a:lnTo>
                      <a:pt x="272" y="0"/>
                    </a:lnTo>
                    <a:lnTo>
                      <a:pt x="306" y="2"/>
                    </a:lnTo>
                    <a:lnTo>
                      <a:pt x="340" y="8"/>
                    </a:lnTo>
                    <a:lnTo>
                      <a:pt x="373" y="18"/>
                    </a:lnTo>
                    <a:lnTo>
                      <a:pt x="404" y="32"/>
                    </a:lnTo>
                    <a:lnTo>
                      <a:pt x="404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423440" y="882720"/>
                <a:ext cx="111600" cy="101520"/>
              </a:xfrm>
              <a:custGeom>
                <a:avLst/>
                <a:gdLst/>
                <a:ahLst/>
                <a:rect l="l" t="t" r="r" b="b"/>
                <a:pathLst>
                  <a:path w="532" h="530">
                    <a:moveTo>
                      <a:pt x="532" y="264"/>
                    </a:moveTo>
                    <a:lnTo>
                      <a:pt x="530" y="293"/>
                    </a:lnTo>
                    <a:lnTo>
                      <a:pt x="527" y="319"/>
                    </a:lnTo>
                    <a:lnTo>
                      <a:pt x="520" y="344"/>
                    </a:lnTo>
                    <a:lnTo>
                      <a:pt x="511" y="370"/>
                    </a:lnTo>
                    <a:lnTo>
                      <a:pt x="501" y="393"/>
                    </a:lnTo>
                    <a:lnTo>
                      <a:pt x="487" y="415"/>
                    </a:lnTo>
                    <a:lnTo>
                      <a:pt x="472" y="434"/>
                    </a:lnTo>
                    <a:lnTo>
                      <a:pt x="454" y="453"/>
                    </a:lnTo>
                    <a:lnTo>
                      <a:pt x="436" y="471"/>
                    </a:lnTo>
                    <a:lnTo>
                      <a:pt x="416" y="485"/>
                    </a:lnTo>
                    <a:lnTo>
                      <a:pt x="394" y="498"/>
                    </a:lnTo>
                    <a:lnTo>
                      <a:pt x="370" y="509"/>
                    </a:lnTo>
                    <a:lnTo>
                      <a:pt x="346" y="518"/>
                    </a:lnTo>
                    <a:lnTo>
                      <a:pt x="321" y="524"/>
                    </a:lnTo>
                    <a:lnTo>
                      <a:pt x="293" y="528"/>
                    </a:lnTo>
                    <a:lnTo>
                      <a:pt x="266" y="530"/>
                    </a:lnTo>
                    <a:lnTo>
                      <a:pt x="238" y="528"/>
                    </a:lnTo>
                    <a:lnTo>
                      <a:pt x="212" y="524"/>
                    </a:lnTo>
                    <a:lnTo>
                      <a:pt x="187" y="518"/>
                    </a:lnTo>
                    <a:lnTo>
                      <a:pt x="162" y="509"/>
                    </a:lnTo>
                    <a:lnTo>
                      <a:pt x="139" y="498"/>
                    </a:lnTo>
                    <a:lnTo>
                      <a:pt x="117" y="485"/>
                    </a:lnTo>
                    <a:lnTo>
                      <a:pt x="97" y="471"/>
                    </a:lnTo>
                    <a:lnTo>
                      <a:pt x="78" y="453"/>
                    </a:lnTo>
                    <a:lnTo>
                      <a:pt x="61" y="434"/>
                    </a:lnTo>
                    <a:lnTo>
                      <a:pt x="45" y="415"/>
                    </a:lnTo>
                    <a:lnTo>
                      <a:pt x="32" y="393"/>
                    </a:lnTo>
                    <a:lnTo>
                      <a:pt x="21" y="370"/>
                    </a:lnTo>
                    <a:lnTo>
                      <a:pt x="12" y="344"/>
                    </a:lnTo>
                    <a:lnTo>
                      <a:pt x="6" y="319"/>
                    </a:lnTo>
                    <a:lnTo>
                      <a:pt x="3" y="293"/>
                    </a:lnTo>
                    <a:lnTo>
                      <a:pt x="0" y="264"/>
                    </a:lnTo>
                    <a:lnTo>
                      <a:pt x="3" y="237"/>
                    </a:lnTo>
                    <a:lnTo>
                      <a:pt x="6" y="210"/>
                    </a:lnTo>
                    <a:lnTo>
                      <a:pt x="12" y="185"/>
                    </a:lnTo>
                    <a:lnTo>
                      <a:pt x="21" y="160"/>
                    </a:lnTo>
                    <a:lnTo>
                      <a:pt x="32" y="137"/>
                    </a:lnTo>
                    <a:lnTo>
                      <a:pt x="45" y="115"/>
                    </a:lnTo>
                    <a:lnTo>
                      <a:pt x="61" y="95"/>
                    </a:lnTo>
                    <a:lnTo>
                      <a:pt x="78" y="76"/>
                    </a:lnTo>
                    <a:lnTo>
                      <a:pt x="97" y="59"/>
                    </a:lnTo>
                    <a:lnTo>
                      <a:pt x="117" y="45"/>
                    </a:lnTo>
                    <a:lnTo>
                      <a:pt x="139" y="31"/>
                    </a:lnTo>
                    <a:lnTo>
                      <a:pt x="162" y="20"/>
                    </a:lnTo>
                    <a:lnTo>
                      <a:pt x="187" y="12"/>
                    </a:lnTo>
                    <a:lnTo>
                      <a:pt x="212" y="5"/>
                    </a:lnTo>
                    <a:lnTo>
                      <a:pt x="238" y="2"/>
                    </a:lnTo>
                    <a:lnTo>
                      <a:pt x="266" y="0"/>
                    </a:lnTo>
                    <a:lnTo>
                      <a:pt x="293" y="2"/>
                    </a:lnTo>
                    <a:lnTo>
                      <a:pt x="321" y="5"/>
                    </a:lnTo>
                    <a:lnTo>
                      <a:pt x="346" y="12"/>
                    </a:lnTo>
                    <a:lnTo>
                      <a:pt x="370" y="20"/>
                    </a:lnTo>
                    <a:lnTo>
                      <a:pt x="394" y="31"/>
                    </a:lnTo>
                    <a:lnTo>
                      <a:pt x="416" y="45"/>
                    </a:lnTo>
                    <a:lnTo>
                      <a:pt x="436" y="59"/>
                    </a:lnTo>
                    <a:lnTo>
                      <a:pt x="454" y="76"/>
                    </a:lnTo>
                    <a:lnTo>
                      <a:pt x="472" y="95"/>
                    </a:lnTo>
                    <a:lnTo>
                      <a:pt x="487" y="115"/>
                    </a:lnTo>
                    <a:lnTo>
                      <a:pt x="501" y="137"/>
                    </a:lnTo>
                    <a:lnTo>
                      <a:pt x="511" y="160"/>
                    </a:lnTo>
                    <a:lnTo>
                      <a:pt x="520" y="185"/>
                    </a:lnTo>
                    <a:lnTo>
                      <a:pt x="527" y="210"/>
                    </a:lnTo>
                    <a:lnTo>
                      <a:pt x="530" y="237"/>
                    </a:lnTo>
                    <a:lnTo>
                      <a:pt x="532" y="264"/>
                    </a:lnTo>
                    <a:close/>
                    <a:moveTo>
                      <a:pt x="96" y="264"/>
                    </a:moveTo>
                    <a:lnTo>
                      <a:pt x="97" y="282"/>
                    </a:lnTo>
                    <a:lnTo>
                      <a:pt x="100" y="299"/>
                    </a:lnTo>
                    <a:lnTo>
                      <a:pt x="103" y="316"/>
                    </a:lnTo>
                    <a:lnTo>
                      <a:pt x="110" y="331"/>
                    </a:lnTo>
                    <a:lnTo>
                      <a:pt x="117" y="346"/>
                    </a:lnTo>
                    <a:lnTo>
                      <a:pt x="125" y="361"/>
                    </a:lnTo>
                    <a:lnTo>
                      <a:pt x="135" y="374"/>
                    </a:lnTo>
                    <a:lnTo>
                      <a:pt x="146" y="386"/>
                    </a:lnTo>
                    <a:lnTo>
                      <a:pt x="158" y="398"/>
                    </a:lnTo>
                    <a:lnTo>
                      <a:pt x="171" y="408"/>
                    </a:lnTo>
                    <a:lnTo>
                      <a:pt x="185" y="417"/>
                    </a:lnTo>
                    <a:lnTo>
                      <a:pt x="200" y="424"/>
                    </a:lnTo>
                    <a:lnTo>
                      <a:pt x="215" y="430"/>
                    </a:lnTo>
                    <a:lnTo>
                      <a:pt x="232" y="434"/>
                    </a:lnTo>
                    <a:lnTo>
                      <a:pt x="248" y="437"/>
                    </a:lnTo>
                    <a:lnTo>
                      <a:pt x="266" y="438"/>
                    </a:lnTo>
                    <a:lnTo>
                      <a:pt x="283" y="437"/>
                    </a:lnTo>
                    <a:lnTo>
                      <a:pt x="301" y="434"/>
                    </a:lnTo>
                    <a:lnTo>
                      <a:pt x="317" y="430"/>
                    </a:lnTo>
                    <a:lnTo>
                      <a:pt x="333" y="424"/>
                    </a:lnTo>
                    <a:lnTo>
                      <a:pt x="348" y="417"/>
                    </a:lnTo>
                    <a:lnTo>
                      <a:pt x="361" y="408"/>
                    </a:lnTo>
                    <a:lnTo>
                      <a:pt x="374" y="398"/>
                    </a:lnTo>
                    <a:lnTo>
                      <a:pt x="386" y="386"/>
                    </a:lnTo>
                    <a:lnTo>
                      <a:pt x="397" y="374"/>
                    </a:lnTo>
                    <a:lnTo>
                      <a:pt x="407" y="361"/>
                    </a:lnTo>
                    <a:lnTo>
                      <a:pt x="416" y="346"/>
                    </a:lnTo>
                    <a:lnTo>
                      <a:pt x="423" y="331"/>
                    </a:lnTo>
                    <a:lnTo>
                      <a:pt x="428" y="316"/>
                    </a:lnTo>
                    <a:lnTo>
                      <a:pt x="433" y="299"/>
                    </a:lnTo>
                    <a:lnTo>
                      <a:pt x="436" y="282"/>
                    </a:lnTo>
                    <a:lnTo>
                      <a:pt x="436" y="264"/>
                    </a:lnTo>
                    <a:lnTo>
                      <a:pt x="436" y="248"/>
                    </a:lnTo>
                    <a:lnTo>
                      <a:pt x="433" y="230"/>
                    </a:lnTo>
                    <a:lnTo>
                      <a:pt x="428" y="214"/>
                    </a:lnTo>
                    <a:lnTo>
                      <a:pt x="423" y="197"/>
                    </a:lnTo>
                    <a:lnTo>
                      <a:pt x="416" y="183"/>
                    </a:lnTo>
                    <a:lnTo>
                      <a:pt x="407" y="169"/>
                    </a:lnTo>
                    <a:lnTo>
                      <a:pt x="397" y="154"/>
                    </a:lnTo>
                    <a:lnTo>
                      <a:pt x="386" y="142"/>
                    </a:lnTo>
                    <a:lnTo>
                      <a:pt x="374" y="131"/>
                    </a:lnTo>
                    <a:lnTo>
                      <a:pt x="361" y="121"/>
                    </a:lnTo>
                    <a:lnTo>
                      <a:pt x="348" y="113"/>
                    </a:lnTo>
                    <a:lnTo>
                      <a:pt x="333" y="105"/>
                    </a:lnTo>
                    <a:lnTo>
                      <a:pt x="317" y="99"/>
                    </a:lnTo>
                    <a:lnTo>
                      <a:pt x="301" y="95"/>
                    </a:lnTo>
                    <a:lnTo>
                      <a:pt x="283" y="92"/>
                    </a:lnTo>
                    <a:lnTo>
                      <a:pt x="266" y="92"/>
                    </a:lnTo>
                    <a:lnTo>
                      <a:pt x="248" y="92"/>
                    </a:lnTo>
                    <a:lnTo>
                      <a:pt x="232" y="95"/>
                    </a:lnTo>
                    <a:lnTo>
                      <a:pt x="215" y="99"/>
                    </a:lnTo>
                    <a:lnTo>
                      <a:pt x="200" y="105"/>
                    </a:lnTo>
                    <a:lnTo>
                      <a:pt x="185" y="113"/>
                    </a:lnTo>
                    <a:lnTo>
                      <a:pt x="171" y="121"/>
                    </a:lnTo>
                    <a:lnTo>
                      <a:pt x="158" y="131"/>
                    </a:lnTo>
                    <a:lnTo>
                      <a:pt x="146" y="142"/>
                    </a:lnTo>
                    <a:lnTo>
                      <a:pt x="135" y="154"/>
                    </a:lnTo>
                    <a:lnTo>
                      <a:pt x="125" y="169"/>
                    </a:lnTo>
                    <a:lnTo>
                      <a:pt x="117" y="183"/>
                    </a:lnTo>
                    <a:lnTo>
                      <a:pt x="110" y="197"/>
                    </a:lnTo>
                    <a:lnTo>
                      <a:pt x="103" y="214"/>
                    </a:lnTo>
                    <a:lnTo>
                      <a:pt x="100" y="230"/>
                    </a:lnTo>
                    <a:lnTo>
                      <a:pt x="97" y="248"/>
                    </a:lnTo>
                    <a:lnTo>
                      <a:pt x="96" y="2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549440" y="882720"/>
                <a:ext cx="144360" cy="98280"/>
              </a:xfrm>
              <a:custGeom>
                <a:avLst/>
                <a:gdLst/>
                <a:ahLst/>
                <a:rect l="l" t="t" r="r" b="b"/>
                <a:pathLst>
                  <a:path w="690" h="512">
                    <a:moveTo>
                      <a:pt x="96" y="77"/>
                    </a:moveTo>
                    <a:lnTo>
                      <a:pt x="98" y="77"/>
                    </a:lnTo>
                    <a:lnTo>
                      <a:pt x="109" y="62"/>
                    </a:lnTo>
                    <a:lnTo>
                      <a:pt x="122" y="47"/>
                    </a:lnTo>
                    <a:lnTo>
                      <a:pt x="137" y="34"/>
                    </a:lnTo>
                    <a:lnTo>
                      <a:pt x="154" y="23"/>
                    </a:lnTo>
                    <a:lnTo>
                      <a:pt x="171" y="13"/>
                    </a:lnTo>
                    <a:lnTo>
                      <a:pt x="190" y="6"/>
                    </a:lnTo>
                    <a:lnTo>
                      <a:pt x="210" y="2"/>
                    </a:lnTo>
                    <a:lnTo>
                      <a:pt x="229" y="0"/>
                    </a:lnTo>
                    <a:lnTo>
                      <a:pt x="253" y="2"/>
                    </a:lnTo>
                    <a:lnTo>
                      <a:pt x="274" y="6"/>
                    </a:lnTo>
                    <a:lnTo>
                      <a:pt x="295" y="13"/>
                    </a:lnTo>
                    <a:lnTo>
                      <a:pt x="314" y="24"/>
                    </a:lnTo>
                    <a:lnTo>
                      <a:pt x="330" y="36"/>
                    </a:lnTo>
                    <a:lnTo>
                      <a:pt x="346" y="51"/>
                    </a:lnTo>
                    <a:lnTo>
                      <a:pt x="360" y="69"/>
                    </a:lnTo>
                    <a:lnTo>
                      <a:pt x="373" y="88"/>
                    </a:lnTo>
                    <a:lnTo>
                      <a:pt x="385" y="69"/>
                    </a:lnTo>
                    <a:lnTo>
                      <a:pt x="401" y="52"/>
                    </a:lnTo>
                    <a:lnTo>
                      <a:pt x="418" y="37"/>
                    </a:lnTo>
                    <a:lnTo>
                      <a:pt x="438" y="24"/>
                    </a:lnTo>
                    <a:lnTo>
                      <a:pt x="458" y="14"/>
                    </a:lnTo>
                    <a:lnTo>
                      <a:pt x="480" y="6"/>
                    </a:lnTo>
                    <a:lnTo>
                      <a:pt x="503" y="2"/>
                    </a:lnTo>
                    <a:lnTo>
                      <a:pt x="526" y="0"/>
                    </a:lnTo>
                    <a:lnTo>
                      <a:pt x="550" y="1"/>
                    </a:lnTo>
                    <a:lnTo>
                      <a:pt x="571" y="5"/>
                    </a:lnTo>
                    <a:lnTo>
                      <a:pt x="589" y="11"/>
                    </a:lnTo>
                    <a:lnTo>
                      <a:pt x="607" y="17"/>
                    </a:lnTo>
                    <a:lnTo>
                      <a:pt x="622" y="27"/>
                    </a:lnTo>
                    <a:lnTo>
                      <a:pt x="635" y="38"/>
                    </a:lnTo>
                    <a:lnTo>
                      <a:pt x="647" y="51"/>
                    </a:lnTo>
                    <a:lnTo>
                      <a:pt x="657" y="65"/>
                    </a:lnTo>
                    <a:lnTo>
                      <a:pt x="666" y="81"/>
                    </a:lnTo>
                    <a:lnTo>
                      <a:pt x="673" y="97"/>
                    </a:lnTo>
                    <a:lnTo>
                      <a:pt x="678" y="115"/>
                    </a:lnTo>
                    <a:lnTo>
                      <a:pt x="684" y="133"/>
                    </a:lnTo>
                    <a:lnTo>
                      <a:pt x="689" y="173"/>
                    </a:lnTo>
                    <a:lnTo>
                      <a:pt x="690" y="215"/>
                    </a:lnTo>
                    <a:lnTo>
                      <a:pt x="690" y="512"/>
                    </a:lnTo>
                    <a:lnTo>
                      <a:pt x="595" y="512"/>
                    </a:lnTo>
                    <a:lnTo>
                      <a:pt x="595" y="230"/>
                    </a:lnTo>
                    <a:lnTo>
                      <a:pt x="595" y="206"/>
                    </a:lnTo>
                    <a:lnTo>
                      <a:pt x="593" y="181"/>
                    </a:lnTo>
                    <a:lnTo>
                      <a:pt x="588" y="157"/>
                    </a:lnTo>
                    <a:lnTo>
                      <a:pt x="580" y="133"/>
                    </a:lnTo>
                    <a:lnTo>
                      <a:pt x="568" y="114"/>
                    </a:lnTo>
                    <a:lnTo>
                      <a:pt x="561" y="106"/>
                    </a:lnTo>
                    <a:lnTo>
                      <a:pt x="552" y="98"/>
                    </a:lnTo>
                    <a:lnTo>
                      <a:pt x="542" y="93"/>
                    </a:lnTo>
                    <a:lnTo>
                      <a:pt x="531" y="88"/>
                    </a:lnTo>
                    <a:lnTo>
                      <a:pt x="517" y="86"/>
                    </a:lnTo>
                    <a:lnTo>
                      <a:pt x="503" y="85"/>
                    </a:lnTo>
                    <a:lnTo>
                      <a:pt x="484" y="86"/>
                    </a:lnTo>
                    <a:lnTo>
                      <a:pt x="469" y="90"/>
                    </a:lnTo>
                    <a:lnTo>
                      <a:pt x="454" y="95"/>
                    </a:lnTo>
                    <a:lnTo>
                      <a:pt x="442" y="103"/>
                    </a:lnTo>
                    <a:lnTo>
                      <a:pt x="432" y="112"/>
                    </a:lnTo>
                    <a:lnTo>
                      <a:pt x="423" y="123"/>
                    </a:lnTo>
                    <a:lnTo>
                      <a:pt x="416" y="135"/>
                    </a:lnTo>
                    <a:lnTo>
                      <a:pt x="409" y="148"/>
                    </a:lnTo>
                    <a:lnTo>
                      <a:pt x="401" y="176"/>
                    </a:lnTo>
                    <a:lnTo>
                      <a:pt x="396" y="207"/>
                    </a:lnTo>
                    <a:lnTo>
                      <a:pt x="394" y="238"/>
                    </a:lnTo>
                    <a:lnTo>
                      <a:pt x="393" y="267"/>
                    </a:lnTo>
                    <a:lnTo>
                      <a:pt x="393" y="512"/>
                    </a:lnTo>
                    <a:lnTo>
                      <a:pt x="297" y="512"/>
                    </a:lnTo>
                    <a:lnTo>
                      <a:pt x="297" y="249"/>
                    </a:lnTo>
                    <a:lnTo>
                      <a:pt x="297" y="224"/>
                    </a:lnTo>
                    <a:lnTo>
                      <a:pt x="295" y="196"/>
                    </a:lnTo>
                    <a:lnTo>
                      <a:pt x="292" y="169"/>
                    </a:lnTo>
                    <a:lnTo>
                      <a:pt x="285" y="142"/>
                    </a:lnTo>
                    <a:lnTo>
                      <a:pt x="280" y="130"/>
                    </a:lnTo>
                    <a:lnTo>
                      <a:pt x="273" y="119"/>
                    </a:lnTo>
                    <a:lnTo>
                      <a:pt x="267" y="110"/>
                    </a:lnTo>
                    <a:lnTo>
                      <a:pt x="258" y="102"/>
                    </a:lnTo>
                    <a:lnTo>
                      <a:pt x="247" y="95"/>
                    </a:lnTo>
                    <a:lnTo>
                      <a:pt x="235" y="90"/>
                    </a:lnTo>
                    <a:lnTo>
                      <a:pt x="222" y="86"/>
                    </a:lnTo>
                    <a:lnTo>
                      <a:pt x="206" y="85"/>
                    </a:lnTo>
                    <a:lnTo>
                      <a:pt x="188" y="86"/>
                    </a:lnTo>
                    <a:lnTo>
                      <a:pt x="172" y="90"/>
                    </a:lnTo>
                    <a:lnTo>
                      <a:pt x="158" y="95"/>
                    </a:lnTo>
                    <a:lnTo>
                      <a:pt x="146" y="103"/>
                    </a:lnTo>
                    <a:lnTo>
                      <a:pt x="135" y="112"/>
                    </a:lnTo>
                    <a:lnTo>
                      <a:pt x="126" y="123"/>
                    </a:lnTo>
                    <a:lnTo>
                      <a:pt x="119" y="135"/>
                    </a:lnTo>
                    <a:lnTo>
                      <a:pt x="113" y="148"/>
                    </a:lnTo>
                    <a:lnTo>
                      <a:pt x="103" y="176"/>
                    </a:lnTo>
                    <a:lnTo>
                      <a:pt x="99" y="207"/>
                    </a:lnTo>
                    <a:lnTo>
                      <a:pt x="97" y="238"/>
                    </a:lnTo>
                    <a:lnTo>
                      <a:pt x="96" y="267"/>
                    </a:lnTo>
                    <a:lnTo>
                      <a:pt x="96" y="512"/>
                    </a:lnTo>
                    <a:lnTo>
                      <a:pt x="0" y="512"/>
                    </a:lnTo>
                    <a:lnTo>
                      <a:pt x="0" y="15"/>
                    </a:lnTo>
                    <a:lnTo>
                      <a:pt x="96" y="15"/>
                    </a:lnTo>
                    <a:lnTo>
                      <a:pt x="96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908640" y="1022400"/>
                <a:ext cx="9082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a-DK" sz="600" spc="-1" strike="noStrike">
                    <a:solidFill>
                      <a:srgbClr val="ffffff"/>
                    </a:solidFill>
                    <a:latin typeface="Futura Bk BT"/>
                  </a:rPr>
                  <a:t>www.kirktelecom.dk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85720" y="95040"/>
            <a:ext cx="83818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CCFP Administration Program Ver.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94320" y="4773600"/>
            <a:ext cx="51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тановка типа соединения (прямое/через модем)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бор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рта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1 - 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4454640" y="770040"/>
            <a:ext cx="3105000" cy="38955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 flipH="1" flipV="1">
            <a:off x="7010280" y="4266720"/>
            <a:ext cx="1905120" cy="50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875A-FD88-4016-9940-494ACADE6C28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2889360" y="457200"/>
            <a:ext cx="6521400" cy="0"/>
          </a:xfrm>
          <a:prstGeom prst="line">
            <a:avLst/>
          </a:prstGeom>
          <a:ln cap="sq"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0" y="0"/>
            <a:ext cx="6129000" cy="6858000"/>
            <a:chOff x="0" y="0"/>
            <a:chExt cx="6129000" cy="6858000"/>
          </a:xfrm>
        </p:grpSpPr>
        <p:sp>
          <p:nvSpPr>
            <p:cNvPr id="425" name=""/>
            <p:cNvSpPr/>
            <p:nvPr/>
          </p:nvSpPr>
          <p:spPr>
            <a:xfrm>
              <a:off x="0" y="0"/>
              <a:ext cx="2228760" cy="3429000"/>
            </a:xfrm>
            <a:prstGeom prst="rect">
              <a:avLst/>
            </a:prstGeom>
            <a:solidFill>
              <a:srgbClr val="000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0" y="3429000"/>
              <a:ext cx="2228760" cy="3429000"/>
            </a:xfrm>
            <a:prstGeom prst="rect">
              <a:avLst/>
            </a:pr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91836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79924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9" name="" descr=""/>
            <p:cNvPicPr/>
            <p:nvPr/>
          </p:nvPicPr>
          <p:blipFill>
            <a:blip r:embed="rId1"/>
            <a:stretch/>
          </p:blipFill>
          <p:spPr>
            <a:xfrm>
              <a:off x="201240" y="2055960"/>
              <a:ext cx="1705680" cy="271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0" name=""/>
            <p:cNvGrpSpPr/>
            <p:nvPr/>
          </p:nvGrpSpPr>
          <p:grpSpPr>
            <a:xfrm>
              <a:off x="211320" y="380880"/>
              <a:ext cx="1605600" cy="821880"/>
              <a:chOff x="211320" y="380880"/>
              <a:chExt cx="1605600" cy="821880"/>
            </a:xfrm>
          </p:grpSpPr>
          <p:sp>
            <p:nvSpPr>
              <p:cNvPr id="431" name=""/>
              <p:cNvSpPr/>
              <p:nvPr/>
            </p:nvSpPr>
            <p:spPr>
              <a:xfrm>
                <a:off x="403920" y="38088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7">
                    <a:moveTo>
                      <a:pt x="29" y="1655"/>
                    </a:moveTo>
                    <a:lnTo>
                      <a:pt x="79" y="1682"/>
                    </a:lnTo>
                    <a:lnTo>
                      <a:pt x="623" y="1957"/>
                    </a:lnTo>
                    <a:lnTo>
                      <a:pt x="684" y="1987"/>
                    </a:lnTo>
                    <a:lnTo>
                      <a:pt x="687" y="1916"/>
                    </a:lnTo>
                    <a:lnTo>
                      <a:pt x="691" y="1864"/>
                    </a:lnTo>
                    <a:lnTo>
                      <a:pt x="697" y="1814"/>
                    </a:lnTo>
                    <a:lnTo>
                      <a:pt x="704" y="1763"/>
                    </a:lnTo>
                    <a:lnTo>
                      <a:pt x="713" y="1714"/>
                    </a:lnTo>
                    <a:lnTo>
                      <a:pt x="724" y="1665"/>
                    </a:lnTo>
                    <a:lnTo>
                      <a:pt x="737" y="1616"/>
                    </a:lnTo>
                    <a:lnTo>
                      <a:pt x="751" y="1569"/>
                    </a:lnTo>
                    <a:lnTo>
                      <a:pt x="767" y="1522"/>
                    </a:lnTo>
                    <a:lnTo>
                      <a:pt x="784" y="1476"/>
                    </a:lnTo>
                    <a:lnTo>
                      <a:pt x="803" y="1431"/>
                    </a:lnTo>
                    <a:lnTo>
                      <a:pt x="824" y="1386"/>
                    </a:lnTo>
                    <a:lnTo>
                      <a:pt x="846" y="1343"/>
                    </a:lnTo>
                    <a:lnTo>
                      <a:pt x="869" y="1300"/>
                    </a:lnTo>
                    <a:lnTo>
                      <a:pt x="894" y="1257"/>
                    </a:lnTo>
                    <a:lnTo>
                      <a:pt x="920" y="1217"/>
                    </a:lnTo>
                    <a:lnTo>
                      <a:pt x="948" y="1177"/>
                    </a:lnTo>
                    <a:lnTo>
                      <a:pt x="976" y="1137"/>
                    </a:lnTo>
                    <a:lnTo>
                      <a:pt x="1007" y="1100"/>
                    </a:lnTo>
                    <a:lnTo>
                      <a:pt x="1038" y="1063"/>
                    </a:lnTo>
                    <a:lnTo>
                      <a:pt x="1071" y="1027"/>
                    </a:lnTo>
                    <a:lnTo>
                      <a:pt x="1105" y="993"/>
                    </a:lnTo>
                    <a:lnTo>
                      <a:pt x="1140" y="959"/>
                    </a:lnTo>
                    <a:lnTo>
                      <a:pt x="1176" y="927"/>
                    </a:lnTo>
                    <a:lnTo>
                      <a:pt x="1213" y="896"/>
                    </a:lnTo>
                    <a:lnTo>
                      <a:pt x="1250" y="866"/>
                    </a:lnTo>
                    <a:lnTo>
                      <a:pt x="1290" y="838"/>
                    </a:lnTo>
                    <a:lnTo>
                      <a:pt x="1331" y="810"/>
                    </a:lnTo>
                    <a:lnTo>
                      <a:pt x="1372" y="785"/>
                    </a:lnTo>
                    <a:lnTo>
                      <a:pt x="1414" y="760"/>
                    </a:lnTo>
                    <a:lnTo>
                      <a:pt x="1457" y="737"/>
                    </a:lnTo>
                    <a:lnTo>
                      <a:pt x="1501" y="716"/>
                    </a:lnTo>
                    <a:lnTo>
                      <a:pt x="1546" y="696"/>
                    </a:lnTo>
                    <a:lnTo>
                      <a:pt x="1584" y="680"/>
                    </a:lnTo>
                    <a:lnTo>
                      <a:pt x="1594" y="673"/>
                    </a:lnTo>
                    <a:lnTo>
                      <a:pt x="1600" y="665"/>
                    </a:lnTo>
                    <a:lnTo>
                      <a:pt x="1604" y="658"/>
                    </a:lnTo>
                    <a:lnTo>
                      <a:pt x="1606" y="650"/>
                    </a:lnTo>
                    <a:lnTo>
                      <a:pt x="1605" y="638"/>
                    </a:lnTo>
                    <a:lnTo>
                      <a:pt x="1603" y="632"/>
                    </a:lnTo>
                    <a:lnTo>
                      <a:pt x="1586" y="586"/>
                    </a:lnTo>
                    <a:lnTo>
                      <a:pt x="1385" y="31"/>
                    </a:lnTo>
                    <a:lnTo>
                      <a:pt x="1381" y="18"/>
                    </a:lnTo>
                    <a:lnTo>
                      <a:pt x="1380" y="13"/>
                    </a:lnTo>
                    <a:lnTo>
                      <a:pt x="1372" y="5"/>
                    </a:lnTo>
                    <a:lnTo>
                      <a:pt x="1367" y="2"/>
                    </a:lnTo>
                    <a:lnTo>
                      <a:pt x="1359" y="0"/>
                    </a:lnTo>
                    <a:lnTo>
                      <a:pt x="1349" y="0"/>
                    </a:lnTo>
                    <a:lnTo>
                      <a:pt x="1337" y="3"/>
                    </a:lnTo>
                    <a:lnTo>
                      <a:pt x="1307" y="14"/>
                    </a:lnTo>
                    <a:lnTo>
                      <a:pt x="1248" y="37"/>
                    </a:lnTo>
                    <a:lnTo>
                      <a:pt x="1190" y="63"/>
                    </a:lnTo>
                    <a:lnTo>
                      <a:pt x="1133" y="89"/>
                    </a:lnTo>
                    <a:lnTo>
                      <a:pt x="1076" y="119"/>
                    </a:lnTo>
                    <a:lnTo>
                      <a:pt x="1021" y="149"/>
                    </a:lnTo>
                    <a:lnTo>
                      <a:pt x="966" y="181"/>
                    </a:lnTo>
                    <a:lnTo>
                      <a:pt x="913" y="215"/>
                    </a:lnTo>
                    <a:lnTo>
                      <a:pt x="861" y="251"/>
                    </a:lnTo>
                    <a:lnTo>
                      <a:pt x="810" y="289"/>
                    </a:lnTo>
                    <a:lnTo>
                      <a:pt x="759" y="328"/>
                    </a:lnTo>
                    <a:lnTo>
                      <a:pt x="711" y="369"/>
                    </a:lnTo>
                    <a:lnTo>
                      <a:pt x="663" y="411"/>
                    </a:lnTo>
                    <a:lnTo>
                      <a:pt x="616" y="455"/>
                    </a:lnTo>
                    <a:lnTo>
                      <a:pt x="572" y="501"/>
                    </a:lnTo>
                    <a:lnTo>
                      <a:pt x="528" y="547"/>
                    </a:lnTo>
                    <a:lnTo>
                      <a:pt x="485" y="595"/>
                    </a:lnTo>
                    <a:lnTo>
                      <a:pt x="443" y="645"/>
                    </a:lnTo>
                    <a:lnTo>
                      <a:pt x="404" y="695"/>
                    </a:lnTo>
                    <a:lnTo>
                      <a:pt x="365" y="747"/>
                    </a:lnTo>
                    <a:lnTo>
                      <a:pt x="329" y="800"/>
                    </a:lnTo>
                    <a:lnTo>
                      <a:pt x="294" y="854"/>
                    </a:lnTo>
                    <a:lnTo>
                      <a:pt x="260" y="910"/>
                    </a:lnTo>
                    <a:lnTo>
                      <a:pt x="228" y="967"/>
                    </a:lnTo>
                    <a:lnTo>
                      <a:pt x="197" y="1024"/>
                    </a:lnTo>
                    <a:lnTo>
                      <a:pt x="169" y="1084"/>
                    </a:lnTo>
                    <a:lnTo>
                      <a:pt x="142" y="1144"/>
                    </a:lnTo>
                    <a:lnTo>
                      <a:pt x="116" y="1204"/>
                    </a:lnTo>
                    <a:lnTo>
                      <a:pt x="93" y="1266"/>
                    </a:lnTo>
                    <a:lnTo>
                      <a:pt x="71" y="1329"/>
                    </a:lnTo>
                    <a:lnTo>
                      <a:pt x="52" y="1392"/>
                    </a:lnTo>
                    <a:lnTo>
                      <a:pt x="34" y="1457"/>
                    </a:lnTo>
                    <a:lnTo>
                      <a:pt x="18" y="1522"/>
                    </a:lnTo>
                    <a:lnTo>
                      <a:pt x="2" y="1593"/>
                    </a:lnTo>
                    <a:lnTo>
                      <a:pt x="0" y="1610"/>
                    </a:lnTo>
                    <a:lnTo>
                      <a:pt x="1" y="1623"/>
                    </a:lnTo>
                    <a:lnTo>
                      <a:pt x="6" y="1634"/>
                    </a:lnTo>
                    <a:lnTo>
                      <a:pt x="11" y="1643"/>
                    </a:lnTo>
                    <a:lnTo>
                      <a:pt x="17" y="1648"/>
                    </a:lnTo>
                    <a:lnTo>
                      <a:pt x="23" y="1652"/>
                    </a:lnTo>
                    <a:lnTo>
                      <a:pt x="29" y="1655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03920" y="77004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5">
                    <a:moveTo>
                      <a:pt x="29" y="333"/>
                    </a:moveTo>
                    <a:lnTo>
                      <a:pt x="79" y="306"/>
                    </a:lnTo>
                    <a:lnTo>
                      <a:pt x="623" y="31"/>
                    </a:lnTo>
                    <a:lnTo>
                      <a:pt x="684" y="0"/>
                    </a:lnTo>
                    <a:lnTo>
                      <a:pt x="687" y="72"/>
                    </a:lnTo>
                    <a:lnTo>
                      <a:pt x="691" y="123"/>
                    </a:lnTo>
                    <a:lnTo>
                      <a:pt x="697" y="174"/>
                    </a:lnTo>
                    <a:lnTo>
                      <a:pt x="704" y="224"/>
                    </a:lnTo>
                    <a:lnTo>
                      <a:pt x="713" y="273"/>
                    </a:lnTo>
                    <a:lnTo>
                      <a:pt x="724" y="323"/>
                    </a:lnTo>
                    <a:lnTo>
                      <a:pt x="737" y="371"/>
                    </a:lnTo>
                    <a:lnTo>
                      <a:pt x="751" y="418"/>
                    </a:lnTo>
                    <a:lnTo>
                      <a:pt x="767" y="465"/>
                    </a:lnTo>
                    <a:lnTo>
                      <a:pt x="784" y="512"/>
                    </a:lnTo>
                    <a:lnTo>
                      <a:pt x="803" y="557"/>
                    </a:lnTo>
                    <a:lnTo>
                      <a:pt x="824" y="602"/>
                    </a:lnTo>
                    <a:lnTo>
                      <a:pt x="846" y="645"/>
                    </a:lnTo>
                    <a:lnTo>
                      <a:pt x="869" y="688"/>
                    </a:lnTo>
                    <a:lnTo>
                      <a:pt x="894" y="730"/>
                    </a:lnTo>
                    <a:lnTo>
                      <a:pt x="920" y="771"/>
                    </a:lnTo>
                    <a:lnTo>
                      <a:pt x="948" y="811"/>
                    </a:lnTo>
                    <a:lnTo>
                      <a:pt x="976" y="850"/>
                    </a:lnTo>
                    <a:lnTo>
                      <a:pt x="1007" y="888"/>
                    </a:lnTo>
                    <a:lnTo>
                      <a:pt x="1038" y="924"/>
                    </a:lnTo>
                    <a:lnTo>
                      <a:pt x="1071" y="961"/>
                    </a:lnTo>
                    <a:lnTo>
                      <a:pt x="1105" y="995"/>
                    </a:lnTo>
                    <a:lnTo>
                      <a:pt x="1140" y="1029"/>
                    </a:lnTo>
                    <a:lnTo>
                      <a:pt x="1176" y="1061"/>
                    </a:lnTo>
                    <a:lnTo>
                      <a:pt x="1213" y="1092"/>
                    </a:lnTo>
                    <a:lnTo>
                      <a:pt x="1252" y="1122"/>
                    </a:lnTo>
                    <a:lnTo>
                      <a:pt x="1290" y="1151"/>
                    </a:lnTo>
                    <a:lnTo>
                      <a:pt x="1331" y="1177"/>
                    </a:lnTo>
                    <a:lnTo>
                      <a:pt x="1372" y="1203"/>
                    </a:lnTo>
                    <a:lnTo>
                      <a:pt x="1414" y="1227"/>
                    </a:lnTo>
                    <a:lnTo>
                      <a:pt x="1457" y="1250"/>
                    </a:lnTo>
                    <a:lnTo>
                      <a:pt x="1501" y="1271"/>
                    </a:lnTo>
                    <a:lnTo>
                      <a:pt x="1546" y="1292"/>
                    </a:lnTo>
                    <a:lnTo>
                      <a:pt x="1584" y="1308"/>
                    </a:lnTo>
                    <a:lnTo>
                      <a:pt x="1594" y="1315"/>
                    </a:lnTo>
                    <a:lnTo>
                      <a:pt x="1600" y="1323"/>
                    </a:lnTo>
                    <a:lnTo>
                      <a:pt x="1605" y="1331"/>
                    </a:lnTo>
                    <a:lnTo>
                      <a:pt x="1606" y="1337"/>
                    </a:lnTo>
                    <a:lnTo>
                      <a:pt x="1605" y="1349"/>
                    </a:lnTo>
                    <a:lnTo>
                      <a:pt x="1603" y="1355"/>
                    </a:lnTo>
                    <a:lnTo>
                      <a:pt x="1586" y="1401"/>
                    </a:lnTo>
                    <a:lnTo>
                      <a:pt x="1388" y="1950"/>
                    </a:lnTo>
                    <a:lnTo>
                      <a:pt x="1381" y="1965"/>
                    </a:lnTo>
                    <a:lnTo>
                      <a:pt x="1379" y="1970"/>
                    </a:lnTo>
                    <a:lnTo>
                      <a:pt x="1371" y="1978"/>
                    </a:lnTo>
                    <a:lnTo>
                      <a:pt x="1366" y="1983"/>
                    </a:lnTo>
                    <a:lnTo>
                      <a:pt x="1358" y="1985"/>
                    </a:lnTo>
                    <a:lnTo>
                      <a:pt x="1348" y="1985"/>
                    </a:lnTo>
                    <a:lnTo>
                      <a:pt x="1338" y="1983"/>
                    </a:lnTo>
                    <a:lnTo>
                      <a:pt x="1302" y="1969"/>
                    </a:lnTo>
                    <a:lnTo>
                      <a:pt x="1242" y="1942"/>
                    </a:lnTo>
                    <a:lnTo>
                      <a:pt x="1181" y="1915"/>
                    </a:lnTo>
                    <a:lnTo>
                      <a:pt x="1123" y="1886"/>
                    </a:lnTo>
                    <a:lnTo>
                      <a:pt x="1066" y="1857"/>
                    </a:lnTo>
                    <a:lnTo>
                      <a:pt x="1009" y="1824"/>
                    </a:lnTo>
                    <a:lnTo>
                      <a:pt x="954" y="1791"/>
                    </a:lnTo>
                    <a:lnTo>
                      <a:pt x="901" y="1756"/>
                    </a:lnTo>
                    <a:lnTo>
                      <a:pt x="848" y="1719"/>
                    </a:lnTo>
                    <a:lnTo>
                      <a:pt x="796" y="1682"/>
                    </a:lnTo>
                    <a:lnTo>
                      <a:pt x="747" y="1642"/>
                    </a:lnTo>
                    <a:lnTo>
                      <a:pt x="698" y="1602"/>
                    </a:lnTo>
                    <a:lnTo>
                      <a:pt x="650" y="1560"/>
                    </a:lnTo>
                    <a:lnTo>
                      <a:pt x="604" y="1517"/>
                    </a:lnTo>
                    <a:lnTo>
                      <a:pt x="559" y="1472"/>
                    </a:lnTo>
                    <a:lnTo>
                      <a:pt x="517" y="1426"/>
                    </a:lnTo>
                    <a:lnTo>
                      <a:pt x="475" y="1379"/>
                    </a:lnTo>
                    <a:lnTo>
                      <a:pt x="434" y="1331"/>
                    </a:lnTo>
                    <a:lnTo>
                      <a:pt x="395" y="1281"/>
                    </a:lnTo>
                    <a:lnTo>
                      <a:pt x="358" y="1230"/>
                    </a:lnTo>
                    <a:lnTo>
                      <a:pt x="323" y="1178"/>
                    </a:lnTo>
                    <a:lnTo>
                      <a:pt x="287" y="1124"/>
                    </a:lnTo>
                    <a:lnTo>
                      <a:pt x="255" y="1070"/>
                    </a:lnTo>
                    <a:lnTo>
                      <a:pt x="224" y="1014"/>
                    </a:lnTo>
                    <a:lnTo>
                      <a:pt x="194" y="957"/>
                    </a:lnTo>
                    <a:lnTo>
                      <a:pt x="166" y="900"/>
                    </a:lnTo>
                    <a:lnTo>
                      <a:pt x="139" y="841"/>
                    </a:lnTo>
                    <a:lnTo>
                      <a:pt x="115" y="781"/>
                    </a:lnTo>
                    <a:lnTo>
                      <a:pt x="92" y="720"/>
                    </a:lnTo>
                    <a:lnTo>
                      <a:pt x="71" y="658"/>
                    </a:lnTo>
                    <a:lnTo>
                      <a:pt x="52" y="595"/>
                    </a:lnTo>
                    <a:lnTo>
                      <a:pt x="34" y="530"/>
                    </a:lnTo>
                    <a:lnTo>
                      <a:pt x="18" y="465"/>
                    </a:lnTo>
                    <a:lnTo>
                      <a:pt x="3" y="394"/>
                    </a:lnTo>
                    <a:lnTo>
                      <a:pt x="0" y="378"/>
                    </a:lnTo>
                    <a:lnTo>
                      <a:pt x="1" y="364"/>
                    </a:lnTo>
                    <a:lnTo>
                      <a:pt x="6" y="353"/>
                    </a:lnTo>
                    <a:lnTo>
                      <a:pt x="11" y="346"/>
                    </a:lnTo>
                    <a:lnTo>
                      <a:pt x="17" y="339"/>
                    </a:lnTo>
                    <a:lnTo>
                      <a:pt x="23" y="336"/>
                    </a:lnTo>
                    <a:lnTo>
                      <a:pt x="29" y="333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67440" y="698400"/>
                <a:ext cx="149400" cy="147600"/>
              </a:xfrm>
              <a:custGeom>
                <a:avLst/>
                <a:gdLst/>
                <a:ahLst/>
                <a:rect l="l" t="t" r="r" b="b"/>
                <a:pathLst>
                  <a:path w="714" h="759">
                    <a:moveTo>
                      <a:pt x="699" y="379"/>
                    </a:moveTo>
                    <a:lnTo>
                      <a:pt x="706" y="375"/>
                    </a:lnTo>
                    <a:lnTo>
                      <a:pt x="710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09" y="351"/>
                    </a:lnTo>
                    <a:lnTo>
                      <a:pt x="705" y="346"/>
                    </a:lnTo>
                    <a:lnTo>
                      <a:pt x="699" y="342"/>
                    </a:lnTo>
                    <a:lnTo>
                      <a:pt x="35" y="4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3" y="11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735"/>
                    </a:lnTo>
                    <a:lnTo>
                      <a:pt x="1" y="743"/>
                    </a:lnTo>
                    <a:lnTo>
                      <a:pt x="3" y="748"/>
                    </a:lnTo>
                    <a:lnTo>
                      <a:pt x="5" y="753"/>
                    </a:lnTo>
                    <a:lnTo>
                      <a:pt x="10" y="757"/>
                    </a:lnTo>
                    <a:lnTo>
                      <a:pt x="15" y="759"/>
                    </a:lnTo>
                    <a:lnTo>
                      <a:pt x="21" y="759"/>
                    </a:lnTo>
                    <a:lnTo>
                      <a:pt x="27" y="758"/>
                    </a:lnTo>
                    <a:lnTo>
                      <a:pt x="34" y="755"/>
                    </a:lnTo>
                    <a:lnTo>
                      <a:pt x="699" y="379"/>
                    </a:lnTo>
                    <a:close/>
                  </a:path>
                </a:pathLst>
              </a:custGeom>
              <a:solidFill>
                <a:srgbClr val="00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11320" y="701640"/>
                <a:ext cx="149760" cy="146160"/>
              </a:xfrm>
              <a:custGeom>
                <a:avLst/>
                <a:gdLst/>
                <a:ahLst/>
                <a:rect l="l" t="t" r="r" b="b"/>
                <a:pathLst>
                  <a:path w="714" h="758">
                    <a:moveTo>
                      <a:pt x="701" y="379"/>
                    </a:moveTo>
                    <a:lnTo>
                      <a:pt x="706" y="374"/>
                    </a:lnTo>
                    <a:lnTo>
                      <a:pt x="711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11" y="350"/>
                    </a:lnTo>
                    <a:lnTo>
                      <a:pt x="706" y="346"/>
                    </a:lnTo>
                    <a:lnTo>
                      <a:pt x="700" y="342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0" y="734"/>
                    </a:lnTo>
                    <a:lnTo>
                      <a:pt x="1" y="742"/>
                    </a:lnTo>
                    <a:lnTo>
                      <a:pt x="3" y="749"/>
                    </a:lnTo>
                    <a:lnTo>
                      <a:pt x="7" y="753"/>
                    </a:lnTo>
                    <a:lnTo>
                      <a:pt x="10" y="756"/>
                    </a:lnTo>
                    <a:lnTo>
                      <a:pt x="15" y="758"/>
                    </a:lnTo>
                    <a:lnTo>
                      <a:pt x="21" y="758"/>
                    </a:lnTo>
                    <a:lnTo>
                      <a:pt x="27" y="757"/>
                    </a:lnTo>
                    <a:lnTo>
                      <a:pt x="34" y="754"/>
                    </a:lnTo>
                    <a:lnTo>
                      <a:pt x="701" y="379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011960" y="517680"/>
                <a:ext cx="195840" cy="250560"/>
              </a:xfrm>
              <a:custGeom>
                <a:avLst/>
                <a:gdLst/>
                <a:ahLst/>
                <a:rect l="l" t="t" r="r" b="b"/>
                <a:pathLst>
                  <a:path w="930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30" y="1293"/>
                    </a:lnTo>
                    <a:lnTo>
                      <a:pt x="713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230480" y="517680"/>
                <a:ext cx="34200" cy="25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316520" y="517680"/>
                <a:ext cx="168480" cy="250560"/>
              </a:xfrm>
              <a:custGeom>
                <a:avLst/>
                <a:gdLst/>
                <a:ahLst/>
                <a:rect l="l" t="t" r="r" b="b"/>
                <a:pathLst>
                  <a:path w="803" h="1293">
                    <a:moveTo>
                      <a:pt x="803" y="1293"/>
                    </a:moveTo>
                    <a:lnTo>
                      <a:pt x="607" y="1293"/>
                    </a:lnTo>
                    <a:lnTo>
                      <a:pt x="228" y="746"/>
                    </a:lnTo>
                    <a:lnTo>
                      <a:pt x="161" y="746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283" y="1"/>
                    </a:lnTo>
                    <a:lnTo>
                      <a:pt x="327" y="4"/>
                    </a:lnTo>
                    <a:lnTo>
                      <a:pt x="370" y="8"/>
                    </a:lnTo>
                    <a:lnTo>
                      <a:pt x="413" y="16"/>
                    </a:lnTo>
                    <a:lnTo>
                      <a:pt x="456" y="27"/>
                    </a:lnTo>
                    <a:lnTo>
                      <a:pt x="497" y="41"/>
                    </a:lnTo>
                    <a:lnTo>
                      <a:pt x="536" y="61"/>
                    </a:lnTo>
                    <a:lnTo>
                      <a:pt x="556" y="73"/>
                    </a:lnTo>
                    <a:lnTo>
                      <a:pt x="574" y="87"/>
                    </a:lnTo>
                    <a:lnTo>
                      <a:pt x="592" y="101"/>
                    </a:lnTo>
                    <a:lnTo>
                      <a:pt x="608" y="118"/>
                    </a:lnTo>
                    <a:lnTo>
                      <a:pt x="623" y="135"/>
                    </a:lnTo>
                    <a:lnTo>
                      <a:pt x="637" y="153"/>
                    </a:lnTo>
                    <a:lnTo>
                      <a:pt x="650" y="173"/>
                    </a:lnTo>
                    <a:lnTo>
                      <a:pt x="661" y="192"/>
                    </a:lnTo>
                    <a:lnTo>
                      <a:pt x="671" y="212"/>
                    </a:lnTo>
                    <a:lnTo>
                      <a:pt x="680" y="233"/>
                    </a:lnTo>
                    <a:lnTo>
                      <a:pt x="694" y="277"/>
                    </a:lnTo>
                    <a:lnTo>
                      <a:pt x="700" y="300"/>
                    </a:lnTo>
                    <a:lnTo>
                      <a:pt x="703" y="323"/>
                    </a:lnTo>
                    <a:lnTo>
                      <a:pt x="705" y="346"/>
                    </a:lnTo>
                    <a:lnTo>
                      <a:pt x="705" y="369"/>
                    </a:lnTo>
                    <a:lnTo>
                      <a:pt x="704" y="403"/>
                    </a:lnTo>
                    <a:lnTo>
                      <a:pt x="700" y="436"/>
                    </a:lnTo>
                    <a:lnTo>
                      <a:pt x="693" y="469"/>
                    </a:lnTo>
                    <a:lnTo>
                      <a:pt x="683" y="500"/>
                    </a:lnTo>
                    <a:lnTo>
                      <a:pt x="671" y="531"/>
                    </a:lnTo>
                    <a:lnTo>
                      <a:pt x="657" y="558"/>
                    </a:lnTo>
                    <a:lnTo>
                      <a:pt x="639" y="585"/>
                    </a:lnTo>
                    <a:lnTo>
                      <a:pt x="621" y="611"/>
                    </a:lnTo>
                    <a:lnTo>
                      <a:pt x="599" y="634"/>
                    </a:lnTo>
                    <a:lnTo>
                      <a:pt x="576" y="655"/>
                    </a:lnTo>
                    <a:lnTo>
                      <a:pt x="550" y="673"/>
                    </a:lnTo>
                    <a:lnTo>
                      <a:pt x="523" y="691"/>
                    </a:lnTo>
                    <a:lnTo>
                      <a:pt x="493" y="704"/>
                    </a:lnTo>
                    <a:lnTo>
                      <a:pt x="463" y="716"/>
                    </a:lnTo>
                    <a:lnTo>
                      <a:pt x="430" y="725"/>
                    </a:lnTo>
                    <a:lnTo>
                      <a:pt x="396" y="730"/>
                    </a:lnTo>
                    <a:lnTo>
                      <a:pt x="803" y="1293"/>
                    </a:lnTo>
                    <a:close/>
                    <a:moveTo>
                      <a:pt x="161" y="612"/>
                    </a:moveTo>
                    <a:lnTo>
                      <a:pt x="213" y="612"/>
                    </a:lnTo>
                    <a:lnTo>
                      <a:pt x="274" y="611"/>
                    </a:lnTo>
                    <a:lnTo>
                      <a:pt x="335" y="604"/>
                    </a:lnTo>
                    <a:lnTo>
                      <a:pt x="365" y="599"/>
                    </a:lnTo>
                    <a:lnTo>
                      <a:pt x="393" y="591"/>
                    </a:lnTo>
                    <a:lnTo>
                      <a:pt x="420" y="582"/>
                    </a:lnTo>
                    <a:lnTo>
                      <a:pt x="445" y="571"/>
                    </a:lnTo>
                    <a:lnTo>
                      <a:pt x="469" y="557"/>
                    </a:lnTo>
                    <a:lnTo>
                      <a:pt x="490" y="540"/>
                    </a:lnTo>
                    <a:lnTo>
                      <a:pt x="509" y="522"/>
                    </a:lnTo>
                    <a:lnTo>
                      <a:pt x="524" y="499"/>
                    </a:lnTo>
                    <a:lnTo>
                      <a:pt x="537" y="473"/>
                    </a:lnTo>
                    <a:lnTo>
                      <a:pt x="547" y="445"/>
                    </a:lnTo>
                    <a:lnTo>
                      <a:pt x="553" y="412"/>
                    </a:lnTo>
                    <a:lnTo>
                      <a:pt x="555" y="376"/>
                    </a:lnTo>
                    <a:lnTo>
                      <a:pt x="553" y="339"/>
                    </a:lnTo>
                    <a:lnTo>
                      <a:pt x="546" y="308"/>
                    </a:lnTo>
                    <a:lnTo>
                      <a:pt x="536" y="279"/>
                    </a:lnTo>
                    <a:lnTo>
                      <a:pt x="523" y="254"/>
                    </a:lnTo>
                    <a:lnTo>
                      <a:pt x="505" y="232"/>
                    </a:lnTo>
                    <a:lnTo>
                      <a:pt x="486" y="213"/>
                    </a:lnTo>
                    <a:lnTo>
                      <a:pt x="464" y="198"/>
                    </a:lnTo>
                    <a:lnTo>
                      <a:pt x="440" y="184"/>
                    </a:lnTo>
                    <a:lnTo>
                      <a:pt x="413" y="173"/>
                    </a:lnTo>
                    <a:lnTo>
                      <a:pt x="385" y="164"/>
                    </a:lnTo>
                    <a:lnTo>
                      <a:pt x="356" y="157"/>
                    </a:lnTo>
                    <a:lnTo>
                      <a:pt x="325" y="152"/>
                    </a:lnTo>
                    <a:lnTo>
                      <a:pt x="296" y="148"/>
                    </a:lnTo>
                    <a:lnTo>
                      <a:pt x="265" y="146"/>
                    </a:lnTo>
                    <a:lnTo>
                      <a:pt x="204" y="144"/>
                    </a:lnTo>
                    <a:lnTo>
                      <a:pt x="161" y="144"/>
                    </a:lnTo>
                    <a:lnTo>
                      <a:pt x="161" y="6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502280" y="517680"/>
                <a:ext cx="196200" cy="250560"/>
              </a:xfrm>
              <a:custGeom>
                <a:avLst/>
                <a:gdLst/>
                <a:ahLst/>
                <a:rect l="l" t="t" r="r" b="b"/>
                <a:pathLst>
                  <a:path w="929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29" y="1293"/>
                    </a:lnTo>
                    <a:lnTo>
                      <a:pt x="712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999720" y="847800"/>
                <a:ext cx="54720" cy="133200"/>
              </a:xfrm>
              <a:custGeom>
                <a:avLst/>
                <a:gdLst/>
                <a:ahLst/>
                <a:rect l="l" t="t" r="r" b="b"/>
                <a:pathLst>
                  <a:path w="264" h="687">
                    <a:moveTo>
                      <a:pt x="169" y="687"/>
                    </a:moveTo>
                    <a:lnTo>
                      <a:pt x="74" y="687"/>
                    </a:lnTo>
                    <a:lnTo>
                      <a:pt x="74" y="279"/>
                    </a:lnTo>
                    <a:lnTo>
                      <a:pt x="0" y="279"/>
                    </a:lnTo>
                    <a:lnTo>
                      <a:pt x="0" y="190"/>
                    </a:lnTo>
                    <a:lnTo>
                      <a:pt x="74" y="190"/>
                    </a:lnTo>
                    <a:lnTo>
                      <a:pt x="74" y="0"/>
                    </a:lnTo>
                    <a:lnTo>
                      <a:pt x="169" y="0"/>
                    </a:lnTo>
                    <a:lnTo>
                      <a:pt x="169" y="190"/>
                    </a:lnTo>
                    <a:lnTo>
                      <a:pt x="264" y="190"/>
                    </a:lnTo>
                    <a:lnTo>
                      <a:pt x="264" y="279"/>
                    </a:lnTo>
                    <a:lnTo>
                      <a:pt x="169" y="279"/>
                    </a:lnTo>
                    <a:lnTo>
                      <a:pt x="169" y="6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058400" y="882720"/>
                <a:ext cx="9936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5" y="280"/>
                    </a:moveTo>
                    <a:lnTo>
                      <a:pt x="98" y="311"/>
                    </a:lnTo>
                    <a:lnTo>
                      <a:pt x="106" y="341"/>
                    </a:lnTo>
                    <a:lnTo>
                      <a:pt x="119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8" y="415"/>
                    </a:lnTo>
                    <a:lnTo>
                      <a:pt x="170" y="423"/>
                    </a:lnTo>
                    <a:lnTo>
                      <a:pt x="184" y="431"/>
                    </a:lnTo>
                    <a:lnTo>
                      <a:pt x="197" y="437"/>
                    </a:lnTo>
                    <a:lnTo>
                      <a:pt x="213" y="441"/>
                    </a:lnTo>
                    <a:lnTo>
                      <a:pt x="229" y="443"/>
                    </a:lnTo>
                    <a:lnTo>
                      <a:pt x="245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5" y="430"/>
                    </a:lnTo>
                    <a:lnTo>
                      <a:pt x="333" y="418"/>
                    </a:lnTo>
                    <a:lnTo>
                      <a:pt x="351" y="405"/>
                    </a:lnTo>
                    <a:lnTo>
                      <a:pt x="366" y="388"/>
                    </a:lnTo>
                    <a:lnTo>
                      <a:pt x="380" y="368"/>
                    </a:lnTo>
                    <a:lnTo>
                      <a:pt x="394" y="348"/>
                    </a:lnTo>
                    <a:lnTo>
                      <a:pt x="475" y="394"/>
                    </a:lnTo>
                    <a:lnTo>
                      <a:pt x="455" y="424"/>
                    </a:lnTo>
                    <a:lnTo>
                      <a:pt x="433" y="451"/>
                    </a:lnTo>
                    <a:lnTo>
                      <a:pt x="407" y="474"/>
                    </a:lnTo>
                    <a:lnTo>
                      <a:pt x="378" y="494"/>
                    </a:lnTo>
                    <a:lnTo>
                      <a:pt x="347" y="509"/>
                    </a:lnTo>
                    <a:lnTo>
                      <a:pt x="315" y="520"/>
                    </a:lnTo>
                    <a:lnTo>
                      <a:pt x="279" y="528"/>
                    </a:lnTo>
                    <a:lnTo>
                      <a:pt x="244" y="530"/>
                    </a:lnTo>
                    <a:lnTo>
                      <a:pt x="217" y="528"/>
                    </a:lnTo>
                    <a:lnTo>
                      <a:pt x="191" y="524"/>
                    </a:lnTo>
                    <a:lnTo>
                      <a:pt x="165" y="518"/>
                    </a:lnTo>
                    <a:lnTo>
                      <a:pt x="142" y="509"/>
                    </a:lnTo>
                    <a:lnTo>
                      <a:pt x="120" y="498"/>
                    </a:lnTo>
                    <a:lnTo>
                      <a:pt x="101" y="485"/>
                    </a:lnTo>
                    <a:lnTo>
                      <a:pt x="82" y="471"/>
                    </a:lnTo>
                    <a:lnTo>
                      <a:pt x="66" y="454"/>
                    </a:lnTo>
                    <a:lnTo>
                      <a:pt x="50" y="435"/>
                    </a:lnTo>
                    <a:lnTo>
                      <a:pt x="37" y="416"/>
                    </a:lnTo>
                    <a:lnTo>
                      <a:pt x="26" y="394"/>
                    </a:lnTo>
                    <a:lnTo>
                      <a:pt x="16" y="371"/>
                    </a:lnTo>
                    <a:lnTo>
                      <a:pt x="10" y="346"/>
                    </a:lnTo>
                    <a:lnTo>
                      <a:pt x="4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4" y="213"/>
                    </a:lnTo>
                    <a:lnTo>
                      <a:pt x="9" y="186"/>
                    </a:lnTo>
                    <a:lnTo>
                      <a:pt x="15" y="161"/>
                    </a:lnTo>
                    <a:lnTo>
                      <a:pt x="24" y="138"/>
                    </a:lnTo>
                    <a:lnTo>
                      <a:pt x="34" y="116"/>
                    </a:lnTo>
                    <a:lnTo>
                      <a:pt x="47" y="95"/>
                    </a:lnTo>
                    <a:lnTo>
                      <a:pt x="61" y="76"/>
                    </a:lnTo>
                    <a:lnTo>
                      <a:pt x="77" y="60"/>
                    </a:lnTo>
                    <a:lnTo>
                      <a:pt x="95" y="45"/>
                    </a:lnTo>
                    <a:lnTo>
                      <a:pt x="115" y="31"/>
                    </a:lnTo>
                    <a:lnTo>
                      <a:pt x="137" y="20"/>
                    </a:lnTo>
                    <a:lnTo>
                      <a:pt x="160" y="12"/>
                    </a:lnTo>
                    <a:lnTo>
                      <a:pt x="185" y="5"/>
                    </a:lnTo>
                    <a:lnTo>
                      <a:pt x="213" y="2"/>
                    </a:lnTo>
                    <a:lnTo>
                      <a:pt x="242" y="0"/>
                    </a:lnTo>
                    <a:lnTo>
                      <a:pt x="271" y="2"/>
                    </a:lnTo>
                    <a:lnTo>
                      <a:pt x="297" y="5"/>
                    </a:lnTo>
                    <a:lnTo>
                      <a:pt x="322" y="12"/>
                    </a:lnTo>
                    <a:lnTo>
                      <a:pt x="345" y="20"/>
                    </a:lnTo>
                    <a:lnTo>
                      <a:pt x="366" y="31"/>
                    </a:lnTo>
                    <a:lnTo>
                      <a:pt x="385" y="45"/>
                    </a:lnTo>
                    <a:lnTo>
                      <a:pt x="402" y="60"/>
                    </a:lnTo>
                    <a:lnTo>
                      <a:pt x="418" y="76"/>
                    </a:lnTo>
                    <a:lnTo>
                      <a:pt x="431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0" y="161"/>
                    </a:lnTo>
                    <a:lnTo>
                      <a:pt x="467" y="185"/>
                    </a:lnTo>
                    <a:lnTo>
                      <a:pt x="471" y="210"/>
                    </a:lnTo>
                    <a:lnTo>
                      <a:pt x="474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5" y="280"/>
                    </a:lnTo>
                    <a:close/>
                    <a:moveTo>
                      <a:pt x="379" y="207"/>
                    </a:moveTo>
                    <a:lnTo>
                      <a:pt x="373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5" y="117"/>
                    </a:lnTo>
                    <a:lnTo>
                      <a:pt x="316" y="103"/>
                    </a:lnTo>
                    <a:lnTo>
                      <a:pt x="294" y="92"/>
                    </a:lnTo>
                    <a:lnTo>
                      <a:pt x="270" y="85"/>
                    </a:lnTo>
                    <a:lnTo>
                      <a:pt x="242" y="83"/>
                    </a:lnTo>
                    <a:lnTo>
                      <a:pt x="215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1" y="137"/>
                    </a:lnTo>
                    <a:lnTo>
                      <a:pt x="117" y="158"/>
                    </a:lnTo>
                    <a:lnTo>
                      <a:pt x="107" y="182"/>
                    </a:lnTo>
                    <a:lnTo>
                      <a:pt x="101" y="207"/>
                    </a:lnTo>
                    <a:lnTo>
                      <a:pt x="379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177200" y="846000"/>
                <a:ext cx="2052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211400" y="882720"/>
                <a:ext cx="9972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7" y="280"/>
                    </a:moveTo>
                    <a:lnTo>
                      <a:pt x="99" y="311"/>
                    </a:lnTo>
                    <a:lnTo>
                      <a:pt x="108" y="341"/>
                    </a:lnTo>
                    <a:lnTo>
                      <a:pt x="120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9" y="415"/>
                    </a:lnTo>
                    <a:lnTo>
                      <a:pt x="171" y="423"/>
                    </a:lnTo>
                    <a:lnTo>
                      <a:pt x="185" y="431"/>
                    </a:lnTo>
                    <a:lnTo>
                      <a:pt x="199" y="437"/>
                    </a:lnTo>
                    <a:lnTo>
                      <a:pt x="213" y="441"/>
                    </a:lnTo>
                    <a:lnTo>
                      <a:pt x="230" y="443"/>
                    </a:lnTo>
                    <a:lnTo>
                      <a:pt x="246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6" y="430"/>
                    </a:lnTo>
                    <a:lnTo>
                      <a:pt x="335" y="418"/>
                    </a:lnTo>
                    <a:lnTo>
                      <a:pt x="351" y="405"/>
                    </a:lnTo>
                    <a:lnTo>
                      <a:pt x="367" y="388"/>
                    </a:lnTo>
                    <a:lnTo>
                      <a:pt x="381" y="368"/>
                    </a:lnTo>
                    <a:lnTo>
                      <a:pt x="395" y="348"/>
                    </a:lnTo>
                    <a:lnTo>
                      <a:pt x="475" y="394"/>
                    </a:lnTo>
                    <a:lnTo>
                      <a:pt x="457" y="424"/>
                    </a:lnTo>
                    <a:lnTo>
                      <a:pt x="434" y="451"/>
                    </a:lnTo>
                    <a:lnTo>
                      <a:pt x="407" y="474"/>
                    </a:lnTo>
                    <a:lnTo>
                      <a:pt x="379" y="494"/>
                    </a:lnTo>
                    <a:lnTo>
                      <a:pt x="348" y="509"/>
                    </a:lnTo>
                    <a:lnTo>
                      <a:pt x="315" y="520"/>
                    </a:lnTo>
                    <a:lnTo>
                      <a:pt x="281" y="528"/>
                    </a:lnTo>
                    <a:lnTo>
                      <a:pt x="245" y="530"/>
                    </a:lnTo>
                    <a:lnTo>
                      <a:pt x="218" y="528"/>
                    </a:lnTo>
                    <a:lnTo>
                      <a:pt x="191" y="524"/>
                    </a:lnTo>
                    <a:lnTo>
                      <a:pt x="166" y="518"/>
                    </a:lnTo>
                    <a:lnTo>
                      <a:pt x="143" y="509"/>
                    </a:lnTo>
                    <a:lnTo>
                      <a:pt x="121" y="498"/>
                    </a:lnTo>
                    <a:lnTo>
                      <a:pt x="101" y="485"/>
                    </a:lnTo>
                    <a:lnTo>
                      <a:pt x="83" y="471"/>
                    </a:lnTo>
                    <a:lnTo>
                      <a:pt x="66" y="454"/>
                    </a:lnTo>
                    <a:lnTo>
                      <a:pt x="51" y="435"/>
                    </a:lnTo>
                    <a:lnTo>
                      <a:pt x="38" y="416"/>
                    </a:lnTo>
                    <a:lnTo>
                      <a:pt x="27" y="394"/>
                    </a:lnTo>
                    <a:lnTo>
                      <a:pt x="18" y="371"/>
                    </a:lnTo>
                    <a:lnTo>
                      <a:pt x="10" y="346"/>
                    </a:lnTo>
                    <a:lnTo>
                      <a:pt x="5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5" y="213"/>
                    </a:lnTo>
                    <a:lnTo>
                      <a:pt x="9" y="186"/>
                    </a:lnTo>
                    <a:lnTo>
                      <a:pt x="16" y="161"/>
                    </a:lnTo>
                    <a:lnTo>
                      <a:pt x="24" y="138"/>
                    </a:lnTo>
                    <a:lnTo>
                      <a:pt x="35" y="116"/>
                    </a:lnTo>
                    <a:lnTo>
                      <a:pt x="48" y="95"/>
                    </a:lnTo>
                    <a:lnTo>
                      <a:pt x="62" y="76"/>
                    </a:lnTo>
                    <a:lnTo>
                      <a:pt x="78" y="60"/>
                    </a:lnTo>
                    <a:lnTo>
                      <a:pt x="96" y="45"/>
                    </a:lnTo>
                    <a:lnTo>
                      <a:pt x="116" y="31"/>
                    </a:lnTo>
                    <a:lnTo>
                      <a:pt x="137" y="20"/>
                    </a:lnTo>
                    <a:lnTo>
                      <a:pt x="162" y="12"/>
                    </a:lnTo>
                    <a:lnTo>
                      <a:pt x="187" y="5"/>
                    </a:lnTo>
                    <a:lnTo>
                      <a:pt x="214" y="2"/>
                    </a:lnTo>
                    <a:lnTo>
                      <a:pt x="243" y="0"/>
                    </a:lnTo>
                    <a:lnTo>
                      <a:pt x="271" y="2"/>
                    </a:lnTo>
                    <a:lnTo>
                      <a:pt x="299" y="5"/>
                    </a:lnTo>
                    <a:lnTo>
                      <a:pt x="323" y="12"/>
                    </a:lnTo>
                    <a:lnTo>
                      <a:pt x="346" y="20"/>
                    </a:lnTo>
                    <a:lnTo>
                      <a:pt x="367" y="31"/>
                    </a:lnTo>
                    <a:lnTo>
                      <a:pt x="386" y="45"/>
                    </a:lnTo>
                    <a:lnTo>
                      <a:pt x="403" y="60"/>
                    </a:lnTo>
                    <a:lnTo>
                      <a:pt x="418" y="76"/>
                    </a:lnTo>
                    <a:lnTo>
                      <a:pt x="432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1" y="161"/>
                    </a:lnTo>
                    <a:lnTo>
                      <a:pt x="468" y="185"/>
                    </a:lnTo>
                    <a:lnTo>
                      <a:pt x="472" y="210"/>
                    </a:lnTo>
                    <a:lnTo>
                      <a:pt x="475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7" y="280"/>
                    </a:lnTo>
                    <a:close/>
                    <a:moveTo>
                      <a:pt x="380" y="207"/>
                    </a:moveTo>
                    <a:lnTo>
                      <a:pt x="374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6" y="117"/>
                    </a:lnTo>
                    <a:lnTo>
                      <a:pt x="317" y="103"/>
                    </a:lnTo>
                    <a:lnTo>
                      <a:pt x="295" y="92"/>
                    </a:lnTo>
                    <a:lnTo>
                      <a:pt x="270" y="85"/>
                    </a:lnTo>
                    <a:lnTo>
                      <a:pt x="243" y="83"/>
                    </a:lnTo>
                    <a:lnTo>
                      <a:pt x="216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2" y="137"/>
                    </a:lnTo>
                    <a:lnTo>
                      <a:pt x="119" y="158"/>
                    </a:lnTo>
                    <a:lnTo>
                      <a:pt x="108" y="182"/>
                    </a:lnTo>
                    <a:lnTo>
                      <a:pt x="101" y="207"/>
                    </a:lnTo>
                    <a:lnTo>
                      <a:pt x="380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326960" y="882720"/>
                <a:ext cx="84240" cy="101520"/>
              </a:xfrm>
              <a:custGeom>
                <a:avLst/>
                <a:gdLst/>
                <a:ahLst/>
                <a:rect l="l" t="t" r="r" b="b"/>
                <a:pathLst>
                  <a:path w="404" h="530">
                    <a:moveTo>
                      <a:pt x="404" y="157"/>
                    </a:moveTo>
                    <a:lnTo>
                      <a:pt x="389" y="141"/>
                    </a:lnTo>
                    <a:lnTo>
                      <a:pt x="373" y="127"/>
                    </a:lnTo>
                    <a:lnTo>
                      <a:pt x="358" y="116"/>
                    </a:lnTo>
                    <a:lnTo>
                      <a:pt x="340" y="106"/>
                    </a:lnTo>
                    <a:lnTo>
                      <a:pt x="321" y="99"/>
                    </a:lnTo>
                    <a:lnTo>
                      <a:pt x="303" y="94"/>
                    </a:lnTo>
                    <a:lnTo>
                      <a:pt x="283" y="91"/>
                    </a:lnTo>
                    <a:lnTo>
                      <a:pt x="261" y="90"/>
                    </a:lnTo>
                    <a:lnTo>
                      <a:pt x="245" y="91"/>
                    </a:lnTo>
                    <a:lnTo>
                      <a:pt x="227" y="93"/>
                    </a:lnTo>
                    <a:lnTo>
                      <a:pt x="212" y="97"/>
                    </a:lnTo>
                    <a:lnTo>
                      <a:pt x="196" y="104"/>
                    </a:lnTo>
                    <a:lnTo>
                      <a:pt x="182" y="112"/>
                    </a:lnTo>
                    <a:lnTo>
                      <a:pt x="168" y="120"/>
                    </a:lnTo>
                    <a:lnTo>
                      <a:pt x="156" y="130"/>
                    </a:lnTo>
                    <a:lnTo>
                      <a:pt x="144" y="142"/>
                    </a:lnTo>
                    <a:lnTo>
                      <a:pt x="133" y="154"/>
                    </a:lnTo>
                    <a:lnTo>
                      <a:pt x="124" y="169"/>
                    </a:lnTo>
                    <a:lnTo>
                      <a:pt x="115" y="183"/>
                    </a:lnTo>
                    <a:lnTo>
                      <a:pt x="109" y="198"/>
                    </a:lnTo>
                    <a:lnTo>
                      <a:pt x="103" y="214"/>
                    </a:lnTo>
                    <a:lnTo>
                      <a:pt x="99" y="230"/>
                    </a:lnTo>
                    <a:lnTo>
                      <a:pt x="97" y="247"/>
                    </a:lnTo>
                    <a:lnTo>
                      <a:pt x="96" y="264"/>
                    </a:lnTo>
                    <a:lnTo>
                      <a:pt x="97" y="283"/>
                    </a:lnTo>
                    <a:lnTo>
                      <a:pt x="99" y="300"/>
                    </a:lnTo>
                    <a:lnTo>
                      <a:pt x="103" y="318"/>
                    </a:lnTo>
                    <a:lnTo>
                      <a:pt x="109" y="334"/>
                    </a:lnTo>
                    <a:lnTo>
                      <a:pt x="115" y="350"/>
                    </a:lnTo>
                    <a:lnTo>
                      <a:pt x="124" y="364"/>
                    </a:lnTo>
                    <a:lnTo>
                      <a:pt x="133" y="378"/>
                    </a:lnTo>
                    <a:lnTo>
                      <a:pt x="144" y="390"/>
                    </a:lnTo>
                    <a:lnTo>
                      <a:pt x="156" y="401"/>
                    </a:lnTo>
                    <a:lnTo>
                      <a:pt x="169" y="411"/>
                    </a:lnTo>
                    <a:lnTo>
                      <a:pt x="183" y="420"/>
                    </a:lnTo>
                    <a:lnTo>
                      <a:pt x="199" y="427"/>
                    </a:lnTo>
                    <a:lnTo>
                      <a:pt x="215" y="432"/>
                    </a:lnTo>
                    <a:lnTo>
                      <a:pt x="232" y="437"/>
                    </a:lnTo>
                    <a:lnTo>
                      <a:pt x="249" y="439"/>
                    </a:lnTo>
                    <a:lnTo>
                      <a:pt x="268" y="440"/>
                    </a:lnTo>
                    <a:lnTo>
                      <a:pt x="289" y="439"/>
                    </a:lnTo>
                    <a:lnTo>
                      <a:pt x="307" y="435"/>
                    </a:lnTo>
                    <a:lnTo>
                      <a:pt x="326" y="430"/>
                    </a:lnTo>
                    <a:lnTo>
                      <a:pt x="343" y="422"/>
                    </a:lnTo>
                    <a:lnTo>
                      <a:pt x="360" y="412"/>
                    </a:lnTo>
                    <a:lnTo>
                      <a:pt x="375" y="401"/>
                    </a:lnTo>
                    <a:lnTo>
                      <a:pt x="389" y="388"/>
                    </a:lnTo>
                    <a:lnTo>
                      <a:pt x="404" y="374"/>
                    </a:lnTo>
                    <a:lnTo>
                      <a:pt x="404" y="497"/>
                    </a:lnTo>
                    <a:lnTo>
                      <a:pt x="371" y="511"/>
                    </a:lnTo>
                    <a:lnTo>
                      <a:pt x="338" y="522"/>
                    </a:lnTo>
                    <a:lnTo>
                      <a:pt x="303" y="528"/>
                    </a:lnTo>
                    <a:lnTo>
                      <a:pt x="267" y="530"/>
                    </a:lnTo>
                    <a:lnTo>
                      <a:pt x="239" y="528"/>
                    </a:lnTo>
                    <a:lnTo>
                      <a:pt x="213" y="524"/>
                    </a:lnTo>
                    <a:lnTo>
                      <a:pt x="188" y="518"/>
                    </a:lnTo>
                    <a:lnTo>
                      <a:pt x="164" y="509"/>
                    </a:lnTo>
                    <a:lnTo>
                      <a:pt x="140" y="499"/>
                    </a:lnTo>
                    <a:lnTo>
                      <a:pt x="119" y="486"/>
                    </a:lnTo>
                    <a:lnTo>
                      <a:pt x="98" y="472"/>
                    </a:lnTo>
                    <a:lnTo>
                      <a:pt x="79" y="454"/>
                    </a:lnTo>
                    <a:lnTo>
                      <a:pt x="62" y="437"/>
                    </a:lnTo>
                    <a:lnTo>
                      <a:pt x="46" y="416"/>
                    </a:lnTo>
                    <a:lnTo>
                      <a:pt x="33" y="395"/>
                    </a:lnTo>
                    <a:lnTo>
                      <a:pt x="21" y="372"/>
                    </a:lnTo>
                    <a:lnTo>
                      <a:pt x="12" y="348"/>
                    </a:lnTo>
                    <a:lnTo>
                      <a:pt x="6" y="322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6" y="213"/>
                    </a:lnTo>
                    <a:lnTo>
                      <a:pt x="12" y="186"/>
                    </a:lnTo>
                    <a:lnTo>
                      <a:pt x="21" y="161"/>
                    </a:lnTo>
                    <a:lnTo>
                      <a:pt x="33" y="138"/>
                    </a:lnTo>
                    <a:lnTo>
                      <a:pt x="46" y="115"/>
                    </a:lnTo>
                    <a:lnTo>
                      <a:pt x="62" y="95"/>
                    </a:lnTo>
                    <a:lnTo>
                      <a:pt x="79" y="76"/>
                    </a:lnTo>
                    <a:lnTo>
                      <a:pt x="98" y="59"/>
                    </a:lnTo>
                    <a:lnTo>
                      <a:pt x="119" y="45"/>
                    </a:lnTo>
                    <a:lnTo>
                      <a:pt x="142" y="31"/>
                    </a:lnTo>
                    <a:lnTo>
                      <a:pt x="165" y="20"/>
                    </a:lnTo>
                    <a:lnTo>
                      <a:pt x="190" y="12"/>
                    </a:lnTo>
                    <a:lnTo>
                      <a:pt x="216" y="5"/>
                    </a:lnTo>
                    <a:lnTo>
                      <a:pt x="244" y="2"/>
                    </a:lnTo>
                    <a:lnTo>
                      <a:pt x="272" y="0"/>
                    </a:lnTo>
                    <a:lnTo>
                      <a:pt x="306" y="2"/>
                    </a:lnTo>
                    <a:lnTo>
                      <a:pt x="340" y="8"/>
                    </a:lnTo>
                    <a:lnTo>
                      <a:pt x="373" y="18"/>
                    </a:lnTo>
                    <a:lnTo>
                      <a:pt x="404" y="32"/>
                    </a:lnTo>
                    <a:lnTo>
                      <a:pt x="404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423440" y="882720"/>
                <a:ext cx="111600" cy="101520"/>
              </a:xfrm>
              <a:custGeom>
                <a:avLst/>
                <a:gdLst/>
                <a:ahLst/>
                <a:rect l="l" t="t" r="r" b="b"/>
                <a:pathLst>
                  <a:path w="532" h="530">
                    <a:moveTo>
                      <a:pt x="532" y="264"/>
                    </a:moveTo>
                    <a:lnTo>
                      <a:pt x="530" y="293"/>
                    </a:lnTo>
                    <a:lnTo>
                      <a:pt x="527" y="319"/>
                    </a:lnTo>
                    <a:lnTo>
                      <a:pt x="520" y="344"/>
                    </a:lnTo>
                    <a:lnTo>
                      <a:pt x="511" y="370"/>
                    </a:lnTo>
                    <a:lnTo>
                      <a:pt x="501" y="393"/>
                    </a:lnTo>
                    <a:lnTo>
                      <a:pt x="487" y="415"/>
                    </a:lnTo>
                    <a:lnTo>
                      <a:pt x="472" y="434"/>
                    </a:lnTo>
                    <a:lnTo>
                      <a:pt x="454" y="453"/>
                    </a:lnTo>
                    <a:lnTo>
                      <a:pt x="436" y="471"/>
                    </a:lnTo>
                    <a:lnTo>
                      <a:pt x="416" y="485"/>
                    </a:lnTo>
                    <a:lnTo>
                      <a:pt x="394" y="498"/>
                    </a:lnTo>
                    <a:lnTo>
                      <a:pt x="370" y="509"/>
                    </a:lnTo>
                    <a:lnTo>
                      <a:pt x="346" y="518"/>
                    </a:lnTo>
                    <a:lnTo>
                      <a:pt x="321" y="524"/>
                    </a:lnTo>
                    <a:lnTo>
                      <a:pt x="293" y="528"/>
                    </a:lnTo>
                    <a:lnTo>
                      <a:pt x="266" y="530"/>
                    </a:lnTo>
                    <a:lnTo>
                      <a:pt x="238" y="528"/>
                    </a:lnTo>
                    <a:lnTo>
                      <a:pt x="212" y="524"/>
                    </a:lnTo>
                    <a:lnTo>
                      <a:pt x="187" y="518"/>
                    </a:lnTo>
                    <a:lnTo>
                      <a:pt x="162" y="509"/>
                    </a:lnTo>
                    <a:lnTo>
                      <a:pt x="139" y="498"/>
                    </a:lnTo>
                    <a:lnTo>
                      <a:pt x="117" y="485"/>
                    </a:lnTo>
                    <a:lnTo>
                      <a:pt x="97" y="471"/>
                    </a:lnTo>
                    <a:lnTo>
                      <a:pt x="78" y="453"/>
                    </a:lnTo>
                    <a:lnTo>
                      <a:pt x="61" y="434"/>
                    </a:lnTo>
                    <a:lnTo>
                      <a:pt x="45" y="415"/>
                    </a:lnTo>
                    <a:lnTo>
                      <a:pt x="32" y="393"/>
                    </a:lnTo>
                    <a:lnTo>
                      <a:pt x="21" y="370"/>
                    </a:lnTo>
                    <a:lnTo>
                      <a:pt x="12" y="344"/>
                    </a:lnTo>
                    <a:lnTo>
                      <a:pt x="6" y="319"/>
                    </a:lnTo>
                    <a:lnTo>
                      <a:pt x="3" y="293"/>
                    </a:lnTo>
                    <a:lnTo>
                      <a:pt x="0" y="264"/>
                    </a:lnTo>
                    <a:lnTo>
                      <a:pt x="3" y="237"/>
                    </a:lnTo>
                    <a:lnTo>
                      <a:pt x="6" y="210"/>
                    </a:lnTo>
                    <a:lnTo>
                      <a:pt x="12" y="185"/>
                    </a:lnTo>
                    <a:lnTo>
                      <a:pt x="21" y="160"/>
                    </a:lnTo>
                    <a:lnTo>
                      <a:pt x="32" y="137"/>
                    </a:lnTo>
                    <a:lnTo>
                      <a:pt x="45" y="115"/>
                    </a:lnTo>
                    <a:lnTo>
                      <a:pt x="61" y="95"/>
                    </a:lnTo>
                    <a:lnTo>
                      <a:pt x="78" y="76"/>
                    </a:lnTo>
                    <a:lnTo>
                      <a:pt x="97" y="59"/>
                    </a:lnTo>
                    <a:lnTo>
                      <a:pt x="117" y="45"/>
                    </a:lnTo>
                    <a:lnTo>
                      <a:pt x="139" y="31"/>
                    </a:lnTo>
                    <a:lnTo>
                      <a:pt x="162" y="20"/>
                    </a:lnTo>
                    <a:lnTo>
                      <a:pt x="187" y="12"/>
                    </a:lnTo>
                    <a:lnTo>
                      <a:pt x="212" y="5"/>
                    </a:lnTo>
                    <a:lnTo>
                      <a:pt x="238" y="2"/>
                    </a:lnTo>
                    <a:lnTo>
                      <a:pt x="266" y="0"/>
                    </a:lnTo>
                    <a:lnTo>
                      <a:pt x="293" y="2"/>
                    </a:lnTo>
                    <a:lnTo>
                      <a:pt x="321" y="5"/>
                    </a:lnTo>
                    <a:lnTo>
                      <a:pt x="346" y="12"/>
                    </a:lnTo>
                    <a:lnTo>
                      <a:pt x="370" y="20"/>
                    </a:lnTo>
                    <a:lnTo>
                      <a:pt x="394" y="31"/>
                    </a:lnTo>
                    <a:lnTo>
                      <a:pt x="416" y="45"/>
                    </a:lnTo>
                    <a:lnTo>
                      <a:pt x="436" y="59"/>
                    </a:lnTo>
                    <a:lnTo>
                      <a:pt x="454" y="76"/>
                    </a:lnTo>
                    <a:lnTo>
                      <a:pt x="472" y="95"/>
                    </a:lnTo>
                    <a:lnTo>
                      <a:pt x="487" y="115"/>
                    </a:lnTo>
                    <a:lnTo>
                      <a:pt x="501" y="137"/>
                    </a:lnTo>
                    <a:lnTo>
                      <a:pt x="511" y="160"/>
                    </a:lnTo>
                    <a:lnTo>
                      <a:pt x="520" y="185"/>
                    </a:lnTo>
                    <a:lnTo>
                      <a:pt x="527" y="210"/>
                    </a:lnTo>
                    <a:lnTo>
                      <a:pt x="530" y="237"/>
                    </a:lnTo>
                    <a:lnTo>
                      <a:pt x="532" y="264"/>
                    </a:lnTo>
                    <a:close/>
                    <a:moveTo>
                      <a:pt x="96" y="264"/>
                    </a:moveTo>
                    <a:lnTo>
                      <a:pt x="97" y="282"/>
                    </a:lnTo>
                    <a:lnTo>
                      <a:pt x="100" y="299"/>
                    </a:lnTo>
                    <a:lnTo>
                      <a:pt x="103" y="316"/>
                    </a:lnTo>
                    <a:lnTo>
                      <a:pt x="110" y="331"/>
                    </a:lnTo>
                    <a:lnTo>
                      <a:pt x="117" y="346"/>
                    </a:lnTo>
                    <a:lnTo>
                      <a:pt x="125" y="361"/>
                    </a:lnTo>
                    <a:lnTo>
                      <a:pt x="135" y="374"/>
                    </a:lnTo>
                    <a:lnTo>
                      <a:pt x="146" y="386"/>
                    </a:lnTo>
                    <a:lnTo>
                      <a:pt x="158" y="398"/>
                    </a:lnTo>
                    <a:lnTo>
                      <a:pt x="171" y="408"/>
                    </a:lnTo>
                    <a:lnTo>
                      <a:pt x="185" y="417"/>
                    </a:lnTo>
                    <a:lnTo>
                      <a:pt x="200" y="424"/>
                    </a:lnTo>
                    <a:lnTo>
                      <a:pt x="215" y="430"/>
                    </a:lnTo>
                    <a:lnTo>
                      <a:pt x="232" y="434"/>
                    </a:lnTo>
                    <a:lnTo>
                      <a:pt x="248" y="437"/>
                    </a:lnTo>
                    <a:lnTo>
                      <a:pt x="266" y="438"/>
                    </a:lnTo>
                    <a:lnTo>
                      <a:pt x="283" y="437"/>
                    </a:lnTo>
                    <a:lnTo>
                      <a:pt x="301" y="434"/>
                    </a:lnTo>
                    <a:lnTo>
                      <a:pt x="317" y="430"/>
                    </a:lnTo>
                    <a:lnTo>
                      <a:pt x="333" y="424"/>
                    </a:lnTo>
                    <a:lnTo>
                      <a:pt x="348" y="417"/>
                    </a:lnTo>
                    <a:lnTo>
                      <a:pt x="361" y="408"/>
                    </a:lnTo>
                    <a:lnTo>
                      <a:pt x="374" y="398"/>
                    </a:lnTo>
                    <a:lnTo>
                      <a:pt x="386" y="386"/>
                    </a:lnTo>
                    <a:lnTo>
                      <a:pt x="397" y="374"/>
                    </a:lnTo>
                    <a:lnTo>
                      <a:pt x="407" y="361"/>
                    </a:lnTo>
                    <a:lnTo>
                      <a:pt x="416" y="346"/>
                    </a:lnTo>
                    <a:lnTo>
                      <a:pt x="423" y="331"/>
                    </a:lnTo>
                    <a:lnTo>
                      <a:pt x="428" y="316"/>
                    </a:lnTo>
                    <a:lnTo>
                      <a:pt x="433" y="299"/>
                    </a:lnTo>
                    <a:lnTo>
                      <a:pt x="436" y="282"/>
                    </a:lnTo>
                    <a:lnTo>
                      <a:pt x="436" y="264"/>
                    </a:lnTo>
                    <a:lnTo>
                      <a:pt x="436" y="248"/>
                    </a:lnTo>
                    <a:lnTo>
                      <a:pt x="433" y="230"/>
                    </a:lnTo>
                    <a:lnTo>
                      <a:pt x="428" y="214"/>
                    </a:lnTo>
                    <a:lnTo>
                      <a:pt x="423" y="197"/>
                    </a:lnTo>
                    <a:lnTo>
                      <a:pt x="416" y="183"/>
                    </a:lnTo>
                    <a:lnTo>
                      <a:pt x="407" y="169"/>
                    </a:lnTo>
                    <a:lnTo>
                      <a:pt x="397" y="154"/>
                    </a:lnTo>
                    <a:lnTo>
                      <a:pt x="386" y="142"/>
                    </a:lnTo>
                    <a:lnTo>
                      <a:pt x="374" y="131"/>
                    </a:lnTo>
                    <a:lnTo>
                      <a:pt x="361" y="121"/>
                    </a:lnTo>
                    <a:lnTo>
                      <a:pt x="348" y="113"/>
                    </a:lnTo>
                    <a:lnTo>
                      <a:pt x="333" y="105"/>
                    </a:lnTo>
                    <a:lnTo>
                      <a:pt x="317" y="99"/>
                    </a:lnTo>
                    <a:lnTo>
                      <a:pt x="301" y="95"/>
                    </a:lnTo>
                    <a:lnTo>
                      <a:pt x="283" y="92"/>
                    </a:lnTo>
                    <a:lnTo>
                      <a:pt x="266" y="92"/>
                    </a:lnTo>
                    <a:lnTo>
                      <a:pt x="248" y="92"/>
                    </a:lnTo>
                    <a:lnTo>
                      <a:pt x="232" y="95"/>
                    </a:lnTo>
                    <a:lnTo>
                      <a:pt x="215" y="99"/>
                    </a:lnTo>
                    <a:lnTo>
                      <a:pt x="200" y="105"/>
                    </a:lnTo>
                    <a:lnTo>
                      <a:pt x="185" y="113"/>
                    </a:lnTo>
                    <a:lnTo>
                      <a:pt x="171" y="121"/>
                    </a:lnTo>
                    <a:lnTo>
                      <a:pt x="158" y="131"/>
                    </a:lnTo>
                    <a:lnTo>
                      <a:pt x="146" y="142"/>
                    </a:lnTo>
                    <a:lnTo>
                      <a:pt x="135" y="154"/>
                    </a:lnTo>
                    <a:lnTo>
                      <a:pt x="125" y="169"/>
                    </a:lnTo>
                    <a:lnTo>
                      <a:pt x="117" y="183"/>
                    </a:lnTo>
                    <a:lnTo>
                      <a:pt x="110" y="197"/>
                    </a:lnTo>
                    <a:lnTo>
                      <a:pt x="103" y="214"/>
                    </a:lnTo>
                    <a:lnTo>
                      <a:pt x="100" y="230"/>
                    </a:lnTo>
                    <a:lnTo>
                      <a:pt x="97" y="248"/>
                    </a:lnTo>
                    <a:lnTo>
                      <a:pt x="96" y="2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549440" y="882720"/>
                <a:ext cx="144360" cy="98280"/>
              </a:xfrm>
              <a:custGeom>
                <a:avLst/>
                <a:gdLst/>
                <a:ahLst/>
                <a:rect l="l" t="t" r="r" b="b"/>
                <a:pathLst>
                  <a:path w="690" h="512">
                    <a:moveTo>
                      <a:pt x="96" y="77"/>
                    </a:moveTo>
                    <a:lnTo>
                      <a:pt x="98" y="77"/>
                    </a:lnTo>
                    <a:lnTo>
                      <a:pt x="109" y="62"/>
                    </a:lnTo>
                    <a:lnTo>
                      <a:pt x="122" y="47"/>
                    </a:lnTo>
                    <a:lnTo>
                      <a:pt x="137" y="34"/>
                    </a:lnTo>
                    <a:lnTo>
                      <a:pt x="154" y="23"/>
                    </a:lnTo>
                    <a:lnTo>
                      <a:pt x="171" y="13"/>
                    </a:lnTo>
                    <a:lnTo>
                      <a:pt x="190" y="6"/>
                    </a:lnTo>
                    <a:lnTo>
                      <a:pt x="210" y="2"/>
                    </a:lnTo>
                    <a:lnTo>
                      <a:pt x="229" y="0"/>
                    </a:lnTo>
                    <a:lnTo>
                      <a:pt x="253" y="2"/>
                    </a:lnTo>
                    <a:lnTo>
                      <a:pt x="274" y="6"/>
                    </a:lnTo>
                    <a:lnTo>
                      <a:pt x="295" y="13"/>
                    </a:lnTo>
                    <a:lnTo>
                      <a:pt x="314" y="24"/>
                    </a:lnTo>
                    <a:lnTo>
                      <a:pt x="330" y="36"/>
                    </a:lnTo>
                    <a:lnTo>
                      <a:pt x="346" y="51"/>
                    </a:lnTo>
                    <a:lnTo>
                      <a:pt x="360" y="69"/>
                    </a:lnTo>
                    <a:lnTo>
                      <a:pt x="373" y="88"/>
                    </a:lnTo>
                    <a:lnTo>
                      <a:pt x="385" y="69"/>
                    </a:lnTo>
                    <a:lnTo>
                      <a:pt x="401" y="52"/>
                    </a:lnTo>
                    <a:lnTo>
                      <a:pt x="418" y="37"/>
                    </a:lnTo>
                    <a:lnTo>
                      <a:pt x="438" y="24"/>
                    </a:lnTo>
                    <a:lnTo>
                      <a:pt x="458" y="14"/>
                    </a:lnTo>
                    <a:lnTo>
                      <a:pt x="480" y="6"/>
                    </a:lnTo>
                    <a:lnTo>
                      <a:pt x="503" y="2"/>
                    </a:lnTo>
                    <a:lnTo>
                      <a:pt x="526" y="0"/>
                    </a:lnTo>
                    <a:lnTo>
                      <a:pt x="550" y="1"/>
                    </a:lnTo>
                    <a:lnTo>
                      <a:pt x="571" y="5"/>
                    </a:lnTo>
                    <a:lnTo>
                      <a:pt x="589" y="11"/>
                    </a:lnTo>
                    <a:lnTo>
                      <a:pt x="607" y="17"/>
                    </a:lnTo>
                    <a:lnTo>
                      <a:pt x="622" y="27"/>
                    </a:lnTo>
                    <a:lnTo>
                      <a:pt x="635" y="38"/>
                    </a:lnTo>
                    <a:lnTo>
                      <a:pt x="647" y="51"/>
                    </a:lnTo>
                    <a:lnTo>
                      <a:pt x="657" y="65"/>
                    </a:lnTo>
                    <a:lnTo>
                      <a:pt x="666" y="81"/>
                    </a:lnTo>
                    <a:lnTo>
                      <a:pt x="673" y="97"/>
                    </a:lnTo>
                    <a:lnTo>
                      <a:pt x="678" y="115"/>
                    </a:lnTo>
                    <a:lnTo>
                      <a:pt x="684" y="133"/>
                    </a:lnTo>
                    <a:lnTo>
                      <a:pt x="689" y="173"/>
                    </a:lnTo>
                    <a:lnTo>
                      <a:pt x="690" y="215"/>
                    </a:lnTo>
                    <a:lnTo>
                      <a:pt x="690" y="512"/>
                    </a:lnTo>
                    <a:lnTo>
                      <a:pt x="595" y="512"/>
                    </a:lnTo>
                    <a:lnTo>
                      <a:pt x="595" y="230"/>
                    </a:lnTo>
                    <a:lnTo>
                      <a:pt x="595" y="206"/>
                    </a:lnTo>
                    <a:lnTo>
                      <a:pt x="593" y="181"/>
                    </a:lnTo>
                    <a:lnTo>
                      <a:pt x="588" y="157"/>
                    </a:lnTo>
                    <a:lnTo>
                      <a:pt x="580" y="133"/>
                    </a:lnTo>
                    <a:lnTo>
                      <a:pt x="568" y="114"/>
                    </a:lnTo>
                    <a:lnTo>
                      <a:pt x="561" y="106"/>
                    </a:lnTo>
                    <a:lnTo>
                      <a:pt x="552" y="98"/>
                    </a:lnTo>
                    <a:lnTo>
                      <a:pt x="542" y="93"/>
                    </a:lnTo>
                    <a:lnTo>
                      <a:pt x="531" y="88"/>
                    </a:lnTo>
                    <a:lnTo>
                      <a:pt x="517" y="86"/>
                    </a:lnTo>
                    <a:lnTo>
                      <a:pt x="503" y="85"/>
                    </a:lnTo>
                    <a:lnTo>
                      <a:pt x="484" y="86"/>
                    </a:lnTo>
                    <a:lnTo>
                      <a:pt x="469" y="90"/>
                    </a:lnTo>
                    <a:lnTo>
                      <a:pt x="454" y="95"/>
                    </a:lnTo>
                    <a:lnTo>
                      <a:pt x="442" y="103"/>
                    </a:lnTo>
                    <a:lnTo>
                      <a:pt x="432" y="112"/>
                    </a:lnTo>
                    <a:lnTo>
                      <a:pt x="423" y="123"/>
                    </a:lnTo>
                    <a:lnTo>
                      <a:pt x="416" y="135"/>
                    </a:lnTo>
                    <a:lnTo>
                      <a:pt x="409" y="148"/>
                    </a:lnTo>
                    <a:lnTo>
                      <a:pt x="401" y="176"/>
                    </a:lnTo>
                    <a:lnTo>
                      <a:pt x="396" y="207"/>
                    </a:lnTo>
                    <a:lnTo>
                      <a:pt x="394" y="238"/>
                    </a:lnTo>
                    <a:lnTo>
                      <a:pt x="393" y="267"/>
                    </a:lnTo>
                    <a:lnTo>
                      <a:pt x="393" y="512"/>
                    </a:lnTo>
                    <a:lnTo>
                      <a:pt x="297" y="512"/>
                    </a:lnTo>
                    <a:lnTo>
                      <a:pt x="297" y="249"/>
                    </a:lnTo>
                    <a:lnTo>
                      <a:pt x="297" y="224"/>
                    </a:lnTo>
                    <a:lnTo>
                      <a:pt x="295" y="196"/>
                    </a:lnTo>
                    <a:lnTo>
                      <a:pt x="292" y="169"/>
                    </a:lnTo>
                    <a:lnTo>
                      <a:pt x="285" y="142"/>
                    </a:lnTo>
                    <a:lnTo>
                      <a:pt x="280" y="130"/>
                    </a:lnTo>
                    <a:lnTo>
                      <a:pt x="273" y="119"/>
                    </a:lnTo>
                    <a:lnTo>
                      <a:pt x="267" y="110"/>
                    </a:lnTo>
                    <a:lnTo>
                      <a:pt x="258" y="102"/>
                    </a:lnTo>
                    <a:lnTo>
                      <a:pt x="247" y="95"/>
                    </a:lnTo>
                    <a:lnTo>
                      <a:pt x="235" y="90"/>
                    </a:lnTo>
                    <a:lnTo>
                      <a:pt x="222" y="86"/>
                    </a:lnTo>
                    <a:lnTo>
                      <a:pt x="206" y="85"/>
                    </a:lnTo>
                    <a:lnTo>
                      <a:pt x="188" y="86"/>
                    </a:lnTo>
                    <a:lnTo>
                      <a:pt x="172" y="90"/>
                    </a:lnTo>
                    <a:lnTo>
                      <a:pt x="158" y="95"/>
                    </a:lnTo>
                    <a:lnTo>
                      <a:pt x="146" y="103"/>
                    </a:lnTo>
                    <a:lnTo>
                      <a:pt x="135" y="112"/>
                    </a:lnTo>
                    <a:lnTo>
                      <a:pt x="126" y="123"/>
                    </a:lnTo>
                    <a:lnTo>
                      <a:pt x="119" y="135"/>
                    </a:lnTo>
                    <a:lnTo>
                      <a:pt x="113" y="148"/>
                    </a:lnTo>
                    <a:lnTo>
                      <a:pt x="103" y="176"/>
                    </a:lnTo>
                    <a:lnTo>
                      <a:pt x="99" y="207"/>
                    </a:lnTo>
                    <a:lnTo>
                      <a:pt x="97" y="238"/>
                    </a:lnTo>
                    <a:lnTo>
                      <a:pt x="96" y="267"/>
                    </a:lnTo>
                    <a:lnTo>
                      <a:pt x="96" y="512"/>
                    </a:lnTo>
                    <a:lnTo>
                      <a:pt x="0" y="512"/>
                    </a:lnTo>
                    <a:lnTo>
                      <a:pt x="0" y="15"/>
                    </a:lnTo>
                    <a:lnTo>
                      <a:pt x="96" y="15"/>
                    </a:lnTo>
                    <a:lnTo>
                      <a:pt x="96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908640" y="1022400"/>
                <a:ext cx="9082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a-DK" sz="600" spc="-1" strike="noStrike">
                    <a:solidFill>
                      <a:srgbClr val="ffffff"/>
                    </a:solidFill>
                    <a:latin typeface="Futura Bk BT"/>
                  </a:rPr>
                  <a:t>www.kirktelecom.dk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3552840" y="1544760"/>
            <a:ext cx="1542960" cy="12571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2471760" y="4406760"/>
            <a:ext cx="390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ямое соединение или через модем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255920" y="2443320"/>
            <a:ext cx="0" cy="19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228760" y="0"/>
            <a:ext cx="76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CCFP Administration Program Ver.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7350120" y="1427040"/>
            <a:ext cx="1542960" cy="12574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7019280" y="4362480"/>
            <a:ext cx="23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бор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рта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1 -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8034480" y="2279520"/>
            <a:ext cx="0" cy="208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1CF3-6A28-437A-A865-B0C277B7B6AA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2889360" y="457200"/>
            <a:ext cx="6521400" cy="0"/>
          </a:xfrm>
          <a:prstGeom prst="line">
            <a:avLst/>
          </a:prstGeom>
          <a:ln cap="sq"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0" y="0"/>
            <a:ext cx="6129000" cy="6858000"/>
            <a:chOff x="0" y="0"/>
            <a:chExt cx="6129000" cy="6858000"/>
          </a:xfrm>
        </p:grpSpPr>
        <p:sp>
          <p:nvSpPr>
            <p:cNvPr id="456" name=""/>
            <p:cNvSpPr/>
            <p:nvPr/>
          </p:nvSpPr>
          <p:spPr>
            <a:xfrm>
              <a:off x="0" y="0"/>
              <a:ext cx="2228760" cy="3429000"/>
            </a:xfrm>
            <a:prstGeom prst="rect">
              <a:avLst/>
            </a:prstGeom>
            <a:solidFill>
              <a:srgbClr val="000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0" y="3429000"/>
              <a:ext cx="2228760" cy="3429000"/>
            </a:xfrm>
            <a:prstGeom prst="rect">
              <a:avLst/>
            </a:pr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91836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79924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0" name="" descr=""/>
            <p:cNvPicPr/>
            <p:nvPr/>
          </p:nvPicPr>
          <p:blipFill>
            <a:blip r:embed="rId1"/>
            <a:stretch/>
          </p:blipFill>
          <p:spPr>
            <a:xfrm>
              <a:off x="201240" y="2055960"/>
              <a:ext cx="1705680" cy="271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1" name=""/>
            <p:cNvGrpSpPr/>
            <p:nvPr/>
          </p:nvGrpSpPr>
          <p:grpSpPr>
            <a:xfrm>
              <a:off x="211320" y="380880"/>
              <a:ext cx="1605600" cy="821880"/>
              <a:chOff x="211320" y="380880"/>
              <a:chExt cx="1605600" cy="821880"/>
            </a:xfrm>
          </p:grpSpPr>
          <p:sp>
            <p:nvSpPr>
              <p:cNvPr id="462" name=""/>
              <p:cNvSpPr/>
              <p:nvPr/>
            </p:nvSpPr>
            <p:spPr>
              <a:xfrm>
                <a:off x="403920" y="38088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7">
                    <a:moveTo>
                      <a:pt x="29" y="1655"/>
                    </a:moveTo>
                    <a:lnTo>
                      <a:pt x="79" y="1682"/>
                    </a:lnTo>
                    <a:lnTo>
                      <a:pt x="623" y="1957"/>
                    </a:lnTo>
                    <a:lnTo>
                      <a:pt x="684" y="1987"/>
                    </a:lnTo>
                    <a:lnTo>
                      <a:pt x="687" y="1916"/>
                    </a:lnTo>
                    <a:lnTo>
                      <a:pt x="691" y="1864"/>
                    </a:lnTo>
                    <a:lnTo>
                      <a:pt x="697" y="1814"/>
                    </a:lnTo>
                    <a:lnTo>
                      <a:pt x="704" y="1763"/>
                    </a:lnTo>
                    <a:lnTo>
                      <a:pt x="713" y="1714"/>
                    </a:lnTo>
                    <a:lnTo>
                      <a:pt x="724" y="1665"/>
                    </a:lnTo>
                    <a:lnTo>
                      <a:pt x="737" y="1616"/>
                    </a:lnTo>
                    <a:lnTo>
                      <a:pt x="751" y="1569"/>
                    </a:lnTo>
                    <a:lnTo>
                      <a:pt x="767" y="1522"/>
                    </a:lnTo>
                    <a:lnTo>
                      <a:pt x="784" y="1476"/>
                    </a:lnTo>
                    <a:lnTo>
                      <a:pt x="803" y="1431"/>
                    </a:lnTo>
                    <a:lnTo>
                      <a:pt x="824" y="1386"/>
                    </a:lnTo>
                    <a:lnTo>
                      <a:pt x="846" y="1343"/>
                    </a:lnTo>
                    <a:lnTo>
                      <a:pt x="869" y="1300"/>
                    </a:lnTo>
                    <a:lnTo>
                      <a:pt x="894" y="1257"/>
                    </a:lnTo>
                    <a:lnTo>
                      <a:pt x="920" y="1217"/>
                    </a:lnTo>
                    <a:lnTo>
                      <a:pt x="948" y="1177"/>
                    </a:lnTo>
                    <a:lnTo>
                      <a:pt x="976" y="1137"/>
                    </a:lnTo>
                    <a:lnTo>
                      <a:pt x="1007" y="1100"/>
                    </a:lnTo>
                    <a:lnTo>
                      <a:pt x="1038" y="1063"/>
                    </a:lnTo>
                    <a:lnTo>
                      <a:pt x="1071" y="1027"/>
                    </a:lnTo>
                    <a:lnTo>
                      <a:pt x="1105" y="993"/>
                    </a:lnTo>
                    <a:lnTo>
                      <a:pt x="1140" y="959"/>
                    </a:lnTo>
                    <a:lnTo>
                      <a:pt x="1176" y="927"/>
                    </a:lnTo>
                    <a:lnTo>
                      <a:pt x="1213" y="896"/>
                    </a:lnTo>
                    <a:lnTo>
                      <a:pt x="1250" y="866"/>
                    </a:lnTo>
                    <a:lnTo>
                      <a:pt x="1290" y="838"/>
                    </a:lnTo>
                    <a:lnTo>
                      <a:pt x="1331" y="810"/>
                    </a:lnTo>
                    <a:lnTo>
                      <a:pt x="1372" y="785"/>
                    </a:lnTo>
                    <a:lnTo>
                      <a:pt x="1414" y="760"/>
                    </a:lnTo>
                    <a:lnTo>
                      <a:pt x="1457" y="737"/>
                    </a:lnTo>
                    <a:lnTo>
                      <a:pt x="1501" y="716"/>
                    </a:lnTo>
                    <a:lnTo>
                      <a:pt x="1546" y="696"/>
                    </a:lnTo>
                    <a:lnTo>
                      <a:pt x="1584" y="680"/>
                    </a:lnTo>
                    <a:lnTo>
                      <a:pt x="1594" y="673"/>
                    </a:lnTo>
                    <a:lnTo>
                      <a:pt x="1600" y="665"/>
                    </a:lnTo>
                    <a:lnTo>
                      <a:pt x="1604" y="658"/>
                    </a:lnTo>
                    <a:lnTo>
                      <a:pt x="1606" y="650"/>
                    </a:lnTo>
                    <a:lnTo>
                      <a:pt x="1605" y="638"/>
                    </a:lnTo>
                    <a:lnTo>
                      <a:pt x="1603" y="632"/>
                    </a:lnTo>
                    <a:lnTo>
                      <a:pt x="1586" y="586"/>
                    </a:lnTo>
                    <a:lnTo>
                      <a:pt x="1385" y="31"/>
                    </a:lnTo>
                    <a:lnTo>
                      <a:pt x="1381" y="18"/>
                    </a:lnTo>
                    <a:lnTo>
                      <a:pt x="1380" y="13"/>
                    </a:lnTo>
                    <a:lnTo>
                      <a:pt x="1372" y="5"/>
                    </a:lnTo>
                    <a:lnTo>
                      <a:pt x="1367" y="2"/>
                    </a:lnTo>
                    <a:lnTo>
                      <a:pt x="1359" y="0"/>
                    </a:lnTo>
                    <a:lnTo>
                      <a:pt x="1349" y="0"/>
                    </a:lnTo>
                    <a:lnTo>
                      <a:pt x="1337" y="3"/>
                    </a:lnTo>
                    <a:lnTo>
                      <a:pt x="1307" y="14"/>
                    </a:lnTo>
                    <a:lnTo>
                      <a:pt x="1248" y="37"/>
                    </a:lnTo>
                    <a:lnTo>
                      <a:pt x="1190" y="63"/>
                    </a:lnTo>
                    <a:lnTo>
                      <a:pt x="1133" y="89"/>
                    </a:lnTo>
                    <a:lnTo>
                      <a:pt x="1076" y="119"/>
                    </a:lnTo>
                    <a:lnTo>
                      <a:pt x="1021" y="149"/>
                    </a:lnTo>
                    <a:lnTo>
                      <a:pt x="966" y="181"/>
                    </a:lnTo>
                    <a:lnTo>
                      <a:pt x="913" y="215"/>
                    </a:lnTo>
                    <a:lnTo>
                      <a:pt x="861" y="251"/>
                    </a:lnTo>
                    <a:lnTo>
                      <a:pt x="810" y="289"/>
                    </a:lnTo>
                    <a:lnTo>
                      <a:pt x="759" y="328"/>
                    </a:lnTo>
                    <a:lnTo>
                      <a:pt x="711" y="369"/>
                    </a:lnTo>
                    <a:lnTo>
                      <a:pt x="663" y="411"/>
                    </a:lnTo>
                    <a:lnTo>
                      <a:pt x="616" y="455"/>
                    </a:lnTo>
                    <a:lnTo>
                      <a:pt x="572" y="501"/>
                    </a:lnTo>
                    <a:lnTo>
                      <a:pt x="528" y="547"/>
                    </a:lnTo>
                    <a:lnTo>
                      <a:pt x="485" y="595"/>
                    </a:lnTo>
                    <a:lnTo>
                      <a:pt x="443" y="645"/>
                    </a:lnTo>
                    <a:lnTo>
                      <a:pt x="404" y="695"/>
                    </a:lnTo>
                    <a:lnTo>
                      <a:pt x="365" y="747"/>
                    </a:lnTo>
                    <a:lnTo>
                      <a:pt x="329" y="800"/>
                    </a:lnTo>
                    <a:lnTo>
                      <a:pt x="294" y="854"/>
                    </a:lnTo>
                    <a:lnTo>
                      <a:pt x="260" y="910"/>
                    </a:lnTo>
                    <a:lnTo>
                      <a:pt x="228" y="967"/>
                    </a:lnTo>
                    <a:lnTo>
                      <a:pt x="197" y="1024"/>
                    </a:lnTo>
                    <a:lnTo>
                      <a:pt x="169" y="1084"/>
                    </a:lnTo>
                    <a:lnTo>
                      <a:pt x="142" y="1144"/>
                    </a:lnTo>
                    <a:lnTo>
                      <a:pt x="116" y="1204"/>
                    </a:lnTo>
                    <a:lnTo>
                      <a:pt x="93" y="1266"/>
                    </a:lnTo>
                    <a:lnTo>
                      <a:pt x="71" y="1329"/>
                    </a:lnTo>
                    <a:lnTo>
                      <a:pt x="52" y="1392"/>
                    </a:lnTo>
                    <a:lnTo>
                      <a:pt x="34" y="1457"/>
                    </a:lnTo>
                    <a:lnTo>
                      <a:pt x="18" y="1522"/>
                    </a:lnTo>
                    <a:lnTo>
                      <a:pt x="2" y="1593"/>
                    </a:lnTo>
                    <a:lnTo>
                      <a:pt x="0" y="1610"/>
                    </a:lnTo>
                    <a:lnTo>
                      <a:pt x="1" y="1623"/>
                    </a:lnTo>
                    <a:lnTo>
                      <a:pt x="6" y="1634"/>
                    </a:lnTo>
                    <a:lnTo>
                      <a:pt x="11" y="1643"/>
                    </a:lnTo>
                    <a:lnTo>
                      <a:pt x="17" y="1648"/>
                    </a:lnTo>
                    <a:lnTo>
                      <a:pt x="23" y="1652"/>
                    </a:lnTo>
                    <a:lnTo>
                      <a:pt x="29" y="1655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03920" y="77004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5">
                    <a:moveTo>
                      <a:pt x="29" y="333"/>
                    </a:moveTo>
                    <a:lnTo>
                      <a:pt x="79" y="306"/>
                    </a:lnTo>
                    <a:lnTo>
                      <a:pt x="623" y="31"/>
                    </a:lnTo>
                    <a:lnTo>
                      <a:pt x="684" y="0"/>
                    </a:lnTo>
                    <a:lnTo>
                      <a:pt x="687" y="72"/>
                    </a:lnTo>
                    <a:lnTo>
                      <a:pt x="691" y="123"/>
                    </a:lnTo>
                    <a:lnTo>
                      <a:pt x="697" y="174"/>
                    </a:lnTo>
                    <a:lnTo>
                      <a:pt x="704" y="224"/>
                    </a:lnTo>
                    <a:lnTo>
                      <a:pt x="713" y="273"/>
                    </a:lnTo>
                    <a:lnTo>
                      <a:pt x="724" y="323"/>
                    </a:lnTo>
                    <a:lnTo>
                      <a:pt x="737" y="371"/>
                    </a:lnTo>
                    <a:lnTo>
                      <a:pt x="751" y="418"/>
                    </a:lnTo>
                    <a:lnTo>
                      <a:pt x="767" y="465"/>
                    </a:lnTo>
                    <a:lnTo>
                      <a:pt x="784" y="512"/>
                    </a:lnTo>
                    <a:lnTo>
                      <a:pt x="803" y="557"/>
                    </a:lnTo>
                    <a:lnTo>
                      <a:pt x="824" y="602"/>
                    </a:lnTo>
                    <a:lnTo>
                      <a:pt x="846" y="645"/>
                    </a:lnTo>
                    <a:lnTo>
                      <a:pt x="869" y="688"/>
                    </a:lnTo>
                    <a:lnTo>
                      <a:pt x="894" y="730"/>
                    </a:lnTo>
                    <a:lnTo>
                      <a:pt x="920" y="771"/>
                    </a:lnTo>
                    <a:lnTo>
                      <a:pt x="948" y="811"/>
                    </a:lnTo>
                    <a:lnTo>
                      <a:pt x="976" y="850"/>
                    </a:lnTo>
                    <a:lnTo>
                      <a:pt x="1007" y="888"/>
                    </a:lnTo>
                    <a:lnTo>
                      <a:pt x="1038" y="924"/>
                    </a:lnTo>
                    <a:lnTo>
                      <a:pt x="1071" y="961"/>
                    </a:lnTo>
                    <a:lnTo>
                      <a:pt x="1105" y="995"/>
                    </a:lnTo>
                    <a:lnTo>
                      <a:pt x="1140" y="1029"/>
                    </a:lnTo>
                    <a:lnTo>
                      <a:pt x="1176" y="1061"/>
                    </a:lnTo>
                    <a:lnTo>
                      <a:pt x="1213" y="1092"/>
                    </a:lnTo>
                    <a:lnTo>
                      <a:pt x="1252" y="1122"/>
                    </a:lnTo>
                    <a:lnTo>
                      <a:pt x="1290" y="1151"/>
                    </a:lnTo>
                    <a:lnTo>
                      <a:pt x="1331" y="1177"/>
                    </a:lnTo>
                    <a:lnTo>
                      <a:pt x="1372" y="1203"/>
                    </a:lnTo>
                    <a:lnTo>
                      <a:pt x="1414" y="1227"/>
                    </a:lnTo>
                    <a:lnTo>
                      <a:pt x="1457" y="1250"/>
                    </a:lnTo>
                    <a:lnTo>
                      <a:pt x="1501" y="1271"/>
                    </a:lnTo>
                    <a:lnTo>
                      <a:pt x="1546" y="1292"/>
                    </a:lnTo>
                    <a:lnTo>
                      <a:pt x="1584" y="1308"/>
                    </a:lnTo>
                    <a:lnTo>
                      <a:pt x="1594" y="1315"/>
                    </a:lnTo>
                    <a:lnTo>
                      <a:pt x="1600" y="1323"/>
                    </a:lnTo>
                    <a:lnTo>
                      <a:pt x="1605" y="1331"/>
                    </a:lnTo>
                    <a:lnTo>
                      <a:pt x="1606" y="1337"/>
                    </a:lnTo>
                    <a:lnTo>
                      <a:pt x="1605" y="1349"/>
                    </a:lnTo>
                    <a:lnTo>
                      <a:pt x="1603" y="1355"/>
                    </a:lnTo>
                    <a:lnTo>
                      <a:pt x="1586" y="1401"/>
                    </a:lnTo>
                    <a:lnTo>
                      <a:pt x="1388" y="1950"/>
                    </a:lnTo>
                    <a:lnTo>
                      <a:pt x="1381" y="1965"/>
                    </a:lnTo>
                    <a:lnTo>
                      <a:pt x="1379" y="1970"/>
                    </a:lnTo>
                    <a:lnTo>
                      <a:pt x="1371" y="1978"/>
                    </a:lnTo>
                    <a:lnTo>
                      <a:pt x="1366" y="1983"/>
                    </a:lnTo>
                    <a:lnTo>
                      <a:pt x="1358" y="1985"/>
                    </a:lnTo>
                    <a:lnTo>
                      <a:pt x="1348" y="1985"/>
                    </a:lnTo>
                    <a:lnTo>
                      <a:pt x="1338" y="1983"/>
                    </a:lnTo>
                    <a:lnTo>
                      <a:pt x="1302" y="1969"/>
                    </a:lnTo>
                    <a:lnTo>
                      <a:pt x="1242" y="1942"/>
                    </a:lnTo>
                    <a:lnTo>
                      <a:pt x="1181" y="1915"/>
                    </a:lnTo>
                    <a:lnTo>
                      <a:pt x="1123" y="1886"/>
                    </a:lnTo>
                    <a:lnTo>
                      <a:pt x="1066" y="1857"/>
                    </a:lnTo>
                    <a:lnTo>
                      <a:pt x="1009" y="1824"/>
                    </a:lnTo>
                    <a:lnTo>
                      <a:pt x="954" y="1791"/>
                    </a:lnTo>
                    <a:lnTo>
                      <a:pt x="901" y="1756"/>
                    </a:lnTo>
                    <a:lnTo>
                      <a:pt x="848" y="1719"/>
                    </a:lnTo>
                    <a:lnTo>
                      <a:pt x="796" y="1682"/>
                    </a:lnTo>
                    <a:lnTo>
                      <a:pt x="747" y="1642"/>
                    </a:lnTo>
                    <a:lnTo>
                      <a:pt x="698" y="1602"/>
                    </a:lnTo>
                    <a:lnTo>
                      <a:pt x="650" y="1560"/>
                    </a:lnTo>
                    <a:lnTo>
                      <a:pt x="604" y="1517"/>
                    </a:lnTo>
                    <a:lnTo>
                      <a:pt x="559" y="1472"/>
                    </a:lnTo>
                    <a:lnTo>
                      <a:pt x="517" y="1426"/>
                    </a:lnTo>
                    <a:lnTo>
                      <a:pt x="475" y="1379"/>
                    </a:lnTo>
                    <a:lnTo>
                      <a:pt x="434" y="1331"/>
                    </a:lnTo>
                    <a:lnTo>
                      <a:pt x="395" y="1281"/>
                    </a:lnTo>
                    <a:lnTo>
                      <a:pt x="358" y="1230"/>
                    </a:lnTo>
                    <a:lnTo>
                      <a:pt x="323" y="1178"/>
                    </a:lnTo>
                    <a:lnTo>
                      <a:pt x="287" y="1124"/>
                    </a:lnTo>
                    <a:lnTo>
                      <a:pt x="255" y="1070"/>
                    </a:lnTo>
                    <a:lnTo>
                      <a:pt x="224" y="1014"/>
                    </a:lnTo>
                    <a:lnTo>
                      <a:pt x="194" y="957"/>
                    </a:lnTo>
                    <a:lnTo>
                      <a:pt x="166" y="900"/>
                    </a:lnTo>
                    <a:lnTo>
                      <a:pt x="139" y="841"/>
                    </a:lnTo>
                    <a:lnTo>
                      <a:pt x="115" y="781"/>
                    </a:lnTo>
                    <a:lnTo>
                      <a:pt x="92" y="720"/>
                    </a:lnTo>
                    <a:lnTo>
                      <a:pt x="71" y="658"/>
                    </a:lnTo>
                    <a:lnTo>
                      <a:pt x="52" y="595"/>
                    </a:lnTo>
                    <a:lnTo>
                      <a:pt x="34" y="530"/>
                    </a:lnTo>
                    <a:lnTo>
                      <a:pt x="18" y="465"/>
                    </a:lnTo>
                    <a:lnTo>
                      <a:pt x="3" y="394"/>
                    </a:lnTo>
                    <a:lnTo>
                      <a:pt x="0" y="378"/>
                    </a:lnTo>
                    <a:lnTo>
                      <a:pt x="1" y="364"/>
                    </a:lnTo>
                    <a:lnTo>
                      <a:pt x="6" y="353"/>
                    </a:lnTo>
                    <a:lnTo>
                      <a:pt x="11" y="346"/>
                    </a:lnTo>
                    <a:lnTo>
                      <a:pt x="17" y="339"/>
                    </a:lnTo>
                    <a:lnTo>
                      <a:pt x="23" y="336"/>
                    </a:lnTo>
                    <a:lnTo>
                      <a:pt x="29" y="333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7440" y="698400"/>
                <a:ext cx="149400" cy="147600"/>
              </a:xfrm>
              <a:custGeom>
                <a:avLst/>
                <a:gdLst/>
                <a:ahLst/>
                <a:rect l="l" t="t" r="r" b="b"/>
                <a:pathLst>
                  <a:path w="714" h="759">
                    <a:moveTo>
                      <a:pt x="699" y="379"/>
                    </a:moveTo>
                    <a:lnTo>
                      <a:pt x="706" y="375"/>
                    </a:lnTo>
                    <a:lnTo>
                      <a:pt x="710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09" y="351"/>
                    </a:lnTo>
                    <a:lnTo>
                      <a:pt x="705" y="346"/>
                    </a:lnTo>
                    <a:lnTo>
                      <a:pt x="699" y="342"/>
                    </a:lnTo>
                    <a:lnTo>
                      <a:pt x="35" y="4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3" y="11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735"/>
                    </a:lnTo>
                    <a:lnTo>
                      <a:pt x="1" y="743"/>
                    </a:lnTo>
                    <a:lnTo>
                      <a:pt x="3" y="748"/>
                    </a:lnTo>
                    <a:lnTo>
                      <a:pt x="5" y="753"/>
                    </a:lnTo>
                    <a:lnTo>
                      <a:pt x="10" y="757"/>
                    </a:lnTo>
                    <a:lnTo>
                      <a:pt x="15" y="759"/>
                    </a:lnTo>
                    <a:lnTo>
                      <a:pt x="21" y="759"/>
                    </a:lnTo>
                    <a:lnTo>
                      <a:pt x="27" y="758"/>
                    </a:lnTo>
                    <a:lnTo>
                      <a:pt x="34" y="755"/>
                    </a:lnTo>
                    <a:lnTo>
                      <a:pt x="699" y="379"/>
                    </a:lnTo>
                    <a:close/>
                  </a:path>
                </a:pathLst>
              </a:custGeom>
              <a:solidFill>
                <a:srgbClr val="00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11320" y="701640"/>
                <a:ext cx="149760" cy="146160"/>
              </a:xfrm>
              <a:custGeom>
                <a:avLst/>
                <a:gdLst/>
                <a:ahLst/>
                <a:rect l="l" t="t" r="r" b="b"/>
                <a:pathLst>
                  <a:path w="714" h="758">
                    <a:moveTo>
                      <a:pt x="701" y="379"/>
                    </a:moveTo>
                    <a:lnTo>
                      <a:pt x="706" y="374"/>
                    </a:lnTo>
                    <a:lnTo>
                      <a:pt x="711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11" y="350"/>
                    </a:lnTo>
                    <a:lnTo>
                      <a:pt x="706" y="346"/>
                    </a:lnTo>
                    <a:lnTo>
                      <a:pt x="700" y="342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0" y="734"/>
                    </a:lnTo>
                    <a:lnTo>
                      <a:pt x="1" y="742"/>
                    </a:lnTo>
                    <a:lnTo>
                      <a:pt x="3" y="749"/>
                    </a:lnTo>
                    <a:lnTo>
                      <a:pt x="7" y="753"/>
                    </a:lnTo>
                    <a:lnTo>
                      <a:pt x="10" y="756"/>
                    </a:lnTo>
                    <a:lnTo>
                      <a:pt x="15" y="758"/>
                    </a:lnTo>
                    <a:lnTo>
                      <a:pt x="21" y="758"/>
                    </a:lnTo>
                    <a:lnTo>
                      <a:pt x="27" y="757"/>
                    </a:lnTo>
                    <a:lnTo>
                      <a:pt x="34" y="754"/>
                    </a:lnTo>
                    <a:lnTo>
                      <a:pt x="701" y="379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011960" y="517680"/>
                <a:ext cx="195840" cy="250560"/>
              </a:xfrm>
              <a:custGeom>
                <a:avLst/>
                <a:gdLst/>
                <a:ahLst/>
                <a:rect l="l" t="t" r="r" b="b"/>
                <a:pathLst>
                  <a:path w="930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30" y="1293"/>
                    </a:lnTo>
                    <a:lnTo>
                      <a:pt x="713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230480" y="517680"/>
                <a:ext cx="34200" cy="25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16520" y="517680"/>
                <a:ext cx="168480" cy="250560"/>
              </a:xfrm>
              <a:custGeom>
                <a:avLst/>
                <a:gdLst/>
                <a:ahLst/>
                <a:rect l="l" t="t" r="r" b="b"/>
                <a:pathLst>
                  <a:path w="803" h="1293">
                    <a:moveTo>
                      <a:pt x="803" y="1293"/>
                    </a:moveTo>
                    <a:lnTo>
                      <a:pt x="607" y="1293"/>
                    </a:lnTo>
                    <a:lnTo>
                      <a:pt x="228" y="746"/>
                    </a:lnTo>
                    <a:lnTo>
                      <a:pt x="161" y="746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283" y="1"/>
                    </a:lnTo>
                    <a:lnTo>
                      <a:pt x="327" y="4"/>
                    </a:lnTo>
                    <a:lnTo>
                      <a:pt x="370" y="8"/>
                    </a:lnTo>
                    <a:lnTo>
                      <a:pt x="413" y="16"/>
                    </a:lnTo>
                    <a:lnTo>
                      <a:pt x="456" y="27"/>
                    </a:lnTo>
                    <a:lnTo>
                      <a:pt x="497" y="41"/>
                    </a:lnTo>
                    <a:lnTo>
                      <a:pt x="536" y="61"/>
                    </a:lnTo>
                    <a:lnTo>
                      <a:pt x="556" y="73"/>
                    </a:lnTo>
                    <a:lnTo>
                      <a:pt x="574" y="87"/>
                    </a:lnTo>
                    <a:lnTo>
                      <a:pt x="592" y="101"/>
                    </a:lnTo>
                    <a:lnTo>
                      <a:pt x="608" y="118"/>
                    </a:lnTo>
                    <a:lnTo>
                      <a:pt x="623" y="135"/>
                    </a:lnTo>
                    <a:lnTo>
                      <a:pt x="637" y="153"/>
                    </a:lnTo>
                    <a:lnTo>
                      <a:pt x="650" y="173"/>
                    </a:lnTo>
                    <a:lnTo>
                      <a:pt x="661" y="192"/>
                    </a:lnTo>
                    <a:lnTo>
                      <a:pt x="671" y="212"/>
                    </a:lnTo>
                    <a:lnTo>
                      <a:pt x="680" y="233"/>
                    </a:lnTo>
                    <a:lnTo>
                      <a:pt x="694" y="277"/>
                    </a:lnTo>
                    <a:lnTo>
                      <a:pt x="700" y="300"/>
                    </a:lnTo>
                    <a:lnTo>
                      <a:pt x="703" y="323"/>
                    </a:lnTo>
                    <a:lnTo>
                      <a:pt x="705" y="346"/>
                    </a:lnTo>
                    <a:lnTo>
                      <a:pt x="705" y="369"/>
                    </a:lnTo>
                    <a:lnTo>
                      <a:pt x="704" y="403"/>
                    </a:lnTo>
                    <a:lnTo>
                      <a:pt x="700" y="436"/>
                    </a:lnTo>
                    <a:lnTo>
                      <a:pt x="693" y="469"/>
                    </a:lnTo>
                    <a:lnTo>
                      <a:pt x="683" y="500"/>
                    </a:lnTo>
                    <a:lnTo>
                      <a:pt x="671" y="531"/>
                    </a:lnTo>
                    <a:lnTo>
                      <a:pt x="657" y="558"/>
                    </a:lnTo>
                    <a:lnTo>
                      <a:pt x="639" y="585"/>
                    </a:lnTo>
                    <a:lnTo>
                      <a:pt x="621" y="611"/>
                    </a:lnTo>
                    <a:lnTo>
                      <a:pt x="599" y="634"/>
                    </a:lnTo>
                    <a:lnTo>
                      <a:pt x="576" y="655"/>
                    </a:lnTo>
                    <a:lnTo>
                      <a:pt x="550" y="673"/>
                    </a:lnTo>
                    <a:lnTo>
                      <a:pt x="523" y="691"/>
                    </a:lnTo>
                    <a:lnTo>
                      <a:pt x="493" y="704"/>
                    </a:lnTo>
                    <a:lnTo>
                      <a:pt x="463" y="716"/>
                    </a:lnTo>
                    <a:lnTo>
                      <a:pt x="430" y="725"/>
                    </a:lnTo>
                    <a:lnTo>
                      <a:pt x="396" y="730"/>
                    </a:lnTo>
                    <a:lnTo>
                      <a:pt x="803" y="1293"/>
                    </a:lnTo>
                    <a:close/>
                    <a:moveTo>
                      <a:pt x="161" y="612"/>
                    </a:moveTo>
                    <a:lnTo>
                      <a:pt x="213" y="612"/>
                    </a:lnTo>
                    <a:lnTo>
                      <a:pt x="274" y="611"/>
                    </a:lnTo>
                    <a:lnTo>
                      <a:pt x="335" y="604"/>
                    </a:lnTo>
                    <a:lnTo>
                      <a:pt x="365" y="599"/>
                    </a:lnTo>
                    <a:lnTo>
                      <a:pt x="393" y="591"/>
                    </a:lnTo>
                    <a:lnTo>
                      <a:pt x="420" y="582"/>
                    </a:lnTo>
                    <a:lnTo>
                      <a:pt x="445" y="571"/>
                    </a:lnTo>
                    <a:lnTo>
                      <a:pt x="469" y="557"/>
                    </a:lnTo>
                    <a:lnTo>
                      <a:pt x="490" y="540"/>
                    </a:lnTo>
                    <a:lnTo>
                      <a:pt x="509" y="522"/>
                    </a:lnTo>
                    <a:lnTo>
                      <a:pt x="524" y="499"/>
                    </a:lnTo>
                    <a:lnTo>
                      <a:pt x="537" y="473"/>
                    </a:lnTo>
                    <a:lnTo>
                      <a:pt x="547" y="445"/>
                    </a:lnTo>
                    <a:lnTo>
                      <a:pt x="553" y="412"/>
                    </a:lnTo>
                    <a:lnTo>
                      <a:pt x="555" y="376"/>
                    </a:lnTo>
                    <a:lnTo>
                      <a:pt x="553" y="339"/>
                    </a:lnTo>
                    <a:lnTo>
                      <a:pt x="546" y="308"/>
                    </a:lnTo>
                    <a:lnTo>
                      <a:pt x="536" y="279"/>
                    </a:lnTo>
                    <a:lnTo>
                      <a:pt x="523" y="254"/>
                    </a:lnTo>
                    <a:lnTo>
                      <a:pt x="505" y="232"/>
                    </a:lnTo>
                    <a:lnTo>
                      <a:pt x="486" y="213"/>
                    </a:lnTo>
                    <a:lnTo>
                      <a:pt x="464" y="198"/>
                    </a:lnTo>
                    <a:lnTo>
                      <a:pt x="440" y="184"/>
                    </a:lnTo>
                    <a:lnTo>
                      <a:pt x="413" y="173"/>
                    </a:lnTo>
                    <a:lnTo>
                      <a:pt x="385" y="164"/>
                    </a:lnTo>
                    <a:lnTo>
                      <a:pt x="356" y="157"/>
                    </a:lnTo>
                    <a:lnTo>
                      <a:pt x="325" y="152"/>
                    </a:lnTo>
                    <a:lnTo>
                      <a:pt x="296" y="148"/>
                    </a:lnTo>
                    <a:lnTo>
                      <a:pt x="265" y="146"/>
                    </a:lnTo>
                    <a:lnTo>
                      <a:pt x="204" y="144"/>
                    </a:lnTo>
                    <a:lnTo>
                      <a:pt x="161" y="144"/>
                    </a:lnTo>
                    <a:lnTo>
                      <a:pt x="161" y="6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502280" y="517680"/>
                <a:ext cx="196200" cy="250560"/>
              </a:xfrm>
              <a:custGeom>
                <a:avLst/>
                <a:gdLst/>
                <a:ahLst/>
                <a:rect l="l" t="t" r="r" b="b"/>
                <a:pathLst>
                  <a:path w="929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29" y="1293"/>
                    </a:lnTo>
                    <a:lnTo>
                      <a:pt x="712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999720" y="847800"/>
                <a:ext cx="54720" cy="133200"/>
              </a:xfrm>
              <a:custGeom>
                <a:avLst/>
                <a:gdLst/>
                <a:ahLst/>
                <a:rect l="l" t="t" r="r" b="b"/>
                <a:pathLst>
                  <a:path w="264" h="687">
                    <a:moveTo>
                      <a:pt x="169" y="687"/>
                    </a:moveTo>
                    <a:lnTo>
                      <a:pt x="74" y="687"/>
                    </a:lnTo>
                    <a:lnTo>
                      <a:pt x="74" y="279"/>
                    </a:lnTo>
                    <a:lnTo>
                      <a:pt x="0" y="279"/>
                    </a:lnTo>
                    <a:lnTo>
                      <a:pt x="0" y="190"/>
                    </a:lnTo>
                    <a:lnTo>
                      <a:pt x="74" y="190"/>
                    </a:lnTo>
                    <a:lnTo>
                      <a:pt x="74" y="0"/>
                    </a:lnTo>
                    <a:lnTo>
                      <a:pt x="169" y="0"/>
                    </a:lnTo>
                    <a:lnTo>
                      <a:pt x="169" y="190"/>
                    </a:lnTo>
                    <a:lnTo>
                      <a:pt x="264" y="190"/>
                    </a:lnTo>
                    <a:lnTo>
                      <a:pt x="264" y="279"/>
                    </a:lnTo>
                    <a:lnTo>
                      <a:pt x="169" y="279"/>
                    </a:lnTo>
                    <a:lnTo>
                      <a:pt x="169" y="6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058400" y="882720"/>
                <a:ext cx="9936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5" y="280"/>
                    </a:moveTo>
                    <a:lnTo>
                      <a:pt x="98" y="311"/>
                    </a:lnTo>
                    <a:lnTo>
                      <a:pt x="106" y="341"/>
                    </a:lnTo>
                    <a:lnTo>
                      <a:pt x="119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8" y="415"/>
                    </a:lnTo>
                    <a:lnTo>
                      <a:pt x="170" y="423"/>
                    </a:lnTo>
                    <a:lnTo>
                      <a:pt x="184" y="431"/>
                    </a:lnTo>
                    <a:lnTo>
                      <a:pt x="197" y="437"/>
                    </a:lnTo>
                    <a:lnTo>
                      <a:pt x="213" y="441"/>
                    </a:lnTo>
                    <a:lnTo>
                      <a:pt x="229" y="443"/>
                    </a:lnTo>
                    <a:lnTo>
                      <a:pt x="245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5" y="430"/>
                    </a:lnTo>
                    <a:lnTo>
                      <a:pt x="333" y="418"/>
                    </a:lnTo>
                    <a:lnTo>
                      <a:pt x="351" y="405"/>
                    </a:lnTo>
                    <a:lnTo>
                      <a:pt x="366" y="388"/>
                    </a:lnTo>
                    <a:lnTo>
                      <a:pt x="380" y="368"/>
                    </a:lnTo>
                    <a:lnTo>
                      <a:pt x="394" y="348"/>
                    </a:lnTo>
                    <a:lnTo>
                      <a:pt x="475" y="394"/>
                    </a:lnTo>
                    <a:lnTo>
                      <a:pt x="455" y="424"/>
                    </a:lnTo>
                    <a:lnTo>
                      <a:pt x="433" y="451"/>
                    </a:lnTo>
                    <a:lnTo>
                      <a:pt x="407" y="474"/>
                    </a:lnTo>
                    <a:lnTo>
                      <a:pt x="378" y="494"/>
                    </a:lnTo>
                    <a:lnTo>
                      <a:pt x="347" y="509"/>
                    </a:lnTo>
                    <a:lnTo>
                      <a:pt x="315" y="520"/>
                    </a:lnTo>
                    <a:lnTo>
                      <a:pt x="279" y="528"/>
                    </a:lnTo>
                    <a:lnTo>
                      <a:pt x="244" y="530"/>
                    </a:lnTo>
                    <a:lnTo>
                      <a:pt x="217" y="528"/>
                    </a:lnTo>
                    <a:lnTo>
                      <a:pt x="191" y="524"/>
                    </a:lnTo>
                    <a:lnTo>
                      <a:pt x="165" y="518"/>
                    </a:lnTo>
                    <a:lnTo>
                      <a:pt x="142" y="509"/>
                    </a:lnTo>
                    <a:lnTo>
                      <a:pt x="120" y="498"/>
                    </a:lnTo>
                    <a:lnTo>
                      <a:pt x="101" y="485"/>
                    </a:lnTo>
                    <a:lnTo>
                      <a:pt x="82" y="471"/>
                    </a:lnTo>
                    <a:lnTo>
                      <a:pt x="66" y="454"/>
                    </a:lnTo>
                    <a:lnTo>
                      <a:pt x="50" y="435"/>
                    </a:lnTo>
                    <a:lnTo>
                      <a:pt x="37" y="416"/>
                    </a:lnTo>
                    <a:lnTo>
                      <a:pt x="26" y="394"/>
                    </a:lnTo>
                    <a:lnTo>
                      <a:pt x="16" y="371"/>
                    </a:lnTo>
                    <a:lnTo>
                      <a:pt x="10" y="346"/>
                    </a:lnTo>
                    <a:lnTo>
                      <a:pt x="4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4" y="213"/>
                    </a:lnTo>
                    <a:lnTo>
                      <a:pt x="9" y="186"/>
                    </a:lnTo>
                    <a:lnTo>
                      <a:pt x="15" y="161"/>
                    </a:lnTo>
                    <a:lnTo>
                      <a:pt x="24" y="138"/>
                    </a:lnTo>
                    <a:lnTo>
                      <a:pt x="34" y="116"/>
                    </a:lnTo>
                    <a:lnTo>
                      <a:pt x="47" y="95"/>
                    </a:lnTo>
                    <a:lnTo>
                      <a:pt x="61" y="76"/>
                    </a:lnTo>
                    <a:lnTo>
                      <a:pt x="77" y="60"/>
                    </a:lnTo>
                    <a:lnTo>
                      <a:pt x="95" y="45"/>
                    </a:lnTo>
                    <a:lnTo>
                      <a:pt x="115" y="31"/>
                    </a:lnTo>
                    <a:lnTo>
                      <a:pt x="137" y="20"/>
                    </a:lnTo>
                    <a:lnTo>
                      <a:pt x="160" y="12"/>
                    </a:lnTo>
                    <a:lnTo>
                      <a:pt x="185" y="5"/>
                    </a:lnTo>
                    <a:lnTo>
                      <a:pt x="213" y="2"/>
                    </a:lnTo>
                    <a:lnTo>
                      <a:pt x="242" y="0"/>
                    </a:lnTo>
                    <a:lnTo>
                      <a:pt x="271" y="2"/>
                    </a:lnTo>
                    <a:lnTo>
                      <a:pt x="297" y="5"/>
                    </a:lnTo>
                    <a:lnTo>
                      <a:pt x="322" y="12"/>
                    </a:lnTo>
                    <a:lnTo>
                      <a:pt x="345" y="20"/>
                    </a:lnTo>
                    <a:lnTo>
                      <a:pt x="366" y="31"/>
                    </a:lnTo>
                    <a:lnTo>
                      <a:pt x="385" y="45"/>
                    </a:lnTo>
                    <a:lnTo>
                      <a:pt x="402" y="60"/>
                    </a:lnTo>
                    <a:lnTo>
                      <a:pt x="418" y="76"/>
                    </a:lnTo>
                    <a:lnTo>
                      <a:pt x="431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0" y="161"/>
                    </a:lnTo>
                    <a:lnTo>
                      <a:pt x="467" y="185"/>
                    </a:lnTo>
                    <a:lnTo>
                      <a:pt x="471" y="210"/>
                    </a:lnTo>
                    <a:lnTo>
                      <a:pt x="474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5" y="280"/>
                    </a:lnTo>
                    <a:close/>
                    <a:moveTo>
                      <a:pt x="379" y="207"/>
                    </a:moveTo>
                    <a:lnTo>
                      <a:pt x="373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5" y="117"/>
                    </a:lnTo>
                    <a:lnTo>
                      <a:pt x="316" y="103"/>
                    </a:lnTo>
                    <a:lnTo>
                      <a:pt x="294" y="92"/>
                    </a:lnTo>
                    <a:lnTo>
                      <a:pt x="270" y="85"/>
                    </a:lnTo>
                    <a:lnTo>
                      <a:pt x="242" y="83"/>
                    </a:lnTo>
                    <a:lnTo>
                      <a:pt x="215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1" y="137"/>
                    </a:lnTo>
                    <a:lnTo>
                      <a:pt x="117" y="158"/>
                    </a:lnTo>
                    <a:lnTo>
                      <a:pt x="107" y="182"/>
                    </a:lnTo>
                    <a:lnTo>
                      <a:pt x="101" y="207"/>
                    </a:lnTo>
                    <a:lnTo>
                      <a:pt x="379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177200" y="846000"/>
                <a:ext cx="2052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211400" y="882720"/>
                <a:ext cx="9972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7" y="280"/>
                    </a:moveTo>
                    <a:lnTo>
                      <a:pt x="99" y="311"/>
                    </a:lnTo>
                    <a:lnTo>
                      <a:pt x="108" y="341"/>
                    </a:lnTo>
                    <a:lnTo>
                      <a:pt x="120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9" y="415"/>
                    </a:lnTo>
                    <a:lnTo>
                      <a:pt x="171" y="423"/>
                    </a:lnTo>
                    <a:lnTo>
                      <a:pt x="185" y="431"/>
                    </a:lnTo>
                    <a:lnTo>
                      <a:pt x="199" y="437"/>
                    </a:lnTo>
                    <a:lnTo>
                      <a:pt x="213" y="441"/>
                    </a:lnTo>
                    <a:lnTo>
                      <a:pt x="230" y="443"/>
                    </a:lnTo>
                    <a:lnTo>
                      <a:pt x="246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6" y="430"/>
                    </a:lnTo>
                    <a:lnTo>
                      <a:pt x="335" y="418"/>
                    </a:lnTo>
                    <a:lnTo>
                      <a:pt x="351" y="405"/>
                    </a:lnTo>
                    <a:lnTo>
                      <a:pt x="367" y="388"/>
                    </a:lnTo>
                    <a:lnTo>
                      <a:pt x="381" y="368"/>
                    </a:lnTo>
                    <a:lnTo>
                      <a:pt x="395" y="348"/>
                    </a:lnTo>
                    <a:lnTo>
                      <a:pt x="475" y="394"/>
                    </a:lnTo>
                    <a:lnTo>
                      <a:pt x="457" y="424"/>
                    </a:lnTo>
                    <a:lnTo>
                      <a:pt x="434" y="451"/>
                    </a:lnTo>
                    <a:lnTo>
                      <a:pt x="407" y="474"/>
                    </a:lnTo>
                    <a:lnTo>
                      <a:pt x="379" y="494"/>
                    </a:lnTo>
                    <a:lnTo>
                      <a:pt x="348" y="509"/>
                    </a:lnTo>
                    <a:lnTo>
                      <a:pt x="315" y="520"/>
                    </a:lnTo>
                    <a:lnTo>
                      <a:pt x="281" y="528"/>
                    </a:lnTo>
                    <a:lnTo>
                      <a:pt x="245" y="530"/>
                    </a:lnTo>
                    <a:lnTo>
                      <a:pt x="218" y="528"/>
                    </a:lnTo>
                    <a:lnTo>
                      <a:pt x="191" y="524"/>
                    </a:lnTo>
                    <a:lnTo>
                      <a:pt x="166" y="518"/>
                    </a:lnTo>
                    <a:lnTo>
                      <a:pt x="143" y="509"/>
                    </a:lnTo>
                    <a:lnTo>
                      <a:pt x="121" y="498"/>
                    </a:lnTo>
                    <a:lnTo>
                      <a:pt x="101" y="485"/>
                    </a:lnTo>
                    <a:lnTo>
                      <a:pt x="83" y="471"/>
                    </a:lnTo>
                    <a:lnTo>
                      <a:pt x="66" y="454"/>
                    </a:lnTo>
                    <a:lnTo>
                      <a:pt x="51" y="435"/>
                    </a:lnTo>
                    <a:lnTo>
                      <a:pt x="38" y="416"/>
                    </a:lnTo>
                    <a:lnTo>
                      <a:pt x="27" y="394"/>
                    </a:lnTo>
                    <a:lnTo>
                      <a:pt x="18" y="371"/>
                    </a:lnTo>
                    <a:lnTo>
                      <a:pt x="10" y="346"/>
                    </a:lnTo>
                    <a:lnTo>
                      <a:pt x="5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5" y="213"/>
                    </a:lnTo>
                    <a:lnTo>
                      <a:pt x="9" y="186"/>
                    </a:lnTo>
                    <a:lnTo>
                      <a:pt x="16" y="161"/>
                    </a:lnTo>
                    <a:lnTo>
                      <a:pt x="24" y="138"/>
                    </a:lnTo>
                    <a:lnTo>
                      <a:pt x="35" y="116"/>
                    </a:lnTo>
                    <a:lnTo>
                      <a:pt x="48" y="95"/>
                    </a:lnTo>
                    <a:lnTo>
                      <a:pt x="62" y="76"/>
                    </a:lnTo>
                    <a:lnTo>
                      <a:pt x="78" y="60"/>
                    </a:lnTo>
                    <a:lnTo>
                      <a:pt x="96" y="45"/>
                    </a:lnTo>
                    <a:lnTo>
                      <a:pt x="116" y="31"/>
                    </a:lnTo>
                    <a:lnTo>
                      <a:pt x="137" y="20"/>
                    </a:lnTo>
                    <a:lnTo>
                      <a:pt x="162" y="12"/>
                    </a:lnTo>
                    <a:lnTo>
                      <a:pt x="187" y="5"/>
                    </a:lnTo>
                    <a:lnTo>
                      <a:pt x="214" y="2"/>
                    </a:lnTo>
                    <a:lnTo>
                      <a:pt x="243" y="0"/>
                    </a:lnTo>
                    <a:lnTo>
                      <a:pt x="271" y="2"/>
                    </a:lnTo>
                    <a:lnTo>
                      <a:pt x="299" y="5"/>
                    </a:lnTo>
                    <a:lnTo>
                      <a:pt x="323" y="12"/>
                    </a:lnTo>
                    <a:lnTo>
                      <a:pt x="346" y="20"/>
                    </a:lnTo>
                    <a:lnTo>
                      <a:pt x="367" y="31"/>
                    </a:lnTo>
                    <a:lnTo>
                      <a:pt x="386" y="45"/>
                    </a:lnTo>
                    <a:lnTo>
                      <a:pt x="403" y="60"/>
                    </a:lnTo>
                    <a:lnTo>
                      <a:pt x="418" y="76"/>
                    </a:lnTo>
                    <a:lnTo>
                      <a:pt x="432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1" y="161"/>
                    </a:lnTo>
                    <a:lnTo>
                      <a:pt x="468" y="185"/>
                    </a:lnTo>
                    <a:lnTo>
                      <a:pt x="472" y="210"/>
                    </a:lnTo>
                    <a:lnTo>
                      <a:pt x="475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7" y="280"/>
                    </a:lnTo>
                    <a:close/>
                    <a:moveTo>
                      <a:pt x="380" y="207"/>
                    </a:moveTo>
                    <a:lnTo>
                      <a:pt x="374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6" y="117"/>
                    </a:lnTo>
                    <a:lnTo>
                      <a:pt x="317" y="103"/>
                    </a:lnTo>
                    <a:lnTo>
                      <a:pt x="295" y="92"/>
                    </a:lnTo>
                    <a:lnTo>
                      <a:pt x="270" y="85"/>
                    </a:lnTo>
                    <a:lnTo>
                      <a:pt x="243" y="83"/>
                    </a:lnTo>
                    <a:lnTo>
                      <a:pt x="216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2" y="137"/>
                    </a:lnTo>
                    <a:lnTo>
                      <a:pt x="119" y="158"/>
                    </a:lnTo>
                    <a:lnTo>
                      <a:pt x="108" y="182"/>
                    </a:lnTo>
                    <a:lnTo>
                      <a:pt x="101" y="207"/>
                    </a:lnTo>
                    <a:lnTo>
                      <a:pt x="380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326960" y="882720"/>
                <a:ext cx="84240" cy="101520"/>
              </a:xfrm>
              <a:custGeom>
                <a:avLst/>
                <a:gdLst/>
                <a:ahLst/>
                <a:rect l="l" t="t" r="r" b="b"/>
                <a:pathLst>
                  <a:path w="404" h="530">
                    <a:moveTo>
                      <a:pt x="404" y="157"/>
                    </a:moveTo>
                    <a:lnTo>
                      <a:pt x="389" y="141"/>
                    </a:lnTo>
                    <a:lnTo>
                      <a:pt x="373" y="127"/>
                    </a:lnTo>
                    <a:lnTo>
                      <a:pt x="358" y="116"/>
                    </a:lnTo>
                    <a:lnTo>
                      <a:pt x="340" y="106"/>
                    </a:lnTo>
                    <a:lnTo>
                      <a:pt x="321" y="99"/>
                    </a:lnTo>
                    <a:lnTo>
                      <a:pt x="303" y="94"/>
                    </a:lnTo>
                    <a:lnTo>
                      <a:pt x="283" y="91"/>
                    </a:lnTo>
                    <a:lnTo>
                      <a:pt x="261" y="90"/>
                    </a:lnTo>
                    <a:lnTo>
                      <a:pt x="245" y="91"/>
                    </a:lnTo>
                    <a:lnTo>
                      <a:pt x="227" y="93"/>
                    </a:lnTo>
                    <a:lnTo>
                      <a:pt x="212" y="97"/>
                    </a:lnTo>
                    <a:lnTo>
                      <a:pt x="196" y="104"/>
                    </a:lnTo>
                    <a:lnTo>
                      <a:pt x="182" y="112"/>
                    </a:lnTo>
                    <a:lnTo>
                      <a:pt x="168" y="120"/>
                    </a:lnTo>
                    <a:lnTo>
                      <a:pt x="156" y="130"/>
                    </a:lnTo>
                    <a:lnTo>
                      <a:pt x="144" y="142"/>
                    </a:lnTo>
                    <a:lnTo>
                      <a:pt x="133" y="154"/>
                    </a:lnTo>
                    <a:lnTo>
                      <a:pt x="124" y="169"/>
                    </a:lnTo>
                    <a:lnTo>
                      <a:pt x="115" y="183"/>
                    </a:lnTo>
                    <a:lnTo>
                      <a:pt x="109" y="198"/>
                    </a:lnTo>
                    <a:lnTo>
                      <a:pt x="103" y="214"/>
                    </a:lnTo>
                    <a:lnTo>
                      <a:pt x="99" y="230"/>
                    </a:lnTo>
                    <a:lnTo>
                      <a:pt x="97" y="247"/>
                    </a:lnTo>
                    <a:lnTo>
                      <a:pt x="96" y="264"/>
                    </a:lnTo>
                    <a:lnTo>
                      <a:pt x="97" y="283"/>
                    </a:lnTo>
                    <a:lnTo>
                      <a:pt x="99" y="300"/>
                    </a:lnTo>
                    <a:lnTo>
                      <a:pt x="103" y="318"/>
                    </a:lnTo>
                    <a:lnTo>
                      <a:pt x="109" y="334"/>
                    </a:lnTo>
                    <a:lnTo>
                      <a:pt x="115" y="350"/>
                    </a:lnTo>
                    <a:lnTo>
                      <a:pt x="124" y="364"/>
                    </a:lnTo>
                    <a:lnTo>
                      <a:pt x="133" y="378"/>
                    </a:lnTo>
                    <a:lnTo>
                      <a:pt x="144" y="390"/>
                    </a:lnTo>
                    <a:lnTo>
                      <a:pt x="156" y="401"/>
                    </a:lnTo>
                    <a:lnTo>
                      <a:pt x="169" y="411"/>
                    </a:lnTo>
                    <a:lnTo>
                      <a:pt x="183" y="420"/>
                    </a:lnTo>
                    <a:lnTo>
                      <a:pt x="199" y="427"/>
                    </a:lnTo>
                    <a:lnTo>
                      <a:pt x="215" y="432"/>
                    </a:lnTo>
                    <a:lnTo>
                      <a:pt x="232" y="437"/>
                    </a:lnTo>
                    <a:lnTo>
                      <a:pt x="249" y="439"/>
                    </a:lnTo>
                    <a:lnTo>
                      <a:pt x="268" y="440"/>
                    </a:lnTo>
                    <a:lnTo>
                      <a:pt x="289" y="439"/>
                    </a:lnTo>
                    <a:lnTo>
                      <a:pt x="307" y="435"/>
                    </a:lnTo>
                    <a:lnTo>
                      <a:pt x="326" y="430"/>
                    </a:lnTo>
                    <a:lnTo>
                      <a:pt x="343" y="422"/>
                    </a:lnTo>
                    <a:lnTo>
                      <a:pt x="360" y="412"/>
                    </a:lnTo>
                    <a:lnTo>
                      <a:pt x="375" y="401"/>
                    </a:lnTo>
                    <a:lnTo>
                      <a:pt x="389" y="388"/>
                    </a:lnTo>
                    <a:lnTo>
                      <a:pt x="404" y="374"/>
                    </a:lnTo>
                    <a:lnTo>
                      <a:pt x="404" y="497"/>
                    </a:lnTo>
                    <a:lnTo>
                      <a:pt x="371" y="511"/>
                    </a:lnTo>
                    <a:lnTo>
                      <a:pt x="338" y="522"/>
                    </a:lnTo>
                    <a:lnTo>
                      <a:pt x="303" y="528"/>
                    </a:lnTo>
                    <a:lnTo>
                      <a:pt x="267" y="530"/>
                    </a:lnTo>
                    <a:lnTo>
                      <a:pt x="239" y="528"/>
                    </a:lnTo>
                    <a:lnTo>
                      <a:pt x="213" y="524"/>
                    </a:lnTo>
                    <a:lnTo>
                      <a:pt x="188" y="518"/>
                    </a:lnTo>
                    <a:lnTo>
                      <a:pt x="164" y="509"/>
                    </a:lnTo>
                    <a:lnTo>
                      <a:pt x="140" y="499"/>
                    </a:lnTo>
                    <a:lnTo>
                      <a:pt x="119" y="486"/>
                    </a:lnTo>
                    <a:lnTo>
                      <a:pt x="98" y="472"/>
                    </a:lnTo>
                    <a:lnTo>
                      <a:pt x="79" y="454"/>
                    </a:lnTo>
                    <a:lnTo>
                      <a:pt x="62" y="437"/>
                    </a:lnTo>
                    <a:lnTo>
                      <a:pt x="46" y="416"/>
                    </a:lnTo>
                    <a:lnTo>
                      <a:pt x="33" y="395"/>
                    </a:lnTo>
                    <a:lnTo>
                      <a:pt x="21" y="372"/>
                    </a:lnTo>
                    <a:lnTo>
                      <a:pt x="12" y="348"/>
                    </a:lnTo>
                    <a:lnTo>
                      <a:pt x="6" y="322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6" y="213"/>
                    </a:lnTo>
                    <a:lnTo>
                      <a:pt x="12" y="186"/>
                    </a:lnTo>
                    <a:lnTo>
                      <a:pt x="21" y="161"/>
                    </a:lnTo>
                    <a:lnTo>
                      <a:pt x="33" y="138"/>
                    </a:lnTo>
                    <a:lnTo>
                      <a:pt x="46" y="115"/>
                    </a:lnTo>
                    <a:lnTo>
                      <a:pt x="62" y="95"/>
                    </a:lnTo>
                    <a:lnTo>
                      <a:pt x="79" y="76"/>
                    </a:lnTo>
                    <a:lnTo>
                      <a:pt x="98" y="59"/>
                    </a:lnTo>
                    <a:lnTo>
                      <a:pt x="119" y="45"/>
                    </a:lnTo>
                    <a:lnTo>
                      <a:pt x="142" y="31"/>
                    </a:lnTo>
                    <a:lnTo>
                      <a:pt x="165" y="20"/>
                    </a:lnTo>
                    <a:lnTo>
                      <a:pt x="190" y="12"/>
                    </a:lnTo>
                    <a:lnTo>
                      <a:pt x="216" y="5"/>
                    </a:lnTo>
                    <a:lnTo>
                      <a:pt x="244" y="2"/>
                    </a:lnTo>
                    <a:lnTo>
                      <a:pt x="272" y="0"/>
                    </a:lnTo>
                    <a:lnTo>
                      <a:pt x="306" y="2"/>
                    </a:lnTo>
                    <a:lnTo>
                      <a:pt x="340" y="8"/>
                    </a:lnTo>
                    <a:lnTo>
                      <a:pt x="373" y="18"/>
                    </a:lnTo>
                    <a:lnTo>
                      <a:pt x="404" y="32"/>
                    </a:lnTo>
                    <a:lnTo>
                      <a:pt x="404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423440" y="882720"/>
                <a:ext cx="111600" cy="101520"/>
              </a:xfrm>
              <a:custGeom>
                <a:avLst/>
                <a:gdLst/>
                <a:ahLst/>
                <a:rect l="l" t="t" r="r" b="b"/>
                <a:pathLst>
                  <a:path w="532" h="530">
                    <a:moveTo>
                      <a:pt x="532" y="264"/>
                    </a:moveTo>
                    <a:lnTo>
                      <a:pt x="530" y="293"/>
                    </a:lnTo>
                    <a:lnTo>
                      <a:pt x="527" y="319"/>
                    </a:lnTo>
                    <a:lnTo>
                      <a:pt x="520" y="344"/>
                    </a:lnTo>
                    <a:lnTo>
                      <a:pt x="511" y="370"/>
                    </a:lnTo>
                    <a:lnTo>
                      <a:pt x="501" y="393"/>
                    </a:lnTo>
                    <a:lnTo>
                      <a:pt x="487" y="415"/>
                    </a:lnTo>
                    <a:lnTo>
                      <a:pt x="472" y="434"/>
                    </a:lnTo>
                    <a:lnTo>
                      <a:pt x="454" y="453"/>
                    </a:lnTo>
                    <a:lnTo>
                      <a:pt x="436" y="471"/>
                    </a:lnTo>
                    <a:lnTo>
                      <a:pt x="416" y="485"/>
                    </a:lnTo>
                    <a:lnTo>
                      <a:pt x="394" y="498"/>
                    </a:lnTo>
                    <a:lnTo>
                      <a:pt x="370" y="509"/>
                    </a:lnTo>
                    <a:lnTo>
                      <a:pt x="346" y="518"/>
                    </a:lnTo>
                    <a:lnTo>
                      <a:pt x="321" y="524"/>
                    </a:lnTo>
                    <a:lnTo>
                      <a:pt x="293" y="528"/>
                    </a:lnTo>
                    <a:lnTo>
                      <a:pt x="266" y="530"/>
                    </a:lnTo>
                    <a:lnTo>
                      <a:pt x="238" y="528"/>
                    </a:lnTo>
                    <a:lnTo>
                      <a:pt x="212" y="524"/>
                    </a:lnTo>
                    <a:lnTo>
                      <a:pt x="187" y="518"/>
                    </a:lnTo>
                    <a:lnTo>
                      <a:pt x="162" y="509"/>
                    </a:lnTo>
                    <a:lnTo>
                      <a:pt x="139" y="498"/>
                    </a:lnTo>
                    <a:lnTo>
                      <a:pt x="117" y="485"/>
                    </a:lnTo>
                    <a:lnTo>
                      <a:pt x="97" y="471"/>
                    </a:lnTo>
                    <a:lnTo>
                      <a:pt x="78" y="453"/>
                    </a:lnTo>
                    <a:lnTo>
                      <a:pt x="61" y="434"/>
                    </a:lnTo>
                    <a:lnTo>
                      <a:pt x="45" y="415"/>
                    </a:lnTo>
                    <a:lnTo>
                      <a:pt x="32" y="393"/>
                    </a:lnTo>
                    <a:lnTo>
                      <a:pt x="21" y="370"/>
                    </a:lnTo>
                    <a:lnTo>
                      <a:pt x="12" y="344"/>
                    </a:lnTo>
                    <a:lnTo>
                      <a:pt x="6" y="319"/>
                    </a:lnTo>
                    <a:lnTo>
                      <a:pt x="3" y="293"/>
                    </a:lnTo>
                    <a:lnTo>
                      <a:pt x="0" y="264"/>
                    </a:lnTo>
                    <a:lnTo>
                      <a:pt x="3" y="237"/>
                    </a:lnTo>
                    <a:lnTo>
                      <a:pt x="6" y="210"/>
                    </a:lnTo>
                    <a:lnTo>
                      <a:pt x="12" y="185"/>
                    </a:lnTo>
                    <a:lnTo>
                      <a:pt x="21" y="160"/>
                    </a:lnTo>
                    <a:lnTo>
                      <a:pt x="32" y="137"/>
                    </a:lnTo>
                    <a:lnTo>
                      <a:pt x="45" y="115"/>
                    </a:lnTo>
                    <a:lnTo>
                      <a:pt x="61" y="95"/>
                    </a:lnTo>
                    <a:lnTo>
                      <a:pt x="78" y="76"/>
                    </a:lnTo>
                    <a:lnTo>
                      <a:pt x="97" y="59"/>
                    </a:lnTo>
                    <a:lnTo>
                      <a:pt x="117" y="45"/>
                    </a:lnTo>
                    <a:lnTo>
                      <a:pt x="139" y="31"/>
                    </a:lnTo>
                    <a:lnTo>
                      <a:pt x="162" y="20"/>
                    </a:lnTo>
                    <a:lnTo>
                      <a:pt x="187" y="12"/>
                    </a:lnTo>
                    <a:lnTo>
                      <a:pt x="212" y="5"/>
                    </a:lnTo>
                    <a:lnTo>
                      <a:pt x="238" y="2"/>
                    </a:lnTo>
                    <a:lnTo>
                      <a:pt x="266" y="0"/>
                    </a:lnTo>
                    <a:lnTo>
                      <a:pt x="293" y="2"/>
                    </a:lnTo>
                    <a:lnTo>
                      <a:pt x="321" y="5"/>
                    </a:lnTo>
                    <a:lnTo>
                      <a:pt x="346" y="12"/>
                    </a:lnTo>
                    <a:lnTo>
                      <a:pt x="370" y="20"/>
                    </a:lnTo>
                    <a:lnTo>
                      <a:pt x="394" y="31"/>
                    </a:lnTo>
                    <a:lnTo>
                      <a:pt x="416" y="45"/>
                    </a:lnTo>
                    <a:lnTo>
                      <a:pt x="436" y="59"/>
                    </a:lnTo>
                    <a:lnTo>
                      <a:pt x="454" y="76"/>
                    </a:lnTo>
                    <a:lnTo>
                      <a:pt x="472" y="95"/>
                    </a:lnTo>
                    <a:lnTo>
                      <a:pt x="487" y="115"/>
                    </a:lnTo>
                    <a:lnTo>
                      <a:pt x="501" y="137"/>
                    </a:lnTo>
                    <a:lnTo>
                      <a:pt x="511" y="160"/>
                    </a:lnTo>
                    <a:lnTo>
                      <a:pt x="520" y="185"/>
                    </a:lnTo>
                    <a:lnTo>
                      <a:pt x="527" y="210"/>
                    </a:lnTo>
                    <a:lnTo>
                      <a:pt x="530" y="237"/>
                    </a:lnTo>
                    <a:lnTo>
                      <a:pt x="532" y="264"/>
                    </a:lnTo>
                    <a:close/>
                    <a:moveTo>
                      <a:pt x="96" y="264"/>
                    </a:moveTo>
                    <a:lnTo>
                      <a:pt x="97" y="282"/>
                    </a:lnTo>
                    <a:lnTo>
                      <a:pt x="100" y="299"/>
                    </a:lnTo>
                    <a:lnTo>
                      <a:pt x="103" y="316"/>
                    </a:lnTo>
                    <a:lnTo>
                      <a:pt x="110" y="331"/>
                    </a:lnTo>
                    <a:lnTo>
                      <a:pt x="117" y="346"/>
                    </a:lnTo>
                    <a:lnTo>
                      <a:pt x="125" y="361"/>
                    </a:lnTo>
                    <a:lnTo>
                      <a:pt x="135" y="374"/>
                    </a:lnTo>
                    <a:lnTo>
                      <a:pt x="146" y="386"/>
                    </a:lnTo>
                    <a:lnTo>
                      <a:pt x="158" y="398"/>
                    </a:lnTo>
                    <a:lnTo>
                      <a:pt x="171" y="408"/>
                    </a:lnTo>
                    <a:lnTo>
                      <a:pt x="185" y="417"/>
                    </a:lnTo>
                    <a:lnTo>
                      <a:pt x="200" y="424"/>
                    </a:lnTo>
                    <a:lnTo>
                      <a:pt x="215" y="430"/>
                    </a:lnTo>
                    <a:lnTo>
                      <a:pt x="232" y="434"/>
                    </a:lnTo>
                    <a:lnTo>
                      <a:pt x="248" y="437"/>
                    </a:lnTo>
                    <a:lnTo>
                      <a:pt x="266" y="438"/>
                    </a:lnTo>
                    <a:lnTo>
                      <a:pt x="283" y="437"/>
                    </a:lnTo>
                    <a:lnTo>
                      <a:pt x="301" y="434"/>
                    </a:lnTo>
                    <a:lnTo>
                      <a:pt x="317" y="430"/>
                    </a:lnTo>
                    <a:lnTo>
                      <a:pt x="333" y="424"/>
                    </a:lnTo>
                    <a:lnTo>
                      <a:pt x="348" y="417"/>
                    </a:lnTo>
                    <a:lnTo>
                      <a:pt x="361" y="408"/>
                    </a:lnTo>
                    <a:lnTo>
                      <a:pt x="374" y="398"/>
                    </a:lnTo>
                    <a:lnTo>
                      <a:pt x="386" y="386"/>
                    </a:lnTo>
                    <a:lnTo>
                      <a:pt x="397" y="374"/>
                    </a:lnTo>
                    <a:lnTo>
                      <a:pt x="407" y="361"/>
                    </a:lnTo>
                    <a:lnTo>
                      <a:pt x="416" y="346"/>
                    </a:lnTo>
                    <a:lnTo>
                      <a:pt x="423" y="331"/>
                    </a:lnTo>
                    <a:lnTo>
                      <a:pt x="428" y="316"/>
                    </a:lnTo>
                    <a:lnTo>
                      <a:pt x="433" y="299"/>
                    </a:lnTo>
                    <a:lnTo>
                      <a:pt x="436" y="282"/>
                    </a:lnTo>
                    <a:lnTo>
                      <a:pt x="436" y="264"/>
                    </a:lnTo>
                    <a:lnTo>
                      <a:pt x="436" y="248"/>
                    </a:lnTo>
                    <a:lnTo>
                      <a:pt x="433" y="230"/>
                    </a:lnTo>
                    <a:lnTo>
                      <a:pt x="428" y="214"/>
                    </a:lnTo>
                    <a:lnTo>
                      <a:pt x="423" y="197"/>
                    </a:lnTo>
                    <a:lnTo>
                      <a:pt x="416" y="183"/>
                    </a:lnTo>
                    <a:lnTo>
                      <a:pt x="407" y="169"/>
                    </a:lnTo>
                    <a:lnTo>
                      <a:pt x="397" y="154"/>
                    </a:lnTo>
                    <a:lnTo>
                      <a:pt x="386" y="142"/>
                    </a:lnTo>
                    <a:lnTo>
                      <a:pt x="374" y="131"/>
                    </a:lnTo>
                    <a:lnTo>
                      <a:pt x="361" y="121"/>
                    </a:lnTo>
                    <a:lnTo>
                      <a:pt x="348" y="113"/>
                    </a:lnTo>
                    <a:lnTo>
                      <a:pt x="333" y="105"/>
                    </a:lnTo>
                    <a:lnTo>
                      <a:pt x="317" y="99"/>
                    </a:lnTo>
                    <a:lnTo>
                      <a:pt x="301" y="95"/>
                    </a:lnTo>
                    <a:lnTo>
                      <a:pt x="283" y="92"/>
                    </a:lnTo>
                    <a:lnTo>
                      <a:pt x="266" y="92"/>
                    </a:lnTo>
                    <a:lnTo>
                      <a:pt x="248" y="92"/>
                    </a:lnTo>
                    <a:lnTo>
                      <a:pt x="232" y="95"/>
                    </a:lnTo>
                    <a:lnTo>
                      <a:pt x="215" y="99"/>
                    </a:lnTo>
                    <a:lnTo>
                      <a:pt x="200" y="105"/>
                    </a:lnTo>
                    <a:lnTo>
                      <a:pt x="185" y="113"/>
                    </a:lnTo>
                    <a:lnTo>
                      <a:pt x="171" y="121"/>
                    </a:lnTo>
                    <a:lnTo>
                      <a:pt x="158" y="131"/>
                    </a:lnTo>
                    <a:lnTo>
                      <a:pt x="146" y="142"/>
                    </a:lnTo>
                    <a:lnTo>
                      <a:pt x="135" y="154"/>
                    </a:lnTo>
                    <a:lnTo>
                      <a:pt x="125" y="169"/>
                    </a:lnTo>
                    <a:lnTo>
                      <a:pt x="117" y="183"/>
                    </a:lnTo>
                    <a:lnTo>
                      <a:pt x="110" y="197"/>
                    </a:lnTo>
                    <a:lnTo>
                      <a:pt x="103" y="214"/>
                    </a:lnTo>
                    <a:lnTo>
                      <a:pt x="100" y="230"/>
                    </a:lnTo>
                    <a:lnTo>
                      <a:pt x="97" y="248"/>
                    </a:lnTo>
                    <a:lnTo>
                      <a:pt x="96" y="2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549440" y="882720"/>
                <a:ext cx="144360" cy="98280"/>
              </a:xfrm>
              <a:custGeom>
                <a:avLst/>
                <a:gdLst/>
                <a:ahLst/>
                <a:rect l="l" t="t" r="r" b="b"/>
                <a:pathLst>
                  <a:path w="690" h="512">
                    <a:moveTo>
                      <a:pt x="96" y="77"/>
                    </a:moveTo>
                    <a:lnTo>
                      <a:pt x="98" y="77"/>
                    </a:lnTo>
                    <a:lnTo>
                      <a:pt x="109" y="62"/>
                    </a:lnTo>
                    <a:lnTo>
                      <a:pt x="122" y="47"/>
                    </a:lnTo>
                    <a:lnTo>
                      <a:pt x="137" y="34"/>
                    </a:lnTo>
                    <a:lnTo>
                      <a:pt x="154" y="23"/>
                    </a:lnTo>
                    <a:lnTo>
                      <a:pt x="171" y="13"/>
                    </a:lnTo>
                    <a:lnTo>
                      <a:pt x="190" y="6"/>
                    </a:lnTo>
                    <a:lnTo>
                      <a:pt x="210" y="2"/>
                    </a:lnTo>
                    <a:lnTo>
                      <a:pt x="229" y="0"/>
                    </a:lnTo>
                    <a:lnTo>
                      <a:pt x="253" y="2"/>
                    </a:lnTo>
                    <a:lnTo>
                      <a:pt x="274" y="6"/>
                    </a:lnTo>
                    <a:lnTo>
                      <a:pt x="295" y="13"/>
                    </a:lnTo>
                    <a:lnTo>
                      <a:pt x="314" y="24"/>
                    </a:lnTo>
                    <a:lnTo>
                      <a:pt x="330" y="36"/>
                    </a:lnTo>
                    <a:lnTo>
                      <a:pt x="346" y="51"/>
                    </a:lnTo>
                    <a:lnTo>
                      <a:pt x="360" y="69"/>
                    </a:lnTo>
                    <a:lnTo>
                      <a:pt x="373" y="88"/>
                    </a:lnTo>
                    <a:lnTo>
                      <a:pt x="385" y="69"/>
                    </a:lnTo>
                    <a:lnTo>
                      <a:pt x="401" y="52"/>
                    </a:lnTo>
                    <a:lnTo>
                      <a:pt x="418" y="37"/>
                    </a:lnTo>
                    <a:lnTo>
                      <a:pt x="438" y="24"/>
                    </a:lnTo>
                    <a:lnTo>
                      <a:pt x="458" y="14"/>
                    </a:lnTo>
                    <a:lnTo>
                      <a:pt x="480" y="6"/>
                    </a:lnTo>
                    <a:lnTo>
                      <a:pt x="503" y="2"/>
                    </a:lnTo>
                    <a:lnTo>
                      <a:pt x="526" y="0"/>
                    </a:lnTo>
                    <a:lnTo>
                      <a:pt x="550" y="1"/>
                    </a:lnTo>
                    <a:lnTo>
                      <a:pt x="571" y="5"/>
                    </a:lnTo>
                    <a:lnTo>
                      <a:pt x="589" y="11"/>
                    </a:lnTo>
                    <a:lnTo>
                      <a:pt x="607" y="17"/>
                    </a:lnTo>
                    <a:lnTo>
                      <a:pt x="622" y="27"/>
                    </a:lnTo>
                    <a:lnTo>
                      <a:pt x="635" y="38"/>
                    </a:lnTo>
                    <a:lnTo>
                      <a:pt x="647" y="51"/>
                    </a:lnTo>
                    <a:lnTo>
                      <a:pt x="657" y="65"/>
                    </a:lnTo>
                    <a:lnTo>
                      <a:pt x="666" y="81"/>
                    </a:lnTo>
                    <a:lnTo>
                      <a:pt x="673" y="97"/>
                    </a:lnTo>
                    <a:lnTo>
                      <a:pt x="678" y="115"/>
                    </a:lnTo>
                    <a:lnTo>
                      <a:pt x="684" y="133"/>
                    </a:lnTo>
                    <a:lnTo>
                      <a:pt x="689" y="173"/>
                    </a:lnTo>
                    <a:lnTo>
                      <a:pt x="690" y="215"/>
                    </a:lnTo>
                    <a:lnTo>
                      <a:pt x="690" y="512"/>
                    </a:lnTo>
                    <a:lnTo>
                      <a:pt x="595" y="512"/>
                    </a:lnTo>
                    <a:lnTo>
                      <a:pt x="595" y="230"/>
                    </a:lnTo>
                    <a:lnTo>
                      <a:pt x="595" y="206"/>
                    </a:lnTo>
                    <a:lnTo>
                      <a:pt x="593" y="181"/>
                    </a:lnTo>
                    <a:lnTo>
                      <a:pt x="588" y="157"/>
                    </a:lnTo>
                    <a:lnTo>
                      <a:pt x="580" y="133"/>
                    </a:lnTo>
                    <a:lnTo>
                      <a:pt x="568" y="114"/>
                    </a:lnTo>
                    <a:lnTo>
                      <a:pt x="561" y="106"/>
                    </a:lnTo>
                    <a:lnTo>
                      <a:pt x="552" y="98"/>
                    </a:lnTo>
                    <a:lnTo>
                      <a:pt x="542" y="93"/>
                    </a:lnTo>
                    <a:lnTo>
                      <a:pt x="531" y="88"/>
                    </a:lnTo>
                    <a:lnTo>
                      <a:pt x="517" y="86"/>
                    </a:lnTo>
                    <a:lnTo>
                      <a:pt x="503" y="85"/>
                    </a:lnTo>
                    <a:lnTo>
                      <a:pt x="484" y="86"/>
                    </a:lnTo>
                    <a:lnTo>
                      <a:pt x="469" y="90"/>
                    </a:lnTo>
                    <a:lnTo>
                      <a:pt x="454" y="95"/>
                    </a:lnTo>
                    <a:lnTo>
                      <a:pt x="442" y="103"/>
                    </a:lnTo>
                    <a:lnTo>
                      <a:pt x="432" y="112"/>
                    </a:lnTo>
                    <a:lnTo>
                      <a:pt x="423" y="123"/>
                    </a:lnTo>
                    <a:lnTo>
                      <a:pt x="416" y="135"/>
                    </a:lnTo>
                    <a:lnTo>
                      <a:pt x="409" y="148"/>
                    </a:lnTo>
                    <a:lnTo>
                      <a:pt x="401" y="176"/>
                    </a:lnTo>
                    <a:lnTo>
                      <a:pt x="396" y="207"/>
                    </a:lnTo>
                    <a:lnTo>
                      <a:pt x="394" y="238"/>
                    </a:lnTo>
                    <a:lnTo>
                      <a:pt x="393" y="267"/>
                    </a:lnTo>
                    <a:lnTo>
                      <a:pt x="393" y="512"/>
                    </a:lnTo>
                    <a:lnTo>
                      <a:pt x="297" y="512"/>
                    </a:lnTo>
                    <a:lnTo>
                      <a:pt x="297" y="249"/>
                    </a:lnTo>
                    <a:lnTo>
                      <a:pt x="297" y="224"/>
                    </a:lnTo>
                    <a:lnTo>
                      <a:pt x="295" y="196"/>
                    </a:lnTo>
                    <a:lnTo>
                      <a:pt x="292" y="169"/>
                    </a:lnTo>
                    <a:lnTo>
                      <a:pt x="285" y="142"/>
                    </a:lnTo>
                    <a:lnTo>
                      <a:pt x="280" y="130"/>
                    </a:lnTo>
                    <a:lnTo>
                      <a:pt x="273" y="119"/>
                    </a:lnTo>
                    <a:lnTo>
                      <a:pt x="267" y="110"/>
                    </a:lnTo>
                    <a:lnTo>
                      <a:pt x="258" y="102"/>
                    </a:lnTo>
                    <a:lnTo>
                      <a:pt x="247" y="95"/>
                    </a:lnTo>
                    <a:lnTo>
                      <a:pt x="235" y="90"/>
                    </a:lnTo>
                    <a:lnTo>
                      <a:pt x="222" y="86"/>
                    </a:lnTo>
                    <a:lnTo>
                      <a:pt x="206" y="85"/>
                    </a:lnTo>
                    <a:lnTo>
                      <a:pt x="188" y="86"/>
                    </a:lnTo>
                    <a:lnTo>
                      <a:pt x="172" y="90"/>
                    </a:lnTo>
                    <a:lnTo>
                      <a:pt x="158" y="95"/>
                    </a:lnTo>
                    <a:lnTo>
                      <a:pt x="146" y="103"/>
                    </a:lnTo>
                    <a:lnTo>
                      <a:pt x="135" y="112"/>
                    </a:lnTo>
                    <a:lnTo>
                      <a:pt x="126" y="123"/>
                    </a:lnTo>
                    <a:lnTo>
                      <a:pt x="119" y="135"/>
                    </a:lnTo>
                    <a:lnTo>
                      <a:pt x="113" y="148"/>
                    </a:lnTo>
                    <a:lnTo>
                      <a:pt x="103" y="176"/>
                    </a:lnTo>
                    <a:lnTo>
                      <a:pt x="99" y="207"/>
                    </a:lnTo>
                    <a:lnTo>
                      <a:pt x="97" y="238"/>
                    </a:lnTo>
                    <a:lnTo>
                      <a:pt x="96" y="267"/>
                    </a:lnTo>
                    <a:lnTo>
                      <a:pt x="96" y="512"/>
                    </a:lnTo>
                    <a:lnTo>
                      <a:pt x="0" y="512"/>
                    </a:lnTo>
                    <a:lnTo>
                      <a:pt x="0" y="15"/>
                    </a:lnTo>
                    <a:lnTo>
                      <a:pt x="96" y="15"/>
                    </a:lnTo>
                    <a:lnTo>
                      <a:pt x="96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908640" y="1022400"/>
                <a:ext cx="9082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a-DK" sz="600" spc="-1" strike="noStrike">
                    <a:solidFill>
                      <a:srgbClr val="ffffff"/>
                    </a:solidFill>
                    <a:latin typeface="Futura Bk BT"/>
                  </a:rPr>
                  <a:t>www.kirktelecom.dk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8" name=""/>
          <p:cNvSpPr/>
          <p:nvPr/>
        </p:nvSpPr>
        <p:spPr>
          <a:xfrm>
            <a:off x="2228760" y="90360"/>
            <a:ext cx="76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CCFP Administration Program Ver.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05040" y="1789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705040" y="5133960"/>
            <a:ext cx="718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Registration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ользуется для регистрации серийных номеров и дополнительных данных абонентов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2705040" y="547560"/>
            <a:ext cx="6334200" cy="44578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 flipH="1" flipV="1">
            <a:off x="3562200" y="1157040"/>
            <a:ext cx="285840" cy="412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584600" y="3733920"/>
            <a:ext cx="121464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4584600" y="3733920"/>
            <a:ext cx="38736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89360" y="3429000"/>
            <a:ext cx="34351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324480" y="3429000"/>
            <a:ext cx="25909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889360" y="3962520"/>
            <a:ext cx="614988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3848040" y="4495320"/>
            <a:ext cx="19512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705040" y="5653080"/>
            <a:ext cx="24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нные абонен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05040" y="59580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даление абонента или перемещение на другой канал 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IW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C12D-D60B-49F2-ACFE-3A263E009376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889360" y="457200"/>
            <a:ext cx="6521400" cy="0"/>
          </a:xfrm>
          <a:prstGeom prst="line">
            <a:avLst/>
          </a:prstGeom>
          <a:ln cap="sq"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0" y="0"/>
            <a:ext cx="6129000" cy="6858000"/>
            <a:chOff x="0" y="0"/>
            <a:chExt cx="6129000" cy="6858000"/>
          </a:xfrm>
        </p:grpSpPr>
        <p:sp>
          <p:nvSpPr>
            <p:cNvPr id="493" name=""/>
            <p:cNvSpPr/>
            <p:nvPr/>
          </p:nvSpPr>
          <p:spPr>
            <a:xfrm>
              <a:off x="0" y="0"/>
              <a:ext cx="2228760" cy="3429000"/>
            </a:xfrm>
            <a:prstGeom prst="rect">
              <a:avLst/>
            </a:prstGeom>
            <a:solidFill>
              <a:srgbClr val="000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0" y="3429000"/>
              <a:ext cx="2228760" cy="3429000"/>
            </a:xfrm>
            <a:prstGeom prst="rect">
              <a:avLst/>
            </a:pr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1836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9924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7" name="" descr=""/>
            <p:cNvPicPr/>
            <p:nvPr/>
          </p:nvPicPr>
          <p:blipFill>
            <a:blip r:embed="rId1"/>
            <a:stretch/>
          </p:blipFill>
          <p:spPr>
            <a:xfrm>
              <a:off x="201240" y="2055960"/>
              <a:ext cx="1705680" cy="271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8" name=""/>
            <p:cNvGrpSpPr/>
            <p:nvPr/>
          </p:nvGrpSpPr>
          <p:grpSpPr>
            <a:xfrm>
              <a:off x="211320" y="380880"/>
              <a:ext cx="1605600" cy="821880"/>
              <a:chOff x="211320" y="380880"/>
              <a:chExt cx="1605600" cy="821880"/>
            </a:xfrm>
          </p:grpSpPr>
          <p:sp>
            <p:nvSpPr>
              <p:cNvPr id="499" name=""/>
              <p:cNvSpPr/>
              <p:nvPr/>
            </p:nvSpPr>
            <p:spPr>
              <a:xfrm>
                <a:off x="403920" y="38088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7">
                    <a:moveTo>
                      <a:pt x="29" y="1655"/>
                    </a:moveTo>
                    <a:lnTo>
                      <a:pt x="79" y="1682"/>
                    </a:lnTo>
                    <a:lnTo>
                      <a:pt x="623" y="1957"/>
                    </a:lnTo>
                    <a:lnTo>
                      <a:pt x="684" y="1987"/>
                    </a:lnTo>
                    <a:lnTo>
                      <a:pt x="687" y="1916"/>
                    </a:lnTo>
                    <a:lnTo>
                      <a:pt x="691" y="1864"/>
                    </a:lnTo>
                    <a:lnTo>
                      <a:pt x="697" y="1814"/>
                    </a:lnTo>
                    <a:lnTo>
                      <a:pt x="704" y="1763"/>
                    </a:lnTo>
                    <a:lnTo>
                      <a:pt x="713" y="1714"/>
                    </a:lnTo>
                    <a:lnTo>
                      <a:pt x="724" y="1665"/>
                    </a:lnTo>
                    <a:lnTo>
                      <a:pt x="737" y="1616"/>
                    </a:lnTo>
                    <a:lnTo>
                      <a:pt x="751" y="1569"/>
                    </a:lnTo>
                    <a:lnTo>
                      <a:pt x="767" y="1522"/>
                    </a:lnTo>
                    <a:lnTo>
                      <a:pt x="784" y="1476"/>
                    </a:lnTo>
                    <a:lnTo>
                      <a:pt x="803" y="1431"/>
                    </a:lnTo>
                    <a:lnTo>
                      <a:pt x="824" y="1386"/>
                    </a:lnTo>
                    <a:lnTo>
                      <a:pt x="846" y="1343"/>
                    </a:lnTo>
                    <a:lnTo>
                      <a:pt x="869" y="1300"/>
                    </a:lnTo>
                    <a:lnTo>
                      <a:pt x="894" y="1257"/>
                    </a:lnTo>
                    <a:lnTo>
                      <a:pt x="920" y="1217"/>
                    </a:lnTo>
                    <a:lnTo>
                      <a:pt x="948" y="1177"/>
                    </a:lnTo>
                    <a:lnTo>
                      <a:pt x="976" y="1137"/>
                    </a:lnTo>
                    <a:lnTo>
                      <a:pt x="1007" y="1100"/>
                    </a:lnTo>
                    <a:lnTo>
                      <a:pt x="1038" y="1063"/>
                    </a:lnTo>
                    <a:lnTo>
                      <a:pt x="1071" y="1027"/>
                    </a:lnTo>
                    <a:lnTo>
                      <a:pt x="1105" y="993"/>
                    </a:lnTo>
                    <a:lnTo>
                      <a:pt x="1140" y="959"/>
                    </a:lnTo>
                    <a:lnTo>
                      <a:pt x="1176" y="927"/>
                    </a:lnTo>
                    <a:lnTo>
                      <a:pt x="1213" y="896"/>
                    </a:lnTo>
                    <a:lnTo>
                      <a:pt x="1250" y="866"/>
                    </a:lnTo>
                    <a:lnTo>
                      <a:pt x="1290" y="838"/>
                    </a:lnTo>
                    <a:lnTo>
                      <a:pt x="1331" y="810"/>
                    </a:lnTo>
                    <a:lnTo>
                      <a:pt x="1372" y="785"/>
                    </a:lnTo>
                    <a:lnTo>
                      <a:pt x="1414" y="760"/>
                    </a:lnTo>
                    <a:lnTo>
                      <a:pt x="1457" y="737"/>
                    </a:lnTo>
                    <a:lnTo>
                      <a:pt x="1501" y="716"/>
                    </a:lnTo>
                    <a:lnTo>
                      <a:pt x="1546" y="696"/>
                    </a:lnTo>
                    <a:lnTo>
                      <a:pt x="1584" y="680"/>
                    </a:lnTo>
                    <a:lnTo>
                      <a:pt x="1594" y="673"/>
                    </a:lnTo>
                    <a:lnTo>
                      <a:pt x="1600" y="665"/>
                    </a:lnTo>
                    <a:lnTo>
                      <a:pt x="1604" y="658"/>
                    </a:lnTo>
                    <a:lnTo>
                      <a:pt x="1606" y="650"/>
                    </a:lnTo>
                    <a:lnTo>
                      <a:pt x="1605" y="638"/>
                    </a:lnTo>
                    <a:lnTo>
                      <a:pt x="1603" y="632"/>
                    </a:lnTo>
                    <a:lnTo>
                      <a:pt x="1586" y="586"/>
                    </a:lnTo>
                    <a:lnTo>
                      <a:pt x="1385" y="31"/>
                    </a:lnTo>
                    <a:lnTo>
                      <a:pt x="1381" y="18"/>
                    </a:lnTo>
                    <a:lnTo>
                      <a:pt x="1380" y="13"/>
                    </a:lnTo>
                    <a:lnTo>
                      <a:pt x="1372" y="5"/>
                    </a:lnTo>
                    <a:lnTo>
                      <a:pt x="1367" y="2"/>
                    </a:lnTo>
                    <a:lnTo>
                      <a:pt x="1359" y="0"/>
                    </a:lnTo>
                    <a:lnTo>
                      <a:pt x="1349" y="0"/>
                    </a:lnTo>
                    <a:lnTo>
                      <a:pt x="1337" y="3"/>
                    </a:lnTo>
                    <a:lnTo>
                      <a:pt x="1307" y="14"/>
                    </a:lnTo>
                    <a:lnTo>
                      <a:pt x="1248" y="37"/>
                    </a:lnTo>
                    <a:lnTo>
                      <a:pt x="1190" y="63"/>
                    </a:lnTo>
                    <a:lnTo>
                      <a:pt x="1133" y="89"/>
                    </a:lnTo>
                    <a:lnTo>
                      <a:pt x="1076" y="119"/>
                    </a:lnTo>
                    <a:lnTo>
                      <a:pt x="1021" y="149"/>
                    </a:lnTo>
                    <a:lnTo>
                      <a:pt x="966" y="181"/>
                    </a:lnTo>
                    <a:lnTo>
                      <a:pt x="913" y="215"/>
                    </a:lnTo>
                    <a:lnTo>
                      <a:pt x="861" y="251"/>
                    </a:lnTo>
                    <a:lnTo>
                      <a:pt x="810" y="289"/>
                    </a:lnTo>
                    <a:lnTo>
                      <a:pt x="759" y="328"/>
                    </a:lnTo>
                    <a:lnTo>
                      <a:pt x="711" y="369"/>
                    </a:lnTo>
                    <a:lnTo>
                      <a:pt x="663" y="411"/>
                    </a:lnTo>
                    <a:lnTo>
                      <a:pt x="616" y="455"/>
                    </a:lnTo>
                    <a:lnTo>
                      <a:pt x="572" y="501"/>
                    </a:lnTo>
                    <a:lnTo>
                      <a:pt x="528" y="547"/>
                    </a:lnTo>
                    <a:lnTo>
                      <a:pt x="485" y="595"/>
                    </a:lnTo>
                    <a:lnTo>
                      <a:pt x="443" y="645"/>
                    </a:lnTo>
                    <a:lnTo>
                      <a:pt x="404" y="695"/>
                    </a:lnTo>
                    <a:lnTo>
                      <a:pt x="365" y="747"/>
                    </a:lnTo>
                    <a:lnTo>
                      <a:pt x="329" y="800"/>
                    </a:lnTo>
                    <a:lnTo>
                      <a:pt x="294" y="854"/>
                    </a:lnTo>
                    <a:lnTo>
                      <a:pt x="260" y="910"/>
                    </a:lnTo>
                    <a:lnTo>
                      <a:pt x="228" y="967"/>
                    </a:lnTo>
                    <a:lnTo>
                      <a:pt x="197" y="1024"/>
                    </a:lnTo>
                    <a:lnTo>
                      <a:pt x="169" y="1084"/>
                    </a:lnTo>
                    <a:lnTo>
                      <a:pt x="142" y="1144"/>
                    </a:lnTo>
                    <a:lnTo>
                      <a:pt x="116" y="1204"/>
                    </a:lnTo>
                    <a:lnTo>
                      <a:pt x="93" y="1266"/>
                    </a:lnTo>
                    <a:lnTo>
                      <a:pt x="71" y="1329"/>
                    </a:lnTo>
                    <a:lnTo>
                      <a:pt x="52" y="1392"/>
                    </a:lnTo>
                    <a:lnTo>
                      <a:pt x="34" y="1457"/>
                    </a:lnTo>
                    <a:lnTo>
                      <a:pt x="18" y="1522"/>
                    </a:lnTo>
                    <a:lnTo>
                      <a:pt x="2" y="1593"/>
                    </a:lnTo>
                    <a:lnTo>
                      <a:pt x="0" y="1610"/>
                    </a:lnTo>
                    <a:lnTo>
                      <a:pt x="1" y="1623"/>
                    </a:lnTo>
                    <a:lnTo>
                      <a:pt x="6" y="1634"/>
                    </a:lnTo>
                    <a:lnTo>
                      <a:pt x="11" y="1643"/>
                    </a:lnTo>
                    <a:lnTo>
                      <a:pt x="17" y="1648"/>
                    </a:lnTo>
                    <a:lnTo>
                      <a:pt x="23" y="1652"/>
                    </a:lnTo>
                    <a:lnTo>
                      <a:pt x="29" y="1655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03920" y="77004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5">
                    <a:moveTo>
                      <a:pt x="29" y="333"/>
                    </a:moveTo>
                    <a:lnTo>
                      <a:pt x="79" y="306"/>
                    </a:lnTo>
                    <a:lnTo>
                      <a:pt x="623" y="31"/>
                    </a:lnTo>
                    <a:lnTo>
                      <a:pt x="684" y="0"/>
                    </a:lnTo>
                    <a:lnTo>
                      <a:pt x="687" y="72"/>
                    </a:lnTo>
                    <a:lnTo>
                      <a:pt x="691" y="123"/>
                    </a:lnTo>
                    <a:lnTo>
                      <a:pt x="697" y="174"/>
                    </a:lnTo>
                    <a:lnTo>
                      <a:pt x="704" y="224"/>
                    </a:lnTo>
                    <a:lnTo>
                      <a:pt x="713" y="273"/>
                    </a:lnTo>
                    <a:lnTo>
                      <a:pt x="724" y="323"/>
                    </a:lnTo>
                    <a:lnTo>
                      <a:pt x="737" y="371"/>
                    </a:lnTo>
                    <a:lnTo>
                      <a:pt x="751" y="418"/>
                    </a:lnTo>
                    <a:lnTo>
                      <a:pt x="767" y="465"/>
                    </a:lnTo>
                    <a:lnTo>
                      <a:pt x="784" y="512"/>
                    </a:lnTo>
                    <a:lnTo>
                      <a:pt x="803" y="557"/>
                    </a:lnTo>
                    <a:lnTo>
                      <a:pt x="824" y="602"/>
                    </a:lnTo>
                    <a:lnTo>
                      <a:pt x="846" y="645"/>
                    </a:lnTo>
                    <a:lnTo>
                      <a:pt x="869" y="688"/>
                    </a:lnTo>
                    <a:lnTo>
                      <a:pt x="894" y="730"/>
                    </a:lnTo>
                    <a:lnTo>
                      <a:pt x="920" y="771"/>
                    </a:lnTo>
                    <a:lnTo>
                      <a:pt x="948" y="811"/>
                    </a:lnTo>
                    <a:lnTo>
                      <a:pt x="976" y="850"/>
                    </a:lnTo>
                    <a:lnTo>
                      <a:pt x="1007" y="888"/>
                    </a:lnTo>
                    <a:lnTo>
                      <a:pt x="1038" y="924"/>
                    </a:lnTo>
                    <a:lnTo>
                      <a:pt x="1071" y="961"/>
                    </a:lnTo>
                    <a:lnTo>
                      <a:pt x="1105" y="995"/>
                    </a:lnTo>
                    <a:lnTo>
                      <a:pt x="1140" y="1029"/>
                    </a:lnTo>
                    <a:lnTo>
                      <a:pt x="1176" y="1061"/>
                    </a:lnTo>
                    <a:lnTo>
                      <a:pt x="1213" y="1092"/>
                    </a:lnTo>
                    <a:lnTo>
                      <a:pt x="1252" y="1122"/>
                    </a:lnTo>
                    <a:lnTo>
                      <a:pt x="1290" y="1151"/>
                    </a:lnTo>
                    <a:lnTo>
                      <a:pt x="1331" y="1177"/>
                    </a:lnTo>
                    <a:lnTo>
                      <a:pt x="1372" y="1203"/>
                    </a:lnTo>
                    <a:lnTo>
                      <a:pt x="1414" y="1227"/>
                    </a:lnTo>
                    <a:lnTo>
                      <a:pt x="1457" y="1250"/>
                    </a:lnTo>
                    <a:lnTo>
                      <a:pt x="1501" y="1271"/>
                    </a:lnTo>
                    <a:lnTo>
                      <a:pt x="1546" y="1292"/>
                    </a:lnTo>
                    <a:lnTo>
                      <a:pt x="1584" y="1308"/>
                    </a:lnTo>
                    <a:lnTo>
                      <a:pt x="1594" y="1315"/>
                    </a:lnTo>
                    <a:lnTo>
                      <a:pt x="1600" y="1323"/>
                    </a:lnTo>
                    <a:lnTo>
                      <a:pt x="1605" y="1331"/>
                    </a:lnTo>
                    <a:lnTo>
                      <a:pt x="1606" y="1337"/>
                    </a:lnTo>
                    <a:lnTo>
                      <a:pt x="1605" y="1349"/>
                    </a:lnTo>
                    <a:lnTo>
                      <a:pt x="1603" y="1355"/>
                    </a:lnTo>
                    <a:lnTo>
                      <a:pt x="1586" y="1401"/>
                    </a:lnTo>
                    <a:lnTo>
                      <a:pt x="1388" y="1950"/>
                    </a:lnTo>
                    <a:lnTo>
                      <a:pt x="1381" y="1965"/>
                    </a:lnTo>
                    <a:lnTo>
                      <a:pt x="1379" y="1970"/>
                    </a:lnTo>
                    <a:lnTo>
                      <a:pt x="1371" y="1978"/>
                    </a:lnTo>
                    <a:lnTo>
                      <a:pt x="1366" y="1983"/>
                    </a:lnTo>
                    <a:lnTo>
                      <a:pt x="1358" y="1985"/>
                    </a:lnTo>
                    <a:lnTo>
                      <a:pt x="1348" y="1985"/>
                    </a:lnTo>
                    <a:lnTo>
                      <a:pt x="1338" y="1983"/>
                    </a:lnTo>
                    <a:lnTo>
                      <a:pt x="1302" y="1969"/>
                    </a:lnTo>
                    <a:lnTo>
                      <a:pt x="1242" y="1942"/>
                    </a:lnTo>
                    <a:lnTo>
                      <a:pt x="1181" y="1915"/>
                    </a:lnTo>
                    <a:lnTo>
                      <a:pt x="1123" y="1886"/>
                    </a:lnTo>
                    <a:lnTo>
                      <a:pt x="1066" y="1857"/>
                    </a:lnTo>
                    <a:lnTo>
                      <a:pt x="1009" y="1824"/>
                    </a:lnTo>
                    <a:lnTo>
                      <a:pt x="954" y="1791"/>
                    </a:lnTo>
                    <a:lnTo>
                      <a:pt x="901" y="1756"/>
                    </a:lnTo>
                    <a:lnTo>
                      <a:pt x="848" y="1719"/>
                    </a:lnTo>
                    <a:lnTo>
                      <a:pt x="796" y="1682"/>
                    </a:lnTo>
                    <a:lnTo>
                      <a:pt x="747" y="1642"/>
                    </a:lnTo>
                    <a:lnTo>
                      <a:pt x="698" y="1602"/>
                    </a:lnTo>
                    <a:lnTo>
                      <a:pt x="650" y="1560"/>
                    </a:lnTo>
                    <a:lnTo>
                      <a:pt x="604" y="1517"/>
                    </a:lnTo>
                    <a:lnTo>
                      <a:pt x="559" y="1472"/>
                    </a:lnTo>
                    <a:lnTo>
                      <a:pt x="517" y="1426"/>
                    </a:lnTo>
                    <a:lnTo>
                      <a:pt x="475" y="1379"/>
                    </a:lnTo>
                    <a:lnTo>
                      <a:pt x="434" y="1331"/>
                    </a:lnTo>
                    <a:lnTo>
                      <a:pt x="395" y="1281"/>
                    </a:lnTo>
                    <a:lnTo>
                      <a:pt x="358" y="1230"/>
                    </a:lnTo>
                    <a:lnTo>
                      <a:pt x="323" y="1178"/>
                    </a:lnTo>
                    <a:lnTo>
                      <a:pt x="287" y="1124"/>
                    </a:lnTo>
                    <a:lnTo>
                      <a:pt x="255" y="1070"/>
                    </a:lnTo>
                    <a:lnTo>
                      <a:pt x="224" y="1014"/>
                    </a:lnTo>
                    <a:lnTo>
                      <a:pt x="194" y="957"/>
                    </a:lnTo>
                    <a:lnTo>
                      <a:pt x="166" y="900"/>
                    </a:lnTo>
                    <a:lnTo>
                      <a:pt x="139" y="841"/>
                    </a:lnTo>
                    <a:lnTo>
                      <a:pt x="115" y="781"/>
                    </a:lnTo>
                    <a:lnTo>
                      <a:pt x="92" y="720"/>
                    </a:lnTo>
                    <a:lnTo>
                      <a:pt x="71" y="658"/>
                    </a:lnTo>
                    <a:lnTo>
                      <a:pt x="52" y="595"/>
                    </a:lnTo>
                    <a:lnTo>
                      <a:pt x="34" y="530"/>
                    </a:lnTo>
                    <a:lnTo>
                      <a:pt x="18" y="465"/>
                    </a:lnTo>
                    <a:lnTo>
                      <a:pt x="3" y="394"/>
                    </a:lnTo>
                    <a:lnTo>
                      <a:pt x="0" y="378"/>
                    </a:lnTo>
                    <a:lnTo>
                      <a:pt x="1" y="364"/>
                    </a:lnTo>
                    <a:lnTo>
                      <a:pt x="6" y="353"/>
                    </a:lnTo>
                    <a:lnTo>
                      <a:pt x="11" y="346"/>
                    </a:lnTo>
                    <a:lnTo>
                      <a:pt x="17" y="339"/>
                    </a:lnTo>
                    <a:lnTo>
                      <a:pt x="23" y="336"/>
                    </a:lnTo>
                    <a:lnTo>
                      <a:pt x="29" y="333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67440" y="698400"/>
                <a:ext cx="149400" cy="147600"/>
              </a:xfrm>
              <a:custGeom>
                <a:avLst/>
                <a:gdLst/>
                <a:ahLst/>
                <a:rect l="l" t="t" r="r" b="b"/>
                <a:pathLst>
                  <a:path w="714" h="759">
                    <a:moveTo>
                      <a:pt x="699" y="379"/>
                    </a:moveTo>
                    <a:lnTo>
                      <a:pt x="706" y="375"/>
                    </a:lnTo>
                    <a:lnTo>
                      <a:pt x="710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09" y="351"/>
                    </a:lnTo>
                    <a:lnTo>
                      <a:pt x="705" y="346"/>
                    </a:lnTo>
                    <a:lnTo>
                      <a:pt x="699" y="342"/>
                    </a:lnTo>
                    <a:lnTo>
                      <a:pt x="35" y="4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3" y="11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735"/>
                    </a:lnTo>
                    <a:lnTo>
                      <a:pt x="1" y="743"/>
                    </a:lnTo>
                    <a:lnTo>
                      <a:pt x="3" y="748"/>
                    </a:lnTo>
                    <a:lnTo>
                      <a:pt x="5" y="753"/>
                    </a:lnTo>
                    <a:lnTo>
                      <a:pt x="10" y="757"/>
                    </a:lnTo>
                    <a:lnTo>
                      <a:pt x="15" y="759"/>
                    </a:lnTo>
                    <a:lnTo>
                      <a:pt x="21" y="759"/>
                    </a:lnTo>
                    <a:lnTo>
                      <a:pt x="27" y="758"/>
                    </a:lnTo>
                    <a:lnTo>
                      <a:pt x="34" y="755"/>
                    </a:lnTo>
                    <a:lnTo>
                      <a:pt x="699" y="379"/>
                    </a:lnTo>
                    <a:close/>
                  </a:path>
                </a:pathLst>
              </a:custGeom>
              <a:solidFill>
                <a:srgbClr val="00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11320" y="701640"/>
                <a:ext cx="149760" cy="146160"/>
              </a:xfrm>
              <a:custGeom>
                <a:avLst/>
                <a:gdLst/>
                <a:ahLst/>
                <a:rect l="l" t="t" r="r" b="b"/>
                <a:pathLst>
                  <a:path w="714" h="758">
                    <a:moveTo>
                      <a:pt x="701" y="379"/>
                    </a:moveTo>
                    <a:lnTo>
                      <a:pt x="706" y="374"/>
                    </a:lnTo>
                    <a:lnTo>
                      <a:pt x="711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11" y="350"/>
                    </a:lnTo>
                    <a:lnTo>
                      <a:pt x="706" y="346"/>
                    </a:lnTo>
                    <a:lnTo>
                      <a:pt x="700" y="342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0" y="734"/>
                    </a:lnTo>
                    <a:lnTo>
                      <a:pt x="1" y="742"/>
                    </a:lnTo>
                    <a:lnTo>
                      <a:pt x="3" y="749"/>
                    </a:lnTo>
                    <a:lnTo>
                      <a:pt x="7" y="753"/>
                    </a:lnTo>
                    <a:lnTo>
                      <a:pt x="10" y="756"/>
                    </a:lnTo>
                    <a:lnTo>
                      <a:pt x="15" y="758"/>
                    </a:lnTo>
                    <a:lnTo>
                      <a:pt x="21" y="758"/>
                    </a:lnTo>
                    <a:lnTo>
                      <a:pt x="27" y="757"/>
                    </a:lnTo>
                    <a:lnTo>
                      <a:pt x="34" y="754"/>
                    </a:lnTo>
                    <a:lnTo>
                      <a:pt x="701" y="379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011960" y="517680"/>
                <a:ext cx="195840" cy="250560"/>
              </a:xfrm>
              <a:custGeom>
                <a:avLst/>
                <a:gdLst/>
                <a:ahLst/>
                <a:rect l="l" t="t" r="r" b="b"/>
                <a:pathLst>
                  <a:path w="930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30" y="1293"/>
                    </a:lnTo>
                    <a:lnTo>
                      <a:pt x="713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230480" y="517680"/>
                <a:ext cx="34200" cy="25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16520" y="517680"/>
                <a:ext cx="168480" cy="250560"/>
              </a:xfrm>
              <a:custGeom>
                <a:avLst/>
                <a:gdLst/>
                <a:ahLst/>
                <a:rect l="l" t="t" r="r" b="b"/>
                <a:pathLst>
                  <a:path w="803" h="1293">
                    <a:moveTo>
                      <a:pt x="803" y="1293"/>
                    </a:moveTo>
                    <a:lnTo>
                      <a:pt x="607" y="1293"/>
                    </a:lnTo>
                    <a:lnTo>
                      <a:pt x="228" y="746"/>
                    </a:lnTo>
                    <a:lnTo>
                      <a:pt x="161" y="746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283" y="1"/>
                    </a:lnTo>
                    <a:lnTo>
                      <a:pt x="327" y="4"/>
                    </a:lnTo>
                    <a:lnTo>
                      <a:pt x="370" y="8"/>
                    </a:lnTo>
                    <a:lnTo>
                      <a:pt x="413" y="16"/>
                    </a:lnTo>
                    <a:lnTo>
                      <a:pt x="456" y="27"/>
                    </a:lnTo>
                    <a:lnTo>
                      <a:pt x="497" y="41"/>
                    </a:lnTo>
                    <a:lnTo>
                      <a:pt x="536" y="61"/>
                    </a:lnTo>
                    <a:lnTo>
                      <a:pt x="556" y="73"/>
                    </a:lnTo>
                    <a:lnTo>
                      <a:pt x="574" y="87"/>
                    </a:lnTo>
                    <a:lnTo>
                      <a:pt x="592" y="101"/>
                    </a:lnTo>
                    <a:lnTo>
                      <a:pt x="608" y="118"/>
                    </a:lnTo>
                    <a:lnTo>
                      <a:pt x="623" y="135"/>
                    </a:lnTo>
                    <a:lnTo>
                      <a:pt x="637" y="153"/>
                    </a:lnTo>
                    <a:lnTo>
                      <a:pt x="650" y="173"/>
                    </a:lnTo>
                    <a:lnTo>
                      <a:pt x="661" y="192"/>
                    </a:lnTo>
                    <a:lnTo>
                      <a:pt x="671" y="212"/>
                    </a:lnTo>
                    <a:lnTo>
                      <a:pt x="680" y="233"/>
                    </a:lnTo>
                    <a:lnTo>
                      <a:pt x="694" y="277"/>
                    </a:lnTo>
                    <a:lnTo>
                      <a:pt x="700" y="300"/>
                    </a:lnTo>
                    <a:lnTo>
                      <a:pt x="703" y="323"/>
                    </a:lnTo>
                    <a:lnTo>
                      <a:pt x="705" y="346"/>
                    </a:lnTo>
                    <a:lnTo>
                      <a:pt x="705" y="369"/>
                    </a:lnTo>
                    <a:lnTo>
                      <a:pt x="704" y="403"/>
                    </a:lnTo>
                    <a:lnTo>
                      <a:pt x="700" y="436"/>
                    </a:lnTo>
                    <a:lnTo>
                      <a:pt x="693" y="469"/>
                    </a:lnTo>
                    <a:lnTo>
                      <a:pt x="683" y="500"/>
                    </a:lnTo>
                    <a:lnTo>
                      <a:pt x="671" y="531"/>
                    </a:lnTo>
                    <a:lnTo>
                      <a:pt x="657" y="558"/>
                    </a:lnTo>
                    <a:lnTo>
                      <a:pt x="639" y="585"/>
                    </a:lnTo>
                    <a:lnTo>
                      <a:pt x="621" y="611"/>
                    </a:lnTo>
                    <a:lnTo>
                      <a:pt x="599" y="634"/>
                    </a:lnTo>
                    <a:lnTo>
                      <a:pt x="576" y="655"/>
                    </a:lnTo>
                    <a:lnTo>
                      <a:pt x="550" y="673"/>
                    </a:lnTo>
                    <a:lnTo>
                      <a:pt x="523" y="691"/>
                    </a:lnTo>
                    <a:lnTo>
                      <a:pt x="493" y="704"/>
                    </a:lnTo>
                    <a:lnTo>
                      <a:pt x="463" y="716"/>
                    </a:lnTo>
                    <a:lnTo>
                      <a:pt x="430" y="725"/>
                    </a:lnTo>
                    <a:lnTo>
                      <a:pt x="396" y="730"/>
                    </a:lnTo>
                    <a:lnTo>
                      <a:pt x="803" y="1293"/>
                    </a:lnTo>
                    <a:close/>
                    <a:moveTo>
                      <a:pt x="161" y="612"/>
                    </a:moveTo>
                    <a:lnTo>
                      <a:pt x="213" y="612"/>
                    </a:lnTo>
                    <a:lnTo>
                      <a:pt x="274" y="611"/>
                    </a:lnTo>
                    <a:lnTo>
                      <a:pt x="335" y="604"/>
                    </a:lnTo>
                    <a:lnTo>
                      <a:pt x="365" y="599"/>
                    </a:lnTo>
                    <a:lnTo>
                      <a:pt x="393" y="591"/>
                    </a:lnTo>
                    <a:lnTo>
                      <a:pt x="420" y="582"/>
                    </a:lnTo>
                    <a:lnTo>
                      <a:pt x="445" y="571"/>
                    </a:lnTo>
                    <a:lnTo>
                      <a:pt x="469" y="557"/>
                    </a:lnTo>
                    <a:lnTo>
                      <a:pt x="490" y="540"/>
                    </a:lnTo>
                    <a:lnTo>
                      <a:pt x="509" y="522"/>
                    </a:lnTo>
                    <a:lnTo>
                      <a:pt x="524" y="499"/>
                    </a:lnTo>
                    <a:lnTo>
                      <a:pt x="537" y="473"/>
                    </a:lnTo>
                    <a:lnTo>
                      <a:pt x="547" y="445"/>
                    </a:lnTo>
                    <a:lnTo>
                      <a:pt x="553" y="412"/>
                    </a:lnTo>
                    <a:lnTo>
                      <a:pt x="555" y="376"/>
                    </a:lnTo>
                    <a:lnTo>
                      <a:pt x="553" y="339"/>
                    </a:lnTo>
                    <a:lnTo>
                      <a:pt x="546" y="308"/>
                    </a:lnTo>
                    <a:lnTo>
                      <a:pt x="536" y="279"/>
                    </a:lnTo>
                    <a:lnTo>
                      <a:pt x="523" y="254"/>
                    </a:lnTo>
                    <a:lnTo>
                      <a:pt x="505" y="232"/>
                    </a:lnTo>
                    <a:lnTo>
                      <a:pt x="486" y="213"/>
                    </a:lnTo>
                    <a:lnTo>
                      <a:pt x="464" y="198"/>
                    </a:lnTo>
                    <a:lnTo>
                      <a:pt x="440" y="184"/>
                    </a:lnTo>
                    <a:lnTo>
                      <a:pt x="413" y="173"/>
                    </a:lnTo>
                    <a:lnTo>
                      <a:pt x="385" y="164"/>
                    </a:lnTo>
                    <a:lnTo>
                      <a:pt x="356" y="157"/>
                    </a:lnTo>
                    <a:lnTo>
                      <a:pt x="325" y="152"/>
                    </a:lnTo>
                    <a:lnTo>
                      <a:pt x="296" y="148"/>
                    </a:lnTo>
                    <a:lnTo>
                      <a:pt x="265" y="146"/>
                    </a:lnTo>
                    <a:lnTo>
                      <a:pt x="204" y="144"/>
                    </a:lnTo>
                    <a:lnTo>
                      <a:pt x="161" y="144"/>
                    </a:lnTo>
                    <a:lnTo>
                      <a:pt x="161" y="6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502280" y="517680"/>
                <a:ext cx="196200" cy="250560"/>
              </a:xfrm>
              <a:custGeom>
                <a:avLst/>
                <a:gdLst/>
                <a:ahLst/>
                <a:rect l="l" t="t" r="r" b="b"/>
                <a:pathLst>
                  <a:path w="929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29" y="1293"/>
                    </a:lnTo>
                    <a:lnTo>
                      <a:pt x="712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999720" y="847800"/>
                <a:ext cx="54720" cy="133200"/>
              </a:xfrm>
              <a:custGeom>
                <a:avLst/>
                <a:gdLst/>
                <a:ahLst/>
                <a:rect l="l" t="t" r="r" b="b"/>
                <a:pathLst>
                  <a:path w="264" h="687">
                    <a:moveTo>
                      <a:pt x="169" y="687"/>
                    </a:moveTo>
                    <a:lnTo>
                      <a:pt x="74" y="687"/>
                    </a:lnTo>
                    <a:lnTo>
                      <a:pt x="74" y="279"/>
                    </a:lnTo>
                    <a:lnTo>
                      <a:pt x="0" y="279"/>
                    </a:lnTo>
                    <a:lnTo>
                      <a:pt x="0" y="190"/>
                    </a:lnTo>
                    <a:lnTo>
                      <a:pt x="74" y="190"/>
                    </a:lnTo>
                    <a:lnTo>
                      <a:pt x="74" y="0"/>
                    </a:lnTo>
                    <a:lnTo>
                      <a:pt x="169" y="0"/>
                    </a:lnTo>
                    <a:lnTo>
                      <a:pt x="169" y="190"/>
                    </a:lnTo>
                    <a:lnTo>
                      <a:pt x="264" y="190"/>
                    </a:lnTo>
                    <a:lnTo>
                      <a:pt x="264" y="279"/>
                    </a:lnTo>
                    <a:lnTo>
                      <a:pt x="169" y="279"/>
                    </a:lnTo>
                    <a:lnTo>
                      <a:pt x="169" y="6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058400" y="882720"/>
                <a:ext cx="9936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5" y="280"/>
                    </a:moveTo>
                    <a:lnTo>
                      <a:pt x="98" y="311"/>
                    </a:lnTo>
                    <a:lnTo>
                      <a:pt x="106" y="341"/>
                    </a:lnTo>
                    <a:lnTo>
                      <a:pt x="119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8" y="415"/>
                    </a:lnTo>
                    <a:lnTo>
                      <a:pt x="170" y="423"/>
                    </a:lnTo>
                    <a:lnTo>
                      <a:pt x="184" y="431"/>
                    </a:lnTo>
                    <a:lnTo>
                      <a:pt x="197" y="437"/>
                    </a:lnTo>
                    <a:lnTo>
                      <a:pt x="213" y="441"/>
                    </a:lnTo>
                    <a:lnTo>
                      <a:pt x="229" y="443"/>
                    </a:lnTo>
                    <a:lnTo>
                      <a:pt x="245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5" y="430"/>
                    </a:lnTo>
                    <a:lnTo>
                      <a:pt x="333" y="418"/>
                    </a:lnTo>
                    <a:lnTo>
                      <a:pt x="351" y="405"/>
                    </a:lnTo>
                    <a:lnTo>
                      <a:pt x="366" y="388"/>
                    </a:lnTo>
                    <a:lnTo>
                      <a:pt x="380" y="368"/>
                    </a:lnTo>
                    <a:lnTo>
                      <a:pt x="394" y="348"/>
                    </a:lnTo>
                    <a:lnTo>
                      <a:pt x="475" y="394"/>
                    </a:lnTo>
                    <a:lnTo>
                      <a:pt x="455" y="424"/>
                    </a:lnTo>
                    <a:lnTo>
                      <a:pt x="433" y="451"/>
                    </a:lnTo>
                    <a:lnTo>
                      <a:pt x="407" y="474"/>
                    </a:lnTo>
                    <a:lnTo>
                      <a:pt x="378" y="494"/>
                    </a:lnTo>
                    <a:lnTo>
                      <a:pt x="347" y="509"/>
                    </a:lnTo>
                    <a:lnTo>
                      <a:pt x="315" y="520"/>
                    </a:lnTo>
                    <a:lnTo>
                      <a:pt x="279" y="528"/>
                    </a:lnTo>
                    <a:lnTo>
                      <a:pt x="244" y="530"/>
                    </a:lnTo>
                    <a:lnTo>
                      <a:pt x="217" y="528"/>
                    </a:lnTo>
                    <a:lnTo>
                      <a:pt x="191" y="524"/>
                    </a:lnTo>
                    <a:lnTo>
                      <a:pt x="165" y="518"/>
                    </a:lnTo>
                    <a:lnTo>
                      <a:pt x="142" y="509"/>
                    </a:lnTo>
                    <a:lnTo>
                      <a:pt x="120" y="498"/>
                    </a:lnTo>
                    <a:lnTo>
                      <a:pt x="101" y="485"/>
                    </a:lnTo>
                    <a:lnTo>
                      <a:pt x="82" y="471"/>
                    </a:lnTo>
                    <a:lnTo>
                      <a:pt x="66" y="454"/>
                    </a:lnTo>
                    <a:lnTo>
                      <a:pt x="50" y="435"/>
                    </a:lnTo>
                    <a:lnTo>
                      <a:pt x="37" y="416"/>
                    </a:lnTo>
                    <a:lnTo>
                      <a:pt x="26" y="394"/>
                    </a:lnTo>
                    <a:lnTo>
                      <a:pt x="16" y="371"/>
                    </a:lnTo>
                    <a:lnTo>
                      <a:pt x="10" y="346"/>
                    </a:lnTo>
                    <a:lnTo>
                      <a:pt x="4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4" y="213"/>
                    </a:lnTo>
                    <a:lnTo>
                      <a:pt x="9" y="186"/>
                    </a:lnTo>
                    <a:lnTo>
                      <a:pt x="15" y="161"/>
                    </a:lnTo>
                    <a:lnTo>
                      <a:pt x="24" y="138"/>
                    </a:lnTo>
                    <a:lnTo>
                      <a:pt x="34" y="116"/>
                    </a:lnTo>
                    <a:lnTo>
                      <a:pt x="47" y="95"/>
                    </a:lnTo>
                    <a:lnTo>
                      <a:pt x="61" y="76"/>
                    </a:lnTo>
                    <a:lnTo>
                      <a:pt x="77" y="60"/>
                    </a:lnTo>
                    <a:lnTo>
                      <a:pt x="95" y="45"/>
                    </a:lnTo>
                    <a:lnTo>
                      <a:pt x="115" y="31"/>
                    </a:lnTo>
                    <a:lnTo>
                      <a:pt x="137" y="20"/>
                    </a:lnTo>
                    <a:lnTo>
                      <a:pt x="160" y="12"/>
                    </a:lnTo>
                    <a:lnTo>
                      <a:pt x="185" y="5"/>
                    </a:lnTo>
                    <a:lnTo>
                      <a:pt x="213" y="2"/>
                    </a:lnTo>
                    <a:lnTo>
                      <a:pt x="242" y="0"/>
                    </a:lnTo>
                    <a:lnTo>
                      <a:pt x="271" y="2"/>
                    </a:lnTo>
                    <a:lnTo>
                      <a:pt x="297" y="5"/>
                    </a:lnTo>
                    <a:lnTo>
                      <a:pt x="322" y="12"/>
                    </a:lnTo>
                    <a:lnTo>
                      <a:pt x="345" y="20"/>
                    </a:lnTo>
                    <a:lnTo>
                      <a:pt x="366" y="31"/>
                    </a:lnTo>
                    <a:lnTo>
                      <a:pt x="385" y="45"/>
                    </a:lnTo>
                    <a:lnTo>
                      <a:pt x="402" y="60"/>
                    </a:lnTo>
                    <a:lnTo>
                      <a:pt x="418" y="76"/>
                    </a:lnTo>
                    <a:lnTo>
                      <a:pt x="431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0" y="161"/>
                    </a:lnTo>
                    <a:lnTo>
                      <a:pt x="467" y="185"/>
                    </a:lnTo>
                    <a:lnTo>
                      <a:pt x="471" y="210"/>
                    </a:lnTo>
                    <a:lnTo>
                      <a:pt x="474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5" y="280"/>
                    </a:lnTo>
                    <a:close/>
                    <a:moveTo>
                      <a:pt x="379" y="207"/>
                    </a:moveTo>
                    <a:lnTo>
                      <a:pt x="373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5" y="117"/>
                    </a:lnTo>
                    <a:lnTo>
                      <a:pt x="316" y="103"/>
                    </a:lnTo>
                    <a:lnTo>
                      <a:pt x="294" y="92"/>
                    </a:lnTo>
                    <a:lnTo>
                      <a:pt x="270" y="85"/>
                    </a:lnTo>
                    <a:lnTo>
                      <a:pt x="242" y="83"/>
                    </a:lnTo>
                    <a:lnTo>
                      <a:pt x="215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1" y="137"/>
                    </a:lnTo>
                    <a:lnTo>
                      <a:pt x="117" y="158"/>
                    </a:lnTo>
                    <a:lnTo>
                      <a:pt x="107" y="182"/>
                    </a:lnTo>
                    <a:lnTo>
                      <a:pt x="101" y="207"/>
                    </a:lnTo>
                    <a:lnTo>
                      <a:pt x="379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177200" y="846000"/>
                <a:ext cx="2052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211400" y="882720"/>
                <a:ext cx="9972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7" y="280"/>
                    </a:moveTo>
                    <a:lnTo>
                      <a:pt x="99" y="311"/>
                    </a:lnTo>
                    <a:lnTo>
                      <a:pt x="108" y="341"/>
                    </a:lnTo>
                    <a:lnTo>
                      <a:pt x="120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9" y="415"/>
                    </a:lnTo>
                    <a:lnTo>
                      <a:pt x="171" y="423"/>
                    </a:lnTo>
                    <a:lnTo>
                      <a:pt x="185" y="431"/>
                    </a:lnTo>
                    <a:lnTo>
                      <a:pt x="199" y="437"/>
                    </a:lnTo>
                    <a:lnTo>
                      <a:pt x="213" y="441"/>
                    </a:lnTo>
                    <a:lnTo>
                      <a:pt x="230" y="443"/>
                    </a:lnTo>
                    <a:lnTo>
                      <a:pt x="246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6" y="430"/>
                    </a:lnTo>
                    <a:lnTo>
                      <a:pt x="335" y="418"/>
                    </a:lnTo>
                    <a:lnTo>
                      <a:pt x="351" y="405"/>
                    </a:lnTo>
                    <a:lnTo>
                      <a:pt x="367" y="388"/>
                    </a:lnTo>
                    <a:lnTo>
                      <a:pt x="381" y="368"/>
                    </a:lnTo>
                    <a:lnTo>
                      <a:pt x="395" y="348"/>
                    </a:lnTo>
                    <a:lnTo>
                      <a:pt x="475" y="394"/>
                    </a:lnTo>
                    <a:lnTo>
                      <a:pt x="457" y="424"/>
                    </a:lnTo>
                    <a:lnTo>
                      <a:pt x="434" y="451"/>
                    </a:lnTo>
                    <a:lnTo>
                      <a:pt x="407" y="474"/>
                    </a:lnTo>
                    <a:lnTo>
                      <a:pt x="379" y="494"/>
                    </a:lnTo>
                    <a:lnTo>
                      <a:pt x="348" y="509"/>
                    </a:lnTo>
                    <a:lnTo>
                      <a:pt x="315" y="520"/>
                    </a:lnTo>
                    <a:lnTo>
                      <a:pt x="281" y="528"/>
                    </a:lnTo>
                    <a:lnTo>
                      <a:pt x="245" y="530"/>
                    </a:lnTo>
                    <a:lnTo>
                      <a:pt x="218" y="528"/>
                    </a:lnTo>
                    <a:lnTo>
                      <a:pt x="191" y="524"/>
                    </a:lnTo>
                    <a:lnTo>
                      <a:pt x="166" y="518"/>
                    </a:lnTo>
                    <a:lnTo>
                      <a:pt x="143" y="509"/>
                    </a:lnTo>
                    <a:lnTo>
                      <a:pt x="121" y="498"/>
                    </a:lnTo>
                    <a:lnTo>
                      <a:pt x="101" y="485"/>
                    </a:lnTo>
                    <a:lnTo>
                      <a:pt x="83" y="471"/>
                    </a:lnTo>
                    <a:lnTo>
                      <a:pt x="66" y="454"/>
                    </a:lnTo>
                    <a:lnTo>
                      <a:pt x="51" y="435"/>
                    </a:lnTo>
                    <a:lnTo>
                      <a:pt x="38" y="416"/>
                    </a:lnTo>
                    <a:lnTo>
                      <a:pt x="27" y="394"/>
                    </a:lnTo>
                    <a:lnTo>
                      <a:pt x="18" y="371"/>
                    </a:lnTo>
                    <a:lnTo>
                      <a:pt x="10" y="346"/>
                    </a:lnTo>
                    <a:lnTo>
                      <a:pt x="5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5" y="213"/>
                    </a:lnTo>
                    <a:lnTo>
                      <a:pt x="9" y="186"/>
                    </a:lnTo>
                    <a:lnTo>
                      <a:pt x="16" y="161"/>
                    </a:lnTo>
                    <a:lnTo>
                      <a:pt x="24" y="138"/>
                    </a:lnTo>
                    <a:lnTo>
                      <a:pt x="35" y="116"/>
                    </a:lnTo>
                    <a:lnTo>
                      <a:pt x="48" y="95"/>
                    </a:lnTo>
                    <a:lnTo>
                      <a:pt x="62" y="76"/>
                    </a:lnTo>
                    <a:lnTo>
                      <a:pt x="78" y="60"/>
                    </a:lnTo>
                    <a:lnTo>
                      <a:pt x="96" y="45"/>
                    </a:lnTo>
                    <a:lnTo>
                      <a:pt x="116" y="31"/>
                    </a:lnTo>
                    <a:lnTo>
                      <a:pt x="137" y="20"/>
                    </a:lnTo>
                    <a:lnTo>
                      <a:pt x="162" y="12"/>
                    </a:lnTo>
                    <a:lnTo>
                      <a:pt x="187" y="5"/>
                    </a:lnTo>
                    <a:lnTo>
                      <a:pt x="214" y="2"/>
                    </a:lnTo>
                    <a:lnTo>
                      <a:pt x="243" y="0"/>
                    </a:lnTo>
                    <a:lnTo>
                      <a:pt x="271" y="2"/>
                    </a:lnTo>
                    <a:lnTo>
                      <a:pt x="299" y="5"/>
                    </a:lnTo>
                    <a:lnTo>
                      <a:pt x="323" y="12"/>
                    </a:lnTo>
                    <a:lnTo>
                      <a:pt x="346" y="20"/>
                    </a:lnTo>
                    <a:lnTo>
                      <a:pt x="367" y="31"/>
                    </a:lnTo>
                    <a:lnTo>
                      <a:pt x="386" y="45"/>
                    </a:lnTo>
                    <a:lnTo>
                      <a:pt x="403" y="60"/>
                    </a:lnTo>
                    <a:lnTo>
                      <a:pt x="418" y="76"/>
                    </a:lnTo>
                    <a:lnTo>
                      <a:pt x="432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1" y="161"/>
                    </a:lnTo>
                    <a:lnTo>
                      <a:pt x="468" y="185"/>
                    </a:lnTo>
                    <a:lnTo>
                      <a:pt x="472" y="210"/>
                    </a:lnTo>
                    <a:lnTo>
                      <a:pt x="475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7" y="280"/>
                    </a:lnTo>
                    <a:close/>
                    <a:moveTo>
                      <a:pt x="380" y="207"/>
                    </a:moveTo>
                    <a:lnTo>
                      <a:pt x="374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6" y="117"/>
                    </a:lnTo>
                    <a:lnTo>
                      <a:pt x="317" y="103"/>
                    </a:lnTo>
                    <a:lnTo>
                      <a:pt x="295" y="92"/>
                    </a:lnTo>
                    <a:lnTo>
                      <a:pt x="270" y="85"/>
                    </a:lnTo>
                    <a:lnTo>
                      <a:pt x="243" y="83"/>
                    </a:lnTo>
                    <a:lnTo>
                      <a:pt x="216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2" y="137"/>
                    </a:lnTo>
                    <a:lnTo>
                      <a:pt x="119" y="158"/>
                    </a:lnTo>
                    <a:lnTo>
                      <a:pt x="108" y="182"/>
                    </a:lnTo>
                    <a:lnTo>
                      <a:pt x="101" y="207"/>
                    </a:lnTo>
                    <a:lnTo>
                      <a:pt x="380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326960" y="882720"/>
                <a:ext cx="84240" cy="101520"/>
              </a:xfrm>
              <a:custGeom>
                <a:avLst/>
                <a:gdLst/>
                <a:ahLst/>
                <a:rect l="l" t="t" r="r" b="b"/>
                <a:pathLst>
                  <a:path w="404" h="530">
                    <a:moveTo>
                      <a:pt x="404" y="157"/>
                    </a:moveTo>
                    <a:lnTo>
                      <a:pt x="389" y="141"/>
                    </a:lnTo>
                    <a:lnTo>
                      <a:pt x="373" y="127"/>
                    </a:lnTo>
                    <a:lnTo>
                      <a:pt x="358" y="116"/>
                    </a:lnTo>
                    <a:lnTo>
                      <a:pt x="340" y="106"/>
                    </a:lnTo>
                    <a:lnTo>
                      <a:pt x="321" y="99"/>
                    </a:lnTo>
                    <a:lnTo>
                      <a:pt x="303" y="94"/>
                    </a:lnTo>
                    <a:lnTo>
                      <a:pt x="283" y="91"/>
                    </a:lnTo>
                    <a:lnTo>
                      <a:pt x="261" y="90"/>
                    </a:lnTo>
                    <a:lnTo>
                      <a:pt x="245" y="91"/>
                    </a:lnTo>
                    <a:lnTo>
                      <a:pt x="227" y="93"/>
                    </a:lnTo>
                    <a:lnTo>
                      <a:pt x="212" y="97"/>
                    </a:lnTo>
                    <a:lnTo>
                      <a:pt x="196" y="104"/>
                    </a:lnTo>
                    <a:lnTo>
                      <a:pt x="182" y="112"/>
                    </a:lnTo>
                    <a:lnTo>
                      <a:pt x="168" y="120"/>
                    </a:lnTo>
                    <a:lnTo>
                      <a:pt x="156" y="130"/>
                    </a:lnTo>
                    <a:lnTo>
                      <a:pt x="144" y="142"/>
                    </a:lnTo>
                    <a:lnTo>
                      <a:pt x="133" y="154"/>
                    </a:lnTo>
                    <a:lnTo>
                      <a:pt x="124" y="169"/>
                    </a:lnTo>
                    <a:lnTo>
                      <a:pt x="115" y="183"/>
                    </a:lnTo>
                    <a:lnTo>
                      <a:pt x="109" y="198"/>
                    </a:lnTo>
                    <a:lnTo>
                      <a:pt x="103" y="214"/>
                    </a:lnTo>
                    <a:lnTo>
                      <a:pt x="99" y="230"/>
                    </a:lnTo>
                    <a:lnTo>
                      <a:pt x="97" y="247"/>
                    </a:lnTo>
                    <a:lnTo>
                      <a:pt x="96" y="264"/>
                    </a:lnTo>
                    <a:lnTo>
                      <a:pt x="97" y="283"/>
                    </a:lnTo>
                    <a:lnTo>
                      <a:pt x="99" y="300"/>
                    </a:lnTo>
                    <a:lnTo>
                      <a:pt x="103" y="318"/>
                    </a:lnTo>
                    <a:lnTo>
                      <a:pt x="109" y="334"/>
                    </a:lnTo>
                    <a:lnTo>
                      <a:pt x="115" y="350"/>
                    </a:lnTo>
                    <a:lnTo>
                      <a:pt x="124" y="364"/>
                    </a:lnTo>
                    <a:lnTo>
                      <a:pt x="133" y="378"/>
                    </a:lnTo>
                    <a:lnTo>
                      <a:pt x="144" y="390"/>
                    </a:lnTo>
                    <a:lnTo>
                      <a:pt x="156" y="401"/>
                    </a:lnTo>
                    <a:lnTo>
                      <a:pt x="169" y="411"/>
                    </a:lnTo>
                    <a:lnTo>
                      <a:pt x="183" y="420"/>
                    </a:lnTo>
                    <a:lnTo>
                      <a:pt x="199" y="427"/>
                    </a:lnTo>
                    <a:lnTo>
                      <a:pt x="215" y="432"/>
                    </a:lnTo>
                    <a:lnTo>
                      <a:pt x="232" y="437"/>
                    </a:lnTo>
                    <a:lnTo>
                      <a:pt x="249" y="439"/>
                    </a:lnTo>
                    <a:lnTo>
                      <a:pt x="268" y="440"/>
                    </a:lnTo>
                    <a:lnTo>
                      <a:pt x="289" y="439"/>
                    </a:lnTo>
                    <a:lnTo>
                      <a:pt x="307" y="435"/>
                    </a:lnTo>
                    <a:lnTo>
                      <a:pt x="326" y="430"/>
                    </a:lnTo>
                    <a:lnTo>
                      <a:pt x="343" y="422"/>
                    </a:lnTo>
                    <a:lnTo>
                      <a:pt x="360" y="412"/>
                    </a:lnTo>
                    <a:lnTo>
                      <a:pt x="375" y="401"/>
                    </a:lnTo>
                    <a:lnTo>
                      <a:pt x="389" y="388"/>
                    </a:lnTo>
                    <a:lnTo>
                      <a:pt x="404" y="374"/>
                    </a:lnTo>
                    <a:lnTo>
                      <a:pt x="404" y="497"/>
                    </a:lnTo>
                    <a:lnTo>
                      <a:pt x="371" y="511"/>
                    </a:lnTo>
                    <a:lnTo>
                      <a:pt x="338" y="522"/>
                    </a:lnTo>
                    <a:lnTo>
                      <a:pt x="303" y="528"/>
                    </a:lnTo>
                    <a:lnTo>
                      <a:pt x="267" y="530"/>
                    </a:lnTo>
                    <a:lnTo>
                      <a:pt x="239" y="528"/>
                    </a:lnTo>
                    <a:lnTo>
                      <a:pt x="213" y="524"/>
                    </a:lnTo>
                    <a:lnTo>
                      <a:pt x="188" y="518"/>
                    </a:lnTo>
                    <a:lnTo>
                      <a:pt x="164" y="509"/>
                    </a:lnTo>
                    <a:lnTo>
                      <a:pt x="140" y="499"/>
                    </a:lnTo>
                    <a:lnTo>
                      <a:pt x="119" y="486"/>
                    </a:lnTo>
                    <a:lnTo>
                      <a:pt x="98" y="472"/>
                    </a:lnTo>
                    <a:lnTo>
                      <a:pt x="79" y="454"/>
                    </a:lnTo>
                    <a:lnTo>
                      <a:pt x="62" y="437"/>
                    </a:lnTo>
                    <a:lnTo>
                      <a:pt x="46" y="416"/>
                    </a:lnTo>
                    <a:lnTo>
                      <a:pt x="33" y="395"/>
                    </a:lnTo>
                    <a:lnTo>
                      <a:pt x="21" y="372"/>
                    </a:lnTo>
                    <a:lnTo>
                      <a:pt x="12" y="348"/>
                    </a:lnTo>
                    <a:lnTo>
                      <a:pt x="6" y="322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6" y="213"/>
                    </a:lnTo>
                    <a:lnTo>
                      <a:pt x="12" y="186"/>
                    </a:lnTo>
                    <a:lnTo>
                      <a:pt x="21" y="161"/>
                    </a:lnTo>
                    <a:lnTo>
                      <a:pt x="33" y="138"/>
                    </a:lnTo>
                    <a:lnTo>
                      <a:pt x="46" y="115"/>
                    </a:lnTo>
                    <a:lnTo>
                      <a:pt x="62" y="95"/>
                    </a:lnTo>
                    <a:lnTo>
                      <a:pt x="79" y="76"/>
                    </a:lnTo>
                    <a:lnTo>
                      <a:pt x="98" y="59"/>
                    </a:lnTo>
                    <a:lnTo>
                      <a:pt x="119" y="45"/>
                    </a:lnTo>
                    <a:lnTo>
                      <a:pt x="142" y="31"/>
                    </a:lnTo>
                    <a:lnTo>
                      <a:pt x="165" y="20"/>
                    </a:lnTo>
                    <a:lnTo>
                      <a:pt x="190" y="12"/>
                    </a:lnTo>
                    <a:lnTo>
                      <a:pt x="216" y="5"/>
                    </a:lnTo>
                    <a:lnTo>
                      <a:pt x="244" y="2"/>
                    </a:lnTo>
                    <a:lnTo>
                      <a:pt x="272" y="0"/>
                    </a:lnTo>
                    <a:lnTo>
                      <a:pt x="306" y="2"/>
                    </a:lnTo>
                    <a:lnTo>
                      <a:pt x="340" y="8"/>
                    </a:lnTo>
                    <a:lnTo>
                      <a:pt x="373" y="18"/>
                    </a:lnTo>
                    <a:lnTo>
                      <a:pt x="404" y="32"/>
                    </a:lnTo>
                    <a:lnTo>
                      <a:pt x="404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423440" y="882720"/>
                <a:ext cx="111600" cy="101520"/>
              </a:xfrm>
              <a:custGeom>
                <a:avLst/>
                <a:gdLst/>
                <a:ahLst/>
                <a:rect l="l" t="t" r="r" b="b"/>
                <a:pathLst>
                  <a:path w="532" h="530">
                    <a:moveTo>
                      <a:pt x="532" y="264"/>
                    </a:moveTo>
                    <a:lnTo>
                      <a:pt x="530" y="293"/>
                    </a:lnTo>
                    <a:lnTo>
                      <a:pt x="527" y="319"/>
                    </a:lnTo>
                    <a:lnTo>
                      <a:pt x="520" y="344"/>
                    </a:lnTo>
                    <a:lnTo>
                      <a:pt x="511" y="370"/>
                    </a:lnTo>
                    <a:lnTo>
                      <a:pt x="501" y="393"/>
                    </a:lnTo>
                    <a:lnTo>
                      <a:pt x="487" y="415"/>
                    </a:lnTo>
                    <a:lnTo>
                      <a:pt x="472" y="434"/>
                    </a:lnTo>
                    <a:lnTo>
                      <a:pt x="454" y="453"/>
                    </a:lnTo>
                    <a:lnTo>
                      <a:pt x="436" y="471"/>
                    </a:lnTo>
                    <a:lnTo>
                      <a:pt x="416" y="485"/>
                    </a:lnTo>
                    <a:lnTo>
                      <a:pt x="394" y="498"/>
                    </a:lnTo>
                    <a:lnTo>
                      <a:pt x="370" y="509"/>
                    </a:lnTo>
                    <a:lnTo>
                      <a:pt x="346" y="518"/>
                    </a:lnTo>
                    <a:lnTo>
                      <a:pt x="321" y="524"/>
                    </a:lnTo>
                    <a:lnTo>
                      <a:pt x="293" y="528"/>
                    </a:lnTo>
                    <a:lnTo>
                      <a:pt x="266" y="530"/>
                    </a:lnTo>
                    <a:lnTo>
                      <a:pt x="238" y="528"/>
                    </a:lnTo>
                    <a:lnTo>
                      <a:pt x="212" y="524"/>
                    </a:lnTo>
                    <a:lnTo>
                      <a:pt x="187" y="518"/>
                    </a:lnTo>
                    <a:lnTo>
                      <a:pt x="162" y="509"/>
                    </a:lnTo>
                    <a:lnTo>
                      <a:pt x="139" y="498"/>
                    </a:lnTo>
                    <a:lnTo>
                      <a:pt x="117" y="485"/>
                    </a:lnTo>
                    <a:lnTo>
                      <a:pt x="97" y="471"/>
                    </a:lnTo>
                    <a:lnTo>
                      <a:pt x="78" y="453"/>
                    </a:lnTo>
                    <a:lnTo>
                      <a:pt x="61" y="434"/>
                    </a:lnTo>
                    <a:lnTo>
                      <a:pt x="45" y="415"/>
                    </a:lnTo>
                    <a:lnTo>
                      <a:pt x="32" y="393"/>
                    </a:lnTo>
                    <a:lnTo>
                      <a:pt x="21" y="370"/>
                    </a:lnTo>
                    <a:lnTo>
                      <a:pt x="12" y="344"/>
                    </a:lnTo>
                    <a:lnTo>
                      <a:pt x="6" y="319"/>
                    </a:lnTo>
                    <a:lnTo>
                      <a:pt x="3" y="293"/>
                    </a:lnTo>
                    <a:lnTo>
                      <a:pt x="0" y="264"/>
                    </a:lnTo>
                    <a:lnTo>
                      <a:pt x="3" y="237"/>
                    </a:lnTo>
                    <a:lnTo>
                      <a:pt x="6" y="210"/>
                    </a:lnTo>
                    <a:lnTo>
                      <a:pt x="12" y="185"/>
                    </a:lnTo>
                    <a:lnTo>
                      <a:pt x="21" y="160"/>
                    </a:lnTo>
                    <a:lnTo>
                      <a:pt x="32" y="137"/>
                    </a:lnTo>
                    <a:lnTo>
                      <a:pt x="45" y="115"/>
                    </a:lnTo>
                    <a:lnTo>
                      <a:pt x="61" y="95"/>
                    </a:lnTo>
                    <a:lnTo>
                      <a:pt x="78" y="76"/>
                    </a:lnTo>
                    <a:lnTo>
                      <a:pt x="97" y="59"/>
                    </a:lnTo>
                    <a:lnTo>
                      <a:pt x="117" y="45"/>
                    </a:lnTo>
                    <a:lnTo>
                      <a:pt x="139" y="31"/>
                    </a:lnTo>
                    <a:lnTo>
                      <a:pt x="162" y="20"/>
                    </a:lnTo>
                    <a:lnTo>
                      <a:pt x="187" y="12"/>
                    </a:lnTo>
                    <a:lnTo>
                      <a:pt x="212" y="5"/>
                    </a:lnTo>
                    <a:lnTo>
                      <a:pt x="238" y="2"/>
                    </a:lnTo>
                    <a:lnTo>
                      <a:pt x="266" y="0"/>
                    </a:lnTo>
                    <a:lnTo>
                      <a:pt x="293" y="2"/>
                    </a:lnTo>
                    <a:lnTo>
                      <a:pt x="321" y="5"/>
                    </a:lnTo>
                    <a:lnTo>
                      <a:pt x="346" y="12"/>
                    </a:lnTo>
                    <a:lnTo>
                      <a:pt x="370" y="20"/>
                    </a:lnTo>
                    <a:lnTo>
                      <a:pt x="394" y="31"/>
                    </a:lnTo>
                    <a:lnTo>
                      <a:pt x="416" y="45"/>
                    </a:lnTo>
                    <a:lnTo>
                      <a:pt x="436" y="59"/>
                    </a:lnTo>
                    <a:lnTo>
                      <a:pt x="454" y="76"/>
                    </a:lnTo>
                    <a:lnTo>
                      <a:pt x="472" y="95"/>
                    </a:lnTo>
                    <a:lnTo>
                      <a:pt x="487" y="115"/>
                    </a:lnTo>
                    <a:lnTo>
                      <a:pt x="501" y="137"/>
                    </a:lnTo>
                    <a:lnTo>
                      <a:pt x="511" y="160"/>
                    </a:lnTo>
                    <a:lnTo>
                      <a:pt x="520" y="185"/>
                    </a:lnTo>
                    <a:lnTo>
                      <a:pt x="527" y="210"/>
                    </a:lnTo>
                    <a:lnTo>
                      <a:pt x="530" y="237"/>
                    </a:lnTo>
                    <a:lnTo>
                      <a:pt x="532" y="264"/>
                    </a:lnTo>
                    <a:close/>
                    <a:moveTo>
                      <a:pt x="96" y="264"/>
                    </a:moveTo>
                    <a:lnTo>
                      <a:pt x="97" y="282"/>
                    </a:lnTo>
                    <a:lnTo>
                      <a:pt x="100" y="299"/>
                    </a:lnTo>
                    <a:lnTo>
                      <a:pt x="103" y="316"/>
                    </a:lnTo>
                    <a:lnTo>
                      <a:pt x="110" y="331"/>
                    </a:lnTo>
                    <a:lnTo>
                      <a:pt x="117" y="346"/>
                    </a:lnTo>
                    <a:lnTo>
                      <a:pt x="125" y="361"/>
                    </a:lnTo>
                    <a:lnTo>
                      <a:pt x="135" y="374"/>
                    </a:lnTo>
                    <a:lnTo>
                      <a:pt x="146" y="386"/>
                    </a:lnTo>
                    <a:lnTo>
                      <a:pt x="158" y="398"/>
                    </a:lnTo>
                    <a:lnTo>
                      <a:pt x="171" y="408"/>
                    </a:lnTo>
                    <a:lnTo>
                      <a:pt x="185" y="417"/>
                    </a:lnTo>
                    <a:lnTo>
                      <a:pt x="200" y="424"/>
                    </a:lnTo>
                    <a:lnTo>
                      <a:pt x="215" y="430"/>
                    </a:lnTo>
                    <a:lnTo>
                      <a:pt x="232" y="434"/>
                    </a:lnTo>
                    <a:lnTo>
                      <a:pt x="248" y="437"/>
                    </a:lnTo>
                    <a:lnTo>
                      <a:pt x="266" y="438"/>
                    </a:lnTo>
                    <a:lnTo>
                      <a:pt x="283" y="437"/>
                    </a:lnTo>
                    <a:lnTo>
                      <a:pt x="301" y="434"/>
                    </a:lnTo>
                    <a:lnTo>
                      <a:pt x="317" y="430"/>
                    </a:lnTo>
                    <a:lnTo>
                      <a:pt x="333" y="424"/>
                    </a:lnTo>
                    <a:lnTo>
                      <a:pt x="348" y="417"/>
                    </a:lnTo>
                    <a:lnTo>
                      <a:pt x="361" y="408"/>
                    </a:lnTo>
                    <a:lnTo>
                      <a:pt x="374" y="398"/>
                    </a:lnTo>
                    <a:lnTo>
                      <a:pt x="386" y="386"/>
                    </a:lnTo>
                    <a:lnTo>
                      <a:pt x="397" y="374"/>
                    </a:lnTo>
                    <a:lnTo>
                      <a:pt x="407" y="361"/>
                    </a:lnTo>
                    <a:lnTo>
                      <a:pt x="416" y="346"/>
                    </a:lnTo>
                    <a:lnTo>
                      <a:pt x="423" y="331"/>
                    </a:lnTo>
                    <a:lnTo>
                      <a:pt x="428" y="316"/>
                    </a:lnTo>
                    <a:lnTo>
                      <a:pt x="433" y="299"/>
                    </a:lnTo>
                    <a:lnTo>
                      <a:pt x="436" y="282"/>
                    </a:lnTo>
                    <a:lnTo>
                      <a:pt x="436" y="264"/>
                    </a:lnTo>
                    <a:lnTo>
                      <a:pt x="436" y="248"/>
                    </a:lnTo>
                    <a:lnTo>
                      <a:pt x="433" y="230"/>
                    </a:lnTo>
                    <a:lnTo>
                      <a:pt x="428" y="214"/>
                    </a:lnTo>
                    <a:lnTo>
                      <a:pt x="423" y="197"/>
                    </a:lnTo>
                    <a:lnTo>
                      <a:pt x="416" y="183"/>
                    </a:lnTo>
                    <a:lnTo>
                      <a:pt x="407" y="169"/>
                    </a:lnTo>
                    <a:lnTo>
                      <a:pt x="397" y="154"/>
                    </a:lnTo>
                    <a:lnTo>
                      <a:pt x="386" y="142"/>
                    </a:lnTo>
                    <a:lnTo>
                      <a:pt x="374" y="131"/>
                    </a:lnTo>
                    <a:lnTo>
                      <a:pt x="361" y="121"/>
                    </a:lnTo>
                    <a:lnTo>
                      <a:pt x="348" y="113"/>
                    </a:lnTo>
                    <a:lnTo>
                      <a:pt x="333" y="105"/>
                    </a:lnTo>
                    <a:lnTo>
                      <a:pt x="317" y="99"/>
                    </a:lnTo>
                    <a:lnTo>
                      <a:pt x="301" y="95"/>
                    </a:lnTo>
                    <a:lnTo>
                      <a:pt x="283" y="92"/>
                    </a:lnTo>
                    <a:lnTo>
                      <a:pt x="266" y="92"/>
                    </a:lnTo>
                    <a:lnTo>
                      <a:pt x="248" y="92"/>
                    </a:lnTo>
                    <a:lnTo>
                      <a:pt x="232" y="95"/>
                    </a:lnTo>
                    <a:lnTo>
                      <a:pt x="215" y="99"/>
                    </a:lnTo>
                    <a:lnTo>
                      <a:pt x="200" y="105"/>
                    </a:lnTo>
                    <a:lnTo>
                      <a:pt x="185" y="113"/>
                    </a:lnTo>
                    <a:lnTo>
                      <a:pt x="171" y="121"/>
                    </a:lnTo>
                    <a:lnTo>
                      <a:pt x="158" y="131"/>
                    </a:lnTo>
                    <a:lnTo>
                      <a:pt x="146" y="142"/>
                    </a:lnTo>
                    <a:lnTo>
                      <a:pt x="135" y="154"/>
                    </a:lnTo>
                    <a:lnTo>
                      <a:pt x="125" y="169"/>
                    </a:lnTo>
                    <a:lnTo>
                      <a:pt x="117" y="183"/>
                    </a:lnTo>
                    <a:lnTo>
                      <a:pt x="110" y="197"/>
                    </a:lnTo>
                    <a:lnTo>
                      <a:pt x="103" y="214"/>
                    </a:lnTo>
                    <a:lnTo>
                      <a:pt x="100" y="230"/>
                    </a:lnTo>
                    <a:lnTo>
                      <a:pt x="97" y="248"/>
                    </a:lnTo>
                    <a:lnTo>
                      <a:pt x="96" y="2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549440" y="882720"/>
                <a:ext cx="144360" cy="98280"/>
              </a:xfrm>
              <a:custGeom>
                <a:avLst/>
                <a:gdLst/>
                <a:ahLst/>
                <a:rect l="l" t="t" r="r" b="b"/>
                <a:pathLst>
                  <a:path w="690" h="512">
                    <a:moveTo>
                      <a:pt x="96" y="77"/>
                    </a:moveTo>
                    <a:lnTo>
                      <a:pt x="98" y="77"/>
                    </a:lnTo>
                    <a:lnTo>
                      <a:pt x="109" y="62"/>
                    </a:lnTo>
                    <a:lnTo>
                      <a:pt x="122" y="47"/>
                    </a:lnTo>
                    <a:lnTo>
                      <a:pt x="137" y="34"/>
                    </a:lnTo>
                    <a:lnTo>
                      <a:pt x="154" y="23"/>
                    </a:lnTo>
                    <a:lnTo>
                      <a:pt x="171" y="13"/>
                    </a:lnTo>
                    <a:lnTo>
                      <a:pt x="190" y="6"/>
                    </a:lnTo>
                    <a:lnTo>
                      <a:pt x="210" y="2"/>
                    </a:lnTo>
                    <a:lnTo>
                      <a:pt x="229" y="0"/>
                    </a:lnTo>
                    <a:lnTo>
                      <a:pt x="253" y="2"/>
                    </a:lnTo>
                    <a:lnTo>
                      <a:pt x="274" y="6"/>
                    </a:lnTo>
                    <a:lnTo>
                      <a:pt x="295" y="13"/>
                    </a:lnTo>
                    <a:lnTo>
                      <a:pt x="314" y="24"/>
                    </a:lnTo>
                    <a:lnTo>
                      <a:pt x="330" y="36"/>
                    </a:lnTo>
                    <a:lnTo>
                      <a:pt x="346" y="51"/>
                    </a:lnTo>
                    <a:lnTo>
                      <a:pt x="360" y="69"/>
                    </a:lnTo>
                    <a:lnTo>
                      <a:pt x="373" y="88"/>
                    </a:lnTo>
                    <a:lnTo>
                      <a:pt x="385" y="69"/>
                    </a:lnTo>
                    <a:lnTo>
                      <a:pt x="401" y="52"/>
                    </a:lnTo>
                    <a:lnTo>
                      <a:pt x="418" y="37"/>
                    </a:lnTo>
                    <a:lnTo>
                      <a:pt x="438" y="24"/>
                    </a:lnTo>
                    <a:lnTo>
                      <a:pt x="458" y="14"/>
                    </a:lnTo>
                    <a:lnTo>
                      <a:pt x="480" y="6"/>
                    </a:lnTo>
                    <a:lnTo>
                      <a:pt x="503" y="2"/>
                    </a:lnTo>
                    <a:lnTo>
                      <a:pt x="526" y="0"/>
                    </a:lnTo>
                    <a:lnTo>
                      <a:pt x="550" y="1"/>
                    </a:lnTo>
                    <a:lnTo>
                      <a:pt x="571" y="5"/>
                    </a:lnTo>
                    <a:lnTo>
                      <a:pt x="589" y="11"/>
                    </a:lnTo>
                    <a:lnTo>
                      <a:pt x="607" y="17"/>
                    </a:lnTo>
                    <a:lnTo>
                      <a:pt x="622" y="27"/>
                    </a:lnTo>
                    <a:lnTo>
                      <a:pt x="635" y="38"/>
                    </a:lnTo>
                    <a:lnTo>
                      <a:pt x="647" y="51"/>
                    </a:lnTo>
                    <a:lnTo>
                      <a:pt x="657" y="65"/>
                    </a:lnTo>
                    <a:lnTo>
                      <a:pt x="666" y="81"/>
                    </a:lnTo>
                    <a:lnTo>
                      <a:pt x="673" y="97"/>
                    </a:lnTo>
                    <a:lnTo>
                      <a:pt x="678" y="115"/>
                    </a:lnTo>
                    <a:lnTo>
                      <a:pt x="684" y="133"/>
                    </a:lnTo>
                    <a:lnTo>
                      <a:pt x="689" y="173"/>
                    </a:lnTo>
                    <a:lnTo>
                      <a:pt x="690" y="215"/>
                    </a:lnTo>
                    <a:lnTo>
                      <a:pt x="690" y="512"/>
                    </a:lnTo>
                    <a:lnTo>
                      <a:pt x="595" y="512"/>
                    </a:lnTo>
                    <a:lnTo>
                      <a:pt x="595" y="230"/>
                    </a:lnTo>
                    <a:lnTo>
                      <a:pt x="595" y="206"/>
                    </a:lnTo>
                    <a:lnTo>
                      <a:pt x="593" y="181"/>
                    </a:lnTo>
                    <a:lnTo>
                      <a:pt x="588" y="157"/>
                    </a:lnTo>
                    <a:lnTo>
                      <a:pt x="580" y="133"/>
                    </a:lnTo>
                    <a:lnTo>
                      <a:pt x="568" y="114"/>
                    </a:lnTo>
                    <a:lnTo>
                      <a:pt x="561" y="106"/>
                    </a:lnTo>
                    <a:lnTo>
                      <a:pt x="552" y="98"/>
                    </a:lnTo>
                    <a:lnTo>
                      <a:pt x="542" y="93"/>
                    </a:lnTo>
                    <a:lnTo>
                      <a:pt x="531" y="88"/>
                    </a:lnTo>
                    <a:lnTo>
                      <a:pt x="517" y="86"/>
                    </a:lnTo>
                    <a:lnTo>
                      <a:pt x="503" y="85"/>
                    </a:lnTo>
                    <a:lnTo>
                      <a:pt x="484" y="86"/>
                    </a:lnTo>
                    <a:lnTo>
                      <a:pt x="469" y="90"/>
                    </a:lnTo>
                    <a:lnTo>
                      <a:pt x="454" y="95"/>
                    </a:lnTo>
                    <a:lnTo>
                      <a:pt x="442" y="103"/>
                    </a:lnTo>
                    <a:lnTo>
                      <a:pt x="432" y="112"/>
                    </a:lnTo>
                    <a:lnTo>
                      <a:pt x="423" y="123"/>
                    </a:lnTo>
                    <a:lnTo>
                      <a:pt x="416" y="135"/>
                    </a:lnTo>
                    <a:lnTo>
                      <a:pt x="409" y="148"/>
                    </a:lnTo>
                    <a:lnTo>
                      <a:pt x="401" y="176"/>
                    </a:lnTo>
                    <a:lnTo>
                      <a:pt x="396" y="207"/>
                    </a:lnTo>
                    <a:lnTo>
                      <a:pt x="394" y="238"/>
                    </a:lnTo>
                    <a:lnTo>
                      <a:pt x="393" y="267"/>
                    </a:lnTo>
                    <a:lnTo>
                      <a:pt x="393" y="512"/>
                    </a:lnTo>
                    <a:lnTo>
                      <a:pt x="297" y="512"/>
                    </a:lnTo>
                    <a:lnTo>
                      <a:pt x="297" y="249"/>
                    </a:lnTo>
                    <a:lnTo>
                      <a:pt x="297" y="224"/>
                    </a:lnTo>
                    <a:lnTo>
                      <a:pt x="295" y="196"/>
                    </a:lnTo>
                    <a:lnTo>
                      <a:pt x="292" y="169"/>
                    </a:lnTo>
                    <a:lnTo>
                      <a:pt x="285" y="142"/>
                    </a:lnTo>
                    <a:lnTo>
                      <a:pt x="280" y="130"/>
                    </a:lnTo>
                    <a:lnTo>
                      <a:pt x="273" y="119"/>
                    </a:lnTo>
                    <a:lnTo>
                      <a:pt x="267" y="110"/>
                    </a:lnTo>
                    <a:lnTo>
                      <a:pt x="258" y="102"/>
                    </a:lnTo>
                    <a:lnTo>
                      <a:pt x="247" y="95"/>
                    </a:lnTo>
                    <a:lnTo>
                      <a:pt x="235" y="90"/>
                    </a:lnTo>
                    <a:lnTo>
                      <a:pt x="222" y="86"/>
                    </a:lnTo>
                    <a:lnTo>
                      <a:pt x="206" y="85"/>
                    </a:lnTo>
                    <a:lnTo>
                      <a:pt x="188" y="86"/>
                    </a:lnTo>
                    <a:lnTo>
                      <a:pt x="172" y="90"/>
                    </a:lnTo>
                    <a:lnTo>
                      <a:pt x="158" y="95"/>
                    </a:lnTo>
                    <a:lnTo>
                      <a:pt x="146" y="103"/>
                    </a:lnTo>
                    <a:lnTo>
                      <a:pt x="135" y="112"/>
                    </a:lnTo>
                    <a:lnTo>
                      <a:pt x="126" y="123"/>
                    </a:lnTo>
                    <a:lnTo>
                      <a:pt x="119" y="135"/>
                    </a:lnTo>
                    <a:lnTo>
                      <a:pt x="113" y="148"/>
                    </a:lnTo>
                    <a:lnTo>
                      <a:pt x="103" y="176"/>
                    </a:lnTo>
                    <a:lnTo>
                      <a:pt x="99" y="207"/>
                    </a:lnTo>
                    <a:lnTo>
                      <a:pt x="97" y="238"/>
                    </a:lnTo>
                    <a:lnTo>
                      <a:pt x="96" y="267"/>
                    </a:lnTo>
                    <a:lnTo>
                      <a:pt x="96" y="512"/>
                    </a:lnTo>
                    <a:lnTo>
                      <a:pt x="0" y="512"/>
                    </a:lnTo>
                    <a:lnTo>
                      <a:pt x="0" y="15"/>
                    </a:lnTo>
                    <a:lnTo>
                      <a:pt x="96" y="15"/>
                    </a:lnTo>
                    <a:lnTo>
                      <a:pt x="96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908640" y="1022400"/>
                <a:ext cx="9082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a-DK" sz="600" spc="-1" strike="noStrike">
                    <a:solidFill>
                      <a:srgbClr val="ffffff"/>
                    </a:solidFill>
                    <a:latin typeface="Futura Bk BT"/>
                  </a:rPr>
                  <a:t>www.kirktelecom.dk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2724120" y="701640"/>
            <a:ext cx="6334200" cy="445788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2228760" y="60480"/>
            <a:ext cx="76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CCFP Administration Program Ver.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889360" y="5378400"/>
            <a:ext cx="662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тановка параметро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WU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обеспечения соединения с АТС или ТФОП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.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3790800" y="1203120"/>
            <a:ext cx="457200" cy="41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724120" y="1560600"/>
            <a:ext cx="6521400" cy="89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22600" y="2457360"/>
            <a:ext cx="6622920" cy="2921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3790800" y="2457360"/>
            <a:ext cx="1581480" cy="356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7010280" y="5159520"/>
            <a:ext cx="344520" cy="86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051000" y="601992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ие парамет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334920" y="6019920"/>
            <a:ext cx="30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дивидуальные параметры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EEEC-0DD8-4572-A529-CE7EFE7E1BAE}" type="slidenum">
              <a:t>14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2889360" y="457200"/>
            <a:ext cx="6521400" cy="0"/>
          </a:xfrm>
          <a:prstGeom prst="line">
            <a:avLst/>
          </a:prstGeom>
          <a:ln cap="sq"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0" y="0"/>
            <a:ext cx="6129000" cy="6858000"/>
            <a:chOff x="0" y="0"/>
            <a:chExt cx="6129000" cy="6858000"/>
          </a:xfrm>
        </p:grpSpPr>
        <p:sp>
          <p:nvSpPr>
            <p:cNvPr id="527" name=""/>
            <p:cNvSpPr/>
            <p:nvPr/>
          </p:nvSpPr>
          <p:spPr>
            <a:xfrm>
              <a:off x="0" y="0"/>
              <a:ext cx="2228760" cy="3429000"/>
            </a:xfrm>
            <a:prstGeom prst="rect">
              <a:avLst/>
            </a:prstGeom>
            <a:solidFill>
              <a:srgbClr val="000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0" y="3429000"/>
              <a:ext cx="2228760" cy="3429000"/>
            </a:xfrm>
            <a:prstGeom prst="rect">
              <a:avLst/>
            </a:pr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91836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79924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1" name="" descr=""/>
            <p:cNvPicPr/>
            <p:nvPr/>
          </p:nvPicPr>
          <p:blipFill>
            <a:blip r:embed="rId1"/>
            <a:stretch/>
          </p:blipFill>
          <p:spPr>
            <a:xfrm>
              <a:off x="201240" y="2055960"/>
              <a:ext cx="1705680" cy="271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2" name=""/>
            <p:cNvGrpSpPr/>
            <p:nvPr/>
          </p:nvGrpSpPr>
          <p:grpSpPr>
            <a:xfrm>
              <a:off x="211320" y="380880"/>
              <a:ext cx="1605600" cy="821880"/>
              <a:chOff x="211320" y="380880"/>
              <a:chExt cx="1605600" cy="821880"/>
            </a:xfrm>
          </p:grpSpPr>
          <p:sp>
            <p:nvSpPr>
              <p:cNvPr id="533" name=""/>
              <p:cNvSpPr/>
              <p:nvPr/>
            </p:nvSpPr>
            <p:spPr>
              <a:xfrm>
                <a:off x="403920" y="38088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7">
                    <a:moveTo>
                      <a:pt x="29" y="1655"/>
                    </a:moveTo>
                    <a:lnTo>
                      <a:pt x="79" y="1682"/>
                    </a:lnTo>
                    <a:lnTo>
                      <a:pt x="623" y="1957"/>
                    </a:lnTo>
                    <a:lnTo>
                      <a:pt x="684" y="1987"/>
                    </a:lnTo>
                    <a:lnTo>
                      <a:pt x="687" y="1916"/>
                    </a:lnTo>
                    <a:lnTo>
                      <a:pt x="691" y="1864"/>
                    </a:lnTo>
                    <a:lnTo>
                      <a:pt x="697" y="1814"/>
                    </a:lnTo>
                    <a:lnTo>
                      <a:pt x="704" y="1763"/>
                    </a:lnTo>
                    <a:lnTo>
                      <a:pt x="713" y="1714"/>
                    </a:lnTo>
                    <a:lnTo>
                      <a:pt x="724" y="1665"/>
                    </a:lnTo>
                    <a:lnTo>
                      <a:pt x="737" y="1616"/>
                    </a:lnTo>
                    <a:lnTo>
                      <a:pt x="751" y="1569"/>
                    </a:lnTo>
                    <a:lnTo>
                      <a:pt x="767" y="1522"/>
                    </a:lnTo>
                    <a:lnTo>
                      <a:pt x="784" y="1476"/>
                    </a:lnTo>
                    <a:lnTo>
                      <a:pt x="803" y="1431"/>
                    </a:lnTo>
                    <a:lnTo>
                      <a:pt x="824" y="1386"/>
                    </a:lnTo>
                    <a:lnTo>
                      <a:pt x="846" y="1343"/>
                    </a:lnTo>
                    <a:lnTo>
                      <a:pt x="869" y="1300"/>
                    </a:lnTo>
                    <a:lnTo>
                      <a:pt x="894" y="1257"/>
                    </a:lnTo>
                    <a:lnTo>
                      <a:pt x="920" y="1217"/>
                    </a:lnTo>
                    <a:lnTo>
                      <a:pt x="948" y="1177"/>
                    </a:lnTo>
                    <a:lnTo>
                      <a:pt x="976" y="1137"/>
                    </a:lnTo>
                    <a:lnTo>
                      <a:pt x="1007" y="1100"/>
                    </a:lnTo>
                    <a:lnTo>
                      <a:pt x="1038" y="1063"/>
                    </a:lnTo>
                    <a:lnTo>
                      <a:pt x="1071" y="1027"/>
                    </a:lnTo>
                    <a:lnTo>
                      <a:pt x="1105" y="993"/>
                    </a:lnTo>
                    <a:lnTo>
                      <a:pt x="1140" y="959"/>
                    </a:lnTo>
                    <a:lnTo>
                      <a:pt x="1176" y="927"/>
                    </a:lnTo>
                    <a:lnTo>
                      <a:pt x="1213" y="896"/>
                    </a:lnTo>
                    <a:lnTo>
                      <a:pt x="1250" y="866"/>
                    </a:lnTo>
                    <a:lnTo>
                      <a:pt x="1290" y="838"/>
                    </a:lnTo>
                    <a:lnTo>
                      <a:pt x="1331" y="810"/>
                    </a:lnTo>
                    <a:lnTo>
                      <a:pt x="1372" y="785"/>
                    </a:lnTo>
                    <a:lnTo>
                      <a:pt x="1414" y="760"/>
                    </a:lnTo>
                    <a:lnTo>
                      <a:pt x="1457" y="737"/>
                    </a:lnTo>
                    <a:lnTo>
                      <a:pt x="1501" y="716"/>
                    </a:lnTo>
                    <a:lnTo>
                      <a:pt x="1546" y="696"/>
                    </a:lnTo>
                    <a:lnTo>
                      <a:pt x="1584" y="680"/>
                    </a:lnTo>
                    <a:lnTo>
                      <a:pt x="1594" y="673"/>
                    </a:lnTo>
                    <a:lnTo>
                      <a:pt x="1600" y="665"/>
                    </a:lnTo>
                    <a:lnTo>
                      <a:pt x="1604" y="658"/>
                    </a:lnTo>
                    <a:lnTo>
                      <a:pt x="1606" y="650"/>
                    </a:lnTo>
                    <a:lnTo>
                      <a:pt x="1605" y="638"/>
                    </a:lnTo>
                    <a:lnTo>
                      <a:pt x="1603" y="632"/>
                    </a:lnTo>
                    <a:lnTo>
                      <a:pt x="1586" y="586"/>
                    </a:lnTo>
                    <a:lnTo>
                      <a:pt x="1385" y="31"/>
                    </a:lnTo>
                    <a:lnTo>
                      <a:pt x="1381" y="18"/>
                    </a:lnTo>
                    <a:lnTo>
                      <a:pt x="1380" y="13"/>
                    </a:lnTo>
                    <a:lnTo>
                      <a:pt x="1372" y="5"/>
                    </a:lnTo>
                    <a:lnTo>
                      <a:pt x="1367" y="2"/>
                    </a:lnTo>
                    <a:lnTo>
                      <a:pt x="1359" y="0"/>
                    </a:lnTo>
                    <a:lnTo>
                      <a:pt x="1349" y="0"/>
                    </a:lnTo>
                    <a:lnTo>
                      <a:pt x="1337" y="3"/>
                    </a:lnTo>
                    <a:lnTo>
                      <a:pt x="1307" y="14"/>
                    </a:lnTo>
                    <a:lnTo>
                      <a:pt x="1248" y="37"/>
                    </a:lnTo>
                    <a:lnTo>
                      <a:pt x="1190" y="63"/>
                    </a:lnTo>
                    <a:lnTo>
                      <a:pt x="1133" y="89"/>
                    </a:lnTo>
                    <a:lnTo>
                      <a:pt x="1076" y="119"/>
                    </a:lnTo>
                    <a:lnTo>
                      <a:pt x="1021" y="149"/>
                    </a:lnTo>
                    <a:lnTo>
                      <a:pt x="966" y="181"/>
                    </a:lnTo>
                    <a:lnTo>
                      <a:pt x="913" y="215"/>
                    </a:lnTo>
                    <a:lnTo>
                      <a:pt x="861" y="251"/>
                    </a:lnTo>
                    <a:lnTo>
                      <a:pt x="810" y="289"/>
                    </a:lnTo>
                    <a:lnTo>
                      <a:pt x="759" y="328"/>
                    </a:lnTo>
                    <a:lnTo>
                      <a:pt x="711" y="369"/>
                    </a:lnTo>
                    <a:lnTo>
                      <a:pt x="663" y="411"/>
                    </a:lnTo>
                    <a:lnTo>
                      <a:pt x="616" y="455"/>
                    </a:lnTo>
                    <a:lnTo>
                      <a:pt x="572" y="501"/>
                    </a:lnTo>
                    <a:lnTo>
                      <a:pt x="528" y="547"/>
                    </a:lnTo>
                    <a:lnTo>
                      <a:pt x="485" y="595"/>
                    </a:lnTo>
                    <a:lnTo>
                      <a:pt x="443" y="645"/>
                    </a:lnTo>
                    <a:lnTo>
                      <a:pt x="404" y="695"/>
                    </a:lnTo>
                    <a:lnTo>
                      <a:pt x="365" y="747"/>
                    </a:lnTo>
                    <a:lnTo>
                      <a:pt x="329" y="800"/>
                    </a:lnTo>
                    <a:lnTo>
                      <a:pt x="294" y="854"/>
                    </a:lnTo>
                    <a:lnTo>
                      <a:pt x="260" y="910"/>
                    </a:lnTo>
                    <a:lnTo>
                      <a:pt x="228" y="967"/>
                    </a:lnTo>
                    <a:lnTo>
                      <a:pt x="197" y="1024"/>
                    </a:lnTo>
                    <a:lnTo>
                      <a:pt x="169" y="1084"/>
                    </a:lnTo>
                    <a:lnTo>
                      <a:pt x="142" y="1144"/>
                    </a:lnTo>
                    <a:lnTo>
                      <a:pt x="116" y="1204"/>
                    </a:lnTo>
                    <a:lnTo>
                      <a:pt x="93" y="1266"/>
                    </a:lnTo>
                    <a:lnTo>
                      <a:pt x="71" y="1329"/>
                    </a:lnTo>
                    <a:lnTo>
                      <a:pt x="52" y="1392"/>
                    </a:lnTo>
                    <a:lnTo>
                      <a:pt x="34" y="1457"/>
                    </a:lnTo>
                    <a:lnTo>
                      <a:pt x="18" y="1522"/>
                    </a:lnTo>
                    <a:lnTo>
                      <a:pt x="2" y="1593"/>
                    </a:lnTo>
                    <a:lnTo>
                      <a:pt x="0" y="1610"/>
                    </a:lnTo>
                    <a:lnTo>
                      <a:pt x="1" y="1623"/>
                    </a:lnTo>
                    <a:lnTo>
                      <a:pt x="6" y="1634"/>
                    </a:lnTo>
                    <a:lnTo>
                      <a:pt x="11" y="1643"/>
                    </a:lnTo>
                    <a:lnTo>
                      <a:pt x="17" y="1648"/>
                    </a:lnTo>
                    <a:lnTo>
                      <a:pt x="23" y="1652"/>
                    </a:lnTo>
                    <a:lnTo>
                      <a:pt x="29" y="1655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03920" y="77004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5">
                    <a:moveTo>
                      <a:pt x="29" y="333"/>
                    </a:moveTo>
                    <a:lnTo>
                      <a:pt x="79" y="306"/>
                    </a:lnTo>
                    <a:lnTo>
                      <a:pt x="623" y="31"/>
                    </a:lnTo>
                    <a:lnTo>
                      <a:pt x="684" y="0"/>
                    </a:lnTo>
                    <a:lnTo>
                      <a:pt x="687" y="72"/>
                    </a:lnTo>
                    <a:lnTo>
                      <a:pt x="691" y="123"/>
                    </a:lnTo>
                    <a:lnTo>
                      <a:pt x="697" y="174"/>
                    </a:lnTo>
                    <a:lnTo>
                      <a:pt x="704" y="224"/>
                    </a:lnTo>
                    <a:lnTo>
                      <a:pt x="713" y="273"/>
                    </a:lnTo>
                    <a:lnTo>
                      <a:pt x="724" y="323"/>
                    </a:lnTo>
                    <a:lnTo>
                      <a:pt x="737" y="371"/>
                    </a:lnTo>
                    <a:lnTo>
                      <a:pt x="751" y="418"/>
                    </a:lnTo>
                    <a:lnTo>
                      <a:pt x="767" y="465"/>
                    </a:lnTo>
                    <a:lnTo>
                      <a:pt x="784" y="512"/>
                    </a:lnTo>
                    <a:lnTo>
                      <a:pt x="803" y="557"/>
                    </a:lnTo>
                    <a:lnTo>
                      <a:pt x="824" y="602"/>
                    </a:lnTo>
                    <a:lnTo>
                      <a:pt x="846" y="645"/>
                    </a:lnTo>
                    <a:lnTo>
                      <a:pt x="869" y="688"/>
                    </a:lnTo>
                    <a:lnTo>
                      <a:pt x="894" y="730"/>
                    </a:lnTo>
                    <a:lnTo>
                      <a:pt x="920" y="771"/>
                    </a:lnTo>
                    <a:lnTo>
                      <a:pt x="948" y="811"/>
                    </a:lnTo>
                    <a:lnTo>
                      <a:pt x="976" y="850"/>
                    </a:lnTo>
                    <a:lnTo>
                      <a:pt x="1007" y="888"/>
                    </a:lnTo>
                    <a:lnTo>
                      <a:pt x="1038" y="924"/>
                    </a:lnTo>
                    <a:lnTo>
                      <a:pt x="1071" y="961"/>
                    </a:lnTo>
                    <a:lnTo>
                      <a:pt x="1105" y="995"/>
                    </a:lnTo>
                    <a:lnTo>
                      <a:pt x="1140" y="1029"/>
                    </a:lnTo>
                    <a:lnTo>
                      <a:pt x="1176" y="1061"/>
                    </a:lnTo>
                    <a:lnTo>
                      <a:pt x="1213" y="1092"/>
                    </a:lnTo>
                    <a:lnTo>
                      <a:pt x="1252" y="1122"/>
                    </a:lnTo>
                    <a:lnTo>
                      <a:pt x="1290" y="1151"/>
                    </a:lnTo>
                    <a:lnTo>
                      <a:pt x="1331" y="1177"/>
                    </a:lnTo>
                    <a:lnTo>
                      <a:pt x="1372" y="1203"/>
                    </a:lnTo>
                    <a:lnTo>
                      <a:pt x="1414" y="1227"/>
                    </a:lnTo>
                    <a:lnTo>
                      <a:pt x="1457" y="1250"/>
                    </a:lnTo>
                    <a:lnTo>
                      <a:pt x="1501" y="1271"/>
                    </a:lnTo>
                    <a:lnTo>
                      <a:pt x="1546" y="1292"/>
                    </a:lnTo>
                    <a:lnTo>
                      <a:pt x="1584" y="1308"/>
                    </a:lnTo>
                    <a:lnTo>
                      <a:pt x="1594" y="1315"/>
                    </a:lnTo>
                    <a:lnTo>
                      <a:pt x="1600" y="1323"/>
                    </a:lnTo>
                    <a:lnTo>
                      <a:pt x="1605" y="1331"/>
                    </a:lnTo>
                    <a:lnTo>
                      <a:pt x="1606" y="1337"/>
                    </a:lnTo>
                    <a:lnTo>
                      <a:pt x="1605" y="1349"/>
                    </a:lnTo>
                    <a:lnTo>
                      <a:pt x="1603" y="1355"/>
                    </a:lnTo>
                    <a:lnTo>
                      <a:pt x="1586" y="1401"/>
                    </a:lnTo>
                    <a:lnTo>
                      <a:pt x="1388" y="1950"/>
                    </a:lnTo>
                    <a:lnTo>
                      <a:pt x="1381" y="1965"/>
                    </a:lnTo>
                    <a:lnTo>
                      <a:pt x="1379" y="1970"/>
                    </a:lnTo>
                    <a:lnTo>
                      <a:pt x="1371" y="1978"/>
                    </a:lnTo>
                    <a:lnTo>
                      <a:pt x="1366" y="1983"/>
                    </a:lnTo>
                    <a:lnTo>
                      <a:pt x="1358" y="1985"/>
                    </a:lnTo>
                    <a:lnTo>
                      <a:pt x="1348" y="1985"/>
                    </a:lnTo>
                    <a:lnTo>
                      <a:pt x="1338" y="1983"/>
                    </a:lnTo>
                    <a:lnTo>
                      <a:pt x="1302" y="1969"/>
                    </a:lnTo>
                    <a:lnTo>
                      <a:pt x="1242" y="1942"/>
                    </a:lnTo>
                    <a:lnTo>
                      <a:pt x="1181" y="1915"/>
                    </a:lnTo>
                    <a:lnTo>
                      <a:pt x="1123" y="1886"/>
                    </a:lnTo>
                    <a:lnTo>
                      <a:pt x="1066" y="1857"/>
                    </a:lnTo>
                    <a:lnTo>
                      <a:pt x="1009" y="1824"/>
                    </a:lnTo>
                    <a:lnTo>
                      <a:pt x="954" y="1791"/>
                    </a:lnTo>
                    <a:lnTo>
                      <a:pt x="901" y="1756"/>
                    </a:lnTo>
                    <a:lnTo>
                      <a:pt x="848" y="1719"/>
                    </a:lnTo>
                    <a:lnTo>
                      <a:pt x="796" y="1682"/>
                    </a:lnTo>
                    <a:lnTo>
                      <a:pt x="747" y="1642"/>
                    </a:lnTo>
                    <a:lnTo>
                      <a:pt x="698" y="1602"/>
                    </a:lnTo>
                    <a:lnTo>
                      <a:pt x="650" y="1560"/>
                    </a:lnTo>
                    <a:lnTo>
                      <a:pt x="604" y="1517"/>
                    </a:lnTo>
                    <a:lnTo>
                      <a:pt x="559" y="1472"/>
                    </a:lnTo>
                    <a:lnTo>
                      <a:pt x="517" y="1426"/>
                    </a:lnTo>
                    <a:lnTo>
                      <a:pt x="475" y="1379"/>
                    </a:lnTo>
                    <a:lnTo>
                      <a:pt x="434" y="1331"/>
                    </a:lnTo>
                    <a:lnTo>
                      <a:pt x="395" y="1281"/>
                    </a:lnTo>
                    <a:lnTo>
                      <a:pt x="358" y="1230"/>
                    </a:lnTo>
                    <a:lnTo>
                      <a:pt x="323" y="1178"/>
                    </a:lnTo>
                    <a:lnTo>
                      <a:pt x="287" y="1124"/>
                    </a:lnTo>
                    <a:lnTo>
                      <a:pt x="255" y="1070"/>
                    </a:lnTo>
                    <a:lnTo>
                      <a:pt x="224" y="1014"/>
                    </a:lnTo>
                    <a:lnTo>
                      <a:pt x="194" y="957"/>
                    </a:lnTo>
                    <a:lnTo>
                      <a:pt x="166" y="900"/>
                    </a:lnTo>
                    <a:lnTo>
                      <a:pt x="139" y="841"/>
                    </a:lnTo>
                    <a:lnTo>
                      <a:pt x="115" y="781"/>
                    </a:lnTo>
                    <a:lnTo>
                      <a:pt x="92" y="720"/>
                    </a:lnTo>
                    <a:lnTo>
                      <a:pt x="71" y="658"/>
                    </a:lnTo>
                    <a:lnTo>
                      <a:pt x="52" y="595"/>
                    </a:lnTo>
                    <a:lnTo>
                      <a:pt x="34" y="530"/>
                    </a:lnTo>
                    <a:lnTo>
                      <a:pt x="18" y="465"/>
                    </a:lnTo>
                    <a:lnTo>
                      <a:pt x="3" y="394"/>
                    </a:lnTo>
                    <a:lnTo>
                      <a:pt x="0" y="378"/>
                    </a:lnTo>
                    <a:lnTo>
                      <a:pt x="1" y="364"/>
                    </a:lnTo>
                    <a:lnTo>
                      <a:pt x="6" y="353"/>
                    </a:lnTo>
                    <a:lnTo>
                      <a:pt x="11" y="346"/>
                    </a:lnTo>
                    <a:lnTo>
                      <a:pt x="17" y="339"/>
                    </a:lnTo>
                    <a:lnTo>
                      <a:pt x="23" y="336"/>
                    </a:lnTo>
                    <a:lnTo>
                      <a:pt x="29" y="333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67440" y="698400"/>
                <a:ext cx="149400" cy="147600"/>
              </a:xfrm>
              <a:custGeom>
                <a:avLst/>
                <a:gdLst/>
                <a:ahLst/>
                <a:rect l="l" t="t" r="r" b="b"/>
                <a:pathLst>
                  <a:path w="714" h="759">
                    <a:moveTo>
                      <a:pt x="699" y="379"/>
                    </a:moveTo>
                    <a:lnTo>
                      <a:pt x="706" y="375"/>
                    </a:lnTo>
                    <a:lnTo>
                      <a:pt x="710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09" y="351"/>
                    </a:lnTo>
                    <a:lnTo>
                      <a:pt x="705" y="346"/>
                    </a:lnTo>
                    <a:lnTo>
                      <a:pt x="699" y="342"/>
                    </a:lnTo>
                    <a:lnTo>
                      <a:pt x="35" y="4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3" y="11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735"/>
                    </a:lnTo>
                    <a:lnTo>
                      <a:pt x="1" y="743"/>
                    </a:lnTo>
                    <a:lnTo>
                      <a:pt x="3" y="748"/>
                    </a:lnTo>
                    <a:lnTo>
                      <a:pt x="5" y="753"/>
                    </a:lnTo>
                    <a:lnTo>
                      <a:pt x="10" y="757"/>
                    </a:lnTo>
                    <a:lnTo>
                      <a:pt x="15" y="759"/>
                    </a:lnTo>
                    <a:lnTo>
                      <a:pt x="21" y="759"/>
                    </a:lnTo>
                    <a:lnTo>
                      <a:pt x="27" y="758"/>
                    </a:lnTo>
                    <a:lnTo>
                      <a:pt x="34" y="755"/>
                    </a:lnTo>
                    <a:lnTo>
                      <a:pt x="699" y="379"/>
                    </a:lnTo>
                    <a:close/>
                  </a:path>
                </a:pathLst>
              </a:custGeom>
              <a:solidFill>
                <a:srgbClr val="00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11320" y="701640"/>
                <a:ext cx="149760" cy="146160"/>
              </a:xfrm>
              <a:custGeom>
                <a:avLst/>
                <a:gdLst/>
                <a:ahLst/>
                <a:rect l="l" t="t" r="r" b="b"/>
                <a:pathLst>
                  <a:path w="714" h="758">
                    <a:moveTo>
                      <a:pt x="701" y="379"/>
                    </a:moveTo>
                    <a:lnTo>
                      <a:pt x="706" y="374"/>
                    </a:lnTo>
                    <a:lnTo>
                      <a:pt x="711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11" y="350"/>
                    </a:lnTo>
                    <a:lnTo>
                      <a:pt x="706" y="346"/>
                    </a:lnTo>
                    <a:lnTo>
                      <a:pt x="700" y="342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0" y="734"/>
                    </a:lnTo>
                    <a:lnTo>
                      <a:pt x="1" y="742"/>
                    </a:lnTo>
                    <a:lnTo>
                      <a:pt x="3" y="749"/>
                    </a:lnTo>
                    <a:lnTo>
                      <a:pt x="7" y="753"/>
                    </a:lnTo>
                    <a:lnTo>
                      <a:pt x="10" y="756"/>
                    </a:lnTo>
                    <a:lnTo>
                      <a:pt x="15" y="758"/>
                    </a:lnTo>
                    <a:lnTo>
                      <a:pt x="21" y="758"/>
                    </a:lnTo>
                    <a:lnTo>
                      <a:pt x="27" y="757"/>
                    </a:lnTo>
                    <a:lnTo>
                      <a:pt x="34" y="754"/>
                    </a:lnTo>
                    <a:lnTo>
                      <a:pt x="701" y="379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011960" y="517680"/>
                <a:ext cx="195840" cy="250560"/>
              </a:xfrm>
              <a:custGeom>
                <a:avLst/>
                <a:gdLst/>
                <a:ahLst/>
                <a:rect l="l" t="t" r="r" b="b"/>
                <a:pathLst>
                  <a:path w="930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30" y="1293"/>
                    </a:lnTo>
                    <a:lnTo>
                      <a:pt x="713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230480" y="517680"/>
                <a:ext cx="34200" cy="25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316520" y="517680"/>
                <a:ext cx="168480" cy="250560"/>
              </a:xfrm>
              <a:custGeom>
                <a:avLst/>
                <a:gdLst/>
                <a:ahLst/>
                <a:rect l="l" t="t" r="r" b="b"/>
                <a:pathLst>
                  <a:path w="803" h="1293">
                    <a:moveTo>
                      <a:pt x="803" y="1293"/>
                    </a:moveTo>
                    <a:lnTo>
                      <a:pt x="607" y="1293"/>
                    </a:lnTo>
                    <a:lnTo>
                      <a:pt x="228" y="746"/>
                    </a:lnTo>
                    <a:lnTo>
                      <a:pt x="161" y="746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283" y="1"/>
                    </a:lnTo>
                    <a:lnTo>
                      <a:pt x="327" y="4"/>
                    </a:lnTo>
                    <a:lnTo>
                      <a:pt x="370" y="8"/>
                    </a:lnTo>
                    <a:lnTo>
                      <a:pt x="413" y="16"/>
                    </a:lnTo>
                    <a:lnTo>
                      <a:pt x="456" y="27"/>
                    </a:lnTo>
                    <a:lnTo>
                      <a:pt x="497" y="41"/>
                    </a:lnTo>
                    <a:lnTo>
                      <a:pt x="536" y="61"/>
                    </a:lnTo>
                    <a:lnTo>
                      <a:pt x="556" y="73"/>
                    </a:lnTo>
                    <a:lnTo>
                      <a:pt x="574" y="87"/>
                    </a:lnTo>
                    <a:lnTo>
                      <a:pt x="592" y="101"/>
                    </a:lnTo>
                    <a:lnTo>
                      <a:pt x="608" y="118"/>
                    </a:lnTo>
                    <a:lnTo>
                      <a:pt x="623" y="135"/>
                    </a:lnTo>
                    <a:lnTo>
                      <a:pt x="637" y="153"/>
                    </a:lnTo>
                    <a:lnTo>
                      <a:pt x="650" y="173"/>
                    </a:lnTo>
                    <a:lnTo>
                      <a:pt x="661" y="192"/>
                    </a:lnTo>
                    <a:lnTo>
                      <a:pt x="671" y="212"/>
                    </a:lnTo>
                    <a:lnTo>
                      <a:pt x="680" y="233"/>
                    </a:lnTo>
                    <a:lnTo>
                      <a:pt x="694" y="277"/>
                    </a:lnTo>
                    <a:lnTo>
                      <a:pt x="700" y="300"/>
                    </a:lnTo>
                    <a:lnTo>
                      <a:pt x="703" y="323"/>
                    </a:lnTo>
                    <a:lnTo>
                      <a:pt x="705" y="346"/>
                    </a:lnTo>
                    <a:lnTo>
                      <a:pt x="705" y="369"/>
                    </a:lnTo>
                    <a:lnTo>
                      <a:pt x="704" y="403"/>
                    </a:lnTo>
                    <a:lnTo>
                      <a:pt x="700" y="436"/>
                    </a:lnTo>
                    <a:lnTo>
                      <a:pt x="693" y="469"/>
                    </a:lnTo>
                    <a:lnTo>
                      <a:pt x="683" y="500"/>
                    </a:lnTo>
                    <a:lnTo>
                      <a:pt x="671" y="531"/>
                    </a:lnTo>
                    <a:lnTo>
                      <a:pt x="657" y="558"/>
                    </a:lnTo>
                    <a:lnTo>
                      <a:pt x="639" y="585"/>
                    </a:lnTo>
                    <a:lnTo>
                      <a:pt x="621" y="611"/>
                    </a:lnTo>
                    <a:lnTo>
                      <a:pt x="599" y="634"/>
                    </a:lnTo>
                    <a:lnTo>
                      <a:pt x="576" y="655"/>
                    </a:lnTo>
                    <a:lnTo>
                      <a:pt x="550" y="673"/>
                    </a:lnTo>
                    <a:lnTo>
                      <a:pt x="523" y="691"/>
                    </a:lnTo>
                    <a:lnTo>
                      <a:pt x="493" y="704"/>
                    </a:lnTo>
                    <a:lnTo>
                      <a:pt x="463" y="716"/>
                    </a:lnTo>
                    <a:lnTo>
                      <a:pt x="430" y="725"/>
                    </a:lnTo>
                    <a:lnTo>
                      <a:pt x="396" y="730"/>
                    </a:lnTo>
                    <a:lnTo>
                      <a:pt x="803" y="1293"/>
                    </a:lnTo>
                    <a:close/>
                    <a:moveTo>
                      <a:pt x="161" y="612"/>
                    </a:moveTo>
                    <a:lnTo>
                      <a:pt x="213" y="612"/>
                    </a:lnTo>
                    <a:lnTo>
                      <a:pt x="274" y="611"/>
                    </a:lnTo>
                    <a:lnTo>
                      <a:pt x="335" y="604"/>
                    </a:lnTo>
                    <a:lnTo>
                      <a:pt x="365" y="599"/>
                    </a:lnTo>
                    <a:lnTo>
                      <a:pt x="393" y="591"/>
                    </a:lnTo>
                    <a:lnTo>
                      <a:pt x="420" y="582"/>
                    </a:lnTo>
                    <a:lnTo>
                      <a:pt x="445" y="571"/>
                    </a:lnTo>
                    <a:lnTo>
                      <a:pt x="469" y="557"/>
                    </a:lnTo>
                    <a:lnTo>
                      <a:pt x="490" y="540"/>
                    </a:lnTo>
                    <a:lnTo>
                      <a:pt x="509" y="522"/>
                    </a:lnTo>
                    <a:lnTo>
                      <a:pt x="524" y="499"/>
                    </a:lnTo>
                    <a:lnTo>
                      <a:pt x="537" y="473"/>
                    </a:lnTo>
                    <a:lnTo>
                      <a:pt x="547" y="445"/>
                    </a:lnTo>
                    <a:lnTo>
                      <a:pt x="553" y="412"/>
                    </a:lnTo>
                    <a:lnTo>
                      <a:pt x="555" y="376"/>
                    </a:lnTo>
                    <a:lnTo>
                      <a:pt x="553" y="339"/>
                    </a:lnTo>
                    <a:lnTo>
                      <a:pt x="546" y="308"/>
                    </a:lnTo>
                    <a:lnTo>
                      <a:pt x="536" y="279"/>
                    </a:lnTo>
                    <a:lnTo>
                      <a:pt x="523" y="254"/>
                    </a:lnTo>
                    <a:lnTo>
                      <a:pt x="505" y="232"/>
                    </a:lnTo>
                    <a:lnTo>
                      <a:pt x="486" y="213"/>
                    </a:lnTo>
                    <a:lnTo>
                      <a:pt x="464" y="198"/>
                    </a:lnTo>
                    <a:lnTo>
                      <a:pt x="440" y="184"/>
                    </a:lnTo>
                    <a:lnTo>
                      <a:pt x="413" y="173"/>
                    </a:lnTo>
                    <a:lnTo>
                      <a:pt x="385" y="164"/>
                    </a:lnTo>
                    <a:lnTo>
                      <a:pt x="356" y="157"/>
                    </a:lnTo>
                    <a:lnTo>
                      <a:pt x="325" y="152"/>
                    </a:lnTo>
                    <a:lnTo>
                      <a:pt x="296" y="148"/>
                    </a:lnTo>
                    <a:lnTo>
                      <a:pt x="265" y="146"/>
                    </a:lnTo>
                    <a:lnTo>
                      <a:pt x="204" y="144"/>
                    </a:lnTo>
                    <a:lnTo>
                      <a:pt x="161" y="144"/>
                    </a:lnTo>
                    <a:lnTo>
                      <a:pt x="161" y="6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502280" y="517680"/>
                <a:ext cx="196200" cy="250560"/>
              </a:xfrm>
              <a:custGeom>
                <a:avLst/>
                <a:gdLst/>
                <a:ahLst/>
                <a:rect l="l" t="t" r="r" b="b"/>
                <a:pathLst>
                  <a:path w="929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29" y="1293"/>
                    </a:lnTo>
                    <a:lnTo>
                      <a:pt x="712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999720" y="847800"/>
                <a:ext cx="54720" cy="133200"/>
              </a:xfrm>
              <a:custGeom>
                <a:avLst/>
                <a:gdLst/>
                <a:ahLst/>
                <a:rect l="l" t="t" r="r" b="b"/>
                <a:pathLst>
                  <a:path w="264" h="687">
                    <a:moveTo>
                      <a:pt x="169" y="687"/>
                    </a:moveTo>
                    <a:lnTo>
                      <a:pt x="74" y="687"/>
                    </a:lnTo>
                    <a:lnTo>
                      <a:pt x="74" y="279"/>
                    </a:lnTo>
                    <a:lnTo>
                      <a:pt x="0" y="279"/>
                    </a:lnTo>
                    <a:lnTo>
                      <a:pt x="0" y="190"/>
                    </a:lnTo>
                    <a:lnTo>
                      <a:pt x="74" y="190"/>
                    </a:lnTo>
                    <a:lnTo>
                      <a:pt x="74" y="0"/>
                    </a:lnTo>
                    <a:lnTo>
                      <a:pt x="169" y="0"/>
                    </a:lnTo>
                    <a:lnTo>
                      <a:pt x="169" y="190"/>
                    </a:lnTo>
                    <a:lnTo>
                      <a:pt x="264" y="190"/>
                    </a:lnTo>
                    <a:lnTo>
                      <a:pt x="264" y="279"/>
                    </a:lnTo>
                    <a:lnTo>
                      <a:pt x="169" y="279"/>
                    </a:lnTo>
                    <a:lnTo>
                      <a:pt x="169" y="6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058400" y="882720"/>
                <a:ext cx="9936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5" y="280"/>
                    </a:moveTo>
                    <a:lnTo>
                      <a:pt x="98" y="311"/>
                    </a:lnTo>
                    <a:lnTo>
                      <a:pt x="106" y="341"/>
                    </a:lnTo>
                    <a:lnTo>
                      <a:pt x="119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8" y="415"/>
                    </a:lnTo>
                    <a:lnTo>
                      <a:pt x="170" y="423"/>
                    </a:lnTo>
                    <a:lnTo>
                      <a:pt x="184" y="431"/>
                    </a:lnTo>
                    <a:lnTo>
                      <a:pt x="197" y="437"/>
                    </a:lnTo>
                    <a:lnTo>
                      <a:pt x="213" y="441"/>
                    </a:lnTo>
                    <a:lnTo>
                      <a:pt x="229" y="443"/>
                    </a:lnTo>
                    <a:lnTo>
                      <a:pt x="245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5" y="430"/>
                    </a:lnTo>
                    <a:lnTo>
                      <a:pt x="333" y="418"/>
                    </a:lnTo>
                    <a:lnTo>
                      <a:pt x="351" y="405"/>
                    </a:lnTo>
                    <a:lnTo>
                      <a:pt x="366" y="388"/>
                    </a:lnTo>
                    <a:lnTo>
                      <a:pt x="380" y="368"/>
                    </a:lnTo>
                    <a:lnTo>
                      <a:pt x="394" y="348"/>
                    </a:lnTo>
                    <a:lnTo>
                      <a:pt x="475" y="394"/>
                    </a:lnTo>
                    <a:lnTo>
                      <a:pt x="455" y="424"/>
                    </a:lnTo>
                    <a:lnTo>
                      <a:pt x="433" y="451"/>
                    </a:lnTo>
                    <a:lnTo>
                      <a:pt x="407" y="474"/>
                    </a:lnTo>
                    <a:lnTo>
                      <a:pt x="378" y="494"/>
                    </a:lnTo>
                    <a:lnTo>
                      <a:pt x="347" y="509"/>
                    </a:lnTo>
                    <a:lnTo>
                      <a:pt x="315" y="520"/>
                    </a:lnTo>
                    <a:lnTo>
                      <a:pt x="279" y="528"/>
                    </a:lnTo>
                    <a:lnTo>
                      <a:pt x="244" y="530"/>
                    </a:lnTo>
                    <a:lnTo>
                      <a:pt x="217" y="528"/>
                    </a:lnTo>
                    <a:lnTo>
                      <a:pt x="191" y="524"/>
                    </a:lnTo>
                    <a:lnTo>
                      <a:pt x="165" y="518"/>
                    </a:lnTo>
                    <a:lnTo>
                      <a:pt x="142" y="509"/>
                    </a:lnTo>
                    <a:lnTo>
                      <a:pt x="120" y="498"/>
                    </a:lnTo>
                    <a:lnTo>
                      <a:pt x="101" y="485"/>
                    </a:lnTo>
                    <a:lnTo>
                      <a:pt x="82" y="471"/>
                    </a:lnTo>
                    <a:lnTo>
                      <a:pt x="66" y="454"/>
                    </a:lnTo>
                    <a:lnTo>
                      <a:pt x="50" y="435"/>
                    </a:lnTo>
                    <a:lnTo>
                      <a:pt x="37" y="416"/>
                    </a:lnTo>
                    <a:lnTo>
                      <a:pt x="26" y="394"/>
                    </a:lnTo>
                    <a:lnTo>
                      <a:pt x="16" y="371"/>
                    </a:lnTo>
                    <a:lnTo>
                      <a:pt x="10" y="346"/>
                    </a:lnTo>
                    <a:lnTo>
                      <a:pt x="4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4" y="213"/>
                    </a:lnTo>
                    <a:lnTo>
                      <a:pt x="9" y="186"/>
                    </a:lnTo>
                    <a:lnTo>
                      <a:pt x="15" y="161"/>
                    </a:lnTo>
                    <a:lnTo>
                      <a:pt x="24" y="138"/>
                    </a:lnTo>
                    <a:lnTo>
                      <a:pt x="34" y="116"/>
                    </a:lnTo>
                    <a:lnTo>
                      <a:pt x="47" y="95"/>
                    </a:lnTo>
                    <a:lnTo>
                      <a:pt x="61" y="76"/>
                    </a:lnTo>
                    <a:lnTo>
                      <a:pt x="77" y="60"/>
                    </a:lnTo>
                    <a:lnTo>
                      <a:pt x="95" y="45"/>
                    </a:lnTo>
                    <a:lnTo>
                      <a:pt x="115" y="31"/>
                    </a:lnTo>
                    <a:lnTo>
                      <a:pt x="137" y="20"/>
                    </a:lnTo>
                    <a:lnTo>
                      <a:pt x="160" y="12"/>
                    </a:lnTo>
                    <a:lnTo>
                      <a:pt x="185" y="5"/>
                    </a:lnTo>
                    <a:lnTo>
                      <a:pt x="213" y="2"/>
                    </a:lnTo>
                    <a:lnTo>
                      <a:pt x="242" y="0"/>
                    </a:lnTo>
                    <a:lnTo>
                      <a:pt x="271" y="2"/>
                    </a:lnTo>
                    <a:lnTo>
                      <a:pt x="297" y="5"/>
                    </a:lnTo>
                    <a:lnTo>
                      <a:pt x="322" y="12"/>
                    </a:lnTo>
                    <a:lnTo>
                      <a:pt x="345" y="20"/>
                    </a:lnTo>
                    <a:lnTo>
                      <a:pt x="366" y="31"/>
                    </a:lnTo>
                    <a:lnTo>
                      <a:pt x="385" y="45"/>
                    </a:lnTo>
                    <a:lnTo>
                      <a:pt x="402" y="60"/>
                    </a:lnTo>
                    <a:lnTo>
                      <a:pt x="418" y="76"/>
                    </a:lnTo>
                    <a:lnTo>
                      <a:pt x="431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0" y="161"/>
                    </a:lnTo>
                    <a:lnTo>
                      <a:pt x="467" y="185"/>
                    </a:lnTo>
                    <a:lnTo>
                      <a:pt x="471" y="210"/>
                    </a:lnTo>
                    <a:lnTo>
                      <a:pt x="474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5" y="280"/>
                    </a:lnTo>
                    <a:close/>
                    <a:moveTo>
                      <a:pt x="379" y="207"/>
                    </a:moveTo>
                    <a:lnTo>
                      <a:pt x="373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5" y="117"/>
                    </a:lnTo>
                    <a:lnTo>
                      <a:pt x="316" y="103"/>
                    </a:lnTo>
                    <a:lnTo>
                      <a:pt x="294" y="92"/>
                    </a:lnTo>
                    <a:lnTo>
                      <a:pt x="270" y="85"/>
                    </a:lnTo>
                    <a:lnTo>
                      <a:pt x="242" y="83"/>
                    </a:lnTo>
                    <a:lnTo>
                      <a:pt x="215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1" y="137"/>
                    </a:lnTo>
                    <a:lnTo>
                      <a:pt x="117" y="158"/>
                    </a:lnTo>
                    <a:lnTo>
                      <a:pt x="107" y="182"/>
                    </a:lnTo>
                    <a:lnTo>
                      <a:pt x="101" y="207"/>
                    </a:lnTo>
                    <a:lnTo>
                      <a:pt x="379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177200" y="846000"/>
                <a:ext cx="2052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211400" y="882720"/>
                <a:ext cx="9972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7" y="280"/>
                    </a:moveTo>
                    <a:lnTo>
                      <a:pt x="99" y="311"/>
                    </a:lnTo>
                    <a:lnTo>
                      <a:pt x="108" y="341"/>
                    </a:lnTo>
                    <a:lnTo>
                      <a:pt x="120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9" y="415"/>
                    </a:lnTo>
                    <a:lnTo>
                      <a:pt x="171" y="423"/>
                    </a:lnTo>
                    <a:lnTo>
                      <a:pt x="185" y="431"/>
                    </a:lnTo>
                    <a:lnTo>
                      <a:pt x="199" y="437"/>
                    </a:lnTo>
                    <a:lnTo>
                      <a:pt x="213" y="441"/>
                    </a:lnTo>
                    <a:lnTo>
                      <a:pt x="230" y="443"/>
                    </a:lnTo>
                    <a:lnTo>
                      <a:pt x="246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6" y="430"/>
                    </a:lnTo>
                    <a:lnTo>
                      <a:pt x="335" y="418"/>
                    </a:lnTo>
                    <a:lnTo>
                      <a:pt x="351" y="405"/>
                    </a:lnTo>
                    <a:lnTo>
                      <a:pt x="367" y="388"/>
                    </a:lnTo>
                    <a:lnTo>
                      <a:pt x="381" y="368"/>
                    </a:lnTo>
                    <a:lnTo>
                      <a:pt x="395" y="348"/>
                    </a:lnTo>
                    <a:lnTo>
                      <a:pt x="475" y="394"/>
                    </a:lnTo>
                    <a:lnTo>
                      <a:pt x="457" y="424"/>
                    </a:lnTo>
                    <a:lnTo>
                      <a:pt x="434" y="451"/>
                    </a:lnTo>
                    <a:lnTo>
                      <a:pt x="407" y="474"/>
                    </a:lnTo>
                    <a:lnTo>
                      <a:pt x="379" y="494"/>
                    </a:lnTo>
                    <a:lnTo>
                      <a:pt x="348" y="509"/>
                    </a:lnTo>
                    <a:lnTo>
                      <a:pt x="315" y="520"/>
                    </a:lnTo>
                    <a:lnTo>
                      <a:pt x="281" y="528"/>
                    </a:lnTo>
                    <a:lnTo>
                      <a:pt x="245" y="530"/>
                    </a:lnTo>
                    <a:lnTo>
                      <a:pt x="218" y="528"/>
                    </a:lnTo>
                    <a:lnTo>
                      <a:pt x="191" y="524"/>
                    </a:lnTo>
                    <a:lnTo>
                      <a:pt x="166" y="518"/>
                    </a:lnTo>
                    <a:lnTo>
                      <a:pt x="143" y="509"/>
                    </a:lnTo>
                    <a:lnTo>
                      <a:pt x="121" y="498"/>
                    </a:lnTo>
                    <a:lnTo>
                      <a:pt x="101" y="485"/>
                    </a:lnTo>
                    <a:lnTo>
                      <a:pt x="83" y="471"/>
                    </a:lnTo>
                    <a:lnTo>
                      <a:pt x="66" y="454"/>
                    </a:lnTo>
                    <a:lnTo>
                      <a:pt x="51" y="435"/>
                    </a:lnTo>
                    <a:lnTo>
                      <a:pt x="38" y="416"/>
                    </a:lnTo>
                    <a:lnTo>
                      <a:pt x="27" y="394"/>
                    </a:lnTo>
                    <a:lnTo>
                      <a:pt x="18" y="371"/>
                    </a:lnTo>
                    <a:lnTo>
                      <a:pt x="10" y="346"/>
                    </a:lnTo>
                    <a:lnTo>
                      <a:pt x="5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5" y="213"/>
                    </a:lnTo>
                    <a:lnTo>
                      <a:pt x="9" y="186"/>
                    </a:lnTo>
                    <a:lnTo>
                      <a:pt x="16" y="161"/>
                    </a:lnTo>
                    <a:lnTo>
                      <a:pt x="24" y="138"/>
                    </a:lnTo>
                    <a:lnTo>
                      <a:pt x="35" y="116"/>
                    </a:lnTo>
                    <a:lnTo>
                      <a:pt x="48" y="95"/>
                    </a:lnTo>
                    <a:lnTo>
                      <a:pt x="62" y="76"/>
                    </a:lnTo>
                    <a:lnTo>
                      <a:pt x="78" y="60"/>
                    </a:lnTo>
                    <a:lnTo>
                      <a:pt x="96" y="45"/>
                    </a:lnTo>
                    <a:lnTo>
                      <a:pt x="116" y="31"/>
                    </a:lnTo>
                    <a:lnTo>
                      <a:pt x="137" y="20"/>
                    </a:lnTo>
                    <a:lnTo>
                      <a:pt x="162" y="12"/>
                    </a:lnTo>
                    <a:lnTo>
                      <a:pt x="187" y="5"/>
                    </a:lnTo>
                    <a:lnTo>
                      <a:pt x="214" y="2"/>
                    </a:lnTo>
                    <a:lnTo>
                      <a:pt x="243" y="0"/>
                    </a:lnTo>
                    <a:lnTo>
                      <a:pt x="271" y="2"/>
                    </a:lnTo>
                    <a:lnTo>
                      <a:pt x="299" y="5"/>
                    </a:lnTo>
                    <a:lnTo>
                      <a:pt x="323" y="12"/>
                    </a:lnTo>
                    <a:lnTo>
                      <a:pt x="346" y="20"/>
                    </a:lnTo>
                    <a:lnTo>
                      <a:pt x="367" y="31"/>
                    </a:lnTo>
                    <a:lnTo>
                      <a:pt x="386" y="45"/>
                    </a:lnTo>
                    <a:lnTo>
                      <a:pt x="403" y="60"/>
                    </a:lnTo>
                    <a:lnTo>
                      <a:pt x="418" y="76"/>
                    </a:lnTo>
                    <a:lnTo>
                      <a:pt x="432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1" y="161"/>
                    </a:lnTo>
                    <a:lnTo>
                      <a:pt x="468" y="185"/>
                    </a:lnTo>
                    <a:lnTo>
                      <a:pt x="472" y="210"/>
                    </a:lnTo>
                    <a:lnTo>
                      <a:pt x="475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7" y="280"/>
                    </a:lnTo>
                    <a:close/>
                    <a:moveTo>
                      <a:pt x="380" y="207"/>
                    </a:moveTo>
                    <a:lnTo>
                      <a:pt x="374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6" y="117"/>
                    </a:lnTo>
                    <a:lnTo>
                      <a:pt x="317" y="103"/>
                    </a:lnTo>
                    <a:lnTo>
                      <a:pt x="295" y="92"/>
                    </a:lnTo>
                    <a:lnTo>
                      <a:pt x="270" y="85"/>
                    </a:lnTo>
                    <a:lnTo>
                      <a:pt x="243" y="83"/>
                    </a:lnTo>
                    <a:lnTo>
                      <a:pt x="216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2" y="137"/>
                    </a:lnTo>
                    <a:lnTo>
                      <a:pt x="119" y="158"/>
                    </a:lnTo>
                    <a:lnTo>
                      <a:pt x="108" y="182"/>
                    </a:lnTo>
                    <a:lnTo>
                      <a:pt x="101" y="207"/>
                    </a:lnTo>
                    <a:lnTo>
                      <a:pt x="380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326960" y="882720"/>
                <a:ext cx="84240" cy="101520"/>
              </a:xfrm>
              <a:custGeom>
                <a:avLst/>
                <a:gdLst/>
                <a:ahLst/>
                <a:rect l="l" t="t" r="r" b="b"/>
                <a:pathLst>
                  <a:path w="404" h="530">
                    <a:moveTo>
                      <a:pt x="404" y="157"/>
                    </a:moveTo>
                    <a:lnTo>
                      <a:pt x="389" y="141"/>
                    </a:lnTo>
                    <a:lnTo>
                      <a:pt x="373" y="127"/>
                    </a:lnTo>
                    <a:lnTo>
                      <a:pt x="358" y="116"/>
                    </a:lnTo>
                    <a:lnTo>
                      <a:pt x="340" y="106"/>
                    </a:lnTo>
                    <a:lnTo>
                      <a:pt x="321" y="99"/>
                    </a:lnTo>
                    <a:lnTo>
                      <a:pt x="303" y="94"/>
                    </a:lnTo>
                    <a:lnTo>
                      <a:pt x="283" y="91"/>
                    </a:lnTo>
                    <a:lnTo>
                      <a:pt x="261" y="90"/>
                    </a:lnTo>
                    <a:lnTo>
                      <a:pt x="245" y="91"/>
                    </a:lnTo>
                    <a:lnTo>
                      <a:pt x="227" y="93"/>
                    </a:lnTo>
                    <a:lnTo>
                      <a:pt x="212" y="97"/>
                    </a:lnTo>
                    <a:lnTo>
                      <a:pt x="196" y="104"/>
                    </a:lnTo>
                    <a:lnTo>
                      <a:pt x="182" y="112"/>
                    </a:lnTo>
                    <a:lnTo>
                      <a:pt x="168" y="120"/>
                    </a:lnTo>
                    <a:lnTo>
                      <a:pt x="156" y="130"/>
                    </a:lnTo>
                    <a:lnTo>
                      <a:pt x="144" y="142"/>
                    </a:lnTo>
                    <a:lnTo>
                      <a:pt x="133" y="154"/>
                    </a:lnTo>
                    <a:lnTo>
                      <a:pt x="124" y="169"/>
                    </a:lnTo>
                    <a:lnTo>
                      <a:pt x="115" y="183"/>
                    </a:lnTo>
                    <a:lnTo>
                      <a:pt x="109" y="198"/>
                    </a:lnTo>
                    <a:lnTo>
                      <a:pt x="103" y="214"/>
                    </a:lnTo>
                    <a:lnTo>
                      <a:pt x="99" y="230"/>
                    </a:lnTo>
                    <a:lnTo>
                      <a:pt x="97" y="247"/>
                    </a:lnTo>
                    <a:lnTo>
                      <a:pt x="96" y="264"/>
                    </a:lnTo>
                    <a:lnTo>
                      <a:pt x="97" y="283"/>
                    </a:lnTo>
                    <a:lnTo>
                      <a:pt x="99" y="300"/>
                    </a:lnTo>
                    <a:lnTo>
                      <a:pt x="103" y="318"/>
                    </a:lnTo>
                    <a:lnTo>
                      <a:pt x="109" y="334"/>
                    </a:lnTo>
                    <a:lnTo>
                      <a:pt x="115" y="350"/>
                    </a:lnTo>
                    <a:lnTo>
                      <a:pt x="124" y="364"/>
                    </a:lnTo>
                    <a:lnTo>
                      <a:pt x="133" y="378"/>
                    </a:lnTo>
                    <a:lnTo>
                      <a:pt x="144" y="390"/>
                    </a:lnTo>
                    <a:lnTo>
                      <a:pt x="156" y="401"/>
                    </a:lnTo>
                    <a:lnTo>
                      <a:pt x="169" y="411"/>
                    </a:lnTo>
                    <a:lnTo>
                      <a:pt x="183" y="420"/>
                    </a:lnTo>
                    <a:lnTo>
                      <a:pt x="199" y="427"/>
                    </a:lnTo>
                    <a:lnTo>
                      <a:pt x="215" y="432"/>
                    </a:lnTo>
                    <a:lnTo>
                      <a:pt x="232" y="437"/>
                    </a:lnTo>
                    <a:lnTo>
                      <a:pt x="249" y="439"/>
                    </a:lnTo>
                    <a:lnTo>
                      <a:pt x="268" y="440"/>
                    </a:lnTo>
                    <a:lnTo>
                      <a:pt x="289" y="439"/>
                    </a:lnTo>
                    <a:lnTo>
                      <a:pt x="307" y="435"/>
                    </a:lnTo>
                    <a:lnTo>
                      <a:pt x="326" y="430"/>
                    </a:lnTo>
                    <a:lnTo>
                      <a:pt x="343" y="422"/>
                    </a:lnTo>
                    <a:lnTo>
                      <a:pt x="360" y="412"/>
                    </a:lnTo>
                    <a:lnTo>
                      <a:pt x="375" y="401"/>
                    </a:lnTo>
                    <a:lnTo>
                      <a:pt x="389" y="388"/>
                    </a:lnTo>
                    <a:lnTo>
                      <a:pt x="404" y="374"/>
                    </a:lnTo>
                    <a:lnTo>
                      <a:pt x="404" y="497"/>
                    </a:lnTo>
                    <a:lnTo>
                      <a:pt x="371" y="511"/>
                    </a:lnTo>
                    <a:lnTo>
                      <a:pt x="338" y="522"/>
                    </a:lnTo>
                    <a:lnTo>
                      <a:pt x="303" y="528"/>
                    </a:lnTo>
                    <a:lnTo>
                      <a:pt x="267" y="530"/>
                    </a:lnTo>
                    <a:lnTo>
                      <a:pt x="239" y="528"/>
                    </a:lnTo>
                    <a:lnTo>
                      <a:pt x="213" y="524"/>
                    </a:lnTo>
                    <a:lnTo>
                      <a:pt x="188" y="518"/>
                    </a:lnTo>
                    <a:lnTo>
                      <a:pt x="164" y="509"/>
                    </a:lnTo>
                    <a:lnTo>
                      <a:pt x="140" y="499"/>
                    </a:lnTo>
                    <a:lnTo>
                      <a:pt x="119" y="486"/>
                    </a:lnTo>
                    <a:lnTo>
                      <a:pt x="98" y="472"/>
                    </a:lnTo>
                    <a:lnTo>
                      <a:pt x="79" y="454"/>
                    </a:lnTo>
                    <a:lnTo>
                      <a:pt x="62" y="437"/>
                    </a:lnTo>
                    <a:lnTo>
                      <a:pt x="46" y="416"/>
                    </a:lnTo>
                    <a:lnTo>
                      <a:pt x="33" y="395"/>
                    </a:lnTo>
                    <a:lnTo>
                      <a:pt x="21" y="372"/>
                    </a:lnTo>
                    <a:lnTo>
                      <a:pt x="12" y="348"/>
                    </a:lnTo>
                    <a:lnTo>
                      <a:pt x="6" y="322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6" y="213"/>
                    </a:lnTo>
                    <a:lnTo>
                      <a:pt x="12" y="186"/>
                    </a:lnTo>
                    <a:lnTo>
                      <a:pt x="21" y="161"/>
                    </a:lnTo>
                    <a:lnTo>
                      <a:pt x="33" y="138"/>
                    </a:lnTo>
                    <a:lnTo>
                      <a:pt x="46" y="115"/>
                    </a:lnTo>
                    <a:lnTo>
                      <a:pt x="62" y="95"/>
                    </a:lnTo>
                    <a:lnTo>
                      <a:pt x="79" y="76"/>
                    </a:lnTo>
                    <a:lnTo>
                      <a:pt x="98" y="59"/>
                    </a:lnTo>
                    <a:lnTo>
                      <a:pt x="119" y="45"/>
                    </a:lnTo>
                    <a:lnTo>
                      <a:pt x="142" y="31"/>
                    </a:lnTo>
                    <a:lnTo>
                      <a:pt x="165" y="20"/>
                    </a:lnTo>
                    <a:lnTo>
                      <a:pt x="190" y="12"/>
                    </a:lnTo>
                    <a:lnTo>
                      <a:pt x="216" y="5"/>
                    </a:lnTo>
                    <a:lnTo>
                      <a:pt x="244" y="2"/>
                    </a:lnTo>
                    <a:lnTo>
                      <a:pt x="272" y="0"/>
                    </a:lnTo>
                    <a:lnTo>
                      <a:pt x="306" y="2"/>
                    </a:lnTo>
                    <a:lnTo>
                      <a:pt x="340" y="8"/>
                    </a:lnTo>
                    <a:lnTo>
                      <a:pt x="373" y="18"/>
                    </a:lnTo>
                    <a:lnTo>
                      <a:pt x="404" y="32"/>
                    </a:lnTo>
                    <a:lnTo>
                      <a:pt x="404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423440" y="882720"/>
                <a:ext cx="111600" cy="101520"/>
              </a:xfrm>
              <a:custGeom>
                <a:avLst/>
                <a:gdLst/>
                <a:ahLst/>
                <a:rect l="l" t="t" r="r" b="b"/>
                <a:pathLst>
                  <a:path w="532" h="530">
                    <a:moveTo>
                      <a:pt x="532" y="264"/>
                    </a:moveTo>
                    <a:lnTo>
                      <a:pt x="530" y="293"/>
                    </a:lnTo>
                    <a:lnTo>
                      <a:pt x="527" y="319"/>
                    </a:lnTo>
                    <a:lnTo>
                      <a:pt x="520" y="344"/>
                    </a:lnTo>
                    <a:lnTo>
                      <a:pt x="511" y="370"/>
                    </a:lnTo>
                    <a:lnTo>
                      <a:pt x="501" y="393"/>
                    </a:lnTo>
                    <a:lnTo>
                      <a:pt x="487" y="415"/>
                    </a:lnTo>
                    <a:lnTo>
                      <a:pt x="472" y="434"/>
                    </a:lnTo>
                    <a:lnTo>
                      <a:pt x="454" y="453"/>
                    </a:lnTo>
                    <a:lnTo>
                      <a:pt x="436" y="471"/>
                    </a:lnTo>
                    <a:lnTo>
                      <a:pt x="416" y="485"/>
                    </a:lnTo>
                    <a:lnTo>
                      <a:pt x="394" y="498"/>
                    </a:lnTo>
                    <a:lnTo>
                      <a:pt x="370" y="509"/>
                    </a:lnTo>
                    <a:lnTo>
                      <a:pt x="346" y="518"/>
                    </a:lnTo>
                    <a:lnTo>
                      <a:pt x="321" y="524"/>
                    </a:lnTo>
                    <a:lnTo>
                      <a:pt x="293" y="528"/>
                    </a:lnTo>
                    <a:lnTo>
                      <a:pt x="266" y="530"/>
                    </a:lnTo>
                    <a:lnTo>
                      <a:pt x="238" y="528"/>
                    </a:lnTo>
                    <a:lnTo>
                      <a:pt x="212" y="524"/>
                    </a:lnTo>
                    <a:lnTo>
                      <a:pt x="187" y="518"/>
                    </a:lnTo>
                    <a:lnTo>
                      <a:pt x="162" y="509"/>
                    </a:lnTo>
                    <a:lnTo>
                      <a:pt x="139" y="498"/>
                    </a:lnTo>
                    <a:lnTo>
                      <a:pt x="117" y="485"/>
                    </a:lnTo>
                    <a:lnTo>
                      <a:pt x="97" y="471"/>
                    </a:lnTo>
                    <a:lnTo>
                      <a:pt x="78" y="453"/>
                    </a:lnTo>
                    <a:lnTo>
                      <a:pt x="61" y="434"/>
                    </a:lnTo>
                    <a:lnTo>
                      <a:pt x="45" y="415"/>
                    </a:lnTo>
                    <a:lnTo>
                      <a:pt x="32" y="393"/>
                    </a:lnTo>
                    <a:lnTo>
                      <a:pt x="21" y="370"/>
                    </a:lnTo>
                    <a:lnTo>
                      <a:pt x="12" y="344"/>
                    </a:lnTo>
                    <a:lnTo>
                      <a:pt x="6" y="319"/>
                    </a:lnTo>
                    <a:lnTo>
                      <a:pt x="3" y="293"/>
                    </a:lnTo>
                    <a:lnTo>
                      <a:pt x="0" y="264"/>
                    </a:lnTo>
                    <a:lnTo>
                      <a:pt x="3" y="237"/>
                    </a:lnTo>
                    <a:lnTo>
                      <a:pt x="6" y="210"/>
                    </a:lnTo>
                    <a:lnTo>
                      <a:pt x="12" y="185"/>
                    </a:lnTo>
                    <a:lnTo>
                      <a:pt x="21" y="160"/>
                    </a:lnTo>
                    <a:lnTo>
                      <a:pt x="32" y="137"/>
                    </a:lnTo>
                    <a:lnTo>
                      <a:pt x="45" y="115"/>
                    </a:lnTo>
                    <a:lnTo>
                      <a:pt x="61" y="95"/>
                    </a:lnTo>
                    <a:lnTo>
                      <a:pt x="78" y="76"/>
                    </a:lnTo>
                    <a:lnTo>
                      <a:pt x="97" y="59"/>
                    </a:lnTo>
                    <a:lnTo>
                      <a:pt x="117" y="45"/>
                    </a:lnTo>
                    <a:lnTo>
                      <a:pt x="139" y="31"/>
                    </a:lnTo>
                    <a:lnTo>
                      <a:pt x="162" y="20"/>
                    </a:lnTo>
                    <a:lnTo>
                      <a:pt x="187" y="12"/>
                    </a:lnTo>
                    <a:lnTo>
                      <a:pt x="212" y="5"/>
                    </a:lnTo>
                    <a:lnTo>
                      <a:pt x="238" y="2"/>
                    </a:lnTo>
                    <a:lnTo>
                      <a:pt x="266" y="0"/>
                    </a:lnTo>
                    <a:lnTo>
                      <a:pt x="293" y="2"/>
                    </a:lnTo>
                    <a:lnTo>
                      <a:pt x="321" y="5"/>
                    </a:lnTo>
                    <a:lnTo>
                      <a:pt x="346" y="12"/>
                    </a:lnTo>
                    <a:lnTo>
                      <a:pt x="370" y="20"/>
                    </a:lnTo>
                    <a:lnTo>
                      <a:pt x="394" y="31"/>
                    </a:lnTo>
                    <a:lnTo>
                      <a:pt x="416" y="45"/>
                    </a:lnTo>
                    <a:lnTo>
                      <a:pt x="436" y="59"/>
                    </a:lnTo>
                    <a:lnTo>
                      <a:pt x="454" y="76"/>
                    </a:lnTo>
                    <a:lnTo>
                      <a:pt x="472" y="95"/>
                    </a:lnTo>
                    <a:lnTo>
                      <a:pt x="487" y="115"/>
                    </a:lnTo>
                    <a:lnTo>
                      <a:pt x="501" y="137"/>
                    </a:lnTo>
                    <a:lnTo>
                      <a:pt x="511" y="160"/>
                    </a:lnTo>
                    <a:lnTo>
                      <a:pt x="520" y="185"/>
                    </a:lnTo>
                    <a:lnTo>
                      <a:pt x="527" y="210"/>
                    </a:lnTo>
                    <a:lnTo>
                      <a:pt x="530" y="237"/>
                    </a:lnTo>
                    <a:lnTo>
                      <a:pt x="532" y="264"/>
                    </a:lnTo>
                    <a:close/>
                    <a:moveTo>
                      <a:pt x="96" y="264"/>
                    </a:moveTo>
                    <a:lnTo>
                      <a:pt x="97" y="282"/>
                    </a:lnTo>
                    <a:lnTo>
                      <a:pt x="100" y="299"/>
                    </a:lnTo>
                    <a:lnTo>
                      <a:pt x="103" y="316"/>
                    </a:lnTo>
                    <a:lnTo>
                      <a:pt x="110" y="331"/>
                    </a:lnTo>
                    <a:lnTo>
                      <a:pt x="117" y="346"/>
                    </a:lnTo>
                    <a:lnTo>
                      <a:pt x="125" y="361"/>
                    </a:lnTo>
                    <a:lnTo>
                      <a:pt x="135" y="374"/>
                    </a:lnTo>
                    <a:lnTo>
                      <a:pt x="146" y="386"/>
                    </a:lnTo>
                    <a:lnTo>
                      <a:pt x="158" y="398"/>
                    </a:lnTo>
                    <a:lnTo>
                      <a:pt x="171" y="408"/>
                    </a:lnTo>
                    <a:lnTo>
                      <a:pt x="185" y="417"/>
                    </a:lnTo>
                    <a:lnTo>
                      <a:pt x="200" y="424"/>
                    </a:lnTo>
                    <a:lnTo>
                      <a:pt x="215" y="430"/>
                    </a:lnTo>
                    <a:lnTo>
                      <a:pt x="232" y="434"/>
                    </a:lnTo>
                    <a:lnTo>
                      <a:pt x="248" y="437"/>
                    </a:lnTo>
                    <a:lnTo>
                      <a:pt x="266" y="438"/>
                    </a:lnTo>
                    <a:lnTo>
                      <a:pt x="283" y="437"/>
                    </a:lnTo>
                    <a:lnTo>
                      <a:pt x="301" y="434"/>
                    </a:lnTo>
                    <a:lnTo>
                      <a:pt x="317" y="430"/>
                    </a:lnTo>
                    <a:lnTo>
                      <a:pt x="333" y="424"/>
                    </a:lnTo>
                    <a:lnTo>
                      <a:pt x="348" y="417"/>
                    </a:lnTo>
                    <a:lnTo>
                      <a:pt x="361" y="408"/>
                    </a:lnTo>
                    <a:lnTo>
                      <a:pt x="374" y="398"/>
                    </a:lnTo>
                    <a:lnTo>
                      <a:pt x="386" y="386"/>
                    </a:lnTo>
                    <a:lnTo>
                      <a:pt x="397" y="374"/>
                    </a:lnTo>
                    <a:lnTo>
                      <a:pt x="407" y="361"/>
                    </a:lnTo>
                    <a:lnTo>
                      <a:pt x="416" y="346"/>
                    </a:lnTo>
                    <a:lnTo>
                      <a:pt x="423" y="331"/>
                    </a:lnTo>
                    <a:lnTo>
                      <a:pt x="428" y="316"/>
                    </a:lnTo>
                    <a:lnTo>
                      <a:pt x="433" y="299"/>
                    </a:lnTo>
                    <a:lnTo>
                      <a:pt x="436" y="282"/>
                    </a:lnTo>
                    <a:lnTo>
                      <a:pt x="436" y="264"/>
                    </a:lnTo>
                    <a:lnTo>
                      <a:pt x="436" y="248"/>
                    </a:lnTo>
                    <a:lnTo>
                      <a:pt x="433" y="230"/>
                    </a:lnTo>
                    <a:lnTo>
                      <a:pt x="428" y="214"/>
                    </a:lnTo>
                    <a:lnTo>
                      <a:pt x="423" y="197"/>
                    </a:lnTo>
                    <a:lnTo>
                      <a:pt x="416" y="183"/>
                    </a:lnTo>
                    <a:lnTo>
                      <a:pt x="407" y="169"/>
                    </a:lnTo>
                    <a:lnTo>
                      <a:pt x="397" y="154"/>
                    </a:lnTo>
                    <a:lnTo>
                      <a:pt x="386" y="142"/>
                    </a:lnTo>
                    <a:lnTo>
                      <a:pt x="374" y="131"/>
                    </a:lnTo>
                    <a:lnTo>
                      <a:pt x="361" y="121"/>
                    </a:lnTo>
                    <a:lnTo>
                      <a:pt x="348" y="113"/>
                    </a:lnTo>
                    <a:lnTo>
                      <a:pt x="333" y="105"/>
                    </a:lnTo>
                    <a:lnTo>
                      <a:pt x="317" y="99"/>
                    </a:lnTo>
                    <a:lnTo>
                      <a:pt x="301" y="95"/>
                    </a:lnTo>
                    <a:lnTo>
                      <a:pt x="283" y="92"/>
                    </a:lnTo>
                    <a:lnTo>
                      <a:pt x="266" y="92"/>
                    </a:lnTo>
                    <a:lnTo>
                      <a:pt x="248" y="92"/>
                    </a:lnTo>
                    <a:lnTo>
                      <a:pt x="232" y="95"/>
                    </a:lnTo>
                    <a:lnTo>
                      <a:pt x="215" y="99"/>
                    </a:lnTo>
                    <a:lnTo>
                      <a:pt x="200" y="105"/>
                    </a:lnTo>
                    <a:lnTo>
                      <a:pt x="185" y="113"/>
                    </a:lnTo>
                    <a:lnTo>
                      <a:pt x="171" y="121"/>
                    </a:lnTo>
                    <a:lnTo>
                      <a:pt x="158" y="131"/>
                    </a:lnTo>
                    <a:lnTo>
                      <a:pt x="146" y="142"/>
                    </a:lnTo>
                    <a:lnTo>
                      <a:pt x="135" y="154"/>
                    </a:lnTo>
                    <a:lnTo>
                      <a:pt x="125" y="169"/>
                    </a:lnTo>
                    <a:lnTo>
                      <a:pt x="117" y="183"/>
                    </a:lnTo>
                    <a:lnTo>
                      <a:pt x="110" y="197"/>
                    </a:lnTo>
                    <a:lnTo>
                      <a:pt x="103" y="214"/>
                    </a:lnTo>
                    <a:lnTo>
                      <a:pt x="100" y="230"/>
                    </a:lnTo>
                    <a:lnTo>
                      <a:pt x="97" y="248"/>
                    </a:lnTo>
                    <a:lnTo>
                      <a:pt x="96" y="2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549440" y="882720"/>
                <a:ext cx="144360" cy="98280"/>
              </a:xfrm>
              <a:custGeom>
                <a:avLst/>
                <a:gdLst/>
                <a:ahLst/>
                <a:rect l="l" t="t" r="r" b="b"/>
                <a:pathLst>
                  <a:path w="690" h="512">
                    <a:moveTo>
                      <a:pt x="96" y="77"/>
                    </a:moveTo>
                    <a:lnTo>
                      <a:pt x="98" y="77"/>
                    </a:lnTo>
                    <a:lnTo>
                      <a:pt x="109" y="62"/>
                    </a:lnTo>
                    <a:lnTo>
                      <a:pt x="122" y="47"/>
                    </a:lnTo>
                    <a:lnTo>
                      <a:pt x="137" y="34"/>
                    </a:lnTo>
                    <a:lnTo>
                      <a:pt x="154" y="23"/>
                    </a:lnTo>
                    <a:lnTo>
                      <a:pt x="171" y="13"/>
                    </a:lnTo>
                    <a:lnTo>
                      <a:pt x="190" y="6"/>
                    </a:lnTo>
                    <a:lnTo>
                      <a:pt x="210" y="2"/>
                    </a:lnTo>
                    <a:lnTo>
                      <a:pt x="229" y="0"/>
                    </a:lnTo>
                    <a:lnTo>
                      <a:pt x="253" y="2"/>
                    </a:lnTo>
                    <a:lnTo>
                      <a:pt x="274" y="6"/>
                    </a:lnTo>
                    <a:lnTo>
                      <a:pt x="295" y="13"/>
                    </a:lnTo>
                    <a:lnTo>
                      <a:pt x="314" y="24"/>
                    </a:lnTo>
                    <a:lnTo>
                      <a:pt x="330" y="36"/>
                    </a:lnTo>
                    <a:lnTo>
                      <a:pt x="346" y="51"/>
                    </a:lnTo>
                    <a:lnTo>
                      <a:pt x="360" y="69"/>
                    </a:lnTo>
                    <a:lnTo>
                      <a:pt x="373" y="88"/>
                    </a:lnTo>
                    <a:lnTo>
                      <a:pt x="385" y="69"/>
                    </a:lnTo>
                    <a:lnTo>
                      <a:pt x="401" y="52"/>
                    </a:lnTo>
                    <a:lnTo>
                      <a:pt x="418" y="37"/>
                    </a:lnTo>
                    <a:lnTo>
                      <a:pt x="438" y="24"/>
                    </a:lnTo>
                    <a:lnTo>
                      <a:pt x="458" y="14"/>
                    </a:lnTo>
                    <a:lnTo>
                      <a:pt x="480" y="6"/>
                    </a:lnTo>
                    <a:lnTo>
                      <a:pt x="503" y="2"/>
                    </a:lnTo>
                    <a:lnTo>
                      <a:pt x="526" y="0"/>
                    </a:lnTo>
                    <a:lnTo>
                      <a:pt x="550" y="1"/>
                    </a:lnTo>
                    <a:lnTo>
                      <a:pt x="571" y="5"/>
                    </a:lnTo>
                    <a:lnTo>
                      <a:pt x="589" y="11"/>
                    </a:lnTo>
                    <a:lnTo>
                      <a:pt x="607" y="17"/>
                    </a:lnTo>
                    <a:lnTo>
                      <a:pt x="622" y="27"/>
                    </a:lnTo>
                    <a:lnTo>
                      <a:pt x="635" y="38"/>
                    </a:lnTo>
                    <a:lnTo>
                      <a:pt x="647" y="51"/>
                    </a:lnTo>
                    <a:lnTo>
                      <a:pt x="657" y="65"/>
                    </a:lnTo>
                    <a:lnTo>
                      <a:pt x="666" y="81"/>
                    </a:lnTo>
                    <a:lnTo>
                      <a:pt x="673" y="97"/>
                    </a:lnTo>
                    <a:lnTo>
                      <a:pt x="678" y="115"/>
                    </a:lnTo>
                    <a:lnTo>
                      <a:pt x="684" y="133"/>
                    </a:lnTo>
                    <a:lnTo>
                      <a:pt x="689" y="173"/>
                    </a:lnTo>
                    <a:lnTo>
                      <a:pt x="690" y="215"/>
                    </a:lnTo>
                    <a:lnTo>
                      <a:pt x="690" y="512"/>
                    </a:lnTo>
                    <a:lnTo>
                      <a:pt x="595" y="512"/>
                    </a:lnTo>
                    <a:lnTo>
                      <a:pt x="595" y="230"/>
                    </a:lnTo>
                    <a:lnTo>
                      <a:pt x="595" y="206"/>
                    </a:lnTo>
                    <a:lnTo>
                      <a:pt x="593" y="181"/>
                    </a:lnTo>
                    <a:lnTo>
                      <a:pt x="588" y="157"/>
                    </a:lnTo>
                    <a:lnTo>
                      <a:pt x="580" y="133"/>
                    </a:lnTo>
                    <a:lnTo>
                      <a:pt x="568" y="114"/>
                    </a:lnTo>
                    <a:lnTo>
                      <a:pt x="561" y="106"/>
                    </a:lnTo>
                    <a:lnTo>
                      <a:pt x="552" y="98"/>
                    </a:lnTo>
                    <a:lnTo>
                      <a:pt x="542" y="93"/>
                    </a:lnTo>
                    <a:lnTo>
                      <a:pt x="531" y="88"/>
                    </a:lnTo>
                    <a:lnTo>
                      <a:pt x="517" y="86"/>
                    </a:lnTo>
                    <a:lnTo>
                      <a:pt x="503" y="85"/>
                    </a:lnTo>
                    <a:lnTo>
                      <a:pt x="484" y="86"/>
                    </a:lnTo>
                    <a:lnTo>
                      <a:pt x="469" y="90"/>
                    </a:lnTo>
                    <a:lnTo>
                      <a:pt x="454" y="95"/>
                    </a:lnTo>
                    <a:lnTo>
                      <a:pt x="442" y="103"/>
                    </a:lnTo>
                    <a:lnTo>
                      <a:pt x="432" y="112"/>
                    </a:lnTo>
                    <a:lnTo>
                      <a:pt x="423" y="123"/>
                    </a:lnTo>
                    <a:lnTo>
                      <a:pt x="416" y="135"/>
                    </a:lnTo>
                    <a:lnTo>
                      <a:pt x="409" y="148"/>
                    </a:lnTo>
                    <a:lnTo>
                      <a:pt x="401" y="176"/>
                    </a:lnTo>
                    <a:lnTo>
                      <a:pt x="396" y="207"/>
                    </a:lnTo>
                    <a:lnTo>
                      <a:pt x="394" y="238"/>
                    </a:lnTo>
                    <a:lnTo>
                      <a:pt x="393" y="267"/>
                    </a:lnTo>
                    <a:lnTo>
                      <a:pt x="393" y="512"/>
                    </a:lnTo>
                    <a:lnTo>
                      <a:pt x="297" y="512"/>
                    </a:lnTo>
                    <a:lnTo>
                      <a:pt x="297" y="249"/>
                    </a:lnTo>
                    <a:lnTo>
                      <a:pt x="297" y="224"/>
                    </a:lnTo>
                    <a:lnTo>
                      <a:pt x="295" y="196"/>
                    </a:lnTo>
                    <a:lnTo>
                      <a:pt x="292" y="169"/>
                    </a:lnTo>
                    <a:lnTo>
                      <a:pt x="285" y="142"/>
                    </a:lnTo>
                    <a:lnTo>
                      <a:pt x="280" y="130"/>
                    </a:lnTo>
                    <a:lnTo>
                      <a:pt x="273" y="119"/>
                    </a:lnTo>
                    <a:lnTo>
                      <a:pt x="267" y="110"/>
                    </a:lnTo>
                    <a:lnTo>
                      <a:pt x="258" y="102"/>
                    </a:lnTo>
                    <a:lnTo>
                      <a:pt x="247" y="95"/>
                    </a:lnTo>
                    <a:lnTo>
                      <a:pt x="235" y="90"/>
                    </a:lnTo>
                    <a:lnTo>
                      <a:pt x="222" y="86"/>
                    </a:lnTo>
                    <a:lnTo>
                      <a:pt x="206" y="85"/>
                    </a:lnTo>
                    <a:lnTo>
                      <a:pt x="188" y="86"/>
                    </a:lnTo>
                    <a:lnTo>
                      <a:pt x="172" y="90"/>
                    </a:lnTo>
                    <a:lnTo>
                      <a:pt x="158" y="95"/>
                    </a:lnTo>
                    <a:lnTo>
                      <a:pt x="146" y="103"/>
                    </a:lnTo>
                    <a:lnTo>
                      <a:pt x="135" y="112"/>
                    </a:lnTo>
                    <a:lnTo>
                      <a:pt x="126" y="123"/>
                    </a:lnTo>
                    <a:lnTo>
                      <a:pt x="119" y="135"/>
                    </a:lnTo>
                    <a:lnTo>
                      <a:pt x="113" y="148"/>
                    </a:lnTo>
                    <a:lnTo>
                      <a:pt x="103" y="176"/>
                    </a:lnTo>
                    <a:lnTo>
                      <a:pt x="99" y="207"/>
                    </a:lnTo>
                    <a:lnTo>
                      <a:pt x="97" y="238"/>
                    </a:lnTo>
                    <a:lnTo>
                      <a:pt x="96" y="267"/>
                    </a:lnTo>
                    <a:lnTo>
                      <a:pt x="96" y="512"/>
                    </a:lnTo>
                    <a:lnTo>
                      <a:pt x="0" y="512"/>
                    </a:lnTo>
                    <a:lnTo>
                      <a:pt x="0" y="15"/>
                    </a:lnTo>
                    <a:lnTo>
                      <a:pt x="96" y="15"/>
                    </a:lnTo>
                    <a:lnTo>
                      <a:pt x="96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908640" y="1022400"/>
                <a:ext cx="9082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a-DK" sz="600" spc="-1" strike="noStrike">
                    <a:solidFill>
                      <a:srgbClr val="ffffff"/>
                    </a:solidFill>
                    <a:latin typeface="Futura Bk BT"/>
                  </a:rPr>
                  <a:t>www.kirktelecom.dk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9" name=""/>
          <p:cNvSpPr/>
          <p:nvPr/>
        </p:nvSpPr>
        <p:spPr>
          <a:xfrm>
            <a:off x="2228760" y="0"/>
            <a:ext cx="76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CCFP Administration Program Ver.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2724120" y="698400"/>
            <a:ext cx="6334200" cy="445788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2688840" y="5257800"/>
            <a:ext cx="643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бор уровня статистики (больше или меньше параметров дл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ксирования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айле)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flipV="1">
            <a:off x="4266720" y="1562040"/>
            <a:ext cx="476280" cy="369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D1D2-984B-4A8D-93BE-D63C4AFC0FCD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2889360" y="457200"/>
            <a:ext cx="6521400" cy="0"/>
          </a:xfrm>
          <a:prstGeom prst="line">
            <a:avLst/>
          </a:prstGeom>
          <a:ln cap="sq"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0" y="0"/>
            <a:ext cx="6129000" cy="6858000"/>
            <a:chOff x="0" y="0"/>
            <a:chExt cx="6129000" cy="6858000"/>
          </a:xfrm>
        </p:grpSpPr>
        <p:sp>
          <p:nvSpPr>
            <p:cNvPr id="555" name=""/>
            <p:cNvSpPr/>
            <p:nvPr/>
          </p:nvSpPr>
          <p:spPr>
            <a:xfrm>
              <a:off x="0" y="0"/>
              <a:ext cx="2228760" cy="3429000"/>
            </a:xfrm>
            <a:prstGeom prst="rect">
              <a:avLst/>
            </a:prstGeom>
            <a:solidFill>
              <a:srgbClr val="000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0" y="3429000"/>
              <a:ext cx="2228760" cy="3429000"/>
            </a:xfrm>
            <a:prstGeom prst="rect">
              <a:avLst/>
            </a:pr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1836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79924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9" name="" descr=""/>
            <p:cNvPicPr/>
            <p:nvPr/>
          </p:nvPicPr>
          <p:blipFill>
            <a:blip r:embed="rId1"/>
            <a:stretch/>
          </p:blipFill>
          <p:spPr>
            <a:xfrm>
              <a:off x="201240" y="2055960"/>
              <a:ext cx="1705680" cy="271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0" name=""/>
            <p:cNvGrpSpPr/>
            <p:nvPr/>
          </p:nvGrpSpPr>
          <p:grpSpPr>
            <a:xfrm>
              <a:off x="211320" y="380880"/>
              <a:ext cx="1605600" cy="821880"/>
              <a:chOff x="211320" y="380880"/>
              <a:chExt cx="1605600" cy="821880"/>
            </a:xfrm>
          </p:grpSpPr>
          <p:sp>
            <p:nvSpPr>
              <p:cNvPr id="561" name=""/>
              <p:cNvSpPr/>
              <p:nvPr/>
            </p:nvSpPr>
            <p:spPr>
              <a:xfrm>
                <a:off x="403920" y="38088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7">
                    <a:moveTo>
                      <a:pt x="29" y="1655"/>
                    </a:moveTo>
                    <a:lnTo>
                      <a:pt x="79" y="1682"/>
                    </a:lnTo>
                    <a:lnTo>
                      <a:pt x="623" y="1957"/>
                    </a:lnTo>
                    <a:lnTo>
                      <a:pt x="684" y="1987"/>
                    </a:lnTo>
                    <a:lnTo>
                      <a:pt x="687" y="1916"/>
                    </a:lnTo>
                    <a:lnTo>
                      <a:pt x="691" y="1864"/>
                    </a:lnTo>
                    <a:lnTo>
                      <a:pt x="697" y="1814"/>
                    </a:lnTo>
                    <a:lnTo>
                      <a:pt x="704" y="1763"/>
                    </a:lnTo>
                    <a:lnTo>
                      <a:pt x="713" y="1714"/>
                    </a:lnTo>
                    <a:lnTo>
                      <a:pt x="724" y="1665"/>
                    </a:lnTo>
                    <a:lnTo>
                      <a:pt x="737" y="1616"/>
                    </a:lnTo>
                    <a:lnTo>
                      <a:pt x="751" y="1569"/>
                    </a:lnTo>
                    <a:lnTo>
                      <a:pt x="767" y="1522"/>
                    </a:lnTo>
                    <a:lnTo>
                      <a:pt x="784" y="1476"/>
                    </a:lnTo>
                    <a:lnTo>
                      <a:pt x="803" y="1431"/>
                    </a:lnTo>
                    <a:lnTo>
                      <a:pt x="824" y="1386"/>
                    </a:lnTo>
                    <a:lnTo>
                      <a:pt x="846" y="1343"/>
                    </a:lnTo>
                    <a:lnTo>
                      <a:pt x="869" y="1300"/>
                    </a:lnTo>
                    <a:lnTo>
                      <a:pt x="894" y="1257"/>
                    </a:lnTo>
                    <a:lnTo>
                      <a:pt x="920" y="1217"/>
                    </a:lnTo>
                    <a:lnTo>
                      <a:pt x="948" y="1177"/>
                    </a:lnTo>
                    <a:lnTo>
                      <a:pt x="976" y="1137"/>
                    </a:lnTo>
                    <a:lnTo>
                      <a:pt x="1007" y="1100"/>
                    </a:lnTo>
                    <a:lnTo>
                      <a:pt x="1038" y="1063"/>
                    </a:lnTo>
                    <a:lnTo>
                      <a:pt x="1071" y="1027"/>
                    </a:lnTo>
                    <a:lnTo>
                      <a:pt x="1105" y="993"/>
                    </a:lnTo>
                    <a:lnTo>
                      <a:pt x="1140" y="959"/>
                    </a:lnTo>
                    <a:lnTo>
                      <a:pt x="1176" y="927"/>
                    </a:lnTo>
                    <a:lnTo>
                      <a:pt x="1213" y="896"/>
                    </a:lnTo>
                    <a:lnTo>
                      <a:pt x="1250" y="866"/>
                    </a:lnTo>
                    <a:lnTo>
                      <a:pt x="1290" y="838"/>
                    </a:lnTo>
                    <a:lnTo>
                      <a:pt x="1331" y="810"/>
                    </a:lnTo>
                    <a:lnTo>
                      <a:pt x="1372" y="785"/>
                    </a:lnTo>
                    <a:lnTo>
                      <a:pt x="1414" y="760"/>
                    </a:lnTo>
                    <a:lnTo>
                      <a:pt x="1457" y="737"/>
                    </a:lnTo>
                    <a:lnTo>
                      <a:pt x="1501" y="716"/>
                    </a:lnTo>
                    <a:lnTo>
                      <a:pt x="1546" y="696"/>
                    </a:lnTo>
                    <a:lnTo>
                      <a:pt x="1584" y="680"/>
                    </a:lnTo>
                    <a:lnTo>
                      <a:pt x="1594" y="673"/>
                    </a:lnTo>
                    <a:lnTo>
                      <a:pt x="1600" y="665"/>
                    </a:lnTo>
                    <a:lnTo>
                      <a:pt x="1604" y="658"/>
                    </a:lnTo>
                    <a:lnTo>
                      <a:pt x="1606" y="650"/>
                    </a:lnTo>
                    <a:lnTo>
                      <a:pt x="1605" y="638"/>
                    </a:lnTo>
                    <a:lnTo>
                      <a:pt x="1603" y="632"/>
                    </a:lnTo>
                    <a:lnTo>
                      <a:pt x="1586" y="586"/>
                    </a:lnTo>
                    <a:lnTo>
                      <a:pt x="1385" y="31"/>
                    </a:lnTo>
                    <a:lnTo>
                      <a:pt x="1381" y="18"/>
                    </a:lnTo>
                    <a:lnTo>
                      <a:pt x="1380" y="13"/>
                    </a:lnTo>
                    <a:lnTo>
                      <a:pt x="1372" y="5"/>
                    </a:lnTo>
                    <a:lnTo>
                      <a:pt x="1367" y="2"/>
                    </a:lnTo>
                    <a:lnTo>
                      <a:pt x="1359" y="0"/>
                    </a:lnTo>
                    <a:lnTo>
                      <a:pt x="1349" y="0"/>
                    </a:lnTo>
                    <a:lnTo>
                      <a:pt x="1337" y="3"/>
                    </a:lnTo>
                    <a:lnTo>
                      <a:pt x="1307" y="14"/>
                    </a:lnTo>
                    <a:lnTo>
                      <a:pt x="1248" y="37"/>
                    </a:lnTo>
                    <a:lnTo>
                      <a:pt x="1190" y="63"/>
                    </a:lnTo>
                    <a:lnTo>
                      <a:pt x="1133" y="89"/>
                    </a:lnTo>
                    <a:lnTo>
                      <a:pt x="1076" y="119"/>
                    </a:lnTo>
                    <a:lnTo>
                      <a:pt x="1021" y="149"/>
                    </a:lnTo>
                    <a:lnTo>
                      <a:pt x="966" y="181"/>
                    </a:lnTo>
                    <a:lnTo>
                      <a:pt x="913" y="215"/>
                    </a:lnTo>
                    <a:lnTo>
                      <a:pt x="861" y="251"/>
                    </a:lnTo>
                    <a:lnTo>
                      <a:pt x="810" y="289"/>
                    </a:lnTo>
                    <a:lnTo>
                      <a:pt x="759" y="328"/>
                    </a:lnTo>
                    <a:lnTo>
                      <a:pt x="711" y="369"/>
                    </a:lnTo>
                    <a:lnTo>
                      <a:pt x="663" y="411"/>
                    </a:lnTo>
                    <a:lnTo>
                      <a:pt x="616" y="455"/>
                    </a:lnTo>
                    <a:lnTo>
                      <a:pt x="572" y="501"/>
                    </a:lnTo>
                    <a:lnTo>
                      <a:pt x="528" y="547"/>
                    </a:lnTo>
                    <a:lnTo>
                      <a:pt x="485" y="595"/>
                    </a:lnTo>
                    <a:lnTo>
                      <a:pt x="443" y="645"/>
                    </a:lnTo>
                    <a:lnTo>
                      <a:pt x="404" y="695"/>
                    </a:lnTo>
                    <a:lnTo>
                      <a:pt x="365" y="747"/>
                    </a:lnTo>
                    <a:lnTo>
                      <a:pt x="329" y="800"/>
                    </a:lnTo>
                    <a:lnTo>
                      <a:pt x="294" y="854"/>
                    </a:lnTo>
                    <a:lnTo>
                      <a:pt x="260" y="910"/>
                    </a:lnTo>
                    <a:lnTo>
                      <a:pt x="228" y="967"/>
                    </a:lnTo>
                    <a:lnTo>
                      <a:pt x="197" y="1024"/>
                    </a:lnTo>
                    <a:lnTo>
                      <a:pt x="169" y="1084"/>
                    </a:lnTo>
                    <a:lnTo>
                      <a:pt x="142" y="1144"/>
                    </a:lnTo>
                    <a:lnTo>
                      <a:pt x="116" y="1204"/>
                    </a:lnTo>
                    <a:lnTo>
                      <a:pt x="93" y="1266"/>
                    </a:lnTo>
                    <a:lnTo>
                      <a:pt x="71" y="1329"/>
                    </a:lnTo>
                    <a:lnTo>
                      <a:pt x="52" y="1392"/>
                    </a:lnTo>
                    <a:lnTo>
                      <a:pt x="34" y="1457"/>
                    </a:lnTo>
                    <a:lnTo>
                      <a:pt x="18" y="1522"/>
                    </a:lnTo>
                    <a:lnTo>
                      <a:pt x="2" y="1593"/>
                    </a:lnTo>
                    <a:lnTo>
                      <a:pt x="0" y="1610"/>
                    </a:lnTo>
                    <a:lnTo>
                      <a:pt x="1" y="1623"/>
                    </a:lnTo>
                    <a:lnTo>
                      <a:pt x="6" y="1634"/>
                    </a:lnTo>
                    <a:lnTo>
                      <a:pt x="11" y="1643"/>
                    </a:lnTo>
                    <a:lnTo>
                      <a:pt x="17" y="1648"/>
                    </a:lnTo>
                    <a:lnTo>
                      <a:pt x="23" y="1652"/>
                    </a:lnTo>
                    <a:lnTo>
                      <a:pt x="29" y="1655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03920" y="77004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5">
                    <a:moveTo>
                      <a:pt x="29" y="333"/>
                    </a:moveTo>
                    <a:lnTo>
                      <a:pt x="79" y="306"/>
                    </a:lnTo>
                    <a:lnTo>
                      <a:pt x="623" y="31"/>
                    </a:lnTo>
                    <a:lnTo>
                      <a:pt x="684" y="0"/>
                    </a:lnTo>
                    <a:lnTo>
                      <a:pt x="687" y="72"/>
                    </a:lnTo>
                    <a:lnTo>
                      <a:pt x="691" y="123"/>
                    </a:lnTo>
                    <a:lnTo>
                      <a:pt x="697" y="174"/>
                    </a:lnTo>
                    <a:lnTo>
                      <a:pt x="704" y="224"/>
                    </a:lnTo>
                    <a:lnTo>
                      <a:pt x="713" y="273"/>
                    </a:lnTo>
                    <a:lnTo>
                      <a:pt x="724" y="323"/>
                    </a:lnTo>
                    <a:lnTo>
                      <a:pt x="737" y="371"/>
                    </a:lnTo>
                    <a:lnTo>
                      <a:pt x="751" y="418"/>
                    </a:lnTo>
                    <a:lnTo>
                      <a:pt x="767" y="465"/>
                    </a:lnTo>
                    <a:lnTo>
                      <a:pt x="784" y="512"/>
                    </a:lnTo>
                    <a:lnTo>
                      <a:pt x="803" y="557"/>
                    </a:lnTo>
                    <a:lnTo>
                      <a:pt x="824" y="602"/>
                    </a:lnTo>
                    <a:lnTo>
                      <a:pt x="846" y="645"/>
                    </a:lnTo>
                    <a:lnTo>
                      <a:pt x="869" y="688"/>
                    </a:lnTo>
                    <a:lnTo>
                      <a:pt x="894" y="730"/>
                    </a:lnTo>
                    <a:lnTo>
                      <a:pt x="920" y="771"/>
                    </a:lnTo>
                    <a:lnTo>
                      <a:pt x="948" y="811"/>
                    </a:lnTo>
                    <a:lnTo>
                      <a:pt x="976" y="850"/>
                    </a:lnTo>
                    <a:lnTo>
                      <a:pt x="1007" y="888"/>
                    </a:lnTo>
                    <a:lnTo>
                      <a:pt x="1038" y="924"/>
                    </a:lnTo>
                    <a:lnTo>
                      <a:pt x="1071" y="961"/>
                    </a:lnTo>
                    <a:lnTo>
                      <a:pt x="1105" y="995"/>
                    </a:lnTo>
                    <a:lnTo>
                      <a:pt x="1140" y="1029"/>
                    </a:lnTo>
                    <a:lnTo>
                      <a:pt x="1176" y="1061"/>
                    </a:lnTo>
                    <a:lnTo>
                      <a:pt x="1213" y="1092"/>
                    </a:lnTo>
                    <a:lnTo>
                      <a:pt x="1252" y="1122"/>
                    </a:lnTo>
                    <a:lnTo>
                      <a:pt x="1290" y="1151"/>
                    </a:lnTo>
                    <a:lnTo>
                      <a:pt x="1331" y="1177"/>
                    </a:lnTo>
                    <a:lnTo>
                      <a:pt x="1372" y="1203"/>
                    </a:lnTo>
                    <a:lnTo>
                      <a:pt x="1414" y="1227"/>
                    </a:lnTo>
                    <a:lnTo>
                      <a:pt x="1457" y="1250"/>
                    </a:lnTo>
                    <a:lnTo>
                      <a:pt x="1501" y="1271"/>
                    </a:lnTo>
                    <a:lnTo>
                      <a:pt x="1546" y="1292"/>
                    </a:lnTo>
                    <a:lnTo>
                      <a:pt x="1584" y="1308"/>
                    </a:lnTo>
                    <a:lnTo>
                      <a:pt x="1594" y="1315"/>
                    </a:lnTo>
                    <a:lnTo>
                      <a:pt x="1600" y="1323"/>
                    </a:lnTo>
                    <a:lnTo>
                      <a:pt x="1605" y="1331"/>
                    </a:lnTo>
                    <a:lnTo>
                      <a:pt x="1606" y="1337"/>
                    </a:lnTo>
                    <a:lnTo>
                      <a:pt x="1605" y="1349"/>
                    </a:lnTo>
                    <a:lnTo>
                      <a:pt x="1603" y="1355"/>
                    </a:lnTo>
                    <a:lnTo>
                      <a:pt x="1586" y="1401"/>
                    </a:lnTo>
                    <a:lnTo>
                      <a:pt x="1388" y="1950"/>
                    </a:lnTo>
                    <a:lnTo>
                      <a:pt x="1381" y="1965"/>
                    </a:lnTo>
                    <a:lnTo>
                      <a:pt x="1379" y="1970"/>
                    </a:lnTo>
                    <a:lnTo>
                      <a:pt x="1371" y="1978"/>
                    </a:lnTo>
                    <a:lnTo>
                      <a:pt x="1366" y="1983"/>
                    </a:lnTo>
                    <a:lnTo>
                      <a:pt x="1358" y="1985"/>
                    </a:lnTo>
                    <a:lnTo>
                      <a:pt x="1348" y="1985"/>
                    </a:lnTo>
                    <a:lnTo>
                      <a:pt x="1338" y="1983"/>
                    </a:lnTo>
                    <a:lnTo>
                      <a:pt x="1302" y="1969"/>
                    </a:lnTo>
                    <a:lnTo>
                      <a:pt x="1242" y="1942"/>
                    </a:lnTo>
                    <a:lnTo>
                      <a:pt x="1181" y="1915"/>
                    </a:lnTo>
                    <a:lnTo>
                      <a:pt x="1123" y="1886"/>
                    </a:lnTo>
                    <a:lnTo>
                      <a:pt x="1066" y="1857"/>
                    </a:lnTo>
                    <a:lnTo>
                      <a:pt x="1009" y="1824"/>
                    </a:lnTo>
                    <a:lnTo>
                      <a:pt x="954" y="1791"/>
                    </a:lnTo>
                    <a:lnTo>
                      <a:pt x="901" y="1756"/>
                    </a:lnTo>
                    <a:lnTo>
                      <a:pt x="848" y="1719"/>
                    </a:lnTo>
                    <a:lnTo>
                      <a:pt x="796" y="1682"/>
                    </a:lnTo>
                    <a:lnTo>
                      <a:pt x="747" y="1642"/>
                    </a:lnTo>
                    <a:lnTo>
                      <a:pt x="698" y="1602"/>
                    </a:lnTo>
                    <a:lnTo>
                      <a:pt x="650" y="1560"/>
                    </a:lnTo>
                    <a:lnTo>
                      <a:pt x="604" y="1517"/>
                    </a:lnTo>
                    <a:lnTo>
                      <a:pt x="559" y="1472"/>
                    </a:lnTo>
                    <a:lnTo>
                      <a:pt x="517" y="1426"/>
                    </a:lnTo>
                    <a:lnTo>
                      <a:pt x="475" y="1379"/>
                    </a:lnTo>
                    <a:lnTo>
                      <a:pt x="434" y="1331"/>
                    </a:lnTo>
                    <a:lnTo>
                      <a:pt x="395" y="1281"/>
                    </a:lnTo>
                    <a:lnTo>
                      <a:pt x="358" y="1230"/>
                    </a:lnTo>
                    <a:lnTo>
                      <a:pt x="323" y="1178"/>
                    </a:lnTo>
                    <a:lnTo>
                      <a:pt x="287" y="1124"/>
                    </a:lnTo>
                    <a:lnTo>
                      <a:pt x="255" y="1070"/>
                    </a:lnTo>
                    <a:lnTo>
                      <a:pt x="224" y="1014"/>
                    </a:lnTo>
                    <a:lnTo>
                      <a:pt x="194" y="957"/>
                    </a:lnTo>
                    <a:lnTo>
                      <a:pt x="166" y="900"/>
                    </a:lnTo>
                    <a:lnTo>
                      <a:pt x="139" y="841"/>
                    </a:lnTo>
                    <a:lnTo>
                      <a:pt x="115" y="781"/>
                    </a:lnTo>
                    <a:lnTo>
                      <a:pt x="92" y="720"/>
                    </a:lnTo>
                    <a:lnTo>
                      <a:pt x="71" y="658"/>
                    </a:lnTo>
                    <a:lnTo>
                      <a:pt x="52" y="595"/>
                    </a:lnTo>
                    <a:lnTo>
                      <a:pt x="34" y="530"/>
                    </a:lnTo>
                    <a:lnTo>
                      <a:pt x="18" y="465"/>
                    </a:lnTo>
                    <a:lnTo>
                      <a:pt x="3" y="394"/>
                    </a:lnTo>
                    <a:lnTo>
                      <a:pt x="0" y="378"/>
                    </a:lnTo>
                    <a:lnTo>
                      <a:pt x="1" y="364"/>
                    </a:lnTo>
                    <a:lnTo>
                      <a:pt x="6" y="353"/>
                    </a:lnTo>
                    <a:lnTo>
                      <a:pt x="11" y="346"/>
                    </a:lnTo>
                    <a:lnTo>
                      <a:pt x="17" y="339"/>
                    </a:lnTo>
                    <a:lnTo>
                      <a:pt x="23" y="336"/>
                    </a:lnTo>
                    <a:lnTo>
                      <a:pt x="29" y="333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67440" y="698400"/>
                <a:ext cx="149400" cy="147600"/>
              </a:xfrm>
              <a:custGeom>
                <a:avLst/>
                <a:gdLst/>
                <a:ahLst/>
                <a:rect l="l" t="t" r="r" b="b"/>
                <a:pathLst>
                  <a:path w="714" h="759">
                    <a:moveTo>
                      <a:pt x="699" y="379"/>
                    </a:moveTo>
                    <a:lnTo>
                      <a:pt x="706" y="375"/>
                    </a:lnTo>
                    <a:lnTo>
                      <a:pt x="710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09" y="351"/>
                    </a:lnTo>
                    <a:lnTo>
                      <a:pt x="705" y="346"/>
                    </a:lnTo>
                    <a:lnTo>
                      <a:pt x="699" y="342"/>
                    </a:lnTo>
                    <a:lnTo>
                      <a:pt x="35" y="4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3" y="11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735"/>
                    </a:lnTo>
                    <a:lnTo>
                      <a:pt x="1" y="743"/>
                    </a:lnTo>
                    <a:lnTo>
                      <a:pt x="3" y="748"/>
                    </a:lnTo>
                    <a:lnTo>
                      <a:pt x="5" y="753"/>
                    </a:lnTo>
                    <a:lnTo>
                      <a:pt x="10" y="757"/>
                    </a:lnTo>
                    <a:lnTo>
                      <a:pt x="15" y="759"/>
                    </a:lnTo>
                    <a:lnTo>
                      <a:pt x="21" y="759"/>
                    </a:lnTo>
                    <a:lnTo>
                      <a:pt x="27" y="758"/>
                    </a:lnTo>
                    <a:lnTo>
                      <a:pt x="34" y="755"/>
                    </a:lnTo>
                    <a:lnTo>
                      <a:pt x="699" y="379"/>
                    </a:lnTo>
                    <a:close/>
                  </a:path>
                </a:pathLst>
              </a:custGeom>
              <a:solidFill>
                <a:srgbClr val="00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11320" y="701640"/>
                <a:ext cx="149760" cy="146160"/>
              </a:xfrm>
              <a:custGeom>
                <a:avLst/>
                <a:gdLst/>
                <a:ahLst/>
                <a:rect l="l" t="t" r="r" b="b"/>
                <a:pathLst>
                  <a:path w="714" h="758">
                    <a:moveTo>
                      <a:pt x="701" y="379"/>
                    </a:moveTo>
                    <a:lnTo>
                      <a:pt x="706" y="374"/>
                    </a:lnTo>
                    <a:lnTo>
                      <a:pt x="711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11" y="350"/>
                    </a:lnTo>
                    <a:lnTo>
                      <a:pt x="706" y="346"/>
                    </a:lnTo>
                    <a:lnTo>
                      <a:pt x="700" y="342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0" y="734"/>
                    </a:lnTo>
                    <a:lnTo>
                      <a:pt x="1" y="742"/>
                    </a:lnTo>
                    <a:lnTo>
                      <a:pt x="3" y="749"/>
                    </a:lnTo>
                    <a:lnTo>
                      <a:pt x="7" y="753"/>
                    </a:lnTo>
                    <a:lnTo>
                      <a:pt x="10" y="756"/>
                    </a:lnTo>
                    <a:lnTo>
                      <a:pt x="15" y="758"/>
                    </a:lnTo>
                    <a:lnTo>
                      <a:pt x="21" y="758"/>
                    </a:lnTo>
                    <a:lnTo>
                      <a:pt x="27" y="757"/>
                    </a:lnTo>
                    <a:lnTo>
                      <a:pt x="34" y="754"/>
                    </a:lnTo>
                    <a:lnTo>
                      <a:pt x="701" y="379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011960" y="517680"/>
                <a:ext cx="195840" cy="250560"/>
              </a:xfrm>
              <a:custGeom>
                <a:avLst/>
                <a:gdLst/>
                <a:ahLst/>
                <a:rect l="l" t="t" r="r" b="b"/>
                <a:pathLst>
                  <a:path w="930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30" y="1293"/>
                    </a:lnTo>
                    <a:lnTo>
                      <a:pt x="713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230480" y="517680"/>
                <a:ext cx="34200" cy="25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16520" y="517680"/>
                <a:ext cx="168480" cy="250560"/>
              </a:xfrm>
              <a:custGeom>
                <a:avLst/>
                <a:gdLst/>
                <a:ahLst/>
                <a:rect l="l" t="t" r="r" b="b"/>
                <a:pathLst>
                  <a:path w="803" h="1293">
                    <a:moveTo>
                      <a:pt x="803" y="1293"/>
                    </a:moveTo>
                    <a:lnTo>
                      <a:pt x="607" y="1293"/>
                    </a:lnTo>
                    <a:lnTo>
                      <a:pt x="228" y="746"/>
                    </a:lnTo>
                    <a:lnTo>
                      <a:pt x="161" y="746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283" y="1"/>
                    </a:lnTo>
                    <a:lnTo>
                      <a:pt x="327" y="4"/>
                    </a:lnTo>
                    <a:lnTo>
                      <a:pt x="370" y="8"/>
                    </a:lnTo>
                    <a:lnTo>
                      <a:pt x="413" y="16"/>
                    </a:lnTo>
                    <a:lnTo>
                      <a:pt x="456" y="27"/>
                    </a:lnTo>
                    <a:lnTo>
                      <a:pt x="497" y="41"/>
                    </a:lnTo>
                    <a:lnTo>
                      <a:pt x="536" y="61"/>
                    </a:lnTo>
                    <a:lnTo>
                      <a:pt x="556" y="73"/>
                    </a:lnTo>
                    <a:lnTo>
                      <a:pt x="574" y="87"/>
                    </a:lnTo>
                    <a:lnTo>
                      <a:pt x="592" y="101"/>
                    </a:lnTo>
                    <a:lnTo>
                      <a:pt x="608" y="118"/>
                    </a:lnTo>
                    <a:lnTo>
                      <a:pt x="623" y="135"/>
                    </a:lnTo>
                    <a:lnTo>
                      <a:pt x="637" y="153"/>
                    </a:lnTo>
                    <a:lnTo>
                      <a:pt x="650" y="173"/>
                    </a:lnTo>
                    <a:lnTo>
                      <a:pt x="661" y="192"/>
                    </a:lnTo>
                    <a:lnTo>
                      <a:pt x="671" y="212"/>
                    </a:lnTo>
                    <a:lnTo>
                      <a:pt x="680" y="233"/>
                    </a:lnTo>
                    <a:lnTo>
                      <a:pt x="694" y="277"/>
                    </a:lnTo>
                    <a:lnTo>
                      <a:pt x="700" y="300"/>
                    </a:lnTo>
                    <a:lnTo>
                      <a:pt x="703" y="323"/>
                    </a:lnTo>
                    <a:lnTo>
                      <a:pt x="705" y="346"/>
                    </a:lnTo>
                    <a:lnTo>
                      <a:pt x="705" y="369"/>
                    </a:lnTo>
                    <a:lnTo>
                      <a:pt x="704" y="403"/>
                    </a:lnTo>
                    <a:lnTo>
                      <a:pt x="700" y="436"/>
                    </a:lnTo>
                    <a:lnTo>
                      <a:pt x="693" y="469"/>
                    </a:lnTo>
                    <a:lnTo>
                      <a:pt x="683" y="500"/>
                    </a:lnTo>
                    <a:lnTo>
                      <a:pt x="671" y="531"/>
                    </a:lnTo>
                    <a:lnTo>
                      <a:pt x="657" y="558"/>
                    </a:lnTo>
                    <a:lnTo>
                      <a:pt x="639" y="585"/>
                    </a:lnTo>
                    <a:lnTo>
                      <a:pt x="621" y="611"/>
                    </a:lnTo>
                    <a:lnTo>
                      <a:pt x="599" y="634"/>
                    </a:lnTo>
                    <a:lnTo>
                      <a:pt x="576" y="655"/>
                    </a:lnTo>
                    <a:lnTo>
                      <a:pt x="550" y="673"/>
                    </a:lnTo>
                    <a:lnTo>
                      <a:pt x="523" y="691"/>
                    </a:lnTo>
                    <a:lnTo>
                      <a:pt x="493" y="704"/>
                    </a:lnTo>
                    <a:lnTo>
                      <a:pt x="463" y="716"/>
                    </a:lnTo>
                    <a:lnTo>
                      <a:pt x="430" y="725"/>
                    </a:lnTo>
                    <a:lnTo>
                      <a:pt x="396" y="730"/>
                    </a:lnTo>
                    <a:lnTo>
                      <a:pt x="803" y="1293"/>
                    </a:lnTo>
                    <a:close/>
                    <a:moveTo>
                      <a:pt x="161" y="612"/>
                    </a:moveTo>
                    <a:lnTo>
                      <a:pt x="213" y="612"/>
                    </a:lnTo>
                    <a:lnTo>
                      <a:pt x="274" y="611"/>
                    </a:lnTo>
                    <a:lnTo>
                      <a:pt x="335" y="604"/>
                    </a:lnTo>
                    <a:lnTo>
                      <a:pt x="365" y="599"/>
                    </a:lnTo>
                    <a:lnTo>
                      <a:pt x="393" y="591"/>
                    </a:lnTo>
                    <a:lnTo>
                      <a:pt x="420" y="582"/>
                    </a:lnTo>
                    <a:lnTo>
                      <a:pt x="445" y="571"/>
                    </a:lnTo>
                    <a:lnTo>
                      <a:pt x="469" y="557"/>
                    </a:lnTo>
                    <a:lnTo>
                      <a:pt x="490" y="540"/>
                    </a:lnTo>
                    <a:lnTo>
                      <a:pt x="509" y="522"/>
                    </a:lnTo>
                    <a:lnTo>
                      <a:pt x="524" y="499"/>
                    </a:lnTo>
                    <a:lnTo>
                      <a:pt x="537" y="473"/>
                    </a:lnTo>
                    <a:lnTo>
                      <a:pt x="547" y="445"/>
                    </a:lnTo>
                    <a:lnTo>
                      <a:pt x="553" y="412"/>
                    </a:lnTo>
                    <a:lnTo>
                      <a:pt x="555" y="376"/>
                    </a:lnTo>
                    <a:lnTo>
                      <a:pt x="553" y="339"/>
                    </a:lnTo>
                    <a:lnTo>
                      <a:pt x="546" y="308"/>
                    </a:lnTo>
                    <a:lnTo>
                      <a:pt x="536" y="279"/>
                    </a:lnTo>
                    <a:lnTo>
                      <a:pt x="523" y="254"/>
                    </a:lnTo>
                    <a:lnTo>
                      <a:pt x="505" y="232"/>
                    </a:lnTo>
                    <a:lnTo>
                      <a:pt x="486" y="213"/>
                    </a:lnTo>
                    <a:lnTo>
                      <a:pt x="464" y="198"/>
                    </a:lnTo>
                    <a:lnTo>
                      <a:pt x="440" y="184"/>
                    </a:lnTo>
                    <a:lnTo>
                      <a:pt x="413" y="173"/>
                    </a:lnTo>
                    <a:lnTo>
                      <a:pt x="385" y="164"/>
                    </a:lnTo>
                    <a:lnTo>
                      <a:pt x="356" y="157"/>
                    </a:lnTo>
                    <a:lnTo>
                      <a:pt x="325" y="152"/>
                    </a:lnTo>
                    <a:lnTo>
                      <a:pt x="296" y="148"/>
                    </a:lnTo>
                    <a:lnTo>
                      <a:pt x="265" y="146"/>
                    </a:lnTo>
                    <a:lnTo>
                      <a:pt x="204" y="144"/>
                    </a:lnTo>
                    <a:lnTo>
                      <a:pt x="161" y="144"/>
                    </a:lnTo>
                    <a:lnTo>
                      <a:pt x="161" y="6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502280" y="517680"/>
                <a:ext cx="196200" cy="250560"/>
              </a:xfrm>
              <a:custGeom>
                <a:avLst/>
                <a:gdLst/>
                <a:ahLst/>
                <a:rect l="l" t="t" r="r" b="b"/>
                <a:pathLst>
                  <a:path w="929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29" y="1293"/>
                    </a:lnTo>
                    <a:lnTo>
                      <a:pt x="712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999720" y="847800"/>
                <a:ext cx="54720" cy="133200"/>
              </a:xfrm>
              <a:custGeom>
                <a:avLst/>
                <a:gdLst/>
                <a:ahLst/>
                <a:rect l="l" t="t" r="r" b="b"/>
                <a:pathLst>
                  <a:path w="264" h="687">
                    <a:moveTo>
                      <a:pt x="169" y="687"/>
                    </a:moveTo>
                    <a:lnTo>
                      <a:pt x="74" y="687"/>
                    </a:lnTo>
                    <a:lnTo>
                      <a:pt x="74" y="279"/>
                    </a:lnTo>
                    <a:lnTo>
                      <a:pt x="0" y="279"/>
                    </a:lnTo>
                    <a:lnTo>
                      <a:pt x="0" y="190"/>
                    </a:lnTo>
                    <a:lnTo>
                      <a:pt x="74" y="190"/>
                    </a:lnTo>
                    <a:lnTo>
                      <a:pt x="74" y="0"/>
                    </a:lnTo>
                    <a:lnTo>
                      <a:pt x="169" y="0"/>
                    </a:lnTo>
                    <a:lnTo>
                      <a:pt x="169" y="190"/>
                    </a:lnTo>
                    <a:lnTo>
                      <a:pt x="264" y="190"/>
                    </a:lnTo>
                    <a:lnTo>
                      <a:pt x="264" y="279"/>
                    </a:lnTo>
                    <a:lnTo>
                      <a:pt x="169" y="279"/>
                    </a:lnTo>
                    <a:lnTo>
                      <a:pt x="169" y="6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058400" y="882720"/>
                <a:ext cx="9936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5" y="280"/>
                    </a:moveTo>
                    <a:lnTo>
                      <a:pt x="98" y="311"/>
                    </a:lnTo>
                    <a:lnTo>
                      <a:pt x="106" y="341"/>
                    </a:lnTo>
                    <a:lnTo>
                      <a:pt x="119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8" y="415"/>
                    </a:lnTo>
                    <a:lnTo>
                      <a:pt x="170" y="423"/>
                    </a:lnTo>
                    <a:lnTo>
                      <a:pt x="184" y="431"/>
                    </a:lnTo>
                    <a:lnTo>
                      <a:pt x="197" y="437"/>
                    </a:lnTo>
                    <a:lnTo>
                      <a:pt x="213" y="441"/>
                    </a:lnTo>
                    <a:lnTo>
                      <a:pt x="229" y="443"/>
                    </a:lnTo>
                    <a:lnTo>
                      <a:pt x="245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5" y="430"/>
                    </a:lnTo>
                    <a:lnTo>
                      <a:pt x="333" y="418"/>
                    </a:lnTo>
                    <a:lnTo>
                      <a:pt x="351" y="405"/>
                    </a:lnTo>
                    <a:lnTo>
                      <a:pt x="366" y="388"/>
                    </a:lnTo>
                    <a:lnTo>
                      <a:pt x="380" y="368"/>
                    </a:lnTo>
                    <a:lnTo>
                      <a:pt x="394" y="348"/>
                    </a:lnTo>
                    <a:lnTo>
                      <a:pt x="475" y="394"/>
                    </a:lnTo>
                    <a:lnTo>
                      <a:pt x="455" y="424"/>
                    </a:lnTo>
                    <a:lnTo>
                      <a:pt x="433" y="451"/>
                    </a:lnTo>
                    <a:lnTo>
                      <a:pt x="407" y="474"/>
                    </a:lnTo>
                    <a:lnTo>
                      <a:pt x="378" y="494"/>
                    </a:lnTo>
                    <a:lnTo>
                      <a:pt x="347" y="509"/>
                    </a:lnTo>
                    <a:lnTo>
                      <a:pt x="315" y="520"/>
                    </a:lnTo>
                    <a:lnTo>
                      <a:pt x="279" y="528"/>
                    </a:lnTo>
                    <a:lnTo>
                      <a:pt x="244" y="530"/>
                    </a:lnTo>
                    <a:lnTo>
                      <a:pt x="217" y="528"/>
                    </a:lnTo>
                    <a:lnTo>
                      <a:pt x="191" y="524"/>
                    </a:lnTo>
                    <a:lnTo>
                      <a:pt x="165" y="518"/>
                    </a:lnTo>
                    <a:lnTo>
                      <a:pt x="142" y="509"/>
                    </a:lnTo>
                    <a:lnTo>
                      <a:pt x="120" y="498"/>
                    </a:lnTo>
                    <a:lnTo>
                      <a:pt x="101" y="485"/>
                    </a:lnTo>
                    <a:lnTo>
                      <a:pt x="82" y="471"/>
                    </a:lnTo>
                    <a:lnTo>
                      <a:pt x="66" y="454"/>
                    </a:lnTo>
                    <a:lnTo>
                      <a:pt x="50" y="435"/>
                    </a:lnTo>
                    <a:lnTo>
                      <a:pt x="37" y="416"/>
                    </a:lnTo>
                    <a:lnTo>
                      <a:pt x="26" y="394"/>
                    </a:lnTo>
                    <a:lnTo>
                      <a:pt x="16" y="371"/>
                    </a:lnTo>
                    <a:lnTo>
                      <a:pt x="10" y="346"/>
                    </a:lnTo>
                    <a:lnTo>
                      <a:pt x="4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4" y="213"/>
                    </a:lnTo>
                    <a:lnTo>
                      <a:pt x="9" y="186"/>
                    </a:lnTo>
                    <a:lnTo>
                      <a:pt x="15" y="161"/>
                    </a:lnTo>
                    <a:lnTo>
                      <a:pt x="24" y="138"/>
                    </a:lnTo>
                    <a:lnTo>
                      <a:pt x="34" y="116"/>
                    </a:lnTo>
                    <a:lnTo>
                      <a:pt x="47" y="95"/>
                    </a:lnTo>
                    <a:lnTo>
                      <a:pt x="61" y="76"/>
                    </a:lnTo>
                    <a:lnTo>
                      <a:pt x="77" y="60"/>
                    </a:lnTo>
                    <a:lnTo>
                      <a:pt x="95" y="45"/>
                    </a:lnTo>
                    <a:lnTo>
                      <a:pt x="115" y="31"/>
                    </a:lnTo>
                    <a:lnTo>
                      <a:pt x="137" y="20"/>
                    </a:lnTo>
                    <a:lnTo>
                      <a:pt x="160" y="12"/>
                    </a:lnTo>
                    <a:lnTo>
                      <a:pt x="185" y="5"/>
                    </a:lnTo>
                    <a:lnTo>
                      <a:pt x="213" y="2"/>
                    </a:lnTo>
                    <a:lnTo>
                      <a:pt x="242" y="0"/>
                    </a:lnTo>
                    <a:lnTo>
                      <a:pt x="271" y="2"/>
                    </a:lnTo>
                    <a:lnTo>
                      <a:pt x="297" y="5"/>
                    </a:lnTo>
                    <a:lnTo>
                      <a:pt x="322" y="12"/>
                    </a:lnTo>
                    <a:lnTo>
                      <a:pt x="345" y="20"/>
                    </a:lnTo>
                    <a:lnTo>
                      <a:pt x="366" y="31"/>
                    </a:lnTo>
                    <a:lnTo>
                      <a:pt x="385" y="45"/>
                    </a:lnTo>
                    <a:lnTo>
                      <a:pt x="402" y="60"/>
                    </a:lnTo>
                    <a:lnTo>
                      <a:pt x="418" y="76"/>
                    </a:lnTo>
                    <a:lnTo>
                      <a:pt x="431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0" y="161"/>
                    </a:lnTo>
                    <a:lnTo>
                      <a:pt x="467" y="185"/>
                    </a:lnTo>
                    <a:lnTo>
                      <a:pt x="471" y="210"/>
                    </a:lnTo>
                    <a:lnTo>
                      <a:pt x="474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5" y="280"/>
                    </a:lnTo>
                    <a:close/>
                    <a:moveTo>
                      <a:pt x="379" y="207"/>
                    </a:moveTo>
                    <a:lnTo>
                      <a:pt x="373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5" y="117"/>
                    </a:lnTo>
                    <a:lnTo>
                      <a:pt x="316" y="103"/>
                    </a:lnTo>
                    <a:lnTo>
                      <a:pt x="294" y="92"/>
                    </a:lnTo>
                    <a:lnTo>
                      <a:pt x="270" y="85"/>
                    </a:lnTo>
                    <a:lnTo>
                      <a:pt x="242" y="83"/>
                    </a:lnTo>
                    <a:lnTo>
                      <a:pt x="215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1" y="137"/>
                    </a:lnTo>
                    <a:lnTo>
                      <a:pt x="117" y="158"/>
                    </a:lnTo>
                    <a:lnTo>
                      <a:pt x="107" y="182"/>
                    </a:lnTo>
                    <a:lnTo>
                      <a:pt x="101" y="207"/>
                    </a:lnTo>
                    <a:lnTo>
                      <a:pt x="379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177200" y="846000"/>
                <a:ext cx="2052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211400" y="882720"/>
                <a:ext cx="9972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7" y="280"/>
                    </a:moveTo>
                    <a:lnTo>
                      <a:pt x="99" y="311"/>
                    </a:lnTo>
                    <a:lnTo>
                      <a:pt x="108" y="341"/>
                    </a:lnTo>
                    <a:lnTo>
                      <a:pt x="120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9" y="415"/>
                    </a:lnTo>
                    <a:lnTo>
                      <a:pt x="171" y="423"/>
                    </a:lnTo>
                    <a:lnTo>
                      <a:pt x="185" y="431"/>
                    </a:lnTo>
                    <a:lnTo>
                      <a:pt x="199" y="437"/>
                    </a:lnTo>
                    <a:lnTo>
                      <a:pt x="213" y="441"/>
                    </a:lnTo>
                    <a:lnTo>
                      <a:pt x="230" y="443"/>
                    </a:lnTo>
                    <a:lnTo>
                      <a:pt x="246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6" y="430"/>
                    </a:lnTo>
                    <a:lnTo>
                      <a:pt x="335" y="418"/>
                    </a:lnTo>
                    <a:lnTo>
                      <a:pt x="351" y="405"/>
                    </a:lnTo>
                    <a:lnTo>
                      <a:pt x="367" y="388"/>
                    </a:lnTo>
                    <a:lnTo>
                      <a:pt x="381" y="368"/>
                    </a:lnTo>
                    <a:lnTo>
                      <a:pt x="395" y="348"/>
                    </a:lnTo>
                    <a:lnTo>
                      <a:pt x="475" y="394"/>
                    </a:lnTo>
                    <a:lnTo>
                      <a:pt x="457" y="424"/>
                    </a:lnTo>
                    <a:lnTo>
                      <a:pt x="434" y="451"/>
                    </a:lnTo>
                    <a:lnTo>
                      <a:pt x="407" y="474"/>
                    </a:lnTo>
                    <a:lnTo>
                      <a:pt x="379" y="494"/>
                    </a:lnTo>
                    <a:lnTo>
                      <a:pt x="348" y="509"/>
                    </a:lnTo>
                    <a:lnTo>
                      <a:pt x="315" y="520"/>
                    </a:lnTo>
                    <a:lnTo>
                      <a:pt x="281" y="528"/>
                    </a:lnTo>
                    <a:lnTo>
                      <a:pt x="245" y="530"/>
                    </a:lnTo>
                    <a:lnTo>
                      <a:pt x="218" y="528"/>
                    </a:lnTo>
                    <a:lnTo>
                      <a:pt x="191" y="524"/>
                    </a:lnTo>
                    <a:lnTo>
                      <a:pt x="166" y="518"/>
                    </a:lnTo>
                    <a:lnTo>
                      <a:pt x="143" y="509"/>
                    </a:lnTo>
                    <a:lnTo>
                      <a:pt x="121" y="498"/>
                    </a:lnTo>
                    <a:lnTo>
                      <a:pt x="101" y="485"/>
                    </a:lnTo>
                    <a:lnTo>
                      <a:pt x="83" y="471"/>
                    </a:lnTo>
                    <a:lnTo>
                      <a:pt x="66" y="454"/>
                    </a:lnTo>
                    <a:lnTo>
                      <a:pt x="51" y="435"/>
                    </a:lnTo>
                    <a:lnTo>
                      <a:pt x="38" y="416"/>
                    </a:lnTo>
                    <a:lnTo>
                      <a:pt x="27" y="394"/>
                    </a:lnTo>
                    <a:lnTo>
                      <a:pt x="18" y="371"/>
                    </a:lnTo>
                    <a:lnTo>
                      <a:pt x="10" y="346"/>
                    </a:lnTo>
                    <a:lnTo>
                      <a:pt x="5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5" y="213"/>
                    </a:lnTo>
                    <a:lnTo>
                      <a:pt x="9" y="186"/>
                    </a:lnTo>
                    <a:lnTo>
                      <a:pt x="16" y="161"/>
                    </a:lnTo>
                    <a:lnTo>
                      <a:pt x="24" y="138"/>
                    </a:lnTo>
                    <a:lnTo>
                      <a:pt x="35" y="116"/>
                    </a:lnTo>
                    <a:lnTo>
                      <a:pt x="48" y="95"/>
                    </a:lnTo>
                    <a:lnTo>
                      <a:pt x="62" y="76"/>
                    </a:lnTo>
                    <a:lnTo>
                      <a:pt x="78" y="60"/>
                    </a:lnTo>
                    <a:lnTo>
                      <a:pt x="96" y="45"/>
                    </a:lnTo>
                    <a:lnTo>
                      <a:pt x="116" y="31"/>
                    </a:lnTo>
                    <a:lnTo>
                      <a:pt x="137" y="20"/>
                    </a:lnTo>
                    <a:lnTo>
                      <a:pt x="162" y="12"/>
                    </a:lnTo>
                    <a:lnTo>
                      <a:pt x="187" y="5"/>
                    </a:lnTo>
                    <a:lnTo>
                      <a:pt x="214" y="2"/>
                    </a:lnTo>
                    <a:lnTo>
                      <a:pt x="243" y="0"/>
                    </a:lnTo>
                    <a:lnTo>
                      <a:pt x="271" y="2"/>
                    </a:lnTo>
                    <a:lnTo>
                      <a:pt x="299" y="5"/>
                    </a:lnTo>
                    <a:lnTo>
                      <a:pt x="323" y="12"/>
                    </a:lnTo>
                    <a:lnTo>
                      <a:pt x="346" y="20"/>
                    </a:lnTo>
                    <a:lnTo>
                      <a:pt x="367" y="31"/>
                    </a:lnTo>
                    <a:lnTo>
                      <a:pt x="386" y="45"/>
                    </a:lnTo>
                    <a:lnTo>
                      <a:pt x="403" y="60"/>
                    </a:lnTo>
                    <a:lnTo>
                      <a:pt x="418" y="76"/>
                    </a:lnTo>
                    <a:lnTo>
                      <a:pt x="432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1" y="161"/>
                    </a:lnTo>
                    <a:lnTo>
                      <a:pt x="468" y="185"/>
                    </a:lnTo>
                    <a:lnTo>
                      <a:pt x="472" y="210"/>
                    </a:lnTo>
                    <a:lnTo>
                      <a:pt x="475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7" y="280"/>
                    </a:lnTo>
                    <a:close/>
                    <a:moveTo>
                      <a:pt x="380" y="207"/>
                    </a:moveTo>
                    <a:lnTo>
                      <a:pt x="374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6" y="117"/>
                    </a:lnTo>
                    <a:lnTo>
                      <a:pt x="317" y="103"/>
                    </a:lnTo>
                    <a:lnTo>
                      <a:pt x="295" y="92"/>
                    </a:lnTo>
                    <a:lnTo>
                      <a:pt x="270" y="85"/>
                    </a:lnTo>
                    <a:lnTo>
                      <a:pt x="243" y="83"/>
                    </a:lnTo>
                    <a:lnTo>
                      <a:pt x="216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2" y="137"/>
                    </a:lnTo>
                    <a:lnTo>
                      <a:pt x="119" y="158"/>
                    </a:lnTo>
                    <a:lnTo>
                      <a:pt x="108" y="182"/>
                    </a:lnTo>
                    <a:lnTo>
                      <a:pt x="101" y="207"/>
                    </a:lnTo>
                    <a:lnTo>
                      <a:pt x="380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326960" y="882720"/>
                <a:ext cx="84240" cy="101520"/>
              </a:xfrm>
              <a:custGeom>
                <a:avLst/>
                <a:gdLst/>
                <a:ahLst/>
                <a:rect l="l" t="t" r="r" b="b"/>
                <a:pathLst>
                  <a:path w="404" h="530">
                    <a:moveTo>
                      <a:pt x="404" y="157"/>
                    </a:moveTo>
                    <a:lnTo>
                      <a:pt x="389" y="141"/>
                    </a:lnTo>
                    <a:lnTo>
                      <a:pt x="373" y="127"/>
                    </a:lnTo>
                    <a:lnTo>
                      <a:pt x="358" y="116"/>
                    </a:lnTo>
                    <a:lnTo>
                      <a:pt x="340" y="106"/>
                    </a:lnTo>
                    <a:lnTo>
                      <a:pt x="321" y="99"/>
                    </a:lnTo>
                    <a:lnTo>
                      <a:pt x="303" y="94"/>
                    </a:lnTo>
                    <a:lnTo>
                      <a:pt x="283" y="91"/>
                    </a:lnTo>
                    <a:lnTo>
                      <a:pt x="261" y="90"/>
                    </a:lnTo>
                    <a:lnTo>
                      <a:pt x="245" y="91"/>
                    </a:lnTo>
                    <a:lnTo>
                      <a:pt x="227" y="93"/>
                    </a:lnTo>
                    <a:lnTo>
                      <a:pt x="212" y="97"/>
                    </a:lnTo>
                    <a:lnTo>
                      <a:pt x="196" y="104"/>
                    </a:lnTo>
                    <a:lnTo>
                      <a:pt x="182" y="112"/>
                    </a:lnTo>
                    <a:lnTo>
                      <a:pt x="168" y="120"/>
                    </a:lnTo>
                    <a:lnTo>
                      <a:pt x="156" y="130"/>
                    </a:lnTo>
                    <a:lnTo>
                      <a:pt x="144" y="142"/>
                    </a:lnTo>
                    <a:lnTo>
                      <a:pt x="133" y="154"/>
                    </a:lnTo>
                    <a:lnTo>
                      <a:pt x="124" y="169"/>
                    </a:lnTo>
                    <a:lnTo>
                      <a:pt x="115" y="183"/>
                    </a:lnTo>
                    <a:lnTo>
                      <a:pt x="109" y="198"/>
                    </a:lnTo>
                    <a:lnTo>
                      <a:pt x="103" y="214"/>
                    </a:lnTo>
                    <a:lnTo>
                      <a:pt x="99" y="230"/>
                    </a:lnTo>
                    <a:lnTo>
                      <a:pt x="97" y="247"/>
                    </a:lnTo>
                    <a:lnTo>
                      <a:pt x="96" y="264"/>
                    </a:lnTo>
                    <a:lnTo>
                      <a:pt x="97" y="283"/>
                    </a:lnTo>
                    <a:lnTo>
                      <a:pt x="99" y="300"/>
                    </a:lnTo>
                    <a:lnTo>
                      <a:pt x="103" y="318"/>
                    </a:lnTo>
                    <a:lnTo>
                      <a:pt x="109" y="334"/>
                    </a:lnTo>
                    <a:lnTo>
                      <a:pt x="115" y="350"/>
                    </a:lnTo>
                    <a:lnTo>
                      <a:pt x="124" y="364"/>
                    </a:lnTo>
                    <a:lnTo>
                      <a:pt x="133" y="378"/>
                    </a:lnTo>
                    <a:lnTo>
                      <a:pt x="144" y="390"/>
                    </a:lnTo>
                    <a:lnTo>
                      <a:pt x="156" y="401"/>
                    </a:lnTo>
                    <a:lnTo>
                      <a:pt x="169" y="411"/>
                    </a:lnTo>
                    <a:lnTo>
                      <a:pt x="183" y="420"/>
                    </a:lnTo>
                    <a:lnTo>
                      <a:pt x="199" y="427"/>
                    </a:lnTo>
                    <a:lnTo>
                      <a:pt x="215" y="432"/>
                    </a:lnTo>
                    <a:lnTo>
                      <a:pt x="232" y="437"/>
                    </a:lnTo>
                    <a:lnTo>
                      <a:pt x="249" y="439"/>
                    </a:lnTo>
                    <a:lnTo>
                      <a:pt x="268" y="440"/>
                    </a:lnTo>
                    <a:lnTo>
                      <a:pt x="289" y="439"/>
                    </a:lnTo>
                    <a:lnTo>
                      <a:pt x="307" y="435"/>
                    </a:lnTo>
                    <a:lnTo>
                      <a:pt x="326" y="430"/>
                    </a:lnTo>
                    <a:lnTo>
                      <a:pt x="343" y="422"/>
                    </a:lnTo>
                    <a:lnTo>
                      <a:pt x="360" y="412"/>
                    </a:lnTo>
                    <a:lnTo>
                      <a:pt x="375" y="401"/>
                    </a:lnTo>
                    <a:lnTo>
                      <a:pt x="389" y="388"/>
                    </a:lnTo>
                    <a:lnTo>
                      <a:pt x="404" y="374"/>
                    </a:lnTo>
                    <a:lnTo>
                      <a:pt x="404" y="497"/>
                    </a:lnTo>
                    <a:lnTo>
                      <a:pt x="371" y="511"/>
                    </a:lnTo>
                    <a:lnTo>
                      <a:pt x="338" y="522"/>
                    </a:lnTo>
                    <a:lnTo>
                      <a:pt x="303" y="528"/>
                    </a:lnTo>
                    <a:lnTo>
                      <a:pt x="267" y="530"/>
                    </a:lnTo>
                    <a:lnTo>
                      <a:pt x="239" y="528"/>
                    </a:lnTo>
                    <a:lnTo>
                      <a:pt x="213" y="524"/>
                    </a:lnTo>
                    <a:lnTo>
                      <a:pt x="188" y="518"/>
                    </a:lnTo>
                    <a:lnTo>
                      <a:pt x="164" y="509"/>
                    </a:lnTo>
                    <a:lnTo>
                      <a:pt x="140" y="499"/>
                    </a:lnTo>
                    <a:lnTo>
                      <a:pt x="119" y="486"/>
                    </a:lnTo>
                    <a:lnTo>
                      <a:pt x="98" y="472"/>
                    </a:lnTo>
                    <a:lnTo>
                      <a:pt x="79" y="454"/>
                    </a:lnTo>
                    <a:lnTo>
                      <a:pt x="62" y="437"/>
                    </a:lnTo>
                    <a:lnTo>
                      <a:pt x="46" y="416"/>
                    </a:lnTo>
                    <a:lnTo>
                      <a:pt x="33" y="395"/>
                    </a:lnTo>
                    <a:lnTo>
                      <a:pt x="21" y="372"/>
                    </a:lnTo>
                    <a:lnTo>
                      <a:pt x="12" y="348"/>
                    </a:lnTo>
                    <a:lnTo>
                      <a:pt x="6" y="322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6" y="213"/>
                    </a:lnTo>
                    <a:lnTo>
                      <a:pt x="12" y="186"/>
                    </a:lnTo>
                    <a:lnTo>
                      <a:pt x="21" y="161"/>
                    </a:lnTo>
                    <a:lnTo>
                      <a:pt x="33" y="138"/>
                    </a:lnTo>
                    <a:lnTo>
                      <a:pt x="46" y="115"/>
                    </a:lnTo>
                    <a:lnTo>
                      <a:pt x="62" y="95"/>
                    </a:lnTo>
                    <a:lnTo>
                      <a:pt x="79" y="76"/>
                    </a:lnTo>
                    <a:lnTo>
                      <a:pt x="98" y="59"/>
                    </a:lnTo>
                    <a:lnTo>
                      <a:pt x="119" y="45"/>
                    </a:lnTo>
                    <a:lnTo>
                      <a:pt x="142" y="31"/>
                    </a:lnTo>
                    <a:lnTo>
                      <a:pt x="165" y="20"/>
                    </a:lnTo>
                    <a:lnTo>
                      <a:pt x="190" y="12"/>
                    </a:lnTo>
                    <a:lnTo>
                      <a:pt x="216" y="5"/>
                    </a:lnTo>
                    <a:lnTo>
                      <a:pt x="244" y="2"/>
                    </a:lnTo>
                    <a:lnTo>
                      <a:pt x="272" y="0"/>
                    </a:lnTo>
                    <a:lnTo>
                      <a:pt x="306" y="2"/>
                    </a:lnTo>
                    <a:lnTo>
                      <a:pt x="340" y="8"/>
                    </a:lnTo>
                    <a:lnTo>
                      <a:pt x="373" y="18"/>
                    </a:lnTo>
                    <a:lnTo>
                      <a:pt x="404" y="32"/>
                    </a:lnTo>
                    <a:lnTo>
                      <a:pt x="404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423440" y="882720"/>
                <a:ext cx="111600" cy="101520"/>
              </a:xfrm>
              <a:custGeom>
                <a:avLst/>
                <a:gdLst/>
                <a:ahLst/>
                <a:rect l="l" t="t" r="r" b="b"/>
                <a:pathLst>
                  <a:path w="532" h="530">
                    <a:moveTo>
                      <a:pt x="532" y="264"/>
                    </a:moveTo>
                    <a:lnTo>
                      <a:pt x="530" y="293"/>
                    </a:lnTo>
                    <a:lnTo>
                      <a:pt x="527" y="319"/>
                    </a:lnTo>
                    <a:lnTo>
                      <a:pt x="520" y="344"/>
                    </a:lnTo>
                    <a:lnTo>
                      <a:pt x="511" y="370"/>
                    </a:lnTo>
                    <a:lnTo>
                      <a:pt x="501" y="393"/>
                    </a:lnTo>
                    <a:lnTo>
                      <a:pt x="487" y="415"/>
                    </a:lnTo>
                    <a:lnTo>
                      <a:pt x="472" y="434"/>
                    </a:lnTo>
                    <a:lnTo>
                      <a:pt x="454" y="453"/>
                    </a:lnTo>
                    <a:lnTo>
                      <a:pt x="436" y="471"/>
                    </a:lnTo>
                    <a:lnTo>
                      <a:pt x="416" y="485"/>
                    </a:lnTo>
                    <a:lnTo>
                      <a:pt x="394" y="498"/>
                    </a:lnTo>
                    <a:lnTo>
                      <a:pt x="370" y="509"/>
                    </a:lnTo>
                    <a:lnTo>
                      <a:pt x="346" y="518"/>
                    </a:lnTo>
                    <a:lnTo>
                      <a:pt x="321" y="524"/>
                    </a:lnTo>
                    <a:lnTo>
                      <a:pt x="293" y="528"/>
                    </a:lnTo>
                    <a:lnTo>
                      <a:pt x="266" y="530"/>
                    </a:lnTo>
                    <a:lnTo>
                      <a:pt x="238" y="528"/>
                    </a:lnTo>
                    <a:lnTo>
                      <a:pt x="212" y="524"/>
                    </a:lnTo>
                    <a:lnTo>
                      <a:pt x="187" y="518"/>
                    </a:lnTo>
                    <a:lnTo>
                      <a:pt x="162" y="509"/>
                    </a:lnTo>
                    <a:lnTo>
                      <a:pt x="139" y="498"/>
                    </a:lnTo>
                    <a:lnTo>
                      <a:pt x="117" y="485"/>
                    </a:lnTo>
                    <a:lnTo>
                      <a:pt x="97" y="471"/>
                    </a:lnTo>
                    <a:lnTo>
                      <a:pt x="78" y="453"/>
                    </a:lnTo>
                    <a:lnTo>
                      <a:pt x="61" y="434"/>
                    </a:lnTo>
                    <a:lnTo>
                      <a:pt x="45" y="415"/>
                    </a:lnTo>
                    <a:lnTo>
                      <a:pt x="32" y="393"/>
                    </a:lnTo>
                    <a:lnTo>
                      <a:pt x="21" y="370"/>
                    </a:lnTo>
                    <a:lnTo>
                      <a:pt x="12" y="344"/>
                    </a:lnTo>
                    <a:lnTo>
                      <a:pt x="6" y="319"/>
                    </a:lnTo>
                    <a:lnTo>
                      <a:pt x="3" y="293"/>
                    </a:lnTo>
                    <a:lnTo>
                      <a:pt x="0" y="264"/>
                    </a:lnTo>
                    <a:lnTo>
                      <a:pt x="3" y="237"/>
                    </a:lnTo>
                    <a:lnTo>
                      <a:pt x="6" y="210"/>
                    </a:lnTo>
                    <a:lnTo>
                      <a:pt x="12" y="185"/>
                    </a:lnTo>
                    <a:lnTo>
                      <a:pt x="21" y="160"/>
                    </a:lnTo>
                    <a:lnTo>
                      <a:pt x="32" y="137"/>
                    </a:lnTo>
                    <a:lnTo>
                      <a:pt x="45" y="115"/>
                    </a:lnTo>
                    <a:lnTo>
                      <a:pt x="61" y="95"/>
                    </a:lnTo>
                    <a:lnTo>
                      <a:pt x="78" y="76"/>
                    </a:lnTo>
                    <a:lnTo>
                      <a:pt x="97" y="59"/>
                    </a:lnTo>
                    <a:lnTo>
                      <a:pt x="117" y="45"/>
                    </a:lnTo>
                    <a:lnTo>
                      <a:pt x="139" y="31"/>
                    </a:lnTo>
                    <a:lnTo>
                      <a:pt x="162" y="20"/>
                    </a:lnTo>
                    <a:lnTo>
                      <a:pt x="187" y="12"/>
                    </a:lnTo>
                    <a:lnTo>
                      <a:pt x="212" y="5"/>
                    </a:lnTo>
                    <a:lnTo>
                      <a:pt x="238" y="2"/>
                    </a:lnTo>
                    <a:lnTo>
                      <a:pt x="266" y="0"/>
                    </a:lnTo>
                    <a:lnTo>
                      <a:pt x="293" y="2"/>
                    </a:lnTo>
                    <a:lnTo>
                      <a:pt x="321" y="5"/>
                    </a:lnTo>
                    <a:lnTo>
                      <a:pt x="346" y="12"/>
                    </a:lnTo>
                    <a:lnTo>
                      <a:pt x="370" y="20"/>
                    </a:lnTo>
                    <a:lnTo>
                      <a:pt x="394" y="31"/>
                    </a:lnTo>
                    <a:lnTo>
                      <a:pt x="416" y="45"/>
                    </a:lnTo>
                    <a:lnTo>
                      <a:pt x="436" y="59"/>
                    </a:lnTo>
                    <a:lnTo>
                      <a:pt x="454" y="76"/>
                    </a:lnTo>
                    <a:lnTo>
                      <a:pt x="472" y="95"/>
                    </a:lnTo>
                    <a:lnTo>
                      <a:pt x="487" y="115"/>
                    </a:lnTo>
                    <a:lnTo>
                      <a:pt x="501" y="137"/>
                    </a:lnTo>
                    <a:lnTo>
                      <a:pt x="511" y="160"/>
                    </a:lnTo>
                    <a:lnTo>
                      <a:pt x="520" y="185"/>
                    </a:lnTo>
                    <a:lnTo>
                      <a:pt x="527" y="210"/>
                    </a:lnTo>
                    <a:lnTo>
                      <a:pt x="530" y="237"/>
                    </a:lnTo>
                    <a:lnTo>
                      <a:pt x="532" y="264"/>
                    </a:lnTo>
                    <a:close/>
                    <a:moveTo>
                      <a:pt x="96" y="264"/>
                    </a:moveTo>
                    <a:lnTo>
                      <a:pt x="97" y="282"/>
                    </a:lnTo>
                    <a:lnTo>
                      <a:pt x="100" y="299"/>
                    </a:lnTo>
                    <a:lnTo>
                      <a:pt x="103" y="316"/>
                    </a:lnTo>
                    <a:lnTo>
                      <a:pt x="110" y="331"/>
                    </a:lnTo>
                    <a:lnTo>
                      <a:pt x="117" y="346"/>
                    </a:lnTo>
                    <a:lnTo>
                      <a:pt x="125" y="361"/>
                    </a:lnTo>
                    <a:lnTo>
                      <a:pt x="135" y="374"/>
                    </a:lnTo>
                    <a:lnTo>
                      <a:pt x="146" y="386"/>
                    </a:lnTo>
                    <a:lnTo>
                      <a:pt x="158" y="398"/>
                    </a:lnTo>
                    <a:lnTo>
                      <a:pt x="171" y="408"/>
                    </a:lnTo>
                    <a:lnTo>
                      <a:pt x="185" y="417"/>
                    </a:lnTo>
                    <a:lnTo>
                      <a:pt x="200" y="424"/>
                    </a:lnTo>
                    <a:lnTo>
                      <a:pt x="215" y="430"/>
                    </a:lnTo>
                    <a:lnTo>
                      <a:pt x="232" y="434"/>
                    </a:lnTo>
                    <a:lnTo>
                      <a:pt x="248" y="437"/>
                    </a:lnTo>
                    <a:lnTo>
                      <a:pt x="266" y="438"/>
                    </a:lnTo>
                    <a:lnTo>
                      <a:pt x="283" y="437"/>
                    </a:lnTo>
                    <a:lnTo>
                      <a:pt x="301" y="434"/>
                    </a:lnTo>
                    <a:lnTo>
                      <a:pt x="317" y="430"/>
                    </a:lnTo>
                    <a:lnTo>
                      <a:pt x="333" y="424"/>
                    </a:lnTo>
                    <a:lnTo>
                      <a:pt x="348" y="417"/>
                    </a:lnTo>
                    <a:lnTo>
                      <a:pt x="361" y="408"/>
                    </a:lnTo>
                    <a:lnTo>
                      <a:pt x="374" y="398"/>
                    </a:lnTo>
                    <a:lnTo>
                      <a:pt x="386" y="386"/>
                    </a:lnTo>
                    <a:lnTo>
                      <a:pt x="397" y="374"/>
                    </a:lnTo>
                    <a:lnTo>
                      <a:pt x="407" y="361"/>
                    </a:lnTo>
                    <a:lnTo>
                      <a:pt x="416" y="346"/>
                    </a:lnTo>
                    <a:lnTo>
                      <a:pt x="423" y="331"/>
                    </a:lnTo>
                    <a:lnTo>
                      <a:pt x="428" y="316"/>
                    </a:lnTo>
                    <a:lnTo>
                      <a:pt x="433" y="299"/>
                    </a:lnTo>
                    <a:lnTo>
                      <a:pt x="436" y="282"/>
                    </a:lnTo>
                    <a:lnTo>
                      <a:pt x="436" y="264"/>
                    </a:lnTo>
                    <a:lnTo>
                      <a:pt x="436" y="248"/>
                    </a:lnTo>
                    <a:lnTo>
                      <a:pt x="433" y="230"/>
                    </a:lnTo>
                    <a:lnTo>
                      <a:pt x="428" y="214"/>
                    </a:lnTo>
                    <a:lnTo>
                      <a:pt x="423" y="197"/>
                    </a:lnTo>
                    <a:lnTo>
                      <a:pt x="416" y="183"/>
                    </a:lnTo>
                    <a:lnTo>
                      <a:pt x="407" y="169"/>
                    </a:lnTo>
                    <a:lnTo>
                      <a:pt x="397" y="154"/>
                    </a:lnTo>
                    <a:lnTo>
                      <a:pt x="386" y="142"/>
                    </a:lnTo>
                    <a:lnTo>
                      <a:pt x="374" y="131"/>
                    </a:lnTo>
                    <a:lnTo>
                      <a:pt x="361" y="121"/>
                    </a:lnTo>
                    <a:lnTo>
                      <a:pt x="348" y="113"/>
                    </a:lnTo>
                    <a:lnTo>
                      <a:pt x="333" y="105"/>
                    </a:lnTo>
                    <a:lnTo>
                      <a:pt x="317" y="99"/>
                    </a:lnTo>
                    <a:lnTo>
                      <a:pt x="301" y="95"/>
                    </a:lnTo>
                    <a:lnTo>
                      <a:pt x="283" y="92"/>
                    </a:lnTo>
                    <a:lnTo>
                      <a:pt x="266" y="92"/>
                    </a:lnTo>
                    <a:lnTo>
                      <a:pt x="248" y="92"/>
                    </a:lnTo>
                    <a:lnTo>
                      <a:pt x="232" y="95"/>
                    </a:lnTo>
                    <a:lnTo>
                      <a:pt x="215" y="99"/>
                    </a:lnTo>
                    <a:lnTo>
                      <a:pt x="200" y="105"/>
                    </a:lnTo>
                    <a:lnTo>
                      <a:pt x="185" y="113"/>
                    </a:lnTo>
                    <a:lnTo>
                      <a:pt x="171" y="121"/>
                    </a:lnTo>
                    <a:lnTo>
                      <a:pt x="158" y="131"/>
                    </a:lnTo>
                    <a:lnTo>
                      <a:pt x="146" y="142"/>
                    </a:lnTo>
                    <a:lnTo>
                      <a:pt x="135" y="154"/>
                    </a:lnTo>
                    <a:lnTo>
                      <a:pt x="125" y="169"/>
                    </a:lnTo>
                    <a:lnTo>
                      <a:pt x="117" y="183"/>
                    </a:lnTo>
                    <a:lnTo>
                      <a:pt x="110" y="197"/>
                    </a:lnTo>
                    <a:lnTo>
                      <a:pt x="103" y="214"/>
                    </a:lnTo>
                    <a:lnTo>
                      <a:pt x="100" y="230"/>
                    </a:lnTo>
                    <a:lnTo>
                      <a:pt x="97" y="248"/>
                    </a:lnTo>
                    <a:lnTo>
                      <a:pt x="96" y="2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549440" y="882720"/>
                <a:ext cx="144360" cy="98280"/>
              </a:xfrm>
              <a:custGeom>
                <a:avLst/>
                <a:gdLst/>
                <a:ahLst/>
                <a:rect l="l" t="t" r="r" b="b"/>
                <a:pathLst>
                  <a:path w="690" h="512">
                    <a:moveTo>
                      <a:pt x="96" y="77"/>
                    </a:moveTo>
                    <a:lnTo>
                      <a:pt x="98" y="77"/>
                    </a:lnTo>
                    <a:lnTo>
                      <a:pt x="109" y="62"/>
                    </a:lnTo>
                    <a:lnTo>
                      <a:pt x="122" y="47"/>
                    </a:lnTo>
                    <a:lnTo>
                      <a:pt x="137" y="34"/>
                    </a:lnTo>
                    <a:lnTo>
                      <a:pt x="154" y="23"/>
                    </a:lnTo>
                    <a:lnTo>
                      <a:pt x="171" y="13"/>
                    </a:lnTo>
                    <a:lnTo>
                      <a:pt x="190" y="6"/>
                    </a:lnTo>
                    <a:lnTo>
                      <a:pt x="210" y="2"/>
                    </a:lnTo>
                    <a:lnTo>
                      <a:pt x="229" y="0"/>
                    </a:lnTo>
                    <a:lnTo>
                      <a:pt x="253" y="2"/>
                    </a:lnTo>
                    <a:lnTo>
                      <a:pt x="274" y="6"/>
                    </a:lnTo>
                    <a:lnTo>
                      <a:pt x="295" y="13"/>
                    </a:lnTo>
                    <a:lnTo>
                      <a:pt x="314" y="24"/>
                    </a:lnTo>
                    <a:lnTo>
                      <a:pt x="330" y="36"/>
                    </a:lnTo>
                    <a:lnTo>
                      <a:pt x="346" y="51"/>
                    </a:lnTo>
                    <a:lnTo>
                      <a:pt x="360" y="69"/>
                    </a:lnTo>
                    <a:lnTo>
                      <a:pt x="373" y="88"/>
                    </a:lnTo>
                    <a:lnTo>
                      <a:pt x="385" y="69"/>
                    </a:lnTo>
                    <a:lnTo>
                      <a:pt x="401" y="52"/>
                    </a:lnTo>
                    <a:lnTo>
                      <a:pt x="418" y="37"/>
                    </a:lnTo>
                    <a:lnTo>
                      <a:pt x="438" y="24"/>
                    </a:lnTo>
                    <a:lnTo>
                      <a:pt x="458" y="14"/>
                    </a:lnTo>
                    <a:lnTo>
                      <a:pt x="480" y="6"/>
                    </a:lnTo>
                    <a:lnTo>
                      <a:pt x="503" y="2"/>
                    </a:lnTo>
                    <a:lnTo>
                      <a:pt x="526" y="0"/>
                    </a:lnTo>
                    <a:lnTo>
                      <a:pt x="550" y="1"/>
                    </a:lnTo>
                    <a:lnTo>
                      <a:pt x="571" y="5"/>
                    </a:lnTo>
                    <a:lnTo>
                      <a:pt x="589" y="11"/>
                    </a:lnTo>
                    <a:lnTo>
                      <a:pt x="607" y="17"/>
                    </a:lnTo>
                    <a:lnTo>
                      <a:pt x="622" y="27"/>
                    </a:lnTo>
                    <a:lnTo>
                      <a:pt x="635" y="38"/>
                    </a:lnTo>
                    <a:lnTo>
                      <a:pt x="647" y="51"/>
                    </a:lnTo>
                    <a:lnTo>
                      <a:pt x="657" y="65"/>
                    </a:lnTo>
                    <a:lnTo>
                      <a:pt x="666" y="81"/>
                    </a:lnTo>
                    <a:lnTo>
                      <a:pt x="673" y="97"/>
                    </a:lnTo>
                    <a:lnTo>
                      <a:pt x="678" y="115"/>
                    </a:lnTo>
                    <a:lnTo>
                      <a:pt x="684" y="133"/>
                    </a:lnTo>
                    <a:lnTo>
                      <a:pt x="689" y="173"/>
                    </a:lnTo>
                    <a:lnTo>
                      <a:pt x="690" y="215"/>
                    </a:lnTo>
                    <a:lnTo>
                      <a:pt x="690" y="512"/>
                    </a:lnTo>
                    <a:lnTo>
                      <a:pt x="595" y="512"/>
                    </a:lnTo>
                    <a:lnTo>
                      <a:pt x="595" y="230"/>
                    </a:lnTo>
                    <a:lnTo>
                      <a:pt x="595" y="206"/>
                    </a:lnTo>
                    <a:lnTo>
                      <a:pt x="593" y="181"/>
                    </a:lnTo>
                    <a:lnTo>
                      <a:pt x="588" y="157"/>
                    </a:lnTo>
                    <a:lnTo>
                      <a:pt x="580" y="133"/>
                    </a:lnTo>
                    <a:lnTo>
                      <a:pt x="568" y="114"/>
                    </a:lnTo>
                    <a:lnTo>
                      <a:pt x="561" y="106"/>
                    </a:lnTo>
                    <a:lnTo>
                      <a:pt x="552" y="98"/>
                    </a:lnTo>
                    <a:lnTo>
                      <a:pt x="542" y="93"/>
                    </a:lnTo>
                    <a:lnTo>
                      <a:pt x="531" y="88"/>
                    </a:lnTo>
                    <a:lnTo>
                      <a:pt x="517" y="86"/>
                    </a:lnTo>
                    <a:lnTo>
                      <a:pt x="503" y="85"/>
                    </a:lnTo>
                    <a:lnTo>
                      <a:pt x="484" y="86"/>
                    </a:lnTo>
                    <a:lnTo>
                      <a:pt x="469" y="90"/>
                    </a:lnTo>
                    <a:lnTo>
                      <a:pt x="454" y="95"/>
                    </a:lnTo>
                    <a:lnTo>
                      <a:pt x="442" y="103"/>
                    </a:lnTo>
                    <a:lnTo>
                      <a:pt x="432" y="112"/>
                    </a:lnTo>
                    <a:lnTo>
                      <a:pt x="423" y="123"/>
                    </a:lnTo>
                    <a:lnTo>
                      <a:pt x="416" y="135"/>
                    </a:lnTo>
                    <a:lnTo>
                      <a:pt x="409" y="148"/>
                    </a:lnTo>
                    <a:lnTo>
                      <a:pt x="401" y="176"/>
                    </a:lnTo>
                    <a:lnTo>
                      <a:pt x="396" y="207"/>
                    </a:lnTo>
                    <a:lnTo>
                      <a:pt x="394" y="238"/>
                    </a:lnTo>
                    <a:lnTo>
                      <a:pt x="393" y="267"/>
                    </a:lnTo>
                    <a:lnTo>
                      <a:pt x="393" y="512"/>
                    </a:lnTo>
                    <a:lnTo>
                      <a:pt x="297" y="512"/>
                    </a:lnTo>
                    <a:lnTo>
                      <a:pt x="297" y="249"/>
                    </a:lnTo>
                    <a:lnTo>
                      <a:pt x="297" y="224"/>
                    </a:lnTo>
                    <a:lnTo>
                      <a:pt x="295" y="196"/>
                    </a:lnTo>
                    <a:lnTo>
                      <a:pt x="292" y="169"/>
                    </a:lnTo>
                    <a:lnTo>
                      <a:pt x="285" y="142"/>
                    </a:lnTo>
                    <a:lnTo>
                      <a:pt x="280" y="130"/>
                    </a:lnTo>
                    <a:lnTo>
                      <a:pt x="273" y="119"/>
                    </a:lnTo>
                    <a:lnTo>
                      <a:pt x="267" y="110"/>
                    </a:lnTo>
                    <a:lnTo>
                      <a:pt x="258" y="102"/>
                    </a:lnTo>
                    <a:lnTo>
                      <a:pt x="247" y="95"/>
                    </a:lnTo>
                    <a:lnTo>
                      <a:pt x="235" y="90"/>
                    </a:lnTo>
                    <a:lnTo>
                      <a:pt x="222" y="86"/>
                    </a:lnTo>
                    <a:lnTo>
                      <a:pt x="206" y="85"/>
                    </a:lnTo>
                    <a:lnTo>
                      <a:pt x="188" y="86"/>
                    </a:lnTo>
                    <a:lnTo>
                      <a:pt x="172" y="90"/>
                    </a:lnTo>
                    <a:lnTo>
                      <a:pt x="158" y="95"/>
                    </a:lnTo>
                    <a:lnTo>
                      <a:pt x="146" y="103"/>
                    </a:lnTo>
                    <a:lnTo>
                      <a:pt x="135" y="112"/>
                    </a:lnTo>
                    <a:lnTo>
                      <a:pt x="126" y="123"/>
                    </a:lnTo>
                    <a:lnTo>
                      <a:pt x="119" y="135"/>
                    </a:lnTo>
                    <a:lnTo>
                      <a:pt x="113" y="148"/>
                    </a:lnTo>
                    <a:lnTo>
                      <a:pt x="103" y="176"/>
                    </a:lnTo>
                    <a:lnTo>
                      <a:pt x="99" y="207"/>
                    </a:lnTo>
                    <a:lnTo>
                      <a:pt x="97" y="238"/>
                    </a:lnTo>
                    <a:lnTo>
                      <a:pt x="96" y="267"/>
                    </a:lnTo>
                    <a:lnTo>
                      <a:pt x="96" y="512"/>
                    </a:lnTo>
                    <a:lnTo>
                      <a:pt x="0" y="512"/>
                    </a:lnTo>
                    <a:lnTo>
                      <a:pt x="0" y="15"/>
                    </a:lnTo>
                    <a:lnTo>
                      <a:pt x="96" y="15"/>
                    </a:lnTo>
                    <a:lnTo>
                      <a:pt x="96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908640" y="1022400"/>
                <a:ext cx="9082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a-DK" sz="600" spc="-1" strike="noStrike">
                    <a:solidFill>
                      <a:srgbClr val="ffffff"/>
                    </a:solidFill>
                    <a:latin typeface="Futura Bk BT"/>
                  </a:rPr>
                  <a:t>www.kirktelecom.dk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2724120" y="517680"/>
            <a:ext cx="6334200" cy="44575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2228760" y="0"/>
            <a:ext cx="76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CCFP Administration Program Ver.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18720" y="5133960"/>
            <a:ext cx="604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айл статистических данных об активности в системе 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3676680" y="1022040"/>
            <a:ext cx="1790640" cy="415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3676680" y="4773600"/>
            <a:ext cx="142884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 flipV="1">
            <a:off x="4438440" y="2209320"/>
            <a:ext cx="3943080" cy="297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725560" y="59421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иск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724120" y="4468680"/>
            <a:ext cx="3240000" cy="506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25560" y="60199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чист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 flipV="1">
            <a:off x="7695720" y="4773600"/>
            <a:ext cx="5724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5DBE-C1C1-4AC3-8836-FB6FC8860E9E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2889360" y="457200"/>
            <a:ext cx="6521400" cy="0"/>
          </a:xfrm>
          <a:prstGeom prst="line">
            <a:avLst/>
          </a:prstGeom>
          <a:ln cap="sq"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0" y="0"/>
            <a:ext cx="6129000" cy="6858000"/>
            <a:chOff x="0" y="0"/>
            <a:chExt cx="6129000" cy="6858000"/>
          </a:xfrm>
        </p:grpSpPr>
        <p:sp>
          <p:nvSpPr>
            <p:cNvPr id="589" name=""/>
            <p:cNvSpPr/>
            <p:nvPr/>
          </p:nvSpPr>
          <p:spPr>
            <a:xfrm>
              <a:off x="0" y="0"/>
              <a:ext cx="2228760" cy="3429000"/>
            </a:xfrm>
            <a:prstGeom prst="rect">
              <a:avLst/>
            </a:prstGeom>
            <a:solidFill>
              <a:srgbClr val="000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0" y="3429000"/>
              <a:ext cx="2228760" cy="3429000"/>
            </a:xfrm>
            <a:prstGeom prst="rect">
              <a:avLst/>
            </a:pr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91836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79924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3" name="" descr=""/>
            <p:cNvPicPr/>
            <p:nvPr/>
          </p:nvPicPr>
          <p:blipFill>
            <a:blip r:embed="rId1"/>
            <a:stretch/>
          </p:blipFill>
          <p:spPr>
            <a:xfrm>
              <a:off x="201240" y="2055960"/>
              <a:ext cx="1705680" cy="271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4" name=""/>
            <p:cNvGrpSpPr/>
            <p:nvPr/>
          </p:nvGrpSpPr>
          <p:grpSpPr>
            <a:xfrm>
              <a:off x="211320" y="380880"/>
              <a:ext cx="1605600" cy="821880"/>
              <a:chOff x="211320" y="380880"/>
              <a:chExt cx="1605600" cy="821880"/>
            </a:xfrm>
          </p:grpSpPr>
          <p:sp>
            <p:nvSpPr>
              <p:cNvPr id="595" name=""/>
              <p:cNvSpPr/>
              <p:nvPr/>
            </p:nvSpPr>
            <p:spPr>
              <a:xfrm>
                <a:off x="403920" y="38088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7">
                    <a:moveTo>
                      <a:pt x="29" y="1655"/>
                    </a:moveTo>
                    <a:lnTo>
                      <a:pt x="79" y="1682"/>
                    </a:lnTo>
                    <a:lnTo>
                      <a:pt x="623" y="1957"/>
                    </a:lnTo>
                    <a:lnTo>
                      <a:pt x="684" y="1987"/>
                    </a:lnTo>
                    <a:lnTo>
                      <a:pt x="687" y="1916"/>
                    </a:lnTo>
                    <a:lnTo>
                      <a:pt x="691" y="1864"/>
                    </a:lnTo>
                    <a:lnTo>
                      <a:pt x="697" y="1814"/>
                    </a:lnTo>
                    <a:lnTo>
                      <a:pt x="704" y="1763"/>
                    </a:lnTo>
                    <a:lnTo>
                      <a:pt x="713" y="1714"/>
                    </a:lnTo>
                    <a:lnTo>
                      <a:pt x="724" y="1665"/>
                    </a:lnTo>
                    <a:lnTo>
                      <a:pt x="737" y="1616"/>
                    </a:lnTo>
                    <a:lnTo>
                      <a:pt x="751" y="1569"/>
                    </a:lnTo>
                    <a:lnTo>
                      <a:pt x="767" y="1522"/>
                    </a:lnTo>
                    <a:lnTo>
                      <a:pt x="784" y="1476"/>
                    </a:lnTo>
                    <a:lnTo>
                      <a:pt x="803" y="1431"/>
                    </a:lnTo>
                    <a:lnTo>
                      <a:pt x="824" y="1386"/>
                    </a:lnTo>
                    <a:lnTo>
                      <a:pt x="846" y="1343"/>
                    </a:lnTo>
                    <a:lnTo>
                      <a:pt x="869" y="1300"/>
                    </a:lnTo>
                    <a:lnTo>
                      <a:pt x="894" y="1257"/>
                    </a:lnTo>
                    <a:lnTo>
                      <a:pt x="920" y="1217"/>
                    </a:lnTo>
                    <a:lnTo>
                      <a:pt x="948" y="1177"/>
                    </a:lnTo>
                    <a:lnTo>
                      <a:pt x="976" y="1137"/>
                    </a:lnTo>
                    <a:lnTo>
                      <a:pt x="1007" y="1100"/>
                    </a:lnTo>
                    <a:lnTo>
                      <a:pt x="1038" y="1063"/>
                    </a:lnTo>
                    <a:lnTo>
                      <a:pt x="1071" y="1027"/>
                    </a:lnTo>
                    <a:lnTo>
                      <a:pt x="1105" y="993"/>
                    </a:lnTo>
                    <a:lnTo>
                      <a:pt x="1140" y="959"/>
                    </a:lnTo>
                    <a:lnTo>
                      <a:pt x="1176" y="927"/>
                    </a:lnTo>
                    <a:lnTo>
                      <a:pt x="1213" y="896"/>
                    </a:lnTo>
                    <a:lnTo>
                      <a:pt x="1250" y="866"/>
                    </a:lnTo>
                    <a:lnTo>
                      <a:pt x="1290" y="838"/>
                    </a:lnTo>
                    <a:lnTo>
                      <a:pt x="1331" y="810"/>
                    </a:lnTo>
                    <a:lnTo>
                      <a:pt x="1372" y="785"/>
                    </a:lnTo>
                    <a:lnTo>
                      <a:pt x="1414" y="760"/>
                    </a:lnTo>
                    <a:lnTo>
                      <a:pt x="1457" y="737"/>
                    </a:lnTo>
                    <a:lnTo>
                      <a:pt x="1501" y="716"/>
                    </a:lnTo>
                    <a:lnTo>
                      <a:pt x="1546" y="696"/>
                    </a:lnTo>
                    <a:lnTo>
                      <a:pt x="1584" y="680"/>
                    </a:lnTo>
                    <a:lnTo>
                      <a:pt x="1594" y="673"/>
                    </a:lnTo>
                    <a:lnTo>
                      <a:pt x="1600" y="665"/>
                    </a:lnTo>
                    <a:lnTo>
                      <a:pt x="1604" y="658"/>
                    </a:lnTo>
                    <a:lnTo>
                      <a:pt x="1606" y="650"/>
                    </a:lnTo>
                    <a:lnTo>
                      <a:pt x="1605" y="638"/>
                    </a:lnTo>
                    <a:lnTo>
                      <a:pt x="1603" y="632"/>
                    </a:lnTo>
                    <a:lnTo>
                      <a:pt x="1586" y="586"/>
                    </a:lnTo>
                    <a:lnTo>
                      <a:pt x="1385" y="31"/>
                    </a:lnTo>
                    <a:lnTo>
                      <a:pt x="1381" y="18"/>
                    </a:lnTo>
                    <a:lnTo>
                      <a:pt x="1380" y="13"/>
                    </a:lnTo>
                    <a:lnTo>
                      <a:pt x="1372" y="5"/>
                    </a:lnTo>
                    <a:lnTo>
                      <a:pt x="1367" y="2"/>
                    </a:lnTo>
                    <a:lnTo>
                      <a:pt x="1359" y="0"/>
                    </a:lnTo>
                    <a:lnTo>
                      <a:pt x="1349" y="0"/>
                    </a:lnTo>
                    <a:lnTo>
                      <a:pt x="1337" y="3"/>
                    </a:lnTo>
                    <a:lnTo>
                      <a:pt x="1307" y="14"/>
                    </a:lnTo>
                    <a:lnTo>
                      <a:pt x="1248" y="37"/>
                    </a:lnTo>
                    <a:lnTo>
                      <a:pt x="1190" y="63"/>
                    </a:lnTo>
                    <a:lnTo>
                      <a:pt x="1133" y="89"/>
                    </a:lnTo>
                    <a:lnTo>
                      <a:pt x="1076" y="119"/>
                    </a:lnTo>
                    <a:lnTo>
                      <a:pt x="1021" y="149"/>
                    </a:lnTo>
                    <a:lnTo>
                      <a:pt x="966" y="181"/>
                    </a:lnTo>
                    <a:lnTo>
                      <a:pt x="913" y="215"/>
                    </a:lnTo>
                    <a:lnTo>
                      <a:pt x="861" y="251"/>
                    </a:lnTo>
                    <a:lnTo>
                      <a:pt x="810" y="289"/>
                    </a:lnTo>
                    <a:lnTo>
                      <a:pt x="759" y="328"/>
                    </a:lnTo>
                    <a:lnTo>
                      <a:pt x="711" y="369"/>
                    </a:lnTo>
                    <a:lnTo>
                      <a:pt x="663" y="411"/>
                    </a:lnTo>
                    <a:lnTo>
                      <a:pt x="616" y="455"/>
                    </a:lnTo>
                    <a:lnTo>
                      <a:pt x="572" y="501"/>
                    </a:lnTo>
                    <a:lnTo>
                      <a:pt x="528" y="547"/>
                    </a:lnTo>
                    <a:lnTo>
                      <a:pt x="485" y="595"/>
                    </a:lnTo>
                    <a:lnTo>
                      <a:pt x="443" y="645"/>
                    </a:lnTo>
                    <a:lnTo>
                      <a:pt x="404" y="695"/>
                    </a:lnTo>
                    <a:lnTo>
                      <a:pt x="365" y="747"/>
                    </a:lnTo>
                    <a:lnTo>
                      <a:pt x="329" y="800"/>
                    </a:lnTo>
                    <a:lnTo>
                      <a:pt x="294" y="854"/>
                    </a:lnTo>
                    <a:lnTo>
                      <a:pt x="260" y="910"/>
                    </a:lnTo>
                    <a:lnTo>
                      <a:pt x="228" y="967"/>
                    </a:lnTo>
                    <a:lnTo>
                      <a:pt x="197" y="1024"/>
                    </a:lnTo>
                    <a:lnTo>
                      <a:pt x="169" y="1084"/>
                    </a:lnTo>
                    <a:lnTo>
                      <a:pt x="142" y="1144"/>
                    </a:lnTo>
                    <a:lnTo>
                      <a:pt x="116" y="1204"/>
                    </a:lnTo>
                    <a:lnTo>
                      <a:pt x="93" y="1266"/>
                    </a:lnTo>
                    <a:lnTo>
                      <a:pt x="71" y="1329"/>
                    </a:lnTo>
                    <a:lnTo>
                      <a:pt x="52" y="1392"/>
                    </a:lnTo>
                    <a:lnTo>
                      <a:pt x="34" y="1457"/>
                    </a:lnTo>
                    <a:lnTo>
                      <a:pt x="18" y="1522"/>
                    </a:lnTo>
                    <a:lnTo>
                      <a:pt x="2" y="1593"/>
                    </a:lnTo>
                    <a:lnTo>
                      <a:pt x="0" y="1610"/>
                    </a:lnTo>
                    <a:lnTo>
                      <a:pt x="1" y="1623"/>
                    </a:lnTo>
                    <a:lnTo>
                      <a:pt x="6" y="1634"/>
                    </a:lnTo>
                    <a:lnTo>
                      <a:pt x="11" y="1643"/>
                    </a:lnTo>
                    <a:lnTo>
                      <a:pt x="17" y="1648"/>
                    </a:lnTo>
                    <a:lnTo>
                      <a:pt x="23" y="1652"/>
                    </a:lnTo>
                    <a:lnTo>
                      <a:pt x="29" y="1655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03920" y="77004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5">
                    <a:moveTo>
                      <a:pt x="29" y="333"/>
                    </a:moveTo>
                    <a:lnTo>
                      <a:pt x="79" y="306"/>
                    </a:lnTo>
                    <a:lnTo>
                      <a:pt x="623" y="31"/>
                    </a:lnTo>
                    <a:lnTo>
                      <a:pt x="684" y="0"/>
                    </a:lnTo>
                    <a:lnTo>
                      <a:pt x="687" y="72"/>
                    </a:lnTo>
                    <a:lnTo>
                      <a:pt x="691" y="123"/>
                    </a:lnTo>
                    <a:lnTo>
                      <a:pt x="697" y="174"/>
                    </a:lnTo>
                    <a:lnTo>
                      <a:pt x="704" y="224"/>
                    </a:lnTo>
                    <a:lnTo>
                      <a:pt x="713" y="273"/>
                    </a:lnTo>
                    <a:lnTo>
                      <a:pt x="724" y="323"/>
                    </a:lnTo>
                    <a:lnTo>
                      <a:pt x="737" y="371"/>
                    </a:lnTo>
                    <a:lnTo>
                      <a:pt x="751" y="418"/>
                    </a:lnTo>
                    <a:lnTo>
                      <a:pt x="767" y="465"/>
                    </a:lnTo>
                    <a:lnTo>
                      <a:pt x="784" y="512"/>
                    </a:lnTo>
                    <a:lnTo>
                      <a:pt x="803" y="557"/>
                    </a:lnTo>
                    <a:lnTo>
                      <a:pt x="824" y="602"/>
                    </a:lnTo>
                    <a:lnTo>
                      <a:pt x="846" y="645"/>
                    </a:lnTo>
                    <a:lnTo>
                      <a:pt x="869" y="688"/>
                    </a:lnTo>
                    <a:lnTo>
                      <a:pt x="894" y="730"/>
                    </a:lnTo>
                    <a:lnTo>
                      <a:pt x="920" y="771"/>
                    </a:lnTo>
                    <a:lnTo>
                      <a:pt x="948" y="811"/>
                    </a:lnTo>
                    <a:lnTo>
                      <a:pt x="976" y="850"/>
                    </a:lnTo>
                    <a:lnTo>
                      <a:pt x="1007" y="888"/>
                    </a:lnTo>
                    <a:lnTo>
                      <a:pt x="1038" y="924"/>
                    </a:lnTo>
                    <a:lnTo>
                      <a:pt x="1071" y="961"/>
                    </a:lnTo>
                    <a:lnTo>
                      <a:pt x="1105" y="995"/>
                    </a:lnTo>
                    <a:lnTo>
                      <a:pt x="1140" y="1029"/>
                    </a:lnTo>
                    <a:lnTo>
                      <a:pt x="1176" y="1061"/>
                    </a:lnTo>
                    <a:lnTo>
                      <a:pt x="1213" y="1092"/>
                    </a:lnTo>
                    <a:lnTo>
                      <a:pt x="1252" y="1122"/>
                    </a:lnTo>
                    <a:lnTo>
                      <a:pt x="1290" y="1151"/>
                    </a:lnTo>
                    <a:lnTo>
                      <a:pt x="1331" y="1177"/>
                    </a:lnTo>
                    <a:lnTo>
                      <a:pt x="1372" y="1203"/>
                    </a:lnTo>
                    <a:lnTo>
                      <a:pt x="1414" y="1227"/>
                    </a:lnTo>
                    <a:lnTo>
                      <a:pt x="1457" y="1250"/>
                    </a:lnTo>
                    <a:lnTo>
                      <a:pt x="1501" y="1271"/>
                    </a:lnTo>
                    <a:lnTo>
                      <a:pt x="1546" y="1292"/>
                    </a:lnTo>
                    <a:lnTo>
                      <a:pt x="1584" y="1308"/>
                    </a:lnTo>
                    <a:lnTo>
                      <a:pt x="1594" y="1315"/>
                    </a:lnTo>
                    <a:lnTo>
                      <a:pt x="1600" y="1323"/>
                    </a:lnTo>
                    <a:lnTo>
                      <a:pt x="1605" y="1331"/>
                    </a:lnTo>
                    <a:lnTo>
                      <a:pt x="1606" y="1337"/>
                    </a:lnTo>
                    <a:lnTo>
                      <a:pt x="1605" y="1349"/>
                    </a:lnTo>
                    <a:lnTo>
                      <a:pt x="1603" y="1355"/>
                    </a:lnTo>
                    <a:lnTo>
                      <a:pt x="1586" y="1401"/>
                    </a:lnTo>
                    <a:lnTo>
                      <a:pt x="1388" y="1950"/>
                    </a:lnTo>
                    <a:lnTo>
                      <a:pt x="1381" y="1965"/>
                    </a:lnTo>
                    <a:lnTo>
                      <a:pt x="1379" y="1970"/>
                    </a:lnTo>
                    <a:lnTo>
                      <a:pt x="1371" y="1978"/>
                    </a:lnTo>
                    <a:lnTo>
                      <a:pt x="1366" y="1983"/>
                    </a:lnTo>
                    <a:lnTo>
                      <a:pt x="1358" y="1985"/>
                    </a:lnTo>
                    <a:lnTo>
                      <a:pt x="1348" y="1985"/>
                    </a:lnTo>
                    <a:lnTo>
                      <a:pt x="1338" y="1983"/>
                    </a:lnTo>
                    <a:lnTo>
                      <a:pt x="1302" y="1969"/>
                    </a:lnTo>
                    <a:lnTo>
                      <a:pt x="1242" y="1942"/>
                    </a:lnTo>
                    <a:lnTo>
                      <a:pt x="1181" y="1915"/>
                    </a:lnTo>
                    <a:lnTo>
                      <a:pt x="1123" y="1886"/>
                    </a:lnTo>
                    <a:lnTo>
                      <a:pt x="1066" y="1857"/>
                    </a:lnTo>
                    <a:lnTo>
                      <a:pt x="1009" y="1824"/>
                    </a:lnTo>
                    <a:lnTo>
                      <a:pt x="954" y="1791"/>
                    </a:lnTo>
                    <a:lnTo>
                      <a:pt x="901" y="1756"/>
                    </a:lnTo>
                    <a:lnTo>
                      <a:pt x="848" y="1719"/>
                    </a:lnTo>
                    <a:lnTo>
                      <a:pt x="796" y="1682"/>
                    </a:lnTo>
                    <a:lnTo>
                      <a:pt x="747" y="1642"/>
                    </a:lnTo>
                    <a:lnTo>
                      <a:pt x="698" y="1602"/>
                    </a:lnTo>
                    <a:lnTo>
                      <a:pt x="650" y="1560"/>
                    </a:lnTo>
                    <a:lnTo>
                      <a:pt x="604" y="1517"/>
                    </a:lnTo>
                    <a:lnTo>
                      <a:pt x="559" y="1472"/>
                    </a:lnTo>
                    <a:lnTo>
                      <a:pt x="517" y="1426"/>
                    </a:lnTo>
                    <a:lnTo>
                      <a:pt x="475" y="1379"/>
                    </a:lnTo>
                    <a:lnTo>
                      <a:pt x="434" y="1331"/>
                    </a:lnTo>
                    <a:lnTo>
                      <a:pt x="395" y="1281"/>
                    </a:lnTo>
                    <a:lnTo>
                      <a:pt x="358" y="1230"/>
                    </a:lnTo>
                    <a:lnTo>
                      <a:pt x="323" y="1178"/>
                    </a:lnTo>
                    <a:lnTo>
                      <a:pt x="287" y="1124"/>
                    </a:lnTo>
                    <a:lnTo>
                      <a:pt x="255" y="1070"/>
                    </a:lnTo>
                    <a:lnTo>
                      <a:pt x="224" y="1014"/>
                    </a:lnTo>
                    <a:lnTo>
                      <a:pt x="194" y="957"/>
                    </a:lnTo>
                    <a:lnTo>
                      <a:pt x="166" y="900"/>
                    </a:lnTo>
                    <a:lnTo>
                      <a:pt x="139" y="841"/>
                    </a:lnTo>
                    <a:lnTo>
                      <a:pt x="115" y="781"/>
                    </a:lnTo>
                    <a:lnTo>
                      <a:pt x="92" y="720"/>
                    </a:lnTo>
                    <a:lnTo>
                      <a:pt x="71" y="658"/>
                    </a:lnTo>
                    <a:lnTo>
                      <a:pt x="52" y="595"/>
                    </a:lnTo>
                    <a:lnTo>
                      <a:pt x="34" y="530"/>
                    </a:lnTo>
                    <a:lnTo>
                      <a:pt x="18" y="465"/>
                    </a:lnTo>
                    <a:lnTo>
                      <a:pt x="3" y="394"/>
                    </a:lnTo>
                    <a:lnTo>
                      <a:pt x="0" y="378"/>
                    </a:lnTo>
                    <a:lnTo>
                      <a:pt x="1" y="364"/>
                    </a:lnTo>
                    <a:lnTo>
                      <a:pt x="6" y="353"/>
                    </a:lnTo>
                    <a:lnTo>
                      <a:pt x="11" y="346"/>
                    </a:lnTo>
                    <a:lnTo>
                      <a:pt x="17" y="339"/>
                    </a:lnTo>
                    <a:lnTo>
                      <a:pt x="23" y="336"/>
                    </a:lnTo>
                    <a:lnTo>
                      <a:pt x="29" y="333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67440" y="698400"/>
                <a:ext cx="149400" cy="147600"/>
              </a:xfrm>
              <a:custGeom>
                <a:avLst/>
                <a:gdLst/>
                <a:ahLst/>
                <a:rect l="l" t="t" r="r" b="b"/>
                <a:pathLst>
                  <a:path w="714" h="759">
                    <a:moveTo>
                      <a:pt x="699" y="379"/>
                    </a:moveTo>
                    <a:lnTo>
                      <a:pt x="706" y="375"/>
                    </a:lnTo>
                    <a:lnTo>
                      <a:pt x="710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09" y="351"/>
                    </a:lnTo>
                    <a:lnTo>
                      <a:pt x="705" y="346"/>
                    </a:lnTo>
                    <a:lnTo>
                      <a:pt x="699" y="342"/>
                    </a:lnTo>
                    <a:lnTo>
                      <a:pt x="35" y="4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3" y="11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735"/>
                    </a:lnTo>
                    <a:lnTo>
                      <a:pt x="1" y="743"/>
                    </a:lnTo>
                    <a:lnTo>
                      <a:pt x="3" y="748"/>
                    </a:lnTo>
                    <a:lnTo>
                      <a:pt x="5" y="753"/>
                    </a:lnTo>
                    <a:lnTo>
                      <a:pt x="10" y="757"/>
                    </a:lnTo>
                    <a:lnTo>
                      <a:pt x="15" y="759"/>
                    </a:lnTo>
                    <a:lnTo>
                      <a:pt x="21" y="759"/>
                    </a:lnTo>
                    <a:lnTo>
                      <a:pt x="27" y="758"/>
                    </a:lnTo>
                    <a:lnTo>
                      <a:pt x="34" y="755"/>
                    </a:lnTo>
                    <a:lnTo>
                      <a:pt x="699" y="379"/>
                    </a:lnTo>
                    <a:close/>
                  </a:path>
                </a:pathLst>
              </a:custGeom>
              <a:solidFill>
                <a:srgbClr val="00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11320" y="701640"/>
                <a:ext cx="149760" cy="146160"/>
              </a:xfrm>
              <a:custGeom>
                <a:avLst/>
                <a:gdLst/>
                <a:ahLst/>
                <a:rect l="l" t="t" r="r" b="b"/>
                <a:pathLst>
                  <a:path w="714" h="758">
                    <a:moveTo>
                      <a:pt x="701" y="379"/>
                    </a:moveTo>
                    <a:lnTo>
                      <a:pt x="706" y="374"/>
                    </a:lnTo>
                    <a:lnTo>
                      <a:pt x="711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11" y="350"/>
                    </a:lnTo>
                    <a:lnTo>
                      <a:pt x="706" y="346"/>
                    </a:lnTo>
                    <a:lnTo>
                      <a:pt x="700" y="342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0" y="734"/>
                    </a:lnTo>
                    <a:lnTo>
                      <a:pt x="1" y="742"/>
                    </a:lnTo>
                    <a:lnTo>
                      <a:pt x="3" y="749"/>
                    </a:lnTo>
                    <a:lnTo>
                      <a:pt x="7" y="753"/>
                    </a:lnTo>
                    <a:lnTo>
                      <a:pt x="10" y="756"/>
                    </a:lnTo>
                    <a:lnTo>
                      <a:pt x="15" y="758"/>
                    </a:lnTo>
                    <a:lnTo>
                      <a:pt x="21" y="758"/>
                    </a:lnTo>
                    <a:lnTo>
                      <a:pt x="27" y="757"/>
                    </a:lnTo>
                    <a:lnTo>
                      <a:pt x="34" y="754"/>
                    </a:lnTo>
                    <a:lnTo>
                      <a:pt x="701" y="379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011960" y="517680"/>
                <a:ext cx="195840" cy="250560"/>
              </a:xfrm>
              <a:custGeom>
                <a:avLst/>
                <a:gdLst/>
                <a:ahLst/>
                <a:rect l="l" t="t" r="r" b="b"/>
                <a:pathLst>
                  <a:path w="930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30" y="1293"/>
                    </a:lnTo>
                    <a:lnTo>
                      <a:pt x="713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230480" y="517680"/>
                <a:ext cx="34200" cy="25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316520" y="517680"/>
                <a:ext cx="168480" cy="250560"/>
              </a:xfrm>
              <a:custGeom>
                <a:avLst/>
                <a:gdLst/>
                <a:ahLst/>
                <a:rect l="l" t="t" r="r" b="b"/>
                <a:pathLst>
                  <a:path w="803" h="1293">
                    <a:moveTo>
                      <a:pt x="803" y="1293"/>
                    </a:moveTo>
                    <a:lnTo>
                      <a:pt x="607" y="1293"/>
                    </a:lnTo>
                    <a:lnTo>
                      <a:pt x="228" y="746"/>
                    </a:lnTo>
                    <a:lnTo>
                      <a:pt x="161" y="746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283" y="1"/>
                    </a:lnTo>
                    <a:lnTo>
                      <a:pt x="327" y="4"/>
                    </a:lnTo>
                    <a:lnTo>
                      <a:pt x="370" y="8"/>
                    </a:lnTo>
                    <a:lnTo>
                      <a:pt x="413" y="16"/>
                    </a:lnTo>
                    <a:lnTo>
                      <a:pt x="456" y="27"/>
                    </a:lnTo>
                    <a:lnTo>
                      <a:pt x="497" y="41"/>
                    </a:lnTo>
                    <a:lnTo>
                      <a:pt x="536" y="61"/>
                    </a:lnTo>
                    <a:lnTo>
                      <a:pt x="556" y="73"/>
                    </a:lnTo>
                    <a:lnTo>
                      <a:pt x="574" y="87"/>
                    </a:lnTo>
                    <a:lnTo>
                      <a:pt x="592" y="101"/>
                    </a:lnTo>
                    <a:lnTo>
                      <a:pt x="608" y="118"/>
                    </a:lnTo>
                    <a:lnTo>
                      <a:pt x="623" y="135"/>
                    </a:lnTo>
                    <a:lnTo>
                      <a:pt x="637" y="153"/>
                    </a:lnTo>
                    <a:lnTo>
                      <a:pt x="650" y="173"/>
                    </a:lnTo>
                    <a:lnTo>
                      <a:pt x="661" y="192"/>
                    </a:lnTo>
                    <a:lnTo>
                      <a:pt x="671" y="212"/>
                    </a:lnTo>
                    <a:lnTo>
                      <a:pt x="680" y="233"/>
                    </a:lnTo>
                    <a:lnTo>
                      <a:pt x="694" y="277"/>
                    </a:lnTo>
                    <a:lnTo>
                      <a:pt x="700" y="300"/>
                    </a:lnTo>
                    <a:lnTo>
                      <a:pt x="703" y="323"/>
                    </a:lnTo>
                    <a:lnTo>
                      <a:pt x="705" y="346"/>
                    </a:lnTo>
                    <a:lnTo>
                      <a:pt x="705" y="369"/>
                    </a:lnTo>
                    <a:lnTo>
                      <a:pt x="704" y="403"/>
                    </a:lnTo>
                    <a:lnTo>
                      <a:pt x="700" y="436"/>
                    </a:lnTo>
                    <a:lnTo>
                      <a:pt x="693" y="469"/>
                    </a:lnTo>
                    <a:lnTo>
                      <a:pt x="683" y="500"/>
                    </a:lnTo>
                    <a:lnTo>
                      <a:pt x="671" y="531"/>
                    </a:lnTo>
                    <a:lnTo>
                      <a:pt x="657" y="558"/>
                    </a:lnTo>
                    <a:lnTo>
                      <a:pt x="639" y="585"/>
                    </a:lnTo>
                    <a:lnTo>
                      <a:pt x="621" y="611"/>
                    </a:lnTo>
                    <a:lnTo>
                      <a:pt x="599" y="634"/>
                    </a:lnTo>
                    <a:lnTo>
                      <a:pt x="576" y="655"/>
                    </a:lnTo>
                    <a:lnTo>
                      <a:pt x="550" y="673"/>
                    </a:lnTo>
                    <a:lnTo>
                      <a:pt x="523" y="691"/>
                    </a:lnTo>
                    <a:lnTo>
                      <a:pt x="493" y="704"/>
                    </a:lnTo>
                    <a:lnTo>
                      <a:pt x="463" y="716"/>
                    </a:lnTo>
                    <a:lnTo>
                      <a:pt x="430" y="725"/>
                    </a:lnTo>
                    <a:lnTo>
                      <a:pt x="396" y="730"/>
                    </a:lnTo>
                    <a:lnTo>
                      <a:pt x="803" y="1293"/>
                    </a:lnTo>
                    <a:close/>
                    <a:moveTo>
                      <a:pt x="161" y="612"/>
                    </a:moveTo>
                    <a:lnTo>
                      <a:pt x="213" y="612"/>
                    </a:lnTo>
                    <a:lnTo>
                      <a:pt x="274" y="611"/>
                    </a:lnTo>
                    <a:lnTo>
                      <a:pt x="335" y="604"/>
                    </a:lnTo>
                    <a:lnTo>
                      <a:pt x="365" y="599"/>
                    </a:lnTo>
                    <a:lnTo>
                      <a:pt x="393" y="591"/>
                    </a:lnTo>
                    <a:lnTo>
                      <a:pt x="420" y="582"/>
                    </a:lnTo>
                    <a:lnTo>
                      <a:pt x="445" y="571"/>
                    </a:lnTo>
                    <a:lnTo>
                      <a:pt x="469" y="557"/>
                    </a:lnTo>
                    <a:lnTo>
                      <a:pt x="490" y="540"/>
                    </a:lnTo>
                    <a:lnTo>
                      <a:pt x="509" y="522"/>
                    </a:lnTo>
                    <a:lnTo>
                      <a:pt x="524" y="499"/>
                    </a:lnTo>
                    <a:lnTo>
                      <a:pt x="537" y="473"/>
                    </a:lnTo>
                    <a:lnTo>
                      <a:pt x="547" y="445"/>
                    </a:lnTo>
                    <a:lnTo>
                      <a:pt x="553" y="412"/>
                    </a:lnTo>
                    <a:lnTo>
                      <a:pt x="555" y="376"/>
                    </a:lnTo>
                    <a:lnTo>
                      <a:pt x="553" y="339"/>
                    </a:lnTo>
                    <a:lnTo>
                      <a:pt x="546" y="308"/>
                    </a:lnTo>
                    <a:lnTo>
                      <a:pt x="536" y="279"/>
                    </a:lnTo>
                    <a:lnTo>
                      <a:pt x="523" y="254"/>
                    </a:lnTo>
                    <a:lnTo>
                      <a:pt x="505" y="232"/>
                    </a:lnTo>
                    <a:lnTo>
                      <a:pt x="486" y="213"/>
                    </a:lnTo>
                    <a:lnTo>
                      <a:pt x="464" y="198"/>
                    </a:lnTo>
                    <a:lnTo>
                      <a:pt x="440" y="184"/>
                    </a:lnTo>
                    <a:lnTo>
                      <a:pt x="413" y="173"/>
                    </a:lnTo>
                    <a:lnTo>
                      <a:pt x="385" y="164"/>
                    </a:lnTo>
                    <a:lnTo>
                      <a:pt x="356" y="157"/>
                    </a:lnTo>
                    <a:lnTo>
                      <a:pt x="325" y="152"/>
                    </a:lnTo>
                    <a:lnTo>
                      <a:pt x="296" y="148"/>
                    </a:lnTo>
                    <a:lnTo>
                      <a:pt x="265" y="146"/>
                    </a:lnTo>
                    <a:lnTo>
                      <a:pt x="204" y="144"/>
                    </a:lnTo>
                    <a:lnTo>
                      <a:pt x="161" y="144"/>
                    </a:lnTo>
                    <a:lnTo>
                      <a:pt x="161" y="6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502280" y="517680"/>
                <a:ext cx="196200" cy="250560"/>
              </a:xfrm>
              <a:custGeom>
                <a:avLst/>
                <a:gdLst/>
                <a:ahLst/>
                <a:rect l="l" t="t" r="r" b="b"/>
                <a:pathLst>
                  <a:path w="929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29" y="1293"/>
                    </a:lnTo>
                    <a:lnTo>
                      <a:pt x="712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999720" y="847800"/>
                <a:ext cx="54720" cy="133200"/>
              </a:xfrm>
              <a:custGeom>
                <a:avLst/>
                <a:gdLst/>
                <a:ahLst/>
                <a:rect l="l" t="t" r="r" b="b"/>
                <a:pathLst>
                  <a:path w="264" h="687">
                    <a:moveTo>
                      <a:pt x="169" y="687"/>
                    </a:moveTo>
                    <a:lnTo>
                      <a:pt x="74" y="687"/>
                    </a:lnTo>
                    <a:lnTo>
                      <a:pt x="74" y="279"/>
                    </a:lnTo>
                    <a:lnTo>
                      <a:pt x="0" y="279"/>
                    </a:lnTo>
                    <a:lnTo>
                      <a:pt x="0" y="190"/>
                    </a:lnTo>
                    <a:lnTo>
                      <a:pt x="74" y="190"/>
                    </a:lnTo>
                    <a:lnTo>
                      <a:pt x="74" y="0"/>
                    </a:lnTo>
                    <a:lnTo>
                      <a:pt x="169" y="0"/>
                    </a:lnTo>
                    <a:lnTo>
                      <a:pt x="169" y="190"/>
                    </a:lnTo>
                    <a:lnTo>
                      <a:pt x="264" y="190"/>
                    </a:lnTo>
                    <a:lnTo>
                      <a:pt x="264" y="279"/>
                    </a:lnTo>
                    <a:lnTo>
                      <a:pt x="169" y="279"/>
                    </a:lnTo>
                    <a:lnTo>
                      <a:pt x="169" y="6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058400" y="882720"/>
                <a:ext cx="9936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5" y="280"/>
                    </a:moveTo>
                    <a:lnTo>
                      <a:pt x="98" y="311"/>
                    </a:lnTo>
                    <a:lnTo>
                      <a:pt x="106" y="341"/>
                    </a:lnTo>
                    <a:lnTo>
                      <a:pt x="119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8" y="415"/>
                    </a:lnTo>
                    <a:lnTo>
                      <a:pt x="170" y="423"/>
                    </a:lnTo>
                    <a:lnTo>
                      <a:pt x="184" y="431"/>
                    </a:lnTo>
                    <a:lnTo>
                      <a:pt x="197" y="437"/>
                    </a:lnTo>
                    <a:lnTo>
                      <a:pt x="213" y="441"/>
                    </a:lnTo>
                    <a:lnTo>
                      <a:pt x="229" y="443"/>
                    </a:lnTo>
                    <a:lnTo>
                      <a:pt x="245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5" y="430"/>
                    </a:lnTo>
                    <a:lnTo>
                      <a:pt x="333" y="418"/>
                    </a:lnTo>
                    <a:lnTo>
                      <a:pt x="351" y="405"/>
                    </a:lnTo>
                    <a:lnTo>
                      <a:pt x="366" y="388"/>
                    </a:lnTo>
                    <a:lnTo>
                      <a:pt x="380" y="368"/>
                    </a:lnTo>
                    <a:lnTo>
                      <a:pt x="394" y="348"/>
                    </a:lnTo>
                    <a:lnTo>
                      <a:pt x="475" y="394"/>
                    </a:lnTo>
                    <a:lnTo>
                      <a:pt x="455" y="424"/>
                    </a:lnTo>
                    <a:lnTo>
                      <a:pt x="433" y="451"/>
                    </a:lnTo>
                    <a:lnTo>
                      <a:pt x="407" y="474"/>
                    </a:lnTo>
                    <a:lnTo>
                      <a:pt x="378" y="494"/>
                    </a:lnTo>
                    <a:lnTo>
                      <a:pt x="347" y="509"/>
                    </a:lnTo>
                    <a:lnTo>
                      <a:pt x="315" y="520"/>
                    </a:lnTo>
                    <a:lnTo>
                      <a:pt x="279" y="528"/>
                    </a:lnTo>
                    <a:lnTo>
                      <a:pt x="244" y="530"/>
                    </a:lnTo>
                    <a:lnTo>
                      <a:pt x="217" y="528"/>
                    </a:lnTo>
                    <a:lnTo>
                      <a:pt x="191" y="524"/>
                    </a:lnTo>
                    <a:lnTo>
                      <a:pt x="165" y="518"/>
                    </a:lnTo>
                    <a:lnTo>
                      <a:pt x="142" y="509"/>
                    </a:lnTo>
                    <a:lnTo>
                      <a:pt x="120" y="498"/>
                    </a:lnTo>
                    <a:lnTo>
                      <a:pt x="101" y="485"/>
                    </a:lnTo>
                    <a:lnTo>
                      <a:pt x="82" y="471"/>
                    </a:lnTo>
                    <a:lnTo>
                      <a:pt x="66" y="454"/>
                    </a:lnTo>
                    <a:lnTo>
                      <a:pt x="50" y="435"/>
                    </a:lnTo>
                    <a:lnTo>
                      <a:pt x="37" y="416"/>
                    </a:lnTo>
                    <a:lnTo>
                      <a:pt x="26" y="394"/>
                    </a:lnTo>
                    <a:lnTo>
                      <a:pt x="16" y="371"/>
                    </a:lnTo>
                    <a:lnTo>
                      <a:pt x="10" y="346"/>
                    </a:lnTo>
                    <a:lnTo>
                      <a:pt x="4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4" y="213"/>
                    </a:lnTo>
                    <a:lnTo>
                      <a:pt x="9" y="186"/>
                    </a:lnTo>
                    <a:lnTo>
                      <a:pt x="15" y="161"/>
                    </a:lnTo>
                    <a:lnTo>
                      <a:pt x="24" y="138"/>
                    </a:lnTo>
                    <a:lnTo>
                      <a:pt x="34" y="116"/>
                    </a:lnTo>
                    <a:lnTo>
                      <a:pt x="47" y="95"/>
                    </a:lnTo>
                    <a:lnTo>
                      <a:pt x="61" y="76"/>
                    </a:lnTo>
                    <a:lnTo>
                      <a:pt x="77" y="60"/>
                    </a:lnTo>
                    <a:lnTo>
                      <a:pt x="95" y="45"/>
                    </a:lnTo>
                    <a:lnTo>
                      <a:pt x="115" y="31"/>
                    </a:lnTo>
                    <a:lnTo>
                      <a:pt x="137" y="20"/>
                    </a:lnTo>
                    <a:lnTo>
                      <a:pt x="160" y="12"/>
                    </a:lnTo>
                    <a:lnTo>
                      <a:pt x="185" y="5"/>
                    </a:lnTo>
                    <a:lnTo>
                      <a:pt x="213" y="2"/>
                    </a:lnTo>
                    <a:lnTo>
                      <a:pt x="242" y="0"/>
                    </a:lnTo>
                    <a:lnTo>
                      <a:pt x="271" y="2"/>
                    </a:lnTo>
                    <a:lnTo>
                      <a:pt x="297" y="5"/>
                    </a:lnTo>
                    <a:lnTo>
                      <a:pt x="322" y="12"/>
                    </a:lnTo>
                    <a:lnTo>
                      <a:pt x="345" y="20"/>
                    </a:lnTo>
                    <a:lnTo>
                      <a:pt x="366" y="31"/>
                    </a:lnTo>
                    <a:lnTo>
                      <a:pt x="385" y="45"/>
                    </a:lnTo>
                    <a:lnTo>
                      <a:pt x="402" y="60"/>
                    </a:lnTo>
                    <a:lnTo>
                      <a:pt x="418" y="76"/>
                    </a:lnTo>
                    <a:lnTo>
                      <a:pt x="431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0" y="161"/>
                    </a:lnTo>
                    <a:lnTo>
                      <a:pt x="467" y="185"/>
                    </a:lnTo>
                    <a:lnTo>
                      <a:pt x="471" y="210"/>
                    </a:lnTo>
                    <a:lnTo>
                      <a:pt x="474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5" y="280"/>
                    </a:lnTo>
                    <a:close/>
                    <a:moveTo>
                      <a:pt x="379" y="207"/>
                    </a:moveTo>
                    <a:lnTo>
                      <a:pt x="373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5" y="117"/>
                    </a:lnTo>
                    <a:lnTo>
                      <a:pt x="316" y="103"/>
                    </a:lnTo>
                    <a:lnTo>
                      <a:pt x="294" y="92"/>
                    </a:lnTo>
                    <a:lnTo>
                      <a:pt x="270" y="85"/>
                    </a:lnTo>
                    <a:lnTo>
                      <a:pt x="242" y="83"/>
                    </a:lnTo>
                    <a:lnTo>
                      <a:pt x="215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1" y="137"/>
                    </a:lnTo>
                    <a:lnTo>
                      <a:pt x="117" y="158"/>
                    </a:lnTo>
                    <a:lnTo>
                      <a:pt x="107" y="182"/>
                    </a:lnTo>
                    <a:lnTo>
                      <a:pt x="101" y="207"/>
                    </a:lnTo>
                    <a:lnTo>
                      <a:pt x="379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177200" y="846000"/>
                <a:ext cx="2052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211400" y="882720"/>
                <a:ext cx="9972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7" y="280"/>
                    </a:moveTo>
                    <a:lnTo>
                      <a:pt x="99" y="311"/>
                    </a:lnTo>
                    <a:lnTo>
                      <a:pt x="108" y="341"/>
                    </a:lnTo>
                    <a:lnTo>
                      <a:pt x="120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9" y="415"/>
                    </a:lnTo>
                    <a:lnTo>
                      <a:pt x="171" y="423"/>
                    </a:lnTo>
                    <a:lnTo>
                      <a:pt x="185" y="431"/>
                    </a:lnTo>
                    <a:lnTo>
                      <a:pt x="199" y="437"/>
                    </a:lnTo>
                    <a:lnTo>
                      <a:pt x="213" y="441"/>
                    </a:lnTo>
                    <a:lnTo>
                      <a:pt x="230" y="443"/>
                    </a:lnTo>
                    <a:lnTo>
                      <a:pt x="246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6" y="430"/>
                    </a:lnTo>
                    <a:lnTo>
                      <a:pt x="335" y="418"/>
                    </a:lnTo>
                    <a:lnTo>
                      <a:pt x="351" y="405"/>
                    </a:lnTo>
                    <a:lnTo>
                      <a:pt x="367" y="388"/>
                    </a:lnTo>
                    <a:lnTo>
                      <a:pt x="381" y="368"/>
                    </a:lnTo>
                    <a:lnTo>
                      <a:pt x="395" y="348"/>
                    </a:lnTo>
                    <a:lnTo>
                      <a:pt x="475" y="394"/>
                    </a:lnTo>
                    <a:lnTo>
                      <a:pt x="457" y="424"/>
                    </a:lnTo>
                    <a:lnTo>
                      <a:pt x="434" y="451"/>
                    </a:lnTo>
                    <a:lnTo>
                      <a:pt x="407" y="474"/>
                    </a:lnTo>
                    <a:lnTo>
                      <a:pt x="379" y="494"/>
                    </a:lnTo>
                    <a:lnTo>
                      <a:pt x="348" y="509"/>
                    </a:lnTo>
                    <a:lnTo>
                      <a:pt x="315" y="520"/>
                    </a:lnTo>
                    <a:lnTo>
                      <a:pt x="281" y="528"/>
                    </a:lnTo>
                    <a:lnTo>
                      <a:pt x="245" y="530"/>
                    </a:lnTo>
                    <a:lnTo>
                      <a:pt x="218" y="528"/>
                    </a:lnTo>
                    <a:lnTo>
                      <a:pt x="191" y="524"/>
                    </a:lnTo>
                    <a:lnTo>
                      <a:pt x="166" y="518"/>
                    </a:lnTo>
                    <a:lnTo>
                      <a:pt x="143" y="509"/>
                    </a:lnTo>
                    <a:lnTo>
                      <a:pt x="121" y="498"/>
                    </a:lnTo>
                    <a:lnTo>
                      <a:pt x="101" y="485"/>
                    </a:lnTo>
                    <a:lnTo>
                      <a:pt x="83" y="471"/>
                    </a:lnTo>
                    <a:lnTo>
                      <a:pt x="66" y="454"/>
                    </a:lnTo>
                    <a:lnTo>
                      <a:pt x="51" y="435"/>
                    </a:lnTo>
                    <a:lnTo>
                      <a:pt x="38" y="416"/>
                    </a:lnTo>
                    <a:lnTo>
                      <a:pt x="27" y="394"/>
                    </a:lnTo>
                    <a:lnTo>
                      <a:pt x="18" y="371"/>
                    </a:lnTo>
                    <a:lnTo>
                      <a:pt x="10" y="346"/>
                    </a:lnTo>
                    <a:lnTo>
                      <a:pt x="5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5" y="213"/>
                    </a:lnTo>
                    <a:lnTo>
                      <a:pt x="9" y="186"/>
                    </a:lnTo>
                    <a:lnTo>
                      <a:pt x="16" y="161"/>
                    </a:lnTo>
                    <a:lnTo>
                      <a:pt x="24" y="138"/>
                    </a:lnTo>
                    <a:lnTo>
                      <a:pt x="35" y="116"/>
                    </a:lnTo>
                    <a:lnTo>
                      <a:pt x="48" y="95"/>
                    </a:lnTo>
                    <a:lnTo>
                      <a:pt x="62" y="76"/>
                    </a:lnTo>
                    <a:lnTo>
                      <a:pt x="78" y="60"/>
                    </a:lnTo>
                    <a:lnTo>
                      <a:pt x="96" y="45"/>
                    </a:lnTo>
                    <a:lnTo>
                      <a:pt x="116" y="31"/>
                    </a:lnTo>
                    <a:lnTo>
                      <a:pt x="137" y="20"/>
                    </a:lnTo>
                    <a:lnTo>
                      <a:pt x="162" y="12"/>
                    </a:lnTo>
                    <a:lnTo>
                      <a:pt x="187" y="5"/>
                    </a:lnTo>
                    <a:lnTo>
                      <a:pt x="214" y="2"/>
                    </a:lnTo>
                    <a:lnTo>
                      <a:pt x="243" y="0"/>
                    </a:lnTo>
                    <a:lnTo>
                      <a:pt x="271" y="2"/>
                    </a:lnTo>
                    <a:lnTo>
                      <a:pt x="299" y="5"/>
                    </a:lnTo>
                    <a:lnTo>
                      <a:pt x="323" y="12"/>
                    </a:lnTo>
                    <a:lnTo>
                      <a:pt x="346" y="20"/>
                    </a:lnTo>
                    <a:lnTo>
                      <a:pt x="367" y="31"/>
                    </a:lnTo>
                    <a:lnTo>
                      <a:pt x="386" y="45"/>
                    </a:lnTo>
                    <a:lnTo>
                      <a:pt x="403" y="60"/>
                    </a:lnTo>
                    <a:lnTo>
                      <a:pt x="418" y="76"/>
                    </a:lnTo>
                    <a:lnTo>
                      <a:pt x="432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1" y="161"/>
                    </a:lnTo>
                    <a:lnTo>
                      <a:pt x="468" y="185"/>
                    </a:lnTo>
                    <a:lnTo>
                      <a:pt x="472" y="210"/>
                    </a:lnTo>
                    <a:lnTo>
                      <a:pt x="475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7" y="280"/>
                    </a:lnTo>
                    <a:close/>
                    <a:moveTo>
                      <a:pt x="380" y="207"/>
                    </a:moveTo>
                    <a:lnTo>
                      <a:pt x="374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6" y="117"/>
                    </a:lnTo>
                    <a:lnTo>
                      <a:pt x="317" y="103"/>
                    </a:lnTo>
                    <a:lnTo>
                      <a:pt x="295" y="92"/>
                    </a:lnTo>
                    <a:lnTo>
                      <a:pt x="270" y="85"/>
                    </a:lnTo>
                    <a:lnTo>
                      <a:pt x="243" y="83"/>
                    </a:lnTo>
                    <a:lnTo>
                      <a:pt x="216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2" y="137"/>
                    </a:lnTo>
                    <a:lnTo>
                      <a:pt x="119" y="158"/>
                    </a:lnTo>
                    <a:lnTo>
                      <a:pt x="108" y="182"/>
                    </a:lnTo>
                    <a:lnTo>
                      <a:pt x="101" y="207"/>
                    </a:lnTo>
                    <a:lnTo>
                      <a:pt x="380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326960" y="882720"/>
                <a:ext cx="84240" cy="101520"/>
              </a:xfrm>
              <a:custGeom>
                <a:avLst/>
                <a:gdLst/>
                <a:ahLst/>
                <a:rect l="l" t="t" r="r" b="b"/>
                <a:pathLst>
                  <a:path w="404" h="530">
                    <a:moveTo>
                      <a:pt x="404" y="157"/>
                    </a:moveTo>
                    <a:lnTo>
                      <a:pt x="389" y="141"/>
                    </a:lnTo>
                    <a:lnTo>
                      <a:pt x="373" y="127"/>
                    </a:lnTo>
                    <a:lnTo>
                      <a:pt x="358" y="116"/>
                    </a:lnTo>
                    <a:lnTo>
                      <a:pt x="340" y="106"/>
                    </a:lnTo>
                    <a:lnTo>
                      <a:pt x="321" y="99"/>
                    </a:lnTo>
                    <a:lnTo>
                      <a:pt x="303" y="94"/>
                    </a:lnTo>
                    <a:lnTo>
                      <a:pt x="283" y="91"/>
                    </a:lnTo>
                    <a:lnTo>
                      <a:pt x="261" y="90"/>
                    </a:lnTo>
                    <a:lnTo>
                      <a:pt x="245" y="91"/>
                    </a:lnTo>
                    <a:lnTo>
                      <a:pt x="227" y="93"/>
                    </a:lnTo>
                    <a:lnTo>
                      <a:pt x="212" y="97"/>
                    </a:lnTo>
                    <a:lnTo>
                      <a:pt x="196" y="104"/>
                    </a:lnTo>
                    <a:lnTo>
                      <a:pt x="182" y="112"/>
                    </a:lnTo>
                    <a:lnTo>
                      <a:pt x="168" y="120"/>
                    </a:lnTo>
                    <a:lnTo>
                      <a:pt x="156" y="130"/>
                    </a:lnTo>
                    <a:lnTo>
                      <a:pt x="144" y="142"/>
                    </a:lnTo>
                    <a:lnTo>
                      <a:pt x="133" y="154"/>
                    </a:lnTo>
                    <a:lnTo>
                      <a:pt x="124" y="169"/>
                    </a:lnTo>
                    <a:lnTo>
                      <a:pt x="115" y="183"/>
                    </a:lnTo>
                    <a:lnTo>
                      <a:pt x="109" y="198"/>
                    </a:lnTo>
                    <a:lnTo>
                      <a:pt x="103" y="214"/>
                    </a:lnTo>
                    <a:lnTo>
                      <a:pt x="99" y="230"/>
                    </a:lnTo>
                    <a:lnTo>
                      <a:pt x="97" y="247"/>
                    </a:lnTo>
                    <a:lnTo>
                      <a:pt x="96" y="264"/>
                    </a:lnTo>
                    <a:lnTo>
                      <a:pt x="97" y="283"/>
                    </a:lnTo>
                    <a:lnTo>
                      <a:pt x="99" y="300"/>
                    </a:lnTo>
                    <a:lnTo>
                      <a:pt x="103" y="318"/>
                    </a:lnTo>
                    <a:lnTo>
                      <a:pt x="109" y="334"/>
                    </a:lnTo>
                    <a:lnTo>
                      <a:pt x="115" y="350"/>
                    </a:lnTo>
                    <a:lnTo>
                      <a:pt x="124" y="364"/>
                    </a:lnTo>
                    <a:lnTo>
                      <a:pt x="133" y="378"/>
                    </a:lnTo>
                    <a:lnTo>
                      <a:pt x="144" y="390"/>
                    </a:lnTo>
                    <a:lnTo>
                      <a:pt x="156" y="401"/>
                    </a:lnTo>
                    <a:lnTo>
                      <a:pt x="169" y="411"/>
                    </a:lnTo>
                    <a:lnTo>
                      <a:pt x="183" y="420"/>
                    </a:lnTo>
                    <a:lnTo>
                      <a:pt x="199" y="427"/>
                    </a:lnTo>
                    <a:lnTo>
                      <a:pt x="215" y="432"/>
                    </a:lnTo>
                    <a:lnTo>
                      <a:pt x="232" y="437"/>
                    </a:lnTo>
                    <a:lnTo>
                      <a:pt x="249" y="439"/>
                    </a:lnTo>
                    <a:lnTo>
                      <a:pt x="268" y="440"/>
                    </a:lnTo>
                    <a:lnTo>
                      <a:pt x="289" y="439"/>
                    </a:lnTo>
                    <a:lnTo>
                      <a:pt x="307" y="435"/>
                    </a:lnTo>
                    <a:lnTo>
                      <a:pt x="326" y="430"/>
                    </a:lnTo>
                    <a:lnTo>
                      <a:pt x="343" y="422"/>
                    </a:lnTo>
                    <a:lnTo>
                      <a:pt x="360" y="412"/>
                    </a:lnTo>
                    <a:lnTo>
                      <a:pt x="375" y="401"/>
                    </a:lnTo>
                    <a:lnTo>
                      <a:pt x="389" y="388"/>
                    </a:lnTo>
                    <a:lnTo>
                      <a:pt x="404" y="374"/>
                    </a:lnTo>
                    <a:lnTo>
                      <a:pt x="404" y="497"/>
                    </a:lnTo>
                    <a:lnTo>
                      <a:pt x="371" y="511"/>
                    </a:lnTo>
                    <a:lnTo>
                      <a:pt x="338" y="522"/>
                    </a:lnTo>
                    <a:lnTo>
                      <a:pt x="303" y="528"/>
                    </a:lnTo>
                    <a:lnTo>
                      <a:pt x="267" y="530"/>
                    </a:lnTo>
                    <a:lnTo>
                      <a:pt x="239" y="528"/>
                    </a:lnTo>
                    <a:lnTo>
                      <a:pt x="213" y="524"/>
                    </a:lnTo>
                    <a:lnTo>
                      <a:pt x="188" y="518"/>
                    </a:lnTo>
                    <a:lnTo>
                      <a:pt x="164" y="509"/>
                    </a:lnTo>
                    <a:lnTo>
                      <a:pt x="140" y="499"/>
                    </a:lnTo>
                    <a:lnTo>
                      <a:pt x="119" y="486"/>
                    </a:lnTo>
                    <a:lnTo>
                      <a:pt x="98" y="472"/>
                    </a:lnTo>
                    <a:lnTo>
                      <a:pt x="79" y="454"/>
                    </a:lnTo>
                    <a:lnTo>
                      <a:pt x="62" y="437"/>
                    </a:lnTo>
                    <a:lnTo>
                      <a:pt x="46" y="416"/>
                    </a:lnTo>
                    <a:lnTo>
                      <a:pt x="33" y="395"/>
                    </a:lnTo>
                    <a:lnTo>
                      <a:pt x="21" y="372"/>
                    </a:lnTo>
                    <a:lnTo>
                      <a:pt x="12" y="348"/>
                    </a:lnTo>
                    <a:lnTo>
                      <a:pt x="6" y="322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6" y="213"/>
                    </a:lnTo>
                    <a:lnTo>
                      <a:pt x="12" y="186"/>
                    </a:lnTo>
                    <a:lnTo>
                      <a:pt x="21" y="161"/>
                    </a:lnTo>
                    <a:lnTo>
                      <a:pt x="33" y="138"/>
                    </a:lnTo>
                    <a:lnTo>
                      <a:pt x="46" y="115"/>
                    </a:lnTo>
                    <a:lnTo>
                      <a:pt x="62" y="95"/>
                    </a:lnTo>
                    <a:lnTo>
                      <a:pt x="79" y="76"/>
                    </a:lnTo>
                    <a:lnTo>
                      <a:pt x="98" y="59"/>
                    </a:lnTo>
                    <a:lnTo>
                      <a:pt x="119" y="45"/>
                    </a:lnTo>
                    <a:lnTo>
                      <a:pt x="142" y="31"/>
                    </a:lnTo>
                    <a:lnTo>
                      <a:pt x="165" y="20"/>
                    </a:lnTo>
                    <a:lnTo>
                      <a:pt x="190" y="12"/>
                    </a:lnTo>
                    <a:lnTo>
                      <a:pt x="216" y="5"/>
                    </a:lnTo>
                    <a:lnTo>
                      <a:pt x="244" y="2"/>
                    </a:lnTo>
                    <a:lnTo>
                      <a:pt x="272" y="0"/>
                    </a:lnTo>
                    <a:lnTo>
                      <a:pt x="306" y="2"/>
                    </a:lnTo>
                    <a:lnTo>
                      <a:pt x="340" y="8"/>
                    </a:lnTo>
                    <a:lnTo>
                      <a:pt x="373" y="18"/>
                    </a:lnTo>
                    <a:lnTo>
                      <a:pt x="404" y="32"/>
                    </a:lnTo>
                    <a:lnTo>
                      <a:pt x="404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423440" y="882720"/>
                <a:ext cx="111600" cy="101520"/>
              </a:xfrm>
              <a:custGeom>
                <a:avLst/>
                <a:gdLst/>
                <a:ahLst/>
                <a:rect l="l" t="t" r="r" b="b"/>
                <a:pathLst>
                  <a:path w="532" h="530">
                    <a:moveTo>
                      <a:pt x="532" y="264"/>
                    </a:moveTo>
                    <a:lnTo>
                      <a:pt x="530" y="293"/>
                    </a:lnTo>
                    <a:lnTo>
                      <a:pt x="527" y="319"/>
                    </a:lnTo>
                    <a:lnTo>
                      <a:pt x="520" y="344"/>
                    </a:lnTo>
                    <a:lnTo>
                      <a:pt x="511" y="370"/>
                    </a:lnTo>
                    <a:lnTo>
                      <a:pt x="501" y="393"/>
                    </a:lnTo>
                    <a:lnTo>
                      <a:pt x="487" y="415"/>
                    </a:lnTo>
                    <a:lnTo>
                      <a:pt x="472" y="434"/>
                    </a:lnTo>
                    <a:lnTo>
                      <a:pt x="454" y="453"/>
                    </a:lnTo>
                    <a:lnTo>
                      <a:pt x="436" y="471"/>
                    </a:lnTo>
                    <a:lnTo>
                      <a:pt x="416" y="485"/>
                    </a:lnTo>
                    <a:lnTo>
                      <a:pt x="394" y="498"/>
                    </a:lnTo>
                    <a:lnTo>
                      <a:pt x="370" y="509"/>
                    </a:lnTo>
                    <a:lnTo>
                      <a:pt x="346" y="518"/>
                    </a:lnTo>
                    <a:lnTo>
                      <a:pt x="321" y="524"/>
                    </a:lnTo>
                    <a:lnTo>
                      <a:pt x="293" y="528"/>
                    </a:lnTo>
                    <a:lnTo>
                      <a:pt x="266" y="530"/>
                    </a:lnTo>
                    <a:lnTo>
                      <a:pt x="238" y="528"/>
                    </a:lnTo>
                    <a:lnTo>
                      <a:pt x="212" y="524"/>
                    </a:lnTo>
                    <a:lnTo>
                      <a:pt x="187" y="518"/>
                    </a:lnTo>
                    <a:lnTo>
                      <a:pt x="162" y="509"/>
                    </a:lnTo>
                    <a:lnTo>
                      <a:pt x="139" y="498"/>
                    </a:lnTo>
                    <a:lnTo>
                      <a:pt x="117" y="485"/>
                    </a:lnTo>
                    <a:lnTo>
                      <a:pt x="97" y="471"/>
                    </a:lnTo>
                    <a:lnTo>
                      <a:pt x="78" y="453"/>
                    </a:lnTo>
                    <a:lnTo>
                      <a:pt x="61" y="434"/>
                    </a:lnTo>
                    <a:lnTo>
                      <a:pt x="45" y="415"/>
                    </a:lnTo>
                    <a:lnTo>
                      <a:pt x="32" y="393"/>
                    </a:lnTo>
                    <a:lnTo>
                      <a:pt x="21" y="370"/>
                    </a:lnTo>
                    <a:lnTo>
                      <a:pt x="12" y="344"/>
                    </a:lnTo>
                    <a:lnTo>
                      <a:pt x="6" y="319"/>
                    </a:lnTo>
                    <a:lnTo>
                      <a:pt x="3" y="293"/>
                    </a:lnTo>
                    <a:lnTo>
                      <a:pt x="0" y="264"/>
                    </a:lnTo>
                    <a:lnTo>
                      <a:pt x="3" y="237"/>
                    </a:lnTo>
                    <a:lnTo>
                      <a:pt x="6" y="210"/>
                    </a:lnTo>
                    <a:lnTo>
                      <a:pt x="12" y="185"/>
                    </a:lnTo>
                    <a:lnTo>
                      <a:pt x="21" y="160"/>
                    </a:lnTo>
                    <a:lnTo>
                      <a:pt x="32" y="137"/>
                    </a:lnTo>
                    <a:lnTo>
                      <a:pt x="45" y="115"/>
                    </a:lnTo>
                    <a:lnTo>
                      <a:pt x="61" y="95"/>
                    </a:lnTo>
                    <a:lnTo>
                      <a:pt x="78" y="76"/>
                    </a:lnTo>
                    <a:lnTo>
                      <a:pt x="97" y="59"/>
                    </a:lnTo>
                    <a:lnTo>
                      <a:pt x="117" y="45"/>
                    </a:lnTo>
                    <a:lnTo>
                      <a:pt x="139" y="31"/>
                    </a:lnTo>
                    <a:lnTo>
                      <a:pt x="162" y="20"/>
                    </a:lnTo>
                    <a:lnTo>
                      <a:pt x="187" y="12"/>
                    </a:lnTo>
                    <a:lnTo>
                      <a:pt x="212" y="5"/>
                    </a:lnTo>
                    <a:lnTo>
                      <a:pt x="238" y="2"/>
                    </a:lnTo>
                    <a:lnTo>
                      <a:pt x="266" y="0"/>
                    </a:lnTo>
                    <a:lnTo>
                      <a:pt x="293" y="2"/>
                    </a:lnTo>
                    <a:lnTo>
                      <a:pt x="321" y="5"/>
                    </a:lnTo>
                    <a:lnTo>
                      <a:pt x="346" y="12"/>
                    </a:lnTo>
                    <a:lnTo>
                      <a:pt x="370" y="20"/>
                    </a:lnTo>
                    <a:lnTo>
                      <a:pt x="394" y="31"/>
                    </a:lnTo>
                    <a:lnTo>
                      <a:pt x="416" y="45"/>
                    </a:lnTo>
                    <a:lnTo>
                      <a:pt x="436" y="59"/>
                    </a:lnTo>
                    <a:lnTo>
                      <a:pt x="454" y="76"/>
                    </a:lnTo>
                    <a:lnTo>
                      <a:pt x="472" y="95"/>
                    </a:lnTo>
                    <a:lnTo>
                      <a:pt x="487" y="115"/>
                    </a:lnTo>
                    <a:lnTo>
                      <a:pt x="501" y="137"/>
                    </a:lnTo>
                    <a:lnTo>
                      <a:pt x="511" y="160"/>
                    </a:lnTo>
                    <a:lnTo>
                      <a:pt x="520" y="185"/>
                    </a:lnTo>
                    <a:lnTo>
                      <a:pt x="527" y="210"/>
                    </a:lnTo>
                    <a:lnTo>
                      <a:pt x="530" y="237"/>
                    </a:lnTo>
                    <a:lnTo>
                      <a:pt x="532" y="264"/>
                    </a:lnTo>
                    <a:close/>
                    <a:moveTo>
                      <a:pt x="96" y="264"/>
                    </a:moveTo>
                    <a:lnTo>
                      <a:pt x="97" y="282"/>
                    </a:lnTo>
                    <a:lnTo>
                      <a:pt x="100" y="299"/>
                    </a:lnTo>
                    <a:lnTo>
                      <a:pt x="103" y="316"/>
                    </a:lnTo>
                    <a:lnTo>
                      <a:pt x="110" y="331"/>
                    </a:lnTo>
                    <a:lnTo>
                      <a:pt x="117" y="346"/>
                    </a:lnTo>
                    <a:lnTo>
                      <a:pt x="125" y="361"/>
                    </a:lnTo>
                    <a:lnTo>
                      <a:pt x="135" y="374"/>
                    </a:lnTo>
                    <a:lnTo>
                      <a:pt x="146" y="386"/>
                    </a:lnTo>
                    <a:lnTo>
                      <a:pt x="158" y="398"/>
                    </a:lnTo>
                    <a:lnTo>
                      <a:pt x="171" y="408"/>
                    </a:lnTo>
                    <a:lnTo>
                      <a:pt x="185" y="417"/>
                    </a:lnTo>
                    <a:lnTo>
                      <a:pt x="200" y="424"/>
                    </a:lnTo>
                    <a:lnTo>
                      <a:pt x="215" y="430"/>
                    </a:lnTo>
                    <a:lnTo>
                      <a:pt x="232" y="434"/>
                    </a:lnTo>
                    <a:lnTo>
                      <a:pt x="248" y="437"/>
                    </a:lnTo>
                    <a:lnTo>
                      <a:pt x="266" y="438"/>
                    </a:lnTo>
                    <a:lnTo>
                      <a:pt x="283" y="437"/>
                    </a:lnTo>
                    <a:lnTo>
                      <a:pt x="301" y="434"/>
                    </a:lnTo>
                    <a:lnTo>
                      <a:pt x="317" y="430"/>
                    </a:lnTo>
                    <a:lnTo>
                      <a:pt x="333" y="424"/>
                    </a:lnTo>
                    <a:lnTo>
                      <a:pt x="348" y="417"/>
                    </a:lnTo>
                    <a:lnTo>
                      <a:pt x="361" y="408"/>
                    </a:lnTo>
                    <a:lnTo>
                      <a:pt x="374" y="398"/>
                    </a:lnTo>
                    <a:lnTo>
                      <a:pt x="386" y="386"/>
                    </a:lnTo>
                    <a:lnTo>
                      <a:pt x="397" y="374"/>
                    </a:lnTo>
                    <a:lnTo>
                      <a:pt x="407" y="361"/>
                    </a:lnTo>
                    <a:lnTo>
                      <a:pt x="416" y="346"/>
                    </a:lnTo>
                    <a:lnTo>
                      <a:pt x="423" y="331"/>
                    </a:lnTo>
                    <a:lnTo>
                      <a:pt x="428" y="316"/>
                    </a:lnTo>
                    <a:lnTo>
                      <a:pt x="433" y="299"/>
                    </a:lnTo>
                    <a:lnTo>
                      <a:pt x="436" y="282"/>
                    </a:lnTo>
                    <a:lnTo>
                      <a:pt x="436" y="264"/>
                    </a:lnTo>
                    <a:lnTo>
                      <a:pt x="436" y="248"/>
                    </a:lnTo>
                    <a:lnTo>
                      <a:pt x="433" y="230"/>
                    </a:lnTo>
                    <a:lnTo>
                      <a:pt x="428" y="214"/>
                    </a:lnTo>
                    <a:lnTo>
                      <a:pt x="423" y="197"/>
                    </a:lnTo>
                    <a:lnTo>
                      <a:pt x="416" y="183"/>
                    </a:lnTo>
                    <a:lnTo>
                      <a:pt x="407" y="169"/>
                    </a:lnTo>
                    <a:lnTo>
                      <a:pt x="397" y="154"/>
                    </a:lnTo>
                    <a:lnTo>
                      <a:pt x="386" y="142"/>
                    </a:lnTo>
                    <a:lnTo>
                      <a:pt x="374" y="131"/>
                    </a:lnTo>
                    <a:lnTo>
                      <a:pt x="361" y="121"/>
                    </a:lnTo>
                    <a:lnTo>
                      <a:pt x="348" y="113"/>
                    </a:lnTo>
                    <a:lnTo>
                      <a:pt x="333" y="105"/>
                    </a:lnTo>
                    <a:lnTo>
                      <a:pt x="317" y="99"/>
                    </a:lnTo>
                    <a:lnTo>
                      <a:pt x="301" y="95"/>
                    </a:lnTo>
                    <a:lnTo>
                      <a:pt x="283" y="92"/>
                    </a:lnTo>
                    <a:lnTo>
                      <a:pt x="266" y="92"/>
                    </a:lnTo>
                    <a:lnTo>
                      <a:pt x="248" y="92"/>
                    </a:lnTo>
                    <a:lnTo>
                      <a:pt x="232" y="95"/>
                    </a:lnTo>
                    <a:lnTo>
                      <a:pt x="215" y="99"/>
                    </a:lnTo>
                    <a:lnTo>
                      <a:pt x="200" y="105"/>
                    </a:lnTo>
                    <a:lnTo>
                      <a:pt x="185" y="113"/>
                    </a:lnTo>
                    <a:lnTo>
                      <a:pt x="171" y="121"/>
                    </a:lnTo>
                    <a:lnTo>
                      <a:pt x="158" y="131"/>
                    </a:lnTo>
                    <a:lnTo>
                      <a:pt x="146" y="142"/>
                    </a:lnTo>
                    <a:lnTo>
                      <a:pt x="135" y="154"/>
                    </a:lnTo>
                    <a:lnTo>
                      <a:pt x="125" y="169"/>
                    </a:lnTo>
                    <a:lnTo>
                      <a:pt x="117" y="183"/>
                    </a:lnTo>
                    <a:lnTo>
                      <a:pt x="110" y="197"/>
                    </a:lnTo>
                    <a:lnTo>
                      <a:pt x="103" y="214"/>
                    </a:lnTo>
                    <a:lnTo>
                      <a:pt x="100" y="230"/>
                    </a:lnTo>
                    <a:lnTo>
                      <a:pt x="97" y="248"/>
                    </a:lnTo>
                    <a:lnTo>
                      <a:pt x="96" y="2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549440" y="882720"/>
                <a:ext cx="144360" cy="98280"/>
              </a:xfrm>
              <a:custGeom>
                <a:avLst/>
                <a:gdLst/>
                <a:ahLst/>
                <a:rect l="l" t="t" r="r" b="b"/>
                <a:pathLst>
                  <a:path w="690" h="512">
                    <a:moveTo>
                      <a:pt x="96" y="77"/>
                    </a:moveTo>
                    <a:lnTo>
                      <a:pt x="98" y="77"/>
                    </a:lnTo>
                    <a:lnTo>
                      <a:pt x="109" y="62"/>
                    </a:lnTo>
                    <a:lnTo>
                      <a:pt x="122" y="47"/>
                    </a:lnTo>
                    <a:lnTo>
                      <a:pt x="137" y="34"/>
                    </a:lnTo>
                    <a:lnTo>
                      <a:pt x="154" y="23"/>
                    </a:lnTo>
                    <a:lnTo>
                      <a:pt x="171" y="13"/>
                    </a:lnTo>
                    <a:lnTo>
                      <a:pt x="190" y="6"/>
                    </a:lnTo>
                    <a:lnTo>
                      <a:pt x="210" y="2"/>
                    </a:lnTo>
                    <a:lnTo>
                      <a:pt x="229" y="0"/>
                    </a:lnTo>
                    <a:lnTo>
                      <a:pt x="253" y="2"/>
                    </a:lnTo>
                    <a:lnTo>
                      <a:pt x="274" y="6"/>
                    </a:lnTo>
                    <a:lnTo>
                      <a:pt x="295" y="13"/>
                    </a:lnTo>
                    <a:lnTo>
                      <a:pt x="314" y="24"/>
                    </a:lnTo>
                    <a:lnTo>
                      <a:pt x="330" y="36"/>
                    </a:lnTo>
                    <a:lnTo>
                      <a:pt x="346" y="51"/>
                    </a:lnTo>
                    <a:lnTo>
                      <a:pt x="360" y="69"/>
                    </a:lnTo>
                    <a:lnTo>
                      <a:pt x="373" y="88"/>
                    </a:lnTo>
                    <a:lnTo>
                      <a:pt x="385" y="69"/>
                    </a:lnTo>
                    <a:lnTo>
                      <a:pt x="401" y="52"/>
                    </a:lnTo>
                    <a:lnTo>
                      <a:pt x="418" y="37"/>
                    </a:lnTo>
                    <a:lnTo>
                      <a:pt x="438" y="24"/>
                    </a:lnTo>
                    <a:lnTo>
                      <a:pt x="458" y="14"/>
                    </a:lnTo>
                    <a:lnTo>
                      <a:pt x="480" y="6"/>
                    </a:lnTo>
                    <a:lnTo>
                      <a:pt x="503" y="2"/>
                    </a:lnTo>
                    <a:lnTo>
                      <a:pt x="526" y="0"/>
                    </a:lnTo>
                    <a:lnTo>
                      <a:pt x="550" y="1"/>
                    </a:lnTo>
                    <a:lnTo>
                      <a:pt x="571" y="5"/>
                    </a:lnTo>
                    <a:lnTo>
                      <a:pt x="589" y="11"/>
                    </a:lnTo>
                    <a:lnTo>
                      <a:pt x="607" y="17"/>
                    </a:lnTo>
                    <a:lnTo>
                      <a:pt x="622" y="27"/>
                    </a:lnTo>
                    <a:lnTo>
                      <a:pt x="635" y="38"/>
                    </a:lnTo>
                    <a:lnTo>
                      <a:pt x="647" y="51"/>
                    </a:lnTo>
                    <a:lnTo>
                      <a:pt x="657" y="65"/>
                    </a:lnTo>
                    <a:lnTo>
                      <a:pt x="666" y="81"/>
                    </a:lnTo>
                    <a:lnTo>
                      <a:pt x="673" y="97"/>
                    </a:lnTo>
                    <a:lnTo>
                      <a:pt x="678" y="115"/>
                    </a:lnTo>
                    <a:lnTo>
                      <a:pt x="684" y="133"/>
                    </a:lnTo>
                    <a:lnTo>
                      <a:pt x="689" y="173"/>
                    </a:lnTo>
                    <a:lnTo>
                      <a:pt x="690" y="215"/>
                    </a:lnTo>
                    <a:lnTo>
                      <a:pt x="690" y="512"/>
                    </a:lnTo>
                    <a:lnTo>
                      <a:pt x="595" y="512"/>
                    </a:lnTo>
                    <a:lnTo>
                      <a:pt x="595" y="230"/>
                    </a:lnTo>
                    <a:lnTo>
                      <a:pt x="595" y="206"/>
                    </a:lnTo>
                    <a:lnTo>
                      <a:pt x="593" y="181"/>
                    </a:lnTo>
                    <a:lnTo>
                      <a:pt x="588" y="157"/>
                    </a:lnTo>
                    <a:lnTo>
                      <a:pt x="580" y="133"/>
                    </a:lnTo>
                    <a:lnTo>
                      <a:pt x="568" y="114"/>
                    </a:lnTo>
                    <a:lnTo>
                      <a:pt x="561" y="106"/>
                    </a:lnTo>
                    <a:lnTo>
                      <a:pt x="552" y="98"/>
                    </a:lnTo>
                    <a:lnTo>
                      <a:pt x="542" y="93"/>
                    </a:lnTo>
                    <a:lnTo>
                      <a:pt x="531" y="88"/>
                    </a:lnTo>
                    <a:lnTo>
                      <a:pt x="517" y="86"/>
                    </a:lnTo>
                    <a:lnTo>
                      <a:pt x="503" y="85"/>
                    </a:lnTo>
                    <a:lnTo>
                      <a:pt x="484" y="86"/>
                    </a:lnTo>
                    <a:lnTo>
                      <a:pt x="469" y="90"/>
                    </a:lnTo>
                    <a:lnTo>
                      <a:pt x="454" y="95"/>
                    </a:lnTo>
                    <a:lnTo>
                      <a:pt x="442" y="103"/>
                    </a:lnTo>
                    <a:lnTo>
                      <a:pt x="432" y="112"/>
                    </a:lnTo>
                    <a:lnTo>
                      <a:pt x="423" y="123"/>
                    </a:lnTo>
                    <a:lnTo>
                      <a:pt x="416" y="135"/>
                    </a:lnTo>
                    <a:lnTo>
                      <a:pt x="409" y="148"/>
                    </a:lnTo>
                    <a:lnTo>
                      <a:pt x="401" y="176"/>
                    </a:lnTo>
                    <a:lnTo>
                      <a:pt x="396" y="207"/>
                    </a:lnTo>
                    <a:lnTo>
                      <a:pt x="394" y="238"/>
                    </a:lnTo>
                    <a:lnTo>
                      <a:pt x="393" y="267"/>
                    </a:lnTo>
                    <a:lnTo>
                      <a:pt x="393" y="512"/>
                    </a:lnTo>
                    <a:lnTo>
                      <a:pt x="297" y="512"/>
                    </a:lnTo>
                    <a:lnTo>
                      <a:pt x="297" y="249"/>
                    </a:lnTo>
                    <a:lnTo>
                      <a:pt x="297" y="224"/>
                    </a:lnTo>
                    <a:lnTo>
                      <a:pt x="295" y="196"/>
                    </a:lnTo>
                    <a:lnTo>
                      <a:pt x="292" y="169"/>
                    </a:lnTo>
                    <a:lnTo>
                      <a:pt x="285" y="142"/>
                    </a:lnTo>
                    <a:lnTo>
                      <a:pt x="280" y="130"/>
                    </a:lnTo>
                    <a:lnTo>
                      <a:pt x="273" y="119"/>
                    </a:lnTo>
                    <a:lnTo>
                      <a:pt x="267" y="110"/>
                    </a:lnTo>
                    <a:lnTo>
                      <a:pt x="258" y="102"/>
                    </a:lnTo>
                    <a:lnTo>
                      <a:pt x="247" y="95"/>
                    </a:lnTo>
                    <a:lnTo>
                      <a:pt x="235" y="90"/>
                    </a:lnTo>
                    <a:lnTo>
                      <a:pt x="222" y="86"/>
                    </a:lnTo>
                    <a:lnTo>
                      <a:pt x="206" y="85"/>
                    </a:lnTo>
                    <a:lnTo>
                      <a:pt x="188" y="86"/>
                    </a:lnTo>
                    <a:lnTo>
                      <a:pt x="172" y="90"/>
                    </a:lnTo>
                    <a:lnTo>
                      <a:pt x="158" y="95"/>
                    </a:lnTo>
                    <a:lnTo>
                      <a:pt x="146" y="103"/>
                    </a:lnTo>
                    <a:lnTo>
                      <a:pt x="135" y="112"/>
                    </a:lnTo>
                    <a:lnTo>
                      <a:pt x="126" y="123"/>
                    </a:lnTo>
                    <a:lnTo>
                      <a:pt x="119" y="135"/>
                    </a:lnTo>
                    <a:lnTo>
                      <a:pt x="113" y="148"/>
                    </a:lnTo>
                    <a:lnTo>
                      <a:pt x="103" y="176"/>
                    </a:lnTo>
                    <a:lnTo>
                      <a:pt x="99" y="207"/>
                    </a:lnTo>
                    <a:lnTo>
                      <a:pt x="97" y="238"/>
                    </a:lnTo>
                    <a:lnTo>
                      <a:pt x="96" y="267"/>
                    </a:lnTo>
                    <a:lnTo>
                      <a:pt x="96" y="512"/>
                    </a:lnTo>
                    <a:lnTo>
                      <a:pt x="0" y="512"/>
                    </a:lnTo>
                    <a:lnTo>
                      <a:pt x="0" y="15"/>
                    </a:lnTo>
                    <a:lnTo>
                      <a:pt x="96" y="15"/>
                    </a:lnTo>
                    <a:lnTo>
                      <a:pt x="96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908640" y="1022400"/>
                <a:ext cx="9082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a-DK" sz="600" spc="-1" strike="noStrike">
                    <a:solidFill>
                      <a:srgbClr val="ffffff"/>
                    </a:solidFill>
                    <a:latin typeface="Futura Bk BT"/>
                  </a:rPr>
                  <a:t>www.kirktelecom.dk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2724120" y="768240"/>
            <a:ext cx="6334200" cy="445788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3074400" y="5683320"/>
            <a:ext cx="62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Options-Preferenc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- установки дополнительных параметр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стемы и статистика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228760" y="0"/>
            <a:ext cx="76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CCFP Administration Program Ver.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3885840" y="1203480"/>
            <a:ext cx="2243160" cy="447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5514-84A0-4424-98C9-39609F6A7E52}" type="slidenum">
              <a:t>17</a:t>
            </a:fld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2889360" y="457200"/>
            <a:ext cx="6521400" cy="0"/>
          </a:xfrm>
          <a:prstGeom prst="line">
            <a:avLst/>
          </a:prstGeom>
          <a:ln cap="sq"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0" y="0"/>
            <a:ext cx="6129000" cy="6858000"/>
            <a:chOff x="0" y="0"/>
            <a:chExt cx="6129000" cy="6858000"/>
          </a:xfrm>
        </p:grpSpPr>
        <p:sp>
          <p:nvSpPr>
            <p:cNvPr id="617" name=""/>
            <p:cNvSpPr/>
            <p:nvPr/>
          </p:nvSpPr>
          <p:spPr>
            <a:xfrm>
              <a:off x="0" y="0"/>
              <a:ext cx="2228760" cy="3429000"/>
            </a:xfrm>
            <a:prstGeom prst="rect">
              <a:avLst/>
            </a:prstGeom>
            <a:solidFill>
              <a:srgbClr val="000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0" y="3429000"/>
              <a:ext cx="2228760" cy="3429000"/>
            </a:xfrm>
            <a:prstGeom prst="rect">
              <a:avLst/>
            </a:pr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91836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9924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1" name="" descr=""/>
            <p:cNvPicPr/>
            <p:nvPr/>
          </p:nvPicPr>
          <p:blipFill>
            <a:blip r:embed="rId1"/>
            <a:stretch/>
          </p:blipFill>
          <p:spPr>
            <a:xfrm>
              <a:off x="201240" y="2055960"/>
              <a:ext cx="1705680" cy="271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2" name=""/>
            <p:cNvGrpSpPr/>
            <p:nvPr/>
          </p:nvGrpSpPr>
          <p:grpSpPr>
            <a:xfrm>
              <a:off x="211320" y="380880"/>
              <a:ext cx="1605600" cy="821880"/>
              <a:chOff x="211320" y="380880"/>
              <a:chExt cx="1605600" cy="821880"/>
            </a:xfrm>
          </p:grpSpPr>
          <p:sp>
            <p:nvSpPr>
              <p:cNvPr id="623" name=""/>
              <p:cNvSpPr/>
              <p:nvPr/>
            </p:nvSpPr>
            <p:spPr>
              <a:xfrm>
                <a:off x="403920" y="38088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7">
                    <a:moveTo>
                      <a:pt x="29" y="1655"/>
                    </a:moveTo>
                    <a:lnTo>
                      <a:pt x="79" y="1682"/>
                    </a:lnTo>
                    <a:lnTo>
                      <a:pt x="623" y="1957"/>
                    </a:lnTo>
                    <a:lnTo>
                      <a:pt x="684" y="1987"/>
                    </a:lnTo>
                    <a:lnTo>
                      <a:pt x="687" y="1916"/>
                    </a:lnTo>
                    <a:lnTo>
                      <a:pt x="691" y="1864"/>
                    </a:lnTo>
                    <a:lnTo>
                      <a:pt x="697" y="1814"/>
                    </a:lnTo>
                    <a:lnTo>
                      <a:pt x="704" y="1763"/>
                    </a:lnTo>
                    <a:lnTo>
                      <a:pt x="713" y="1714"/>
                    </a:lnTo>
                    <a:lnTo>
                      <a:pt x="724" y="1665"/>
                    </a:lnTo>
                    <a:lnTo>
                      <a:pt x="737" y="1616"/>
                    </a:lnTo>
                    <a:lnTo>
                      <a:pt x="751" y="1569"/>
                    </a:lnTo>
                    <a:lnTo>
                      <a:pt x="767" y="1522"/>
                    </a:lnTo>
                    <a:lnTo>
                      <a:pt x="784" y="1476"/>
                    </a:lnTo>
                    <a:lnTo>
                      <a:pt x="803" y="1431"/>
                    </a:lnTo>
                    <a:lnTo>
                      <a:pt x="824" y="1386"/>
                    </a:lnTo>
                    <a:lnTo>
                      <a:pt x="846" y="1343"/>
                    </a:lnTo>
                    <a:lnTo>
                      <a:pt x="869" y="1300"/>
                    </a:lnTo>
                    <a:lnTo>
                      <a:pt x="894" y="1257"/>
                    </a:lnTo>
                    <a:lnTo>
                      <a:pt x="920" y="1217"/>
                    </a:lnTo>
                    <a:lnTo>
                      <a:pt x="948" y="1177"/>
                    </a:lnTo>
                    <a:lnTo>
                      <a:pt x="976" y="1137"/>
                    </a:lnTo>
                    <a:lnTo>
                      <a:pt x="1007" y="1100"/>
                    </a:lnTo>
                    <a:lnTo>
                      <a:pt x="1038" y="1063"/>
                    </a:lnTo>
                    <a:lnTo>
                      <a:pt x="1071" y="1027"/>
                    </a:lnTo>
                    <a:lnTo>
                      <a:pt x="1105" y="993"/>
                    </a:lnTo>
                    <a:lnTo>
                      <a:pt x="1140" y="959"/>
                    </a:lnTo>
                    <a:lnTo>
                      <a:pt x="1176" y="927"/>
                    </a:lnTo>
                    <a:lnTo>
                      <a:pt x="1213" y="896"/>
                    </a:lnTo>
                    <a:lnTo>
                      <a:pt x="1250" y="866"/>
                    </a:lnTo>
                    <a:lnTo>
                      <a:pt x="1290" y="838"/>
                    </a:lnTo>
                    <a:lnTo>
                      <a:pt x="1331" y="810"/>
                    </a:lnTo>
                    <a:lnTo>
                      <a:pt x="1372" y="785"/>
                    </a:lnTo>
                    <a:lnTo>
                      <a:pt x="1414" y="760"/>
                    </a:lnTo>
                    <a:lnTo>
                      <a:pt x="1457" y="737"/>
                    </a:lnTo>
                    <a:lnTo>
                      <a:pt x="1501" y="716"/>
                    </a:lnTo>
                    <a:lnTo>
                      <a:pt x="1546" y="696"/>
                    </a:lnTo>
                    <a:lnTo>
                      <a:pt x="1584" y="680"/>
                    </a:lnTo>
                    <a:lnTo>
                      <a:pt x="1594" y="673"/>
                    </a:lnTo>
                    <a:lnTo>
                      <a:pt x="1600" y="665"/>
                    </a:lnTo>
                    <a:lnTo>
                      <a:pt x="1604" y="658"/>
                    </a:lnTo>
                    <a:lnTo>
                      <a:pt x="1606" y="650"/>
                    </a:lnTo>
                    <a:lnTo>
                      <a:pt x="1605" y="638"/>
                    </a:lnTo>
                    <a:lnTo>
                      <a:pt x="1603" y="632"/>
                    </a:lnTo>
                    <a:lnTo>
                      <a:pt x="1586" y="586"/>
                    </a:lnTo>
                    <a:lnTo>
                      <a:pt x="1385" y="31"/>
                    </a:lnTo>
                    <a:lnTo>
                      <a:pt x="1381" y="18"/>
                    </a:lnTo>
                    <a:lnTo>
                      <a:pt x="1380" y="13"/>
                    </a:lnTo>
                    <a:lnTo>
                      <a:pt x="1372" y="5"/>
                    </a:lnTo>
                    <a:lnTo>
                      <a:pt x="1367" y="2"/>
                    </a:lnTo>
                    <a:lnTo>
                      <a:pt x="1359" y="0"/>
                    </a:lnTo>
                    <a:lnTo>
                      <a:pt x="1349" y="0"/>
                    </a:lnTo>
                    <a:lnTo>
                      <a:pt x="1337" y="3"/>
                    </a:lnTo>
                    <a:lnTo>
                      <a:pt x="1307" y="14"/>
                    </a:lnTo>
                    <a:lnTo>
                      <a:pt x="1248" y="37"/>
                    </a:lnTo>
                    <a:lnTo>
                      <a:pt x="1190" y="63"/>
                    </a:lnTo>
                    <a:lnTo>
                      <a:pt x="1133" y="89"/>
                    </a:lnTo>
                    <a:lnTo>
                      <a:pt x="1076" y="119"/>
                    </a:lnTo>
                    <a:lnTo>
                      <a:pt x="1021" y="149"/>
                    </a:lnTo>
                    <a:lnTo>
                      <a:pt x="966" y="181"/>
                    </a:lnTo>
                    <a:lnTo>
                      <a:pt x="913" y="215"/>
                    </a:lnTo>
                    <a:lnTo>
                      <a:pt x="861" y="251"/>
                    </a:lnTo>
                    <a:lnTo>
                      <a:pt x="810" y="289"/>
                    </a:lnTo>
                    <a:lnTo>
                      <a:pt x="759" y="328"/>
                    </a:lnTo>
                    <a:lnTo>
                      <a:pt x="711" y="369"/>
                    </a:lnTo>
                    <a:lnTo>
                      <a:pt x="663" y="411"/>
                    </a:lnTo>
                    <a:lnTo>
                      <a:pt x="616" y="455"/>
                    </a:lnTo>
                    <a:lnTo>
                      <a:pt x="572" y="501"/>
                    </a:lnTo>
                    <a:lnTo>
                      <a:pt x="528" y="547"/>
                    </a:lnTo>
                    <a:lnTo>
                      <a:pt x="485" y="595"/>
                    </a:lnTo>
                    <a:lnTo>
                      <a:pt x="443" y="645"/>
                    </a:lnTo>
                    <a:lnTo>
                      <a:pt x="404" y="695"/>
                    </a:lnTo>
                    <a:lnTo>
                      <a:pt x="365" y="747"/>
                    </a:lnTo>
                    <a:lnTo>
                      <a:pt x="329" y="800"/>
                    </a:lnTo>
                    <a:lnTo>
                      <a:pt x="294" y="854"/>
                    </a:lnTo>
                    <a:lnTo>
                      <a:pt x="260" y="910"/>
                    </a:lnTo>
                    <a:lnTo>
                      <a:pt x="228" y="967"/>
                    </a:lnTo>
                    <a:lnTo>
                      <a:pt x="197" y="1024"/>
                    </a:lnTo>
                    <a:lnTo>
                      <a:pt x="169" y="1084"/>
                    </a:lnTo>
                    <a:lnTo>
                      <a:pt x="142" y="1144"/>
                    </a:lnTo>
                    <a:lnTo>
                      <a:pt x="116" y="1204"/>
                    </a:lnTo>
                    <a:lnTo>
                      <a:pt x="93" y="1266"/>
                    </a:lnTo>
                    <a:lnTo>
                      <a:pt x="71" y="1329"/>
                    </a:lnTo>
                    <a:lnTo>
                      <a:pt x="52" y="1392"/>
                    </a:lnTo>
                    <a:lnTo>
                      <a:pt x="34" y="1457"/>
                    </a:lnTo>
                    <a:lnTo>
                      <a:pt x="18" y="1522"/>
                    </a:lnTo>
                    <a:lnTo>
                      <a:pt x="2" y="1593"/>
                    </a:lnTo>
                    <a:lnTo>
                      <a:pt x="0" y="1610"/>
                    </a:lnTo>
                    <a:lnTo>
                      <a:pt x="1" y="1623"/>
                    </a:lnTo>
                    <a:lnTo>
                      <a:pt x="6" y="1634"/>
                    </a:lnTo>
                    <a:lnTo>
                      <a:pt x="11" y="1643"/>
                    </a:lnTo>
                    <a:lnTo>
                      <a:pt x="17" y="1648"/>
                    </a:lnTo>
                    <a:lnTo>
                      <a:pt x="23" y="1652"/>
                    </a:lnTo>
                    <a:lnTo>
                      <a:pt x="29" y="1655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03920" y="77004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5">
                    <a:moveTo>
                      <a:pt x="29" y="333"/>
                    </a:moveTo>
                    <a:lnTo>
                      <a:pt x="79" y="306"/>
                    </a:lnTo>
                    <a:lnTo>
                      <a:pt x="623" y="31"/>
                    </a:lnTo>
                    <a:lnTo>
                      <a:pt x="684" y="0"/>
                    </a:lnTo>
                    <a:lnTo>
                      <a:pt x="687" y="72"/>
                    </a:lnTo>
                    <a:lnTo>
                      <a:pt x="691" y="123"/>
                    </a:lnTo>
                    <a:lnTo>
                      <a:pt x="697" y="174"/>
                    </a:lnTo>
                    <a:lnTo>
                      <a:pt x="704" y="224"/>
                    </a:lnTo>
                    <a:lnTo>
                      <a:pt x="713" y="273"/>
                    </a:lnTo>
                    <a:lnTo>
                      <a:pt x="724" y="323"/>
                    </a:lnTo>
                    <a:lnTo>
                      <a:pt x="737" y="371"/>
                    </a:lnTo>
                    <a:lnTo>
                      <a:pt x="751" y="418"/>
                    </a:lnTo>
                    <a:lnTo>
                      <a:pt x="767" y="465"/>
                    </a:lnTo>
                    <a:lnTo>
                      <a:pt x="784" y="512"/>
                    </a:lnTo>
                    <a:lnTo>
                      <a:pt x="803" y="557"/>
                    </a:lnTo>
                    <a:lnTo>
                      <a:pt x="824" y="602"/>
                    </a:lnTo>
                    <a:lnTo>
                      <a:pt x="846" y="645"/>
                    </a:lnTo>
                    <a:lnTo>
                      <a:pt x="869" y="688"/>
                    </a:lnTo>
                    <a:lnTo>
                      <a:pt x="894" y="730"/>
                    </a:lnTo>
                    <a:lnTo>
                      <a:pt x="920" y="771"/>
                    </a:lnTo>
                    <a:lnTo>
                      <a:pt x="948" y="811"/>
                    </a:lnTo>
                    <a:lnTo>
                      <a:pt x="976" y="850"/>
                    </a:lnTo>
                    <a:lnTo>
                      <a:pt x="1007" y="888"/>
                    </a:lnTo>
                    <a:lnTo>
                      <a:pt x="1038" y="924"/>
                    </a:lnTo>
                    <a:lnTo>
                      <a:pt x="1071" y="961"/>
                    </a:lnTo>
                    <a:lnTo>
                      <a:pt x="1105" y="995"/>
                    </a:lnTo>
                    <a:lnTo>
                      <a:pt x="1140" y="1029"/>
                    </a:lnTo>
                    <a:lnTo>
                      <a:pt x="1176" y="1061"/>
                    </a:lnTo>
                    <a:lnTo>
                      <a:pt x="1213" y="1092"/>
                    </a:lnTo>
                    <a:lnTo>
                      <a:pt x="1252" y="1122"/>
                    </a:lnTo>
                    <a:lnTo>
                      <a:pt x="1290" y="1151"/>
                    </a:lnTo>
                    <a:lnTo>
                      <a:pt x="1331" y="1177"/>
                    </a:lnTo>
                    <a:lnTo>
                      <a:pt x="1372" y="1203"/>
                    </a:lnTo>
                    <a:lnTo>
                      <a:pt x="1414" y="1227"/>
                    </a:lnTo>
                    <a:lnTo>
                      <a:pt x="1457" y="1250"/>
                    </a:lnTo>
                    <a:lnTo>
                      <a:pt x="1501" y="1271"/>
                    </a:lnTo>
                    <a:lnTo>
                      <a:pt x="1546" y="1292"/>
                    </a:lnTo>
                    <a:lnTo>
                      <a:pt x="1584" y="1308"/>
                    </a:lnTo>
                    <a:lnTo>
                      <a:pt x="1594" y="1315"/>
                    </a:lnTo>
                    <a:lnTo>
                      <a:pt x="1600" y="1323"/>
                    </a:lnTo>
                    <a:lnTo>
                      <a:pt x="1605" y="1331"/>
                    </a:lnTo>
                    <a:lnTo>
                      <a:pt x="1606" y="1337"/>
                    </a:lnTo>
                    <a:lnTo>
                      <a:pt x="1605" y="1349"/>
                    </a:lnTo>
                    <a:lnTo>
                      <a:pt x="1603" y="1355"/>
                    </a:lnTo>
                    <a:lnTo>
                      <a:pt x="1586" y="1401"/>
                    </a:lnTo>
                    <a:lnTo>
                      <a:pt x="1388" y="1950"/>
                    </a:lnTo>
                    <a:lnTo>
                      <a:pt x="1381" y="1965"/>
                    </a:lnTo>
                    <a:lnTo>
                      <a:pt x="1379" y="1970"/>
                    </a:lnTo>
                    <a:lnTo>
                      <a:pt x="1371" y="1978"/>
                    </a:lnTo>
                    <a:lnTo>
                      <a:pt x="1366" y="1983"/>
                    </a:lnTo>
                    <a:lnTo>
                      <a:pt x="1358" y="1985"/>
                    </a:lnTo>
                    <a:lnTo>
                      <a:pt x="1348" y="1985"/>
                    </a:lnTo>
                    <a:lnTo>
                      <a:pt x="1338" y="1983"/>
                    </a:lnTo>
                    <a:lnTo>
                      <a:pt x="1302" y="1969"/>
                    </a:lnTo>
                    <a:lnTo>
                      <a:pt x="1242" y="1942"/>
                    </a:lnTo>
                    <a:lnTo>
                      <a:pt x="1181" y="1915"/>
                    </a:lnTo>
                    <a:lnTo>
                      <a:pt x="1123" y="1886"/>
                    </a:lnTo>
                    <a:lnTo>
                      <a:pt x="1066" y="1857"/>
                    </a:lnTo>
                    <a:lnTo>
                      <a:pt x="1009" y="1824"/>
                    </a:lnTo>
                    <a:lnTo>
                      <a:pt x="954" y="1791"/>
                    </a:lnTo>
                    <a:lnTo>
                      <a:pt x="901" y="1756"/>
                    </a:lnTo>
                    <a:lnTo>
                      <a:pt x="848" y="1719"/>
                    </a:lnTo>
                    <a:lnTo>
                      <a:pt x="796" y="1682"/>
                    </a:lnTo>
                    <a:lnTo>
                      <a:pt x="747" y="1642"/>
                    </a:lnTo>
                    <a:lnTo>
                      <a:pt x="698" y="1602"/>
                    </a:lnTo>
                    <a:lnTo>
                      <a:pt x="650" y="1560"/>
                    </a:lnTo>
                    <a:lnTo>
                      <a:pt x="604" y="1517"/>
                    </a:lnTo>
                    <a:lnTo>
                      <a:pt x="559" y="1472"/>
                    </a:lnTo>
                    <a:lnTo>
                      <a:pt x="517" y="1426"/>
                    </a:lnTo>
                    <a:lnTo>
                      <a:pt x="475" y="1379"/>
                    </a:lnTo>
                    <a:lnTo>
                      <a:pt x="434" y="1331"/>
                    </a:lnTo>
                    <a:lnTo>
                      <a:pt x="395" y="1281"/>
                    </a:lnTo>
                    <a:lnTo>
                      <a:pt x="358" y="1230"/>
                    </a:lnTo>
                    <a:lnTo>
                      <a:pt x="323" y="1178"/>
                    </a:lnTo>
                    <a:lnTo>
                      <a:pt x="287" y="1124"/>
                    </a:lnTo>
                    <a:lnTo>
                      <a:pt x="255" y="1070"/>
                    </a:lnTo>
                    <a:lnTo>
                      <a:pt x="224" y="1014"/>
                    </a:lnTo>
                    <a:lnTo>
                      <a:pt x="194" y="957"/>
                    </a:lnTo>
                    <a:lnTo>
                      <a:pt x="166" y="900"/>
                    </a:lnTo>
                    <a:lnTo>
                      <a:pt x="139" y="841"/>
                    </a:lnTo>
                    <a:lnTo>
                      <a:pt x="115" y="781"/>
                    </a:lnTo>
                    <a:lnTo>
                      <a:pt x="92" y="720"/>
                    </a:lnTo>
                    <a:lnTo>
                      <a:pt x="71" y="658"/>
                    </a:lnTo>
                    <a:lnTo>
                      <a:pt x="52" y="595"/>
                    </a:lnTo>
                    <a:lnTo>
                      <a:pt x="34" y="530"/>
                    </a:lnTo>
                    <a:lnTo>
                      <a:pt x="18" y="465"/>
                    </a:lnTo>
                    <a:lnTo>
                      <a:pt x="3" y="394"/>
                    </a:lnTo>
                    <a:lnTo>
                      <a:pt x="0" y="378"/>
                    </a:lnTo>
                    <a:lnTo>
                      <a:pt x="1" y="364"/>
                    </a:lnTo>
                    <a:lnTo>
                      <a:pt x="6" y="353"/>
                    </a:lnTo>
                    <a:lnTo>
                      <a:pt x="11" y="346"/>
                    </a:lnTo>
                    <a:lnTo>
                      <a:pt x="17" y="339"/>
                    </a:lnTo>
                    <a:lnTo>
                      <a:pt x="23" y="336"/>
                    </a:lnTo>
                    <a:lnTo>
                      <a:pt x="29" y="333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67440" y="698400"/>
                <a:ext cx="149400" cy="147600"/>
              </a:xfrm>
              <a:custGeom>
                <a:avLst/>
                <a:gdLst/>
                <a:ahLst/>
                <a:rect l="l" t="t" r="r" b="b"/>
                <a:pathLst>
                  <a:path w="714" h="759">
                    <a:moveTo>
                      <a:pt x="699" y="379"/>
                    </a:moveTo>
                    <a:lnTo>
                      <a:pt x="706" y="375"/>
                    </a:lnTo>
                    <a:lnTo>
                      <a:pt x="710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09" y="351"/>
                    </a:lnTo>
                    <a:lnTo>
                      <a:pt x="705" y="346"/>
                    </a:lnTo>
                    <a:lnTo>
                      <a:pt x="699" y="342"/>
                    </a:lnTo>
                    <a:lnTo>
                      <a:pt x="35" y="4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3" y="11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735"/>
                    </a:lnTo>
                    <a:lnTo>
                      <a:pt x="1" y="743"/>
                    </a:lnTo>
                    <a:lnTo>
                      <a:pt x="3" y="748"/>
                    </a:lnTo>
                    <a:lnTo>
                      <a:pt x="5" y="753"/>
                    </a:lnTo>
                    <a:lnTo>
                      <a:pt x="10" y="757"/>
                    </a:lnTo>
                    <a:lnTo>
                      <a:pt x="15" y="759"/>
                    </a:lnTo>
                    <a:lnTo>
                      <a:pt x="21" y="759"/>
                    </a:lnTo>
                    <a:lnTo>
                      <a:pt x="27" y="758"/>
                    </a:lnTo>
                    <a:lnTo>
                      <a:pt x="34" y="755"/>
                    </a:lnTo>
                    <a:lnTo>
                      <a:pt x="699" y="379"/>
                    </a:lnTo>
                    <a:close/>
                  </a:path>
                </a:pathLst>
              </a:custGeom>
              <a:solidFill>
                <a:srgbClr val="00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11320" y="701640"/>
                <a:ext cx="149760" cy="146160"/>
              </a:xfrm>
              <a:custGeom>
                <a:avLst/>
                <a:gdLst/>
                <a:ahLst/>
                <a:rect l="l" t="t" r="r" b="b"/>
                <a:pathLst>
                  <a:path w="714" h="758">
                    <a:moveTo>
                      <a:pt x="701" y="379"/>
                    </a:moveTo>
                    <a:lnTo>
                      <a:pt x="706" y="374"/>
                    </a:lnTo>
                    <a:lnTo>
                      <a:pt x="711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11" y="350"/>
                    </a:lnTo>
                    <a:lnTo>
                      <a:pt x="706" y="346"/>
                    </a:lnTo>
                    <a:lnTo>
                      <a:pt x="700" y="342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0" y="734"/>
                    </a:lnTo>
                    <a:lnTo>
                      <a:pt x="1" y="742"/>
                    </a:lnTo>
                    <a:lnTo>
                      <a:pt x="3" y="749"/>
                    </a:lnTo>
                    <a:lnTo>
                      <a:pt x="7" y="753"/>
                    </a:lnTo>
                    <a:lnTo>
                      <a:pt x="10" y="756"/>
                    </a:lnTo>
                    <a:lnTo>
                      <a:pt x="15" y="758"/>
                    </a:lnTo>
                    <a:lnTo>
                      <a:pt x="21" y="758"/>
                    </a:lnTo>
                    <a:lnTo>
                      <a:pt x="27" y="757"/>
                    </a:lnTo>
                    <a:lnTo>
                      <a:pt x="34" y="754"/>
                    </a:lnTo>
                    <a:lnTo>
                      <a:pt x="701" y="379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011960" y="517680"/>
                <a:ext cx="195840" cy="250560"/>
              </a:xfrm>
              <a:custGeom>
                <a:avLst/>
                <a:gdLst/>
                <a:ahLst/>
                <a:rect l="l" t="t" r="r" b="b"/>
                <a:pathLst>
                  <a:path w="930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30" y="1293"/>
                    </a:lnTo>
                    <a:lnTo>
                      <a:pt x="713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230480" y="517680"/>
                <a:ext cx="34200" cy="25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316520" y="517680"/>
                <a:ext cx="168480" cy="250560"/>
              </a:xfrm>
              <a:custGeom>
                <a:avLst/>
                <a:gdLst/>
                <a:ahLst/>
                <a:rect l="l" t="t" r="r" b="b"/>
                <a:pathLst>
                  <a:path w="803" h="1293">
                    <a:moveTo>
                      <a:pt x="803" y="1293"/>
                    </a:moveTo>
                    <a:lnTo>
                      <a:pt x="607" y="1293"/>
                    </a:lnTo>
                    <a:lnTo>
                      <a:pt x="228" y="746"/>
                    </a:lnTo>
                    <a:lnTo>
                      <a:pt x="161" y="746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283" y="1"/>
                    </a:lnTo>
                    <a:lnTo>
                      <a:pt x="327" y="4"/>
                    </a:lnTo>
                    <a:lnTo>
                      <a:pt x="370" y="8"/>
                    </a:lnTo>
                    <a:lnTo>
                      <a:pt x="413" y="16"/>
                    </a:lnTo>
                    <a:lnTo>
                      <a:pt x="456" y="27"/>
                    </a:lnTo>
                    <a:lnTo>
                      <a:pt x="497" y="41"/>
                    </a:lnTo>
                    <a:lnTo>
                      <a:pt x="536" y="61"/>
                    </a:lnTo>
                    <a:lnTo>
                      <a:pt x="556" y="73"/>
                    </a:lnTo>
                    <a:lnTo>
                      <a:pt x="574" y="87"/>
                    </a:lnTo>
                    <a:lnTo>
                      <a:pt x="592" y="101"/>
                    </a:lnTo>
                    <a:lnTo>
                      <a:pt x="608" y="118"/>
                    </a:lnTo>
                    <a:lnTo>
                      <a:pt x="623" y="135"/>
                    </a:lnTo>
                    <a:lnTo>
                      <a:pt x="637" y="153"/>
                    </a:lnTo>
                    <a:lnTo>
                      <a:pt x="650" y="173"/>
                    </a:lnTo>
                    <a:lnTo>
                      <a:pt x="661" y="192"/>
                    </a:lnTo>
                    <a:lnTo>
                      <a:pt x="671" y="212"/>
                    </a:lnTo>
                    <a:lnTo>
                      <a:pt x="680" y="233"/>
                    </a:lnTo>
                    <a:lnTo>
                      <a:pt x="694" y="277"/>
                    </a:lnTo>
                    <a:lnTo>
                      <a:pt x="700" y="300"/>
                    </a:lnTo>
                    <a:lnTo>
                      <a:pt x="703" y="323"/>
                    </a:lnTo>
                    <a:lnTo>
                      <a:pt x="705" y="346"/>
                    </a:lnTo>
                    <a:lnTo>
                      <a:pt x="705" y="369"/>
                    </a:lnTo>
                    <a:lnTo>
                      <a:pt x="704" y="403"/>
                    </a:lnTo>
                    <a:lnTo>
                      <a:pt x="700" y="436"/>
                    </a:lnTo>
                    <a:lnTo>
                      <a:pt x="693" y="469"/>
                    </a:lnTo>
                    <a:lnTo>
                      <a:pt x="683" y="500"/>
                    </a:lnTo>
                    <a:lnTo>
                      <a:pt x="671" y="531"/>
                    </a:lnTo>
                    <a:lnTo>
                      <a:pt x="657" y="558"/>
                    </a:lnTo>
                    <a:lnTo>
                      <a:pt x="639" y="585"/>
                    </a:lnTo>
                    <a:lnTo>
                      <a:pt x="621" y="611"/>
                    </a:lnTo>
                    <a:lnTo>
                      <a:pt x="599" y="634"/>
                    </a:lnTo>
                    <a:lnTo>
                      <a:pt x="576" y="655"/>
                    </a:lnTo>
                    <a:lnTo>
                      <a:pt x="550" y="673"/>
                    </a:lnTo>
                    <a:lnTo>
                      <a:pt x="523" y="691"/>
                    </a:lnTo>
                    <a:lnTo>
                      <a:pt x="493" y="704"/>
                    </a:lnTo>
                    <a:lnTo>
                      <a:pt x="463" y="716"/>
                    </a:lnTo>
                    <a:lnTo>
                      <a:pt x="430" y="725"/>
                    </a:lnTo>
                    <a:lnTo>
                      <a:pt x="396" y="730"/>
                    </a:lnTo>
                    <a:lnTo>
                      <a:pt x="803" y="1293"/>
                    </a:lnTo>
                    <a:close/>
                    <a:moveTo>
                      <a:pt x="161" y="612"/>
                    </a:moveTo>
                    <a:lnTo>
                      <a:pt x="213" y="612"/>
                    </a:lnTo>
                    <a:lnTo>
                      <a:pt x="274" y="611"/>
                    </a:lnTo>
                    <a:lnTo>
                      <a:pt x="335" y="604"/>
                    </a:lnTo>
                    <a:lnTo>
                      <a:pt x="365" y="599"/>
                    </a:lnTo>
                    <a:lnTo>
                      <a:pt x="393" y="591"/>
                    </a:lnTo>
                    <a:lnTo>
                      <a:pt x="420" y="582"/>
                    </a:lnTo>
                    <a:lnTo>
                      <a:pt x="445" y="571"/>
                    </a:lnTo>
                    <a:lnTo>
                      <a:pt x="469" y="557"/>
                    </a:lnTo>
                    <a:lnTo>
                      <a:pt x="490" y="540"/>
                    </a:lnTo>
                    <a:lnTo>
                      <a:pt x="509" y="522"/>
                    </a:lnTo>
                    <a:lnTo>
                      <a:pt x="524" y="499"/>
                    </a:lnTo>
                    <a:lnTo>
                      <a:pt x="537" y="473"/>
                    </a:lnTo>
                    <a:lnTo>
                      <a:pt x="547" y="445"/>
                    </a:lnTo>
                    <a:lnTo>
                      <a:pt x="553" y="412"/>
                    </a:lnTo>
                    <a:lnTo>
                      <a:pt x="555" y="376"/>
                    </a:lnTo>
                    <a:lnTo>
                      <a:pt x="553" y="339"/>
                    </a:lnTo>
                    <a:lnTo>
                      <a:pt x="546" y="308"/>
                    </a:lnTo>
                    <a:lnTo>
                      <a:pt x="536" y="279"/>
                    </a:lnTo>
                    <a:lnTo>
                      <a:pt x="523" y="254"/>
                    </a:lnTo>
                    <a:lnTo>
                      <a:pt x="505" y="232"/>
                    </a:lnTo>
                    <a:lnTo>
                      <a:pt x="486" y="213"/>
                    </a:lnTo>
                    <a:lnTo>
                      <a:pt x="464" y="198"/>
                    </a:lnTo>
                    <a:lnTo>
                      <a:pt x="440" y="184"/>
                    </a:lnTo>
                    <a:lnTo>
                      <a:pt x="413" y="173"/>
                    </a:lnTo>
                    <a:lnTo>
                      <a:pt x="385" y="164"/>
                    </a:lnTo>
                    <a:lnTo>
                      <a:pt x="356" y="157"/>
                    </a:lnTo>
                    <a:lnTo>
                      <a:pt x="325" y="152"/>
                    </a:lnTo>
                    <a:lnTo>
                      <a:pt x="296" y="148"/>
                    </a:lnTo>
                    <a:lnTo>
                      <a:pt x="265" y="146"/>
                    </a:lnTo>
                    <a:lnTo>
                      <a:pt x="204" y="144"/>
                    </a:lnTo>
                    <a:lnTo>
                      <a:pt x="161" y="144"/>
                    </a:lnTo>
                    <a:lnTo>
                      <a:pt x="161" y="6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502280" y="517680"/>
                <a:ext cx="196200" cy="250560"/>
              </a:xfrm>
              <a:custGeom>
                <a:avLst/>
                <a:gdLst/>
                <a:ahLst/>
                <a:rect l="l" t="t" r="r" b="b"/>
                <a:pathLst>
                  <a:path w="929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29" y="1293"/>
                    </a:lnTo>
                    <a:lnTo>
                      <a:pt x="712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999720" y="847800"/>
                <a:ext cx="54720" cy="133200"/>
              </a:xfrm>
              <a:custGeom>
                <a:avLst/>
                <a:gdLst/>
                <a:ahLst/>
                <a:rect l="l" t="t" r="r" b="b"/>
                <a:pathLst>
                  <a:path w="264" h="687">
                    <a:moveTo>
                      <a:pt x="169" y="687"/>
                    </a:moveTo>
                    <a:lnTo>
                      <a:pt x="74" y="687"/>
                    </a:lnTo>
                    <a:lnTo>
                      <a:pt x="74" y="279"/>
                    </a:lnTo>
                    <a:lnTo>
                      <a:pt x="0" y="279"/>
                    </a:lnTo>
                    <a:lnTo>
                      <a:pt x="0" y="190"/>
                    </a:lnTo>
                    <a:lnTo>
                      <a:pt x="74" y="190"/>
                    </a:lnTo>
                    <a:lnTo>
                      <a:pt x="74" y="0"/>
                    </a:lnTo>
                    <a:lnTo>
                      <a:pt x="169" y="0"/>
                    </a:lnTo>
                    <a:lnTo>
                      <a:pt x="169" y="190"/>
                    </a:lnTo>
                    <a:lnTo>
                      <a:pt x="264" y="190"/>
                    </a:lnTo>
                    <a:lnTo>
                      <a:pt x="264" y="279"/>
                    </a:lnTo>
                    <a:lnTo>
                      <a:pt x="169" y="279"/>
                    </a:lnTo>
                    <a:lnTo>
                      <a:pt x="169" y="6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058400" y="882720"/>
                <a:ext cx="9936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5" y="280"/>
                    </a:moveTo>
                    <a:lnTo>
                      <a:pt x="98" y="311"/>
                    </a:lnTo>
                    <a:lnTo>
                      <a:pt x="106" y="341"/>
                    </a:lnTo>
                    <a:lnTo>
                      <a:pt x="119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8" y="415"/>
                    </a:lnTo>
                    <a:lnTo>
                      <a:pt x="170" y="423"/>
                    </a:lnTo>
                    <a:lnTo>
                      <a:pt x="184" y="431"/>
                    </a:lnTo>
                    <a:lnTo>
                      <a:pt x="197" y="437"/>
                    </a:lnTo>
                    <a:lnTo>
                      <a:pt x="213" y="441"/>
                    </a:lnTo>
                    <a:lnTo>
                      <a:pt x="229" y="443"/>
                    </a:lnTo>
                    <a:lnTo>
                      <a:pt x="245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5" y="430"/>
                    </a:lnTo>
                    <a:lnTo>
                      <a:pt x="333" y="418"/>
                    </a:lnTo>
                    <a:lnTo>
                      <a:pt x="351" y="405"/>
                    </a:lnTo>
                    <a:lnTo>
                      <a:pt x="366" y="388"/>
                    </a:lnTo>
                    <a:lnTo>
                      <a:pt x="380" y="368"/>
                    </a:lnTo>
                    <a:lnTo>
                      <a:pt x="394" y="348"/>
                    </a:lnTo>
                    <a:lnTo>
                      <a:pt x="475" y="394"/>
                    </a:lnTo>
                    <a:lnTo>
                      <a:pt x="455" y="424"/>
                    </a:lnTo>
                    <a:lnTo>
                      <a:pt x="433" y="451"/>
                    </a:lnTo>
                    <a:lnTo>
                      <a:pt x="407" y="474"/>
                    </a:lnTo>
                    <a:lnTo>
                      <a:pt x="378" y="494"/>
                    </a:lnTo>
                    <a:lnTo>
                      <a:pt x="347" y="509"/>
                    </a:lnTo>
                    <a:lnTo>
                      <a:pt x="315" y="520"/>
                    </a:lnTo>
                    <a:lnTo>
                      <a:pt x="279" y="528"/>
                    </a:lnTo>
                    <a:lnTo>
                      <a:pt x="244" y="530"/>
                    </a:lnTo>
                    <a:lnTo>
                      <a:pt x="217" y="528"/>
                    </a:lnTo>
                    <a:lnTo>
                      <a:pt x="191" y="524"/>
                    </a:lnTo>
                    <a:lnTo>
                      <a:pt x="165" y="518"/>
                    </a:lnTo>
                    <a:lnTo>
                      <a:pt x="142" y="509"/>
                    </a:lnTo>
                    <a:lnTo>
                      <a:pt x="120" y="498"/>
                    </a:lnTo>
                    <a:lnTo>
                      <a:pt x="101" y="485"/>
                    </a:lnTo>
                    <a:lnTo>
                      <a:pt x="82" y="471"/>
                    </a:lnTo>
                    <a:lnTo>
                      <a:pt x="66" y="454"/>
                    </a:lnTo>
                    <a:lnTo>
                      <a:pt x="50" y="435"/>
                    </a:lnTo>
                    <a:lnTo>
                      <a:pt x="37" y="416"/>
                    </a:lnTo>
                    <a:lnTo>
                      <a:pt x="26" y="394"/>
                    </a:lnTo>
                    <a:lnTo>
                      <a:pt x="16" y="371"/>
                    </a:lnTo>
                    <a:lnTo>
                      <a:pt x="10" y="346"/>
                    </a:lnTo>
                    <a:lnTo>
                      <a:pt x="4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4" y="213"/>
                    </a:lnTo>
                    <a:lnTo>
                      <a:pt x="9" y="186"/>
                    </a:lnTo>
                    <a:lnTo>
                      <a:pt x="15" y="161"/>
                    </a:lnTo>
                    <a:lnTo>
                      <a:pt x="24" y="138"/>
                    </a:lnTo>
                    <a:lnTo>
                      <a:pt x="34" y="116"/>
                    </a:lnTo>
                    <a:lnTo>
                      <a:pt x="47" y="95"/>
                    </a:lnTo>
                    <a:lnTo>
                      <a:pt x="61" y="76"/>
                    </a:lnTo>
                    <a:lnTo>
                      <a:pt x="77" y="60"/>
                    </a:lnTo>
                    <a:lnTo>
                      <a:pt x="95" y="45"/>
                    </a:lnTo>
                    <a:lnTo>
                      <a:pt x="115" y="31"/>
                    </a:lnTo>
                    <a:lnTo>
                      <a:pt x="137" y="20"/>
                    </a:lnTo>
                    <a:lnTo>
                      <a:pt x="160" y="12"/>
                    </a:lnTo>
                    <a:lnTo>
                      <a:pt x="185" y="5"/>
                    </a:lnTo>
                    <a:lnTo>
                      <a:pt x="213" y="2"/>
                    </a:lnTo>
                    <a:lnTo>
                      <a:pt x="242" y="0"/>
                    </a:lnTo>
                    <a:lnTo>
                      <a:pt x="271" y="2"/>
                    </a:lnTo>
                    <a:lnTo>
                      <a:pt x="297" y="5"/>
                    </a:lnTo>
                    <a:lnTo>
                      <a:pt x="322" y="12"/>
                    </a:lnTo>
                    <a:lnTo>
                      <a:pt x="345" y="20"/>
                    </a:lnTo>
                    <a:lnTo>
                      <a:pt x="366" y="31"/>
                    </a:lnTo>
                    <a:lnTo>
                      <a:pt x="385" y="45"/>
                    </a:lnTo>
                    <a:lnTo>
                      <a:pt x="402" y="60"/>
                    </a:lnTo>
                    <a:lnTo>
                      <a:pt x="418" y="76"/>
                    </a:lnTo>
                    <a:lnTo>
                      <a:pt x="431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0" y="161"/>
                    </a:lnTo>
                    <a:lnTo>
                      <a:pt x="467" y="185"/>
                    </a:lnTo>
                    <a:lnTo>
                      <a:pt x="471" y="210"/>
                    </a:lnTo>
                    <a:lnTo>
                      <a:pt x="474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5" y="280"/>
                    </a:lnTo>
                    <a:close/>
                    <a:moveTo>
                      <a:pt x="379" y="207"/>
                    </a:moveTo>
                    <a:lnTo>
                      <a:pt x="373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5" y="117"/>
                    </a:lnTo>
                    <a:lnTo>
                      <a:pt x="316" y="103"/>
                    </a:lnTo>
                    <a:lnTo>
                      <a:pt x="294" y="92"/>
                    </a:lnTo>
                    <a:lnTo>
                      <a:pt x="270" y="85"/>
                    </a:lnTo>
                    <a:lnTo>
                      <a:pt x="242" y="83"/>
                    </a:lnTo>
                    <a:lnTo>
                      <a:pt x="215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1" y="137"/>
                    </a:lnTo>
                    <a:lnTo>
                      <a:pt x="117" y="158"/>
                    </a:lnTo>
                    <a:lnTo>
                      <a:pt x="107" y="182"/>
                    </a:lnTo>
                    <a:lnTo>
                      <a:pt x="101" y="207"/>
                    </a:lnTo>
                    <a:lnTo>
                      <a:pt x="379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177200" y="846000"/>
                <a:ext cx="2052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211400" y="882720"/>
                <a:ext cx="9972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7" y="280"/>
                    </a:moveTo>
                    <a:lnTo>
                      <a:pt x="99" y="311"/>
                    </a:lnTo>
                    <a:lnTo>
                      <a:pt x="108" y="341"/>
                    </a:lnTo>
                    <a:lnTo>
                      <a:pt x="120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9" y="415"/>
                    </a:lnTo>
                    <a:lnTo>
                      <a:pt x="171" y="423"/>
                    </a:lnTo>
                    <a:lnTo>
                      <a:pt x="185" y="431"/>
                    </a:lnTo>
                    <a:lnTo>
                      <a:pt x="199" y="437"/>
                    </a:lnTo>
                    <a:lnTo>
                      <a:pt x="213" y="441"/>
                    </a:lnTo>
                    <a:lnTo>
                      <a:pt x="230" y="443"/>
                    </a:lnTo>
                    <a:lnTo>
                      <a:pt x="246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6" y="430"/>
                    </a:lnTo>
                    <a:lnTo>
                      <a:pt x="335" y="418"/>
                    </a:lnTo>
                    <a:lnTo>
                      <a:pt x="351" y="405"/>
                    </a:lnTo>
                    <a:lnTo>
                      <a:pt x="367" y="388"/>
                    </a:lnTo>
                    <a:lnTo>
                      <a:pt x="381" y="368"/>
                    </a:lnTo>
                    <a:lnTo>
                      <a:pt x="395" y="348"/>
                    </a:lnTo>
                    <a:lnTo>
                      <a:pt x="475" y="394"/>
                    </a:lnTo>
                    <a:lnTo>
                      <a:pt x="457" y="424"/>
                    </a:lnTo>
                    <a:lnTo>
                      <a:pt x="434" y="451"/>
                    </a:lnTo>
                    <a:lnTo>
                      <a:pt x="407" y="474"/>
                    </a:lnTo>
                    <a:lnTo>
                      <a:pt x="379" y="494"/>
                    </a:lnTo>
                    <a:lnTo>
                      <a:pt x="348" y="509"/>
                    </a:lnTo>
                    <a:lnTo>
                      <a:pt x="315" y="520"/>
                    </a:lnTo>
                    <a:lnTo>
                      <a:pt x="281" y="528"/>
                    </a:lnTo>
                    <a:lnTo>
                      <a:pt x="245" y="530"/>
                    </a:lnTo>
                    <a:lnTo>
                      <a:pt x="218" y="528"/>
                    </a:lnTo>
                    <a:lnTo>
                      <a:pt x="191" y="524"/>
                    </a:lnTo>
                    <a:lnTo>
                      <a:pt x="166" y="518"/>
                    </a:lnTo>
                    <a:lnTo>
                      <a:pt x="143" y="509"/>
                    </a:lnTo>
                    <a:lnTo>
                      <a:pt x="121" y="498"/>
                    </a:lnTo>
                    <a:lnTo>
                      <a:pt x="101" y="485"/>
                    </a:lnTo>
                    <a:lnTo>
                      <a:pt x="83" y="471"/>
                    </a:lnTo>
                    <a:lnTo>
                      <a:pt x="66" y="454"/>
                    </a:lnTo>
                    <a:lnTo>
                      <a:pt x="51" y="435"/>
                    </a:lnTo>
                    <a:lnTo>
                      <a:pt x="38" y="416"/>
                    </a:lnTo>
                    <a:lnTo>
                      <a:pt x="27" y="394"/>
                    </a:lnTo>
                    <a:lnTo>
                      <a:pt x="18" y="371"/>
                    </a:lnTo>
                    <a:lnTo>
                      <a:pt x="10" y="346"/>
                    </a:lnTo>
                    <a:lnTo>
                      <a:pt x="5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5" y="213"/>
                    </a:lnTo>
                    <a:lnTo>
                      <a:pt x="9" y="186"/>
                    </a:lnTo>
                    <a:lnTo>
                      <a:pt x="16" y="161"/>
                    </a:lnTo>
                    <a:lnTo>
                      <a:pt x="24" y="138"/>
                    </a:lnTo>
                    <a:lnTo>
                      <a:pt x="35" y="116"/>
                    </a:lnTo>
                    <a:lnTo>
                      <a:pt x="48" y="95"/>
                    </a:lnTo>
                    <a:lnTo>
                      <a:pt x="62" y="76"/>
                    </a:lnTo>
                    <a:lnTo>
                      <a:pt x="78" y="60"/>
                    </a:lnTo>
                    <a:lnTo>
                      <a:pt x="96" y="45"/>
                    </a:lnTo>
                    <a:lnTo>
                      <a:pt x="116" y="31"/>
                    </a:lnTo>
                    <a:lnTo>
                      <a:pt x="137" y="20"/>
                    </a:lnTo>
                    <a:lnTo>
                      <a:pt x="162" y="12"/>
                    </a:lnTo>
                    <a:lnTo>
                      <a:pt x="187" y="5"/>
                    </a:lnTo>
                    <a:lnTo>
                      <a:pt x="214" y="2"/>
                    </a:lnTo>
                    <a:lnTo>
                      <a:pt x="243" y="0"/>
                    </a:lnTo>
                    <a:lnTo>
                      <a:pt x="271" y="2"/>
                    </a:lnTo>
                    <a:lnTo>
                      <a:pt x="299" y="5"/>
                    </a:lnTo>
                    <a:lnTo>
                      <a:pt x="323" y="12"/>
                    </a:lnTo>
                    <a:lnTo>
                      <a:pt x="346" y="20"/>
                    </a:lnTo>
                    <a:lnTo>
                      <a:pt x="367" y="31"/>
                    </a:lnTo>
                    <a:lnTo>
                      <a:pt x="386" y="45"/>
                    </a:lnTo>
                    <a:lnTo>
                      <a:pt x="403" y="60"/>
                    </a:lnTo>
                    <a:lnTo>
                      <a:pt x="418" y="76"/>
                    </a:lnTo>
                    <a:lnTo>
                      <a:pt x="432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1" y="161"/>
                    </a:lnTo>
                    <a:lnTo>
                      <a:pt x="468" y="185"/>
                    </a:lnTo>
                    <a:lnTo>
                      <a:pt x="472" y="210"/>
                    </a:lnTo>
                    <a:lnTo>
                      <a:pt x="475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7" y="280"/>
                    </a:lnTo>
                    <a:close/>
                    <a:moveTo>
                      <a:pt x="380" y="207"/>
                    </a:moveTo>
                    <a:lnTo>
                      <a:pt x="374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6" y="117"/>
                    </a:lnTo>
                    <a:lnTo>
                      <a:pt x="317" y="103"/>
                    </a:lnTo>
                    <a:lnTo>
                      <a:pt x="295" y="92"/>
                    </a:lnTo>
                    <a:lnTo>
                      <a:pt x="270" y="85"/>
                    </a:lnTo>
                    <a:lnTo>
                      <a:pt x="243" y="83"/>
                    </a:lnTo>
                    <a:lnTo>
                      <a:pt x="216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2" y="137"/>
                    </a:lnTo>
                    <a:lnTo>
                      <a:pt x="119" y="158"/>
                    </a:lnTo>
                    <a:lnTo>
                      <a:pt x="108" y="182"/>
                    </a:lnTo>
                    <a:lnTo>
                      <a:pt x="101" y="207"/>
                    </a:lnTo>
                    <a:lnTo>
                      <a:pt x="380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326960" y="882720"/>
                <a:ext cx="84240" cy="101520"/>
              </a:xfrm>
              <a:custGeom>
                <a:avLst/>
                <a:gdLst/>
                <a:ahLst/>
                <a:rect l="l" t="t" r="r" b="b"/>
                <a:pathLst>
                  <a:path w="404" h="530">
                    <a:moveTo>
                      <a:pt x="404" y="157"/>
                    </a:moveTo>
                    <a:lnTo>
                      <a:pt x="389" y="141"/>
                    </a:lnTo>
                    <a:lnTo>
                      <a:pt x="373" y="127"/>
                    </a:lnTo>
                    <a:lnTo>
                      <a:pt x="358" y="116"/>
                    </a:lnTo>
                    <a:lnTo>
                      <a:pt x="340" y="106"/>
                    </a:lnTo>
                    <a:lnTo>
                      <a:pt x="321" y="99"/>
                    </a:lnTo>
                    <a:lnTo>
                      <a:pt x="303" y="94"/>
                    </a:lnTo>
                    <a:lnTo>
                      <a:pt x="283" y="91"/>
                    </a:lnTo>
                    <a:lnTo>
                      <a:pt x="261" y="90"/>
                    </a:lnTo>
                    <a:lnTo>
                      <a:pt x="245" y="91"/>
                    </a:lnTo>
                    <a:lnTo>
                      <a:pt x="227" y="93"/>
                    </a:lnTo>
                    <a:lnTo>
                      <a:pt x="212" y="97"/>
                    </a:lnTo>
                    <a:lnTo>
                      <a:pt x="196" y="104"/>
                    </a:lnTo>
                    <a:lnTo>
                      <a:pt x="182" y="112"/>
                    </a:lnTo>
                    <a:lnTo>
                      <a:pt x="168" y="120"/>
                    </a:lnTo>
                    <a:lnTo>
                      <a:pt x="156" y="130"/>
                    </a:lnTo>
                    <a:lnTo>
                      <a:pt x="144" y="142"/>
                    </a:lnTo>
                    <a:lnTo>
                      <a:pt x="133" y="154"/>
                    </a:lnTo>
                    <a:lnTo>
                      <a:pt x="124" y="169"/>
                    </a:lnTo>
                    <a:lnTo>
                      <a:pt x="115" y="183"/>
                    </a:lnTo>
                    <a:lnTo>
                      <a:pt x="109" y="198"/>
                    </a:lnTo>
                    <a:lnTo>
                      <a:pt x="103" y="214"/>
                    </a:lnTo>
                    <a:lnTo>
                      <a:pt x="99" y="230"/>
                    </a:lnTo>
                    <a:lnTo>
                      <a:pt x="97" y="247"/>
                    </a:lnTo>
                    <a:lnTo>
                      <a:pt x="96" y="264"/>
                    </a:lnTo>
                    <a:lnTo>
                      <a:pt x="97" y="283"/>
                    </a:lnTo>
                    <a:lnTo>
                      <a:pt x="99" y="300"/>
                    </a:lnTo>
                    <a:lnTo>
                      <a:pt x="103" y="318"/>
                    </a:lnTo>
                    <a:lnTo>
                      <a:pt x="109" y="334"/>
                    </a:lnTo>
                    <a:lnTo>
                      <a:pt x="115" y="350"/>
                    </a:lnTo>
                    <a:lnTo>
                      <a:pt x="124" y="364"/>
                    </a:lnTo>
                    <a:lnTo>
                      <a:pt x="133" y="378"/>
                    </a:lnTo>
                    <a:lnTo>
                      <a:pt x="144" y="390"/>
                    </a:lnTo>
                    <a:lnTo>
                      <a:pt x="156" y="401"/>
                    </a:lnTo>
                    <a:lnTo>
                      <a:pt x="169" y="411"/>
                    </a:lnTo>
                    <a:lnTo>
                      <a:pt x="183" y="420"/>
                    </a:lnTo>
                    <a:lnTo>
                      <a:pt x="199" y="427"/>
                    </a:lnTo>
                    <a:lnTo>
                      <a:pt x="215" y="432"/>
                    </a:lnTo>
                    <a:lnTo>
                      <a:pt x="232" y="437"/>
                    </a:lnTo>
                    <a:lnTo>
                      <a:pt x="249" y="439"/>
                    </a:lnTo>
                    <a:lnTo>
                      <a:pt x="268" y="440"/>
                    </a:lnTo>
                    <a:lnTo>
                      <a:pt x="289" y="439"/>
                    </a:lnTo>
                    <a:lnTo>
                      <a:pt x="307" y="435"/>
                    </a:lnTo>
                    <a:lnTo>
                      <a:pt x="326" y="430"/>
                    </a:lnTo>
                    <a:lnTo>
                      <a:pt x="343" y="422"/>
                    </a:lnTo>
                    <a:lnTo>
                      <a:pt x="360" y="412"/>
                    </a:lnTo>
                    <a:lnTo>
                      <a:pt x="375" y="401"/>
                    </a:lnTo>
                    <a:lnTo>
                      <a:pt x="389" y="388"/>
                    </a:lnTo>
                    <a:lnTo>
                      <a:pt x="404" y="374"/>
                    </a:lnTo>
                    <a:lnTo>
                      <a:pt x="404" y="497"/>
                    </a:lnTo>
                    <a:lnTo>
                      <a:pt x="371" y="511"/>
                    </a:lnTo>
                    <a:lnTo>
                      <a:pt x="338" y="522"/>
                    </a:lnTo>
                    <a:lnTo>
                      <a:pt x="303" y="528"/>
                    </a:lnTo>
                    <a:lnTo>
                      <a:pt x="267" y="530"/>
                    </a:lnTo>
                    <a:lnTo>
                      <a:pt x="239" y="528"/>
                    </a:lnTo>
                    <a:lnTo>
                      <a:pt x="213" y="524"/>
                    </a:lnTo>
                    <a:lnTo>
                      <a:pt x="188" y="518"/>
                    </a:lnTo>
                    <a:lnTo>
                      <a:pt x="164" y="509"/>
                    </a:lnTo>
                    <a:lnTo>
                      <a:pt x="140" y="499"/>
                    </a:lnTo>
                    <a:lnTo>
                      <a:pt x="119" y="486"/>
                    </a:lnTo>
                    <a:lnTo>
                      <a:pt x="98" y="472"/>
                    </a:lnTo>
                    <a:lnTo>
                      <a:pt x="79" y="454"/>
                    </a:lnTo>
                    <a:lnTo>
                      <a:pt x="62" y="437"/>
                    </a:lnTo>
                    <a:lnTo>
                      <a:pt x="46" y="416"/>
                    </a:lnTo>
                    <a:lnTo>
                      <a:pt x="33" y="395"/>
                    </a:lnTo>
                    <a:lnTo>
                      <a:pt x="21" y="372"/>
                    </a:lnTo>
                    <a:lnTo>
                      <a:pt x="12" y="348"/>
                    </a:lnTo>
                    <a:lnTo>
                      <a:pt x="6" y="322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6" y="213"/>
                    </a:lnTo>
                    <a:lnTo>
                      <a:pt x="12" y="186"/>
                    </a:lnTo>
                    <a:lnTo>
                      <a:pt x="21" y="161"/>
                    </a:lnTo>
                    <a:lnTo>
                      <a:pt x="33" y="138"/>
                    </a:lnTo>
                    <a:lnTo>
                      <a:pt x="46" y="115"/>
                    </a:lnTo>
                    <a:lnTo>
                      <a:pt x="62" y="95"/>
                    </a:lnTo>
                    <a:lnTo>
                      <a:pt x="79" y="76"/>
                    </a:lnTo>
                    <a:lnTo>
                      <a:pt x="98" y="59"/>
                    </a:lnTo>
                    <a:lnTo>
                      <a:pt x="119" y="45"/>
                    </a:lnTo>
                    <a:lnTo>
                      <a:pt x="142" y="31"/>
                    </a:lnTo>
                    <a:lnTo>
                      <a:pt x="165" y="20"/>
                    </a:lnTo>
                    <a:lnTo>
                      <a:pt x="190" y="12"/>
                    </a:lnTo>
                    <a:lnTo>
                      <a:pt x="216" y="5"/>
                    </a:lnTo>
                    <a:lnTo>
                      <a:pt x="244" y="2"/>
                    </a:lnTo>
                    <a:lnTo>
                      <a:pt x="272" y="0"/>
                    </a:lnTo>
                    <a:lnTo>
                      <a:pt x="306" y="2"/>
                    </a:lnTo>
                    <a:lnTo>
                      <a:pt x="340" y="8"/>
                    </a:lnTo>
                    <a:lnTo>
                      <a:pt x="373" y="18"/>
                    </a:lnTo>
                    <a:lnTo>
                      <a:pt x="404" y="32"/>
                    </a:lnTo>
                    <a:lnTo>
                      <a:pt x="404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423440" y="882720"/>
                <a:ext cx="111600" cy="101520"/>
              </a:xfrm>
              <a:custGeom>
                <a:avLst/>
                <a:gdLst/>
                <a:ahLst/>
                <a:rect l="l" t="t" r="r" b="b"/>
                <a:pathLst>
                  <a:path w="532" h="530">
                    <a:moveTo>
                      <a:pt x="532" y="264"/>
                    </a:moveTo>
                    <a:lnTo>
                      <a:pt x="530" y="293"/>
                    </a:lnTo>
                    <a:lnTo>
                      <a:pt x="527" y="319"/>
                    </a:lnTo>
                    <a:lnTo>
                      <a:pt x="520" y="344"/>
                    </a:lnTo>
                    <a:lnTo>
                      <a:pt x="511" y="370"/>
                    </a:lnTo>
                    <a:lnTo>
                      <a:pt x="501" y="393"/>
                    </a:lnTo>
                    <a:lnTo>
                      <a:pt x="487" y="415"/>
                    </a:lnTo>
                    <a:lnTo>
                      <a:pt x="472" y="434"/>
                    </a:lnTo>
                    <a:lnTo>
                      <a:pt x="454" y="453"/>
                    </a:lnTo>
                    <a:lnTo>
                      <a:pt x="436" y="471"/>
                    </a:lnTo>
                    <a:lnTo>
                      <a:pt x="416" y="485"/>
                    </a:lnTo>
                    <a:lnTo>
                      <a:pt x="394" y="498"/>
                    </a:lnTo>
                    <a:lnTo>
                      <a:pt x="370" y="509"/>
                    </a:lnTo>
                    <a:lnTo>
                      <a:pt x="346" y="518"/>
                    </a:lnTo>
                    <a:lnTo>
                      <a:pt x="321" y="524"/>
                    </a:lnTo>
                    <a:lnTo>
                      <a:pt x="293" y="528"/>
                    </a:lnTo>
                    <a:lnTo>
                      <a:pt x="266" y="530"/>
                    </a:lnTo>
                    <a:lnTo>
                      <a:pt x="238" y="528"/>
                    </a:lnTo>
                    <a:lnTo>
                      <a:pt x="212" y="524"/>
                    </a:lnTo>
                    <a:lnTo>
                      <a:pt x="187" y="518"/>
                    </a:lnTo>
                    <a:lnTo>
                      <a:pt x="162" y="509"/>
                    </a:lnTo>
                    <a:lnTo>
                      <a:pt x="139" y="498"/>
                    </a:lnTo>
                    <a:lnTo>
                      <a:pt x="117" y="485"/>
                    </a:lnTo>
                    <a:lnTo>
                      <a:pt x="97" y="471"/>
                    </a:lnTo>
                    <a:lnTo>
                      <a:pt x="78" y="453"/>
                    </a:lnTo>
                    <a:lnTo>
                      <a:pt x="61" y="434"/>
                    </a:lnTo>
                    <a:lnTo>
                      <a:pt x="45" y="415"/>
                    </a:lnTo>
                    <a:lnTo>
                      <a:pt x="32" y="393"/>
                    </a:lnTo>
                    <a:lnTo>
                      <a:pt x="21" y="370"/>
                    </a:lnTo>
                    <a:lnTo>
                      <a:pt x="12" y="344"/>
                    </a:lnTo>
                    <a:lnTo>
                      <a:pt x="6" y="319"/>
                    </a:lnTo>
                    <a:lnTo>
                      <a:pt x="3" y="293"/>
                    </a:lnTo>
                    <a:lnTo>
                      <a:pt x="0" y="264"/>
                    </a:lnTo>
                    <a:lnTo>
                      <a:pt x="3" y="237"/>
                    </a:lnTo>
                    <a:lnTo>
                      <a:pt x="6" y="210"/>
                    </a:lnTo>
                    <a:lnTo>
                      <a:pt x="12" y="185"/>
                    </a:lnTo>
                    <a:lnTo>
                      <a:pt x="21" y="160"/>
                    </a:lnTo>
                    <a:lnTo>
                      <a:pt x="32" y="137"/>
                    </a:lnTo>
                    <a:lnTo>
                      <a:pt x="45" y="115"/>
                    </a:lnTo>
                    <a:lnTo>
                      <a:pt x="61" y="95"/>
                    </a:lnTo>
                    <a:lnTo>
                      <a:pt x="78" y="76"/>
                    </a:lnTo>
                    <a:lnTo>
                      <a:pt x="97" y="59"/>
                    </a:lnTo>
                    <a:lnTo>
                      <a:pt x="117" y="45"/>
                    </a:lnTo>
                    <a:lnTo>
                      <a:pt x="139" y="31"/>
                    </a:lnTo>
                    <a:lnTo>
                      <a:pt x="162" y="20"/>
                    </a:lnTo>
                    <a:lnTo>
                      <a:pt x="187" y="12"/>
                    </a:lnTo>
                    <a:lnTo>
                      <a:pt x="212" y="5"/>
                    </a:lnTo>
                    <a:lnTo>
                      <a:pt x="238" y="2"/>
                    </a:lnTo>
                    <a:lnTo>
                      <a:pt x="266" y="0"/>
                    </a:lnTo>
                    <a:lnTo>
                      <a:pt x="293" y="2"/>
                    </a:lnTo>
                    <a:lnTo>
                      <a:pt x="321" y="5"/>
                    </a:lnTo>
                    <a:lnTo>
                      <a:pt x="346" y="12"/>
                    </a:lnTo>
                    <a:lnTo>
                      <a:pt x="370" y="20"/>
                    </a:lnTo>
                    <a:lnTo>
                      <a:pt x="394" y="31"/>
                    </a:lnTo>
                    <a:lnTo>
                      <a:pt x="416" y="45"/>
                    </a:lnTo>
                    <a:lnTo>
                      <a:pt x="436" y="59"/>
                    </a:lnTo>
                    <a:lnTo>
                      <a:pt x="454" y="76"/>
                    </a:lnTo>
                    <a:lnTo>
                      <a:pt x="472" y="95"/>
                    </a:lnTo>
                    <a:lnTo>
                      <a:pt x="487" y="115"/>
                    </a:lnTo>
                    <a:lnTo>
                      <a:pt x="501" y="137"/>
                    </a:lnTo>
                    <a:lnTo>
                      <a:pt x="511" y="160"/>
                    </a:lnTo>
                    <a:lnTo>
                      <a:pt x="520" y="185"/>
                    </a:lnTo>
                    <a:lnTo>
                      <a:pt x="527" y="210"/>
                    </a:lnTo>
                    <a:lnTo>
                      <a:pt x="530" y="237"/>
                    </a:lnTo>
                    <a:lnTo>
                      <a:pt x="532" y="264"/>
                    </a:lnTo>
                    <a:close/>
                    <a:moveTo>
                      <a:pt x="96" y="264"/>
                    </a:moveTo>
                    <a:lnTo>
                      <a:pt x="97" y="282"/>
                    </a:lnTo>
                    <a:lnTo>
                      <a:pt x="100" y="299"/>
                    </a:lnTo>
                    <a:lnTo>
                      <a:pt x="103" y="316"/>
                    </a:lnTo>
                    <a:lnTo>
                      <a:pt x="110" y="331"/>
                    </a:lnTo>
                    <a:lnTo>
                      <a:pt x="117" y="346"/>
                    </a:lnTo>
                    <a:lnTo>
                      <a:pt x="125" y="361"/>
                    </a:lnTo>
                    <a:lnTo>
                      <a:pt x="135" y="374"/>
                    </a:lnTo>
                    <a:lnTo>
                      <a:pt x="146" y="386"/>
                    </a:lnTo>
                    <a:lnTo>
                      <a:pt x="158" y="398"/>
                    </a:lnTo>
                    <a:lnTo>
                      <a:pt x="171" y="408"/>
                    </a:lnTo>
                    <a:lnTo>
                      <a:pt x="185" y="417"/>
                    </a:lnTo>
                    <a:lnTo>
                      <a:pt x="200" y="424"/>
                    </a:lnTo>
                    <a:lnTo>
                      <a:pt x="215" y="430"/>
                    </a:lnTo>
                    <a:lnTo>
                      <a:pt x="232" y="434"/>
                    </a:lnTo>
                    <a:lnTo>
                      <a:pt x="248" y="437"/>
                    </a:lnTo>
                    <a:lnTo>
                      <a:pt x="266" y="438"/>
                    </a:lnTo>
                    <a:lnTo>
                      <a:pt x="283" y="437"/>
                    </a:lnTo>
                    <a:lnTo>
                      <a:pt x="301" y="434"/>
                    </a:lnTo>
                    <a:lnTo>
                      <a:pt x="317" y="430"/>
                    </a:lnTo>
                    <a:lnTo>
                      <a:pt x="333" y="424"/>
                    </a:lnTo>
                    <a:lnTo>
                      <a:pt x="348" y="417"/>
                    </a:lnTo>
                    <a:lnTo>
                      <a:pt x="361" y="408"/>
                    </a:lnTo>
                    <a:lnTo>
                      <a:pt x="374" y="398"/>
                    </a:lnTo>
                    <a:lnTo>
                      <a:pt x="386" y="386"/>
                    </a:lnTo>
                    <a:lnTo>
                      <a:pt x="397" y="374"/>
                    </a:lnTo>
                    <a:lnTo>
                      <a:pt x="407" y="361"/>
                    </a:lnTo>
                    <a:lnTo>
                      <a:pt x="416" y="346"/>
                    </a:lnTo>
                    <a:lnTo>
                      <a:pt x="423" y="331"/>
                    </a:lnTo>
                    <a:lnTo>
                      <a:pt x="428" y="316"/>
                    </a:lnTo>
                    <a:lnTo>
                      <a:pt x="433" y="299"/>
                    </a:lnTo>
                    <a:lnTo>
                      <a:pt x="436" y="282"/>
                    </a:lnTo>
                    <a:lnTo>
                      <a:pt x="436" y="264"/>
                    </a:lnTo>
                    <a:lnTo>
                      <a:pt x="436" y="248"/>
                    </a:lnTo>
                    <a:lnTo>
                      <a:pt x="433" y="230"/>
                    </a:lnTo>
                    <a:lnTo>
                      <a:pt x="428" y="214"/>
                    </a:lnTo>
                    <a:lnTo>
                      <a:pt x="423" y="197"/>
                    </a:lnTo>
                    <a:lnTo>
                      <a:pt x="416" y="183"/>
                    </a:lnTo>
                    <a:lnTo>
                      <a:pt x="407" y="169"/>
                    </a:lnTo>
                    <a:lnTo>
                      <a:pt x="397" y="154"/>
                    </a:lnTo>
                    <a:lnTo>
                      <a:pt x="386" y="142"/>
                    </a:lnTo>
                    <a:lnTo>
                      <a:pt x="374" y="131"/>
                    </a:lnTo>
                    <a:lnTo>
                      <a:pt x="361" y="121"/>
                    </a:lnTo>
                    <a:lnTo>
                      <a:pt x="348" y="113"/>
                    </a:lnTo>
                    <a:lnTo>
                      <a:pt x="333" y="105"/>
                    </a:lnTo>
                    <a:lnTo>
                      <a:pt x="317" y="99"/>
                    </a:lnTo>
                    <a:lnTo>
                      <a:pt x="301" y="95"/>
                    </a:lnTo>
                    <a:lnTo>
                      <a:pt x="283" y="92"/>
                    </a:lnTo>
                    <a:lnTo>
                      <a:pt x="266" y="92"/>
                    </a:lnTo>
                    <a:lnTo>
                      <a:pt x="248" y="92"/>
                    </a:lnTo>
                    <a:lnTo>
                      <a:pt x="232" y="95"/>
                    </a:lnTo>
                    <a:lnTo>
                      <a:pt x="215" y="99"/>
                    </a:lnTo>
                    <a:lnTo>
                      <a:pt x="200" y="105"/>
                    </a:lnTo>
                    <a:lnTo>
                      <a:pt x="185" y="113"/>
                    </a:lnTo>
                    <a:lnTo>
                      <a:pt x="171" y="121"/>
                    </a:lnTo>
                    <a:lnTo>
                      <a:pt x="158" y="131"/>
                    </a:lnTo>
                    <a:lnTo>
                      <a:pt x="146" y="142"/>
                    </a:lnTo>
                    <a:lnTo>
                      <a:pt x="135" y="154"/>
                    </a:lnTo>
                    <a:lnTo>
                      <a:pt x="125" y="169"/>
                    </a:lnTo>
                    <a:lnTo>
                      <a:pt x="117" y="183"/>
                    </a:lnTo>
                    <a:lnTo>
                      <a:pt x="110" y="197"/>
                    </a:lnTo>
                    <a:lnTo>
                      <a:pt x="103" y="214"/>
                    </a:lnTo>
                    <a:lnTo>
                      <a:pt x="100" y="230"/>
                    </a:lnTo>
                    <a:lnTo>
                      <a:pt x="97" y="248"/>
                    </a:lnTo>
                    <a:lnTo>
                      <a:pt x="96" y="2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549440" y="882720"/>
                <a:ext cx="144360" cy="98280"/>
              </a:xfrm>
              <a:custGeom>
                <a:avLst/>
                <a:gdLst/>
                <a:ahLst/>
                <a:rect l="l" t="t" r="r" b="b"/>
                <a:pathLst>
                  <a:path w="690" h="512">
                    <a:moveTo>
                      <a:pt x="96" y="77"/>
                    </a:moveTo>
                    <a:lnTo>
                      <a:pt x="98" y="77"/>
                    </a:lnTo>
                    <a:lnTo>
                      <a:pt x="109" y="62"/>
                    </a:lnTo>
                    <a:lnTo>
                      <a:pt x="122" y="47"/>
                    </a:lnTo>
                    <a:lnTo>
                      <a:pt x="137" y="34"/>
                    </a:lnTo>
                    <a:lnTo>
                      <a:pt x="154" y="23"/>
                    </a:lnTo>
                    <a:lnTo>
                      <a:pt x="171" y="13"/>
                    </a:lnTo>
                    <a:lnTo>
                      <a:pt x="190" y="6"/>
                    </a:lnTo>
                    <a:lnTo>
                      <a:pt x="210" y="2"/>
                    </a:lnTo>
                    <a:lnTo>
                      <a:pt x="229" y="0"/>
                    </a:lnTo>
                    <a:lnTo>
                      <a:pt x="253" y="2"/>
                    </a:lnTo>
                    <a:lnTo>
                      <a:pt x="274" y="6"/>
                    </a:lnTo>
                    <a:lnTo>
                      <a:pt x="295" y="13"/>
                    </a:lnTo>
                    <a:lnTo>
                      <a:pt x="314" y="24"/>
                    </a:lnTo>
                    <a:lnTo>
                      <a:pt x="330" y="36"/>
                    </a:lnTo>
                    <a:lnTo>
                      <a:pt x="346" y="51"/>
                    </a:lnTo>
                    <a:lnTo>
                      <a:pt x="360" y="69"/>
                    </a:lnTo>
                    <a:lnTo>
                      <a:pt x="373" y="88"/>
                    </a:lnTo>
                    <a:lnTo>
                      <a:pt x="385" y="69"/>
                    </a:lnTo>
                    <a:lnTo>
                      <a:pt x="401" y="52"/>
                    </a:lnTo>
                    <a:lnTo>
                      <a:pt x="418" y="37"/>
                    </a:lnTo>
                    <a:lnTo>
                      <a:pt x="438" y="24"/>
                    </a:lnTo>
                    <a:lnTo>
                      <a:pt x="458" y="14"/>
                    </a:lnTo>
                    <a:lnTo>
                      <a:pt x="480" y="6"/>
                    </a:lnTo>
                    <a:lnTo>
                      <a:pt x="503" y="2"/>
                    </a:lnTo>
                    <a:lnTo>
                      <a:pt x="526" y="0"/>
                    </a:lnTo>
                    <a:lnTo>
                      <a:pt x="550" y="1"/>
                    </a:lnTo>
                    <a:lnTo>
                      <a:pt x="571" y="5"/>
                    </a:lnTo>
                    <a:lnTo>
                      <a:pt x="589" y="11"/>
                    </a:lnTo>
                    <a:lnTo>
                      <a:pt x="607" y="17"/>
                    </a:lnTo>
                    <a:lnTo>
                      <a:pt x="622" y="27"/>
                    </a:lnTo>
                    <a:lnTo>
                      <a:pt x="635" y="38"/>
                    </a:lnTo>
                    <a:lnTo>
                      <a:pt x="647" y="51"/>
                    </a:lnTo>
                    <a:lnTo>
                      <a:pt x="657" y="65"/>
                    </a:lnTo>
                    <a:lnTo>
                      <a:pt x="666" y="81"/>
                    </a:lnTo>
                    <a:lnTo>
                      <a:pt x="673" y="97"/>
                    </a:lnTo>
                    <a:lnTo>
                      <a:pt x="678" y="115"/>
                    </a:lnTo>
                    <a:lnTo>
                      <a:pt x="684" y="133"/>
                    </a:lnTo>
                    <a:lnTo>
                      <a:pt x="689" y="173"/>
                    </a:lnTo>
                    <a:lnTo>
                      <a:pt x="690" y="215"/>
                    </a:lnTo>
                    <a:lnTo>
                      <a:pt x="690" y="512"/>
                    </a:lnTo>
                    <a:lnTo>
                      <a:pt x="595" y="512"/>
                    </a:lnTo>
                    <a:lnTo>
                      <a:pt x="595" y="230"/>
                    </a:lnTo>
                    <a:lnTo>
                      <a:pt x="595" y="206"/>
                    </a:lnTo>
                    <a:lnTo>
                      <a:pt x="593" y="181"/>
                    </a:lnTo>
                    <a:lnTo>
                      <a:pt x="588" y="157"/>
                    </a:lnTo>
                    <a:lnTo>
                      <a:pt x="580" y="133"/>
                    </a:lnTo>
                    <a:lnTo>
                      <a:pt x="568" y="114"/>
                    </a:lnTo>
                    <a:lnTo>
                      <a:pt x="561" y="106"/>
                    </a:lnTo>
                    <a:lnTo>
                      <a:pt x="552" y="98"/>
                    </a:lnTo>
                    <a:lnTo>
                      <a:pt x="542" y="93"/>
                    </a:lnTo>
                    <a:lnTo>
                      <a:pt x="531" y="88"/>
                    </a:lnTo>
                    <a:lnTo>
                      <a:pt x="517" y="86"/>
                    </a:lnTo>
                    <a:lnTo>
                      <a:pt x="503" y="85"/>
                    </a:lnTo>
                    <a:lnTo>
                      <a:pt x="484" y="86"/>
                    </a:lnTo>
                    <a:lnTo>
                      <a:pt x="469" y="90"/>
                    </a:lnTo>
                    <a:lnTo>
                      <a:pt x="454" y="95"/>
                    </a:lnTo>
                    <a:lnTo>
                      <a:pt x="442" y="103"/>
                    </a:lnTo>
                    <a:lnTo>
                      <a:pt x="432" y="112"/>
                    </a:lnTo>
                    <a:lnTo>
                      <a:pt x="423" y="123"/>
                    </a:lnTo>
                    <a:lnTo>
                      <a:pt x="416" y="135"/>
                    </a:lnTo>
                    <a:lnTo>
                      <a:pt x="409" y="148"/>
                    </a:lnTo>
                    <a:lnTo>
                      <a:pt x="401" y="176"/>
                    </a:lnTo>
                    <a:lnTo>
                      <a:pt x="396" y="207"/>
                    </a:lnTo>
                    <a:lnTo>
                      <a:pt x="394" y="238"/>
                    </a:lnTo>
                    <a:lnTo>
                      <a:pt x="393" y="267"/>
                    </a:lnTo>
                    <a:lnTo>
                      <a:pt x="393" y="512"/>
                    </a:lnTo>
                    <a:lnTo>
                      <a:pt x="297" y="512"/>
                    </a:lnTo>
                    <a:lnTo>
                      <a:pt x="297" y="249"/>
                    </a:lnTo>
                    <a:lnTo>
                      <a:pt x="297" y="224"/>
                    </a:lnTo>
                    <a:lnTo>
                      <a:pt x="295" y="196"/>
                    </a:lnTo>
                    <a:lnTo>
                      <a:pt x="292" y="169"/>
                    </a:lnTo>
                    <a:lnTo>
                      <a:pt x="285" y="142"/>
                    </a:lnTo>
                    <a:lnTo>
                      <a:pt x="280" y="130"/>
                    </a:lnTo>
                    <a:lnTo>
                      <a:pt x="273" y="119"/>
                    </a:lnTo>
                    <a:lnTo>
                      <a:pt x="267" y="110"/>
                    </a:lnTo>
                    <a:lnTo>
                      <a:pt x="258" y="102"/>
                    </a:lnTo>
                    <a:lnTo>
                      <a:pt x="247" y="95"/>
                    </a:lnTo>
                    <a:lnTo>
                      <a:pt x="235" y="90"/>
                    </a:lnTo>
                    <a:lnTo>
                      <a:pt x="222" y="86"/>
                    </a:lnTo>
                    <a:lnTo>
                      <a:pt x="206" y="85"/>
                    </a:lnTo>
                    <a:lnTo>
                      <a:pt x="188" y="86"/>
                    </a:lnTo>
                    <a:lnTo>
                      <a:pt x="172" y="90"/>
                    </a:lnTo>
                    <a:lnTo>
                      <a:pt x="158" y="95"/>
                    </a:lnTo>
                    <a:lnTo>
                      <a:pt x="146" y="103"/>
                    </a:lnTo>
                    <a:lnTo>
                      <a:pt x="135" y="112"/>
                    </a:lnTo>
                    <a:lnTo>
                      <a:pt x="126" y="123"/>
                    </a:lnTo>
                    <a:lnTo>
                      <a:pt x="119" y="135"/>
                    </a:lnTo>
                    <a:lnTo>
                      <a:pt x="113" y="148"/>
                    </a:lnTo>
                    <a:lnTo>
                      <a:pt x="103" y="176"/>
                    </a:lnTo>
                    <a:lnTo>
                      <a:pt x="99" y="207"/>
                    </a:lnTo>
                    <a:lnTo>
                      <a:pt x="97" y="238"/>
                    </a:lnTo>
                    <a:lnTo>
                      <a:pt x="96" y="267"/>
                    </a:lnTo>
                    <a:lnTo>
                      <a:pt x="96" y="512"/>
                    </a:lnTo>
                    <a:lnTo>
                      <a:pt x="0" y="512"/>
                    </a:lnTo>
                    <a:lnTo>
                      <a:pt x="0" y="15"/>
                    </a:lnTo>
                    <a:lnTo>
                      <a:pt x="96" y="15"/>
                    </a:lnTo>
                    <a:lnTo>
                      <a:pt x="96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908640" y="1022400"/>
                <a:ext cx="9082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a-DK" sz="600" spc="-1" strike="noStrike">
                    <a:solidFill>
                      <a:srgbClr val="ffffff"/>
                    </a:solidFill>
                    <a:latin typeface="Futura Bk BT"/>
                  </a:rPr>
                  <a:t>www.kirktelecom.dk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39" name="" descr=""/>
          <p:cNvPicPr/>
          <p:nvPr/>
        </p:nvPicPr>
        <p:blipFill>
          <a:blip r:embed="rId2"/>
          <a:stretch/>
        </p:blipFill>
        <p:spPr>
          <a:xfrm>
            <a:off x="3143160" y="517680"/>
            <a:ext cx="5486400" cy="395280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2228760" y="0"/>
            <a:ext cx="76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CCFP Administration Program Ver.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051720" y="4506840"/>
            <a:ext cx="25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решить регистрац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3809880" y="1676520"/>
            <a:ext cx="38160" cy="283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896800" y="4506840"/>
            <a:ext cx="28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локировка новых вызов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479760" y="1676520"/>
            <a:ext cx="231948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 flipV="1">
            <a:off x="4917600" y="2209680"/>
            <a:ext cx="1211400" cy="256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050280" y="4933800"/>
            <a:ext cx="29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хранение и восст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ан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129360" y="1203480"/>
            <a:ext cx="1949400" cy="100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4305240" y="2209320"/>
            <a:ext cx="2400480" cy="290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894640" y="4933800"/>
            <a:ext cx="34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брос всех параметров и дан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896080" y="2055960"/>
            <a:ext cx="2182680" cy="439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6705720" y="2495160"/>
            <a:ext cx="0" cy="262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052080" y="535320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грузка ПЗ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4476600" y="2724120"/>
            <a:ext cx="2533680" cy="285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861520" y="5575320"/>
            <a:ext cx="29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вод или изменение паро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6129360" y="3105000"/>
            <a:ext cx="576360" cy="264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861160" y="59580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запуск систе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6477120" y="3104640"/>
            <a:ext cx="1218960" cy="291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051000" y="5753160"/>
            <a:ext cx="28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тановка параметр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рт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WU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умолчанию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633840" y="2209680"/>
            <a:ext cx="2319120" cy="1581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3848040" y="3790800"/>
            <a:ext cx="628560" cy="215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A633-F068-499E-B475-3736D24AD30F}" type="slidenum">
              <a:t>18</a:t>
            </a:fld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2889360" y="457200"/>
            <a:ext cx="6521400" cy="0"/>
          </a:xfrm>
          <a:prstGeom prst="line">
            <a:avLst/>
          </a:prstGeom>
          <a:ln cap="sq"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0" y="0"/>
            <a:ext cx="6129000" cy="6858000"/>
            <a:chOff x="0" y="0"/>
            <a:chExt cx="6129000" cy="6858000"/>
          </a:xfrm>
        </p:grpSpPr>
        <p:sp>
          <p:nvSpPr>
            <p:cNvPr id="663" name=""/>
            <p:cNvSpPr/>
            <p:nvPr/>
          </p:nvSpPr>
          <p:spPr>
            <a:xfrm>
              <a:off x="0" y="0"/>
              <a:ext cx="2228760" cy="3429000"/>
            </a:xfrm>
            <a:prstGeom prst="rect">
              <a:avLst/>
            </a:prstGeom>
            <a:solidFill>
              <a:srgbClr val="000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0" y="3429000"/>
              <a:ext cx="2228760" cy="3429000"/>
            </a:xfrm>
            <a:prstGeom prst="rect">
              <a:avLst/>
            </a:pr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91836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79924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7" name="" descr=""/>
            <p:cNvPicPr/>
            <p:nvPr/>
          </p:nvPicPr>
          <p:blipFill>
            <a:blip r:embed="rId1"/>
            <a:stretch/>
          </p:blipFill>
          <p:spPr>
            <a:xfrm>
              <a:off x="201240" y="2055960"/>
              <a:ext cx="1705680" cy="271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8" name=""/>
            <p:cNvGrpSpPr/>
            <p:nvPr/>
          </p:nvGrpSpPr>
          <p:grpSpPr>
            <a:xfrm>
              <a:off x="211320" y="380880"/>
              <a:ext cx="1605600" cy="821880"/>
              <a:chOff x="211320" y="380880"/>
              <a:chExt cx="1605600" cy="821880"/>
            </a:xfrm>
          </p:grpSpPr>
          <p:sp>
            <p:nvSpPr>
              <p:cNvPr id="669" name=""/>
              <p:cNvSpPr/>
              <p:nvPr/>
            </p:nvSpPr>
            <p:spPr>
              <a:xfrm>
                <a:off x="403920" y="38088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7">
                    <a:moveTo>
                      <a:pt x="29" y="1655"/>
                    </a:moveTo>
                    <a:lnTo>
                      <a:pt x="79" y="1682"/>
                    </a:lnTo>
                    <a:lnTo>
                      <a:pt x="623" y="1957"/>
                    </a:lnTo>
                    <a:lnTo>
                      <a:pt x="684" y="1987"/>
                    </a:lnTo>
                    <a:lnTo>
                      <a:pt x="687" y="1916"/>
                    </a:lnTo>
                    <a:lnTo>
                      <a:pt x="691" y="1864"/>
                    </a:lnTo>
                    <a:lnTo>
                      <a:pt x="697" y="1814"/>
                    </a:lnTo>
                    <a:lnTo>
                      <a:pt x="704" y="1763"/>
                    </a:lnTo>
                    <a:lnTo>
                      <a:pt x="713" y="1714"/>
                    </a:lnTo>
                    <a:lnTo>
                      <a:pt x="724" y="1665"/>
                    </a:lnTo>
                    <a:lnTo>
                      <a:pt x="737" y="1616"/>
                    </a:lnTo>
                    <a:lnTo>
                      <a:pt x="751" y="1569"/>
                    </a:lnTo>
                    <a:lnTo>
                      <a:pt x="767" y="1522"/>
                    </a:lnTo>
                    <a:lnTo>
                      <a:pt x="784" y="1476"/>
                    </a:lnTo>
                    <a:lnTo>
                      <a:pt x="803" y="1431"/>
                    </a:lnTo>
                    <a:lnTo>
                      <a:pt x="824" y="1386"/>
                    </a:lnTo>
                    <a:lnTo>
                      <a:pt x="846" y="1343"/>
                    </a:lnTo>
                    <a:lnTo>
                      <a:pt x="869" y="1300"/>
                    </a:lnTo>
                    <a:lnTo>
                      <a:pt x="894" y="1257"/>
                    </a:lnTo>
                    <a:lnTo>
                      <a:pt x="920" y="1217"/>
                    </a:lnTo>
                    <a:lnTo>
                      <a:pt x="948" y="1177"/>
                    </a:lnTo>
                    <a:lnTo>
                      <a:pt x="976" y="1137"/>
                    </a:lnTo>
                    <a:lnTo>
                      <a:pt x="1007" y="1100"/>
                    </a:lnTo>
                    <a:lnTo>
                      <a:pt x="1038" y="1063"/>
                    </a:lnTo>
                    <a:lnTo>
                      <a:pt x="1071" y="1027"/>
                    </a:lnTo>
                    <a:lnTo>
                      <a:pt x="1105" y="993"/>
                    </a:lnTo>
                    <a:lnTo>
                      <a:pt x="1140" y="959"/>
                    </a:lnTo>
                    <a:lnTo>
                      <a:pt x="1176" y="927"/>
                    </a:lnTo>
                    <a:lnTo>
                      <a:pt x="1213" y="896"/>
                    </a:lnTo>
                    <a:lnTo>
                      <a:pt x="1250" y="866"/>
                    </a:lnTo>
                    <a:lnTo>
                      <a:pt x="1290" y="838"/>
                    </a:lnTo>
                    <a:lnTo>
                      <a:pt x="1331" y="810"/>
                    </a:lnTo>
                    <a:lnTo>
                      <a:pt x="1372" y="785"/>
                    </a:lnTo>
                    <a:lnTo>
                      <a:pt x="1414" y="760"/>
                    </a:lnTo>
                    <a:lnTo>
                      <a:pt x="1457" y="737"/>
                    </a:lnTo>
                    <a:lnTo>
                      <a:pt x="1501" y="716"/>
                    </a:lnTo>
                    <a:lnTo>
                      <a:pt x="1546" y="696"/>
                    </a:lnTo>
                    <a:lnTo>
                      <a:pt x="1584" y="680"/>
                    </a:lnTo>
                    <a:lnTo>
                      <a:pt x="1594" y="673"/>
                    </a:lnTo>
                    <a:lnTo>
                      <a:pt x="1600" y="665"/>
                    </a:lnTo>
                    <a:lnTo>
                      <a:pt x="1604" y="658"/>
                    </a:lnTo>
                    <a:lnTo>
                      <a:pt x="1606" y="650"/>
                    </a:lnTo>
                    <a:lnTo>
                      <a:pt x="1605" y="638"/>
                    </a:lnTo>
                    <a:lnTo>
                      <a:pt x="1603" y="632"/>
                    </a:lnTo>
                    <a:lnTo>
                      <a:pt x="1586" y="586"/>
                    </a:lnTo>
                    <a:lnTo>
                      <a:pt x="1385" y="31"/>
                    </a:lnTo>
                    <a:lnTo>
                      <a:pt x="1381" y="18"/>
                    </a:lnTo>
                    <a:lnTo>
                      <a:pt x="1380" y="13"/>
                    </a:lnTo>
                    <a:lnTo>
                      <a:pt x="1372" y="5"/>
                    </a:lnTo>
                    <a:lnTo>
                      <a:pt x="1367" y="2"/>
                    </a:lnTo>
                    <a:lnTo>
                      <a:pt x="1359" y="0"/>
                    </a:lnTo>
                    <a:lnTo>
                      <a:pt x="1349" y="0"/>
                    </a:lnTo>
                    <a:lnTo>
                      <a:pt x="1337" y="3"/>
                    </a:lnTo>
                    <a:lnTo>
                      <a:pt x="1307" y="14"/>
                    </a:lnTo>
                    <a:lnTo>
                      <a:pt x="1248" y="37"/>
                    </a:lnTo>
                    <a:lnTo>
                      <a:pt x="1190" y="63"/>
                    </a:lnTo>
                    <a:lnTo>
                      <a:pt x="1133" y="89"/>
                    </a:lnTo>
                    <a:lnTo>
                      <a:pt x="1076" y="119"/>
                    </a:lnTo>
                    <a:lnTo>
                      <a:pt x="1021" y="149"/>
                    </a:lnTo>
                    <a:lnTo>
                      <a:pt x="966" y="181"/>
                    </a:lnTo>
                    <a:lnTo>
                      <a:pt x="913" y="215"/>
                    </a:lnTo>
                    <a:lnTo>
                      <a:pt x="861" y="251"/>
                    </a:lnTo>
                    <a:lnTo>
                      <a:pt x="810" y="289"/>
                    </a:lnTo>
                    <a:lnTo>
                      <a:pt x="759" y="328"/>
                    </a:lnTo>
                    <a:lnTo>
                      <a:pt x="711" y="369"/>
                    </a:lnTo>
                    <a:lnTo>
                      <a:pt x="663" y="411"/>
                    </a:lnTo>
                    <a:lnTo>
                      <a:pt x="616" y="455"/>
                    </a:lnTo>
                    <a:lnTo>
                      <a:pt x="572" y="501"/>
                    </a:lnTo>
                    <a:lnTo>
                      <a:pt x="528" y="547"/>
                    </a:lnTo>
                    <a:lnTo>
                      <a:pt x="485" y="595"/>
                    </a:lnTo>
                    <a:lnTo>
                      <a:pt x="443" y="645"/>
                    </a:lnTo>
                    <a:lnTo>
                      <a:pt x="404" y="695"/>
                    </a:lnTo>
                    <a:lnTo>
                      <a:pt x="365" y="747"/>
                    </a:lnTo>
                    <a:lnTo>
                      <a:pt x="329" y="800"/>
                    </a:lnTo>
                    <a:lnTo>
                      <a:pt x="294" y="854"/>
                    </a:lnTo>
                    <a:lnTo>
                      <a:pt x="260" y="910"/>
                    </a:lnTo>
                    <a:lnTo>
                      <a:pt x="228" y="967"/>
                    </a:lnTo>
                    <a:lnTo>
                      <a:pt x="197" y="1024"/>
                    </a:lnTo>
                    <a:lnTo>
                      <a:pt x="169" y="1084"/>
                    </a:lnTo>
                    <a:lnTo>
                      <a:pt x="142" y="1144"/>
                    </a:lnTo>
                    <a:lnTo>
                      <a:pt x="116" y="1204"/>
                    </a:lnTo>
                    <a:lnTo>
                      <a:pt x="93" y="1266"/>
                    </a:lnTo>
                    <a:lnTo>
                      <a:pt x="71" y="1329"/>
                    </a:lnTo>
                    <a:lnTo>
                      <a:pt x="52" y="1392"/>
                    </a:lnTo>
                    <a:lnTo>
                      <a:pt x="34" y="1457"/>
                    </a:lnTo>
                    <a:lnTo>
                      <a:pt x="18" y="1522"/>
                    </a:lnTo>
                    <a:lnTo>
                      <a:pt x="2" y="1593"/>
                    </a:lnTo>
                    <a:lnTo>
                      <a:pt x="0" y="1610"/>
                    </a:lnTo>
                    <a:lnTo>
                      <a:pt x="1" y="1623"/>
                    </a:lnTo>
                    <a:lnTo>
                      <a:pt x="6" y="1634"/>
                    </a:lnTo>
                    <a:lnTo>
                      <a:pt x="11" y="1643"/>
                    </a:lnTo>
                    <a:lnTo>
                      <a:pt x="17" y="1648"/>
                    </a:lnTo>
                    <a:lnTo>
                      <a:pt x="23" y="1652"/>
                    </a:lnTo>
                    <a:lnTo>
                      <a:pt x="29" y="1655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03920" y="77004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5">
                    <a:moveTo>
                      <a:pt x="29" y="333"/>
                    </a:moveTo>
                    <a:lnTo>
                      <a:pt x="79" y="306"/>
                    </a:lnTo>
                    <a:lnTo>
                      <a:pt x="623" y="31"/>
                    </a:lnTo>
                    <a:lnTo>
                      <a:pt x="684" y="0"/>
                    </a:lnTo>
                    <a:lnTo>
                      <a:pt x="687" y="72"/>
                    </a:lnTo>
                    <a:lnTo>
                      <a:pt x="691" y="123"/>
                    </a:lnTo>
                    <a:lnTo>
                      <a:pt x="697" y="174"/>
                    </a:lnTo>
                    <a:lnTo>
                      <a:pt x="704" y="224"/>
                    </a:lnTo>
                    <a:lnTo>
                      <a:pt x="713" y="273"/>
                    </a:lnTo>
                    <a:lnTo>
                      <a:pt x="724" y="323"/>
                    </a:lnTo>
                    <a:lnTo>
                      <a:pt x="737" y="371"/>
                    </a:lnTo>
                    <a:lnTo>
                      <a:pt x="751" y="418"/>
                    </a:lnTo>
                    <a:lnTo>
                      <a:pt x="767" y="465"/>
                    </a:lnTo>
                    <a:lnTo>
                      <a:pt x="784" y="512"/>
                    </a:lnTo>
                    <a:lnTo>
                      <a:pt x="803" y="557"/>
                    </a:lnTo>
                    <a:lnTo>
                      <a:pt x="824" y="602"/>
                    </a:lnTo>
                    <a:lnTo>
                      <a:pt x="846" y="645"/>
                    </a:lnTo>
                    <a:lnTo>
                      <a:pt x="869" y="688"/>
                    </a:lnTo>
                    <a:lnTo>
                      <a:pt x="894" y="730"/>
                    </a:lnTo>
                    <a:lnTo>
                      <a:pt x="920" y="771"/>
                    </a:lnTo>
                    <a:lnTo>
                      <a:pt x="948" y="811"/>
                    </a:lnTo>
                    <a:lnTo>
                      <a:pt x="976" y="850"/>
                    </a:lnTo>
                    <a:lnTo>
                      <a:pt x="1007" y="888"/>
                    </a:lnTo>
                    <a:lnTo>
                      <a:pt x="1038" y="924"/>
                    </a:lnTo>
                    <a:lnTo>
                      <a:pt x="1071" y="961"/>
                    </a:lnTo>
                    <a:lnTo>
                      <a:pt x="1105" y="995"/>
                    </a:lnTo>
                    <a:lnTo>
                      <a:pt x="1140" y="1029"/>
                    </a:lnTo>
                    <a:lnTo>
                      <a:pt x="1176" y="1061"/>
                    </a:lnTo>
                    <a:lnTo>
                      <a:pt x="1213" y="1092"/>
                    </a:lnTo>
                    <a:lnTo>
                      <a:pt x="1252" y="1122"/>
                    </a:lnTo>
                    <a:lnTo>
                      <a:pt x="1290" y="1151"/>
                    </a:lnTo>
                    <a:lnTo>
                      <a:pt x="1331" y="1177"/>
                    </a:lnTo>
                    <a:lnTo>
                      <a:pt x="1372" y="1203"/>
                    </a:lnTo>
                    <a:lnTo>
                      <a:pt x="1414" y="1227"/>
                    </a:lnTo>
                    <a:lnTo>
                      <a:pt x="1457" y="1250"/>
                    </a:lnTo>
                    <a:lnTo>
                      <a:pt x="1501" y="1271"/>
                    </a:lnTo>
                    <a:lnTo>
                      <a:pt x="1546" y="1292"/>
                    </a:lnTo>
                    <a:lnTo>
                      <a:pt x="1584" y="1308"/>
                    </a:lnTo>
                    <a:lnTo>
                      <a:pt x="1594" y="1315"/>
                    </a:lnTo>
                    <a:lnTo>
                      <a:pt x="1600" y="1323"/>
                    </a:lnTo>
                    <a:lnTo>
                      <a:pt x="1605" y="1331"/>
                    </a:lnTo>
                    <a:lnTo>
                      <a:pt x="1606" y="1337"/>
                    </a:lnTo>
                    <a:lnTo>
                      <a:pt x="1605" y="1349"/>
                    </a:lnTo>
                    <a:lnTo>
                      <a:pt x="1603" y="1355"/>
                    </a:lnTo>
                    <a:lnTo>
                      <a:pt x="1586" y="1401"/>
                    </a:lnTo>
                    <a:lnTo>
                      <a:pt x="1388" y="1950"/>
                    </a:lnTo>
                    <a:lnTo>
                      <a:pt x="1381" y="1965"/>
                    </a:lnTo>
                    <a:lnTo>
                      <a:pt x="1379" y="1970"/>
                    </a:lnTo>
                    <a:lnTo>
                      <a:pt x="1371" y="1978"/>
                    </a:lnTo>
                    <a:lnTo>
                      <a:pt x="1366" y="1983"/>
                    </a:lnTo>
                    <a:lnTo>
                      <a:pt x="1358" y="1985"/>
                    </a:lnTo>
                    <a:lnTo>
                      <a:pt x="1348" y="1985"/>
                    </a:lnTo>
                    <a:lnTo>
                      <a:pt x="1338" y="1983"/>
                    </a:lnTo>
                    <a:lnTo>
                      <a:pt x="1302" y="1969"/>
                    </a:lnTo>
                    <a:lnTo>
                      <a:pt x="1242" y="1942"/>
                    </a:lnTo>
                    <a:lnTo>
                      <a:pt x="1181" y="1915"/>
                    </a:lnTo>
                    <a:lnTo>
                      <a:pt x="1123" y="1886"/>
                    </a:lnTo>
                    <a:lnTo>
                      <a:pt x="1066" y="1857"/>
                    </a:lnTo>
                    <a:lnTo>
                      <a:pt x="1009" y="1824"/>
                    </a:lnTo>
                    <a:lnTo>
                      <a:pt x="954" y="1791"/>
                    </a:lnTo>
                    <a:lnTo>
                      <a:pt x="901" y="1756"/>
                    </a:lnTo>
                    <a:lnTo>
                      <a:pt x="848" y="1719"/>
                    </a:lnTo>
                    <a:lnTo>
                      <a:pt x="796" y="1682"/>
                    </a:lnTo>
                    <a:lnTo>
                      <a:pt x="747" y="1642"/>
                    </a:lnTo>
                    <a:lnTo>
                      <a:pt x="698" y="1602"/>
                    </a:lnTo>
                    <a:lnTo>
                      <a:pt x="650" y="1560"/>
                    </a:lnTo>
                    <a:lnTo>
                      <a:pt x="604" y="1517"/>
                    </a:lnTo>
                    <a:lnTo>
                      <a:pt x="559" y="1472"/>
                    </a:lnTo>
                    <a:lnTo>
                      <a:pt x="517" y="1426"/>
                    </a:lnTo>
                    <a:lnTo>
                      <a:pt x="475" y="1379"/>
                    </a:lnTo>
                    <a:lnTo>
                      <a:pt x="434" y="1331"/>
                    </a:lnTo>
                    <a:lnTo>
                      <a:pt x="395" y="1281"/>
                    </a:lnTo>
                    <a:lnTo>
                      <a:pt x="358" y="1230"/>
                    </a:lnTo>
                    <a:lnTo>
                      <a:pt x="323" y="1178"/>
                    </a:lnTo>
                    <a:lnTo>
                      <a:pt x="287" y="1124"/>
                    </a:lnTo>
                    <a:lnTo>
                      <a:pt x="255" y="1070"/>
                    </a:lnTo>
                    <a:lnTo>
                      <a:pt x="224" y="1014"/>
                    </a:lnTo>
                    <a:lnTo>
                      <a:pt x="194" y="957"/>
                    </a:lnTo>
                    <a:lnTo>
                      <a:pt x="166" y="900"/>
                    </a:lnTo>
                    <a:lnTo>
                      <a:pt x="139" y="841"/>
                    </a:lnTo>
                    <a:lnTo>
                      <a:pt x="115" y="781"/>
                    </a:lnTo>
                    <a:lnTo>
                      <a:pt x="92" y="720"/>
                    </a:lnTo>
                    <a:lnTo>
                      <a:pt x="71" y="658"/>
                    </a:lnTo>
                    <a:lnTo>
                      <a:pt x="52" y="595"/>
                    </a:lnTo>
                    <a:lnTo>
                      <a:pt x="34" y="530"/>
                    </a:lnTo>
                    <a:lnTo>
                      <a:pt x="18" y="465"/>
                    </a:lnTo>
                    <a:lnTo>
                      <a:pt x="3" y="394"/>
                    </a:lnTo>
                    <a:lnTo>
                      <a:pt x="0" y="378"/>
                    </a:lnTo>
                    <a:lnTo>
                      <a:pt x="1" y="364"/>
                    </a:lnTo>
                    <a:lnTo>
                      <a:pt x="6" y="353"/>
                    </a:lnTo>
                    <a:lnTo>
                      <a:pt x="11" y="346"/>
                    </a:lnTo>
                    <a:lnTo>
                      <a:pt x="17" y="339"/>
                    </a:lnTo>
                    <a:lnTo>
                      <a:pt x="23" y="336"/>
                    </a:lnTo>
                    <a:lnTo>
                      <a:pt x="29" y="333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67440" y="698400"/>
                <a:ext cx="149400" cy="147600"/>
              </a:xfrm>
              <a:custGeom>
                <a:avLst/>
                <a:gdLst/>
                <a:ahLst/>
                <a:rect l="l" t="t" r="r" b="b"/>
                <a:pathLst>
                  <a:path w="714" h="759">
                    <a:moveTo>
                      <a:pt x="699" y="379"/>
                    </a:moveTo>
                    <a:lnTo>
                      <a:pt x="706" y="375"/>
                    </a:lnTo>
                    <a:lnTo>
                      <a:pt x="710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09" y="351"/>
                    </a:lnTo>
                    <a:lnTo>
                      <a:pt x="705" y="346"/>
                    </a:lnTo>
                    <a:lnTo>
                      <a:pt x="699" y="342"/>
                    </a:lnTo>
                    <a:lnTo>
                      <a:pt x="35" y="4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3" y="11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735"/>
                    </a:lnTo>
                    <a:lnTo>
                      <a:pt x="1" y="743"/>
                    </a:lnTo>
                    <a:lnTo>
                      <a:pt x="3" y="748"/>
                    </a:lnTo>
                    <a:lnTo>
                      <a:pt x="5" y="753"/>
                    </a:lnTo>
                    <a:lnTo>
                      <a:pt x="10" y="757"/>
                    </a:lnTo>
                    <a:lnTo>
                      <a:pt x="15" y="759"/>
                    </a:lnTo>
                    <a:lnTo>
                      <a:pt x="21" y="759"/>
                    </a:lnTo>
                    <a:lnTo>
                      <a:pt x="27" y="758"/>
                    </a:lnTo>
                    <a:lnTo>
                      <a:pt x="34" y="755"/>
                    </a:lnTo>
                    <a:lnTo>
                      <a:pt x="699" y="379"/>
                    </a:lnTo>
                    <a:close/>
                  </a:path>
                </a:pathLst>
              </a:custGeom>
              <a:solidFill>
                <a:srgbClr val="00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11320" y="701640"/>
                <a:ext cx="149760" cy="146160"/>
              </a:xfrm>
              <a:custGeom>
                <a:avLst/>
                <a:gdLst/>
                <a:ahLst/>
                <a:rect l="l" t="t" r="r" b="b"/>
                <a:pathLst>
                  <a:path w="714" h="758">
                    <a:moveTo>
                      <a:pt x="701" y="379"/>
                    </a:moveTo>
                    <a:lnTo>
                      <a:pt x="706" y="374"/>
                    </a:lnTo>
                    <a:lnTo>
                      <a:pt x="711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11" y="350"/>
                    </a:lnTo>
                    <a:lnTo>
                      <a:pt x="706" y="346"/>
                    </a:lnTo>
                    <a:lnTo>
                      <a:pt x="700" y="342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0" y="734"/>
                    </a:lnTo>
                    <a:lnTo>
                      <a:pt x="1" y="742"/>
                    </a:lnTo>
                    <a:lnTo>
                      <a:pt x="3" y="749"/>
                    </a:lnTo>
                    <a:lnTo>
                      <a:pt x="7" y="753"/>
                    </a:lnTo>
                    <a:lnTo>
                      <a:pt x="10" y="756"/>
                    </a:lnTo>
                    <a:lnTo>
                      <a:pt x="15" y="758"/>
                    </a:lnTo>
                    <a:lnTo>
                      <a:pt x="21" y="758"/>
                    </a:lnTo>
                    <a:lnTo>
                      <a:pt x="27" y="757"/>
                    </a:lnTo>
                    <a:lnTo>
                      <a:pt x="34" y="754"/>
                    </a:lnTo>
                    <a:lnTo>
                      <a:pt x="701" y="379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011960" y="517680"/>
                <a:ext cx="195840" cy="250560"/>
              </a:xfrm>
              <a:custGeom>
                <a:avLst/>
                <a:gdLst/>
                <a:ahLst/>
                <a:rect l="l" t="t" r="r" b="b"/>
                <a:pathLst>
                  <a:path w="930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30" y="1293"/>
                    </a:lnTo>
                    <a:lnTo>
                      <a:pt x="713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230480" y="517680"/>
                <a:ext cx="34200" cy="25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316520" y="517680"/>
                <a:ext cx="168480" cy="250560"/>
              </a:xfrm>
              <a:custGeom>
                <a:avLst/>
                <a:gdLst/>
                <a:ahLst/>
                <a:rect l="l" t="t" r="r" b="b"/>
                <a:pathLst>
                  <a:path w="803" h="1293">
                    <a:moveTo>
                      <a:pt x="803" y="1293"/>
                    </a:moveTo>
                    <a:lnTo>
                      <a:pt x="607" y="1293"/>
                    </a:lnTo>
                    <a:lnTo>
                      <a:pt x="228" y="746"/>
                    </a:lnTo>
                    <a:lnTo>
                      <a:pt x="161" y="746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283" y="1"/>
                    </a:lnTo>
                    <a:lnTo>
                      <a:pt x="327" y="4"/>
                    </a:lnTo>
                    <a:lnTo>
                      <a:pt x="370" y="8"/>
                    </a:lnTo>
                    <a:lnTo>
                      <a:pt x="413" y="16"/>
                    </a:lnTo>
                    <a:lnTo>
                      <a:pt x="456" y="27"/>
                    </a:lnTo>
                    <a:lnTo>
                      <a:pt x="497" y="41"/>
                    </a:lnTo>
                    <a:lnTo>
                      <a:pt x="536" y="61"/>
                    </a:lnTo>
                    <a:lnTo>
                      <a:pt x="556" y="73"/>
                    </a:lnTo>
                    <a:lnTo>
                      <a:pt x="574" y="87"/>
                    </a:lnTo>
                    <a:lnTo>
                      <a:pt x="592" y="101"/>
                    </a:lnTo>
                    <a:lnTo>
                      <a:pt x="608" y="118"/>
                    </a:lnTo>
                    <a:lnTo>
                      <a:pt x="623" y="135"/>
                    </a:lnTo>
                    <a:lnTo>
                      <a:pt x="637" y="153"/>
                    </a:lnTo>
                    <a:lnTo>
                      <a:pt x="650" y="173"/>
                    </a:lnTo>
                    <a:lnTo>
                      <a:pt x="661" y="192"/>
                    </a:lnTo>
                    <a:lnTo>
                      <a:pt x="671" y="212"/>
                    </a:lnTo>
                    <a:lnTo>
                      <a:pt x="680" y="233"/>
                    </a:lnTo>
                    <a:lnTo>
                      <a:pt x="694" y="277"/>
                    </a:lnTo>
                    <a:lnTo>
                      <a:pt x="700" y="300"/>
                    </a:lnTo>
                    <a:lnTo>
                      <a:pt x="703" y="323"/>
                    </a:lnTo>
                    <a:lnTo>
                      <a:pt x="705" y="346"/>
                    </a:lnTo>
                    <a:lnTo>
                      <a:pt x="705" y="369"/>
                    </a:lnTo>
                    <a:lnTo>
                      <a:pt x="704" y="403"/>
                    </a:lnTo>
                    <a:lnTo>
                      <a:pt x="700" y="436"/>
                    </a:lnTo>
                    <a:lnTo>
                      <a:pt x="693" y="469"/>
                    </a:lnTo>
                    <a:lnTo>
                      <a:pt x="683" y="500"/>
                    </a:lnTo>
                    <a:lnTo>
                      <a:pt x="671" y="531"/>
                    </a:lnTo>
                    <a:lnTo>
                      <a:pt x="657" y="558"/>
                    </a:lnTo>
                    <a:lnTo>
                      <a:pt x="639" y="585"/>
                    </a:lnTo>
                    <a:lnTo>
                      <a:pt x="621" y="611"/>
                    </a:lnTo>
                    <a:lnTo>
                      <a:pt x="599" y="634"/>
                    </a:lnTo>
                    <a:lnTo>
                      <a:pt x="576" y="655"/>
                    </a:lnTo>
                    <a:lnTo>
                      <a:pt x="550" y="673"/>
                    </a:lnTo>
                    <a:lnTo>
                      <a:pt x="523" y="691"/>
                    </a:lnTo>
                    <a:lnTo>
                      <a:pt x="493" y="704"/>
                    </a:lnTo>
                    <a:lnTo>
                      <a:pt x="463" y="716"/>
                    </a:lnTo>
                    <a:lnTo>
                      <a:pt x="430" y="725"/>
                    </a:lnTo>
                    <a:lnTo>
                      <a:pt x="396" y="730"/>
                    </a:lnTo>
                    <a:lnTo>
                      <a:pt x="803" y="1293"/>
                    </a:lnTo>
                    <a:close/>
                    <a:moveTo>
                      <a:pt x="161" y="612"/>
                    </a:moveTo>
                    <a:lnTo>
                      <a:pt x="213" y="612"/>
                    </a:lnTo>
                    <a:lnTo>
                      <a:pt x="274" y="611"/>
                    </a:lnTo>
                    <a:lnTo>
                      <a:pt x="335" y="604"/>
                    </a:lnTo>
                    <a:lnTo>
                      <a:pt x="365" y="599"/>
                    </a:lnTo>
                    <a:lnTo>
                      <a:pt x="393" y="591"/>
                    </a:lnTo>
                    <a:lnTo>
                      <a:pt x="420" y="582"/>
                    </a:lnTo>
                    <a:lnTo>
                      <a:pt x="445" y="571"/>
                    </a:lnTo>
                    <a:lnTo>
                      <a:pt x="469" y="557"/>
                    </a:lnTo>
                    <a:lnTo>
                      <a:pt x="490" y="540"/>
                    </a:lnTo>
                    <a:lnTo>
                      <a:pt x="509" y="522"/>
                    </a:lnTo>
                    <a:lnTo>
                      <a:pt x="524" y="499"/>
                    </a:lnTo>
                    <a:lnTo>
                      <a:pt x="537" y="473"/>
                    </a:lnTo>
                    <a:lnTo>
                      <a:pt x="547" y="445"/>
                    </a:lnTo>
                    <a:lnTo>
                      <a:pt x="553" y="412"/>
                    </a:lnTo>
                    <a:lnTo>
                      <a:pt x="555" y="376"/>
                    </a:lnTo>
                    <a:lnTo>
                      <a:pt x="553" y="339"/>
                    </a:lnTo>
                    <a:lnTo>
                      <a:pt x="546" y="308"/>
                    </a:lnTo>
                    <a:lnTo>
                      <a:pt x="536" y="279"/>
                    </a:lnTo>
                    <a:lnTo>
                      <a:pt x="523" y="254"/>
                    </a:lnTo>
                    <a:lnTo>
                      <a:pt x="505" y="232"/>
                    </a:lnTo>
                    <a:lnTo>
                      <a:pt x="486" y="213"/>
                    </a:lnTo>
                    <a:lnTo>
                      <a:pt x="464" y="198"/>
                    </a:lnTo>
                    <a:lnTo>
                      <a:pt x="440" y="184"/>
                    </a:lnTo>
                    <a:lnTo>
                      <a:pt x="413" y="173"/>
                    </a:lnTo>
                    <a:lnTo>
                      <a:pt x="385" y="164"/>
                    </a:lnTo>
                    <a:lnTo>
                      <a:pt x="356" y="157"/>
                    </a:lnTo>
                    <a:lnTo>
                      <a:pt x="325" y="152"/>
                    </a:lnTo>
                    <a:lnTo>
                      <a:pt x="296" y="148"/>
                    </a:lnTo>
                    <a:lnTo>
                      <a:pt x="265" y="146"/>
                    </a:lnTo>
                    <a:lnTo>
                      <a:pt x="204" y="144"/>
                    </a:lnTo>
                    <a:lnTo>
                      <a:pt x="161" y="144"/>
                    </a:lnTo>
                    <a:lnTo>
                      <a:pt x="161" y="6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502280" y="517680"/>
                <a:ext cx="196200" cy="250560"/>
              </a:xfrm>
              <a:custGeom>
                <a:avLst/>
                <a:gdLst/>
                <a:ahLst/>
                <a:rect l="l" t="t" r="r" b="b"/>
                <a:pathLst>
                  <a:path w="929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29" y="1293"/>
                    </a:lnTo>
                    <a:lnTo>
                      <a:pt x="712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999720" y="847800"/>
                <a:ext cx="54720" cy="133200"/>
              </a:xfrm>
              <a:custGeom>
                <a:avLst/>
                <a:gdLst/>
                <a:ahLst/>
                <a:rect l="l" t="t" r="r" b="b"/>
                <a:pathLst>
                  <a:path w="264" h="687">
                    <a:moveTo>
                      <a:pt x="169" y="687"/>
                    </a:moveTo>
                    <a:lnTo>
                      <a:pt x="74" y="687"/>
                    </a:lnTo>
                    <a:lnTo>
                      <a:pt x="74" y="279"/>
                    </a:lnTo>
                    <a:lnTo>
                      <a:pt x="0" y="279"/>
                    </a:lnTo>
                    <a:lnTo>
                      <a:pt x="0" y="190"/>
                    </a:lnTo>
                    <a:lnTo>
                      <a:pt x="74" y="190"/>
                    </a:lnTo>
                    <a:lnTo>
                      <a:pt x="74" y="0"/>
                    </a:lnTo>
                    <a:lnTo>
                      <a:pt x="169" y="0"/>
                    </a:lnTo>
                    <a:lnTo>
                      <a:pt x="169" y="190"/>
                    </a:lnTo>
                    <a:lnTo>
                      <a:pt x="264" y="190"/>
                    </a:lnTo>
                    <a:lnTo>
                      <a:pt x="264" y="279"/>
                    </a:lnTo>
                    <a:lnTo>
                      <a:pt x="169" y="279"/>
                    </a:lnTo>
                    <a:lnTo>
                      <a:pt x="169" y="6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058400" y="882720"/>
                <a:ext cx="9936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5" y="280"/>
                    </a:moveTo>
                    <a:lnTo>
                      <a:pt x="98" y="311"/>
                    </a:lnTo>
                    <a:lnTo>
                      <a:pt x="106" y="341"/>
                    </a:lnTo>
                    <a:lnTo>
                      <a:pt x="119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8" y="415"/>
                    </a:lnTo>
                    <a:lnTo>
                      <a:pt x="170" y="423"/>
                    </a:lnTo>
                    <a:lnTo>
                      <a:pt x="184" y="431"/>
                    </a:lnTo>
                    <a:lnTo>
                      <a:pt x="197" y="437"/>
                    </a:lnTo>
                    <a:lnTo>
                      <a:pt x="213" y="441"/>
                    </a:lnTo>
                    <a:lnTo>
                      <a:pt x="229" y="443"/>
                    </a:lnTo>
                    <a:lnTo>
                      <a:pt x="245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5" y="430"/>
                    </a:lnTo>
                    <a:lnTo>
                      <a:pt x="333" y="418"/>
                    </a:lnTo>
                    <a:lnTo>
                      <a:pt x="351" y="405"/>
                    </a:lnTo>
                    <a:lnTo>
                      <a:pt x="366" y="388"/>
                    </a:lnTo>
                    <a:lnTo>
                      <a:pt x="380" y="368"/>
                    </a:lnTo>
                    <a:lnTo>
                      <a:pt x="394" y="348"/>
                    </a:lnTo>
                    <a:lnTo>
                      <a:pt x="475" y="394"/>
                    </a:lnTo>
                    <a:lnTo>
                      <a:pt x="455" y="424"/>
                    </a:lnTo>
                    <a:lnTo>
                      <a:pt x="433" y="451"/>
                    </a:lnTo>
                    <a:lnTo>
                      <a:pt x="407" y="474"/>
                    </a:lnTo>
                    <a:lnTo>
                      <a:pt x="378" y="494"/>
                    </a:lnTo>
                    <a:lnTo>
                      <a:pt x="347" y="509"/>
                    </a:lnTo>
                    <a:lnTo>
                      <a:pt x="315" y="520"/>
                    </a:lnTo>
                    <a:lnTo>
                      <a:pt x="279" y="528"/>
                    </a:lnTo>
                    <a:lnTo>
                      <a:pt x="244" y="530"/>
                    </a:lnTo>
                    <a:lnTo>
                      <a:pt x="217" y="528"/>
                    </a:lnTo>
                    <a:lnTo>
                      <a:pt x="191" y="524"/>
                    </a:lnTo>
                    <a:lnTo>
                      <a:pt x="165" y="518"/>
                    </a:lnTo>
                    <a:lnTo>
                      <a:pt x="142" y="509"/>
                    </a:lnTo>
                    <a:lnTo>
                      <a:pt x="120" y="498"/>
                    </a:lnTo>
                    <a:lnTo>
                      <a:pt x="101" y="485"/>
                    </a:lnTo>
                    <a:lnTo>
                      <a:pt x="82" y="471"/>
                    </a:lnTo>
                    <a:lnTo>
                      <a:pt x="66" y="454"/>
                    </a:lnTo>
                    <a:lnTo>
                      <a:pt x="50" y="435"/>
                    </a:lnTo>
                    <a:lnTo>
                      <a:pt x="37" y="416"/>
                    </a:lnTo>
                    <a:lnTo>
                      <a:pt x="26" y="394"/>
                    </a:lnTo>
                    <a:lnTo>
                      <a:pt x="16" y="371"/>
                    </a:lnTo>
                    <a:lnTo>
                      <a:pt x="10" y="346"/>
                    </a:lnTo>
                    <a:lnTo>
                      <a:pt x="4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4" y="213"/>
                    </a:lnTo>
                    <a:lnTo>
                      <a:pt x="9" y="186"/>
                    </a:lnTo>
                    <a:lnTo>
                      <a:pt x="15" y="161"/>
                    </a:lnTo>
                    <a:lnTo>
                      <a:pt x="24" y="138"/>
                    </a:lnTo>
                    <a:lnTo>
                      <a:pt x="34" y="116"/>
                    </a:lnTo>
                    <a:lnTo>
                      <a:pt x="47" y="95"/>
                    </a:lnTo>
                    <a:lnTo>
                      <a:pt x="61" y="76"/>
                    </a:lnTo>
                    <a:lnTo>
                      <a:pt x="77" y="60"/>
                    </a:lnTo>
                    <a:lnTo>
                      <a:pt x="95" y="45"/>
                    </a:lnTo>
                    <a:lnTo>
                      <a:pt x="115" y="31"/>
                    </a:lnTo>
                    <a:lnTo>
                      <a:pt x="137" y="20"/>
                    </a:lnTo>
                    <a:lnTo>
                      <a:pt x="160" y="12"/>
                    </a:lnTo>
                    <a:lnTo>
                      <a:pt x="185" y="5"/>
                    </a:lnTo>
                    <a:lnTo>
                      <a:pt x="213" y="2"/>
                    </a:lnTo>
                    <a:lnTo>
                      <a:pt x="242" y="0"/>
                    </a:lnTo>
                    <a:lnTo>
                      <a:pt x="271" y="2"/>
                    </a:lnTo>
                    <a:lnTo>
                      <a:pt x="297" y="5"/>
                    </a:lnTo>
                    <a:lnTo>
                      <a:pt x="322" y="12"/>
                    </a:lnTo>
                    <a:lnTo>
                      <a:pt x="345" y="20"/>
                    </a:lnTo>
                    <a:lnTo>
                      <a:pt x="366" y="31"/>
                    </a:lnTo>
                    <a:lnTo>
                      <a:pt x="385" y="45"/>
                    </a:lnTo>
                    <a:lnTo>
                      <a:pt x="402" y="60"/>
                    </a:lnTo>
                    <a:lnTo>
                      <a:pt x="418" y="76"/>
                    </a:lnTo>
                    <a:lnTo>
                      <a:pt x="431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0" y="161"/>
                    </a:lnTo>
                    <a:lnTo>
                      <a:pt x="467" y="185"/>
                    </a:lnTo>
                    <a:lnTo>
                      <a:pt x="471" y="210"/>
                    </a:lnTo>
                    <a:lnTo>
                      <a:pt x="474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5" y="280"/>
                    </a:lnTo>
                    <a:close/>
                    <a:moveTo>
                      <a:pt x="379" y="207"/>
                    </a:moveTo>
                    <a:lnTo>
                      <a:pt x="373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5" y="117"/>
                    </a:lnTo>
                    <a:lnTo>
                      <a:pt x="316" y="103"/>
                    </a:lnTo>
                    <a:lnTo>
                      <a:pt x="294" y="92"/>
                    </a:lnTo>
                    <a:lnTo>
                      <a:pt x="270" y="85"/>
                    </a:lnTo>
                    <a:lnTo>
                      <a:pt x="242" y="83"/>
                    </a:lnTo>
                    <a:lnTo>
                      <a:pt x="215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1" y="137"/>
                    </a:lnTo>
                    <a:lnTo>
                      <a:pt x="117" y="158"/>
                    </a:lnTo>
                    <a:lnTo>
                      <a:pt x="107" y="182"/>
                    </a:lnTo>
                    <a:lnTo>
                      <a:pt x="101" y="207"/>
                    </a:lnTo>
                    <a:lnTo>
                      <a:pt x="379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177200" y="846000"/>
                <a:ext cx="2052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211400" y="882720"/>
                <a:ext cx="9972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7" y="280"/>
                    </a:moveTo>
                    <a:lnTo>
                      <a:pt x="99" y="311"/>
                    </a:lnTo>
                    <a:lnTo>
                      <a:pt x="108" y="341"/>
                    </a:lnTo>
                    <a:lnTo>
                      <a:pt x="120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9" y="415"/>
                    </a:lnTo>
                    <a:lnTo>
                      <a:pt x="171" y="423"/>
                    </a:lnTo>
                    <a:lnTo>
                      <a:pt x="185" y="431"/>
                    </a:lnTo>
                    <a:lnTo>
                      <a:pt x="199" y="437"/>
                    </a:lnTo>
                    <a:lnTo>
                      <a:pt x="213" y="441"/>
                    </a:lnTo>
                    <a:lnTo>
                      <a:pt x="230" y="443"/>
                    </a:lnTo>
                    <a:lnTo>
                      <a:pt x="246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6" y="430"/>
                    </a:lnTo>
                    <a:lnTo>
                      <a:pt x="335" y="418"/>
                    </a:lnTo>
                    <a:lnTo>
                      <a:pt x="351" y="405"/>
                    </a:lnTo>
                    <a:lnTo>
                      <a:pt x="367" y="388"/>
                    </a:lnTo>
                    <a:lnTo>
                      <a:pt x="381" y="368"/>
                    </a:lnTo>
                    <a:lnTo>
                      <a:pt x="395" y="348"/>
                    </a:lnTo>
                    <a:lnTo>
                      <a:pt x="475" y="394"/>
                    </a:lnTo>
                    <a:lnTo>
                      <a:pt x="457" y="424"/>
                    </a:lnTo>
                    <a:lnTo>
                      <a:pt x="434" y="451"/>
                    </a:lnTo>
                    <a:lnTo>
                      <a:pt x="407" y="474"/>
                    </a:lnTo>
                    <a:lnTo>
                      <a:pt x="379" y="494"/>
                    </a:lnTo>
                    <a:lnTo>
                      <a:pt x="348" y="509"/>
                    </a:lnTo>
                    <a:lnTo>
                      <a:pt x="315" y="520"/>
                    </a:lnTo>
                    <a:lnTo>
                      <a:pt x="281" y="528"/>
                    </a:lnTo>
                    <a:lnTo>
                      <a:pt x="245" y="530"/>
                    </a:lnTo>
                    <a:lnTo>
                      <a:pt x="218" y="528"/>
                    </a:lnTo>
                    <a:lnTo>
                      <a:pt x="191" y="524"/>
                    </a:lnTo>
                    <a:lnTo>
                      <a:pt x="166" y="518"/>
                    </a:lnTo>
                    <a:lnTo>
                      <a:pt x="143" y="509"/>
                    </a:lnTo>
                    <a:lnTo>
                      <a:pt x="121" y="498"/>
                    </a:lnTo>
                    <a:lnTo>
                      <a:pt x="101" y="485"/>
                    </a:lnTo>
                    <a:lnTo>
                      <a:pt x="83" y="471"/>
                    </a:lnTo>
                    <a:lnTo>
                      <a:pt x="66" y="454"/>
                    </a:lnTo>
                    <a:lnTo>
                      <a:pt x="51" y="435"/>
                    </a:lnTo>
                    <a:lnTo>
                      <a:pt x="38" y="416"/>
                    </a:lnTo>
                    <a:lnTo>
                      <a:pt x="27" y="394"/>
                    </a:lnTo>
                    <a:lnTo>
                      <a:pt x="18" y="371"/>
                    </a:lnTo>
                    <a:lnTo>
                      <a:pt x="10" y="346"/>
                    </a:lnTo>
                    <a:lnTo>
                      <a:pt x="5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5" y="213"/>
                    </a:lnTo>
                    <a:lnTo>
                      <a:pt x="9" y="186"/>
                    </a:lnTo>
                    <a:lnTo>
                      <a:pt x="16" y="161"/>
                    </a:lnTo>
                    <a:lnTo>
                      <a:pt x="24" y="138"/>
                    </a:lnTo>
                    <a:lnTo>
                      <a:pt x="35" y="116"/>
                    </a:lnTo>
                    <a:lnTo>
                      <a:pt x="48" y="95"/>
                    </a:lnTo>
                    <a:lnTo>
                      <a:pt x="62" y="76"/>
                    </a:lnTo>
                    <a:lnTo>
                      <a:pt x="78" y="60"/>
                    </a:lnTo>
                    <a:lnTo>
                      <a:pt x="96" y="45"/>
                    </a:lnTo>
                    <a:lnTo>
                      <a:pt x="116" y="31"/>
                    </a:lnTo>
                    <a:lnTo>
                      <a:pt x="137" y="20"/>
                    </a:lnTo>
                    <a:lnTo>
                      <a:pt x="162" y="12"/>
                    </a:lnTo>
                    <a:lnTo>
                      <a:pt x="187" y="5"/>
                    </a:lnTo>
                    <a:lnTo>
                      <a:pt x="214" y="2"/>
                    </a:lnTo>
                    <a:lnTo>
                      <a:pt x="243" y="0"/>
                    </a:lnTo>
                    <a:lnTo>
                      <a:pt x="271" y="2"/>
                    </a:lnTo>
                    <a:lnTo>
                      <a:pt x="299" y="5"/>
                    </a:lnTo>
                    <a:lnTo>
                      <a:pt x="323" y="12"/>
                    </a:lnTo>
                    <a:lnTo>
                      <a:pt x="346" y="20"/>
                    </a:lnTo>
                    <a:lnTo>
                      <a:pt x="367" y="31"/>
                    </a:lnTo>
                    <a:lnTo>
                      <a:pt x="386" y="45"/>
                    </a:lnTo>
                    <a:lnTo>
                      <a:pt x="403" y="60"/>
                    </a:lnTo>
                    <a:lnTo>
                      <a:pt x="418" y="76"/>
                    </a:lnTo>
                    <a:lnTo>
                      <a:pt x="432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1" y="161"/>
                    </a:lnTo>
                    <a:lnTo>
                      <a:pt x="468" y="185"/>
                    </a:lnTo>
                    <a:lnTo>
                      <a:pt x="472" y="210"/>
                    </a:lnTo>
                    <a:lnTo>
                      <a:pt x="475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7" y="280"/>
                    </a:lnTo>
                    <a:close/>
                    <a:moveTo>
                      <a:pt x="380" y="207"/>
                    </a:moveTo>
                    <a:lnTo>
                      <a:pt x="374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6" y="117"/>
                    </a:lnTo>
                    <a:lnTo>
                      <a:pt x="317" y="103"/>
                    </a:lnTo>
                    <a:lnTo>
                      <a:pt x="295" y="92"/>
                    </a:lnTo>
                    <a:lnTo>
                      <a:pt x="270" y="85"/>
                    </a:lnTo>
                    <a:lnTo>
                      <a:pt x="243" y="83"/>
                    </a:lnTo>
                    <a:lnTo>
                      <a:pt x="216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2" y="137"/>
                    </a:lnTo>
                    <a:lnTo>
                      <a:pt x="119" y="158"/>
                    </a:lnTo>
                    <a:lnTo>
                      <a:pt x="108" y="182"/>
                    </a:lnTo>
                    <a:lnTo>
                      <a:pt x="101" y="207"/>
                    </a:lnTo>
                    <a:lnTo>
                      <a:pt x="380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326960" y="882720"/>
                <a:ext cx="84240" cy="101520"/>
              </a:xfrm>
              <a:custGeom>
                <a:avLst/>
                <a:gdLst/>
                <a:ahLst/>
                <a:rect l="l" t="t" r="r" b="b"/>
                <a:pathLst>
                  <a:path w="404" h="530">
                    <a:moveTo>
                      <a:pt x="404" y="157"/>
                    </a:moveTo>
                    <a:lnTo>
                      <a:pt x="389" y="141"/>
                    </a:lnTo>
                    <a:lnTo>
                      <a:pt x="373" y="127"/>
                    </a:lnTo>
                    <a:lnTo>
                      <a:pt x="358" y="116"/>
                    </a:lnTo>
                    <a:lnTo>
                      <a:pt x="340" y="106"/>
                    </a:lnTo>
                    <a:lnTo>
                      <a:pt x="321" y="99"/>
                    </a:lnTo>
                    <a:lnTo>
                      <a:pt x="303" y="94"/>
                    </a:lnTo>
                    <a:lnTo>
                      <a:pt x="283" y="91"/>
                    </a:lnTo>
                    <a:lnTo>
                      <a:pt x="261" y="90"/>
                    </a:lnTo>
                    <a:lnTo>
                      <a:pt x="245" y="91"/>
                    </a:lnTo>
                    <a:lnTo>
                      <a:pt x="227" y="93"/>
                    </a:lnTo>
                    <a:lnTo>
                      <a:pt x="212" y="97"/>
                    </a:lnTo>
                    <a:lnTo>
                      <a:pt x="196" y="104"/>
                    </a:lnTo>
                    <a:lnTo>
                      <a:pt x="182" y="112"/>
                    </a:lnTo>
                    <a:lnTo>
                      <a:pt x="168" y="120"/>
                    </a:lnTo>
                    <a:lnTo>
                      <a:pt x="156" y="130"/>
                    </a:lnTo>
                    <a:lnTo>
                      <a:pt x="144" y="142"/>
                    </a:lnTo>
                    <a:lnTo>
                      <a:pt x="133" y="154"/>
                    </a:lnTo>
                    <a:lnTo>
                      <a:pt x="124" y="169"/>
                    </a:lnTo>
                    <a:lnTo>
                      <a:pt x="115" y="183"/>
                    </a:lnTo>
                    <a:lnTo>
                      <a:pt x="109" y="198"/>
                    </a:lnTo>
                    <a:lnTo>
                      <a:pt x="103" y="214"/>
                    </a:lnTo>
                    <a:lnTo>
                      <a:pt x="99" y="230"/>
                    </a:lnTo>
                    <a:lnTo>
                      <a:pt x="97" y="247"/>
                    </a:lnTo>
                    <a:lnTo>
                      <a:pt x="96" y="264"/>
                    </a:lnTo>
                    <a:lnTo>
                      <a:pt x="97" y="283"/>
                    </a:lnTo>
                    <a:lnTo>
                      <a:pt x="99" y="300"/>
                    </a:lnTo>
                    <a:lnTo>
                      <a:pt x="103" y="318"/>
                    </a:lnTo>
                    <a:lnTo>
                      <a:pt x="109" y="334"/>
                    </a:lnTo>
                    <a:lnTo>
                      <a:pt x="115" y="350"/>
                    </a:lnTo>
                    <a:lnTo>
                      <a:pt x="124" y="364"/>
                    </a:lnTo>
                    <a:lnTo>
                      <a:pt x="133" y="378"/>
                    </a:lnTo>
                    <a:lnTo>
                      <a:pt x="144" y="390"/>
                    </a:lnTo>
                    <a:lnTo>
                      <a:pt x="156" y="401"/>
                    </a:lnTo>
                    <a:lnTo>
                      <a:pt x="169" y="411"/>
                    </a:lnTo>
                    <a:lnTo>
                      <a:pt x="183" y="420"/>
                    </a:lnTo>
                    <a:lnTo>
                      <a:pt x="199" y="427"/>
                    </a:lnTo>
                    <a:lnTo>
                      <a:pt x="215" y="432"/>
                    </a:lnTo>
                    <a:lnTo>
                      <a:pt x="232" y="437"/>
                    </a:lnTo>
                    <a:lnTo>
                      <a:pt x="249" y="439"/>
                    </a:lnTo>
                    <a:lnTo>
                      <a:pt x="268" y="440"/>
                    </a:lnTo>
                    <a:lnTo>
                      <a:pt x="289" y="439"/>
                    </a:lnTo>
                    <a:lnTo>
                      <a:pt x="307" y="435"/>
                    </a:lnTo>
                    <a:lnTo>
                      <a:pt x="326" y="430"/>
                    </a:lnTo>
                    <a:lnTo>
                      <a:pt x="343" y="422"/>
                    </a:lnTo>
                    <a:lnTo>
                      <a:pt x="360" y="412"/>
                    </a:lnTo>
                    <a:lnTo>
                      <a:pt x="375" y="401"/>
                    </a:lnTo>
                    <a:lnTo>
                      <a:pt x="389" y="388"/>
                    </a:lnTo>
                    <a:lnTo>
                      <a:pt x="404" y="374"/>
                    </a:lnTo>
                    <a:lnTo>
                      <a:pt x="404" y="497"/>
                    </a:lnTo>
                    <a:lnTo>
                      <a:pt x="371" y="511"/>
                    </a:lnTo>
                    <a:lnTo>
                      <a:pt x="338" y="522"/>
                    </a:lnTo>
                    <a:lnTo>
                      <a:pt x="303" y="528"/>
                    </a:lnTo>
                    <a:lnTo>
                      <a:pt x="267" y="530"/>
                    </a:lnTo>
                    <a:lnTo>
                      <a:pt x="239" y="528"/>
                    </a:lnTo>
                    <a:lnTo>
                      <a:pt x="213" y="524"/>
                    </a:lnTo>
                    <a:lnTo>
                      <a:pt x="188" y="518"/>
                    </a:lnTo>
                    <a:lnTo>
                      <a:pt x="164" y="509"/>
                    </a:lnTo>
                    <a:lnTo>
                      <a:pt x="140" y="499"/>
                    </a:lnTo>
                    <a:lnTo>
                      <a:pt x="119" y="486"/>
                    </a:lnTo>
                    <a:lnTo>
                      <a:pt x="98" y="472"/>
                    </a:lnTo>
                    <a:lnTo>
                      <a:pt x="79" y="454"/>
                    </a:lnTo>
                    <a:lnTo>
                      <a:pt x="62" y="437"/>
                    </a:lnTo>
                    <a:lnTo>
                      <a:pt x="46" y="416"/>
                    </a:lnTo>
                    <a:lnTo>
                      <a:pt x="33" y="395"/>
                    </a:lnTo>
                    <a:lnTo>
                      <a:pt x="21" y="372"/>
                    </a:lnTo>
                    <a:lnTo>
                      <a:pt x="12" y="348"/>
                    </a:lnTo>
                    <a:lnTo>
                      <a:pt x="6" y="322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6" y="213"/>
                    </a:lnTo>
                    <a:lnTo>
                      <a:pt x="12" y="186"/>
                    </a:lnTo>
                    <a:lnTo>
                      <a:pt x="21" y="161"/>
                    </a:lnTo>
                    <a:lnTo>
                      <a:pt x="33" y="138"/>
                    </a:lnTo>
                    <a:lnTo>
                      <a:pt x="46" y="115"/>
                    </a:lnTo>
                    <a:lnTo>
                      <a:pt x="62" y="95"/>
                    </a:lnTo>
                    <a:lnTo>
                      <a:pt x="79" y="76"/>
                    </a:lnTo>
                    <a:lnTo>
                      <a:pt x="98" y="59"/>
                    </a:lnTo>
                    <a:lnTo>
                      <a:pt x="119" y="45"/>
                    </a:lnTo>
                    <a:lnTo>
                      <a:pt x="142" y="31"/>
                    </a:lnTo>
                    <a:lnTo>
                      <a:pt x="165" y="20"/>
                    </a:lnTo>
                    <a:lnTo>
                      <a:pt x="190" y="12"/>
                    </a:lnTo>
                    <a:lnTo>
                      <a:pt x="216" y="5"/>
                    </a:lnTo>
                    <a:lnTo>
                      <a:pt x="244" y="2"/>
                    </a:lnTo>
                    <a:lnTo>
                      <a:pt x="272" y="0"/>
                    </a:lnTo>
                    <a:lnTo>
                      <a:pt x="306" y="2"/>
                    </a:lnTo>
                    <a:lnTo>
                      <a:pt x="340" y="8"/>
                    </a:lnTo>
                    <a:lnTo>
                      <a:pt x="373" y="18"/>
                    </a:lnTo>
                    <a:lnTo>
                      <a:pt x="404" y="32"/>
                    </a:lnTo>
                    <a:lnTo>
                      <a:pt x="404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423440" y="882720"/>
                <a:ext cx="111600" cy="101520"/>
              </a:xfrm>
              <a:custGeom>
                <a:avLst/>
                <a:gdLst/>
                <a:ahLst/>
                <a:rect l="l" t="t" r="r" b="b"/>
                <a:pathLst>
                  <a:path w="532" h="530">
                    <a:moveTo>
                      <a:pt x="532" y="264"/>
                    </a:moveTo>
                    <a:lnTo>
                      <a:pt x="530" y="293"/>
                    </a:lnTo>
                    <a:lnTo>
                      <a:pt x="527" y="319"/>
                    </a:lnTo>
                    <a:lnTo>
                      <a:pt x="520" y="344"/>
                    </a:lnTo>
                    <a:lnTo>
                      <a:pt x="511" y="370"/>
                    </a:lnTo>
                    <a:lnTo>
                      <a:pt x="501" y="393"/>
                    </a:lnTo>
                    <a:lnTo>
                      <a:pt x="487" y="415"/>
                    </a:lnTo>
                    <a:lnTo>
                      <a:pt x="472" y="434"/>
                    </a:lnTo>
                    <a:lnTo>
                      <a:pt x="454" y="453"/>
                    </a:lnTo>
                    <a:lnTo>
                      <a:pt x="436" y="471"/>
                    </a:lnTo>
                    <a:lnTo>
                      <a:pt x="416" y="485"/>
                    </a:lnTo>
                    <a:lnTo>
                      <a:pt x="394" y="498"/>
                    </a:lnTo>
                    <a:lnTo>
                      <a:pt x="370" y="509"/>
                    </a:lnTo>
                    <a:lnTo>
                      <a:pt x="346" y="518"/>
                    </a:lnTo>
                    <a:lnTo>
                      <a:pt x="321" y="524"/>
                    </a:lnTo>
                    <a:lnTo>
                      <a:pt x="293" y="528"/>
                    </a:lnTo>
                    <a:lnTo>
                      <a:pt x="266" y="530"/>
                    </a:lnTo>
                    <a:lnTo>
                      <a:pt x="238" y="528"/>
                    </a:lnTo>
                    <a:lnTo>
                      <a:pt x="212" y="524"/>
                    </a:lnTo>
                    <a:lnTo>
                      <a:pt x="187" y="518"/>
                    </a:lnTo>
                    <a:lnTo>
                      <a:pt x="162" y="509"/>
                    </a:lnTo>
                    <a:lnTo>
                      <a:pt x="139" y="498"/>
                    </a:lnTo>
                    <a:lnTo>
                      <a:pt x="117" y="485"/>
                    </a:lnTo>
                    <a:lnTo>
                      <a:pt x="97" y="471"/>
                    </a:lnTo>
                    <a:lnTo>
                      <a:pt x="78" y="453"/>
                    </a:lnTo>
                    <a:lnTo>
                      <a:pt x="61" y="434"/>
                    </a:lnTo>
                    <a:lnTo>
                      <a:pt x="45" y="415"/>
                    </a:lnTo>
                    <a:lnTo>
                      <a:pt x="32" y="393"/>
                    </a:lnTo>
                    <a:lnTo>
                      <a:pt x="21" y="370"/>
                    </a:lnTo>
                    <a:lnTo>
                      <a:pt x="12" y="344"/>
                    </a:lnTo>
                    <a:lnTo>
                      <a:pt x="6" y="319"/>
                    </a:lnTo>
                    <a:lnTo>
                      <a:pt x="3" y="293"/>
                    </a:lnTo>
                    <a:lnTo>
                      <a:pt x="0" y="264"/>
                    </a:lnTo>
                    <a:lnTo>
                      <a:pt x="3" y="237"/>
                    </a:lnTo>
                    <a:lnTo>
                      <a:pt x="6" y="210"/>
                    </a:lnTo>
                    <a:lnTo>
                      <a:pt x="12" y="185"/>
                    </a:lnTo>
                    <a:lnTo>
                      <a:pt x="21" y="160"/>
                    </a:lnTo>
                    <a:lnTo>
                      <a:pt x="32" y="137"/>
                    </a:lnTo>
                    <a:lnTo>
                      <a:pt x="45" y="115"/>
                    </a:lnTo>
                    <a:lnTo>
                      <a:pt x="61" y="95"/>
                    </a:lnTo>
                    <a:lnTo>
                      <a:pt x="78" y="76"/>
                    </a:lnTo>
                    <a:lnTo>
                      <a:pt x="97" y="59"/>
                    </a:lnTo>
                    <a:lnTo>
                      <a:pt x="117" y="45"/>
                    </a:lnTo>
                    <a:lnTo>
                      <a:pt x="139" y="31"/>
                    </a:lnTo>
                    <a:lnTo>
                      <a:pt x="162" y="20"/>
                    </a:lnTo>
                    <a:lnTo>
                      <a:pt x="187" y="12"/>
                    </a:lnTo>
                    <a:lnTo>
                      <a:pt x="212" y="5"/>
                    </a:lnTo>
                    <a:lnTo>
                      <a:pt x="238" y="2"/>
                    </a:lnTo>
                    <a:lnTo>
                      <a:pt x="266" y="0"/>
                    </a:lnTo>
                    <a:lnTo>
                      <a:pt x="293" y="2"/>
                    </a:lnTo>
                    <a:lnTo>
                      <a:pt x="321" y="5"/>
                    </a:lnTo>
                    <a:lnTo>
                      <a:pt x="346" y="12"/>
                    </a:lnTo>
                    <a:lnTo>
                      <a:pt x="370" y="20"/>
                    </a:lnTo>
                    <a:lnTo>
                      <a:pt x="394" y="31"/>
                    </a:lnTo>
                    <a:lnTo>
                      <a:pt x="416" y="45"/>
                    </a:lnTo>
                    <a:lnTo>
                      <a:pt x="436" y="59"/>
                    </a:lnTo>
                    <a:lnTo>
                      <a:pt x="454" y="76"/>
                    </a:lnTo>
                    <a:lnTo>
                      <a:pt x="472" y="95"/>
                    </a:lnTo>
                    <a:lnTo>
                      <a:pt x="487" y="115"/>
                    </a:lnTo>
                    <a:lnTo>
                      <a:pt x="501" y="137"/>
                    </a:lnTo>
                    <a:lnTo>
                      <a:pt x="511" y="160"/>
                    </a:lnTo>
                    <a:lnTo>
                      <a:pt x="520" y="185"/>
                    </a:lnTo>
                    <a:lnTo>
                      <a:pt x="527" y="210"/>
                    </a:lnTo>
                    <a:lnTo>
                      <a:pt x="530" y="237"/>
                    </a:lnTo>
                    <a:lnTo>
                      <a:pt x="532" y="264"/>
                    </a:lnTo>
                    <a:close/>
                    <a:moveTo>
                      <a:pt x="96" y="264"/>
                    </a:moveTo>
                    <a:lnTo>
                      <a:pt x="97" y="282"/>
                    </a:lnTo>
                    <a:lnTo>
                      <a:pt x="100" y="299"/>
                    </a:lnTo>
                    <a:lnTo>
                      <a:pt x="103" y="316"/>
                    </a:lnTo>
                    <a:lnTo>
                      <a:pt x="110" y="331"/>
                    </a:lnTo>
                    <a:lnTo>
                      <a:pt x="117" y="346"/>
                    </a:lnTo>
                    <a:lnTo>
                      <a:pt x="125" y="361"/>
                    </a:lnTo>
                    <a:lnTo>
                      <a:pt x="135" y="374"/>
                    </a:lnTo>
                    <a:lnTo>
                      <a:pt x="146" y="386"/>
                    </a:lnTo>
                    <a:lnTo>
                      <a:pt x="158" y="398"/>
                    </a:lnTo>
                    <a:lnTo>
                      <a:pt x="171" y="408"/>
                    </a:lnTo>
                    <a:lnTo>
                      <a:pt x="185" y="417"/>
                    </a:lnTo>
                    <a:lnTo>
                      <a:pt x="200" y="424"/>
                    </a:lnTo>
                    <a:lnTo>
                      <a:pt x="215" y="430"/>
                    </a:lnTo>
                    <a:lnTo>
                      <a:pt x="232" y="434"/>
                    </a:lnTo>
                    <a:lnTo>
                      <a:pt x="248" y="437"/>
                    </a:lnTo>
                    <a:lnTo>
                      <a:pt x="266" y="438"/>
                    </a:lnTo>
                    <a:lnTo>
                      <a:pt x="283" y="437"/>
                    </a:lnTo>
                    <a:lnTo>
                      <a:pt x="301" y="434"/>
                    </a:lnTo>
                    <a:lnTo>
                      <a:pt x="317" y="430"/>
                    </a:lnTo>
                    <a:lnTo>
                      <a:pt x="333" y="424"/>
                    </a:lnTo>
                    <a:lnTo>
                      <a:pt x="348" y="417"/>
                    </a:lnTo>
                    <a:lnTo>
                      <a:pt x="361" y="408"/>
                    </a:lnTo>
                    <a:lnTo>
                      <a:pt x="374" y="398"/>
                    </a:lnTo>
                    <a:lnTo>
                      <a:pt x="386" y="386"/>
                    </a:lnTo>
                    <a:lnTo>
                      <a:pt x="397" y="374"/>
                    </a:lnTo>
                    <a:lnTo>
                      <a:pt x="407" y="361"/>
                    </a:lnTo>
                    <a:lnTo>
                      <a:pt x="416" y="346"/>
                    </a:lnTo>
                    <a:lnTo>
                      <a:pt x="423" y="331"/>
                    </a:lnTo>
                    <a:lnTo>
                      <a:pt x="428" y="316"/>
                    </a:lnTo>
                    <a:lnTo>
                      <a:pt x="433" y="299"/>
                    </a:lnTo>
                    <a:lnTo>
                      <a:pt x="436" y="282"/>
                    </a:lnTo>
                    <a:lnTo>
                      <a:pt x="436" y="264"/>
                    </a:lnTo>
                    <a:lnTo>
                      <a:pt x="436" y="248"/>
                    </a:lnTo>
                    <a:lnTo>
                      <a:pt x="433" y="230"/>
                    </a:lnTo>
                    <a:lnTo>
                      <a:pt x="428" y="214"/>
                    </a:lnTo>
                    <a:lnTo>
                      <a:pt x="423" y="197"/>
                    </a:lnTo>
                    <a:lnTo>
                      <a:pt x="416" y="183"/>
                    </a:lnTo>
                    <a:lnTo>
                      <a:pt x="407" y="169"/>
                    </a:lnTo>
                    <a:lnTo>
                      <a:pt x="397" y="154"/>
                    </a:lnTo>
                    <a:lnTo>
                      <a:pt x="386" y="142"/>
                    </a:lnTo>
                    <a:lnTo>
                      <a:pt x="374" y="131"/>
                    </a:lnTo>
                    <a:lnTo>
                      <a:pt x="361" y="121"/>
                    </a:lnTo>
                    <a:lnTo>
                      <a:pt x="348" y="113"/>
                    </a:lnTo>
                    <a:lnTo>
                      <a:pt x="333" y="105"/>
                    </a:lnTo>
                    <a:lnTo>
                      <a:pt x="317" y="99"/>
                    </a:lnTo>
                    <a:lnTo>
                      <a:pt x="301" y="95"/>
                    </a:lnTo>
                    <a:lnTo>
                      <a:pt x="283" y="92"/>
                    </a:lnTo>
                    <a:lnTo>
                      <a:pt x="266" y="92"/>
                    </a:lnTo>
                    <a:lnTo>
                      <a:pt x="248" y="92"/>
                    </a:lnTo>
                    <a:lnTo>
                      <a:pt x="232" y="95"/>
                    </a:lnTo>
                    <a:lnTo>
                      <a:pt x="215" y="99"/>
                    </a:lnTo>
                    <a:lnTo>
                      <a:pt x="200" y="105"/>
                    </a:lnTo>
                    <a:lnTo>
                      <a:pt x="185" y="113"/>
                    </a:lnTo>
                    <a:lnTo>
                      <a:pt x="171" y="121"/>
                    </a:lnTo>
                    <a:lnTo>
                      <a:pt x="158" y="131"/>
                    </a:lnTo>
                    <a:lnTo>
                      <a:pt x="146" y="142"/>
                    </a:lnTo>
                    <a:lnTo>
                      <a:pt x="135" y="154"/>
                    </a:lnTo>
                    <a:lnTo>
                      <a:pt x="125" y="169"/>
                    </a:lnTo>
                    <a:lnTo>
                      <a:pt x="117" y="183"/>
                    </a:lnTo>
                    <a:lnTo>
                      <a:pt x="110" y="197"/>
                    </a:lnTo>
                    <a:lnTo>
                      <a:pt x="103" y="214"/>
                    </a:lnTo>
                    <a:lnTo>
                      <a:pt x="100" y="230"/>
                    </a:lnTo>
                    <a:lnTo>
                      <a:pt x="97" y="248"/>
                    </a:lnTo>
                    <a:lnTo>
                      <a:pt x="96" y="2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549440" y="882720"/>
                <a:ext cx="144360" cy="98280"/>
              </a:xfrm>
              <a:custGeom>
                <a:avLst/>
                <a:gdLst/>
                <a:ahLst/>
                <a:rect l="l" t="t" r="r" b="b"/>
                <a:pathLst>
                  <a:path w="690" h="512">
                    <a:moveTo>
                      <a:pt x="96" y="77"/>
                    </a:moveTo>
                    <a:lnTo>
                      <a:pt x="98" y="77"/>
                    </a:lnTo>
                    <a:lnTo>
                      <a:pt x="109" y="62"/>
                    </a:lnTo>
                    <a:lnTo>
                      <a:pt x="122" y="47"/>
                    </a:lnTo>
                    <a:lnTo>
                      <a:pt x="137" y="34"/>
                    </a:lnTo>
                    <a:lnTo>
                      <a:pt x="154" y="23"/>
                    </a:lnTo>
                    <a:lnTo>
                      <a:pt x="171" y="13"/>
                    </a:lnTo>
                    <a:lnTo>
                      <a:pt x="190" y="6"/>
                    </a:lnTo>
                    <a:lnTo>
                      <a:pt x="210" y="2"/>
                    </a:lnTo>
                    <a:lnTo>
                      <a:pt x="229" y="0"/>
                    </a:lnTo>
                    <a:lnTo>
                      <a:pt x="253" y="2"/>
                    </a:lnTo>
                    <a:lnTo>
                      <a:pt x="274" y="6"/>
                    </a:lnTo>
                    <a:lnTo>
                      <a:pt x="295" y="13"/>
                    </a:lnTo>
                    <a:lnTo>
                      <a:pt x="314" y="24"/>
                    </a:lnTo>
                    <a:lnTo>
                      <a:pt x="330" y="36"/>
                    </a:lnTo>
                    <a:lnTo>
                      <a:pt x="346" y="51"/>
                    </a:lnTo>
                    <a:lnTo>
                      <a:pt x="360" y="69"/>
                    </a:lnTo>
                    <a:lnTo>
                      <a:pt x="373" y="88"/>
                    </a:lnTo>
                    <a:lnTo>
                      <a:pt x="385" y="69"/>
                    </a:lnTo>
                    <a:lnTo>
                      <a:pt x="401" y="52"/>
                    </a:lnTo>
                    <a:lnTo>
                      <a:pt x="418" y="37"/>
                    </a:lnTo>
                    <a:lnTo>
                      <a:pt x="438" y="24"/>
                    </a:lnTo>
                    <a:lnTo>
                      <a:pt x="458" y="14"/>
                    </a:lnTo>
                    <a:lnTo>
                      <a:pt x="480" y="6"/>
                    </a:lnTo>
                    <a:lnTo>
                      <a:pt x="503" y="2"/>
                    </a:lnTo>
                    <a:lnTo>
                      <a:pt x="526" y="0"/>
                    </a:lnTo>
                    <a:lnTo>
                      <a:pt x="550" y="1"/>
                    </a:lnTo>
                    <a:lnTo>
                      <a:pt x="571" y="5"/>
                    </a:lnTo>
                    <a:lnTo>
                      <a:pt x="589" y="11"/>
                    </a:lnTo>
                    <a:lnTo>
                      <a:pt x="607" y="17"/>
                    </a:lnTo>
                    <a:lnTo>
                      <a:pt x="622" y="27"/>
                    </a:lnTo>
                    <a:lnTo>
                      <a:pt x="635" y="38"/>
                    </a:lnTo>
                    <a:lnTo>
                      <a:pt x="647" y="51"/>
                    </a:lnTo>
                    <a:lnTo>
                      <a:pt x="657" y="65"/>
                    </a:lnTo>
                    <a:lnTo>
                      <a:pt x="666" y="81"/>
                    </a:lnTo>
                    <a:lnTo>
                      <a:pt x="673" y="97"/>
                    </a:lnTo>
                    <a:lnTo>
                      <a:pt x="678" y="115"/>
                    </a:lnTo>
                    <a:lnTo>
                      <a:pt x="684" y="133"/>
                    </a:lnTo>
                    <a:lnTo>
                      <a:pt x="689" y="173"/>
                    </a:lnTo>
                    <a:lnTo>
                      <a:pt x="690" y="215"/>
                    </a:lnTo>
                    <a:lnTo>
                      <a:pt x="690" y="512"/>
                    </a:lnTo>
                    <a:lnTo>
                      <a:pt x="595" y="512"/>
                    </a:lnTo>
                    <a:lnTo>
                      <a:pt x="595" y="230"/>
                    </a:lnTo>
                    <a:lnTo>
                      <a:pt x="595" y="206"/>
                    </a:lnTo>
                    <a:lnTo>
                      <a:pt x="593" y="181"/>
                    </a:lnTo>
                    <a:lnTo>
                      <a:pt x="588" y="157"/>
                    </a:lnTo>
                    <a:lnTo>
                      <a:pt x="580" y="133"/>
                    </a:lnTo>
                    <a:lnTo>
                      <a:pt x="568" y="114"/>
                    </a:lnTo>
                    <a:lnTo>
                      <a:pt x="561" y="106"/>
                    </a:lnTo>
                    <a:lnTo>
                      <a:pt x="552" y="98"/>
                    </a:lnTo>
                    <a:lnTo>
                      <a:pt x="542" y="93"/>
                    </a:lnTo>
                    <a:lnTo>
                      <a:pt x="531" y="88"/>
                    </a:lnTo>
                    <a:lnTo>
                      <a:pt x="517" y="86"/>
                    </a:lnTo>
                    <a:lnTo>
                      <a:pt x="503" y="85"/>
                    </a:lnTo>
                    <a:lnTo>
                      <a:pt x="484" y="86"/>
                    </a:lnTo>
                    <a:lnTo>
                      <a:pt x="469" y="90"/>
                    </a:lnTo>
                    <a:lnTo>
                      <a:pt x="454" y="95"/>
                    </a:lnTo>
                    <a:lnTo>
                      <a:pt x="442" y="103"/>
                    </a:lnTo>
                    <a:lnTo>
                      <a:pt x="432" y="112"/>
                    </a:lnTo>
                    <a:lnTo>
                      <a:pt x="423" y="123"/>
                    </a:lnTo>
                    <a:lnTo>
                      <a:pt x="416" y="135"/>
                    </a:lnTo>
                    <a:lnTo>
                      <a:pt x="409" y="148"/>
                    </a:lnTo>
                    <a:lnTo>
                      <a:pt x="401" y="176"/>
                    </a:lnTo>
                    <a:lnTo>
                      <a:pt x="396" y="207"/>
                    </a:lnTo>
                    <a:lnTo>
                      <a:pt x="394" y="238"/>
                    </a:lnTo>
                    <a:lnTo>
                      <a:pt x="393" y="267"/>
                    </a:lnTo>
                    <a:lnTo>
                      <a:pt x="393" y="512"/>
                    </a:lnTo>
                    <a:lnTo>
                      <a:pt x="297" y="512"/>
                    </a:lnTo>
                    <a:lnTo>
                      <a:pt x="297" y="249"/>
                    </a:lnTo>
                    <a:lnTo>
                      <a:pt x="297" y="224"/>
                    </a:lnTo>
                    <a:lnTo>
                      <a:pt x="295" y="196"/>
                    </a:lnTo>
                    <a:lnTo>
                      <a:pt x="292" y="169"/>
                    </a:lnTo>
                    <a:lnTo>
                      <a:pt x="285" y="142"/>
                    </a:lnTo>
                    <a:lnTo>
                      <a:pt x="280" y="130"/>
                    </a:lnTo>
                    <a:lnTo>
                      <a:pt x="273" y="119"/>
                    </a:lnTo>
                    <a:lnTo>
                      <a:pt x="267" y="110"/>
                    </a:lnTo>
                    <a:lnTo>
                      <a:pt x="258" y="102"/>
                    </a:lnTo>
                    <a:lnTo>
                      <a:pt x="247" y="95"/>
                    </a:lnTo>
                    <a:lnTo>
                      <a:pt x="235" y="90"/>
                    </a:lnTo>
                    <a:lnTo>
                      <a:pt x="222" y="86"/>
                    </a:lnTo>
                    <a:lnTo>
                      <a:pt x="206" y="85"/>
                    </a:lnTo>
                    <a:lnTo>
                      <a:pt x="188" y="86"/>
                    </a:lnTo>
                    <a:lnTo>
                      <a:pt x="172" y="90"/>
                    </a:lnTo>
                    <a:lnTo>
                      <a:pt x="158" y="95"/>
                    </a:lnTo>
                    <a:lnTo>
                      <a:pt x="146" y="103"/>
                    </a:lnTo>
                    <a:lnTo>
                      <a:pt x="135" y="112"/>
                    </a:lnTo>
                    <a:lnTo>
                      <a:pt x="126" y="123"/>
                    </a:lnTo>
                    <a:lnTo>
                      <a:pt x="119" y="135"/>
                    </a:lnTo>
                    <a:lnTo>
                      <a:pt x="113" y="148"/>
                    </a:lnTo>
                    <a:lnTo>
                      <a:pt x="103" y="176"/>
                    </a:lnTo>
                    <a:lnTo>
                      <a:pt x="99" y="207"/>
                    </a:lnTo>
                    <a:lnTo>
                      <a:pt x="97" y="238"/>
                    </a:lnTo>
                    <a:lnTo>
                      <a:pt x="96" y="267"/>
                    </a:lnTo>
                    <a:lnTo>
                      <a:pt x="96" y="512"/>
                    </a:lnTo>
                    <a:lnTo>
                      <a:pt x="0" y="512"/>
                    </a:lnTo>
                    <a:lnTo>
                      <a:pt x="0" y="15"/>
                    </a:lnTo>
                    <a:lnTo>
                      <a:pt x="96" y="15"/>
                    </a:lnTo>
                    <a:lnTo>
                      <a:pt x="96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908640" y="1022400"/>
                <a:ext cx="9082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a-DK" sz="600" spc="-1" strike="noStrike">
                    <a:solidFill>
                      <a:srgbClr val="ffffff"/>
                    </a:solidFill>
                    <a:latin typeface="Futura Bk BT"/>
                  </a:rPr>
                  <a:t>www.kirktelecom.dk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5" name=""/>
          <p:cNvSpPr/>
          <p:nvPr/>
        </p:nvSpPr>
        <p:spPr>
          <a:xfrm>
            <a:off x="2228760" y="0"/>
            <a:ext cx="76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CCFP Administration Program Ver.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645000" y="4773600"/>
            <a:ext cx="450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тановка шаблона параметров карт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WU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3895560" y="517680"/>
            <a:ext cx="3867480" cy="405756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3650040" y="5140440"/>
            <a:ext cx="193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бавить/удали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645360" y="5506920"/>
            <a:ext cx="580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 можете сохранить данные в файле для использ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будущих инсталляци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799240" y="1203480"/>
            <a:ext cx="1706400" cy="49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5124600" y="1695240"/>
            <a:ext cx="1428480" cy="344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4800600" y="3981240"/>
            <a:ext cx="95400" cy="15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561F-9B15-4CDB-AD27-A01A0DE2E1DB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63480" y="3780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сновные компоненты систе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0" y="0"/>
            <a:ext cx="5657760" cy="6858000"/>
            <a:chOff x="0" y="0"/>
            <a:chExt cx="5657760" cy="6858000"/>
          </a:xfrm>
        </p:grpSpPr>
        <p:sp>
          <p:nvSpPr>
            <p:cNvPr id="68" name=""/>
            <p:cNvSpPr/>
            <p:nvPr/>
          </p:nvSpPr>
          <p:spPr>
            <a:xfrm>
              <a:off x="0" y="0"/>
              <a:ext cx="2057400" cy="3429000"/>
            </a:xfrm>
            <a:prstGeom prst="rect">
              <a:avLst/>
            </a:prstGeom>
            <a:solidFill>
              <a:srgbClr val="000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3429000"/>
              <a:ext cx="2057400" cy="3429000"/>
            </a:xfrm>
            <a:prstGeom prst="rect">
              <a:avLst/>
            </a:pr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47800" y="6324480"/>
              <a:ext cx="3045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53200" y="6324480"/>
              <a:ext cx="3045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185760" y="2055960"/>
              <a:ext cx="1574640" cy="271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" name=""/>
            <p:cNvGrpSpPr/>
            <p:nvPr/>
          </p:nvGrpSpPr>
          <p:grpSpPr>
            <a:xfrm>
              <a:off x="195120" y="380880"/>
              <a:ext cx="1517400" cy="821880"/>
              <a:chOff x="195120" y="380880"/>
              <a:chExt cx="1517400" cy="821880"/>
            </a:xfrm>
          </p:grpSpPr>
          <p:sp>
            <p:nvSpPr>
              <p:cNvPr id="74" name=""/>
              <p:cNvSpPr/>
              <p:nvPr/>
            </p:nvSpPr>
            <p:spPr>
              <a:xfrm>
                <a:off x="372960" y="380880"/>
                <a:ext cx="313200" cy="387360"/>
              </a:xfrm>
              <a:custGeom>
                <a:avLst/>
                <a:gdLst/>
                <a:ahLst/>
                <a:rect l="l" t="t" r="r" b="b"/>
                <a:pathLst>
                  <a:path w="1606" h="1987">
                    <a:moveTo>
                      <a:pt x="29" y="1655"/>
                    </a:moveTo>
                    <a:lnTo>
                      <a:pt x="79" y="1682"/>
                    </a:lnTo>
                    <a:lnTo>
                      <a:pt x="623" y="1957"/>
                    </a:lnTo>
                    <a:lnTo>
                      <a:pt x="684" y="1987"/>
                    </a:lnTo>
                    <a:lnTo>
                      <a:pt x="687" y="1916"/>
                    </a:lnTo>
                    <a:lnTo>
                      <a:pt x="691" y="1864"/>
                    </a:lnTo>
                    <a:lnTo>
                      <a:pt x="697" y="1814"/>
                    </a:lnTo>
                    <a:lnTo>
                      <a:pt x="704" y="1763"/>
                    </a:lnTo>
                    <a:lnTo>
                      <a:pt x="713" y="1714"/>
                    </a:lnTo>
                    <a:lnTo>
                      <a:pt x="724" y="1665"/>
                    </a:lnTo>
                    <a:lnTo>
                      <a:pt x="737" y="1616"/>
                    </a:lnTo>
                    <a:lnTo>
                      <a:pt x="751" y="1569"/>
                    </a:lnTo>
                    <a:lnTo>
                      <a:pt x="767" y="1522"/>
                    </a:lnTo>
                    <a:lnTo>
                      <a:pt x="784" y="1476"/>
                    </a:lnTo>
                    <a:lnTo>
                      <a:pt x="803" y="1431"/>
                    </a:lnTo>
                    <a:lnTo>
                      <a:pt x="824" y="1386"/>
                    </a:lnTo>
                    <a:lnTo>
                      <a:pt x="846" y="1343"/>
                    </a:lnTo>
                    <a:lnTo>
                      <a:pt x="869" y="1300"/>
                    </a:lnTo>
                    <a:lnTo>
                      <a:pt x="894" y="1257"/>
                    </a:lnTo>
                    <a:lnTo>
                      <a:pt x="920" y="1217"/>
                    </a:lnTo>
                    <a:lnTo>
                      <a:pt x="948" y="1177"/>
                    </a:lnTo>
                    <a:lnTo>
                      <a:pt x="976" y="1137"/>
                    </a:lnTo>
                    <a:lnTo>
                      <a:pt x="1007" y="1100"/>
                    </a:lnTo>
                    <a:lnTo>
                      <a:pt x="1038" y="1063"/>
                    </a:lnTo>
                    <a:lnTo>
                      <a:pt x="1071" y="1027"/>
                    </a:lnTo>
                    <a:lnTo>
                      <a:pt x="1105" y="993"/>
                    </a:lnTo>
                    <a:lnTo>
                      <a:pt x="1140" y="959"/>
                    </a:lnTo>
                    <a:lnTo>
                      <a:pt x="1176" y="927"/>
                    </a:lnTo>
                    <a:lnTo>
                      <a:pt x="1213" y="896"/>
                    </a:lnTo>
                    <a:lnTo>
                      <a:pt x="1250" y="866"/>
                    </a:lnTo>
                    <a:lnTo>
                      <a:pt x="1290" y="838"/>
                    </a:lnTo>
                    <a:lnTo>
                      <a:pt x="1331" y="810"/>
                    </a:lnTo>
                    <a:lnTo>
                      <a:pt x="1372" y="785"/>
                    </a:lnTo>
                    <a:lnTo>
                      <a:pt x="1414" y="760"/>
                    </a:lnTo>
                    <a:lnTo>
                      <a:pt x="1457" y="737"/>
                    </a:lnTo>
                    <a:lnTo>
                      <a:pt x="1501" y="716"/>
                    </a:lnTo>
                    <a:lnTo>
                      <a:pt x="1546" y="696"/>
                    </a:lnTo>
                    <a:lnTo>
                      <a:pt x="1584" y="680"/>
                    </a:lnTo>
                    <a:lnTo>
                      <a:pt x="1594" y="673"/>
                    </a:lnTo>
                    <a:lnTo>
                      <a:pt x="1600" y="665"/>
                    </a:lnTo>
                    <a:lnTo>
                      <a:pt x="1604" y="658"/>
                    </a:lnTo>
                    <a:lnTo>
                      <a:pt x="1606" y="650"/>
                    </a:lnTo>
                    <a:lnTo>
                      <a:pt x="1605" y="638"/>
                    </a:lnTo>
                    <a:lnTo>
                      <a:pt x="1603" y="632"/>
                    </a:lnTo>
                    <a:lnTo>
                      <a:pt x="1586" y="586"/>
                    </a:lnTo>
                    <a:lnTo>
                      <a:pt x="1385" y="31"/>
                    </a:lnTo>
                    <a:lnTo>
                      <a:pt x="1381" y="18"/>
                    </a:lnTo>
                    <a:lnTo>
                      <a:pt x="1380" y="13"/>
                    </a:lnTo>
                    <a:lnTo>
                      <a:pt x="1372" y="5"/>
                    </a:lnTo>
                    <a:lnTo>
                      <a:pt x="1367" y="2"/>
                    </a:lnTo>
                    <a:lnTo>
                      <a:pt x="1359" y="0"/>
                    </a:lnTo>
                    <a:lnTo>
                      <a:pt x="1349" y="0"/>
                    </a:lnTo>
                    <a:lnTo>
                      <a:pt x="1337" y="3"/>
                    </a:lnTo>
                    <a:lnTo>
                      <a:pt x="1307" y="14"/>
                    </a:lnTo>
                    <a:lnTo>
                      <a:pt x="1248" y="37"/>
                    </a:lnTo>
                    <a:lnTo>
                      <a:pt x="1190" y="63"/>
                    </a:lnTo>
                    <a:lnTo>
                      <a:pt x="1133" y="89"/>
                    </a:lnTo>
                    <a:lnTo>
                      <a:pt x="1076" y="119"/>
                    </a:lnTo>
                    <a:lnTo>
                      <a:pt x="1021" y="149"/>
                    </a:lnTo>
                    <a:lnTo>
                      <a:pt x="966" y="181"/>
                    </a:lnTo>
                    <a:lnTo>
                      <a:pt x="913" y="215"/>
                    </a:lnTo>
                    <a:lnTo>
                      <a:pt x="861" y="251"/>
                    </a:lnTo>
                    <a:lnTo>
                      <a:pt x="810" y="289"/>
                    </a:lnTo>
                    <a:lnTo>
                      <a:pt x="759" y="328"/>
                    </a:lnTo>
                    <a:lnTo>
                      <a:pt x="711" y="369"/>
                    </a:lnTo>
                    <a:lnTo>
                      <a:pt x="663" y="411"/>
                    </a:lnTo>
                    <a:lnTo>
                      <a:pt x="616" y="455"/>
                    </a:lnTo>
                    <a:lnTo>
                      <a:pt x="572" y="501"/>
                    </a:lnTo>
                    <a:lnTo>
                      <a:pt x="528" y="547"/>
                    </a:lnTo>
                    <a:lnTo>
                      <a:pt x="485" y="595"/>
                    </a:lnTo>
                    <a:lnTo>
                      <a:pt x="443" y="645"/>
                    </a:lnTo>
                    <a:lnTo>
                      <a:pt x="404" y="695"/>
                    </a:lnTo>
                    <a:lnTo>
                      <a:pt x="365" y="747"/>
                    </a:lnTo>
                    <a:lnTo>
                      <a:pt x="329" y="800"/>
                    </a:lnTo>
                    <a:lnTo>
                      <a:pt x="294" y="854"/>
                    </a:lnTo>
                    <a:lnTo>
                      <a:pt x="260" y="910"/>
                    </a:lnTo>
                    <a:lnTo>
                      <a:pt x="228" y="967"/>
                    </a:lnTo>
                    <a:lnTo>
                      <a:pt x="197" y="1024"/>
                    </a:lnTo>
                    <a:lnTo>
                      <a:pt x="169" y="1084"/>
                    </a:lnTo>
                    <a:lnTo>
                      <a:pt x="142" y="1144"/>
                    </a:lnTo>
                    <a:lnTo>
                      <a:pt x="116" y="1204"/>
                    </a:lnTo>
                    <a:lnTo>
                      <a:pt x="93" y="1266"/>
                    </a:lnTo>
                    <a:lnTo>
                      <a:pt x="71" y="1329"/>
                    </a:lnTo>
                    <a:lnTo>
                      <a:pt x="52" y="1392"/>
                    </a:lnTo>
                    <a:lnTo>
                      <a:pt x="34" y="1457"/>
                    </a:lnTo>
                    <a:lnTo>
                      <a:pt x="18" y="1522"/>
                    </a:lnTo>
                    <a:lnTo>
                      <a:pt x="2" y="1593"/>
                    </a:lnTo>
                    <a:lnTo>
                      <a:pt x="0" y="1610"/>
                    </a:lnTo>
                    <a:lnTo>
                      <a:pt x="1" y="1623"/>
                    </a:lnTo>
                    <a:lnTo>
                      <a:pt x="6" y="1634"/>
                    </a:lnTo>
                    <a:lnTo>
                      <a:pt x="11" y="1643"/>
                    </a:lnTo>
                    <a:lnTo>
                      <a:pt x="17" y="1648"/>
                    </a:lnTo>
                    <a:lnTo>
                      <a:pt x="23" y="1652"/>
                    </a:lnTo>
                    <a:lnTo>
                      <a:pt x="29" y="1655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72960" y="770040"/>
                <a:ext cx="313200" cy="387360"/>
              </a:xfrm>
              <a:custGeom>
                <a:avLst/>
                <a:gdLst/>
                <a:ahLst/>
                <a:rect l="l" t="t" r="r" b="b"/>
                <a:pathLst>
                  <a:path w="1606" h="1985">
                    <a:moveTo>
                      <a:pt x="29" y="333"/>
                    </a:moveTo>
                    <a:lnTo>
                      <a:pt x="79" y="306"/>
                    </a:lnTo>
                    <a:lnTo>
                      <a:pt x="623" y="31"/>
                    </a:lnTo>
                    <a:lnTo>
                      <a:pt x="684" y="0"/>
                    </a:lnTo>
                    <a:lnTo>
                      <a:pt x="687" y="72"/>
                    </a:lnTo>
                    <a:lnTo>
                      <a:pt x="691" y="123"/>
                    </a:lnTo>
                    <a:lnTo>
                      <a:pt x="697" y="174"/>
                    </a:lnTo>
                    <a:lnTo>
                      <a:pt x="704" y="224"/>
                    </a:lnTo>
                    <a:lnTo>
                      <a:pt x="713" y="273"/>
                    </a:lnTo>
                    <a:lnTo>
                      <a:pt x="724" y="323"/>
                    </a:lnTo>
                    <a:lnTo>
                      <a:pt x="737" y="371"/>
                    </a:lnTo>
                    <a:lnTo>
                      <a:pt x="751" y="418"/>
                    </a:lnTo>
                    <a:lnTo>
                      <a:pt x="767" y="465"/>
                    </a:lnTo>
                    <a:lnTo>
                      <a:pt x="784" y="512"/>
                    </a:lnTo>
                    <a:lnTo>
                      <a:pt x="803" y="557"/>
                    </a:lnTo>
                    <a:lnTo>
                      <a:pt x="824" y="602"/>
                    </a:lnTo>
                    <a:lnTo>
                      <a:pt x="846" y="645"/>
                    </a:lnTo>
                    <a:lnTo>
                      <a:pt x="869" y="688"/>
                    </a:lnTo>
                    <a:lnTo>
                      <a:pt x="894" y="730"/>
                    </a:lnTo>
                    <a:lnTo>
                      <a:pt x="920" y="771"/>
                    </a:lnTo>
                    <a:lnTo>
                      <a:pt x="948" y="811"/>
                    </a:lnTo>
                    <a:lnTo>
                      <a:pt x="976" y="850"/>
                    </a:lnTo>
                    <a:lnTo>
                      <a:pt x="1007" y="888"/>
                    </a:lnTo>
                    <a:lnTo>
                      <a:pt x="1038" y="924"/>
                    </a:lnTo>
                    <a:lnTo>
                      <a:pt x="1071" y="961"/>
                    </a:lnTo>
                    <a:lnTo>
                      <a:pt x="1105" y="995"/>
                    </a:lnTo>
                    <a:lnTo>
                      <a:pt x="1140" y="1029"/>
                    </a:lnTo>
                    <a:lnTo>
                      <a:pt x="1176" y="1061"/>
                    </a:lnTo>
                    <a:lnTo>
                      <a:pt x="1213" y="1092"/>
                    </a:lnTo>
                    <a:lnTo>
                      <a:pt x="1252" y="1122"/>
                    </a:lnTo>
                    <a:lnTo>
                      <a:pt x="1290" y="1151"/>
                    </a:lnTo>
                    <a:lnTo>
                      <a:pt x="1331" y="1177"/>
                    </a:lnTo>
                    <a:lnTo>
                      <a:pt x="1372" y="1203"/>
                    </a:lnTo>
                    <a:lnTo>
                      <a:pt x="1414" y="1227"/>
                    </a:lnTo>
                    <a:lnTo>
                      <a:pt x="1457" y="1250"/>
                    </a:lnTo>
                    <a:lnTo>
                      <a:pt x="1501" y="1271"/>
                    </a:lnTo>
                    <a:lnTo>
                      <a:pt x="1546" y="1292"/>
                    </a:lnTo>
                    <a:lnTo>
                      <a:pt x="1584" y="1308"/>
                    </a:lnTo>
                    <a:lnTo>
                      <a:pt x="1594" y="1315"/>
                    </a:lnTo>
                    <a:lnTo>
                      <a:pt x="1600" y="1323"/>
                    </a:lnTo>
                    <a:lnTo>
                      <a:pt x="1605" y="1331"/>
                    </a:lnTo>
                    <a:lnTo>
                      <a:pt x="1606" y="1337"/>
                    </a:lnTo>
                    <a:lnTo>
                      <a:pt x="1605" y="1349"/>
                    </a:lnTo>
                    <a:lnTo>
                      <a:pt x="1603" y="1355"/>
                    </a:lnTo>
                    <a:lnTo>
                      <a:pt x="1586" y="1401"/>
                    </a:lnTo>
                    <a:lnTo>
                      <a:pt x="1388" y="1950"/>
                    </a:lnTo>
                    <a:lnTo>
                      <a:pt x="1381" y="1965"/>
                    </a:lnTo>
                    <a:lnTo>
                      <a:pt x="1379" y="1970"/>
                    </a:lnTo>
                    <a:lnTo>
                      <a:pt x="1371" y="1978"/>
                    </a:lnTo>
                    <a:lnTo>
                      <a:pt x="1366" y="1983"/>
                    </a:lnTo>
                    <a:lnTo>
                      <a:pt x="1358" y="1985"/>
                    </a:lnTo>
                    <a:lnTo>
                      <a:pt x="1348" y="1985"/>
                    </a:lnTo>
                    <a:lnTo>
                      <a:pt x="1338" y="1983"/>
                    </a:lnTo>
                    <a:lnTo>
                      <a:pt x="1302" y="1969"/>
                    </a:lnTo>
                    <a:lnTo>
                      <a:pt x="1242" y="1942"/>
                    </a:lnTo>
                    <a:lnTo>
                      <a:pt x="1181" y="1915"/>
                    </a:lnTo>
                    <a:lnTo>
                      <a:pt x="1123" y="1886"/>
                    </a:lnTo>
                    <a:lnTo>
                      <a:pt x="1066" y="1857"/>
                    </a:lnTo>
                    <a:lnTo>
                      <a:pt x="1009" y="1824"/>
                    </a:lnTo>
                    <a:lnTo>
                      <a:pt x="954" y="1791"/>
                    </a:lnTo>
                    <a:lnTo>
                      <a:pt x="901" y="1756"/>
                    </a:lnTo>
                    <a:lnTo>
                      <a:pt x="848" y="1719"/>
                    </a:lnTo>
                    <a:lnTo>
                      <a:pt x="796" y="1682"/>
                    </a:lnTo>
                    <a:lnTo>
                      <a:pt x="747" y="1642"/>
                    </a:lnTo>
                    <a:lnTo>
                      <a:pt x="698" y="1602"/>
                    </a:lnTo>
                    <a:lnTo>
                      <a:pt x="650" y="1560"/>
                    </a:lnTo>
                    <a:lnTo>
                      <a:pt x="604" y="1517"/>
                    </a:lnTo>
                    <a:lnTo>
                      <a:pt x="559" y="1472"/>
                    </a:lnTo>
                    <a:lnTo>
                      <a:pt x="517" y="1426"/>
                    </a:lnTo>
                    <a:lnTo>
                      <a:pt x="475" y="1379"/>
                    </a:lnTo>
                    <a:lnTo>
                      <a:pt x="434" y="1331"/>
                    </a:lnTo>
                    <a:lnTo>
                      <a:pt x="395" y="1281"/>
                    </a:lnTo>
                    <a:lnTo>
                      <a:pt x="358" y="1230"/>
                    </a:lnTo>
                    <a:lnTo>
                      <a:pt x="323" y="1178"/>
                    </a:lnTo>
                    <a:lnTo>
                      <a:pt x="287" y="1124"/>
                    </a:lnTo>
                    <a:lnTo>
                      <a:pt x="255" y="1070"/>
                    </a:lnTo>
                    <a:lnTo>
                      <a:pt x="224" y="1014"/>
                    </a:lnTo>
                    <a:lnTo>
                      <a:pt x="194" y="957"/>
                    </a:lnTo>
                    <a:lnTo>
                      <a:pt x="166" y="900"/>
                    </a:lnTo>
                    <a:lnTo>
                      <a:pt x="139" y="841"/>
                    </a:lnTo>
                    <a:lnTo>
                      <a:pt x="115" y="781"/>
                    </a:lnTo>
                    <a:lnTo>
                      <a:pt x="92" y="720"/>
                    </a:lnTo>
                    <a:lnTo>
                      <a:pt x="71" y="658"/>
                    </a:lnTo>
                    <a:lnTo>
                      <a:pt x="52" y="595"/>
                    </a:lnTo>
                    <a:lnTo>
                      <a:pt x="34" y="530"/>
                    </a:lnTo>
                    <a:lnTo>
                      <a:pt x="18" y="465"/>
                    </a:lnTo>
                    <a:lnTo>
                      <a:pt x="3" y="394"/>
                    </a:lnTo>
                    <a:lnTo>
                      <a:pt x="0" y="378"/>
                    </a:lnTo>
                    <a:lnTo>
                      <a:pt x="1" y="364"/>
                    </a:lnTo>
                    <a:lnTo>
                      <a:pt x="6" y="353"/>
                    </a:lnTo>
                    <a:lnTo>
                      <a:pt x="11" y="346"/>
                    </a:lnTo>
                    <a:lnTo>
                      <a:pt x="17" y="339"/>
                    </a:lnTo>
                    <a:lnTo>
                      <a:pt x="23" y="336"/>
                    </a:lnTo>
                    <a:lnTo>
                      <a:pt x="29" y="333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16320" y="698400"/>
                <a:ext cx="137880" cy="147600"/>
              </a:xfrm>
              <a:custGeom>
                <a:avLst/>
                <a:gdLst/>
                <a:ahLst/>
                <a:rect l="l" t="t" r="r" b="b"/>
                <a:pathLst>
                  <a:path w="714" h="759">
                    <a:moveTo>
                      <a:pt x="699" y="379"/>
                    </a:moveTo>
                    <a:lnTo>
                      <a:pt x="706" y="375"/>
                    </a:lnTo>
                    <a:lnTo>
                      <a:pt x="710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09" y="351"/>
                    </a:lnTo>
                    <a:lnTo>
                      <a:pt x="705" y="346"/>
                    </a:lnTo>
                    <a:lnTo>
                      <a:pt x="699" y="342"/>
                    </a:lnTo>
                    <a:lnTo>
                      <a:pt x="35" y="4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3" y="11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735"/>
                    </a:lnTo>
                    <a:lnTo>
                      <a:pt x="1" y="743"/>
                    </a:lnTo>
                    <a:lnTo>
                      <a:pt x="3" y="748"/>
                    </a:lnTo>
                    <a:lnTo>
                      <a:pt x="5" y="753"/>
                    </a:lnTo>
                    <a:lnTo>
                      <a:pt x="10" y="757"/>
                    </a:lnTo>
                    <a:lnTo>
                      <a:pt x="15" y="759"/>
                    </a:lnTo>
                    <a:lnTo>
                      <a:pt x="21" y="759"/>
                    </a:lnTo>
                    <a:lnTo>
                      <a:pt x="27" y="758"/>
                    </a:lnTo>
                    <a:lnTo>
                      <a:pt x="34" y="755"/>
                    </a:lnTo>
                    <a:lnTo>
                      <a:pt x="699" y="379"/>
                    </a:lnTo>
                    <a:close/>
                  </a:path>
                </a:pathLst>
              </a:custGeom>
              <a:solidFill>
                <a:srgbClr val="00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95120" y="701640"/>
                <a:ext cx="138240" cy="146160"/>
              </a:xfrm>
              <a:custGeom>
                <a:avLst/>
                <a:gdLst/>
                <a:ahLst/>
                <a:rect l="l" t="t" r="r" b="b"/>
                <a:pathLst>
                  <a:path w="714" h="758">
                    <a:moveTo>
                      <a:pt x="701" y="379"/>
                    </a:moveTo>
                    <a:lnTo>
                      <a:pt x="706" y="374"/>
                    </a:lnTo>
                    <a:lnTo>
                      <a:pt x="711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11" y="350"/>
                    </a:lnTo>
                    <a:lnTo>
                      <a:pt x="706" y="346"/>
                    </a:lnTo>
                    <a:lnTo>
                      <a:pt x="700" y="342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0" y="734"/>
                    </a:lnTo>
                    <a:lnTo>
                      <a:pt x="1" y="742"/>
                    </a:lnTo>
                    <a:lnTo>
                      <a:pt x="3" y="749"/>
                    </a:lnTo>
                    <a:lnTo>
                      <a:pt x="7" y="753"/>
                    </a:lnTo>
                    <a:lnTo>
                      <a:pt x="10" y="756"/>
                    </a:lnTo>
                    <a:lnTo>
                      <a:pt x="15" y="758"/>
                    </a:lnTo>
                    <a:lnTo>
                      <a:pt x="21" y="758"/>
                    </a:lnTo>
                    <a:lnTo>
                      <a:pt x="27" y="757"/>
                    </a:lnTo>
                    <a:lnTo>
                      <a:pt x="34" y="754"/>
                    </a:lnTo>
                    <a:lnTo>
                      <a:pt x="701" y="379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934200" y="517680"/>
                <a:ext cx="180720" cy="250560"/>
              </a:xfrm>
              <a:custGeom>
                <a:avLst/>
                <a:gdLst/>
                <a:ahLst/>
                <a:rect l="l" t="t" r="r" b="b"/>
                <a:pathLst>
                  <a:path w="930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30" y="1293"/>
                    </a:lnTo>
                    <a:lnTo>
                      <a:pt x="713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136160" y="517680"/>
                <a:ext cx="31680" cy="25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215360" y="517680"/>
                <a:ext cx="155520" cy="250560"/>
              </a:xfrm>
              <a:custGeom>
                <a:avLst/>
                <a:gdLst/>
                <a:ahLst/>
                <a:rect l="l" t="t" r="r" b="b"/>
                <a:pathLst>
                  <a:path w="803" h="1293">
                    <a:moveTo>
                      <a:pt x="803" y="1293"/>
                    </a:moveTo>
                    <a:lnTo>
                      <a:pt x="607" y="1293"/>
                    </a:lnTo>
                    <a:lnTo>
                      <a:pt x="228" y="746"/>
                    </a:lnTo>
                    <a:lnTo>
                      <a:pt x="161" y="746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283" y="1"/>
                    </a:lnTo>
                    <a:lnTo>
                      <a:pt x="327" y="4"/>
                    </a:lnTo>
                    <a:lnTo>
                      <a:pt x="370" y="8"/>
                    </a:lnTo>
                    <a:lnTo>
                      <a:pt x="413" y="16"/>
                    </a:lnTo>
                    <a:lnTo>
                      <a:pt x="456" y="27"/>
                    </a:lnTo>
                    <a:lnTo>
                      <a:pt x="497" y="41"/>
                    </a:lnTo>
                    <a:lnTo>
                      <a:pt x="536" y="61"/>
                    </a:lnTo>
                    <a:lnTo>
                      <a:pt x="556" y="73"/>
                    </a:lnTo>
                    <a:lnTo>
                      <a:pt x="574" y="87"/>
                    </a:lnTo>
                    <a:lnTo>
                      <a:pt x="592" y="101"/>
                    </a:lnTo>
                    <a:lnTo>
                      <a:pt x="608" y="118"/>
                    </a:lnTo>
                    <a:lnTo>
                      <a:pt x="623" y="135"/>
                    </a:lnTo>
                    <a:lnTo>
                      <a:pt x="637" y="153"/>
                    </a:lnTo>
                    <a:lnTo>
                      <a:pt x="650" y="173"/>
                    </a:lnTo>
                    <a:lnTo>
                      <a:pt x="661" y="192"/>
                    </a:lnTo>
                    <a:lnTo>
                      <a:pt x="671" y="212"/>
                    </a:lnTo>
                    <a:lnTo>
                      <a:pt x="680" y="233"/>
                    </a:lnTo>
                    <a:lnTo>
                      <a:pt x="694" y="277"/>
                    </a:lnTo>
                    <a:lnTo>
                      <a:pt x="700" y="300"/>
                    </a:lnTo>
                    <a:lnTo>
                      <a:pt x="703" y="323"/>
                    </a:lnTo>
                    <a:lnTo>
                      <a:pt x="705" y="346"/>
                    </a:lnTo>
                    <a:lnTo>
                      <a:pt x="705" y="369"/>
                    </a:lnTo>
                    <a:lnTo>
                      <a:pt x="704" y="403"/>
                    </a:lnTo>
                    <a:lnTo>
                      <a:pt x="700" y="436"/>
                    </a:lnTo>
                    <a:lnTo>
                      <a:pt x="693" y="469"/>
                    </a:lnTo>
                    <a:lnTo>
                      <a:pt x="683" y="500"/>
                    </a:lnTo>
                    <a:lnTo>
                      <a:pt x="671" y="531"/>
                    </a:lnTo>
                    <a:lnTo>
                      <a:pt x="657" y="558"/>
                    </a:lnTo>
                    <a:lnTo>
                      <a:pt x="639" y="585"/>
                    </a:lnTo>
                    <a:lnTo>
                      <a:pt x="621" y="611"/>
                    </a:lnTo>
                    <a:lnTo>
                      <a:pt x="599" y="634"/>
                    </a:lnTo>
                    <a:lnTo>
                      <a:pt x="576" y="655"/>
                    </a:lnTo>
                    <a:lnTo>
                      <a:pt x="550" y="673"/>
                    </a:lnTo>
                    <a:lnTo>
                      <a:pt x="523" y="691"/>
                    </a:lnTo>
                    <a:lnTo>
                      <a:pt x="493" y="704"/>
                    </a:lnTo>
                    <a:lnTo>
                      <a:pt x="463" y="716"/>
                    </a:lnTo>
                    <a:lnTo>
                      <a:pt x="430" y="725"/>
                    </a:lnTo>
                    <a:lnTo>
                      <a:pt x="396" y="730"/>
                    </a:lnTo>
                    <a:lnTo>
                      <a:pt x="803" y="1293"/>
                    </a:lnTo>
                    <a:close/>
                    <a:moveTo>
                      <a:pt x="161" y="612"/>
                    </a:moveTo>
                    <a:lnTo>
                      <a:pt x="213" y="612"/>
                    </a:lnTo>
                    <a:lnTo>
                      <a:pt x="274" y="611"/>
                    </a:lnTo>
                    <a:lnTo>
                      <a:pt x="335" y="604"/>
                    </a:lnTo>
                    <a:lnTo>
                      <a:pt x="365" y="599"/>
                    </a:lnTo>
                    <a:lnTo>
                      <a:pt x="393" y="591"/>
                    </a:lnTo>
                    <a:lnTo>
                      <a:pt x="420" y="582"/>
                    </a:lnTo>
                    <a:lnTo>
                      <a:pt x="445" y="571"/>
                    </a:lnTo>
                    <a:lnTo>
                      <a:pt x="469" y="557"/>
                    </a:lnTo>
                    <a:lnTo>
                      <a:pt x="490" y="540"/>
                    </a:lnTo>
                    <a:lnTo>
                      <a:pt x="509" y="522"/>
                    </a:lnTo>
                    <a:lnTo>
                      <a:pt x="524" y="499"/>
                    </a:lnTo>
                    <a:lnTo>
                      <a:pt x="537" y="473"/>
                    </a:lnTo>
                    <a:lnTo>
                      <a:pt x="547" y="445"/>
                    </a:lnTo>
                    <a:lnTo>
                      <a:pt x="553" y="412"/>
                    </a:lnTo>
                    <a:lnTo>
                      <a:pt x="555" y="376"/>
                    </a:lnTo>
                    <a:lnTo>
                      <a:pt x="553" y="339"/>
                    </a:lnTo>
                    <a:lnTo>
                      <a:pt x="546" y="308"/>
                    </a:lnTo>
                    <a:lnTo>
                      <a:pt x="536" y="279"/>
                    </a:lnTo>
                    <a:lnTo>
                      <a:pt x="523" y="254"/>
                    </a:lnTo>
                    <a:lnTo>
                      <a:pt x="505" y="232"/>
                    </a:lnTo>
                    <a:lnTo>
                      <a:pt x="486" y="213"/>
                    </a:lnTo>
                    <a:lnTo>
                      <a:pt x="464" y="198"/>
                    </a:lnTo>
                    <a:lnTo>
                      <a:pt x="440" y="184"/>
                    </a:lnTo>
                    <a:lnTo>
                      <a:pt x="413" y="173"/>
                    </a:lnTo>
                    <a:lnTo>
                      <a:pt x="385" y="164"/>
                    </a:lnTo>
                    <a:lnTo>
                      <a:pt x="356" y="157"/>
                    </a:lnTo>
                    <a:lnTo>
                      <a:pt x="325" y="152"/>
                    </a:lnTo>
                    <a:lnTo>
                      <a:pt x="296" y="148"/>
                    </a:lnTo>
                    <a:lnTo>
                      <a:pt x="265" y="146"/>
                    </a:lnTo>
                    <a:lnTo>
                      <a:pt x="204" y="144"/>
                    </a:lnTo>
                    <a:lnTo>
                      <a:pt x="161" y="144"/>
                    </a:lnTo>
                    <a:lnTo>
                      <a:pt x="161" y="6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387080" y="5176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929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29" y="1293"/>
                    </a:lnTo>
                    <a:lnTo>
                      <a:pt x="712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23040" y="847800"/>
                <a:ext cx="50760" cy="133200"/>
              </a:xfrm>
              <a:custGeom>
                <a:avLst/>
                <a:gdLst/>
                <a:ahLst/>
                <a:rect l="l" t="t" r="r" b="b"/>
                <a:pathLst>
                  <a:path w="264" h="687">
                    <a:moveTo>
                      <a:pt x="169" y="687"/>
                    </a:moveTo>
                    <a:lnTo>
                      <a:pt x="74" y="687"/>
                    </a:lnTo>
                    <a:lnTo>
                      <a:pt x="74" y="279"/>
                    </a:lnTo>
                    <a:lnTo>
                      <a:pt x="0" y="279"/>
                    </a:lnTo>
                    <a:lnTo>
                      <a:pt x="0" y="190"/>
                    </a:lnTo>
                    <a:lnTo>
                      <a:pt x="74" y="190"/>
                    </a:lnTo>
                    <a:lnTo>
                      <a:pt x="74" y="0"/>
                    </a:lnTo>
                    <a:lnTo>
                      <a:pt x="169" y="0"/>
                    </a:lnTo>
                    <a:lnTo>
                      <a:pt x="169" y="190"/>
                    </a:lnTo>
                    <a:lnTo>
                      <a:pt x="264" y="190"/>
                    </a:lnTo>
                    <a:lnTo>
                      <a:pt x="264" y="279"/>
                    </a:lnTo>
                    <a:lnTo>
                      <a:pt x="169" y="279"/>
                    </a:lnTo>
                    <a:lnTo>
                      <a:pt x="169" y="6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977040" y="882720"/>
                <a:ext cx="9180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5" y="280"/>
                    </a:moveTo>
                    <a:lnTo>
                      <a:pt x="98" y="311"/>
                    </a:lnTo>
                    <a:lnTo>
                      <a:pt x="106" y="341"/>
                    </a:lnTo>
                    <a:lnTo>
                      <a:pt x="119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8" y="415"/>
                    </a:lnTo>
                    <a:lnTo>
                      <a:pt x="170" y="423"/>
                    </a:lnTo>
                    <a:lnTo>
                      <a:pt x="184" y="431"/>
                    </a:lnTo>
                    <a:lnTo>
                      <a:pt x="197" y="437"/>
                    </a:lnTo>
                    <a:lnTo>
                      <a:pt x="213" y="441"/>
                    </a:lnTo>
                    <a:lnTo>
                      <a:pt x="229" y="443"/>
                    </a:lnTo>
                    <a:lnTo>
                      <a:pt x="245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5" y="430"/>
                    </a:lnTo>
                    <a:lnTo>
                      <a:pt x="333" y="418"/>
                    </a:lnTo>
                    <a:lnTo>
                      <a:pt x="351" y="405"/>
                    </a:lnTo>
                    <a:lnTo>
                      <a:pt x="366" y="388"/>
                    </a:lnTo>
                    <a:lnTo>
                      <a:pt x="380" y="368"/>
                    </a:lnTo>
                    <a:lnTo>
                      <a:pt x="394" y="348"/>
                    </a:lnTo>
                    <a:lnTo>
                      <a:pt x="475" y="394"/>
                    </a:lnTo>
                    <a:lnTo>
                      <a:pt x="455" y="424"/>
                    </a:lnTo>
                    <a:lnTo>
                      <a:pt x="433" y="451"/>
                    </a:lnTo>
                    <a:lnTo>
                      <a:pt x="407" y="474"/>
                    </a:lnTo>
                    <a:lnTo>
                      <a:pt x="378" y="494"/>
                    </a:lnTo>
                    <a:lnTo>
                      <a:pt x="347" y="509"/>
                    </a:lnTo>
                    <a:lnTo>
                      <a:pt x="315" y="520"/>
                    </a:lnTo>
                    <a:lnTo>
                      <a:pt x="279" y="528"/>
                    </a:lnTo>
                    <a:lnTo>
                      <a:pt x="244" y="530"/>
                    </a:lnTo>
                    <a:lnTo>
                      <a:pt x="217" y="528"/>
                    </a:lnTo>
                    <a:lnTo>
                      <a:pt x="191" y="524"/>
                    </a:lnTo>
                    <a:lnTo>
                      <a:pt x="165" y="518"/>
                    </a:lnTo>
                    <a:lnTo>
                      <a:pt x="142" y="509"/>
                    </a:lnTo>
                    <a:lnTo>
                      <a:pt x="120" y="498"/>
                    </a:lnTo>
                    <a:lnTo>
                      <a:pt x="101" y="485"/>
                    </a:lnTo>
                    <a:lnTo>
                      <a:pt x="82" y="471"/>
                    </a:lnTo>
                    <a:lnTo>
                      <a:pt x="66" y="454"/>
                    </a:lnTo>
                    <a:lnTo>
                      <a:pt x="50" y="435"/>
                    </a:lnTo>
                    <a:lnTo>
                      <a:pt x="37" y="416"/>
                    </a:lnTo>
                    <a:lnTo>
                      <a:pt x="26" y="394"/>
                    </a:lnTo>
                    <a:lnTo>
                      <a:pt x="16" y="371"/>
                    </a:lnTo>
                    <a:lnTo>
                      <a:pt x="10" y="346"/>
                    </a:lnTo>
                    <a:lnTo>
                      <a:pt x="4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4" y="213"/>
                    </a:lnTo>
                    <a:lnTo>
                      <a:pt x="9" y="186"/>
                    </a:lnTo>
                    <a:lnTo>
                      <a:pt x="15" y="161"/>
                    </a:lnTo>
                    <a:lnTo>
                      <a:pt x="24" y="138"/>
                    </a:lnTo>
                    <a:lnTo>
                      <a:pt x="34" y="116"/>
                    </a:lnTo>
                    <a:lnTo>
                      <a:pt x="47" y="95"/>
                    </a:lnTo>
                    <a:lnTo>
                      <a:pt x="61" y="76"/>
                    </a:lnTo>
                    <a:lnTo>
                      <a:pt x="77" y="60"/>
                    </a:lnTo>
                    <a:lnTo>
                      <a:pt x="95" y="45"/>
                    </a:lnTo>
                    <a:lnTo>
                      <a:pt x="115" y="31"/>
                    </a:lnTo>
                    <a:lnTo>
                      <a:pt x="137" y="20"/>
                    </a:lnTo>
                    <a:lnTo>
                      <a:pt x="160" y="12"/>
                    </a:lnTo>
                    <a:lnTo>
                      <a:pt x="185" y="5"/>
                    </a:lnTo>
                    <a:lnTo>
                      <a:pt x="213" y="2"/>
                    </a:lnTo>
                    <a:lnTo>
                      <a:pt x="242" y="0"/>
                    </a:lnTo>
                    <a:lnTo>
                      <a:pt x="271" y="2"/>
                    </a:lnTo>
                    <a:lnTo>
                      <a:pt x="297" y="5"/>
                    </a:lnTo>
                    <a:lnTo>
                      <a:pt x="322" y="12"/>
                    </a:lnTo>
                    <a:lnTo>
                      <a:pt x="345" y="20"/>
                    </a:lnTo>
                    <a:lnTo>
                      <a:pt x="366" y="31"/>
                    </a:lnTo>
                    <a:lnTo>
                      <a:pt x="385" y="45"/>
                    </a:lnTo>
                    <a:lnTo>
                      <a:pt x="402" y="60"/>
                    </a:lnTo>
                    <a:lnTo>
                      <a:pt x="418" y="76"/>
                    </a:lnTo>
                    <a:lnTo>
                      <a:pt x="431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0" y="161"/>
                    </a:lnTo>
                    <a:lnTo>
                      <a:pt x="467" y="185"/>
                    </a:lnTo>
                    <a:lnTo>
                      <a:pt x="471" y="210"/>
                    </a:lnTo>
                    <a:lnTo>
                      <a:pt x="474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5" y="280"/>
                    </a:lnTo>
                    <a:close/>
                    <a:moveTo>
                      <a:pt x="379" y="207"/>
                    </a:moveTo>
                    <a:lnTo>
                      <a:pt x="373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5" y="117"/>
                    </a:lnTo>
                    <a:lnTo>
                      <a:pt x="316" y="103"/>
                    </a:lnTo>
                    <a:lnTo>
                      <a:pt x="294" y="92"/>
                    </a:lnTo>
                    <a:lnTo>
                      <a:pt x="270" y="85"/>
                    </a:lnTo>
                    <a:lnTo>
                      <a:pt x="242" y="83"/>
                    </a:lnTo>
                    <a:lnTo>
                      <a:pt x="215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1" y="137"/>
                    </a:lnTo>
                    <a:lnTo>
                      <a:pt x="117" y="158"/>
                    </a:lnTo>
                    <a:lnTo>
                      <a:pt x="107" y="182"/>
                    </a:lnTo>
                    <a:lnTo>
                      <a:pt x="101" y="207"/>
                    </a:lnTo>
                    <a:lnTo>
                      <a:pt x="379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086480" y="846000"/>
                <a:ext cx="1908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118520" y="882720"/>
                <a:ext cx="9216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7" y="280"/>
                    </a:moveTo>
                    <a:lnTo>
                      <a:pt x="99" y="311"/>
                    </a:lnTo>
                    <a:lnTo>
                      <a:pt x="108" y="341"/>
                    </a:lnTo>
                    <a:lnTo>
                      <a:pt x="120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9" y="415"/>
                    </a:lnTo>
                    <a:lnTo>
                      <a:pt x="171" y="423"/>
                    </a:lnTo>
                    <a:lnTo>
                      <a:pt x="185" y="431"/>
                    </a:lnTo>
                    <a:lnTo>
                      <a:pt x="199" y="437"/>
                    </a:lnTo>
                    <a:lnTo>
                      <a:pt x="213" y="441"/>
                    </a:lnTo>
                    <a:lnTo>
                      <a:pt x="230" y="443"/>
                    </a:lnTo>
                    <a:lnTo>
                      <a:pt x="246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6" y="430"/>
                    </a:lnTo>
                    <a:lnTo>
                      <a:pt x="335" y="418"/>
                    </a:lnTo>
                    <a:lnTo>
                      <a:pt x="351" y="405"/>
                    </a:lnTo>
                    <a:lnTo>
                      <a:pt x="367" y="388"/>
                    </a:lnTo>
                    <a:lnTo>
                      <a:pt x="381" y="368"/>
                    </a:lnTo>
                    <a:lnTo>
                      <a:pt x="395" y="348"/>
                    </a:lnTo>
                    <a:lnTo>
                      <a:pt x="475" y="394"/>
                    </a:lnTo>
                    <a:lnTo>
                      <a:pt x="457" y="424"/>
                    </a:lnTo>
                    <a:lnTo>
                      <a:pt x="434" y="451"/>
                    </a:lnTo>
                    <a:lnTo>
                      <a:pt x="407" y="474"/>
                    </a:lnTo>
                    <a:lnTo>
                      <a:pt x="379" y="494"/>
                    </a:lnTo>
                    <a:lnTo>
                      <a:pt x="348" y="509"/>
                    </a:lnTo>
                    <a:lnTo>
                      <a:pt x="315" y="520"/>
                    </a:lnTo>
                    <a:lnTo>
                      <a:pt x="281" y="528"/>
                    </a:lnTo>
                    <a:lnTo>
                      <a:pt x="245" y="530"/>
                    </a:lnTo>
                    <a:lnTo>
                      <a:pt x="218" y="528"/>
                    </a:lnTo>
                    <a:lnTo>
                      <a:pt x="191" y="524"/>
                    </a:lnTo>
                    <a:lnTo>
                      <a:pt x="166" y="518"/>
                    </a:lnTo>
                    <a:lnTo>
                      <a:pt x="143" y="509"/>
                    </a:lnTo>
                    <a:lnTo>
                      <a:pt x="121" y="498"/>
                    </a:lnTo>
                    <a:lnTo>
                      <a:pt x="101" y="485"/>
                    </a:lnTo>
                    <a:lnTo>
                      <a:pt x="83" y="471"/>
                    </a:lnTo>
                    <a:lnTo>
                      <a:pt x="66" y="454"/>
                    </a:lnTo>
                    <a:lnTo>
                      <a:pt x="51" y="435"/>
                    </a:lnTo>
                    <a:lnTo>
                      <a:pt x="38" y="416"/>
                    </a:lnTo>
                    <a:lnTo>
                      <a:pt x="27" y="394"/>
                    </a:lnTo>
                    <a:lnTo>
                      <a:pt x="18" y="371"/>
                    </a:lnTo>
                    <a:lnTo>
                      <a:pt x="10" y="346"/>
                    </a:lnTo>
                    <a:lnTo>
                      <a:pt x="5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5" y="213"/>
                    </a:lnTo>
                    <a:lnTo>
                      <a:pt x="9" y="186"/>
                    </a:lnTo>
                    <a:lnTo>
                      <a:pt x="16" y="161"/>
                    </a:lnTo>
                    <a:lnTo>
                      <a:pt x="24" y="138"/>
                    </a:lnTo>
                    <a:lnTo>
                      <a:pt x="35" y="116"/>
                    </a:lnTo>
                    <a:lnTo>
                      <a:pt x="48" y="95"/>
                    </a:lnTo>
                    <a:lnTo>
                      <a:pt x="62" y="76"/>
                    </a:lnTo>
                    <a:lnTo>
                      <a:pt x="78" y="60"/>
                    </a:lnTo>
                    <a:lnTo>
                      <a:pt x="96" y="45"/>
                    </a:lnTo>
                    <a:lnTo>
                      <a:pt x="116" y="31"/>
                    </a:lnTo>
                    <a:lnTo>
                      <a:pt x="137" y="20"/>
                    </a:lnTo>
                    <a:lnTo>
                      <a:pt x="162" y="12"/>
                    </a:lnTo>
                    <a:lnTo>
                      <a:pt x="187" y="5"/>
                    </a:lnTo>
                    <a:lnTo>
                      <a:pt x="214" y="2"/>
                    </a:lnTo>
                    <a:lnTo>
                      <a:pt x="243" y="0"/>
                    </a:lnTo>
                    <a:lnTo>
                      <a:pt x="271" y="2"/>
                    </a:lnTo>
                    <a:lnTo>
                      <a:pt x="299" y="5"/>
                    </a:lnTo>
                    <a:lnTo>
                      <a:pt x="323" y="12"/>
                    </a:lnTo>
                    <a:lnTo>
                      <a:pt x="346" y="20"/>
                    </a:lnTo>
                    <a:lnTo>
                      <a:pt x="367" y="31"/>
                    </a:lnTo>
                    <a:lnTo>
                      <a:pt x="386" y="45"/>
                    </a:lnTo>
                    <a:lnTo>
                      <a:pt x="403" y="60"/>
                    </a:lnTo>
                    <a:lnTo>
                      <a:pt x="418" y="76"/>
                    </a:lnTo>
                    <a:lnTo>
                      <a:pt x="432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1" y="161"/>
                    </a:lnTo>
                    <a:lnTo>
                      <a:pt x="468" y="185"/>
                    </a:lnTo>
                    <a:lnTo>
                      <a:pt x="472" y="210"/>
                    </a:lnTo>
                    <a:lnTo>
                      <a:pt x="475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7" y="280"/>
                    </a:lnTo>
                    <a:close/>
                    <a:moveTo>
                      <a:pt x="380" y="207"/>
                    </a:moveTo>
                    <a:lnTo>
                      <a:pt x="374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6" y="117"/>
                    </a:lnTo>
                    <a:lnTo>
                      <a:pt x="317" y="103"/>
                    </a:lnTo>
                    <a:lnTo>
                      <a:pt x="295" y="92"/>
                    </a:lnTo>
                    <a:lnTo>
                      <a:pt x="270" y="85"/>
                    </a:lnTo>
                    <a:lnTo>
                      <a:pt x="243" y="83"/>
                    </a:lnTo>
                    <a:lnTo>
                      <a:pt x="216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2" y="137"/>
                    </a:lnTo>
                    <a:lnTo>
                      <a:pt x="119" y="158"/>
                    </a:lnTo>
                    <a:lnTo>
                      <a:pt x="108" y="182"/>
                    </a:lnTo>
                    <a:lnTo>
                      <a:pt x="101" y="207"/>
                    </a:lnTo>
                    <a:lnTo>
                      <a:pt x="380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225080" y="882720"/>
                <a:ext cx="77760" cy="101520"/>
              </a:xfrm>
              <a:custGeom>
                <a:avLst/>
                <a:gdLst/>
                <a:ahLst/>
                <a:rect l="l" t="t" r="r" b="b"/>
                <a:pathLst>
                  <a:path w="404" h="530">
                    <a:moveTo>
                      <a:pt x="404" y="157"/>
                    </a:moveTo>
                    <a:lnTo>
                      <a:pt x="389" y="141"/>
                    </a:lnTo>
                    <a:lnTo>
                      <a:pt x="373" y="127"/>
                    </a:lnTo>
                    <a:lnTo>
                      <a:pt x="358" y="116"/>
                    </a:lnTo>
                    <a:lnTo>
                      <a:pt x="340" y="106"/>
                    </a:lnTo>
                    <a:lnTo>
                      <a:pt x="321" y="99"/>
                    </a:lnTo>
                    <a:lnTo>
                      <a:pt x="303" y="94"/>
                    </a:lnTo>
                    <a:lnTo>
                      <a:pt x="283" y="91"/>
                    </a:lnTo>
                    <a:lnTo>
                      <a:pt x="261" y="90"/>
                    </a:lnTo>
                    <a:lnTo>
                      <a:pt x="245" y="91"/>
                    </a:lnTo>
                    <a:lnTo>
                      <a:pt x="227" y="93"/>
                    </a:lnTo>
                    <a:lnTo>
                      <a:pt x="212" y="97"/>
                    </a:lnTo>
                    <a:lnTo>
                      <a:pt x="196" y="104"/>
                    </a:lnTo>
                    <a:lnTo>
                      <a:pt x="182" y="112"/>
                    </a:lnTo>
                    <a:lnTo>
                      <a:pt x="168" y="120"/>
                    </a:lnTo>
                    <a:lnTo>
                      <a:pt x="156" y="130"/>
                    </a:lnTo>
                    <a:lnTo>
                      <a:pt x="144" y="142"/>
                    </a:lnTo>
                    <a:lnTo>
                      <a:pt x="133" y="154"/>
                    </a:lnTo>
                    <a:lnTo>
                      <a:pt x="124" y="169"/>
                    </a:lnTo>
                    <a:lnTo>
                      <a:pt x="115" y="183"/>
                    </a:lnTo>
                    <a:lnTo>
                      <a:pt x="109" y="198"/>
                    </a:lnTo>
                    <a:lnTo>
                      <a:pt x="103" y="214"/>
                    </a:lnTo>
                    <a:lnTo>
                      <a:pt x="99" y="230"/>
                    </a:lnTo>
                    <a:lnTo>
                      <a:pt x="97" y="247"/>
                    </a:lnTo>
                    <a:lnTo>
                      <a:pt x="96" y="264"/>
                    </a:lnTo>
                    <a:lnTo>
                      <a:pt x="97" y="283"/>
                    </a:lnTo>
                    <a:lnTo>
                      <a:pt x="99" y="300"/>
                    </a:lnTo>
                    <a:lnTo>
                      <a:pt x="103" y="318"/>
                    </a:lnTo>
                    <a:lnTo>
                      <a:pt x="109" y="334"/>
                    </a:lnTo>
                    <a:lnTo>
                      <a:pt x="115" y="350"/>
                    </a:lnTo>
                    <a:lnTo>
                      <a:pt x="124" y="364"/>
                    </a:lnTo>
                    <a:lnTo>
                      <a:pt x="133" y="378"/>
                    </a:lnTo>
                    <a:lnTo>
                      <a:pt x="144" y="390"/>
                    </a:lnTo>
                    <a:lnTo>
                      <a:pt x="156" y="401"/>
                    </a:lnTo>
                    <a:lnTo>
                      <a:pt x="169" y="411"/>
                    </a:lnTo>
                    <a:lnTo>
                      <a:pt x="183" y="420"/>
                    </a:lnTo>
                    <a:lnTo>
                      <a:pt x="199" y="427"/>
                    </a:lnTo>
                    <a:lnTo>
                      <a:pt x="215" y="432"/>
                    </a:lnTo>
                    <a:lnTo>
                      <a:pt x="232" y="437"/>
                    </a:lnTo>
                    <a:lnTo>
                      <a:pt x="249" y="439"/>
                    </a:lnTo>
                    <a:lnTo>
                      <a:pt x="268" y="440"/>
                    </a:lnTo>
                    <a:lnTo>
                      <a:pt x="289" y="439"/>
                    </a:lnTo>
                    <a:lnTo>
                      <a:pt x="307" y="435"/>
                    </a:lnTo>
                    <a:lnTo>
                      <a:pt x="326" y="430"/>
                    </a:lnTo>
                    <a:lnTo>
                      <a:pt x="343" y="422"/>
                    </a:lnTo>
                    <a:lnTo>
                      <a:pt x="360" y="412"/>
                    </a:lnTo>
                    <a:lnTo>
                      <a:pt x="375" y="401"/>
                    </a:lnTo>
                    <a:lnTo>
                      <a:pt x="389" y="388"/>
                    </a:lnTo>
                    <a:lnTo>
                      <a:pt x="404" y="374"/>
                    </a:lnTo>
                    <a:lnTo>
                      <a:pt x="404" y="497"/>
                    </a:lnTo>
                    <a:lnTo>
                      <a:pt x="371" y="511"/>
                    </a:lnTo>
                    <a:lnTo>
                      <a:pt x="338" y="522"/>
                    </a:lnTo>
                    <a:lnTo>
                      <a:pt x="303" y="528"/>
                    </a:lnTo>
                    <a:lnTo>
                      <a:pt x="267" y="530"/>
                    </a:lnTo>
                    <a:lnTo>
                      <a:pt x="239" y="528"/>
                    </a:lnTo>
                    <a:lnTo>
                      <a:pt x="213" y="524"/>
                    </a:lnTo>
                    <a:lnTo>
                      <a:pt x="188" y="518"/>
                    </a:lnTo>
                    <a:lnTo>
                      <a:pt x="164" y="509"/>
                    </a:lnTo>
                    <a:lnTo>
                      <a:pt x="140" y="499"/>
                    </a:lnTo>
                    <a:lnTo>
                      <a:pt x="119" y="486"/>
                    </a:lnTo>
                    <a:lnTo>
                      <a:pt x="98" y="472"/>
                    </a:lnTo>
                    <a:lnTo>
                      <a:pt x="79" y="454"/>
                    </a:lnTo>
                    <a:lnTo>
                      <a:pt x="62" y="437"/>
                    </a:lnTo>
                    <a:lnTo>
                      <a:pt x="46" y="416"/>
                    </a:lnTo>
                    <a:lnTo>
                      <a:pt x="33" y="395"/>
                    </a:lnTo>
                    <a:lnTo>
                      <a:pt x="21" y="372"/>
                    </a:lnTo>
                    <a:lnTo>
                      <a:pt x="12" y="348"/>
                    </a:lnTo>
                    <a:lnTo>
                      <a:pt x="6" y="322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6" y="213"/>
                    </a:lnTo>
                    <a:lnTo>
                      <a:pt x="12" y="186"/>
                    </a:lnTo>
                    <a:lnTo>
                      <a:pt x="21" y="161"/>
                    </a:lnTo>
                    <a:lnTo>
                      <a:pt x="33" y="138"/>
                    </a:lnTo>
                    <a:lnTo>
                      <a:pt x="46" y="115"/>
                    </a:lnTo>
                    <a:lnTo>
                      <a:pt x="62" y="95"/>
                    </a:lnTo>
                    <a:lnTo>
                      <a:pt x="79" y="76"/>
                    </a:lnTo>
                    <a:lnTo>
                      <a:pt x="98" y="59"/>
                    </a:lnTo>
                    <a:lnTo>
                      <a:pt x="119" y="45"/>
                    </a:lnTo>
                    <a:lnTo>
                      <a:pt x="142" y="31"/>
                    </a:lnTo>
                    <a:lnTo>
                      <a:pt x="165" y="20"/>
                    </a:lnTo>
                    <a:lnTo>
                      <a:pt x="190" y="12"/>
                    </a:lnTo>
                    <a:lnTo>
                      <a:pt x="216" y="5"/>
                    </a:lnTo>
                    <a:lnTo>
                      <a:pt x="244" y="2"/>
                    </a:lnTo>
                    <a:lnTo>
                      <a:pt x="272" y="0"/>
                    </a:lnTo>
                    <a:lnTo>
                      <a:pt x="306" y="2"/>
                    </a:lnTo>
                    <a:lnTo>
                      <a:pt x="340" y="8"/>
                    </a:lnTo>
                    <a:lnTo>
                      <a:pt x="373" y="18"/>
                    </a:lnTo>
                    <a:lnTo>
                      <a:pt x="404" y="32"/>
                    </a:lnTo>
                    <a:lnTo>
                      <a:pt x="404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314000" y="882720"/>
                <a:ext cx="102960" cy="101520"/>
              </a:xfrm>
              <a:custGeom>
                <a:avLst/>
                <a:gdLst/>
                <a:ahLst/>
                <a:rect l="l" t="t" r="r" b="b"/>
                <a:pathLst>
                  <a:path w="532" h="530">
                    <a:moveTo>
                      <a:pt x="532" y="264"/>
                    </a:moveTo>
                    <a:lnTo>
                      <a:pt x="530" y="293"/>
                    </a:lnTo>
                    <a:lnTo>
                      <a:pt x="527" y="319"/>
                    </a:lnTo>
                    <a:lnTo>
                      <a:pt x="520" y="344"/>
                    </a:lnTo>
                    <a:lnTo>
                      <a:pt x="511" y="370"/>
                    </a:lnTo>
                    <a:lnTo>
                      <a:pt x="501" y="393"/>
                    </a:lnTo>
                    <a:lnTo>
                      <a:pt x="487" y="415"/>
                    </a:lnTo>
                    <a:lnTo>
                      <a:pt x="472" y="434"/>
                    </a:lnTo>
                    <a:lnTo>
                      <a:pt x="454" y="453"/>
                    </a:lnTo>
                    <a:lnTo>
                      <a:pt x="436" y="471"/>
                    </a:lnTo>
                    <a:lnTo>
                      <a:pt x="416" y="485"/>
                    </a:lnTo>
                    <a:lnTo>
                      <a:pt x="394" y="498"/>
                    </a:lnTo>
                    <a:lnTo>
                      <a:pt x="370" y="509"/>
                    </a:lnTo>
                    <a:lnTo>
                      <a:pt x="346" y="518"/>
                    </a:lnTo>
                    <a:lnTo>
                      <a:pt x="321" y="524"/>
                    </a:lnTo>
                    <a:lnTo>
                      <a:pt x="293" y="528"/>
                    </a:lnTo>
                    <a:lnTo>
                      <a:pt x="266" y="530"/>
                    </a:lnTo>
                    <a:lnTo>
                      <a:pt x="238" y="528"/>
                    </a:lnTo>
                    <a:lnTo>
                      <a:pt x="212" y="524"/>
                    </a:lnTo>
                    <a:lnTo>
                      <a:pt x="187" y="518"/>
                    </a:lnTo>
                    <a:lnTo>
                      <a:pt x="162" y="509"/>
                    </a:lnTo>
                    <a:lnTo>
                      <a:pt x="139" y="498"/>
                    </a:lnTo>
                    <a:lnTo>
                      <a:pt x="117" y="485"/>
                    </a:lnTo>
                    <a:lnTo>
                      <a:pt x="97" y="471"/>
                    </a:lnTo>
                    <a:lnTo>
                      <a:pt x="78" y="453"/>
                    </a:lnTo>
                    <a:lnTo>
                      <a:pt x="61" y="434"/>
                    </a:lnTo>
                    <a:lnTo>
                      <a:pt x="45" y="415"/>
                    </a:lnTo>
                    <a:lnTo>
                      <a:pt x="32" y="393"/>
                    </a:lnTo>
                    <a:lnTo>
                      <a:pt x="21" y="370"/>
                    </a:lnTo>
                    <a:lnTo>
                      <a:pt x="12" y="344"/>
                    </a:lnTo>
                    <a:lnTo>
                      <a:pt x="6" y="319"/>
                    </a:lnTo>
                    <a:lnTo>
                      <a:pt x="3" y="293"/>
                    </a:lnTo>
                    <a:lnTo>
                      <a:pt x="0" y="264"/>
                    </a:lnTo>
                    <a:lnTo>
                      <a:pt x="3" y="237"/>
                    </a:lnTo>
                    <a:lnTo>
                      <a:pt x="6" y="210"/>
                    </a:lnTo>
                    <a:lnTo>
                      <a:pt x="12" y="185"/>
                    </a:lnTo>
                    <a:lnTo>
                      <a:pt x="21" y="160"/>
                    </a:lnTo>
                    <a:lnTo>
                      <a:pt x="32" y="137"/>
                    </a:lnTo>
                    <a:lnTo>
                      <a:pt x="45" y="115"/>
                    </a:lnTo>
                    <a:lnTo>
                      <a:pt x="61" y="95"/>
                    </a:lnTo>
                    <a:lnTo>
                      <a:pt x="78" y="76"/>
                    </a:lnTo>
                    <a:lnTo>
                      <a:pt x="97" y="59"/>
                    </a:lnTo>
                    <a:lnTo>
                      <a:pt x="117" y="45"/>
                    </a:lnTo>
                    <a:lnTo>
                      <a:pt x="139" y="31"/>
                    </a:lnTo>
                    <a:lnTo>
                      <a:pt x="162" y="20"/>
                    </a:lnTo>
                    <a:lnTo>
                      <a:pt x="187" y="12"/>
                    </a:lnTo>
                    <a:lnTo>
                      <a:pt x="212" y="5"/>
                    </a:lnTo>
                    <a:lnTo>
                      <a:pt x="238" y="2"/>
                    </a:lnTo>
                    <a:lnTo>
                      <a:pt x="266" y="0"/>
                    </a:lnTo>
                    <a:lnTo>
                      <a:pt x="293" y="2"/>
                    </a:lnTo>
                    <a:lnTo>
                      <a:pt x="321" y="5"/>
                    </a:lnTo>
                    <a:lnTo>
                      <a:pt x="346" y="12"/>
                    </a:lnTo>
                    <a:lnTo>
                      <a:pt x="370" y="20"/>
                    </a:lnTo>
                    <a:lnTo>
                      <a:pt x="394" y="31"/>
                    </a:lnTo>
                    <a:lnTo>
                      <a:pt x="416" y="45"/>
                    </a:lnTo>
                    <a:lnTo>
                      <a:pt x="436" y="59"/>
                    </a:lnTo>
                    <a:lnTo>
                      <a:pt x="454" y="76"/>
                    </a:lnTo>
                    <a:lnTo>
                      <a:pt x="472" y="95"/>
                    </a:lnTo>
                    <a:lnTo>
                      <a:pt x="487" y="115"/>
                    </a:lnTo>
                    <a:lnTo>
                      <a:pt x="501" y="137"/>
                    </a:lnTo>
                    <a:lnTo>
                      <a:pt x="511" y="160"/>
                    </a:lnTo>
                    <a:lnTo>
                      <a:pt x="520" y="185"/>
                    </a:lnTo>
                    <a:lnTo>
                      <a:pt x="527" y="210"/>
                    </a:lnTo>
                    <a:lnTo>
                      <a:pt x="530" y="237"/>
                    </a:lnTo>
                    <a:lnTo>
                      <a:pt x="532" y="264"/>
                    </a:lnTo>
                    <a:close/>
                    <a:moveTo>
                      <a:pt x="96" y="264"/>
                    </a:moveTo>
                    <a:lnTo>
                      <a:pt x="97" y="282"/>
                    </a:lnTo>
                    <a:lnTo>
                      <a:pt x="100" y="299"/>
                    </a:lnTo>
                    <a:lnTo>
                      <a:pt x="103" y="316"/>
                    </a:lnTo>
                    <a:lnTo>
                      <a:pt x="110" y="331"/>
                    </a:lnTo>
                    <a:lnTo>
                      <a:pt x="117" y="346"/>
                    </a:lnTo>
                    <a:lnTo>
                      <a:pt x="125" y="361"/>
                    </a:lnTo>
                    <a:lnTo>
                      <a:pt x="135" y="374"/>
                    </a:lnTo>
                    <a:lnTo>
                      <a:pt x="146" y="386"/>
                    </a:lnTo>
                    <a:lnTo>
                      <a:pt x="158" y="398"/>
                    </a:lnTo>
                    <a:lnTo>
                      <a:pt x="171" y="408"/>
                    </a:lnTo>
                    <a:lnTo>
                      <a:pt x="185" y="417"/>
                    </a:lnTo>
                    <a:lnTo>
                      <a:pt x="200" y="424"/>
                    </a:lnTo>
                    <a:lnTo>
                      <a:pt x="215" y="430"/>
                    </a:lnTo>
                    <a:lnTo>
                      <a:pt x="232" y="434"/>
                    </a:lnTo>
                    <a:lnTo>
                      <a:pt x="248" y="437"/>
                    </a:lnTo>
                    <a:lnTo>
                      <a:pt x="266" y="438"/>
                    </a:lnTo>
                    <a:lnTo>
                      <a:pt x="283" y="437"/>
                    </a:lnTo>
                    <a:lnTo>
                      <a:pt x="301" y="434"/>
                    </a:lnTo>
                    <a:lnTo>
                      <a:pt x="317" y="430"/>
                    </a:lnTo>
                    <a:lnTo>
                      <a:pt x="333" y="424"/>
                    </a:lnTo>
                    <a:lnTo>
                      <a:pt x="348" y="417"/>
                    </a:lnTo>
                    <a:lnTo>
                      <a:pt x="361" y="408"/>
                    </a:lnTo>
                    <a:lnTo>
                      <a:pt x="374" y="398"/>
                    </a:lnTo>
                    <a:lnTo>
                      <a:pt x="386" y="386"/>
                    </a:lnTo>
                    <a:lnTo>
                      <a:pt x="397" y="374"/>
                    </a:lnTo>
                    <a:lnTo>
                      <a:pt x="407" y="361"/>
                    </a:lnTo>
                    <a:lnTo>
                      <a:pt x="416" y="346"/>
                    </a:lnTo>
                    <a:lnTo>
                      <a:pt x="423" y="331"/>
                    </a:lnTo>
                    <a:lnTo>
                      <a:pt x="428" y="316"/>
                    </a:lnTo>
                    <a:lnTo>
                      <a:pt x="433" y="299"/>
                    </a:lnTo>
                    <a:lnTo>
                      <a:pt x="436" y="282"/>
                    </a:lnTo>
                    <a:lnTo>
                      <a:pt x="436" y="264"/>
                    </a:lnTo>
                    <a:lnTo>
                      <a:pt x="436" y="248"/>
                    </a:lnTo>
                    <a:lnTo>
                      <a:pt x="433" y="230"/>
                    </a:lnTo>
                    <a:lnTo>
                      <a:pt x="428" y="214"/>
                    </a:lnTo>
                    <a:lnTo>
                      <a:pt x="423" y="197"/>
                    </a:lnTo>
                    <a:lnTo>
                      <a:pt x="416" y="183"/>
                    </a:lnTo>
                    <a:lnTo>
                      <a:pt x="407" y="169"/>
                    </a:lnTo>
                    <a:lnTo>
                      <a:pt x="397" y="154"/>
                    </a:lnTo>
                    <a:lnTo>
                      <a:pt x="386" y="142"/>
                    </a:lnTo>
                    <a:lnTo>
                      <a:pt x="374" y="131"/>
                    </a:lnTo>
                    <a:lnTo>
                      <a:pt x="361" y="121"/>
                    </a:lnTo>
                    <a:lnTo>
                      <a:pt x="348" y="113"/>
                    </a:lnTo>
                    <a:lnTo>
                      <a:pt x="333" y="105"/>
                    </a:lnTo>
                    <a:lnTo>
                      <a:pt x="317" y="99"/>
                    </a:lnTo>
                    <a:lnTo>
                      <a:pt x="301" y="95"/>
                    </a:lnTo>
                    <a:lnTo>
                      <a:pt x="283" y="92"/>
                    </a:lnTo>
                    <a:lnTo>
                      <a:pt x="266" y="92"/>
                    </a:lnTo>
                    <a:lnTo>
                      <a:pt x="248" y="92"/>
                    </a:lnTo>
                    <a:lnTo>
                      <a:pt x="232" y="95"/>
                    </a:lnTo>
                    <a:lnTo>
                      <a:pt x="215" y="99"/>
                    </a:lnTo>
                    <a:lnTo>
                      <a:pt x="200" y="105"/>
                    </a:lnTo>
                    <a:lnTo>
                      <a:pt x="185" y="113"/>
                    </a:lnTo>
                    <a:lnTo>
                      <a:pt x="171" y="121"/>
                    </a:lnTo>
                    <a:lnTo>
                      <a:pt x="158" y="131"/>
                    </a:lnTo>
                    <a:lnTo>
                      <a:pt x="146" y="142"/>
                    </a:lnTo>
                    <a:lnTo>
                      <a:pt x="135" y="154"/>
                    </a:lnTo>
                    <a:lnTo>
                      <a:pt x="125" y="169"/>
                    </a:lnTo>
                    <a:lnTo>
                      <a:pt x="117" y="183"/>
                    </a:lnTo>
                    <a:lnTo>
                      <a:pt x="110" y="197"/>
                    </a:lnTo>
                    <a:lnTo>
                      <a:pt x="103" y="214"/>
                    </a:lnTo>
                    <a:lnTo>
                      <a:pt x="100" y="230"/>
                    </a:lnTo>
                    <a:lnTo>
                      <a:pt x="97" y="248"/>
                    </a:lnTo>
                    <a:lnTo>
                      <a:pt x="96" y="2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430280" y="882720"/>
                <a:ext cx="133200" cy="98280"/>
              </a:xfrm>
              <a:custGeom>
                <a:avLst/>
                <a:gdLst/>
                <a:ahLst/>
                <a:rect l="l" t="t" r="r" b="b"/>
                <a:pathLst>
                  <a:path w="690" h="512">
                    <a:moveTo>
                      <a:pt x="96" y="77"/>
                    </a:moveTo>
                    <a:lnTo>
                      <a:pt x="98" y="77"/>
                    </a:lnTo>
                    <a:lnTo>
                      <a:pt x="109" y="62"/>
                    </a:lnTo>
                    <a:lnTo>
                      <a:pt x="122" y="47"/>
                    </a:lnTo>
                    <a:lnTo>
                      <a:pt x="137" y="34"/>
                    </a:lnTo>
                    <a:lnTo>
                      <a:pt x="154" y="23"/>
                    </a:lnTo>
                    <a:lnTo>
                      <a:pt x="171" y="13"/>
                    </a:lnTo>
                    <a:lnTo>
                      <a:pt x="190" y="6"/>
                    </a:lnTo>
                    <a:lnTo>
                      <a:pt x="210" y="2"/>
                    </a:lnTo>
                    <a:lnTo>
                      <a:pt x="229" y="0"/>
                    </a:lnTo>
                    <a:lnTo>
                      <a:pt x="253" y="2"/>
                    </a:lnTo>
                    <a:lnTo>
                      <a:pt x="274" y="6"/>
                    </a:lnTo>
                    <a:lnTo>
                      <a:pt x="295" y="13"/>
                    </a:lnTo>
                    <a:lnTo>
                      <a:pt x="314" y="24"/>
                    </a:lnTo>
                    <a:lnTo>
                      <a:pt x="330" y="36"/>
                    </a:lnTo>
                    <a:lnTo>
                      <a:pt x="346" y="51"/>
                    </a:lnTo>
                    <a:lnTo>
                      <a:pt x="360" y="69"/>
                    </a:lnTo>
                    <a:lnTo>
                      <a:pt x="373" y="88"/>
                    </a:lnTo>
                    <a:lnTo>
                      <a:pt x="385" y="69"/>
                    </a:lnTo>
                    <a:lnTo>
                      <a:pt x="401" y="52"/>
                    </a:lnTo>
                    <a:lnTo>
                      <a:pt x="418" y="37"/>
                    </a:lnTo>
                    <a:lnTo>
                      <a:pt x="438" y="24"/>
                    </a:lnTo>
                    <a:lnTo>
                      <a:pt x="458" y="14"/>
                    </a:lnTo>
                    <a:lnTo>
                      <a:pt x="480" y="6"/>
                    </a:lnTo>
                    <a:lnTo>
                      <a:pt x="503" y="2"/>
                    </a:lnTo>
                    <a:lnTo>
                      <a:pt x="526" y="0"/>
                    </a:lnTo>
                    <a:lnTo>
                      <a:pt x="550" y="1"/>
                    </a:lnTo>
                    <a:lnTo>
                      <a:pt x="571" y="5"/>
                    </a:lnTo>
                    <a:lnTo>
                      <a:pt x="589" y="11"/>
                    </a:lnTo>
                    <a:lnTo>
                      <a:pt x="607" y="17"/>
                    </a:lnTo>
                    <a:lnTo>
                      <a:pt x="622" y="27"/>
                    </a:lnTo>
                    <a:lnTo>
                      <a:pt x="635" y="38"/>
                    </a:lnTo>
                    <a:lnTo>
                      <a:pt x="647" y="51"/>
                    </a:lnTo>
                    <a:lnTo>
                      <a:pt x="657" y="65"/>
                    </a:lnTo>
                    <a:lnTo>
                      <a:pt x="666" y="81"/>
                    </a:lnTo>
                    <a:lnTo>
                      <a:pt x="673" y="97"/>
                    </a:lnTo>
                    <a:lnTo>
                      <a:pt x="678" y="115"/>
                    </a:lnTo>
                    <a:lnTo>
                      <a:pt x="684" y="133"/>
                    </a:lnTo>
                    <a:lnTo>
                      <a:pt x="689" y="173"/>
                    </a:lnTo>
                    <a:lnTo>
                      <a:pt x="690" y="215"/>
                    </a:lnTo>
                    <a:lnTo>
                      <a:pt x="690" y="512"/>
                    </a:lnTo>
                    <a:lnTo>
                      <a:pt x="595" y="512"/>
                    </a:lnTo>
                    <a:lnTo>
                      <a:pt x="595" y="230"/>
                    </a:lnTo>
                    <a:lnTo>
                      <a:pt x="595" y="206"/>
                    </a:lnTo>
                    <a:lnTo>
                      <a:pt x="593" y="181"/>
                    </a:lnTo>
                    <a:lnTo>
                      <a:pt x="588" y="157"/>
                    </a:lnTo>
                    <a:lnTo>
                      <a:pt x="580" y="133"/>
                    </a:lnTo>
                    <a:lnTo>
                      <a:pt x="568" y="114"/>
                    </a:lnTo>
                    <a:lnTo>
                      <a:pt x="561" y="106"/>
                    </a:lnTo>
                    <a:lnTo>
                      <a:pt x="552" y="98"/>
                    </a:lnTo>
                    <a:lnTo>
                      <a:pt x="542" y="93"/>
                    </a:lnTo>
                    <a:lnTo>
                      <a:pt x="531" y="88"/>
                    </a:lnTo>
                    <a:lnTo>
                      <a:pt x="517" y="86"/>
                    </a:lnTo>
                    <a:lnTo>
                      <a:pt x="503" y="85"/>
                    </a:lnTo>
                    <a:lnTo>
                      <a:pt x="484" y="86"/>
                    </a:lnTo>
                    <a:lnTo>
                      <a:pt x="469" y="90"/>
                    </a:lnTo>
                    <a:lnTo>
                      <a:pt x="454" y="95"/>
                    </a:lnTo>
                    <a:lnTo>
                      <a:pt x="442" y="103"/>
                    </a:lnTo>
                    <a:lnTo>
                      <a:pt x="432" y="112"/>
                    </a:lnTo>
                    <a:lnTo>
                      <a:pt x="423" y="123"/>
                    </a:lnTo>
                    <a:lnTo>
                      <a:pt x="416" y="135"/>
                    </a:lnTo>
                    <a:lnTo>
                      <a:pt x="409" y="148"/>
                    </a:lnTo>
                    <a:lnTo>
                      <a:pt x="401" y="176"/>
                    </a:lnTo>
                    <a:lnTo>
                      <a:pt x="396" y="207"/>
                    </a:lnTo>
                    <a:lnTo>
                      <a:pt x="394" y="238"/>
                    </a:lnTo>
                    <a:lnTo>
                      <a:pt x="393" y="267"/>
                    </a:lnTo>
                    <a:lnTo>
                      <a:pt x="393" y="512"/>
                    </a:lnTo>
                    <a:lnTo>
                      <a:pt x="297" y="512"/>
                    </a:lnTo>
                    <a:lnTo>
                      <a:pt x="297" y="249"/>
                    </a:lnTo>
                    <a:lnTo>
                      <a:pt x="297" y="224"/>
                    </a:lnTo>
                    <a:lnTo>
                      <a:pt x="295" y="196"/>
                    </a:lnTo>
                    <a:lnTo>
                      <a:pt x="292" y="169"/>
                    </a:lnTo>
                    <a:lnTo>
                      <a:pt x="285" y="142"/>
                    </a:lnTo>
                    <a:lnTo>
                      <a:pt x="280" y="130"/>
                    </a:lnTo>
                    <a:lnTo>
                      <a:pt x="273" y="119"/>
                    </a:lnTo>
                    <a:lnTo>
                      <a:pt x="267" y="110"/>
                    </a:lnTo>
                    <a:lnTo>
                      <a:pt x="258" y="102"/>
                    </a:lnTo>
                    <a:lnTo>
                      <a:pt x="247" y="95"/>
                    </a:lnTo>
                    <a:lnTo>
                      <a:pt x="235" y="90"/>
                    </a:lnTo>
                    <a:lnTo>
                      <a:pt x="222" y="86"/>
                    </a:lnTo>
                    <a:lnTo>
                      <a:pt x="206" y="85"/>
                    </a:lnTo>
                    <a:lnTo>
                      <a:pt x="188" y="86"/>
                    </a:lnTo>
                    <a:lnTo>
                      <a:pt x="172" y="90"/>
                    </a:lnTo>
                    <a:lnTo>
                      <a:pt x="158" y="95"/>
                    </a:lnTo>
                    <a:lnTo>
                      <a:pt x="146" y="103"/>
                    </a:lnTo>
                    <a:lnTo>
                      <a:pt x="135" y="112"/>
                    </a:lnTo>
                    <a:lnTo>
                      <a:pt x="126" y="123"/>
                    </a:lnTo>
                    <a:lnTo>
                      <a:pt x="119" y="135"/>
                    </a:lnTo>
                    <a:lnTo>
                      <a:pt x="113" y="148"/>
                    </a:lnTo>
                    <a:lnTo>
                      <a:pt x="103" y="176"/>
                    </a:lnTo>
                    <a:lnTo>
                      <a:pt x="99" y="207"/>
                    </a:lnTo>
                    <a:lnTo>
                      <a:pt x="97" y="238"/>
                    </a:lnTo>
                    <a:lnTo>
                      <a:pt x="96" y="267"/>
                    </a:lnTo>
                    <a:lnTo>
                      <a:pt x="96" y="512"/>
                    </a:lnTo>
                    <a:lnTo>
                      <a:pt x="0" y="512"/>
                    </a:lnTo>
                    <a:lnTo>
                      <a:pt x="0" y="15"/>
                    </a:lnTo>
                    <a:lnTo>
                      <a:pt x="96" y="15"/>
                    </a:lnTo>
                    <a:lnTo>
                      <a:pt x="96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04240" y="1022400"/>
                <a:ext cx="9082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a-DK" sz="600" spc="-1" strike="noStrike">
                    <a:solidFill>
                      <a:srgbClr val="ffffff"/>
                    </a:solidFill>
                    <a:latin typeface="Futura Bk BT"/>
                  </a:rPr>
                  <a:t>www.kirktelecom.dk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" name=""/>
          <p:cNvSpPr/>
          <p:nvPr/>
        </p:nvSpPr>
        <p:spPr>
          <a:xfrm>
            <a:off x="2286000" y="723960"/>
            <a:ext cx="7236000" cy="3240"/>
          </a:xfrm>
          <a:prstGeom prst="line">
            <a:avLst/>
          </a:prstGeom>
          <a:ln cap="sq"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RFP4%20color" descr=""/>
          <p:cNvPicPr/>
          <p:nvPr/>
        </p:nvPicPr>
        <p:blipFill>
          <a:blip r:embed="rId2"/>
          <a:stretch/>
        </p:blipFill>
        <p:spPr>
          <a:xfrm>
            <a:off x="5537160" y="1033560"/>
            <a:ext cx="1047960" cy="1185840"/>
          </a:xfrm>
          <a:prstGeom prst="rect">
            <a:avLst/>
          </a:prstGeom>
          <a:ln w="0">
            <a:noFill/>
          </a:ln>
        </p:spPr>
      </p:pic>
      <p:pic>
        <p:nvPicPr>
          <p:cNvPr id="92" name="CCFP1" descr=""/>
          <p:cNvPicPr/>
          <p:nvPr/>
        </p:nvPicPr>
        <p:blipFill>
          <a:blip r:embed="rId3"/>
          <a:stretch/>
        </p:blipFill>
        <p:spPr>
          <a:xfrm>
            <a:off x="7748640" y="882720"/>
            <a:ext cx="1773360" cy="195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2486160" y="981000"/>
          <a:ext cx="1771560" cy="1187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6160" y="981000"/>
                    <a:ext cx="177156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exp_board" descr=""/>
          <p:cNvPicPr/>
          <p:nvPr/>
        </p:nvPicPr>
        <p:blipFill>
          <a:blip r:embed="rId6"/>
          <a:stretch/>
        </p:blipFill>
        <p:spPr>
          <a:xfrm>
            <a:off x="2286000" y="3032280"/>
            <a:ext cx="2478240" cy="849240"/>
          </a:xfrm>
          <a:prstGeom prst="rect">
            <a:avLst/>
          </a:prstGeom>
          <a:ln w="0">
            <a:noFill/>
          </a:ln>
        </p:spPr>
      </p:pic>
      <p:pic>
        <p:nvPicPr>
          <p:cNvPr id="96" name="Link%20card%20color" descr=""/>
          <p:cNvPicPr/>
          <p:nvPr/>
        </p:nvPicPr>
        <p:blipFill>
          <a:blip r:embed="rId7"/>
          <a:stretch/>
        </p:blipFill>
        <p:spPr>
          <a:xfrm>
            <a:off x="3057480" y="4964040"/>
            <a:ext cx="3619440" cy="1324080"/>
          </a:xfrm>
          <a:prstGeom prst="rect">
            <a:avLst/>
          </a:prstGeom>
          <a:ln w="0">
            <a:noFill/>
          </a:ln>
        </p:spPr>
      </p:pic>
      <p:pic>
        <p:nvPicPr>
          <p:cNvPr id="97" name="CRFP" descr=""/>
          <p:cNvPicPr/>
          <p:nvPr/>
        </p:nvPicPr>
        <p:blipFill>
          <a:blip r:embed="rId8"/>
          <a:stretch/>
        </p:blipFill>
        <p:spPr>
          <a:xfrm>
            <a:off x="7816680" y="3881520"/>
            <a:ext cx="1303560" cy="1138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716200" y="2436840"/>
            <a:ext cx="13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W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53200" y="2635200"/>
            <a:ext cx="132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F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97920" y="3032280"/>
            <a:ext cx="13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CF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16200" y="3979800"/>
            <a:ext cx="15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CFP EX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186760" y="5229360"/>
            <a:ext cx="15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F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0061-9EAD-4737-90F6-709FFEA20315}" type="slidenum">
              <a:t>2</a:t>
            </a:fld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2889360" y="457200"/>
            <a:ext cx="6521400" cy="0"/>
          </a:xfrm>
          <a:prstGeom prst="line">
            <a:avLst/>
          </a:prstGeom>
          <a:ln cap="sq"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0" y="0"/>
            <a:ext cx="6129000" cy="6858000"/>
            <a:chOff x="0" y="0"/>
            <a:chExt cx="6129000" cy="6858000"/>
          </a:xfrm>
        </p:grpSpPr>
        <p:sp>
          <p:nvSpPr>
            <p:cNvPr id="695" name=""/>
            <p:cNvSpPr/>
            <p:nvPr/>
          </p:nvSpPr>
          <p:spPr>
            <a:xfrm>
              <a:off x="0" y="0"/>
              <a:ext cx="2228760" cy="3429000"/>
            </a:xfrm>
            <a:prstGeom prst="rect">
              <a:avLst/>
            </a:prstGeom>
            <a:solidFill>
              <a:srgbClr val="000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0" y="3429000"/>
              <a:ext cx="2228760" cy="3429000"/>
            </a:xfrm>
            <a:prstGeom prst="rect">
              <a:avLst/>
            </a:pr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91836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79924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9" name="" descr=""/>
            <p:cNvPicPr/>
            <p:nvPr/>
          </p:nvPicPr>
          <p:blipFill>
            <a:blip r:embed="rId1"/>
            <a:stretch/>
          </p:blipFill>
          <p:spPr>
            <a:xfrm>
              <a:off x="201240" y="2055960"/>
              <a:ext cx="1705680" cy="271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0" name=""/>
            <p:cNvGrpSpPr/>
            <p:nvPr/>
          </p:nvGrpSpPr>
          <p:grpSpPr>
            <a:xfrm>
              <a:off x="211320" y="380880"/>
              <a:ext cx="1605600" cy="821880"/>
              <a:chOff x="211320" y="380880"/>
              <a:chExt cx="1605600" cy="821880"/>
            </a:xfrm>
          </p:grpSpPr>
          <p:sp>
            <p:nvSpPr>
              <p:cNvPr id="701" name=""/>
              <p:cNvSpPr/>
              <p:nvPr/>
            </p:nvSpPr>
            <p:spPr>
              <a:xfrm>
                <a:off x="403920" y="38088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7">
                    <a:moveTo>
                      <a:pt x="29" y="1655"/>
                    </a:moveTo>
                    <a:lnTo>
                      <a:pt x="79" y="1682"/>
                    </a:lnTo>
                    <a:lnTo>
                      <a:pt x="623" y="1957"/>
                    </a:lnTo>
                    <a:lnTo>
                      <a:pt x="684" y="1987"/>
                    </a:lnTo>
                    <a:lnTo>
                      <a:pt x="687" y="1916"/>
                    </a:lnTo>
                    <a:lnTo>
                      <a:pt x="691" y="1864"/>
                    </a:lnTo>
                    <a:lnTo>
                      <a:pt x="697" y="1814"/>
                    </a:lnTo>
                    <a:lnTo>
                      <a:pt x="704" y="1763"/>
                    </a:lnTo>
                    <a:lnTo>
                      <a:pt x="713" y="1714"/>
                    </a:lnTo>
                    <a:lnTo>
                      <a:pt x="724" y="1665"/>
                    </a:lnTo>
                    <a:lnTo>
                      <a:pt x="737" y="1616"/>
                    </a:lnTo>
                    <a:lnTo>
                      <a:pt x="751" y="1569"/>
                    </a:lnTo>
                    <a:lnTo>
                      <a:pt x="767" y="1522"/>
                    </a:lnTo>
                    <a:lnTo>
                      <a:pt x="784" y="1476"/>
                    </a:lnTo>
                    <a:lnTo>
                      <a:pt x="803" y="1431"/>
                    </a:lnTo>
                    <a:lnTo>
                      <a:pt x="824" y="1386"/>
                    </a:lnTo>
                    <a:lnTo>
                      <a:pt x="846" y="1343"/>
                    </a:lnTo>
                    <a:lnTo>
                      <a:pt x="869" y="1300"/>
                    </a:lnTo>
                    <a:lnTo>
                      <a:pt x="894" y="1257"/>
                    </a:lnTo>
                    <a:lnTo>
                      <a:pt x="920" y="1217"/>
                    </a:lnTo>
                    <a:lnTo>
                      <a:pt x="948" y="1177"/>
                    </a:lnTo>
                    <a:lnTo>
                      <a:pt x="976" y="1137"/>
                    </a:lnTo>
                    <a:lnTo>
                      <a:pt x="1007" y="1100"/>
                    </a:lnTo>
                    <a:lnTo>
                      <a:pt x="1038" y="1063"/>
                    </a:lnTo>
                    <a:lnTo>
                      <a:pt x="1071" y="1027"/>
                    </a:lnTo>
                    <a:lnTo>
                      <a:pt x="1105" y="993"/>
                    </a:lnTo>
                    <a:lnTo>
                      <a:pt x="1140" y="959"/>
                    </a:lnTo>
                    <a:lnTo>
                      <a:pt x="1176" y="927"/>
                    </a:lnTo>
                    <a:lnTo>
                      <a:pt x="1213" y="896"/>
                    </a:lnTo>
                    <a:lnTo>
                      <a:pt x="1250" y="866"/>
                    </a:lnTo>
                    <a:lnTo>
                      <a:pt x="1290" y="838"/>
                    </a:lnTo>
                    <a:lnTo>
                      <a:pt x="1331" y="810"/>
                    </a:lnTo>
                    <a:lnTo>
                      <a:pt x="1372" y="785"/>
                    </a:lnTo>
                    <a:lnTo>
                      <a:pt x="1414" y="760"/>
                    </a:lnTo>
                    <a:lnTo>
                      <a:pt x="1457" y="737"/>
                    </a:lnTo>
                    <a:lnTo>
                      <a:pt x="1501" y="716"/>
                    </a:lnTo>
                    <a:lnTo>
                      <a:pt x="1546" y="696"/>
                    </a:lnTo>
                    <a:lnTo>
                      <a:pt x="1584" y="680"/>
                    </a:lnTo>
                    <a:lnTo>
                      <a:pt x="1594" y="673"/>
                    </a:lnTo>
                    <a:lnTo>
                      <a:pt x="1600" y="665"/>
                    </a:lnTo>
                    <a:lnTo>
                      <a:pt x="1604" y="658"/>
                    </a:lnTo>
                    <a:lnTo>
                      <a:pt x="1606" y="650"/>
                    </a:lnTo>
                    <a:lnTo>
                      <a:pt x="1605" y="638"/>
                    </a:lnTo>
                    <a:lnTo>
                      <a:pt x="1603" y="632"/>
                    </a:lnTo>
                    <a:lnTo>
                      <a:pt x="1586" y="586"/>
                    </a:lnTo>
                    <a:lnTo>
                      <a:pt x="1385" y="31"/>
                    </a:lnTo>
                    <a:lnTo>
                      <a:pt x="1381" y="18"/>
                    </a:lnTo>
                    <a:lnTo>
                      <a:pt x="1380" y="13"/>
                    </a:lnTo>
                    <a:lnTo>
                      <a:pt x="1372" y="5"/>
                    </a:lnTo>
                    <a:lnTo>
                      <a:pt x="1367" y="2"/>
                    </a:lnTo>
                    <a:lnTo>
                      <a:pt x="1359" y="0"/>
                    </a:lnTo>
                    <a:lnTo>
                      <a:pt x="1349" y="0"/>
                    </a:lnTo>
                    <a:lnTo>
                      <a:pt x="1337" y="3"/>
                    </a:lnTo>
                    <a:lnTo>
                      <a:pt x="1307" y="14"/>
                    </a:lnTo>
                    <a:lnTo>
                      <a:pt x="1248" y="37"/>
                    </a:lnTo>
                    <a:lnTo>
                      <a:pt x="1190" y="63"/>
                    </a:lnTo>
                    <a:lnTo>
                      <a:pt x="1133" y="89"/>
                    </a:lnTo>
                    <a:lnTo>
                      <a:pt x="1076" y="119"/>
                    </a:lnTo>
                    <a:lnTo>
                      <a:pt x="1021" y="149"/>
                    </a:lnTo>
                    <a:lnTo>
                      <a:pt x="966" y="181"/>
                    </a:lnTo>
                    <a:lnTo>
                      <a:pt x="913" y="215"/>
                    </a:lnTo>
                    <a:lnTo>
                      <a:pt x="861" y="251"/>
                    </a:lnTo>
                    <a:lnTo>
                      <a:pt x="810" y="289"/>
                    </a:lnTo>
                    <a:lnTo>
                      <a:pt x="759" y="328"/>
                    </a:lnTo>
                    <a:lnTo>
                      <a:pt x="711" y="369"/>
                    </a:lnTo>
                    <a:lnTo>
                      <a:pt x="663" y="411"/>
                    </a:lnTo>
                    <a:lnTo>
                      <a:pt x="616" y="455"/>
                    </a:lnTo>
                    <a:lnTo>
                      <a:pt x="572" y="501"/>
                    </a:lnTo>
                    <a:lnTo>
                      <a:pt x="528" y="547"/>
                    </a:lnTo>
                    <a:lnTo>
                      <a:pt x="485" y="595"/>
                    </a:lnTo>
                    <a:lnTo>
                      <a:pt x="443" y="645"/>
                    </a:lnTo>
                    <a:lnTo>
                      <a:pt x="404" y="695"/>
                    </a:lnTo>
                    <a:lnTo>
                      <a:pt x="365" y="747"/>
                    </a:lnTo>
                    <a:lnTo>
                      <a:pt x="329" y="800"/>
                    </a:lnTo>
                    <a:lnTo>
                      <a:pt x="294" y="854"/>
                    </a:lnTo>
                    <a:lnTo>
                      <a:pt x="260" y="910"/>
                    </a:lnTo>
                    <a:lnTo>
                      <a:pt x="228" y="967"/>
                    </a:lnTo>
                    <a:lnTo>
                      <a:pt x="197" y="1024"/>
                    </a:lnTo>
                    <a:lnTo>
                      <a:pt x="169" y="1084"/>
                    </a:lnTo>
                    <a:lnTo>
                      <a:pt x="142" y="1144"/>
                    </a:lnTo>
                    <a:lnTo>
                      <a:pt x="116" y="1204"/>
                    </a:lnTo>
                    <a:lnTo>
                      <a:pt x="93" y="1266"/>
                    </a:lnTo>
                    <a:lnTo>
                      <a:pt x="71" y="1329"/>
                    </a:lnTo>
                    <a:lnTo>
                      <a:pt x="52" y="1392"/>
                    </a:lnTo>
                    <a:lnTo>
                      <a:pt x="34" y="1457"/>
                    </a:lnTo>
                    <a:lnTo>
                      <a:pt x="18" y="1522"/>
                    </a:lnTo>
                    <a:lnTo>
                      <a:pt x="2" y="1593"/>
                    </a:lnTo>
                    <a:lnTo>
                      <a:pt x="0" y="1610"/>
                    </a:lnTo>
                    <a:lnTo>
                      <a:pt x="1" y="1623"/>
                    </a:lnTo>
                    <a:lnTo>
                      <a:pt x="6" y="1634"/>
                    </a:lnTo>
                    <a:lnTo>
                      <a:pt x="11" y="1643"/>
                    </a:lnTo>
                    <a:lnTo>
                      <a:pt x="17" y="1648"/>
                    </a:lnTo>
                    <a:lnTo>
                      <a:pt x="23" y="1652"/>
                    </a:lnTo>
                    <a:lnTo>
                      <a:pt x="29" y="1655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03920" y="77004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5">
                    <a:moveTo>
                      <a:pt x="29" y="333"/>
                    </a:moveTo>
                    <a:lnTo>
                      <a:pt x="79" y="306"/>
                    </a:lnTo>
                    <a:lnTo>
                      <a:pt x="623" y="31"/>
                    </a:lnTo>
                    <a:lnTo>
                      <a:pt x="684" y="0"/>
                    </a:lnTo>
                    <a:lnTo>
                      <a:pt x="687" y="72"/>
                    </a:lnTo>
                    <a:lnTo>
                      <a:pt x="691" y="123"/>
                    </a:lnTo>
                    <a:lnTo>
                      <a:pt x="697" y="174"/>
                    </a:lnTo>
                    <a:lnTo>
                      <a:pt x="704" y="224"/>
                    </a:lnTo>
                    <a:lnTo>
                      <a:pt x="713" y="273"/>
                    </a:lnTo>
                    <a:lnTo>
                      <a:pt x="724" y="323"/>
                    </a:lnTo>
                    <a:lnTo>
                      <a:pt x="737" y="371"/>
                    </a:lnTo>
                    <a:lnTo>
                      <a:pt x="751" y="418"/>
                    </a:lnTo>
                    <a:lnTo>
                      <a:pt x="767" y="465"/>
                    </a:lnTo>
                    <a:lnTo>
                      <a:pt x="784" y="512"/>
                    </a:lnTo>
                    <a:lnTo>
                      <a:pt x="803" y="557"/>
                    </a:lnTo>
                    <a:lnTo>
                      <a:pt x="824" y="602"/>
                    </a:lnTo>
                    <a:lnTo>
                      <a:pt x="846" y="645"/>
                    </a:lnTo>
                    <a:lnTo>
                      <a:pt x="869" y="688"/>
                    </a:lnTo>
                    <a:lnTo>
                      <a:pt x="894" y="730"/>
                    </a:lnTo>
                    <a:lnTo>
                      <a:pt x="920" y="771"/>
                    </a:lnTo>
                    <a:lnTo>
                      <a:pt x="948" y="811"/>
                    </a:lnTo>
                    <a:lnTo>
                      <a:pt x="976" y="850"/>
                    </a:lnTo>
                    <a:lnTo>
                      <a:pt x="1007" y="888"/>
                    </a:lnTo>
                    <a:lnTo>
                      <a:pt x="1038" y="924"/>
                    </a:lnTo>
                    <a:lnTo>
                      <a:pt x="1071" y="961"/>
                    </a:lnTo>
                    <a:lnTo>
                      <a:pt x="1105" y="995"/>
                    </a:lnTo>
                    <a:lnTo>
                      <a:pt x="1140" y="1029"/>
                    </a:lnTo>
                    <a:lnTo>
                      <a:pt x="1176" y="1061"/>
                    </a:lnTo>
                    <a:lnTo>
                      <a:pt x="1213" y="1092"/>
                    </a:lnTo>
                    <a:lnTo>
                      <a:pt x="1252" y="1122"/>
                    </a:lnTo>
                    <a:lnTo>
                      <a:pt x="1290" y="1151"/>
                    </a:lnTo>
                    <a:lnTo>
                      <a:pt x="1331" y="1177"/>
                    </a:lnTo>
                    <a:lnTo>
                      <a:pt x="1372" y="1203"/>
                    </a:lnTo>
                    <a:lnTo>
                      <a:pt x="1414" y="1227"/>
                    </a:lnTo>
                    <a:lnTo>
                      <a:pt x="1457" y="1250"/>
                    </a:lnTo>
                    <a:lnTo>
                      <a:pt x="1501" y="1271"/>
                    </a:lnTo>
                    <a:lnTo>
                      <a:pt x="1546" y="1292"/>
                    </a:lnTo>
                    <a:lnTo>
                      <a:pt x="1584" y="1308"/>
                    </a:lnTo>
                    <a:lnTo>
                      <a:pt x="1594" y="1315"/>
                    </a:lnTo>
                    <a:lnTo>
                      <a:pt x="1600" y="1323"/>
                    </a:lnTo>
                    <a:lnTo>
                      <a:pt x="1605" y="1331"/>
                    </a:lnTo>
                    <a:lnTo>
                      <a:pt x="1606" y="1337"/>
                    </a:lnTo>
                    <a:lnTo>
                      <a:pt x="1605" y="1349"/>
                    </a:lnTo>
                    <a:lnTo>
                      <a:pt x="1603" y="1355"/>
                    </a:lnTo>
                    <a:lnTo>
                      <a:pt x="1586" y="1401"/>
                    </a:lnTo>
                    <a:lnTo>
                      <a:pt x="1388" y="1950"/>
                    </a:lnTo>
                    <a:lnTo>
                      <a:pt x="1381" y="1965"/>
                    </a:lnTo>
                    <a:lnTo>
                      <a:pt x="1379" y="1970"/>
                    </a:lnTo>
                    <a:lnTo>
                      <a:pt x="1371" y="1978"/>
                    </a:lnTo>
                    <a:lnTo>
                      <a:pt x="1366" y="1983"/>
                    </a:lnTo>
                    <a:lnTo>
                      <a:pt x="1358" y="1985"/>
                    </a:lnTo>
                    <a:lnTo>
                      <a:pt x="1348" y="1985"/>
                    </a:lnTo>
                    <a:lnTo>
                      <a:pt x="1338" y="1983"/>
                    </a:lnTo>
                    <a:lnTo>
                      <a:pt x="1302" y="1969"/>
                    </a:lnTo>
                    <a:lnTo>
                      <a:pt x="1242" y="1942"/>
                    </a:lnTo>
                    <a:lnTo>
                      <a:pt x="1181" y="1915"/>
                    </a:lnTo>
                    <a:lnTo>
                      <a:pt x="1123" y="1886"/>
                    </a:lnTo>
                    <a:lnTo>
                      <a:pt x="1066" y="1857"/>
                    </a:lnTo>
                    <a:lnTo>
                      <a:pt x="1009" y="1824"/>
                    </a:lnTo>
                    <a:lnTo>
                      <a:pt x="954" y="1791"/>
                    </a:lnTo>
                    <a:lnTo>
                      <a:pt x="901" y="1756"/>
                    </a:lnTo>
                    <a:lnTo>
                      <a:pt x="848" y="1719"/>
                    </a:lnTo>
                    <a:lnTo>
                      <a:pt x="796" y="1682"/>
                    </a:lnTo>
                    <a:lnTo>
                      <a:pt x="747" y="1642"/>
                    </a:lnTo>
                    <a:lnTo>
                      <a:pt x="698" y="1602"/>
                    </a:lnTo>
                    <a:lnTo>
                      <a:pt x="650" y="1560"/>
                    </a:lnTo>
                    <a:lnTo>
                      <a:pt x="604" y="1517"/>
                    </a:lnTo>
                    <a:lnTo>
                      <a:pt x="559" y="1472"/>
                    </a:lnTo>
                    <a:lnTo>
                      <a:pt x="517" y="1426"/>
                    </a:lnTo>
                    <a:lnTo>
                      <a:pt x="475" y="1379"/>
                    </a:lnTo>
                    <a:lnTo>
                      <a:pt x="434" y="1331"/>
                    </a:lnTo>
                    <a:lnTo>
                      <a:pt x="395" y="1281"/>
                    </a:lnTo>
                    <a:lnTo>
                      <a:pt x="358" y="1230"/>
                    </a:lnTo>
                    <a:lnTo>
                      <a:pt x="323" y="1178"/>
                    </a:lnTo>
                    <a:lnTo>
                      <a:pt x="287" y="1124"/>
                    </a:lnTo>
                    <a:lnTo>
                      <a:pt x="255" y="1070"/>
                    </a:lnTo>
                    <a:lnTo>
                      <a:pt x="224" y="1014"/>
                    </a:lnTo>
                    <a:lnTo>
                      <a:pt x="194" y="957"/>
                    </a:lnTo>
                    <a:lnTo>
                      <a:pt x="166" y="900"/>
                    </a:lnTo>
                    <a:lnTo>
                      <a:pt x="139" y="841"/>
                    </a:lnTo>
                    <a:lnTo>
                      <a:pt x="115" y="781"/>
                    </a:lnTo>
                    <a:lnTo>
                      <a:pt x="92" y="720"/>
                    </a:lnTo>
                    <a:lnTo>
                      <a:pt x="71" y="658"/>
                    </a:lnTo>
                    <a:lnTo>
                      <a:pt x="52" y="595"/>
                    </a:lnTo>
                    <a:lnTo>
                      <a:pt x="34" y="530"/>
                    </a:lnTo>
                    <a:lnTo>
                      <a:pt x="18" y="465"/>
                    </a:lnTo>
                    <a:lnTo>
                      <a:pt x="3" y="394"/>
                    </a:lnTo>
                    <a:lnTo>
                      <a:pt x="0" y="378"/>
                    </a:lnTo>
                    <a:lnTo>
                      <a:pt x="1" y="364"/>
                    </a:lnTo>
                    <a:lnTo>
                      <a:pt x="6" y="353"/>
                    </a:lnTo>
                    <a:lnTo>
                      <a:pt x="11" y="346"/>
                    </a:lnTo>
                    <a:lnTo>
                      <a:pt x="17" y="339"/>
                    </a:lnTo>
                    <a:lnTo>
                      <a:pt x="23" y="336"/>
                    </a:lnTo>
                    <a:lnTo>
                      <a:pt x="29" y="333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67440" y="698400"/>
                <a:ext cx="149400" cy="147600"/>
              </a:xfrm>
              <a:custGeom>
                <a:avLst/>
                <a:gdLst/>
                <a:ahLst/>
                <a:rect l="l" t="t" r="r" b="b"/>
                <a:pathLst>
                  <a:path w="714" h="759">
                    <a:moveTo>
                      <a:pt x="699" y="379"/>
                    </a:moveTo>
                    <a:lnTo>
                      <a:pt x="706" y="375"/>
                    </a:lnTo>
                    <a:lnTo>
                      <a:pt x="710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09" y="351"/>
                    </a:lnTo>
                    <a:lnTo>
                      <a:pt x="705" y="346"/>
                    </a:lnTo>
                    <a:lnTo>
                      <a:pt x="699" y="342"/>
                    </a:lnTo>
                    <a:lnTo>
                      <a:pt x="35" y="4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3" y="11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735"/>
                    </a:lnTo>
                    <a:lnTo>
                      <a:pt x="1" y="743"/>
                    </a:lnTo>
                    <a:lnTo>
                      <a:pt x="3" y="748"/>
                    </a:lnTo>
                    <a:lnTo>
                      <a:pt x="5" y="753"/>
                    </a:lnTo>
                    <a:lnTo>
                      <a:pt x="10" y="757"/>
                    </a:lnTo>
                    <a:lnTo>
                      <a:pt x="15" y="759"/>
                    </a:lnTo>
                    <a:lnTo>
                      <a:pt x="21" y="759"/>
                    </a:lnTo>
                    <a:lnTo>
                      <a:pt x="27" y="758"/>
                    </a:lnTo>
                    <a:lnTo>
                      <a:pt x="34" y="755"/>
                    </a:lnTo>
                    <a:lnTo>
                      <a:pt x="699" y="379"/>
                    </a:lnTo>
                    <a:close/>
                  </a:path>
                </a:pathLst>
              </a:custGeom>
              <a:solidFill>
                <a:srgbClr val="00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11320" y="701640"/>
                <a:ext cx="149760" cy="146160"/>
              </a:xfrm>
              <a:custGeom>
                <a:avLst/>
                <a:gdLst/>
                <a:ahLst/>
                <a:rect l="l" t="t" r="r" b="b"/>
                <a:pathLst>
                  <a:path w="714" h="758">
                    <a:moveTo>
                      <a:pt x="701" y="379"/>
                    </a:moveTo>
                    <a:lnTo>
                      <a:pt x="706" y="374"/>
                    </a:lnTo>
                    <a:lnTo>
                      <a:pt x="711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11" y="350"/>
                    </a:lnTo>
                    <a:lnTo>
                      <a:pt x="706" y="346"/>
                    </a:lnTo>
                    <a:lnTo>
                      <a:pt x="700" y="342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0" y="734"/>
                    </a:lnTo>
                    <a:lnTo>
                      <a:pt x="1" y="742"/>
                    </a:lnTo>
                    <a:lnTo>
                      <a:pt x="3" y="749"/>
                    </a:lnTo>
                    <a:lnTo>
                      <a:pt x="7" y="753"/>
                    </a:lnTo>
                    <a:lnTo>
                      <a:pt x="10" y="756"/>
                    </a:lnTo>
                    <a:lnTo>
                      <a:pt x="15" y="758"/>
                    </a:lnTo>
                    <a:lnTo>
                      <a:pt x="21" y="758"/>
                    </a:lnTo>
                    <a:lnTo>
                      <a:pt x="27" y="757"/>
                    </a:lnTo>
                    <a:lnTo>
                      <a:pt x="34" y="754"/>
                    </a:lnTo>
                    <a:lnTo>
                      <a:pt x="701" y="379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011960" y="517680"/>
                <a:ext cx="195840" cy="250560"/>
              </a:xfrm>
              <a:custGeom>
                <a:avLst/>
                <a:gdLst/>
                <a:ahLst/>
                <a:rect l="l" t="t" r="r" b="b"/>
                <a:pathLst>
                  <a:path w="930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30" y="1293"/>
                    </a:lnTo>
                    <a:lnTo>
                      <a:pt x="713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230480" y="517680"/>
                <a:ext cx="34200" cy="25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316520" y="517680"/>
                <a:ext cx="168480" cy="250560"/>
              </a:xfrm>
              <a:custGeom>
                <a:avLst/>
                <a:gdLst/>
                <a:ahLst/>
                <a:rect l="l" t="t" r="r" b="b"/>
                <a:pathLst>
                  <a:path w="803" h="1293">
                    <a:moveTo>
                      <a:pt x="803" y="1293"/>
                    </a:moveTo>
                    <a:lnTo>
                      <a:pt x="607" y="1293"/>
                    </a:lnTo>
                    <a:lnTo>
                      <a:pt x="228" y="746"/>
                    </a:lnTo>
                    <a:lnTo>
                      <a:pt x="161" y="746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283" y="1"/>
                    </a:lnTo>
                    <a:lnTo>
                      <a:pt x="327" y="4"/>
                    </a:lnTo>
                    <a:lnTo>
                      <a:pt x="370" y="8"/>
                    </a:lnTo>
                    <a:lnTo>
                      <a:pt x="413" y="16"/>
                    </a:lnTo>
                    <a:lnTo>
                      <a:pt x="456" y="27"/>
                    </a:lnTo>
                    <a:lnTo>
                      <a:pt x="497" y="41"/>
                    </a:lnTo>
                    <a:lnTo>
                      <a:pt x="536" y="61"/>
                    </a:lnTo>
                    <a:lnTo>
                      <a:pt x="556" y="73"/>
                    </a:lnTo>
                    <a:lnTo>
                      <a:pt x="574" y="87"/>
                    </a:lnTo>
                    <a:lnTo>
                      <a:pt x="592" y="101"/>
                    </a:lnTo>
                    <a:lnTo>
                      <a:pt x="608" y="118"/>
                    </a:lnTo>
                    <a:lnTo>
                      <a:pt x="623" y="135"/>
                    </a:lnTo>
                    <a:lnTo>
                      <a:pt x="637" y="153"/>
                    </a:lnTo>
                    <a:lnTo>
                      <a:pt x="650" y="173"/>
                    </a:lnTo>
                    <a:lnTo>
                      <a:pt x="661" y="192"/>
                    </a:lnTo>
                    <a:lnTo>
                      <a:pt x="671" y="212"/>
                    </a:lnTo>
                    <a:lnTo>
                      <a:pt x="680" y="233"/>
                    </a:lnTo>
                    <a:lnTo>
                      <a:pt x="694" y="277"/>
                    </a:lnTo>
                    <a:lnTo>
                      <a:pt x="700" y="300"/>
                    </a:lnTo>
                    <a:lnTo>
                      <a:pt x="703" y="323"/>
                    </a:lnTo>
                    <a:lnTo>
                      <a:pt x="705" y="346"/>
                    </a:lnTo>
                    <a:lnTo>
                      <a:pt x="705" y="369"/>
                    </a:lnTo>
                    <a:lnTo>
                      <a:pt x="704" y="403"/>
                    </a:lnTo>
                    <a:lnTo>
                      <a:pt x="700" y="436"/>
                    </a:lnTo>
                    <a:lnTo>
                      <a:pt x="693" y="469"/>
                    </a:lnTo>
                    <a:lnTo>
                      <a:pt x="683" y="500"/>
                    </a:lnTo>
                    <a:lnTo>
                      <a:pt x="671" y="531"/>
                    </a:lnTo>
                    <a:lnTo>
                      <a:pt x="657" y="558"/>
                    </a:lnTo>
                    <a:lnTo>
                      <a:pt x="639" y="585"/>
                    </a:lnTo>
                    <a:lnTo>
                      <a:pt x="621" y="611"/>
                    </a:lnTo>
                    <a:lnTo>
                      <a:pt x="599" y="634"/>
                    </a:lnTo>
                    <a:lnTo>
                      <a:pt x="576" y="655"/>
                    </a:lnTo>
                    <a:lnTo>
                      <a:pt x="550" y="673"/>
                    </a:lnTo>
                    <a:lnTo>
                      <a:pt x="523" y="691"/>
                    </a:lnTo>
                    <a:lnTo>
                      <a:pt x="493" y="704"/>
                    </a:lnTo>
                    <a:lnTo>
                      <a:pt x="463" y="716"/>
                    </a:lnTo>
                    <a:lnTo>
                      <a:pt x="430" y="725"/>
                    </a:lnTo>
                    <a:lnTo>
                      <a:pt x="396" y="730"/>
                    </a:lnTo>
                    <a:lnTo>
                      <a:pt x="803" y="1293"/>
                    </a:lnTo>
                    <a:close/>
                    <a:moveTo>
                      <a:pt x="161" y="612"/>
                    </a:moveTo>
                    <a:lnTo>
                      <a:pt x="213" y="612"/>
                    </a:lnTo>
                    <a:lnTo>
                      <a:pt x="274" y="611"/>
                    </a:lnTo>
                    <a:lnTo>
                      <a:pt x="335" y="604"/>
                    </a:lnTo>
                    <a:lnTo>
                      <a:pt x="365" y="599"/>
                    </a:lnTo>
                    <a:lnTo>
                      <a:pt x="393" y="591"/>
                    </a:lnTo>
                    <a:lnTo>
                      <a:pt x="420" y="582"/>
                    </a:lnTo>
                    <a:lnTo>
                      <a:pt x="445" y="571"/>
                    </a:lnTo>
                    <a:lnTo>
                      <a:pt x="469" y="557"/>
                    </a:lnTo>
                    <a:lnTo>
                      <a:pt x="490" y="540"/>
                    </a:lnTo>
                    <a:lnTo>
                      <a:pt x="509" y="522"/>
                    </a:lnTo>
                    <a:lnTo>
                      <a:pt x="524" y="499"/>
                    </a:lnTo>
                    <a:lnTo>
                      <a:pt x="537" y="473"/>
                    </a:lnTo>
                    <a:lnTo>
                      <a:pt x="547" y="445"/>
                    </a:lnTo>
                    <a:lnTo>
                      <a:pt x="553" y="412"/>
                    </a:lnTo>
                    <a:lnTo>
                      <a:pt x="555" y="376"/>
                    </a:lnTo>
                    <a:lnTo>
                      <a:pt x="553" y="339"/>
                    </a:lnTo>
                    <a:lnTo>
                      <a:pt x="546" y="308"/>
                    </a:lnTo>
                    <a:lnTo>
                      <a:pt x="536" y="279"/>
                    </a:lnTo>
                    <a:lnTo>
                      <a:pt x="523" y="254"/>
                    </a:lnTo>
                    <a:lnTo>
                      <a:pt x="505" y="232"/>
                    </a:lnTo>
                    <a:lnTo>
                      <a:pt x="486" y="213"/>
                    </a:lnTo>
                    <a:lnTo>
                      <a:pt x="464" y="198"/>
                    </a:lnTo>
                    <a:lnTo>
                      <a:pt x="440" y="184"/>
                    </a:lnTo>
                    <a:lnTo>
                      <a:pt x="413" y="173"/>
                    </a:lnTo>
                    <a:lnTo>
                      <a:pt x="385" y="164"/>
                    </a:lnTo>
                    <a:lnTo>
                      <a:pt x="356" y="157"/>
                    </a:lnTo>
                    <a:lnTo>
                      <a:pt x="325" y="152"/>
                    </a:lnTo>
                    <a:lnTo>
                      <a:pt x="296" y="148"/>
                    </a:lnTo>
                    <a:lnTo>
                      <a:pt x="265" y="146"/>
                    </a:lnTo>
                    <a:lnTo>
                      <a:pt x="204" y="144"/>
                    </a:lnTo>
                    <a:lnTo>
                      <a:pt x="161" y="144"/>
                    </a:lnTo>
                    <a:lnTo>
                      <a:pt x="161" y="6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502280" y="517680"/>
                <a:ext cx="196200" cy="250560"/>
              </a:xfrm>
              <a:custGeom>
                <a:avLst/>
                <a:gdLst/>
                <a:ahLst/>
                <a:rect l="l" t="t" r="r" b="b"/>
                <a:pathLst>
                  <a:path w="929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29" y="1293"/>
                    </a:lnTo>
                    <a:lnTo>
                      <a:pt x="712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999720" y="847800"/>
                <a:ext cx="54720" cy="133200"/>
              </a:xfrm>
              <a:custGeom>
                <a:avLst/>
                <a:gdLst/>
                <a:ahLst/>
                <a:rect l="l" t="t" r="r" b="b"/>
                <a:pathLst>
                  <a:path w="264" h="687">
                    <a:moveTo>
                      <a:pt x="169" y="687"/>
                    </a:moveTo>
                    <a:lnTo>
                      <a:pt x="74" y="687"/>
                    </a:lnTo>
                    <a:lnTo>
                      <a:pt x="74" y="279"/>
                    </a:lnTo>
                    <a:lnTo>
                      <a:pt x="0" y="279"/>
                    </a:lnTo>
                    <a:lnTo>
                      <a:pt x="0" y="190"/>
                    </a:lnTo>
                    <a:lnTo>
                      <a:pt x="74" y="190"/>
                    </a:lnTo>
                    <a:lnTo>
                      <a:pt x="74" y="0"/>
                    </a:lnTo>
                    <a:lnTo>
                      <a:pt x="169" y="0"/>
                    </a:lnTo>
                    <a:lnTo>
                      <a:pt x="169" y="190"/>
                    </a:lnTo>
                    <a:lnTo>
                      <a:pt x="264" y="190"/>
                    </a:lnTo>
                    <a:lnTo>
                      <a:pt x="264" y="279"/>
                    </a:lnTo>
                    <a:lnTo>
                      <a:pt x="169" y="279"/>
                    </a:lnTo>
                    <a:lnTo>
                      <a:pt x="169" y="6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058400" y="882720"/>
                <a:ext cx="9936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5" y="280"/>
                    </a:moveTo>
                    <a:lnTo>
                      <a:pt x="98" y="311"/>
                    </a:lnTo>
                    <a:lnTo>
                      <a:pt x="106" y="341"/>
                    </a:lnTo>
                    <a:lnTo>
                      <a:pt x="119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8" y="415"/>
                    </a:lnTo>
                    <a:lnTo>
                      <a:pt x="170" y="423"/>
                    </a:lnTo>
                    <a:lnTo>
                      <a:pt x="184" y="431"/>
                    </a:lnTo>
                    <a:lnTo>
                      <a:pt x="197" y="437"/>
                    </a:lnTo>
                    <a:lnTo>
                      <a:pt x="213" y="441"/>
                    </a:lnTo>
                    <a:lnTo>
                      <a:pt x="229" y="443"/>
                    </a:lnTo>
                    <a:lnTo>
                      <a:pt x="245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5" y="430"/>
                    </a:lnTo>
                    <a:lnTo>
                      <a:pt x="333" y="418"/>
                    </a:lnTo>
                    <a:lnTo>
                      <a:pt x="351" y="405"/>
                    </a:lnTo>
                    <a:lnTo>
                      <a:pt x="366" y="388"/>
                    </a:lnTo>
                    <a:lnTo>
                      <a:pt x="380" y="368"/>
                    </a:lnTo>
                    <a:lnTo>
                      <a:pt x="394" y="348"/>
                    </a:lnTo>
                    <a:lnTo>
                      <a:pt x="475" y="394"/>
                    </a:lnTo>
                    <a:lnTo>
                      <a:pt x="455" y="424"/>
                    </a:lnTo>
                    <a:lnTo>
                      <a:pt x="433" y="451"/>
                    </a:lnTo>
                    <a:lnTo>
                      <a:pt x="407" y="474"/>
                    </a:lnTo>
                    <a:lnTo>
                      <a:pt x="378" y="494"/>
                    </a:lnTo>
                    <a:lnTo>
                      <a:pt x="347" y="509"/>
                    </a:lnTo>
                    <a:lnTo>
                      <a:pt x="315" y="520"/>
                    </a:lnTo>
                    <a:lnTo>
                      <a:pt x="279" y="528"/>
                    </a:lnTo>
                    <a:lnTo>
                      <a:pt x="244" y="530"/>
                    </a:lnTo>
                    <a:lnTo>
                      <a:pt x="217" y="528"/>
                    </a:lnTo>
                    <a:lnTo>
                      <a:pt x="191" y="524"/>
                    </a:lnTo>
                    <a:lnTo>
                      <a:pt x="165" y="518"/>
                    </a:lnTo>
                    <a:lnTo>
                      <a:pt x="142" y="509"/>
                    </a:lnTo>
                    <a:lnTo>
                      <a:pt x="120" y="498"/>
                    </a:lnTo>
                    <a:lnTo>
                      <a:pt x="101" y="485"/>
                    </a:lnTo>
                    <a:lnTo>
                      <a:pt x="82" y="471"/>
                    </a:lnTo>
                    <a:lnTo>
                      <a:pt x="66" y="454"/>
                    </a:lnTo>
                    <a:lnTo>
                      <a:pt x="50" y="435"/>
                    </a:lnTo>
                    <a:lnTo>
                      <a:pt x="37" y="416"/>
                    </a:lnTo>
                    <a:lnTo>
                      <a:pt x="26" y="394"/>
                    </a:lnTo>
                    <a:lnTo>
                      <a:pt x="16" y="371"/>
                    </a:lnTo>
                    <a:lnTo>
                      <a:pt x="10" y="346"/>
                    </a:lnTo>
                    <a:lnTo>
                      <a:pt x="4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4" y="213"/>
                    </a:lnTo>
                    <a:lnTo>
                      <a:pt x="9" y="186"/>
                    </a:lnTo>
                    <a:lnTo>
                      <a:pt x="15" y="161"/>
                    </a:lnTo>
                    <a:lnTo>
                      <a:pt x="24" y="138"/>
                    </a:lnTo>
                    <a:lnTo>
                      <a:pt x="34" y="116"/>
                    </a:lnTo>
                    <a:lnTo>
                      <a:pt x="47" y="95"/>
                    </a:lnTo>
                    <a:lnTo>
                      <a:pt x="61" y="76"/>
                    </a:lnTo>
                    <a:lnTo>
                      <a:pt x="77" y="60"/>
                    </a:lnTo>
                    <a:lnTo>
                      <a:pt x="95" y="45"/>
                    </a:lnTo>
                    <a:lnTo>
                      <a:pt x="115" y="31"/>
                    </a:lnTo>
                    <a:lnTo>
                      <a:pt x="137" y="20"/>
                    </a:lnTo>
                    <a:lnTo>
                      <a:pt x="160" y="12"/>
                    </a:lnTo>
                    <a:lnTo>
                      <a:pt x="185" y="5"/>
                    </a:lnTo>
                    <a:lnTo>
                      <a:pt x="213" y="2"/>
                    </a:lnTo>
                    <a:lnTo>
                      <a:pt x="242" y="0"/>
                    </a:lnTo>
                    <a:lnTo>
                      <a:pt x="271" y="2"/>
                    </a:lnTo>
                    <a:lnTo>
                      <a:pt x="297" y="5"/>
                    </a:lnTo>
                    <a:lnTo>
                      <a:pt x="322" y="12"/>
                    </a:lnTo>
                    <a:lnTo>
                      <a:pt x="345" y="20"/>
                    </a:lnTo>
                    <a:lnTo>
                      <a:pt x="366" y="31"/>
                    </a:lnTo>
                    <a:lnTo>
                      <a:pt x="385" y="45"/>
                    </a:lnTo>
                    <a:lnTo>
                      <a:pt x="402" y="60"/>
                    </a:lnTo>
                    <a:lnTo>
                      <a:pt x="418" y="76"/>
                    </a:lnTo>
                    <a:lnTo>
                      <a:pt x="431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0" y="161"/>
                    </a:lnTo>
                    <a:lnTo>
                      <a:pt x="467" y="185"/>
                    </a:lnTo>
                    <a:lnTo>
                      <a:pt x="471" y="210"/>
                    </a:lnTo>
                    <a:lnTo>
                      <a:pt x="474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5" y="280"/>
                    </a:lnTo>
                    <a:close/>
                    <a:moveTo>
                      <a:pt x="379" y="207"/>
                    </a:moveTo>
                    <a:lnTo>
                      <a:pt x="373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5" y="117"/>
                    </a:lnTo>
                    <a:lnTo>
                      <a:pt x="316" y="103"/>
                    </a:lnTo>
                    <a:lnTo>
                      <a:pt x="294" y="92"/>
                    </a:lnTo>
                    <a:lnTo>
                      <a:pt x="270" y="85"/>
                    </a:lnTo>
                    <a:lnTo>
                      <a:pt x="242" y="83"/>
                    </a:lnTo>
                    <a:lnTo>
                      <a:pt x="215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1" y="137"/>
                    </a:lnTo>
                    <a:lnTo>
                      <a:pt x="117" y="158"/>
                    </a:lnTo>
                    <a:lnTo>
                      <a:pt x="107" y="182"/>
                    </a:lnTo>
                    <a:lnTo>
                      <a:pt x="101" y="207"/>
                    </a:lnTo>
                    <a:lnTo>
                      <a:pt x="379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177200" y="846000"/>
                <a:ext cx="2052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211400" y="882720"/>
                <a:ext cx="9972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7" y="280"/>
                    </a:moveTo>
                    <a:lnTo>
                      <a:pt x="99" y="311"/>
                    </a:lnTo>
                    <a:lnTo>
                      <a:pt x="108" y="341"/>
                    </a:lnTo>
                    <a:lnTo>
                      <a:pt x="120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9" y="415"/>
                    </a:lnTo>
                    <a:lnTo>
                      <a:pt x="171" y="423"/>
                    </a:lnTo>
                    <a:lnTo>
                      <a:pt x="185" y="431"/>
                    </a:lnTo>
                    <a:lnTo>
                      <a:pt x="199" y="437"/>
                    </a:lnTo>
                    <a:lnTo>
                      <a:pt x="213" y="441"/>
                    </a:lnTo>
                    <a:lnTo>
                      <a:pt x="230" y="443"/>
                    </a:lnTo>
                    <a:lnTo>
                      <a:pt x="246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6" y="430"/>
                    </a:lnTo>
                    <a:lnTo>
                      <a:pt x="335" y="418"/>
                    </a:lnTo>
                    <a:lnTo>
                      <a:pt x="351" y="405"/>
                    </a:lnTo>
                    <a:lnTo>
                      <a:pt x="367" y="388"/>
                    </a:lnTo>
                    <a:lnTo>
                      <a:pt x="381" y="368"/>
                    </a:lnTo>
                    <a:lnTo>
                      <a:pt x="395" y="348"/>
                    </a:lnTo>
                    <a:lnTo>
                      <a:pt x="475" y="394"/>
                    </a:lnTo>
                    <a:lnTo>
                      <a:pt x="457" y="424"/>
                    </a:lnTo>
                    <a:lnTo>
                      <a:pt x="434" y="451"/>
                    </a:lnTo>
                    <a:lnTo>
                      <a:pt x="407" y="474"/>
                    </a:lnTo>
                    <a:lnTo>
                      <a:pt x="379" y="494"/>
                    </a:lnTo>
                    <a:lnTo>
                      <a:pt x="348" y="509"/>
                    </a:lnTo>
                    <a:lnTo>
                      <a:pt x="315" y="520"/>
                    </a:lnTo>
                    <a:lnTo>
                      <a:pt x="281" y="528"/>
                    </a:lnTo>
                    <a:lnTo>
                      <a:pt x="245" y="530"/>
                    </a:lnTo>
                    <a:lnTo>
                      <a:pt x="218" y="528"/>
                    </a:lnTo>
                    <a:lnTo>
                      <a:pt x="191" y="524"/>
                    </a:lnTo>
                    <a:lnTo>
                      <a:pt x="166" y="518"/>
                    </a:lnTo>
                    <a:lnTo>
                      <a:pt x="143" y="509"/>
                    </a:lnTo>
                    <a:lnTo>
                      <a:pt x="121" y="498"/>
                    </a:lnTo>
                    <a:lnTo>
                      <a:pt x="101" y="485"/>
                    </a:lnTo>
                    <a:lnTo>
                      <a:pt x="83" y="471"/>
                    </a:lnTo>
                    <a:lnTo>
                      <a:pt x="66" y="454"/>
                    </a:lnTo>
                    <a:lnTo>
                      <a:pt x="51" y="435"/>
                    </a:lnTo>
                    <a:lnTo>
                      <a:pt x="38" y="416"/>
                    </a:lnTo>
                    <a:lnTo>
                      <a:pt x="27" y="394"/>
                    </a:lnTo>
                    <a:lnTo>
                      <a:pt x="18" y="371"/>
                    </a:lnTo>
                    <a:lnTo>
                      <a:pt x="10" y="346"/>
                    </a:lnTo>
                    <a:lnTo>
                      <a:pt x="5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5" y="213"/>
                    </a:lnTo>
                    <a:lnTo>
                      <a:pt x="9" y="186"/>
                    </a:lnTo>
                    <a:lnTo>
                      <a:pt x="16" y="161"/>
                    </a:lnTo>
                    <a:lnTo>
                      <a:pt x="24" y="138"/>
                    </a:lnTo>
                    <a:lnTo>
                      <a:pt x="35" y="116"/>
                    </a:lnTo>
                    <a:lnTo>
                      <a:pt x="48" y="95"/>
                    </a:lnTo>
                    <a:lnTo>
                      <a:pt x="62" y="76"/>
                    </a:lnTo>
                    <a:lnTo>
                      <a:pt x="78" y="60"/>
                    </a:lnTo>
                    <a:lnTo>
                      <a:pt x="96" y="45"/>
                    </a:lnTo>
                    <a:lnTo>
                      <a:pt x="116" y="31"/>
                    </a:lnTo>
                    <a:lnTo>
                      <a:pt x="137" y="20"/>
                    </a:lnTo>
                    <a:lnTo>
                      <a:pt x="162" y="12"/>
                    </a:lnTo>
                    <a:lnTo>
                      <a:pt x="187" y="5"/>
                    </a:lnTo>
                    <a:lnTo>
                      <a:pt x="214" y="2"/>
                    </a:lnTo>
                    <a:lnTo>
                      <a:pt x="243" y="0"/>
                    </a:lnTo>
                    <a:lnTo>
                      <a:pt x="271" y="2"/>
                    </a:lnTo>
                    <a:lnTo>
                      <a:pt x="299" y="5"/>
                    </a:lnTo>
                    <a:lnTo>
                      <a:pt x="323" y="12"/>
                    </a:lnTo>
                    <a:lnTo>
                      <a:pt x="346" y="20"/>
                    </a:lnTo>
                    <a:lnTo>
                      <a:pt x="367" y="31"/>
                    </a:lnTo>
                    <a:lnTo>
                      <a:pt x="386" y="45"/>
                    </a:lnTo>
                    <a:lnTo>
                      <a:pt x="403" y="60"/>
                    </a:lnTo>
                    <a:lnTo>
                      <a:pt x="418" y="76"/>
                    </a:lnTo>
                    <a:lnTo>
                      <a:pt x="432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1" y="161"/>
                    </a:lnTo>
                    <a:lnTo>
                      <a:pt x="468" y="185"/>
                    </a:lnTo>
                    <a:lnTo>
                      <a:pt x="472" y="210"/>
                    </a:lnTo>
                    <a:lnTo>
                      <a:pt x="475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7" y="280"/>
                    </a:lnTo>
                    <a:close/>
                    <a:moveTo>
                      <a:pt x="380" y="207"/>
                    </a:moveTo>
                    <a:lnTo>
                      <a:pt x="374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6" y="117"/>
                    </a:lnTo>
                    <a:lnTo>
                      <a:pt x="317" y="103"/>
                    </a:lnTo>
                    <a:lnTo>
                      <a:pt x="295" y="92"/>
                    </a:lnTo>
                    <a:lnTo>
                      <a:pt x="270" y="85"/>
                    </a:lnTo>
                    <a:lnTo>
                      <a:pt x="243" y="83"/>
                    </a:lnTo>
                    <a:lnTo>
                      <a:pt x="216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2" y="137"/>
                    </a:lnTo>
                    <a:lnTo>
                      <a:pt x="119" y="158"/>
                    </a:lnTo>
                    <a:lnTo>
                      <a:pt x="108" y="182"/>
                    </a:lnTo>
                    <a:lnTo>
                      <a:pt x="101" y="207"/>
                    </a:lnTo>
                    <a:lnTo>
                      <a:pt x="380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326960" y="882720"/>
                <a:ext cx="84240" cy="101520"/>
              </a:xfrm>
              <a:custGeom>
                <a:avLst/>
                <a:gdLst/>
                <a:ahLst/>
                <a:rect l="l" t="t" r="r" b="b"/>
                <a:pathLst>
                  <a:path w="404" h="530">
                    <a:moveTo>
                      <a:pt x="404" y="157"/>
                    </a:moveTo>
                    <a:lnTo>
                      <a:pt x="389" y="141"/>
                    </a:lnTo>
                    <a:lnTo>
                      <a:pt x="373" y="127"/>
                    </a:lnTo>
                    <a:lnTo>
                      <a:pt x="358" y="116"/>
                    </a:lnTo>
                    <a:lnTo>
                      <a:pt x="340" y="106"/>
                    </a:lnTo>
                    <a:lnTo>
                      <a:pt x="321" y="99"/>
                    </a:lnTo>
                    <a:lnTo>
                      <a:pt x="303" y="94"/>
                    </a:lnTo>
                    <a:lnTo>
                      <a:pt x="283" y="91"/>
                    </a:lnTo>
                    <a:lnTo>
                      <a:pt x="261" y="90"/>
                    </a:lnTo>
                    <a:lnTo>
                      <a:pt x="245" y="91"/>
                    </a:lnTo>
                    <a:lnTo>
                      <a:pt x="227" y="93"/>
                    </a:lnTo>
                    <a:lnTo>
                      <a:pt x="212" y="97"/>
                    </a:lnTo>
                    <a:lnTo>
                      <a:pt x="196" y="104"/>
                    </a:lnTo>
                    <a:lnTo>
                      <a:pt x="182" y="112"/>
                    </a:lnTo>
                    <a:lnTo>
                      <a:pt x="168" y="120"/>
                    </a:lnTo>
                    <a:lnTo>
                      <a:pt x="156" y="130"/>
                    </a:lnTo>
                    <a:lnTo>
                      <a:pt x="144" y="142"/>
                    </a:lnTo>
                    <a:lnTo>
                      <a:pt x="133" y="154"/>
                    </a:lnTo>
                    <a:lnTo>
                      <a:pt x="124" y="169"/>
                    </a:lnTo>
                    <a:lnTo>
                      <a:pt x="115" y="183"/>
                    </a:lnTo>
                    <a:lnTo>
                      <a:pt x="109" y="198"/>
                    </a:lnTo>
                    <a:lnTo>
                      <a:pt x="103" y="214"/>
                    </a:lnTo>
                    <a:lnTo>
                      <a:pt x="99" y="230"/>
                    </a:lnTo>
                    <a:lnTo>
                      <a:pt x="97" y="247"/>
                    </a:lnTo>
                    <a:lnTo>
                      <a:pt x="96" y="264"/>
                    </a:lnTo>
                    <a:lnTo>
                      <a:pt x="97" y="283"/>
                    </a:lnTo>
                    <a:lnTo>
                      <a:pt x="99" y="300"/>
                    </a:lnTo>
                    <a:lnTo>
                      <a:pt x="103" y="318"/>
                    </a:lnTo>
                    <a:lnTo>
                      <a:pt x="109" y="334"/>
                    </a:lnTo>
                    <a:lnTo>
                      <a:pt x="115" y="350"/>
                    </a:lnTo>
                    <a:lnTo>
                      <a:pt x="124" y="364"/>
                    </a:lnTo>
                    <a:lnTo>
                      <a:pt x="133" y="378"/>
                    </a:lnTo>
                    <a:lnTo>
                      <a:pt x="144" y="390"/>
                    </a:lnTo>
                    <a:lnTo>
                      <a:pt x="156" y="401"/>
                    </a:lnTo>
                    <a:lnTo>
                      <a:pt x="169" y="411"/>
                    </a:lnTo>
                    <a:lnTo>
                      <a:pt x="183" y="420"/>
                    </a:lnTo>
                    <a:lnTo>
                      <a:pt x="199" y="427"/>
                    </a:lnTo>
                    <a:lnTo>
                      <a:pt x="215" y="432"/>
                    </a:lnTo>
                    <a:lnTo>
                      <a:pt x="232" y="437"/>
                    </a:lnTo>
                    <a:lnTo>
                      <a:pt x="249" y="439"/>
                    </a:lnTo>
                    <a:lnTo>
                      <a:pt x="268" y="440"/>
                    </a:lnTo>
                    <a:lnTo>
                      <a:pt x="289" y="439"/>
                    </a:lnTo>
                    <a:lnTo>
                      <a:pt x="307" y="435"/>
                    </a:lnTo>
                    <a:lnTo>
                      <a:pt x="326" y="430"/>
                    </a:lnTo>
                    <a:lnTo>
                      <a:pt x="343" y="422"/>
                    </a:lnTo>
                    <a:lnTo>
                      <a:pt x="360" y="412"/>
                    </a:lnTo>
                    <a:lnTo>
                      <a:pt x="375" y="401"/>
                    </a:lnTo>
                    <a:lnTo>
                      <a:pt x="389" y="388"/>
                    </a:lnTo>
                    <a:lnTo>
                      <a:pt x="404" y="374"/>
                    </a:lnTo>
                    <a:lnTo>
                      <a:pt x="404" y="497"/>
                    </a:lnTo>
                    <a:lnTo>
                      <a:pt x="371" y="511"/>
                    </a:lnTo>
                    <a:lnTo>
                      <a:pt x="338" y="522"/>
                    </a:lnTo>
                    <a:lnTo>
                      <a:pt x="303" y="528"/>
                    </a:lnTo>
                    <a:lnTo>
                      <a:pt x="267" y="530"/>
                    </a:lnTo>
                    <a:lnTo>
                      <a:pt x="239" y="528"/>
                    </a:lnTo>
                    <a:lnTo>
                      <a:pt x="213" y="524"/>
                    </a:lnTo>
                    <a:lnTo>
                      <a:pt x="188" y="518"/>
                    </a:lnTo>
                    <a:lnTo>
                      <a:pt x="164" y="509"/>
                    </a:lnTo>
                    <a:lnTo>
                      <a:pt x="140" y="499"/>
                    </a:lnTo>
                    <a:lnTo>
                      <a:pt x="119" y="486"/>
                    </a:lnTo>
                    <a:lnTo>
                      <a:pt x="98" y="472"/>
                    </a:lnTo>
                    <a:lnTo>
                      <a:pt x="79" y="454"/>
                    </a:lnTo>
                    <a:lnTo>
                      <a:pt x="62" y="437"/>
                    </a:lnTo>
                    <a:lnTo>
                      <a:pt x="46" y="416"/>
                    </a:lnTo>
                    <a:lnTo>
                      <a:pt x="33" y="395"/>
                    </a:lnTo>
                    <a:lnTo>
                      <a:pt x="21" y="372"/>
                    </a:lnTo>
                    <a:lnTo>
                      <a:pt x="12" y="348"/>
                    </a:lnTo>
                    <a:lnTo>
                      <a:pt x="6" y="322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6" y="213"/>
                    </a:lnTo>
                    <a:lnTo>
                      <a:pt x="12" y="186"/>
                    </a:lnTo>
                    <a:lnTo>
                      <a:pt x="21" y="161"/>
                    </a:lnTo>
                    <a:lnTo>
                      <a:pt x="33" y="138"/>
                    </a:lnTo>
                    <a:lnTo>
                      <a:pt x="46" y="115"/>
                    </a:lnTo>
                    <a:lnTo>
                      <a:pt x="62" y="95"/>
                    </a:lnTo>
                    <a:lnTo>
                      <a:pt x="79" y="76"/>
                    </a:lnTo>
                    <a:lnTo>
                      <a:pt x="98" y="59"/>
                    </a:lnTo>
                    <a:lnTo>
                      <a:pt x="119" y="45"/>
                    </a:lnTo>
                    <a:lnTo>
                      <a:pt x="142" y="31"/>
                    </a:lnTo>
                    <a:lnTo>
                      <a:pt x="165" y="20"/>
                    </a:lnTo>
                    <a:lnTo>
                      <a:pt x="190" y="12"/>
                    </a:lnTo>
                    <a:lnTo>
                      <a:pt x="216" y="5"/>
                    </a:lnTo>
                    <a:lnTo>
                      <a:pt x="244" y="2"/>
                    </a:lnTo>
                    <a:lnTo>
                      <a:pt x="272" y="0"/>
                    </a:lnTo>
                    <a:lnTo>
                      <a:pt x="306" y="2"/>
                    </a:lnTo>
                    <a:lnTo>
                      <a:pt x="340" y="8"/>
                    </a:lnTo>
                    <a:lnTo>
                      <a:pt x="373" y="18"/>
                    </a:lnTo>
                    <a:lnTo>
                      <a:pt x="404" y="32"/>
                    </a:lnTo>
                    <a:lnTo>
                      <a:pt x="404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3440" y="882720"/>
                <a:ext cx="111600" cy="101520"/>
              </a:xfrm>
              <a:custGeom>
                <a:avLst/>
                <a:gdLst/>
                <a:ahLst/>
                <a:rect l="l" t="t" r="r" b="b"/>
                <a:pathLst>
                  <a:path w="532" h="530">
                    <a:moveTo>
                      <a:pt x="532" y="264"/>
                    </a:moveTo>
                    <a:lnTo>
                      <a:pt x="530" y="293"/>
                    </a:lnTo>
                    <a:lnTo>
                      <a:pt x="527" y="319"/>
                    </a:lnTo>
                    <a:lnTo>
                      <a:pt x="520" y="344"/>
                    </a:lnTo>
                    <a:lnTo>
                      <a:pt x="511" y="370"/>
                    </a:lnTo>
                    <a:lnTo>
                      <a:pt x="501" y="393"/>
                    </a:lnTo>
                    <a:lnTo>
                      <a:pt x="487" y="415"/>
                    </a:lnTo>
                    <a:lnTo>
                      <a:pt x="472" y="434"/>
                    </a:lnTo>
                    <a:lnTo>
                      <a:pt x="454" y="453"/>
                    </a:lnTo>
                    <a:lnTo>
                      <a:pt x="436" y="471"/>
                    </a:lnTo>
                    <a:lnTo>
                      <a:pt x="416" y="485"/>
                    </a:lnTo>
                    <a:lnTo>
                      <a:pt x="394" y="498"/>
                    </a:lnTo>
                    <a:lnTo>
                      <a:pt x="370" y="509"/>
                    </a:lnTo>
                    <a:lnTo>
                      <a:pt x="346" y="518"/>
                    </a:lnTo>
                    <a:lnTo>
                      <a:pt x="321" y="524"/>
                    </a:lnTo>
                    <a:lnTo>
                      <a:pt x="293" y="528"/>
                    </a:lnTo>
                    <a:lnTo>
                      <a:pt x="266" y="530"/>
                    </a:lnTo>
                    <a:lnTo>
                      <a:pt x="238" y="528"/>
                    </a:lnTo>
                    <a:lnTo>
                      <a:pt x="212" y="524"/>
                    </a:lnTo>
                    <a:lnTo>
                      <a:pt x="187" y="518"/>
                    </a:lnTo>
                    <a:lnTo>
                      <a:pt x="162" y="509"/>
                    </a:lnTo>
                    <a:lnTo>
                      <a:pt x="139" y="498"/>
                    </a:lnTo>
                    <a:lnTo>
                      <a:pt x="117" y="485"/>
                    </a:lnTo>
                    <a:lnTo>
                      <a:pt x="97" y="471"/>
                    </a:lnTo>
                    <a:lnTo>
                      <a:pt x="78" y="453"/>
                    </a:lnTo>
                    <a:lnTo>
                      <a:pt x="61" y="434"/>
                    </a:lnTo>
                    <a:lnTo>
                      <a:pt x="45" y="415"/>
                    </a:lnTo>
                    <a:lnTo>
                      <a:pt x="32" y="393"/>
                    </a:lnTo>
                    <a:lnTo>
                      <a:pt x="21" y="370"/>
                    </a:lnTo>
                    <a:lnTo>
                      <a:pt x="12" y="344"/>
                    </a:lnTo>
                    <a:lnTo>
                      <a:pt x="6" y="319"/>
                    </a:lnTo>
                    <a:lnTo>
                      <a:pt x="3" y="293"/>
                    </a:lnTo>
                    <a:lnTo>
                      <a:pt x="0" y="264"/>
                    </a:lnTo>
                    <a:lnTo>
                      <a:pt x="3" y="237"/>
                    </a:lnTo>
                    <a:lnTo>
                      <a:pt x="6" y="210"/>
                    </a:lnTo>
                    <a:lnTo>
                      <a:pt x="12" y="185"/>
                    </a:lnTo>
                    <a:lnTo>
                      <a:pt x="21" y="160"/>
                    </a:lnTo>
                    <a:lnTo>
                      <a:pt x="32" y="137"/>
                    </a:lnTo>
                    <a:lnTo>
                      <a:pt x="45" y="115"/>
                    </a:lnTo>
                    <a:lnTo>
                      <a:pt x="61" y="95"/>
                    </a:lnTo>
                    <a:lnTo>
                      <a:pt x="78" y="76"/>
                    </a:lnTo>
                    <a:lnTo>
                      <a:pt x="97" y="59"/>
                    </a:lnTo>
                    <a:lnTo>
                      <a:pt x="117" y="45"/>
                    </a:lnTo>
                    <a:lnTo>
                      <a:pt x="139" y="31"/>
                    </a:lnTo>
                    <a:lnTo>
                      <a:pt x="162" y="20"/>
                    </a:lnTo>
                    <a:lnTo>
                      <a:pt x="187" y="12"/>
                    </a:lnTo>
                    <a:lnTo>
                      <a:pt x="212" y="5"/>
                    </a:lnTo>
                    <a:lnTo>
                      <a:pt x="238" y="2"/>
                    </a:lnTo>
                    <a:lnTo>
                      <a:pt x="266" y="0"/>
                    </a:lnTo>
                    <a:lnTo>
                      <a:pt x="293" y="2"/>
                    </a:lnTo>
                    <a:lnTo>
                      <a:pt x="321" y="5"/>
                    </a:lnTo>
                    <a:lnTo>
                      <a:pt x="346" y="12"/>
                    </a:lnTo>
                    <a:lnTo>
                      <a:pt x="370" y="20"/>
                    </a:lnTo>
                    <a:lnTo>
                      <a:pt x="394" y="31"/>
                    </a:lnTo>
                    <a:lnTo>
                      <a:pt x="416" y="45"/>
                    </a:lnTo>
                    <a:lnTo>
                      <a:pt x="436" y="59"/>
                    </a:lnTo>
                    <a:lnTo>
                      <a:pt x="454" y="76"/>
                    </a:lnTo>
                    <a:lnTo>
                      <a:pt x="472" y="95"/>
                    </a:lnTo>
                    <a:lnTo>
                      <a:pt x="487" y="115"/>
                    </a:lnTo>
                    <a:lnTo>
                      <a:pt x="501" y="137"/>
                    </a:lnTo>
                    <a:lnTo>
                      <a:pt x="511" y="160"/>
                    </a:lnTo>
                    <a:lnTo>
                      <a:pt x="520" y="185"/>
                    </a:lnTo>
                    <a:lnTo>
                      <a:pt x="527" y="210"/>
                    </a:lnTo>
                    <a:lnTo>
                      <a:pt x="530" y="237"/>
                    </a:lnTo>
                    <a:lnTo>
                      <a:pt x="532" y="264"/>
                    </a:lnTo>
                    <a:close/>
                    <a:moveTo>
                      <a:pt x="96" y="264"/>
                    </a:moveTo>
                    <a:lnTo>
                      <a:pt x="97" y="282"/>
                    </a:lnTo>
                    <a:lnTo>
                      <a:pt x="100" y="299"/>
                    </a:lnTo>
                    <a:lnTo>
                      <a:pt x="103" y="316"/>
                    </a:lnTo>
                    <a:lnTo>
                      <a:pt x="110" y="331"/>
                    </a:lnTo>
                    <a:lnTo>
                      <a:pt x="117" y="346"/>
                    </a:lnTo>
                    <a:lnTo>
                      <a:pt x="125" y="361"/>
                    </a:lnTo>
                    <a:lnTo>
                      <a:pt x="135" y="374"/>
                    </a:lnTo>
                    <a:lnTo>
                      <a:pt x="146" y="386"/>
                    </a:lnTo>
                    <a:lnTo>
                      <a:pt x="158" y="398"/>
                    </a:lnTo>
                    <a:lnTo>
                      <a:pt x="171" y="408"/>
                    </a:lnTo>
                    <a:lnTo>
                      <a:pt x="185" y="417"/>
                    </a:lnTo>
                    <a:lnTo>
                      <a:pt x="200" y="424"/>
                    </a:lnTo>
                    <a:lnTo>
                      <a:pt x="215" y="430"/>
                    </a:lnTo>
                    <a:lnTo>
                      <a:pt x="232" y="434"/>
                    </a:lnTo>
                    <a:lnTo>
                      <a:pt x="248" y="437"/>
                    </a:lnTo>
                    <a:lnTo>
                      <a:pt x="266" y="438"/>
                    </a:lnTo>
                    <a:lnTo>
                      <a:pt x="283" y="437"/>
                    </a:lnTo>
                    <a:lnTo>
                      <a:pt x="301" y="434"/>
                    </a:lnTo>
                    <a:lnTo>
                      <a:pt x="317" y="430"/>
                    </a:lnTo>
                    <a:lnTo>
                      <a:pt x="333" y="424"/>
                    </a:lnTo>
                    <a:lnTo>
                      <a:pt x="348" y="417"/>
                    </a:lnTo>
                    <a:lnTo>
                      <a:pt x="361" y="408"/>
                    </a:lnTo>
                    <a:lnTo>
                      <a:pt x="374" y="398"/>
                    </a:lnTo>
                    <a:lnTo>
                      <a:pt x="386" y="386"/>
                    </a:lnTo>
                    <a:lnTo>
                      <a:pt x="397" y="374"/>
                    </a:lnTo>
                    <a:lnTo>
                      <a:pt x="407" y="361"/>
                    </a:lnTo>
                    <a:lnTo>
                      <a:pt x="416" y="346"/>
                    </a:lnTo>
                    <a:lnTo>
                      <a:pt x="423" y="331"/>
                    </a:lnTo>
                    <a:lnTo>
                      <a:pt x="428" y="316"/>
                    </a:lnTo>
                    <a:lnTo>
                      <a:pt x="433" y="299"/>
                    </a:lnTo>
                    <a:lnTo>
                      <a:pt x="436" y="282"/>
                    </a:lnTo>
                    <a:lnTo>
                      <a:pt x="436" y="264"/>
                    </a:lnTo>
                    <a:lnTo>
                      <a:pt x="436" y="248"/>
                    </a:lnTo>
                    <a:lnTo>
                      <a:pt x="433" y="230"/>
                    </a:lnTo>
                    <a:lnTo>
                      <a:pt x="428" y="214"/>
                    </a:lnTo>
                    <a:lnTo>
                      <a:pt x="423" y="197"/>
                    </a:lnTo>
                    <a:lnTo>
                      <a:pt x="416" y="183"/>
                    </a:lnTo>
                    <a:lnTo>
                      <a:pt x="407" y="169"/>
                    </a:lnTo>
                    <a:lnTo>
                      <a:pt x="397" y="154"/>
                    </a:lnTo>
                    <a:lnTo>
                      <a:pt x="386" y="142"/>
                    </a:lnTo>
                    <a:lnTo>
                      <a:pt x="374" y="131"/>
                    </a:lnTo>
                    <a:lnTo>
                      <a:pt x="361" y="121"/>
                    </a:lnTo>
                    <a:lnTo>
                      <a:pt x="348" y="113"/>
                    </a:lnTo>
                    <a:lnTo>
                      <a:pt x="333" y="105"/>
                    </a:lnTo>
                    <a:lnTo>
                      <a:pt x="317" y="99"/>
                    </a:lnTo>
                    <a:lnTo>
                      <a:pt x="301" y="95"/>
                    </a:lnTo>
                    <a:lnTo>
                      <a:pt x="283" y="92"/>
                    </a:lnTo>
                    <a:lnTo>
                      <a:pt x="266" y="92"/>
                    </a:lnTo>
                    <a:lnTo>
                      <a:pt x="248" y="92"/>
                    </a:lnTo>
                    <a:lnTo>
                      <a:pt x="232" y="95"/>
                    </a:lnTo>
                    <a:lnTo>
                      <a:pt x="215" y="99"/>
                    </a:lnTo>
                    <a:lnTo>
                      <a:pt x="200" y="105"/>
                    </a:lnTo>
                    <a:lnTo>
                      <a:pt x="185" y="113"/>
                    </a:lnTo>
                    <a:lnTo>
                      <a:pt x="171" y="121"/>
                    </a:lnTo>
                    <a:lnTo>
                      <a:pt x="158" y="131"/>
                    </a:lnTo>
                    <a:lnTo>
                      <a:pt x="146" y="142"/>
                    </a:lnTo>
                    <a:lnTo>
                      <a:pt x="135" y="154"/>
                    </a:lnTo>
                    <a:lnTo>
                      <a:pt x="125" y="169"/>
                    </a:lnTo>
                    <a:lnTo>
                      <a:pt x="117" y="183"/>
                    </a:lnTo>
                    <a:lnTo>
                      <a:pt x="110" y="197"/>
                    </a:lnTo>
                    <a:lnTo>
                      <a:pt x="103" y="214"/>
                    </a:lnTo>
                    <a:lnTo>
                      <a:pt x="100" y="230"/>
                    </a:lnTo>
                    <a:lnTo>
                      <a:pt x="97" y="248"/>
                    </a:lnTo>
                    <a:lnTo>
                      <a:pt x="96" y="2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549440" y="882720"/>
                <a:ext cx="144360" cy="98280"/>
              </a:xfrm>
              <a:custGeom>
                <a:avLst/>
                <a:gdLst/>
                <a:ahLst/>
                <a:rect l="l" t="t" r="r" b="b"/>
                <a:pathLst>
                  <a:path w="690" h="512">
                    <a:moveTo>
                      <a:pt x="96" y="77"/>
                    </a:moveTo>
                    <a:lnTo>
                      <a:pt x="98" y="77"/>
                    </a:lnTo>
                    <a:lnTo>
                      <a:pt x="109" y="62"/>
                    </a:lnTo>
                    <a:lnTo>
                      <a:pt x="122" y="47"/>
                    </a:lnTo>
                    <a:lnTo>
                      <a:pt x="137" y="34"/>
                    </a:lnTo>
                    <a:lnTo>
                      <a:pt x="154" y="23"/>
                    </a:lnTo>
                    <a:lnTo>
                      <a:pt x="171" y="13"/>
                    </a:lnTo>
                    <a:lnTo>
                      <a:pt x="190" y="6"/>
                    </a:lnTo>
                    <a:lnTo>
                      <a:pt x="210" y="2"/>
                    </a:lnTo>
                    <a:lnTo>
                      <a:pt x="229" y="0"/>
                    </a:lnTo>
                    <a:lnTo>
                      <a:pt x="253" y="2"/>
                    </a:lnTo>
                    <a:lnTo>
                      <a:pt x="274" y="6"/>
                    </a:lnTo>
                    <a:lnTo>
                      <a:pt x="295" y="13"/>
                    </a:lnTo>
                    <a:lnTo>
                      <a:pt x="314" y="24"/>
                    </a:lnTo>
                    <a:lnTo>
                      <a:pt x="330" y="36"/>
                    </a:lnTo>
                    <a:lnTo>
                      <a:pt x="346" y="51"/>
                    </a:lnTo>
                    <a:lnTo>
                      <a:pt x="360" y="69"/>
                    </a:lnTo>
                    <a:lnTo>
                      <a:pt x="373" y="88"/>
                    </a:lnTo>
                    <a:lnTo>
                      <a:pt x="385" y="69"/>
                    </a:lnTo>
                    <a:lnTo>
                      <a:pt x="401" y="52"/>
                    </a:lnTo>
                    <a:lnTo>
                      <a:pt x="418" y="37"/>
                    </a:lnTo>
                    <a:lnTo>
                      <a:pt x="438" y="24"/>
                    </a:lnTo>
                    <a:lnTo>
                      <a:pt x="458" y="14"/>
                    </a:lnTo>
                    <a:lnTo>
                      <a:pt x="480" y="6"/>
                    </a:lnTo>
                    <a:lnTo>
                      <a:pt x="503" y="2"/>
                    </a:lnTo>
                    <a:lnTo>
                      <a:pt x="526" y="0"/>
                    </a:lnTo>
                    <a:lnTo>
                      <a:pt x="550" y="1"/>
                    </a:lnTo>
                    <a:lnTo>
                      <a:pt x="571" y="5"/>
                    </a:lnTo>
                    <a:lnTo>
                      <a:pt x="589" y="11"/>
                    </a:lnTo>
                    <a:lnTo>
                      <a:pt x="607" y="17"/>
                    </a:lnTo>
                    <a:lnTo>
                      <a:pt x="622" y="27"/>
                    </a:lnTo>
                    <a:lnTo>
                      <a:pt x="635" y="38"/>
                    </a:lnTo>
                    <a:lnTo>
                      <a:pt x="647" y="51"/>
                    </a:lnTo>
                    <a:lnTo>
                      <a:pt x="657" y="65"/>
                    </a:lnTo>
                    <a:lnTo>
                      <a:pt x="666" y="81"/>
                    </a:lnTo>
                    <a:lnTo>
                      <a:pt x="673" y="97"/>
                    </a:lnTo>
                    <a:lnTo>
                      <a:pt x="678" y="115"/>
                    </a:lnTo>
                    <a:lnTo>
                      <a:pt x="684" y="133"/>
                    </a:lnTo>
                    <a:lnTo>
                      <a:pt x="689" y="173"/>
                    </a:lnTo>
                    <a:lnTo>
                      <a:pt x="690" y="215"/>
                    </a:lnTo>
                    <a:lnTo>
                      <a:pt x="690" y="512"/>
                    </a:lnTo>
                    <a:lnTo>
                      <a:pt x="595" y="512"/>
                    </a:lnTo>
                    <a:lnTo>
                      <a:pt x="595" y="230"/>
                    </a:lnTo>
                    <a:lnTo>
                      <a:pt x="595" y="206"/>
                    </a:lnTo>
                    <a:lnTo>
                      <a:pt x="593" y="181"/>
                    </a:lnTo>
                    <a:lnTo>
                      <a:pt x="588" y="157"/>
                    </a:lnTo>
                    <a:lnTo>
                      <a:pt x="580" y="133"/>
                    </a:lnTo>
                    <a:lnTo>
                      <a:pt x="568" y="114"/>
                    </a:lnTo>
                    <a:lnTo>
                      <a:pt x="561" y="106"/>
                    </a:lnTo>
                    <a:lnTo>
                      <a:pt x="552" y="98"/>
                    </a:lnTo>
                    <a:lnTo>
                      <a:pt x="542" y="93"/>
                    </a:lnTo>
                    <a:lnTo>
                      <a:pt x="531" y="88"/>
                    </a:lnTo>
                    <a:lnTo>
                      <a:pt x="517" y="86"/>
                    </a:lnTo>
                    <a:lnTo>
                      <a:pt x="503" y="85"/>
                    </a:lnTo>
                    <a:lnTo>
                      <a:pt x="484" y="86"/>
                    </a:lnTo>
                    <a:lnTo>
                      <a:pt x="469" y="90"/>
                    </a:lnTo>
                    <a:lnTo>
                      <a:pt x="454" y="95"/>
                    </a:lnTo>
                    <a:lnTo>
                      <a:pt x="442" y="103"/>
                    </a:lnTo>
                    <a:lnTo>
                      <a:pt x="432" y="112"/>
                    </a:lnTo>
                    <a:lnTo>
                      <a:pt x="423" y="123"/>
                    </a:lnTo>
                    <a:lnTo>
                      <a:pt x="416" y="135"/>
                    </a:lnTo>
                    <a:lnTo>
                      <a:pt x="409" y="148"/>
                    </a:lnTo>
                    <a:lnTo>
                      <a:pt x="401" y="176"/>
                    </a:lnTo>
                    <a:lnTo>
                      <a:pt x="396" y="207"/>
                    </a:lnTo>
                    <a:lnTo>
                      <a:pt x="394" y="238"/>
                    </a:lnTo>
                    <a:lnTo>
                      <a:pt x="393" y="267"/>
                    </a:lnTo>
                    <a:lnTo>
                      <a:pt x="393" y="512"/>
                    </a:lnTo>
                    <a:lnTo>
                      <a:pt x="297" y="512"/>
                    </a:lnTo>
                    <a:lnTo>
                      <a:pt x="297" y="249"/>
                    </a:lnTo>
                    <a:lnTo>
                      <a:pt x="297" y="224"/>
                    </a:lnTo>
                    <a:lnTo>
                      <a:pt x="295" y="196"/>
                    </a:lnTo>
                    <a:lnTo>
                      <a:pt x="292" y="169"/>
                    </a:lnTo>
                    <a:lnTo>
                      <a:pt x="285" y="142"/>
                    </a:lnTo>
                    <a:lnTo>
                      <a:pt x="280" y="130"/>
                    </a:lnTo>
                    <a:lnTo>
                      <a:pt x="273" y="119"/>
                    </a:lnTo>
                    <a:lnTo>
                      <a:pt x="267" y="110"/>
                    </a:lnTo>
                    <a:lnTo>
                      <a:pt x="258" y="102"/>
                    </a:lnTo>
                    <a:lnTo>
                      <a:pt x="247" y="95"/>
                    </a:lnTo>
                    <a:lnTo>
                      <a:pt x="235" y="90"/>
                    </a:lnTo>
                    <a:lnTo>
                      <a:pt x="222" y="86"/>
                    </a:lnTo>
                    <a:lnTo>
                      <a:pt x="206" y="85"/>
                    </a:lnTo>
                    <a:lnTo>
                      <a:pt x="188" y="86"/>
                    </a:lnTo>
                    <a:lnTo>
                      <a:pt x="172" y="90"/>
                    </a:lnTo>
                    <a:lnTo>
                      <a:pt x="158" y="95"/>
                    </a:lnTo>
                    <a:lnTo>
                      <a:pt x="146" y="103"/>
                    </a:lnTo>
                    <a:lnTo>
                      <a:pt x="135" y="112"/>
                    </a:lnTo>
                    <a:lnTo>
                      <a:pt x="126" y="123"/>
                    </a:lnTo>
                    <a:lnTo>
                      <a:pt x="119" y="135"/>
                    </a:lnTo>
                    <a:lnTo>
                      <a:pt x="113" y="148"/>
                    </a:lnTo>
                    <a:lnTo>
                      <a:pt x="103" y="176"/>
                    </a:lnTo>
                    <a:lnTo>
                      <a:pt x="99" y="207"/>
                    </a:lnTo>
                    <a:lnTo>
                      <a:pt x="97" y="238"/>
                    </a:lnTo>
                    <a:lnTo>
                      <a:pt x="96" y="267"/>
                    </a:lnTo>
                    <a:lnTo>
                      <a:pt x="96" y="512"/>
                    </a:lnTo>
                    <a:lnTo>
                      <a:pt x="0" y="512"/>
                    </a:lnTo>
                    <a:lnTo>
                      <a:pt x="0" y="15"/>
                    </a:lnTo>
                    <a:lnTo>
                      <a:pt x="96" y="15"/>
                    </a:lnTo>
                    <a:lnTo>
                      <a:pt x="96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908640" y="1022400"/>
                <a:ext cx="9082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a-DK" sz="600" spc="-1" strike="noStrike">
                    <a:solidFill>
                      <a:srgbClr val="ffffff"/>
                    </a:solidFill>
                    <a:latin typeface="Futura Bk BT"/>
                  </a:rPr>
                  <a:t>www.kirktelecom.dk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17" name="" descr=""/>
          <p:cNvPicPr/>
          <p:nvPr/>
        </p:nvPicPr>
        <p:blipFill>
          <a:blip r:embed="rId2"/>
          <a:stretch/>
        </p:blipFill>
        <p:spPr>
          <a:xfrm>
            <a:off x="3162240" y="698400"/>
            <a:ext cx="5486400" cy="39528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2228760" y="0"/>
            <a:ext cx="76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CCFP Administration Program Ver.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158280" y="4876920"/>
            <a:ext cx="53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смотр наличия в системе и верси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р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WU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D74D-FC06-4F31-B76F-10C5187B3D6B}" type="slidenum">
              <a:t>20</a:t>
            </a:fld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889360" y="457200"/>
            <a:ext cx="6521400" cy="0"/>
          </a:xfrm>
          <a:prstGeom prst="line">
            <a:avLst/>
          </a:prstGeom>
          <a:ln cap="sq"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0" y="0"/>
            <a:ext cx="6129000" cy="6858000"/>
            <a:chOff x="0" y="0"/>
            <a:chExt cx="6129000" cy="6858000"/>
          </a:xfrm>
        </p:grpSpPr>
        <p:sp>
          <p:nvSpPr>
            <p:cNvPr id="722" name=""/>
            <p:cNvSpPr/>
            <p:nvPr/>
          </p:nvSpPr>
          <p:spPr>
            <a:xfrm>
              <a:off x="0" y="0"/>
              <a:ext cx="2228760" cy="3429000"/>
            </a:xfrm>
            <a:prstGeom prst="rect">
              <a:avLst/>
            </a:prstGeom>
            <a:solidFill>
              <a:srgbClr val="000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0" y="3429000"/>
              <a:ext cx="2228760" cy="3429000"/>
            </a:xfrm>
            <a:prstGeom prst="rect">
              <a:avLst/>
            </a:pr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91836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79924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6" name="" descr=""/>
            <p:cNvPicPr/>
            <p:nvPr/>
          </p:nvPicPr>
          <p:blipFill>
            <a:blip r:embed="rId1"/>
            <a:stretch/>
          </p:blipFill>
          <p:spPr>
            <a:xfrm>
              <a:off x="201240" y="2055960"/>
              <a:ext cx="1705680" cy="271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7" name=""/>
            <p:cNvGrpSpPr/>
            <p:nvPr/>
          </p:nvGrpSpPr>
          <p:grpSpPr>
            <a:xfrm>
              <a:off x="211320" y="380880"/>
              <a:ext cx="1605600" cy="821880"/>
              <a:chOff x="211320" y="380880"/>
              <a:chExt cx="1605600" cy="821880"/>
            </a:xfrm>
          </p:grpSpPr>
          <p:sp>
            <p:nvSpPr>
              <p:cNvPr id="728" name=""/>
              <p:cNvSpPr/>
              <p:nvPr/>
            </p:nvSpPr>
            <p:spPr>
              <a:xfrm>
                <a:off x="403920" y="38088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7">
                    <a:moveTo>
                      <a:pt x="29" y="1655"/>
                    </a:moveTo>
                    <a:lnTo>
                      <a:pt x="79" y="1682"/>
                    </a:lnTo>
                    <a:lnTo>
                      <a:pt x="623" y="1957"/>
                    </a:lnTo>
                    <a:lnTo>
                      <a:pt x="684" y="1987"/>
                    </a:lnTo>
                    <a:lnTo>
                      <a:pt x="687" y="1916"/>
                    </a:lnTo>
                    <a:lnTo>
                      <a:pt x="691" y="1864"/>
                    </a:lnTo>
                    <a:lnTo>
                      <a:pt x="697" y="1814"/>
                    </a:lnTo>
                    <a:lnTo>
                      <a:pt x="704" y="1763"/>
                    </a:lnTo>
                    <a:lnTo>
                      <a:pt x="713" y="1714"/>
                    </a:lnTo>
                    <a:lnTo>
                      <a:pt x="724" y="1665"/>
                    </a:lnTo>
                    <a:lnTo>
                      <a:pt x="737" y="1616"/>
                    </a:lnTo>
                    <a:lnTo>
                      <a:pt x="751" y="1569"/>
                    </a:lnTo>
                    <a:lnTo>
                      <a:pt x="767" y="1522"/>
                    </a:lnTo>
                    <a:lnTo>
                      <a:pt x="784" y="1476"/>
                    </a:lnTo>
                    <a:lnTo>
                      <a:pt x="803" y="1431"/>
                    </a:lnTo>
                    <a:lnTo>
                      <a:pt x="824" y="1386"/>
                    </a:lnTo>
                    <a:lnTo>
                      <a:pt x="846" y="1343"/>
                    </a:lnTo>
                    <a:lnTo>
                      <a:pt x="869" y="1300"/>
                    </a:lnTo>
                    <a:lnTo>
                      <a:pt x="894" y="1257"/>
                    </a:lnTo>
                    <a:lnTo>
                      <a:pt x="920" y="1217"/>
                    </a:lnTo>
                    <a:lnTo>
                      <a:pt x="948" y="1177"/>
                    </a:lnTo>
                    <a:lnTo>
                      <a:pt x="976" y="1137"/>
                    </a:lnTo>
                    <a:lnTo>
                      <a:pt x="1007" y="1100"/>
                    </a:lnTo>
                    <a:lnTo>
                      <a:pt x="1038" y="1063"/>
                    </a:lnTo>
                    <a:lnTo>
                      <a:pt x="1071" y="1027"/>
                    </a:lnTo>
                    <a:lnTo>
                      <a:pt x="1105" y="993"/>
                    </a:lnTo>
                    <a:lnTo>
                      <a:pt x="1140" y="959"/>
                    </a:lnTo>
                    <a:lnTo>
                      <a:pt x="1176" y="927"/>
                    </a:lnTo>
                    <a:lnTo>
                      <a:pt x="1213" y="896"/>
                    </a:lnTo>
                    <a:lnTo>
                      <a:pt x="1250" y="866"/>
                    </a:lnTo>
                    <a:lnTo>
                      <a:pt x="1290" y="838"/>
                    </a:lnTo>
                    <a:lnTo>
                      <a:pt x="1331" y="810"/>
                    </a:lnTo>
                    <a:lnTo>
                      <a:pt x="1372" y="785"/>
                    </a:lnTo>
                    <a:lnTo>
                      <a:pt x="1414" y="760"/>
                    </a:lnTo>
                    <a:lnTo>
                      <a:pt x="1457" y="737"/>
                    </a:lnTo>
                    <a:lnTo>
                      <a:pt x="1501" y="716"/>
                    </a:lnTo>
                    <a:lnTo>
                      <a:pt x="1546" y="696"/>
                    </a:lnTo>
                    <a:lnTo>
                      <a:pt x="1584" y="680"/>
                    </a:lnTo>
                    <a:lnTo>
                      <a:pt x="1594" y="673"/>
                    </a:lnTo>
                    <a:lnTo>
                      <a:pt x="1600" y="665"/>
                    </a:lnTo>
                    <a:lnTo>
                      <a:pt x="1604" y="658"/>
                    </a:lnTo>
                    <a:lnTo>
                      <a:pt x="1606" y="650"/>
                    </a:lnTo>
                    <a:lnTo>
                      <a:pt x="1605" y="638"/>
                    </a:lnTo>
                    <a:lnTo>
                      <a:pt x="1603" y="632"/>
                    </a:lnTo>
                    <a:lnTo>
                      <a:pt x="1586" y="586"/>
                    </a:lnTo>
                    <a:lnTo>
                      <a:pt x="1385" y="31"/>
                    </a:lnTo>
                    <a:lnTo>
                      <a:pt x="1381" y="18"/>
                    </a:lnTo>
                    <a:lnTo>
                      <a:pt x="1380" y="13"/>
                    </a:lnTo>
                    <a:lnTo>
                      <a:pt x="1372" y="5"/>
                    </a:lnTo>
                    <a:lnTo>
                      <a:pt x="1367" y="2"/>
                    </a:lnTo>
                    <a:lnTo>
                      <a:pt x="1359" y="0"/>
                    </a:lnTo>
                    <a:lnTo>
                      <a:pt x="1349" y="0"/>
                    </a:lnTo>
                    <a:lnTo>
                      <a:pt x="1337" y="3"/>
                    </a:lnTo>
                    <a:lnTo>
                      <a:pt x="1307" y="14"/>
                    </a:lnTo>
                    <a:lnTo>
                      <a:pt x="1248" y="37"/>
                    </a:lnTo>
                    <a:lnTo>
                      <a:pt x="1190" y="63"/>
                    </a:lnTo>
                    <a:lnTo>
                      <a:pt x="1133" y="89"/>
                    </a:lnTo>
                    <a:lnTo>
                      <a:pt x="1076" y="119"/>
                    </a:lnTo>
                    <a:lnTo>
                      <a:pt x="1021" y="149"/>
                    </a:lnTo>
                    <a:lnTo>
                      <a:pt x="966" y="181"/>
                    </a:lnTo>
                    <a:lnTo>
                      <a:pt x="913" y="215"/>
                    </a:lnTo>
                    <a:lnTo>
                      <a:pt x="861" y="251"/>
                    </a:lnTo>
                    <a:lnTo>
                      <a:pt x="810" y="289"/>
                    </a:lnTo>
                    <a:lnTo>
                      <a:pt x="759" y="328"/>
                    </a:lnTo>
                    <a:lnTo>
                      <a:pt x="711" y="369"/>
                    </a:lnTo>
                    <a:lnTo>
                      <a:pt x="663" y="411"/>
                    </a:lnTo>
                    <a:lnTo>
                      <a:pt x="616" y="455"/>
                    </a:lnTo>
                    <a:lnTo>
                      <a:pt x="572" y="501"/>
                    </a:lnTo>
                    <a:lnTo>
                      <a:pt x="528" y="547"/>
                    </a:lnTo>
                    <a:lnTo>
                      <a:pt x="485" y="595"/>
                    </a:lnTo>
                    <a:lnTo>
                      <a:pt x="443" y="645"/>
                    </a:lnTo>
                    <a:lnTo>
                      <a:pt x="404" y="695"/>
                    </a:lnTo>
                    <a:lnTo>
                      <a:pt x="365" y="747"/>
                    </a:lnTo>
                    <a:lnTo>
                      <a:pt x="329" y="800"/>
                    </a:lnTo>
                    <a:lnTo>
                      <a:pt x="294" y="854"/>
                    </a:lnTo>
                    <a:lnTo>
                      <a:pt x="260" y="910"/>
                    </a:lnTo>
                    <a:lnTo>
                      <a:pt x="228" y="967"/>
                    </a:lnTo>
                    <a:lnTo>
                      <a:pt x="197" y="1024"/>
                    </a:lnTo>
                    <a:lnTo>
                      <a:pt x="169" y="1084"/>
                    </a:lnTo>
                    <a:lnTo>
                      <a:pt x="142" y="1144"/>
                    </a:lnTo>
                    <a:lnTo>
                      <a:pt x="116" y="1204"/>
                    </a:lnTo>
                    <a:lnTo>
                      <a:pt x="93" y="1266"/>
                    </a:lnTo>
                    <a:lnTo>
                      <a:pt x="71" y="1329"/>
                    </a:lnTo>
                    <a:lnTo>
                      <a:pt x="52" y="1392"/>
                    </a:lnTo>
                    <a:lnTo>
                      <a:pt x="34" y="1457"/>
                    </a:lnTo>
                    <a:lnTo>
                      <a:pt x="18" y="1522"/>
                    </a:lnTo>
                    <a:lnTo>
                      <a:pt x="2" y="1593"/>
                    </a:lnTo>
                    <a:lnTo>
                      <a:pt x="0" y="1610"/>
                    </a:lnTo>
                    <a:lnTo>
                      <a:pt x="1" y="1623"/>
                    </a:lnTo>
                    <a:lnTo>
                      <a:pt x="6" y="1634"/>
                    </a:lnTo>
                    <a:lnTo>
                      <a:pt x="11" y="1643"/>
                    </a:lnTo>
                    <a:lnTo>
                      <a:pt x="17" y="1648"/>
                    </a:lnTo>
                    <a:lnTo>
                      <a:pt x="23" y="1652"/>
                    </a:lnTo>
                    <a:lnTo>
                      <a:pt x="29" y="1655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03920" y="77004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5">
                    <a:moveTo>
                      <a:pt x="29" y="333"/>
                    </a:moveTo>
                    <a:lnTo>
                      <a:pt x="79" y="306"/>
                    </a:lnTo>
                    <a:lnTo>
                      <a:pt x="623" y="31"/>
                    </a:lnTo>
                    <a:lnTo>
                      <a:pt x="684" y="0"/>
                    </a:lnTo>
                    <a:lnTo>
                      <a:pt x="687" y="72"/>
                    </a:lnTo>
                    <a:lnTo>
                      <a:pt x="691" y="123"/>
                    </a:lnTo>
                    <a:lnTo>
                      <a:pt x="697" y="174"/>
                    </a:lnTo>
                    <a:lnTo>
                      <a:pt x="704" y="224"/>
                    </a:lnTo>
                    <a:lnTo>
                      <a:pt x="713" y="273"/>
                    </a:lnTo>
                    <a:lnTo>
                      <a:pt x="724" y="323"/>
                    </a:lnTo>
                    <a:lnTo>
                      <a:pt x="737" y="371"/>
                    </a:lnTo>
                    <a:lnTo>
                      <a:pt x="751" y="418"/>
                    </a:lnTo>
                    <a:lnTo>
                      <a:pt x="767" y="465"/>
                    </a:lnTo>
                    <a:lnTo>
                      <a:pt x="784" y="512"/>
                    </a:lnTo>
                    <a:lnTo>
                      <a:pt x="803" y="557"/>
                    </a:lnTo>
                    <a:lnTo>
                      <a:pt x="824" y="602"/>
                    </a:lnTo>
                    <a:lnTo>
                      <a:pt x="846" y="645"/>
                    </a:lnTo>
                    <a:lnTo>
                      <a:pt x="869" y="688"/>
                    </a:lnTo>
                    <a:lnTo>
                      <a:pt x="894" y="730"/>
                    </a:lnTo>
                    <a:lnTo>
                      <a:pt x="920" y="771"/>
                    </a:lnTo>
                    <a:lnTo>
                      <a:pt x="948" y="811"/>
                    </a:lnTo>
                    <a:lnTo>
                      <a:pt x="976" y="850"/>
                    </a:lnTo>
                    <a:lnTo>
                      <a:pt x="1007" y="888"/>
                    </a:lnTo>
                    <a:lnTo>
                      <a:pt x="1038" y="924"/>
                    </a:lnTo>
                    <a:lnTo>
                      <a:pt x="1071" y="961"/>
                    </a:lnTo>
                    <a:lnTo>
                      <a:pt x="1105" y="995"/>
                    </a:lnTo>
                    <a:lnTo>
                      <a:pt x="1140" y="1029"/>
                    </a:lnTo>
                    <a:lnTo>
                      <a:pt x="1176" y="1061"/>
                    </a:lnTo>
                    <a:lnTo>
                      <a:pt x="1213" y="1092"/>
                    </a:lnTo>
                    <a:lnTo>
                      <a:pt x="1252" y="1122"/>
                    </a:lnTo>
                    <a:lnTo>
                      <a:pt x="1290" y="1151"/>
                    </a:lnTo>
                    <a:lnTo>
                      <a:pt x="1331" y="1177"/>
                    </a:lnTo>
                    <a:lnTo>
                      <a:pt x="1372" y="1203"/>
                    </a:lnTo>
                    <a:lnTo>
                      <a:pt x="1414" y="1227"/>
                    </a:lnTo>
                    <a:lnTo>
                      <a:pt x="1457" y="1250"/>
                    </a:lnTo>
                    <a:lnTo>
                      <a:pt x="1501" y="1271"/>
                    </a:lnTo>
                    <a:lnTo>
                      <a:pt x="1546" y="1292"/>
                    </a:lnTo>
                    <a:lnTo>
                      <a:pt x="1584" y="1308"/>
                    </a:lnTo>
                    <a:lnTo>
                      <a:pt x="1594" y="1315"/>
                    </a:lnTo>
                    <a:lnTo>
                      <a:pt x="1600" y="1323"/>
                    </a:lnTo>
                    <a:lnTo>
                      <a:pt x="1605" y="1331"/>
                    </a:lnTo>
                    <a:lnTo>
                      <a:pt x="1606" y="1337"/>
                    </a:lnTo>
                    <a:lnTo>
                      <a:pt x="1605" y="1349"/>
                    </a:lnTo>
                    <a:lnTo>
                      <a:pt x="1603" y="1355"/>
                    </a:lnTo>
                    <a:lnTo>
                      <a:pt x="1586" y="1401"/>
                    </a:lnTo>
                    <a:lnTo>
                      <a:pt x="1388" y="1950"/>
                    </a:lnTo>
                    <a:lnTo>
                      <a:pt x="1381" y="1965"/>
                    </a:lnTo>
                    <a:lnTo>
                      <a:pt x="1379" y="1970"/>
                    </a:lnTo>
                    <a:lnTo>
                      <a:pt x="1371" y="1978"/>
                    </a:lnTo>
                    <a:lnTo>
                      <a:pt x="1366" y="1983"/>
                    </a:lnTo>
                    <a:lnTo>
                      <a:pt x="1358" y="1985"/>
                    </a:lnTo>
                    <a:lnTo>
                      <a:pt x="1348" y="1985"/>
                    </a:lnTo>
                    <a:lnTo>
                      <a:pt x="1338" y="1983"/>
                    </a:lnTo>
                    <a:lnTo>
                      <a:pt x="1302" y="1969"/>
                    </a:lnTo>
                    <a:lnTo>
                      <a:pt x="1242" y="1942"/>
                    </a:lnTo>
                    <a:lnTo>
                      <a:pt x="1181" y="1915"/>
                    </a:lnTo>
                    <a:lnTo>
                      <a:pt x="1123" y="1886"/>
                    </a:lnTo>
                    <a:lnTo>
                      <a:pt x="1066" y="1857"/>
                    </a:lnTo>
                    <a:lnTo>
                      <a:pt x="1009" y="1824"/>
                    </a:lnTo>
                    <a:lnTo>
                      <a:pt x="954" y="1791"/>
                    </a:lnTo>
                    <a:lnTo>
                      <a:pt x="901" y="1756"/>
                    </a:lnTo>
                    <a:lnTo>
                      <a:pt x="848" y="1719"/>
                    </a:lnTo>
                    <a:lnTo>
                      <a:pt x="796" y="1682"/>
                    </a:lnTo>
                    <a:lnTo>
                      <a:pt x="747" y="1642"/>
                    </a:lnTo>
                    <a:lnTo>
                      <a:pt x="698" y="1602"/>
                    </a:lnTo>
                    <a:lnTo>
                      <a:pt x="650" y="1560"/>
                    </a:lnTo>
                    <a:lnTo>
                      <a:pt x="604" y="1517"/>
                    </a:lnTo>
                    <a:lnTo>
                      <a:pt x="559" y="1472"/>
                    </a:lnTo>
                    <a:lnTo>
                      <a:pt x="517" y="1426"/>
                    </a:lnTo>
                    <a:lnTo>
                      <a:pt x="475" y="1379"/>
                    </a:lnTo>
                    <a:lnTo>
                      <a:pt x="434" y="1331"/>
                    </a:lnTo>
                    <a:lnTo>
                      <a:pt x="395" y="1281"/>
                    </a:lnTo>
                    <a:lnTo>
                      <a:pt x="358" y="1230"/>
                    </a:lnTo>
                    <a:lnTo>
                      <a:pt x="323" y="1178"/>
                    </a:lnTo>
                    <a:lnTo>
                      <a:pt x="287" y="1124"/>
                    </a:lnTo>
                    <a:lnTo>
                      <a:pt x="255" y="1070"/>
                    </a:lnTo>
                    <a:lnTo>
                      <a:pt x="224" y="1014"/>
                    </a:lnTo>
                    <a:lnTo>
                      <a:pt x="194" y="957"/>
                    </a:lnTo>
                    <a:lnTo>
                      <a:pt x="166" y="900"/>
                    </a:lnTo>
                    <a:lnTo>
                      <a:pt x="139" y="841"/>
                    </a:lnTo>
                    <a:lnTo>
                      <a:pt x="115" y="781"/>
                    </a:lnTo>
                    <a:lnTo>
                      <a:pt x="92" y="720"/>
                    </a:lnTo>
                    <a:lnTo>
                      <a:pt x="71" y="658"/>
                    </a:lnTo>
                    <a:lnTo>
                      <a:pt x="52" y="595"/>
                    </a:lnTo>
                    <a:lnTo>
                      <a:pt x="34" y="530"/>
                    </a:lnTo>
                    <a:lnTo>
                      <a:pt x="18" y="465"/>
                    </a:lnTo>
                    <a:lnTo>
                      <a:pt x="3" y="394"/>
                    </a:lnTo>
                    <a:lnTo>
                      <a:pt x="0" y="378"/>
                    </a:lnTo>
                    <a:lnTo>
                      <a:pt x="1" y="364"/>
                    </a:lnTo>
                    <a:lnTo>
                      <a:pt x="6" y="353"/>
                    </a:lnTo>
                    <a:lnTo>
                      <a:pt x="11" y="346"/>
                    </a:lnTo>
                    <a:lnTo>
                      <a:pt x="17" y="339"/>
                    </a:lnTo>
                    <a:lnTo>
                      <a:pt x="23" y="336"/>
                    </a:lnTo>
                    <a:lnTo>
                      <a:pt x="29" y="333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67440" y="698400"/>
                <a:ext cx="149400" cy="147600"/>
              </a:xfrm>
              <a:custGeom>
                <a:avLst/>
                <a:gdLst/>
                <a:ahLst/>
                <a:rect l="l" t="t" r="r" b="b"/>
                <a:pathLst>
                  <a:path w="714" h="759">
                    <a:moveTo>
                      <a:pt x="699" y="379"/>
                    </a:moveTo>
                    <a:lnTo>
                      <a:pt x="706" y="375"/>
                    </a:lnTo>
                    <a:lnTo>
                      <a:pt x="710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09" y="351"/>
                    </a:lnTo>
                    <a:lnTo>
                      <a:pt x="705" y="346"/>
                    </a:lnTo>
                    <a:lnTo>
                      <a:pt x="699" y="342"/>
                    </a:lnTo>
                    <a:lnTo>
                      <a:pt x="35" y="4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3" y="11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735"/>
                    </a:lnTo>
                    <a:lnTo>
                      <a:pt x="1" y="743"/>
                    </a:lnTo>
                    <a:lnTo>
                      <a:pt x="3" y="748"/>
                    </a:lnTo>
                    <a:lnTo>
                      <a:pt x="5" y="753"/>
                    </a:lnTo>
                    <a:lnTo>
                      <a:pt x="10" y="757"/>
                    </a:lnTo>
                    <a:lnTo>
                      <a:pt x="15" y="759"/>
                    </a:lnTo>
                    <a:lnTo>
                      <a:pt x="21" y="759"/>
                    </a:lnTo>
                    <a:lnTo>
                      <a:pt x="27" y="758"/>
                    </a:lnTo>
                    <a:lnTo>
                      <a:pt x="34" y="755"/>
                    </a:lnTo>
                    <a:lnTo>
                      <a:pt x="699" y="379"/>
                    </a:lnTo>
                    <a:close/>
                  </a:path>
                </a:pathLst>
              </a:custGeom>
              <a:solidFill>
                <a:srgbClr val="00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11320" y="701640"/>
                <a:ext cx="149760" cy="146160"/>
              </a:xfrm>
              <a:custGeom>
                <a:avLst/>
                <a:gdLst/>
                <a:ahLst/>
                <a:rect l="l" t="t" r="r" b="b"/>
                <a:pathLst>
                  <a:path w="714" h="758">
                    <a:moveTo>
                      <a:pt x="701" y="379"/>
                    </a:moveTo>
                    <a:lnTo>
                      <a:pt x="706" y="374"/>
                    </a:lnTo>
                    <a:lnTo>
                      <a:pt x="711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11" y="350"/>
                    </a:lnTo>
                    <a:lnTo>
                      <a:pt x="706" y="346"/>
                    </a:lnTo>
                    <a:lnTo>
                      <a:pt x="700" y="342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0" y="734"/>
                    </a:lnTo>
                    <a:lnTo>
                      <a:pt x="1" y="742"/>
                    </a:lnTo>
                    <a:lnTo>
                      <a:pt x="3" y="749"/>
                    </a:lnTo>
                    <a:lnTo>
                      <a:pt x="7" y="753"/>
                    </a:lnTo>
                    <a:lnTo>
                      <a:pt x="10" y="756"/>
                    </a:lnTo>
                    <a:lnTo>
                      <a:pt x="15" y="758"/>
                    </a:lnTo>
                    <a:lnTo>
                      <a:pt x="21" y="758"/>
                    </a:lnTo>
                    <a:lnTo>
                      <a:pt x="27" y="757"/>
                    </a:lnTo>
                    <a:lnTo>
                      <a:pt x="34" y="754"/>
                    </a:lnTo>
                    <a:lnTo>
                      <a:pt x="701" y="379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011960" y="517680"/>
                <a:ext cx="195840" cy="250560"/>
              </a:xfrm>
              <a:custGeom>
                <a:avLst/>
                <a:gdLst/>
                <a:ahLst/>
                <a:rect l="l" t="t" r="r" b="b"/>
                <a:pathLst>
                  <a:path w="930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30" y="1293"/>
                    </a:lnTo>
                    <a:lnTo>
                      <a:pt x="713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230480" y="517680"/>
                <a:ext cx="34200" cy="25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316520" y="517680"/>
                <a:ext cx="168480" cy="250560"/>
              </a:xfrm>
              <a:custGeom>
                <a:avLst/>
                <a:gdLst/>
                <a:ahLst/>
                <a:rect l="l" t="t" r="r" b="b"/>
                <a:pathLst>
                  <a:path w="803" h="1293">
                    <a:moveTo>
                      <a:pt x="803" y="1293"/>
                    </a:moveTo>
                    <a:lnTo>
                      <a:pt x="607" y="1293"/>
                    </a:lnTo>
                    <a:lnTo>
                      <a:pt x="228" y="746"/>
                    </a:lnTo>
                    <a:lnTo>
                      <a:pt x="161" y="746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283" y="1"/>
                    </a:lnTo>
                    <a:lnTo>
                      <a:pt x="327" y="4"/>
                    </a:lnTo>
                    <a:lnTo>
                      <a:pt x="370" y="8"/>
                    </a:lnTo>
                    <a:lnTo>
                      <a:pt x="413" y="16"/>
                    </a:lnTo>
                    <a:lnTo>
                      <a:pt x="456" y="27"/>
                    </a:lnTo>
                    <a:lnTo>
                      <a:pt x="497" y="41"/>
                    </a:lnTo>
                    <a:lnTo>
                      <a:pt x="536" y="61"/>
                    </a:lnTo>
                    <a:lnTo>
                      <a:pt x="556" y="73"/>
                    </a:lnTo>
                    <a:lnTo>
                      <a:pt x="574" y="87"/>
                    </a:lnTo>
                    <a:lnTo>
                      <a:pt x="592" y="101"/>
                    </a:lnTo>
                    <a:lnTo>
                      <a:pt x="608" y="118"/>
                    </a:lnTo>
                    <a:lnTo>
                      <a:pt x="623" y="135"/>
                    </a:lnTo>
                    <a:lnTo>
                      <a:pt x="637" y="153"/>
                    </a:lnTo>
                    <a:lnTo>
                      <a:pt x="650" y="173"/>
                    </a:lnTo>
                    <a:lnTo>
                      <a:pt x="661" y="192"/>
                    </a:lnTo>
                    <a:lnTo>
                      <a:pt x="671" y="212"/>
                    </a:lnTo>
                    <a:lnTo>
                      <a:pt x="680" y="233"/>
                    </a:lnTo>
                    <a:lnTo>
                      <a:pt x="694" y="277"/>
                    </a:lnTo>
                    <a:lnTo>
                      <a:pt x="700" y="300"/>
                    </a:lnTo>
                    <a:lnTo>
                      <a:pt x="703" y="323"/>
                    </a:lnTo>
                    <a:lnTo>
                      <a:pt x="705" y="346"/>
                    </a:lnTo>
                    <a:lnTo>
                      <a:pt x="705" y="369"/>
                    </a:lnTo>
                    <a:lnTo>
                      <a:pt x="704" y="403"/>
                    </a:lnTo>
                    <a:lnTo>
                      <a:pt x="700" y="436"/>
                    </a:lnTo>
                    <a:lnTo>
                      <a:pt x="693" y="469"/>
                    </a:lnTo>
                    <a:lnTo>
                      <a:pt x="683" y="500"/>
                    </a:lnTo>
                    <a:lnTo>
                      <a:pt x="671" y="531"/>
                    </a:lnTo>
                    <a:lnTo>
                      <a:pt x="657" y="558"/>
                    </a:lnTo>
                    <a:lnTo>
                      <a:pt x="639" y="585"/>
                    </a:lnTo>
                    <a:lnTo>
                      <a:pt x="621" y="611"/>
                    </a:lnTo>
                    <a:lnTo>
                      <a:pt x="599" y="634"/>
                    </a:lnTo>
                    <a:lnTo>
                      <a:pt x="576" y="655"/>
                    </a:lnTo>
                    <a:lnTo>
                      <a:pt x="550" y="673"/>
                    </a:lnTo>
                    <a:lnTo>
                      <a:pt x="523" y="691"/>
                    </a:lnTo>
                    <a:lnTo>
                      <a:pt x="493" y="704"/>
                    </a:lnTo>
                    <a:lnTo>
                      <a:pt x="463" y="716"/>
                    </a:lnTo>
                    <a:lnTo>
                      <a:pt x="430" y="725"/>
                    </a:lnTo>
                    <a:lnTo>
                      <a:pt x="396" y="730"/>
                    </a:lnTo>
                    <a:lnTo>
                      <a:pt x="803" y="1293"/>
                    </a:lnTo>
                    <a:close/>
                    <a:moveTo>
                      <a:pt x="161" y="612"/>
                    </a:moveTo>
                    <a:lnTo>
                      <a:pt x="213" y="612"/>
                    </a:lnTo>
                    <a:lnTo>
                      <a:pt x="274" y="611"/>
                    </a:lnTo>
                    <a:lnTo>
                      <a:pt x="335" y="604"/>
                    </a:lnTo>
                    <a:lnTo>
                      <a:pt x="365" y="599"/>
                    </a:lnTo>
                    <a:lnTo>
                      <a:pt x="393" y="591"/>
                    </a:lnTo>
                    <a:lnTo>
                      <a:pt x="420" y="582"/>
                    </a:lnTo>
                    <a:lnTo>
                      <a:pt x="445" y="571"/>
                    </a:lnTo>
                    <a:lnTo>
                      <a:pt x="469" y="557"/>
                    </a:lnTo>
                    <a:lnTo>
                      <a:pt x="490" y="540"/>
                    </a:lnTo>
                    <a:lnTo>
                      <a:pt x="509" y="522"/>
                    </a:lnTo>
                    <a:lnTo>
                      <a:pt x="524" y="499"/>
                    </a:lnTo>
                    <a:lnTo>
                      <a:pt x="537" y="473"/>
                    </a:lnTo>
                    <a:lnTo>
                      <a:pt x="547" y="445"/>
                    </a:lnTo>
                    <a:lnTo>
                      <a:pt x="553" y="412"/>
                    </a:lnTo>
                    <a:lnTo>
                      <a:pt x="555" y="376"/>
                    </a:lnTo>
                    <a:lnTo>
                      <a:pt x="553" y="339"/>
                    </a:lnTo>
                    <a:lnTo>
                      <a:pt x="546" y="308"/>
                    </a:lnTo>
                    <a:lnTo>
                      <a:pt x="536" y="279"/>
                    </a:lnTo>
                    <a:lnTo>
                      <a:pt x="523" y="254"/>
                    </a:lnTo>
                    <a:lnTo>
                      <a:pt x="505" y="232"/>
                    </a:lnTo>
                    <a:lnTo>
                      <a:pt x="486" y="213"/>
                    </a:lnTo>
                    <a:lnTo>
                      <a:pt x="464" y="198"/>
                    </a:lnTo>
                    <a:lnTo>
                      <a:pt x="440" y="184"/>
                    </a:lnTo>
                    <a:lnTo>
                      <a:pt x="413" y="173"/>
                    </a:lnTo>
                    <a:lnTo>
                      <a:pt x="385" y="164"/>
                    </a:lnTo>
                    <a:lnTo>
                      <a:pt x="356" y="157"/>
                    </a:lnTo>
                    <a:lnTo>
                      <a:pt x="325" y="152"/>
                    </a:lnTo>
                    <a:lnTo>
                      <a:pt x="296" y="148"/>
                    </a:lnTo>
                    <a:lnTo>
                      <a:pt x="265" y="146"/>
                    </a:lnTo>
                    <a:lnTo>
                      <a:pt x="204" y="144"/>
                    </a:lnTo>
                    <a:lnTo>
                      <a:pt x="161" y="144"/>
                    </a:lnTo>
                    <a:lnTo>
                      <a:pt x="161" y="6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502280" y="517680"/>
                <a:ext cx="196200" cy="250560"/>
              </a:xfrm>
              <a:custGeom>
                <a:avLst/>
                <a:gdLst/>
                <a:ahLst/>
                <a:rect l="l" t="t" r="r" b="b"/>
                <a:pathLst>
                  <a:path w="929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29" y="1293"/>
                    </a:lnTo>
                    <a:lnTo>
                      <a:pt x="712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999720" y="847800"/>
                <a:ext cx="54720" cy="133200"/>
              </a:xfrm>
              <a:custGeom>
                <a:avLst/>
                <a:gdLst/>
                <a:ahLst/>
                <a:rect l="l" t="t" r="r" b="b"/>
                <a:pathLst>
                  <a:path w="264" h="687">
                    <a:moveTo>
                      <a:pt x="169" y="687"/>
                    </a:moveTo>
                    <a:lnTo>
                      <a:pt x="74" y="687"/>
                    </a:lnTo>
                    <a:lnTo>
                      <a:pt x="74" y="279"/>
                    </a:lnTo>
                    <a:lnTo>
                      <a:pt x="0" y="279"/>
                    </a:lnTo>
                    <a:lnTo>
                      <a:pt x="0" y="190"/>
                    </a:lnTo>
                    <a:lnTo>
                      <a:pt x="74" y="190"/>
                    </a:lnTo>
                    <a:lnTo>
                      <a:pt x="74" y="0"/>
                    </a:lnTo>
                    <a:lnTo>
                      <a:pt x="169" y="0"/>
                    </a:lnTo>
                    <a:lnTo>
                      <a:pt x="169" y="190"/>
                    </a:lnTo>
                    <a:lnTo>
                      <a:pt x="264" y="190"/>
                    </a:lnTo>
                    <a:lnTo>
                      <a:pt x="264" y="279"/>
                    </a:lnTo>
                    <a:lnTo>
                      <a:pt x="169" y="279"/>
                    </a:lnTo>
                    <a:lnTo>
                      <a:pt x="169" y="6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058400" y="882720"/>
                <a:ext cx="9936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5" y="280"/>
                    </a:moveTo>
                    <a:lnTo>
                      <a:pt x="98" y="311"/>
                    </a:lnTo>
                    <a:lnTo>
                      <a:pt x="106" y="341"/>
                    </a:lnTo>
                    <a:lnTo>
                      <a:pt x="119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8" y="415"/>
                    </a:lnTo>
                    <a:lnTo>
                      <a:pt x="170" y="423"/>
                    </a:lnTo>
                    <a:lnTo>
                      <a:pt x="184" y="431"/>
                    </a:lnTo>
                    <a:lnTo>
                      <a:pt x="197" y="437"/>
                    </a:lnTo>
                    <a:lnTo>
                      <a:pt x="213" y="441"/>
                    </a:lnTo>
                    <a:lnTo>
                      <a:pt x="229" y="443"/>
                    </a:lnTo>
                    <a:lnTo>
                      <a:pt x="245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5" y="430"/>
                    </a:lnTo>
                    <a:lnTo>
                      <a:pt x="333" y="418"/>
                    </a:lnTo>
                    <a:lnTo>
                      <a:pt x="351" y="405"/>
                    </a:lnTo>
                    <a:lnTo>
                      <a:pt x="366" y="388"/>
                    </a:lnTo>
                    <a:lnTo>
                      <a:pt x="380" y="368"/>
                    </a:lnTo>
                    <a:lnTo>
                      <a:pt x="394" y="348"/>
                    </a:lnTo>
                    <a:lnTo>
                      <a:pt x="475" y="394"/>
                    </a:lnTo>
                    <a:lnTo>
                      <a:pt x="455" y="424"/>
                    </a:lnTo>
                    <a:lnTo>
                      <a:pt x="433" y="451"/>
                    </a:lnTo>
                    <a:lnTo>
                      <a:pt x="407" y="474"/>
                    </a:lnTo>
                    <a:lnTo>
                      <a:pt x="378" y="494"/>
                    </a:lnTo>
                    <a:lnTo>
                      <a:pt x="347" y="509"/>
                    </a:lnTo>
                    <a:lnTo>
                      <a:pt x="315" y="520"/>
                    </a:lnTo>
                    <a:lnTo>
                      <a:pt x="279" y="528"/>
                    </a:lnTo>
                    <a:lnTo>
                      <a:pt x="244" y="530"/>
                    </a:lnTo>
                    <a:lnTo>
                      <a:pt x="217" y="528"/>
                    </a:lnTo>
                    <a:lnTo>
                      <a:pt x="191" y="524"/>
                    </a:lnTo>
                    <a:lnTo>
                      <a:pt x="165" y="518"/>
                    </a:lnTo>
                    <a:lnTo>
                      <a:pt x="142" y="509"/>
                    </a:lnTo>
                    <a:lnTo>
                      <a:pt x="120" y="498"/>
                    </a:lnTo>
                    <a:lnTo>
                      <a:pt x="101" y="485"/>
                    </a:lnTo>
                    <a:lnTo>
                      <a:pt x="82" y="471"/>
                    </a:lnTo>
                    <a:lnTo>
                      <a:pt x="66" y="454"/>
                    </a:lnTo>
                    <a:lnTo>
                      <a:pt x="50" y="435"/>
                    </a:lnTo>
                    <a:lnTo>
                      <a:pt x="37" y="416"/>
                    </a:lnTo>
                    <a:lnTo>
                      <a:pt x="26" y="394"/>
                    </a:lnTo>
                    <a:lnTo>
                      <a:pt x="16" y="371"/>
                    </a:lnTo>
                    <a:lnTo>
                      <a:pt x="10" y="346"/>
                    </a:lnTo>
                    <a:lnTo>
                      <a:pt x="4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4" y="213"/>
                    </a:lnTo>
                    <a:lnTo>
                      <a:pt x="9" y="186"/>
                    </a:lnTo>
                    <a:lnTo>
                      <a:pt x="15" y="161"/>
                    </a:lnTo>
                    <a:lnTo>
                      <a:pt x="24" y="138"/>
                    </a:lnTo>
                    <a:lnTo>
                      <a:pt x="34" y="116"/>
                    </a:lnTo>
                    <a:lnTo>
                      <a:pt x="47" y="95"/>
                    </a:lnTo>
                    <a:lnTo>
                      <a:pt x="61" y="76"/>
                    </a:lnTo>
                    <a:lnTo>
                      <a:pt x="77" y="60"/>
                    </a:lnTo>
                    <a:lnTo>
                      <a:pt x="95" y="45"/>
                    </a:lnTo>
                    <a:lnTo>
                      <a:pt x="115" y="31"/>
                    </a:lnTo>
                    <a:lnTo>
                      <a:pt x="137" y="20"/>
                    </a:lnTo>
                    <a:lnTo>
                      <a:pt x="160" y="12"/>
                    </a:lnTo>
                    <a:lnTo>
                      <a:pt x="185" y="5"/>
                    </a:lnTo>
                    <a:lnTo>
                      <a:pt x="213" y="2"/>
                    </a:lnTo>
                    <a:lnTo>
                      <a:pt x="242" y="0"/>
                    </a:lnTo>
                    <a:lnTo>
                      <a:pt x="271" y="2"/>
                    </a:lnTo>
                    <a:lnTo>
                      <a:pt x="297" y="5"/>
                    </a:lnTo>
                    <a:lnTo>
                      <a:pt x="322" y="12"/>
                    </a:lnTo>
                    <a:lnTo>
                      <a:pt x="345" y="20"/>
                    </a:lnTo>
                    <a:lnTo>
                      <a:pt x="366" y="31"/>
                    </a:lnTo>
                    <a:lnTo>
                      <a:pt x="385" y="45"/>
                    </a:lnTo>
                    <a:lnTo>
                      <a:pt x="402" y="60"/>
                    </a:lnTo>
                    <a:lnTo>
                      <a:pt x="418" y="76"/>
                    </a:lnTo>
                    <a:lnTo>
                      <a:pt x="431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0" y="161"/>
                    </a:lnTo>
                    <a:lnTo>
                      <a:pt x="467" y="185"/>
                    </a:lnTo>
                    <a:lnTo>
                      <a:pt x="471" y="210"/>
                    </a:lnTo>
                    <a:lnTo>
                      <a:pt x="474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5" y="280"/>
                    </a:lnTo>
                    <a:close/>
                    <a:moveTo>
                      <a:pt x="379" y="207"/>
                    </a:moveTo>
                    <a:lnTo>
                      <a:pt x="373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5" y="117"/>
                    </a:lnTo>
                    <a:lnTo>
                      <a:pt x="316" y="103"/>
                    </a:lnTo>
                    <a:lnTo>
                      <a:pt x="294" y="92"/>
                    </a:lnTo>
                    <a:lnTo>
                      <a:pt x="270" y="85"/>
                    </a:lnTo>
                    <a:lnTo>
                      <a:pt x="242" y="83"/>
                    </a:lnTo>
                    <a:lnTo>
                      <a:pt x="215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1" y="137"/>
                    </a:lnTo>
                    <a:lnTo>
                      <a:pt x="117" y="158"/>
                    </a:lnTo>
                    <a:lnTo>
                      <a:pt x="107" y="182"/>
                    </a:lnTo>
                    <a:lnTo>
                      <a:pt x="101" y="207"/>
                    </a:lnTo>
                    <a:lnTo>
                      <a:pt x="379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177200" y="846000"/>
                <a:ext cx="2052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211400" y="882720"/>
                <a:ext cx="9972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7" y="280"/>
                    </a:moveTo>
                    <a:lnTo>
                      <a:pt x="99" y="311"/>
                    </a:lnTo>
                    <a:lnTo>
                      <a:pt x="108" y="341"/>
                    </a:lnTo>
                    <a:lnTo>
                      <a:pt x="120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9" y="415"/>
                    </a:lnTo>
                    <a:lnTo>
                      <a:pt x="171" y="423"/>
                    </a:lnTo>
                    <a:lnTo>
                      <a:pt x="185" y="431"/>
                    </a:lnTo>
                    <a:lnTo>
                      <a:pt x="199" y="437"/>
                    </a:lnTo>
                    <a:lnTo>
                      <a:pt x="213" y="441"/>
                    </a:lnTo>
                    <a:lnTo>
                      <a:pt x="230" y="443"/>
                    </a:lnTo>
                    <a:lnTo>
                      <a:pt x="246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6" y="430"/>
                    </a:lnTo>
                    <a:lnTo>
                      <a:pt x="335" y="418"/>
                    </a:lnTo>
                    <a:lnTo>
                      <a:pt x="351" y="405"/>
                    </a:lnTo>
                    <a:lnTo>
                      <a:pt x="367" y="388"/>
                    </a:lnTo>
                    <a:lnTo>
                      <a:pt x="381" y="368"/>
                    </a:lnTo>
                    <a:lnTo>
                      <a:pt x="395" y="348"/>
                    </a:lnTo>
                    <a:lnTo>
                      <a:pt x="475" y="394"/>
                    </a:lnTo>
                    <a:lnTo>
                      <a:pt x="457" y="424"/>
                    </a:lnTo>
                    <a:lnTo>
                      <a:pt x="434" y="451"/>
                    </a:lnTo>
                    <a:lnTo>
                      <a:pt x="407" y="474"/>
                    </a:lnTo>
                    <a:lnTo>
                      <a:pt x="379" y="494"/>
                    </a:lnTo>
                    <a:lnTo>
                      <a:pt x="348" y="509"/>
                    </a:lnTo>
                    <a:lnTo>
                      <a:pt x="315" y="520"/>
                    </a:lnTo>
                    <a:lnTo>
                      <a:pt x="281" y="528"/>
                    </a:lnTo>
                    <a:lnTo>
                      <a:pt x="245" y="530"/>
                    </a:lnTo>
                    <a:lnTo>
                      <a:pt x="218" y="528"/>
                    </a:lnTo>
                    <a:lnTo>
                      <a:pt x="191" y="524"/>
                    </a:lnTo>
                    <a:lnTo>
                      <a:pt x="166" y="518"/>
                    </a:lnTo>
                    <a:lnTo>
                      <a:pt x="143" y="509"/>
                    </a:lnTo>
                    <a:lnTo>
                      <a:pt x="121" y="498"/>
                    </a:lnTo>
                    <a:lnTo>
                      <a:pt x="101" y="485"/>
                    </a:lnTo>
                    <a:lnTo>
                      <a:pt x="83" y="471"/>
                    </a:lnTo>
                    <a:lnTo>
                      <a:pt x="66" y="454"/>
                    </a:lnTo>
                    <a:lnTo>
                      <a:pt x="51" y="435"/>
                    </a:lnTo>
                    <a:lnTo>
                      <a:pt x="38" y="416"/>
                    </a:lnTo>
                    <a:lnTo>
                      <a:pt x="27" y="394"/>
                    </a:lnTo>
                    <a:lnTo>
                      <a:pt x="18" y="371"/>
                    </a:lnTo>
                    <a:lnTo>
                      <a:pt x="10" y="346"/>
                    </a:lnTo>
                    <a:lnTo>
                      <a:pt x="5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5" y="213"/>
                    </a:lnTo>
                    <a:lnTo>
                      <a:pt x="9" y="186"/>
                    </a:lnTo>
                    <a:lnTo>
                      <a:pt x="16" y="161"/>
                    </a:lnTo>
                    <a:lnTo>
                      <a:pt x="24" y="138"/>
                    </a:lnTo>
                    <a:lnTo>
                      <a:pt x="35" y="116"/>
                    </a:lnTo>
                    <a:lnTo>
                      <a:pt x="48" y="95"/>
                    </a:lnTo>
                    <a:lnTo>
                      <a:pt x="62" y="76"/>
                    </a:lnTo>
                    <a:lnTo>
                      <a:pt x="78" y="60"/>
                    </a:lnTo>
                    <a:lnTo>
                      <a:pt x="96" y="45"/>
                    </a:lnTo>
                    <a:lnTo>
                      <a:pt x="116" y="31"/>
                    </a:lnTo>
                    <a:lnTo>
                      <a:pt x="137" y="20"/>
                    </a:lnTo>
                    <a:lnTo>
                      <a:pt x="162" y="12"/>
                    </a:lnTo>
                    <a:lnTo>
                      <a:pt x="187" y="5"/>
                    </a:lnTo>
                    <a:lnTo>
                      <a:pt x="214" y="2"/>
                    </a:lnTo>
                    <a:lnTo>
                      <a:pt x="243" y="0"/>
                    </a:lnTo>
                    <a:lnTo>
                      <a:pt x="271" y="2"/>
                    </a:lnTo>
                    <a:lnTo>
                      <a:pt x="299" y="5"/>
                    </a:lnTo>
                    <a:lnTo>
                      <a:pt x="323" y="12"/>
                    </a:lnTo>
                    <a:lnTo>
                      <a:pt x="346" y="20"/>
                    </a:lnTo>
                    <a:lnTo>
                      <a:pt x="367" y="31"/>
                    </a:lnTo>
                    <a:lnTo>
                      <a:pt x="386" y="45"/>
                    </a:lnTo>
                    <a:lnTo>
                      <a:pt x="403" y="60"/>
                    </a:lnTo>
                    <a:lnTo>
                      <a:pt x="418" y="76"/>
                    </a:lnTo>
                    <a:lnTo>
                      <a:pt x="432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1" y="161"/>
                    </a:lnTo>
                    <a:lnTo>
                      <a:pt x="468" y="185"/>
                    </a:lnTo>
                    <a:lnTo>
                      <a:pt x="472" y="210"/>
                    </a:lnTo>
                    <a:lnTo>
                      <a:pt x="475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7" y="280"/>
                    </a:lnTo>
                    <a:close/>
                    <a:moveTo>
                      <a:pt x="380" y="207"/>
                    </a:moveTo>
                    <a:lnTo>
                      <a:pt x="374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6" y="117"/>
                    </a:lnTo>
                    <a:lnTo>
                      <a:pt x="317" y="103"/>
                    </a:lnTo>
                    <a:lnTo>
                      <a:pt x="295" y="92"/>
                    </a:lnTo>
                    <a:lnTo>
                      <a:pt x="270" y="85"/>
                    </a:lnTo>
                    <a:lnTo>
                      <a:pt x="243" y="83"/>
                    </a:lnTo>
                    <a:lnTo>
                      <a:pt x="216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2" y="137"/>
                    </a:lnTo>
                    <a:lnTo>
                      <a:pt x="119" y="158"/>
                    </a:lnTo>
                    <a:lnTo>
                      <a:pt x="108" y="182"/>
                    </a:lnTo>
                    <a:lnTo>
                      <a:pt x="101" y="207"/>
                    </a:lnTo>
                    <a:lnTo>
                      <a:pt x="380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326960" y="882720"/>
                <a:ext cx="84240" cy="101520"/>
              </a:xfrm>
              <a:custGeom>
                <a:avLst/>
                <a:gdLst/>
                <a:ahLst/>
                <a:rect l="l" t="t" r="r" b="b"/>
                <a:pathLst>
                  <a:path w="404" h="530">
                    <a:moveTo>
                      <a:pt x="404" y="157"/>
                    </a:moveTo>
                    <a:lnTo>
                      <a:pt x="389" y="141"/>
                    </a:lnTo>
                    <a:lnTo>
                      <a:pt x="373" y="127"/>
                    </a:lnTo>
                    <a:lnTo>
                      <a:pt x="358" y="116"/>
                    </a:lnTo>
                    <a:lnTo>
                      <a:pt x="340" y="106"/>
                    </a:lnTo>
                    <a:lnTo>
                      <a:pt x="321" y="99"/>
                    </a:lnTo>
                    <a:lnTo>
                      <a:pt x="303" y="94"/>
                    </a:lnTo>
                    <a:lnTo>
                      <a:pt x="283" y="91"/>
                    </a:lnTo>
                    <a:lnTo>
                      <a:pt x="261" y="90"/>
                    </a:lnTo>
                    <a:lnTo>
                      <a:pt x="245" y="91"/>
                    </a:lnTo>
                    <a:lnTo>
                      <a:pt x="227" y="93"/>
                    </a:lnTo>
                    <a:lnTo>
                      <a:pt x="212" y="97"/>
                    </a:lnTo>
                    <a:lnTo>
                      <a:pt x="196" y="104"/>
                    </a:lnTo>
                    <a:lnTo>
                      <a:pt x="182" y="112"/>
                    </a:lnTo>
                    <a:lnTo>
                      <a:pt x="168" y="120"/>
                    </a:lnTo>
                    <a:lnTo>
                      <a:pt x="156" y="130"/>
                    </a:lnTo>
                    <a:lnTo>
                      <a:pt x="144" y="142"/>
                    </a:lnTo>
                    <a:lnTo>
                      <a:pt x="133" y="154"/>
                    </a:lnTo>
                    <a:lnTo>
                      <a:pt x="124" y="169"/>
                    </a:lnTo>
                    <a:lnTo>
                      <a:pt x="115" y="183"/>
                    </a:lnTo>
                    <a:lnTo>
                      <a:pt x="109" y="198"/>
                    </a:lnTo>
                    <a:lnTo>
                      <a:pt x="103" y="214"/>
                    </a:lnTo>
                    <a:lnTo>
                      <a:pt x="99" y="230"/>
                    </a:lnTo>
                    <a:lnTo>
                      <a:pt x="97" y="247"/>
                    </a:lnTo>
                    <a:lnTo>
                      <a:pt x="96" y="264"/>
                    </a:lnTo>
                    <a:lnTo>
                      <a:pt x="97" y="283"/>
                    </a:lnTo>
                    <a:lnTo>
                      <a:pt x="99" y="300"/>
                    </a:lnTo>
                    <a:lnTo>
                      <a:pt x="103" y="318"/>
                    </a:lnTo>
                    <a:lnTo>
                      <a:pt x="109" y="334"/>
                    </a:lnTo>
                    <a:lnTo>
                      <a:pt x="115" y="350"/>
                    </a:lnTo>
                    <a:lnTo>
                      <a:pt x="124" y="364"/>
                    </a:lnTo>
                    <a:lnTo>
                      <a:pt x="133" y="378"/>
                    </a:lnTo>
                    <a:lnTo>
                      <a:pt x="144" y="390"/>
                    </a:lnTo>
                    <a:lnTo>
                      <a:pt x="156" y="401"/>
                    </a:lnTo>
                    <a:lnTo>
                      <a:pt x="169" y="411"/>
                    </a:lnTo>
                    <a:lnTo>
                      <a:pt x="183" y="420"/>
                    </a:lnTo>
                    <a:lnTo>
                      <a:pt x="199" y="427"/>
                    </a:lnTo>
                    <a:lnTo>
                      <a:pt x="215" y="432"/>
                    </a:lnTo>
                    <a:lnTo>
                      <a:pt x="232" y="437"/>
                    </a:lnTo>
                    <a:lnTo>
                      <a:pt x="249" y="439"/>
                    </a:lnTo>
                    <a:lnTo>
                      <a:pt x="268" y="440"/>
                    </a:lnTo>
                    <a:lnTo>
                      <a:pt x="289" y="439"/>
                    </a:lnTo>
                    <a:lnTo>
                      <a:pt x="307" y="435"/>
                    </a:lnTo>
                    <a:lnTo>
                      <a:pt x="326" y="430"/>
                    </a:lnTo>
                    <a:lnTo>
                      <a:pt x="343" y="422"/>
                    </a:lnTo>
                    <a:lnTo>
                      <a:pt x="360" y="412"/>
                    </a:lnTo>
                    <a:lnTo>
                      <a:pt x="375" y="401"/>
                    </a:lnTo>
                    <a:lnTo>
                      <a:pt x="389" y="388"/>
                    </a:lnTo>
                    <a:lnTo>
                      <a:pt x="404" y="374"/>
                    </a:lnTo>
                    <a:lnTo>
                      <a:pt x="404" y="497"/>
                    </a:lnTo>
                    <a:lnTo>
                      <a:pt x="371" y="511"/>
                    </a:lnTo>
                    <a:lnTo>
                      <a:pt x="338" y="522"/>
                    </a:lnTo>
                    <a:lnTo>
                      <a:pt x="303" y="528"/>
                    </a:lnTo>
                    <a:lnTo>
                      <a:pt x="267" y="530"/>
                    </a:lnTo>
                    <a:lnTo>
                      <a:pt x="239" y="528"/>
                    </a:lnTo>
                    <a:lnTo>
                      <a:pt x="213" y="524"/>
                    </a:lnTo>
                    <a:lnTo>
                      <a:pt x="188" y="518"/>
                    </a:lnTo>
                    <a:lnTo>
                      <a:pt x="164" y="509"/>
                    </a:lnTo>
                    <a:lnTo>
                      <a:pt x="140" y="499"/>
                    </a:lnTo>
                    <a:lnTo>
                      <a:pt x="119" y="486"/>
                    </a:lnTo>
                    <a:lnTo>
                      <a:pt x="98" y="472"/>
                    </a:lnTo>
                    <a:lnTo>
                      <a:pt x="79" y="454"/>
                    </a:lnTo>
                    <a:lnTo>
                      <a:pt x="62" y="437"/>
                    </a:lnTo>
                    <a:lnTo>
                      <a:pt x="46" y="416"/>
                    </a:lnTo>
                    <a:lnTo>
                      <a:pt x="33" y="395"/>
                    </a:lnTo>
                    <a:lnTo>
                      <a:pt x="21" y="372"/>
                    </a:lnTo>
                    <a:lnTo>
                      <a:pt x="12" y="348"/>
                    </a:lnTo>
                    <a:lnTo>
                      <a:pt x="6" y="322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6" y="213"/>
                    </a:lnTo>
                    <a:lnTo>
                      <a:pt x="12" y="186"/>
                    </a:lnTo>
                    <a:lnTo>
                      <a:pt x="21" y="161"/>
                    </a:lnTo>
                    <a:lnTo>
                      <a:pt x="33" y="138"/>
                    </a:lnTo>
                    <a:lnTo>
                      <a:pt x="46" y="115"/>
                    </a:lnTo>
                    <a:lnTo>
                      <a:pt x="62" y="95"/>
                    </a:lnTo>
                    <a:lnTo>
                      <a:pt x="79" y="76"/>
                    </a:lnTo>
                    <a:lnTo>
                      <a:pt x="98" y="59"/>
                    </a:lnTo>
                    <a:lnTo>
                      <a:pt x="119" y="45"/>
                    </a:lnTo>
                    <a:lnTo>
                      <a:pt x="142" y="31"/>
                    </a:lnTo>
                    <a:lnTo>
                      <a:pt x="165" y="20"/>
                    </a:lnTo>
                    <a:lnTo>
                      <a:pt x="190" y="12"/>
                    </a:lnTo>
                    <a:lnTo>
                      <a:pt x="216" y="5"/>
                    </a:lnTo>
                    <a:lnTo>
                      <a:pt x="244" y="2"/>
                    </a:lnTo>
                    <a:lnTo>
                      <a:pt x="272" y="0"/>
                    </a:lnTo>
                    <a:lnTo>
                      <a:pt x="306" y="2"/>
                    </a:lnTo>
                    <a:lnTo>
                      <a:pt x="340" y="8"/>
                    </a:lnTo>
                    <a:lnTo>
                      <a:pt x="373" y="18"/>
                    </a:lnTo>
                    <a:lnTo>
                      <a:pt x="404" y="32"/>
                    </a:lnTo>
                    <a:lnTo>
                      <a:pt x="404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423440" y="882720"/>
                <a:ext cx="111600" cy="101520"/>
              </a:xfrm>
              <a:custGeom>
                <a:avLst/>
                <a:gdLst/>
                <a:ahLst/>
                <a:rect l="l" t="t" r="r" b="b"/>
                <a:pathLst>
                  <a:path w="532" h="530">
                    <a:moveTo>
                      <a:pt x="532" y="264"/>
                    </a:moveTo>
                    <a:lnTo>
                      <a:pt x="530" y="293"/>
                    </a:lnTo>
                    <a:lnTo>
                      <a:pt x="527" y="319"/>
                    </a:lnTo>
                    <a:lnTo>
                      <a:pt x="520" y="344"/>
                    </a:lnTo>
                    <a:lnTo>
                      <a:pt x="511" y="370"/>
                    </a:lnTo>
                    <a:lnTo>
                      <a:pt x="501" y="393"/>
                    </a:lnTo>
                    <a:lnTo>
                      <a:pt x="487" y="415"/>
                    </a:lnTo>
                    <a:lnTo>
                      <a:pt x="472" y="434"/>
                    </a:lnTo>
                    <a:lnTo>
                      <a:pt x="454" y="453"/>
                    </a:lnTo>
                    <a:lnTo>
                      <a:pt x="436" y="471"/>
                    </a:lnTo>
                    <a:lnTo>
                      <a:pt x="416" y="485"/>
                    </a:lnTo>
                    <a:lnTo>
                      <a:pt x="394" y="498"/>
                    </a:lnTo>
                    <a:lnTo>
                      <a:pt x="370" y="509"/>
                    </a:lnTo>
                    <a:lnTo>
                      <a:pt x="346" y="518"/>
                    </a:lnTo>
                    <a:lnTo>
                      <a:pt x="321" y="524"/>
                    </a:lnTo>
                    <a:lnTo>
                      <a:pt x="293" y="528"/>
                    </a:lnTo>
                    <a:lnTo>
                      <a:pt x="266" y="530"/>
                    </a:lnTo>
                    <a:lnTo>
                      <a:pt x="238" y="528"/>
                    </a:lnTo>
                    <a:lnTo>
                      <a:pt x="212" y="524"/>
                    </a:lnTo>
                    <a:lnTo>
                      <a:pt x="187" y="518"/>
                    </a:lnTo>
                    <a:lnTo>
                      <a:pt x="162" y="509"/>
                    </a:lnTo>
                    <a:lnTo>
                      <a:pt x="139" y="498"/>
                    </a:lnTo>
                    <a:lnTo>
                      <a:pt x="117" y="485"/>
                    </a:lnTo>
                    <a:lnTo>
                      <a:pt x="97" y="471"/>
                    </a:lnTo>
                    <a:lnTo>
                      <a:pt x="78" y="453"/>
                    </a:lnTo>
                    <a:lnTo>
                      <a:pt x="61" y="434"/>
                    </a:lnTo>
                    <a:lnTo>
                      <a:pt x="45" y="415"/>
                    </a:lnTo>
                    <a:lnTo>
                      <a:pt x="32" y="393"/>
                    </a:lnTo>
                    <a:lnTo>
                      <a:pt x="21" y="370"/>
                    </a:lnTo>
                    <a:lnTo>
                      <a:pt x="12" y="344"/>
                    </a:lnTo>
                    <a:lnTo>
                      <a:pt x="6" y="319"/>
                    </a:lnTo>
                    <a:lnTo>
                      <a:pt x="3" y="293"/>
                    </a:lnTo>
                    <a:lnTo>
                      <a:pt x="0" y="264"/>
                    </a:lnTo>
                    <a:lnTo>
                      <a:pt x="3" y="237"/>
                    </a:lnTo>
                    <a:lnTo>
                      <a:pt x="6" y="210"/>
                    </a:lnTo>
                    <a:lnTo>
                      <a:pt x="12" y="185"/>
                    </a:lnTo>
                    <a:lnTo>
                      <a:pt x="21" y="160"/>
                    </a:lnTo>
                    <a:lnTo>
                      <a:pt x="32" y="137"/>
                    </a:lnTo>
                    <a:lnTo>
                      <a:pt x="45" y="115"/>
                    </a:lnTo>
                    <a:lnTo>
                      <a:pt x="61" y="95"/>
                    </a:lnTo>
                    <a:lnTo>
                      <a:pt x="78" y="76"/>
                    </a:lnTo>
                    <a:lnTo>
                      <a:pt x="97" y="59"/>
                    </a:lnTo>
                    <a:lnTo>
                      <a:pt x="117" y="45"/>
                    </a:lnTo>
                    <a:lnTo>
                      <a:pt x="139" y="31"/>
                    </a:lnTo>
                    <a:lnTo>
                      <a:pt x="162" y="20"/>
                    </a:lnTo>
                    <a:lnTo>
                      <a:pt x="187" y="12"/>
                    </a:lnTo>
                    <a:lnTo>
                      <a:pt x="212" y="5"/>
                    </a:lnTo>
                    <a:lnTo>
                      <a:pt x="238" y="2"/>
                    </a:lnTo>
                    <a:lnTo>
                      <a:pt x="266" y="0"/>
                    </a:lnTo>
                    <a:lnTo>
                      <a:pt x="293" y="2"/>
                    </a:lnTo>
                    <a:lnTo>
                      <a:pt x="321" y="5"/>
                    </a:lnTo>
                    <a:lnTo>
                      <a:pt x="346" y="12"/>
                    </a:lnTo>
                    <a:lnTo>
                      <a:pt x="370" y="20"/>
                    </a:lnTo>
                    <a:lnTo>
                      <a:pt x="394" y="31"/>
                    </a:lnTo>
                    <a:lnTo>
                      <a:pt x="416" y="45"/>
                    </a:lnTo>
                    <a:lnTo>
                      <a:pt x="436" y="59"/>
                    </a:lnTo>
                    <a:lnTo>
                      <a:pt x="454" y="76"/>
                    </a:lnTo>
                    <a:lnTo>
                      <a:pt x="472" y="95"/>
                    </a:lnTo>
                    <a:lnTo>
                      <a:pt x="487" y="115"/>
                    </a:lnTo>
                    <a:lnTo>
                      <a:pt x="501" y="137"/>
                    </a:lnTo>
                    <a:lnTo>
                      <a:pt x="511" y="160"/>
                    </a:lnTo>
                    <a:lnTo>
                      <a:pt x="520" y="185"/>
                    </a:lnTo>
                    <a:lnTo>
                      <a:pt x="527" y="210"/>
                    </a:lnTo>
                    <a:lnTo>
                      <a:pt x="530" y="237"/>
                    </a:lnTo>
                    <a:lnTo>
                      <a:pt x="532" y="264"/>
                    </a:lnTo>
                    <a:close/>
                    <a:moveTo>
                      <a:pt x="96" y="264"/>
                    </a:moveTo>
                    <a:lnTo>
                      <a:pt x="97" y="282"/>
                    </a:lnTo>
                    <a:lnTo>
                      <a:pt x="100" y="299"/>
                    </a:lnTo>
                    <a:lnTo>
                      <a:pt x="103" y="316"/>
                    </a:lnTo>
                    <a:lnTo>
                      <a:pt x="110" y="331"/>
                    </a:lnTo>
                    <a:lnTo>
                      <a:pt x="117" y="346"/>
                    </a:lnTo>
                    <a:lnTo>
                      <a:pt x="125" y="361"/>
                    </a:lnTo>
                    <a:lnTo>
                      <a:pt x="135" y="374"/>
                    </a:lnTo>
                    <a:lnTo>
                      <a:pt x="146" y="386"/>
                    </a:lnTo>
                    <a:lnTo>
                      <a:pt x="158" y="398"/>
                    </a:lnTo>
                    <a:lnTo>
                      <a:pt x="171" y="408"/>
                    </a:lnTo>
                    <a:lnTo>
                      <a:pt x="185" y="417"/>
                    </a:lnTo>
                    <a:lnTo>
                      <a:pt x="200" y="424"/>
                    </a:lnTo>
                    <a:lnTo>
                      <a:pt x="215" y="430"/>
                    </a:lnTo>
                    <a:lnTo>
                      <a:pt x="232" y="434"/>
                    </a:lnTo>
                    <a:lnTo>
                      <a:pt x="248" y="437"/>
                    </a:lnTo>
                    <a:lnTo>
                      <a:pt x="266" y="438"/>
                    </a:lnTo>
                    <a:lnTo>
                      <a:pt x="283" y="437"/>
                    </a:lnTo>
                    <a:lnTo>
                      <a:pt x="301" y="434"/>
                    </a:lnTo>
                    <a:lnTo>
                      <a:pt x="317" y="430"/>
                    </a:lnTo>
                    <a:lnTo>
                      <a:pt x="333" y="424"/>
                    </a:lnTo>
                    <a:lnTo>
                      <a:pt x="348" y="417"/>
                    </a:lnTo>
                    <a:lnTo>
                      <a:pt x="361" y="408"/>
                    </a:lnTo>
                    <a:lnTo>
                      <a:pt x="374" y="398"/>
                    </a:lnTo>
                    <a:lnTo>
                      <a:pt x="386" y="386"/>
                    </a:lnTo>
                    <a:lnTo>
                      <a:pt x="397" y="374"/>
                    </a:lnTo>
                    <a:lnTo>
                      <a:pt x="407" y="361"/>
                    </a:lnTo>
                    <a:lnTo>
                      <a:pt x="416" y="346"/>
                    </a:lnTo>
                    <a:lnTo>
                      <a:pt x="423" y="331"/>
                    </a:lnTo>
                    <a:lnTo>
                      <a:pt x="428" y="316"/>
                    </a:lnTo>
                    <a:lnTo>
                      <a:pt x="433" y="299"/>
                    </a:lnTo>
                    <a:lnTo>
                      <a:pt x="436" y="282"/>
                    </a:lnTo>
                    <a:lnTo>
                      <a:pt x="436" y="264"/>
                    </a:lnTo>
                    <a:lnTo>
                      <a:pt x="436" y="248"/>
                    </a:lnTo>
                    <a:lnTo>
                      <a:pt x="433" y="230"/>
                    </a:lnTo>
                    <a:lnTo>
                      <a:pt x="428" y="214"/>
                    </a:lnTo>
                    <a:lnTo>
                      <a:pt x="423" y="197"/>
                    </a:lnTo>
                    <a:lnTo>
                      <a:pt x="416" y="183"/>
                    </a:lnTo>
                    <a:lnTo>
                      <a:pt x="407" y="169"/>
                    </a:lnTo>
                    <a:lnTo>
                      <a:pt x="397" y="154"/>
                    </a:lnTo>
                    <a:lnTo>
                      <a:pt x="386" y="142"/>
                    </a:lnTo>
                    <a:lnTo>
                      <a:pt x="374" y="131"/>
                    </a:lnTo>
                    <a:lnTo>
                      <a:pt x="361" y="121"/>
                    </a:lnTo>
                    <a:lnTo>
                      <a:pt x="348" y="113"/>
                    </a:lnTo>
                    <a:lnTo>
                      <a:pt x="333" y="105"/>
                    </a:lnTo>
                    <a:lnTo>
                      <a:pt x="317" y="99"/>
                    </a:lnTo>
                    <a:lnTo>
                      <a:pt x="301" y="95"/>
                    </a:lnTo>
                    <a:lnTo>
                      <a:pt x="283" y="92"/>
                    </a:lnTo>
                    <a:lnTo>
                      <a:pt x="266" y="92"/>
                    </a:lnTo>
                    <a:lnTo>
                      <a:pt x="248" y="92"/>
                    </a:lnTo>
                    <a:lnTo>
                      <a:pt x="232" y="95"/>
                    </a:lnTo>
                    <a:lnTo>
                      <a:pt x="215" y="99"/>
                    </a:lnTo>
                    <a:lnTo>
                      <a:pt x="200" y="105"/>
                    </a:lnTo>
                    <a:lnTo>
                      <a:pt x="185" y="113"/>
                    </a:lnTo>
                    <a:lnTo>
                      <a:pt x="171" y="121"/>
                    </a:lnTo>
                    <a:lnTo>
                      <a:pt x="158" y="131"/>
                    </a:lnTo>
                    <a:lnTo>
                      <a:pt x="146" y="142"/>
                    </a:lnTo>
                    <a:lnTo>
                      <a:pt x="135" y="154"/>
                    </a:lnTo>
                    <a:lnTo>
                      <a:pt x="125" y="169"/>
                    </a:lnTo>
                    <a:lnTo>
                      <a:pt x="117" y="183"/>
                    </a:lnTo>
                    <a:lnTo>
                      <a:pt x="110" y="197"/>
                    </a:lnTo>
                    <a:lnTo>
                      <a:pt x="103" y="214"/>
                    </a:lnTo>
                    <a:lnTo>
                      <a:pt x="100" y="230"/>
                    </a:lnTo>
                    <a:lnTo>
                      <a:pt x="97" y="248"/>
                    </a:lnTo>
                    <a:lnTo>
                      <a:pt x="96" y="2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49440" y="882720"/>
                <a:ext cx="144360" cy="98280"/>
              </a:xfrm>
              <a:custGeom>
                <a:avLst/>
                <a:gdLst/>
                <a:ahLst/>
                <a:rect l="l" t="t" r="r" b="b"/>
                <a:pathLst>
                  <a:path w="690" h="512">
                    <a:moveTo>
                      <a:pt x="96" y="77"/>
                    </a:moveTo>
                    <a:lnTo>
                      <a:pt x="98" y="77"/>
                    </a:lnTo>
                    <a:lnTo>
                      <a:pt x="109" y="62"/>
                    </a:lnTo>
                    <a:lnTo>
                      <a:pt x="122" y="47"/>
                    </a:lnTo>
                    <a:lnTo>
                      <a:pt x="137" y="34"/>
                    </a:lnTo>
                    <a:lnTo>
                      <a:pt x="154" y="23"/>
                    </a:lnTo>
                    <a:lnTo>
                      <a:pt x="171" y="13"/>
                    </a:lnTo>
                    <a:lnTo>
                      <a:pt x="190" y="6"/>
                    </a:lnTo>
                    <a:lnTo>
                      <a:pt x="210" y="2"/>
                    </a:lnTo>
                    <a:lnTo>
                      <a:pt x="229" y="0"/>
                    </a:lnTo>
                    <a:lnTo>
                      <a:pt x="253" y="2"/>
                    </a:lnTo>
                    <a:lnTo>
                      <a:pt x="274" y="6"/>
                    </a:lnTo>
                    <a:lnTo>
                      <a:pt x="295" y="13"/>
                    </a:lnTo>
                    <a:lnTo>
                      <a:pt x="314" y="24"/>
                    </a:lnTo>
                    <a:lnTo>
                      <a:pt x="330" y="36"/>
                    </a:lnTo>
                    <a:lnTo>
                      <a:pt x="346" y="51"/>
                    </a:lnTo>
                    <a:lnTo>
                      <a:pt x="360" y="69"/>
                    </a:lnTo>
                    <a:lnTo>
                      <a:pt x="373" y="88"/>
                    </a:lnTo>
                    <a:lnTo>
                      <a:pt x="385" y="69"/>
                    </a:lnTo>
                    <a:lnTo>
                      <a:pt x="401" y="52"/>
                    </a:lnTo>
                    <a:lnTo>
                      <a:pt x="418" y="37"/>
                    </a:lnTo>
                    <a:lnTo>
                      <a:pt x="438" y="24"/>
                    </a:lnTo>
                    <a:lnTo>
                      <a:pt x="458" y="14"/>
                    </a:lnTo>
                    <a:lnTo>
                      <a:pt x="480" y="6"/>
                    </a:lnTo>
                    <a:lnTo>
                      <a:pt x="503" y="2"/>
                    </a:lnTo>
                    <a:lnTo>
                      <a:pt x="526" y="0"/>
                    </a:lnTo>
                    <a:lnTo>
                      <a:pt x="550" y="1"/>
                    </a:lnTo>
                    <a:lnTo>
                      <a:pt x="571" y="5"/>
                    </a:lnTo>
                    <a:lnTo>
                      <a:pt x="589" y="11"/>
                    </a:lnTo>
                    <a:lnTo>
                      <a:pt x="607" y="17"/>
                    </a:lnTo>
                    <a:lnTo>
                      <a:pt x="622" y="27"/>
                    </a:lnTo>
                    <a:lnTo>
                      <a:pt x="635" y="38"/>
                    </a:lnTo>
                    <a:lnTo>
                      <a:pt x="647" y="51"/>
                    </a:lnTo>
                    <a:lnTo>
                      <a:pt x="657" y="65"/>
                    </a:lnTo>
                    <a:lnTo>
                      <a:pt x="666" y="81"/>
                    </a:lnTo>
                    <a:lnTo>
                      <a:pt x="673" y="97"/>
                    </a:lnTo>
                    <a:lnTo>
                      <a:pt x="678" y="115"/>
                    </a:lnTo>
                    <a:lnTo>
                      <a:pt x="684" y="133"/>
                    </a:lnTo>
                    <a:lnTo>
                      <a:pt x="689" y="173"/>
                    </a:lnTo>
                    <a:lnTo>
                      <a:pt x="690" y="215"/>
                    </a:lnTo>
                    <a:lnTo>
                      <a:pt x="690" y="512"/>
                    </a:lnTo>
                    <a:lnTo>
                      <a:pt x="595" y="512"/>
                    </a:lnTo>
                    <a:lnTo>
                      <a:pt x="595" y="230"/>
                    </a:lnTo>
                    <a:lnTo>
                      <a:pt x="595" y="206"/>
                    </a:lnTo>
                    <a:lnTo>
                      <a:pt x="593" y="181"/>
                    </a:lnTo>
                    <a:lnTo>
                      <a:pt x="588" y="157"/>
                    </a:lnTo>
                    <a:lnTo>
                      <a:pt x="580" y="133"/>
                    </a:lnTo>
                    <a:lnTo>
                      <a:pt x="568" y="114"/>
                    </a:lnTo>
                    <a:lnTo>
                      <a:pt x="561" y="106"/>
                    </a:lnTo>
                    <a:lnTo>
                      <a:pt x="552" y="98"/>
                    </a:lnTo>
                    <a:lnTo>
                      <a:pt x="542" y="93"/>
                    </a:lnTo>
                    <a:lnTo>
                      <a:pt x="531" y="88"/>
                    </a:lnTo>
                    <a:lnTo>
                      <a:pt x="517" y="86"/>
                    </a:lnTo>
                    <a:lnTo>
                      <a:pt x="503" y="85"/>
                    </a:lnTo>
                    <a:lnTo>
                      <a:pt x="484" y="86"/>
                    </a:lnTo>
                    <a:lnTo>
                      <a:pt x="469" y="90"/>
                    </a:lnTo>
                    <a:lnTo>
                      <a:pt x="454" y="95"/>
                    </a:lnTo>
                    <a:lnTo>
                      <a:pt x="442" y="103"/>
                    </a:lnTo>
                    <a:lnTo>
                      <a:pt x="432" y="112"/>
                    </a:lnTo>
                    <a:lnTo>
                      <a:pt x="423" y="123"/>
                    </a:lnTo>
                    <a:lnTo>
                      <a:pt x="416" y="135"/>
                    </a:lnTo>
                    <a:lnTo>
                      <a:pt x="409" y="148"/>
                    </a:lnTo>
                    <a:lnTo>
                      <a:pt x="401" y="176"/>
                    </a:lnTo>
                    <a:lnTo>
                      <a:pt x="396" y="207"/>
                    </a:lnTo>
                    <a:lnTo>
                      <a:pt x="394" y="238"/>
                    </a:lnTo>
                    <a:lnTo>
                      <a:pt x="393" y="267"/>
                    </a:lnTo>
                    <a:lnTo>
                      <a:pt x="393" y="512"/>
                    </a:lnTo>
                    <a:lnTo>
                      <a:pt x="297" y="512"/>
                    </a:lnTo>
                    <a:lnTo>
                      <a:pt x="297" y="249"/>
                    </a:lnTo>
                    <a:lnTo>
                      <a:pt x="297" y="224"/>
                    </a:lnTo>
                    <a:lnTo>
                      <a:pt x="295" y="196"/>
                    </a:lnTo>
                    <a:lnTo>
                      <a:pt x="292" y="169"/>
                    </a:lnTo>
                    <a:lnTo>
                      <a:pt x="285" y="142"/>
                    </a:lnTo>
                    <a:lnTo>
                      <a:pt x="280" y="130"/>
                    </a:lnTo>
                    <a:lnTo>
                      <a:pt x="273" y="119"/>
                    </a:lnTo>
                    <a:lnTo>
                      <a:pt x="267" y="110"/>
                    </a:lnTo>
                    <a:lnTo>
                      <a:pt x="258" y="102"/>
                    </a:lnTo>
                    <a:lnTo>
                      <a:pt x="247" y="95"/>
                    </a:lnTo>
                    <a:lnTo>
                      <a:pt x="235" y="90"/>
                    </a:lnTo>
                    <a:lnTo>
                      <a:pt x="222" y="86"/>
                    </a:lnTo>
                    <a:lnTo>
                      <a:pt x="206" y="85"/>
                    </a:lnTo>
                    <a:lnTo>
                      <a:pt x="188" y="86"/>
                    </a:lnTo>
                    <a:lnTo>
                      <a:pt x="172" y="90"/>
                    </a:lnTo>
                    <a:lnTo>
                      <a:pt x="158" y="95"/>
                    </a:lnTo>
                    <a:lnTo>
                      <a:pt x="146" y="103"/>
                    </a:lnTo>
                    <a:lnTo>
                      <a:pt x="135" y="112"/>
                    </a:lnTo>
                    <a:lnTo>
                      <a:pt x="126" y="123"/>
                    </a:lnTo>
                    <a:lnTo>
                      <a:pt x="119" y="135"/>
                    </a:lnTo>
                    <a:lnTo>
                      <a:pt x="113" y="148"/>
                    </a:lnTo>
                    <a:lnTo>
                      <a:pt x="103" y="176"/>
                    </a:lnTo>
                    <a:lnTo>
                      <a:pt x="99" y="207"/>
                    </a:lnTo>
                    <a:lnTo>
                      <a:pt x="97" y="238"/>
                    </a:lnTo>
                    <a:lnTo>
                      <a:pt x="96" y="267"/>
                    </a:lnTo>
                    <a:lnTo>
                      <a:pt x="96" y="512"/>
                    </a:lnTo>
                    <a:lnTo>
                      <a:pt x="0" y="512"/>
                    </a:lnTo>
                    <a:lnTo>
                      <a:pt x="0" y="15"/>
                    </a:lnTo>
                    <a:lnTo>
                      <a:pt x="96" y="15"/>
                    </a:lnTo>
                    <a:lnTo>
                      <a:pt x="96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908640" y="1022400"/>
                <a:ext cx="9082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a-DK" sz="600" spc="-1" strike="noStrike">
                    <a:solidFill>
                      <a:srgbClr val="ffffff"/>
                    </a:solidFill>
                    <a:latin typeface="Futura Bk BT"/>
                  </a:rPr>
                  <a:t>www.kirktelecom.dk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4" name=""/>
          <p:cNvSpPr/>
          <p:nvPr/>
        </p:nvSpPr>
        <p:spPr>
          <a:xfrm>
            <a:off x="2228760" y="0"/>
            <a:ext cx="76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CCFP Administration Program Ver.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2"/>
          <a:stretch/>
        </p:blipFill>
        <p:spPr>
          <a:xfrm>
            <a:off x="3181320" y="517680"/>
            <a:ext cx="5486400" cy="395280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3088800" y="4506840"/>
            <a:ext cx="57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смотр подключенных базовых станций и измер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начений задержек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CD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каждой базовой станции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087720" y="5238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пуск процедуры измерения задержек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88440" y="5605560"/>
            <a:ext cx="573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бор базовой станции или нескольких для провед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мерений задержек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 flipV="1">
            <a:off x="4705200" y="1485720"/>
            <a:ext cx="2019600" cy="302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4705200" y="3790800"/>
            <a:ext cx="27813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4229280" y="2533320"/>
            <a:ext cx="2495520" cy="321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6129360" y="1809360"/>
            <a:ext cx="1357200" cy="421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CDB9-9734-4107-8ADD-22A8074AD6FD}" type="slidenum">
              <a:t>21</a:t>
            </a:fld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2889360" y="457200"/>
            <a:ext cx="6521400" cy="0"/>
          </a:xfrm>
          <a:prstGeom prst="line">
            <a:avLst/>
          </a:prstGeom>
          <a:ln cap="sq"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0" y="0"/>
            <a:ext cx="6129000" cy="6858000"/>
            <a:chOff x="0" y="0"/>
            <a:chExt cx="6129000" cy="6858000"/>
          </a:xfrm>
        </p:grpSpPr>
        <p:sp>
          <p:nvSpPr>
            <p:cNvPr id="755" name=""/>
            <p:cNvSpPr/>
            <p:nvPr/>
          </p:nvSpPr>
          <p:spPr>
            <a:xfrm>
              <a:off x="0" y="0"/>
              <a:ext cx="2228760" cy="3429000"/>
            </a:xfrm>
            <a:prstGeom prst="rect">
              <a:avLst/>
            </a:prstGeom>
            <a:solidFill>
              <a:srgbClr val="000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0" y="3429000"/>
              <a:ext cx="2228760" cy="3429000"/>
            </a:xfrm>
            <a:prstGeom prst="rect">
              <a:avLst/>
            </a:pr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91836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79924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9" name="" descr=""/>
            <p:cNvPicPr/>
            <p:nvPr/>
          </p:nvPicPr>
          <p:blipFill>
            <a:blip r:embed="rId1"/>
            <a:stretch/>
          </p:blipFill>
          <p:spPr>
            <a:xfrm>
              <a:off x="201240" y="2055960"/>
              <a:ext cx="1705680" cy="271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0" name=""/>
            <p:cNvGrpSpPr/>
            <p:nvPr/>
          </p:nvGrpSpPr>
          <p:grpSpPr>
            <a:xfrm>
              <a:off x="211320" y="380880"/>
              <a:ext cx="1605600" cy="821880"/>
              <a:chOff x="211320" y="380880"/>
              <a:chExt cx="1605600" cy="821880"/>
            </a:xfrm>
          </p:grpSpPr>
          <p:sp>
            <p:nvSpPr>
              <p:cNvPr id="761" name=""/>
              <p:cNvSpPr/>
              <p:nvPr/>
            </p:nvSpPr>
            <p:spPr>
              <a:xfrm>
                <a:off x="403920" y="38088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7">
                    <a:moveTo>
                      <a:pt x="29" y="1655"/>
                    </a:moveTo>
                    <a:lnTo>
                      <a:pt x="79" y="1682"/>
                    </a:lnTo>
                    <a:lnTo>
                      <a:pt x="623" y="1957"/>
                    </a:lnTo>
                    <a:lnTo>
                      <a:pt x="684" y="1987"/>
                    </a:lnTo>
                    <a:lnTo>
                      <a:pt x="687" y="1916"/>
                    </a:lnTo>
                    <a:lnTo>
                      <a:pt x="691" y="1864"/>
                    </a:lnTo>
                    <a:lnTo>
                      <a:pt x="697" y="1814"/>
                    </a:lnTo>
                    <a:lnTo>
                      <a:pt x="704" y="1763"/>
                    </a:lnTo>
                    <a:lnTo>
                      <a:pt x="713" y="1714"/>
                    </a:lnTo>
                    <a:lnTo>
                      <a:pt x="724" y="1665"/>
                    </a:lnTo>
                    <a:lnTo>
                      <a:pt x="737" y="1616"/>
                    </a:lnTo>
                    <a:lnTo>
                      <a:pt x="751" y="1569"/>
                    </a:lnTo>
                    <a:lnTo>
                      <a:pt x="767" y="1522"/>
                    </a:lnTo>
                    <a:lnTo>
                      <a:pt x="784" y="1476"/>
                    </a:lnTo>
                    <a:lnTo>
                      <a:pt x="803" y="1431"/>
                    </a:lnTo>
                    <a:lnTo>
                      <a:pt x="824" y="1386"/>
                    </a:lnTo>
                    <a:lnTo>
                      <a:pt x="846" y="1343"/>
                    </a:lnTo>
                    <a:lnTo>
                      <a:pt x="869" y="1300"/>
                    </a:lnTo>
                    <a:lnTo>
                      <a:pt x="894" y="1257"/>
                    </a:lnTo>
                    <a:lnTo>
                      <a:pt x="920" y="1217"/>
                    </a:lnTo>
                    <a:lnTo>
                      <a:pt x="948" y="1177"/>
                    </a:lnTo>
                    <a:lnTo>
                      <a:pt x="976" y="1137"/>
                    </a:lnTo>
                    <a:lnTo>
                      <a:pt x="1007" y="1100"/>
                    </a:lnTo>
                    <a:lnTo>
                      <a:pt x="1038" y="1063"/>
                    </a:lnTo>
                    <a:lnTo>
                      <a:pt x="1071" y="1027"/>
                    </a:lnTo>
                    <a:lnTo>
                      <a:pt x="1105" y="993"/>
                    </a:lnTo>
                    <a:lnTo>
                      <a:pt x="1140" y="959"/>
                    </a:lnTo>
                    <a:lnTo>
                      <a:pt x="1176" y="927"/>
                    </a:lnTo>
                    <a:lnTo>
                      <a:pt x="1213" y="896"/>
                    </a:lnTo>
                    <a:lnTo>
                      <a:pt x="1250" y="866"/>
                    </a:lnTo>
                    <a:lnTo>
                      <a:pt x="1290" y="838"/>
                    </a:lnTo>
                    <a:lnTo>
                      <a:pt x="1331" y="810"/>
                    </a:lnTo>
                    <a:lnTo>
                      <a:pt x="1372" y="785"/>
                    </a:lnTo>
                    <a:lnTo>
                      <a:pt x="1414" y="760"/>
                    </a:lnTo>
                    <a:lnTo>
                      <a:pt x="1457" y="737"/>
                    </a:lnTo>
                    <a:lnTo>
                      <a:pt x="1501" y="716"/>
                    </a:lnTo>
                    <a:lnTo>
                      <a:pt x="1546" y="696"/>
                    </a:lnTo>
                    <a:lnTo>
                      <a:pt x="1584" y="680"/>
                    </a:lnTo>
                    <a:lnTo>
                      <a:pt x="1594" y="673"/>
                    </a:lnTo>
                    <a:lnTo>
                      <a:pt x="1600" y="665"/>
                    </a:lnTo>
                    <a:lnTo>
                      <a:pt x="1604" y="658"/>
                    </a:lnTo>
                    <a:lnTo>
                      <a:pt x="1606" y="650"/>
                    </a:lnTo>
                    <a:lnTo>
                      <a:pt x="1605" y="638"/>
                    </a:lnTo>
                    <a:lnTo>
                      <a:pt x="1603" y="632"/>
                    </a:lnTo>
                    <a:lnTo>
                      <a:pt x="1586" y="586"/>
                    </a:lnTo>
                    <a:lnTo>
                      <a:pt x="1385" y="31"/>
                    </a:lnTo>
                    <a:lnTo>
                      <a:pt x="1381" y="18"/>
                    </a:lnTo>
                    <a:lnTo>
                      <a:pt x="1380" y="13"/>
                    </a:lnTo>
                    <a:lnTo>
                      <a:pt x="1372" y="5"/>
                    </a:lnTo>
                    <a:lnTo>
                      <a:pt x="1367" y="2"/>
                    </a:lnTo>
                    <a:lnTo>
                      <a:pt x="1359" y="0"/>
                    </a:lnTo>
                    <a:lnTo>
                      <a:pt x="1349" y="0"/>
                    </a:lnTo>
                    <a:lnTo>
                      <a:pt x="1337" y="3"/>
                    </a:lnTo>
                    <a:lnTo>
                      <a:pt x="1307" y="14"/>
                    </a:lnTo>
                    <a:lnTo>
                      <a:pt x="1248" y="37"/>
                    </a:lnTo>
                    <a:lnTo>
                      <a:pt x="1190" y="63"/>
                    </a:lnTo>
                    <a:lnTo>
                      <a:pt x="1133" y="89"/>
                    </a:lnTo>
                    <a:lnTo>
                      <a:pt x="1076" y="119"/>
                    </a:lnTo>
                    <a:lnTo>
                      <a:pt x="1021" y="149"/>
                    </a:lnTo>
                    <a:lnTo>
                      <a:pt x="966" y="181"/>
                    </a:lnTo>
                    <a:lnTo>
                      <a:pt x="913" y="215"/>
                    </a:lnTo>
                    <a:lnTo>
                      <a:pt x="861" y="251"/>
                    </a:lnTo>
                    <a:lnTo>
                      <a:pt x="810" y="289"/>
                    </a:lnTo>
                    <a:lnTo>
                      <a:pt x="759" y="328"/>
                    </a:lnTo>
                    <a:lnTo>
                      <a:pt x="711" y="369"/>
                    </a:lnTo>
                    <a:lnTo>
                      <a:pt x="663" y="411"/>
                    </a:lnTo>
                    <a:lnTo>
                      <a:pt x="616" y="455"/>
                    </a:lnTo>
                    <a:lnTo>
                      <a:pt x="572" y="501"/>
                    </a:lnTo>
                    <a:lnTo>
                      <a:pt x="528" y="547"/>
                    </a:lnTo>
                    <a:lnTo>
                      <a:pt x="485" y="595"/>
                    </a:lnTo>
                    <a:lnTo>
                      <a:pt x="443" y="645"/>
                    </a:lnTo>
                    <a:lnTo>
                      <a:pt x="404" y="695"/>
                    </a:lnTo>
                    <a:lnTo>
                      <a:pt x="365" y="747"/>
                    </a:lnTo>
                    <a:lnTo>
                      <a:pt x="329" y="800"/>
                    </a:lnTo>
                    <a:lnTo>
                      <a:pt x="294" y="854"/>
                    </a:lnTo>
                    <a:lnTo>
                      <a:pt x="260" y="910"/>
                    </a:lnTo>
                    <a:lnTo>
                      <a:pt x="228" y="967"/>
                    </a:lnTo>
                    <a:lnTo>
                      <a:pt x="197" y="1024"/>
                    </a:lnTo>
                    <a:lnTo>
                      <a:pt x="169" y="1084"/>
                    </a:lnTo>
                    <a:lnTo>
                      <a:pt x="142" y="1144"/>
                    </a:lnTo>
                    <a:lnTo>
                      <a:pt x="116" y="1204"/>
                    </a:lnTo>
                    <a:lnTo>
                      <a:pt x="93" y="1266"/>
                    </a:lnTo>
                    <a:lnTo>
                      <a:pt x="71" y="1329"/>
                    </a:lnTo>
                    <a:lnTo>
                      <a:pt x="52" y="1392"/>
                    </a:lnTo>
                    <a:lnTo>
                      <a:pt x="34" y="1457"/>
                    </a:lnTo>
                    <a:lnTo>
                      <a:pt x="18" y="1522"/>
                    </a:lnTo>
                    <a:lnTo>
                      <a:pt x="2" y="1593"/>
                    </a:lnTo>
                    <a:lnTo>
                      <a:pt x="0" y="1610"/>
                    </a:lnTo>
                    <a:lnTo>
                      <a:pt x="1" y="1623"/>
                    </a:lnTo>
                    <a:lnTo>
                      <a:pt x="6" y="1634"/>
                    </a:lnTo>
                    <a:lnTo>
                      <a:pt x="11" y="1643"/>
                    </a:lnTo>
                    <a:lnTo>
                      <a:pt x="17" y="1648"/>
                    </a:lnTo>
                    <a:lnTo>
                      <a:pt x="23" y="1652"/>
                    </a:lnTo>
                    <a:lnTo>
                      <a:pt x="29" y="1655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03920" y="77004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5">
                    <a:moveTo>
                      <a:pt x="29" y="333"/>
                    </a:moveTo>
                    <a:lnTo>
                      <a:pt x="79" y="306"/>
                    </a:lnTo>
                    <a:lnTo>
                      <a:pt x="623" y="31"/>
                    </a:lnTo>
                    <a:lnTo>
                      <a:pt x="684" y="0"/>
                    </a:lnTo>
                    <a:lnTo>
                      <a:pt x="687" y="72"/>
                    </a:lnTo>
                    <a:lnTo>
                      <a:pt x="691" y="123"/>
                    </a:lnTo>
                    <a:lnTo>
                      <a:pt x="697" y="174"/>
                    </a:lnTo>
                    <a:lnTo>
                      <a:pt x="704" y="224"/>
                    </a:lnTo>
                    <a:lnTo>
                      <a:pt x="713" y="273"/>
                    </a:lnTo>
                    <a:lnTo>
                      <a:pt x="724" y="323"/>
                    </a:lnTo>
                    <a:lnTo>
                      <a:pt x="737" y="371"/>
                    </a:lnTo>
                    <a:lnTo>
                      <a:pt x="751" y="418"/>
                    </a:lnTo>
                    <a:lnTo>
                      <a:pt x="767" y="465"/>
                    </a:lnTo>
                    <a:lnTo>
                      <a:pt x="784" y="512"/>
                    </a:lnTo>
                    <a:lnTo>
                      <a:pt x="803" y="557"/>
                    </a:lnTo>
                    <a:lnTo>
                      <a:pt x="824" y="602"/>
                    </a:lnTo>
                    <a:lnTo>
                      <a:pt x="846" y="645"/>
                    </a:lnTo>
                    <a:lnTo>
                      <a:pt x="869" y="688"/>
                    </a:lnTo>
                    <a:lnTo>
                      <a:pt x="894" y="730"/>
                    </a:lnTo>
                    <a:lnTo>
                      <a:pt x="920" y="771"/>
                    </a:lnTo>
                    <a:lnTo>
                      <a:pt x="948" y="811"/>
                    </a:lnTo>
                    <a:lnTo>
                      <a:pt x="976" y="850"/>
                    </a:lnTo>
                    <a:lnTo>
                      <a:pt x="1007" y="888"/>
                    </a:lnTo>
                    <a:lnTo>
                      <a:pt x="1038" y="924"/>
                    </a:lnTo>
                    <a:lnTo>
                      <a:pt x="1071" y="961"/>
                    </a:lnTo>
                    <a:lnTo>
                      <a:pt x="1105" y="995"/>
                    </a:lnTo>
                    <a:lnTo>
                      <a:pt x="1140" y="1029"/>
                    </a:lnTo>
                    <a:lnTo>
                      <a:pt x="1176" y="1061"/>
                    </a:lnTo>
                    <a:lnTo>
                      <a:pt x="1213" y="1092"/>
                    </a:lnTo>
                    <a:lnTo>
                      <a:pt x="1252" y="1122"/>
                    </a:lnTo>
                    <a:lnTo>
                      <a:pt x="1290" y="1151"/>
                    </a:lnTo>
                    <a:lnTo>
                      <a:pt x="1331" y="1177"/>
                    </a:lnTo>
                    <a:lnTo>
                      <a:pt x="1372" y="1203"/>
                    </a:lnTo>
                    <a:lnTo>
                      <a:pt x="1414" y="1227"/>
                    </a:lnTo>
                    <a:lnTo>
                      <a:pt x="1457" y="1250"/>
                    </a:lnTo>
                    <a:lnTo>
                      <a:pt x="1501" y="1271"/>
                    </a:lnTo>
                    <a:lnTo>
                      <a:pt x="1546" y="1292"/>
                    </a:lnTo>
                    <a:lnTo>
                      <a:pt x="1584" y="1308"/>
                    </a:lnTo>
                    <a:lnTo>
                      <a:pt x="1594" y="1315"/>
                    </a:lnTo>
                    <a:lnTo>
                      <a:pt x="1600" y="1323"/>
                    </a:lnTo>
                    <a:lnTo>
                      <a:pt x="1605" y="1331"/>
                    </a:lnTo>
                    <a:lnTo>
                      <a:pt x="1606" y="1337"/>
                    </a:lnTo>
                    <a:lnTo>
                      <a:pt x="1605" y="1349"/>
                    </a:lnTo>
                    <a:lnTo>
                      <a:pt x="1603" y="1355"/>
                    </a:lnTo>
                    <a:lnTo>
                      <a:pt x="1586" y="1401"/>
                    </a:lnTo>
                    <a:lnTo>
                      <a:pt x="1388" y="1950"/>
                    </a:lnTo>
                    <a:lnTo>
                      <a:pt x="1381" y="1965"/>
                    </a:lnTo>
                    <a:lnTo>
                      <a:pt x="1379" y="1970"/>
                    </a:lnTo>
                    <a:lnTo>
                      <a:pt x="1371" y="1978"/>
                    </a:lnTo>
                    <a:lnTo>
                      <a:pt x="1366" y="1983"/>
                    </a:lnTo>
                    <a:lnTo>
                      <a:pt x="1358" y="1985"/>
                    </a:lnTo>
                    <a:lnTo>
                      <a:pt x="1348" y="1985"/>
                    </a:lnTo>
                    <a:lnTo>
                      <a:pt x="1338" y="1983"/>
                    </a:lnTo>
                    <a:lnTo>
                      <a:pt x="1302" y="1969"/>
                    </a:lnTo>
                    <a:lnTo>
                      <a:pt x="1242" y="1942"/>
                    </a:lnTo>
                    <a:lnTo>
                      <a:pt x="1181" y="1915"/>
                    </a:lnTo>
                    <a:lnTo>
                      <a:pt x="1123" y="1886"/>
                    </a:lnTo>
                    <a:lnTo>
                      <a:pt x="1066" y="1857"/>
                    </a:lnTo>
                    <a:lnTo>
                      <a:pt x="1009" y="1824"/>
                    </a:lnTo>
                    <a:lnTo>
                      <a:pt x="954" y="1791"/>
                    </a:lnTo>
                    <a:lnTo>
                      <a:pt x="901" y="1756"/>
                    </a:lnTo>
                    <a:lnTo>
                      <a:pt x="848" y="1719"/>
                    </a:lnTo>
                    <a:lnTo>
                      <a:pt x="796" y="1682"/>
                    </a:lnTo>
                    <a:lnTo>
                      <a:pt x="747" y="1642"/>
                    </a:lnTo>
                    <a:lnTo>
                      <a:pt x="698" y="1602"/>
                    </a:lnTo>
                    <a:lnTo>
                      <a:pt x="650" y="1560"/>
                    </a:lnTo>
                    <a:lnTo>
                      <a:pt x="604" y="1517"/>
                    </a:lnTo>
                    <a:lnTo>
                      <a:pt x="559" y="1472"/>
                    </a:lnTo>
                    <a:lnTo>
                      <a:pt x="517" y="1426"/>
                    </a:lnTo>
                    <a:lnTo>
                      <a:pt x="475" y="1379"/>
                    </a:lnTo>
                    <a:lnTo>
                      <a:pt x="434" y="1331"/>
                    </a:lnTo>
                    <a:lnTo>
                      <a:pt x="395" y="1281"/>
                    </a:lnTo>
                    <a:lnTo>
                      <a:pt x="358" y="1230"/>
                    </a:lnTo>
                    <a:lnTo>
                      <a:pt x="323" y="1178"/>
                    </a:lnTo>
                    <a:lnTo>
                      <a:pt x="287" y="1124"/>
                    </a:lnTo>
                    <a:lnTo>
                      <a:pt x="255" y="1070"/>
                    </a:lnTo>
                    <a:lnTo>
                      <a:pt x="224" y="1014"/>
                    </a:lnTo>
                    <a:lnTo>
                      <a:pt x="194" y="957"/>
                    </a:lnTo>
                    <a:lnTo>
                      <a:pt x="166" y="900"/>
                    </a:lnTo>
                    <a:lnTo>
                      <a:pt x="139" y="841"/>
                    </a:lnTo>
                    <a:lnTo>
                      <a:pt x="115" y="781"/>
                    </a:lnTo>
                    <a:lnTo>
                      <a:pt x="92" y="720"/>
                    </a:lnTo>
                    <a:lnTo>
                      <a:pt x="71" y="658"/>
                    </a:lnTo>
                    <a:lnTo>
                      <a:pt x="52" y="595"/>
                    </a:lnTo>
                    <a:lnTo>
                      <a:pt x="34" y="530"/>
                    </a:lnTo>
                    <a:lnTo>
                      <a:pt x="18" y="465"/>
                    </a:lnTo>
                    <a:lnTo>
                      <a:pt x="3" y="394"/>
                    </a:lnTo>
                    <a:lnTo>
                      <a:pt x="0" y="378"/>
                    </a:lnTo>
                    <a:lnTo>
                      <a:pt x="1" y="364"/>
                    </a:lnTo>
                    <a:lnTo>
                      <a:pt x="6" y="353"/>
                    </a:lnTo>
                    <a:lnTo>
                      <a:pt x="11" y="346"/>
                    </a:lnTo>
                    <a:lnTo>
                      <a:pt x="17" y="339"/>
                    </a:lnTo>
                    <a:lnTo>
                      <a:pt x="23" y="336"/>
                    </a:lnTo>
                    <a:lnTo>
                      <a:pt x="29" y="333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67440" y="698400"/>
                <a:ext cx="149400" cy="147600"/>
              </a:xfrm>
              <a:custGeom>
                <a:avLst/>
                <a:gdLst/>
                <a:ahLst/>
                <a:rect l="l" t="t" r="r" b="b"/>
                <a:pathLst>
                  <a:path w="714" h="759">
                    <a:moveTo>
                      <a:pt x="699" y="379"/>
                    </a:moveTo>
                    <a:lnTo>
                      <a:pt x="706" y="375"/>
                    </a:lnTo>
                    <a:lnTo>
                      <a:pt x="710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09" y="351"/>
                    </a:lnTo>
                    <a:lnTo>
                      <a:pt x="705" y="346"/>
                    </a:lnTo>
                    <a:lnTo>
                      <a:pt x="699" y="342"/>
                    </a:lnTo>
                    <a:lnTo>
                      <a:pt x="35" y="4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3" y="11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735"/>
                    </a:lnTo>
                    <a:lnTo>
                      <a:pt x="1" y="743"/>
                    </a:lnTo>
                    <a:lnTo>
                      <a:pt x="3" y="748"/>
                    </a:lnTo>
                    <a:lnTo>
                      <a:pt x="5" y="753"/>
                    </a:lnTo>
                    <a:lnTo>
                      <a:pt x="10" y="757"/>
                    </a:lnTo>
                    <a:lnTo>
                      <a:pt x="15" y="759"/>
                    </a:lnTo>
                    <a:lnTo>
                      <a:pt x="21" y="759"/>
                    </a:lnTo>
                    <a:lnTo>
                      <a:pt x="27" y="758"/>
                    </a:lnTo>
                    <a:lnTo>
                      <a:pt x="34" y="755"/>
                    </a:lnTo>
                    <a:lnTo>
                      <a:pt x="699" y="379"/>
                    </a:lnTo>
                    <a:close/>
                  </a:path>
                </a:pathLst>
              </a:custGeom>
              <a:solidFill>
                <a:srgbClr val="00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11320" y="701640"/>
                <a:ext cx="149760" cy="146160"/>
              </a:xfrm>
              <a:custGeom>
                <a:avLst/>
                <a:gdLst/>
                <a:ahLst/>
                <a:rect l="l" t="t" r="r" b="b"/>
                <a:pathLst>
                  <a:path w="714" h="758">
                    <a:moveTo>
                      <a:pt x="701" y="379"/>
                    </a:moveTo>
                    <a:lnTo>
                      <a:pt x="706" y="374"/>
                    </a:lnTo>
                    <a:lnTo>
                      <a:pt x="711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11" y="350"/>
                    </a:lnTo>
                    <a:lnTo>
                      <a:pt x="706" y="346"/>
                    </a:lnTo>
                    <a:lnTo>
                      <a:pt x="700" y="342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0" y="734"/>
                    </a:lnTo>
                    <a:lnTo>
                      <a:pt x="1" y="742"/>
                    </a:lnTo>
                    <a:lnTo>
                      <a:pt x="3" y="749"/>
                    </a:lnTo>
                    <a:lnTo>
                      <a:pt x="7" y="753"/>
                    </a:lnTo>
                    <a:lnTo>
                      <a:pt x="10" y="756"/>
                    </a:lnTo>
                    <a:lnTo>
                      <a:pt x="15" y="758"/>
                    </a:lnTo>
                    <a:lnTo>
                      <a:pt x="21" y="758"/>
                    </a:lnTo>
                    <a:lnTo>
                      <a:pt x="27" y="757"/>
                    </a:lnTo>
                    <a:lnTo>
                      <a:pt x="34" y="754"/>
                    </a:lnTo>
                    <a:lnTo>
                      <a:pt x="701" y="379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011960" y="517680"/>
                <a:ext cx="195840" cy="250560"/>
              </a:xfrm>
              <a:custGeom>
                <a:avLst/>
                <a:gdLst/>
                <a:ahLst/>
                <a:rect l="l" t="t" r="r" b="b"/>
                <a:pathLst>
                  <a:path w="930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30" y="1293"/>
                    </a:lnTo>
                    <a:lnTo>
                      <a:pt x="713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230480" y="517680"/>
                <a:ext cx="34200" cy="25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316520" y="517680"/>
                <a:ext cx="168480" cy="250560"/>
              </a:xfrm>
              <a:custGeom>
                <a:avLst/>
                <a:gdLst/>
                <a:ahLst/>
                <a:rect l="l" t="t" r="r" b="b"/>
                <a:pathLst>
                  <a:path w="803" h="1293">
                    <a:moveTo>
                      <a:pt x="803" y="1293"/>
                    </a:moveTo>
                    <a:lnTo>
                      <a:pt x="607" y="1293"/>
                    </a:lnTo>
                    <a:lnTo>
                      <a:pt x="228" y="746"/>
                    </a:lnTo>
                    <a:lnTo>
                      <a:pt x="161" y="746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283" y="1"/>
                    </a:lnTo>
                    <a:lnTo>
                      <a:pt x="327" y="4"/>
                    </a:lnTo>
                    <a:lnTo>
                      <a:pt x="370" y="8"/>
                    </a:lnTo>
                    <a:lnTo>
                      <a:pt x="413" y="16"/>
                    </a:lnTo>
                    <a:lnTo>
                      <a:pt x="456" y="27"/>
                    </a:lnTo>
                    <a:lnTo>
                      <a:pt x="497" y="41"/>
                    </a:lnTo>
                    <a:lnTo>
                      <a:pt x="536" y="61"/>
                    </a:lnTo>
                    <a:lnTo>
                      <a:pt x="556" y="73"/>
                    </a:lnTo>
                    <a:lnTo>
                      <a:pt x="574" y="87"/>
                    </a:lnTo>
                    <a:lnTo>
                      <a:pt x="592" y="101"/>
                    </a:lnTo>
                    <a:lnTo>
                      <a:pt x="608" y="118"/>
                    </a:lnTo>
                    <a:lnTo>
                      <a:pt x="623" y="135"/>
                    </a:lnTo>
                    <a:lnTo>
                      <a:pt x="637" y="153"/>
                    </a:lnTo>
                    <a:lnTo>
                      <a:pt x="650" y="173"/>
                    </a:lnTo>
                    <a:lnTo>
                      <a:pt x="661" y="192"/>
                    </a:lnTo>
                    <a:lnTo>
                      <a:pt x="671" y="212"/>
                    </a:lnTo>
                    <a:lnTo>
                      <a:pt x="680" y="233"/>
                    </a:lnTo>
                    <a:lnTo>
                      <a:pt x="694" y="277"/>
                    </a:lnTo>
                    <a:lnTo>
                      <a:pt x="700" y="300"/>
                    </a:lnTo>
                    <a:lnTo>
                      <a:pt x="703" y="323"/>
                    </a:lnTo>
                    <a:lnTo>
                      <a:pt x="705" y="346"/>
                    </a:lnTo>
                    <a:lnTo>
                      <a:pt x="705" y="369"/>
                    </a:lnTo>
                    <a:lnTo>
                      <a:pt x="704" y="403"/>
                    </a:lnTo>
                    <a:lnTo>
                      <a:pt x="700" y="436"/>
                    </a:lnTo>
                    <a:lnTo>
                      <a:pt x="693" y="469"/>
                    </a:lnTo>
                    <a:lnTo>
                      <a:pt x="683" y="500"/>
                    </a:lnTo>
                    <a:lnTo>
                      <a:pt x="671" y="531"/>
                    </a:lnTo>
                    <a:lnTo>
                      <a:pt x="657" y="558"/>
                    </a:lnTo>
                    <a:lnTo>
                      <a:pt x="639" y="585"/>
                    </a:lnTo>
                    <a:lnTo>
                      <a:pt x="621" y="611"/>
                    </a:lnTo>
                    <a:lnTo>
                      <a:pt x="599" y="634"/>
                    </a:lnTo>
                    <a:lnTo>
                      <a:pt x="576" y="655"/>
                    </a:lnTo>
                    <a:lnTo>
                      <a:pt x="550" y="673"/>
                    </a:lnTo>
                    <a:lnTo>
                      <a:pt x="523" y="691"/>
                    </a:lnTo>
                    <a:lnTo>
                      <a:pt x="493" y="704"/>
                    </a:lnTo>
                    <a:lnTo>
                      <a:pt x="463" y="716"/>
                    </a:lnTo>
                    <a:lnTo>
                      <a:pt x="430" y="725"/>
                    </a:lnTo>
                    <a:lnTo>
                      <a:pt x="396" y="730"/>
                    </a:lnTo>
                    <a:lnTo>
                      <a:pt x="803" y="1293"/>
                    </a:lnTo>
                    <a:close/>
                    <a:moveTo>
                      <a:pt x="161" y="612"/>
                    </a:moveTo>
                    <a:lnTo>
                      <a:pt x="213" y="612"/>
                    </a:lnTo>
                    <a:lnTo>
                      <a:pt x="274" y="611"/>
                    </a:lnTo>
                    <a:lnTo>
                      <a:pt x="335" y="604"/>
                    </a:lnTo>
                    <a:lnTo>
                      <a:pt x="365" y="599"/>
                    </a:lnTo>
                    <a:lnTo>
                      <a:pt x="393" y="591"/>
                    </a:lnTo>
                    <a:lnTo>
                      <a:pt x="420" y="582"/>
                    </a:lnTo>
                    <a:lnTo>
                      <a:pt x="445" y="571"/>
                    </a:lnTo>
                    <a:lnTo>
                      <a:pt x="469" y="557"/>
                    </a:lnTo>
                    <a:lnTo>
                      <a:pt x="490" y="540"/>
                    </a:lnTo>
                    <a:lnTo>
                      <a:pt x="509" y="522"/>
                    </a:lnTo>
                    <a:lnTo>
                      <a:pt x="524" y="499"/>
                    </a:lnTo>
                    <a:lnTo>
                      <a:pt x="537" y="473"/>
                    </a:lnTo>
                    <a:lnTo>
                      <a:pt x="547" y="445"/>
                    </a:lnTo>
                    <a:lnTo>
                      <a:pt x="553" y="412"/>
                    </a:lnTo>
                    <a:lnTo>
                      <a:pt x="555" y="376"/>
                    </a:lnTo>
                    <a:lnTo>
                      <a:pt x="553" y="339"/>
                    </a:lnTo>
                    <a:lnTo>
                      <a:pt x="546" y="308"/>
                    </a:lnTo>
                    <a:lnTo>
                      <a:pt x="536" y="279"/>
                    </a:lnTo>
                    <a:lnTo>
                      <a:pt x="523" y="254"/>
                    </a:lnTo>
                    <a:lnTo>
                      <a:pt x="505" y="232"/>
                    </a:lnTo>
                    <a:lnTo>
                      <a:pt x="486" y="213"/>
                    </a:lnTo>
                    <a:lnTo>
                      <a:pt x="464" y="198"/>
                    </a:lnTo>
                    <a:lnTo>
                      <a:pt x="440" y="184"/>
                    </a:lnTo>
                    <a:lnTo>
                      <a:pt x="413" y="173"/>
                    </a:lnTo>
                    <a:lnTo>
                      <a:pt x="385" y="164"/>
                    </a:lnTo>
                    <a:lnTo>
                      <a:pt x="356" y="157"/>
                    </a:lnTo>
                    <a:lnTo>
                      <a:pt x="325" y="152"/>
                    </a:lnTo>
                    <a:lnTo>
                      <a:pt x="296" y="148"/>
                    </a:lnTo>
                    <a:lnTo>
                      <a:pt x="265" y="146"/>
                    </a:lnTo>
                    <a:lnTo>
                      <a:pt x="204" y="144"/>
                    </a:lnTo>
                    <a:lnTo>
                      <a:pt x="161" y="144"/>
                    </a:lnTo>
                    <a:lnTo>
                      <a:pt x="161" y="6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502280" y="517680"/>
                <a:ext cx="196200" cy="250560"/>
              </a:xfrm>
              <a:custGeom>
                <a:avLst/>
                <a:gdLst/>
                <a:ahLst/>
                <a:rect l="l" t="t" r="r" b="b"/>
                <a:pathLst>
                  <a:path w="929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29" y="1293"/>
                    </a:lnTo>
                    <a:lnTo>
                      <a:pt x="712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999720" y="847800"/>
                <a:ext cx="54720" cy="133200"/>
              </a:xfrm>
              <a:custGeom>
                <a:avLst/>
                <a:gdLst/>
                <a:ahLst/>
                <a:rect l="l" t="t" r="r" b="b"/>
                <a:pathLst>
                  <a:path w="264" h="687">
                    <a:moveTo>
                      <a:pt x="169" y="687"/>
                    </a:moveTo>
                    <a:lnTo>
                      <a:pt x="74" y="687"/>
                    </a:lnTo>
                    <a:lnTo>
                      <a:pt x="74" y="279"/>
                    </a:lnTo>
                    <a:lnTo>
                      <a:pt x="0" y="279"/>
                    </a:lnTo>
                    <a:lnTo>
                      <a:pt x="0" y="190"/>
                    </a:lnTo>
                    <a:lnTo>
                      <a:pt x="74" y="190"/>
                    </a:lnTo>
                    <a:lnTo>
                      <a:pt x="74" y="0"/>
                    </a:lnTo>
                    <a:lnTo>
                      <a:pt x="169" y="0"/>
                    </a:lnTo>
                    <a:lnTo>
                      <a:pt x="169" y="190"/>
                    </a:lnTo>
                    <a:lnTo>
                      <a:pt x="264" y="190"/>
                    </a:lnTo>
                    <a:lnTo>
                      <a:pt x="264" y="279"/>
                    </a:lnTo>
                    <a:lnTo>
                      <a:pt x="169" y="279"/>
                    </a:lnTo>
                    <a:lnTo>
                      <a:pt x="169" y="6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058400" y="882720"/>
                <a:ext cx="9936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5" y="280"/>
                    </a:moveTo>
                    <a:lnTo>
                      <a:pt x="98" y="311"/>
                    </a:lnTo>
                    <a:lnTo>
                      <a:pt x="106" y="341"/>
                    </a:lnTo>
                    <a:lnTo>
                      <a:pt x="119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8" y="415"/>
                    </a:lnTo>
                    <a:lnTo>
                      <a:pt x="170" y="423"/>
                    </a:lnTo>
                    <a:lnTo>
                      <a:pt x="184" y="431"/>
                    </a:lnTo>
                    <a:lnTo>
                      <a:pt x="197" y="437"/>
                    </a:lnTo>
                    <a:lnTo>
                      <a:pt x="213" y="441"/>
                    </a:lnTo>
                    <a:lnTo>
                      <a:pt x="229" y="443"/>
                    </a:lnTo>
                    <a:lnTo>
                      <a:pt x="245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5" y="430"/>
                    </a:lnTo>
                    <a:lnTo>
                      <a:pt x="333" y="418"/>
                    </a:lnTo>
                    <a:lnTo>
                      <a:pt x="351" y="405"/>
                    </a:lnTo>
                    <a:lnTo>
                      <a:pt x="366" y="388"/>
                    </a:lnTo>
                    <a:lnTo>
                      <a:pt x="380" y="368"/>
                    </a:lnTo>
                    <a:lnTo>
                      <a:pt x="394" y="348"/>
                    </a:lnTo>
                    <a:lnTo>
                      <a:pt x="475" y="394"/>
                    </a:lnTo>
                    <a:lnTo>
                      <a:pt x="455" y="424"/>
                    </a:lnTo>
                    <a:lnTo>
                      <a:pt x="433" y="451"/>
                    </a:lnTo>
                    <a:lnTo>
                      <a:pt x="407" y="474"/>
                    </a:lnTo>
                    <a:lnTo>
                      <a:pt x="378" y="494"/>
                    </a:lnTo>
                    <a:lnTo>
                      <a:pt x="347" y="509"/>
                    </a:lnTo>
                    <a:lnTo>
                      <a:pt x="315" y="520"/>
                    </a:lnTo>
                    <a:lnTo>
                      <a:pt x="279" y="528"/>
                    </a:lnTo>
                    <a:lnTo>
                      <a:pt x="244" y="530"/>
                    </a:lnTo>
                    <a:lnTo>
                      <a:pt x="217" y="528"/>
                    </a:lnTo>
                    <a:lnTo>
                      <a:pt x="191" y="524"/>
                    </a:lnTo>
                    <a:lnTo>
                      <a:pt x="165" y="518"/>
                    </a:lnTo>
                    <a:lnTo>
                      <a:pt x="142" y="509"/>
                    </a:lnTo>
                    <a:lnTo>
                      <a:pt x="120" y="498"/>
                    </a:lnTo>
                    <a:lnTo>
                      <a:pt x="101" y="485"/>
                    </a:lnTo>
                    <a:lnTo>
                      <a:pt x="82" y="471"/>
                    </a:lnTo>
                    <a:lnTo>
                      <a:pt x="66" y="454"/>
                    </a:lnTo>
                    <a:lnTo>
                      <a:pt x="50" y="435"/>
                    </a:lnTo>
                    <a:lnTo>
                      <a:pt x="37" y="416"/>
                    </a:lnTo>
                    <a:lnTo>
                      <a:pt x="26" y="394"/>
                    </a:lnTo>
                    <a:lnTo>
                      <a:pt x="16" y="371"/>
                    </a:lnTo>
                    <a:lnTo>
                      <a:pt x="10" y="346"/>
                    </a:lnTo>
                    <a:lnTo>
                      <a:pt x="4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4" y="213"/>
                    </a:lnTo>
                    <a:lnTo>
                      <a:pt x="9" y="186"/>
                    </a:lnTo>
                    <a:lnTo>
                      <a:pt x="15" y="161"/>
                    </a:lnTo>
                    <a:lnTo>
                      <a:pt x="24" y="138"/>
                    </a:lnTo>
                    <a:lnTo>
                      <a:pt x="34" y="116"/>
                    </a:lnTo>
                    <a:lnTo>
                      <a:pt x="47" y="95"/>
                    </a:lnTo>
                    <a:lnTo>
                      <a:pt x="61" y="76"/>
                    </a:lnTo>
                    <a:lnTo>
                      <a:pt x="77" y="60"/>
                    </a:lnTo>
                    <a:lnTo>
                      <a:pt x="95" y="45"/>
                    </a:lnTo>
                    <a:lnTo>
                      <a:pt x="115" y="31"/>
                    </a:lnTo>
                    <a:lnTo>
                      <a:pt x="137" y="20"/>
                    </a:lnTo>
                    <a:lnTo>
                      <a:pt x="160" y="12"/>
                    </a:lnTo>
                    <a:lnTo>
                      <a:pt x="185" y="5"/>
                    </a:lnTo>
                    <a:lnTo>
                      <a:pt x="213" y="2"/>
                    </a:lnTo>
                    <a:lnTo>
                      <a:pt x="242" y="0"/>
                    </a:lnTo>
                    <a:lnTo>
                      <a:pt x="271" y="2"/>
                    </a:lnTo>
                    <a:lnTo>
                      <a:pt x="297" y="5"/>
                    </a:lnTo>
                    <a:lnTo>
                      <a:pt x="322" y="12"/>
                    </a:lnTo>
                    <a:lnTo>
                      <a:pt x="345" y="20"/>
                    </a:lnTo>
                    <a:lnTo>
                      <a:pt x="366" y="31"/>
                    </a:lnTo>
                    <a:lnTo>
                      <a:pt x="385" y="45"/>
                    </a:lnTo>
                    <a:lnTo>
                      <a:pt x="402" y="60"/>
                    </a:lnTo>
                    <a:lnTo>
                      <a:pt x="418" y="76"/>
                    </a:lnTo>
                    <a:lnTo>
                      <a:pt x="431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0" y="161"/>
                    </a:lnTo>
                    <a:lnTo>
                      <a:pt x="467" y="185"/>
                    </a:lnTo>
                    <a:lnTo>
                      <a:pt x="471" y="210"/>
                    </a:lnTo>
                    <a:lnTo>
                      <a:pt x="474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5" y="280"/>
                    </a:lnTo>
                    <a:close/>
                    <a:moveTo>
                      <a:pt x="379" y="207"/>
                    </a:moveTo>
                    <a:lnTo>
                      <a:pt x="373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5" y="117"/>
                    </a:lnTo>
                    <a:lnTo>
                      <a:pt x="316" y="103"/>
                    </a:lnTo>
                    <a:lnTo>
                      <a:pt x="294" y="92"/>
                    </a:lnTo>
                    <a:lnTo>
                      <a:pt x="270" y="85"/>
                    </a:lnTo>
                    <a:lnTo>
                      <a:pt x="242" y="83"/>
                    </a:lnTo>
                    <a:lnTo>
                      <a:pt x="215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1" y="137"/>
                    </a:lnTo>
                    <a:lnTo>
                      <a:pt x="117" y="158"/>
                    </a:lnTo>
                    <a:lnTo>
                      <a:pt x="107" y="182"/>
                    </a:lnTo>
                    <a:lnTo>
                      <a:pt x="101" y="207"/>
                    </a:lnTo>
                    <a:lnTo>
                      <a:pt x="379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177200" y="846000"/>
                <a:ext cx="2052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211400" y="882720"/>
                <a:ext cx="9972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7" y="280"/>
                    </a:moveTo>
                    <a:lnTo>
                      <a:pt x="99" y="311"/>
                    </a:lnTo>
                    <a:lnTo>
                      <a:pt x="108" y="341"/>
                    </a:lnTo>
                    <a:lnTo>
                      <a:pt x="120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9" y="415"/>
                    </a:lnTo>
                    <a:lnTo>
                      <a:pt x="171" y="423"/>
                    </a:lnTo>
                    <a:lnTo>
                      <a:pt x="185" y="431"/>
                    </a:lnTo>
                    <a:lnTo>
                      <a:pt x="199" y="437"/>
                    </a:lnTo>
                    <a:lnTo>
                      <a:pt x="213" y="441"/>
                    </a:lnTo>
                    <a:lnTo>
                      <a:pt x="230" y="443"/>
                    </a:lnTo>
                    <a:lnTo>
                      <a:pt x="246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6" y="430"/>
                    </a:lnTo>
                    <a:lnTo>
                      <a:pt x="335" y="418"/>
                    </a:lnTo>
                    <a:lnTo>
                      <a:pt x="351" y="405"/>
                    </a:lnTo>
                    <a:lnTo>
                      <a:pt x="367" y="388"/>
                    </a:lnTo>
                    <a:lnTo>
                      <a:pt x="381" y="368"/>
                    </a:lnTo>
                    <a:lnTo>
                      <a:pt x="395" y="348"/>
                    </a:lnTo>
                    <a:lnTo>
                      <a:pt x="475" y="394"/>
                    </a:lnTo>
                    <a:lnTo>
                      <a:pt x="457" y="424"/>
                    </a:lnTo>
                    <a:lnTo>
                      <a:pt x="434" y="451"/>
                    </a:lnTo>
                    <a:lnTo>
                      <a:pt x="407" y="474"/>
                    </a:lnTo>
                    <a:lnTo>
                      <a:pt x="379" y="494"/>
                    </a:lnTo>
                    <a:lnTo>
                      <a:pt x="348" y="509"/>
                    </a:lnTo>
                    <a:lnTo>
                      <a:pt x="315" y="520"/>
                    </a:lnTo>
                    <a:lnTo>
                      <a:pt x="281" y="528"/>
                    </a:lnTo>
                    <a:lnTo>
                      <a:pt x="245" y="530"/>
                    </a:lnTo>
                    <a:lnTo>
                      <a:pt x="218" y="528"/>
                    </a:lnTo>
                    <a:lnTo>
                      <a:pt x="191" y="524"/>
                    </a:lnTo>
                    <a:lnTo>
                      <a:pt x="166" y="518"/>
                    </a:lnTo>
                    <a:lnTo>
                      <a:pt x="143" y="509"/>
                    </a:lnTo>
                    <a:lnTo>
                      <a:pt x="121" y="498"/>
                    </a:lnTo>
                    <a:lnTo>
                      <a:pt x="101" y="485"/>
                    </a:lnTo>
                    <a:lnTo>
                      <a:pt x="83" y="471"/>
                    </a:lnTo>
                    <a:lnTo>
                      <a:pt x="66" y="454"/>
                    </a:lnTo>
                    <a:lnTo>
                      <a:pt x="51" y="435"/>
                    </a:lnTo>
                    <a:lnTo>
                      <a:pt x="38" y="416"/>
                    </a:lnTo>
                    <a:lnTo>
                      <a:pt x="27" y="394"/>
                    </a:lnTo>
                    <a:lnTo>
                      <a:pt x="18" y="371"/>
                    </a:lnTo>
                    <a:lnTo>
                      <a:pt x="10" y="346"/>
                    </a:lnTo>
                    <a:lnTo>
                      <a:pt x="5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5" y="213"/>
                    </a:lnTo>
                    <a:lnTo>
                      <a:pt x="9" y="186"/>
                    </a:lnTo>
                    <a:lnTo>
                      <a:pt x="16" y="161"/>
                    </a:lnTo>
                    <a:lnTo>
                      <a:pt x="24" y="138"/>
                    </a:lnTo>
                    <a:lnTo>
                      <a:pt x="35" y="116"/>
                    </a:lnTo>
                    <a:lnTo>
                      <a:pt x="48" y="95"/>
                    </a:lnTo>
                    <a:lnTo>
                      <a:pt x="62" y="76"/>
                    </a:lnTo>
                    <a:lnTo>
                      <a:pt x="78" y="60"/>
                    </a:lnTo>
                    <a:lnTo>
                      <a:pt x="96" y="45"/>
                    </a:lnTo>
                    <a:lnTo>
                      <a:pt x="116" y="31"/>
                    </a:lnTo>
                    <a:lnTo>
                      <a:pt x="137" y="20"/>
                    </a:lnTo>
                    <a:lnTo>
                      <a:pt x="162" y="12"/>
                    </a:lnTo>
                    <a:lnTo>
                      <a:pt x="187" y="5"/>
                    </a:lnTo>
                    <a:lnTo>
                      <a:pt x="214" y="2"/>
                    </a:lnTo>
                    <a:lnTo>
                      <a:pt x="243" y="0"/>
                    </a:lnTo>
                    <a:lnTo>
                      <a:pt x="271" y="2"/>
                    </a:lnTo>
                    <a:lnTo>
                      <a:pt x="299" y="5"/>
                    </a:lnTo>
                    <a:lnTo>
                      <a:pt x="323" y="12"/>
                    </a:lnTo>
                    <a:lnTo>
                      <a:pt x="346" y="20"/>
                    </a:lnTo>
                    <a:lnTo>
                      <a:pt x="367" y="31"/>
                    </a:lnTo>
                    <a:lnTo>
                      <a:pt x="386" y="45"/>
                    </a:lnTo>
                    <a:lnTo>
                      <a:pt x="403" y="60"/>
                    </a:lnTo>
                    <a:lnTo>
                      <a:pt x="418" y="76"/>
                    </a:lnTo>
                    <a:lnTo>
                      <a:pt x="432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1" y="161"/>
                    </a:lnTo>
                    <a:lnTo>
                      <a:pt x="468" y="185"/>
                    </a:lnTo>
                    <a:lnTo>
                      <a:pt x="472" y="210"/>
                    </a:lnTo>
                    <a:lnTo>
                      <a:pt x="475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7" y="280"/>
                    </a:lnTo>
                    <a:close/>
                    <a:moveTo>
                      <a:pt x="380" y="207"/>
                    </a:moveTo>
                    <a:lnTo>
                      <a:pt x="374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6" y="117"/>
                    </a:lnTo>
                    <a:lnTo>
                      <a:pt x="317" y="103"/>
                    </a:lnTo>
                    <a:lnTo>
                      <a:pt x="295" y="92"/>
                    </a:lnTo>
                    <a:lnTo>
                      <a:pt x="270" y="85"/>
                    </a:lnTo>
                    <a:lnTo>
                      <a:pt x="243" y="83"/>
                    </a:lnTo>
                    <a:lnTo>
                      <a:pt x="216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2" y="137"/>
                    </a:lnTo>
                    <a:lnTo>
                      <a:pt x="119" y="158"/>
                    </a:lnTo>
                    <a:lnTo>
                      <a:pt x="108" y="182"/>
                    </a:lnTo>
                    <a:lnTo>
                      <a:pt x="101" y="207"/>
                    </a:lnTo>
                    <a:lnTo>
                      <a:pt x="380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326960" y="882720"/>
                <a:ext cx="84240" cy="101520"/>
              </a:xfrm>
              <a:custGeom>
                <a:avLst/>
                <a:gdLst/>
                <a:ahLst/>
                <a:rect l="l" t="t" r="r" b="b"/>
                <a:pathLst>
                  <a:path w="404" h="530">
                    <a:moveTo>
                      <a:pt x="404" y="157"/>
                    </a:moveTo>
                    <a:lnTo>
                      <a:pt x="389" y="141"/>
                    </a:lnTo>
                    <a:lnTo>
                      <a:pt x="373" y="127"/>
                    </a:lnTo>
                    <a:lnTo>
                      <a:pt x="358" y="116"/>
                    </a:lnTo>
                    <a:lnTo>
                      <a:pt x="340" y="106"/>
                    </a:lnTo>
                    <a:lnTo>
                      <a:pt x="321" y="99"/>
                    </a:lnTo>
                    <a:lnTo>
                      <a:pt x="303" y="94"/>
                    </a:lnTo>
                    <a:lnTo>
                      <a:pt x="283" y="91"/>
                    </a:lnTo>
                    <a:lnTo>
                      <a:pt x="261" y="90"/>
                    </a:lnTo>
                    <a:lnTo>
                      <a:pt x="245" y="91"/>
                    </a:lnTo>
                    <a:lnTo>
                      <a:pt x="227" y="93"/>
                    </a:lnTo>
                    <a:lnTo>
                      <a:pt x="212" y="97"/>
                    </a:lnTo>
                    <a:lnTo>
                      <a:pt x="196" y="104"/>
                    </a:lnTo>
                    <a:lnTo>
                      <a:pt x="182" y="112"/>
                    </a:lnTo>
                    <a:lnTo>
                      <a:pt x="168" y="120"/>
                    </a:lnTo>
                    <a:lnTo>
                      <a:pt x="156" y="130"/>
                    </a:lnTo>
                    <a:lnTo>
                      <a:pt x="144" y="142"/>
                    </a:lnTo>
                    <a:lnTo>
                      <a:pt x="133" y="154"/>
                    </a:lnTo>
                    <a:lnTo>
                      <a:pt x="124" y="169"/>
                    </a:lnTo>
                    <a:lnTo>
                      <a:pt x="115" y="183"/>
                    </a:lnTo>
                    <a:lnTo>
                      <a:pt x="109" y="198"/>
                    </a:lnTo>
                    <a:lnTo>
                      <a:pt x="103" y="214"/>
                    </a:lnTo>
                    <a:lnTo>
                      <a:pt x="99" y="230"/>
                    </a:lnTo>
                    <a:lnTo>
                      <a:pt x="97" y="247"/>
                    </a:lnTo>
                    <a:lnTo>
                      <a:pt x="96" y="264"/>
                    </a:lnTo>
                    <a:lnTo>
                      <a:pt x="97" y="283"/>
                    </a:lnTo>
                    <a:lnTo>
                      <a:pt x="99" y="300"/>
                    </a:lnTo>
                    <a:lnTo>
                      <a:pt x="103" y="318"/>
                    </a:lnTo>
                    <a:lnTo>
                      <a:pt x="109" y="334"/>
                    </a:lnTo>
                    <a:lnTo>
                      <a:pt x="115" y="350"/>
                    </a:lnTo>
                    <a:lnTo>
                      <a:pt x="124" y="364"/>
                    </a:lnTo>
                    <a:lnTo>
                      <a:pt x="133" y="378"/>
                    </a:lnTo>
                    <a:lnTo>
                      <a:pt x="144" y="390"/>
                    </a:lnTo>
                    <a:lnTo>
                      <a:pt x="156" y="401"/>
                    </a:lnTo>
                    <a:lnTo>
                      <a:pt x="169" y="411"/>
                    </a:lnTo>
                    <a:lnTo>
                      <a:pt x="183" y="420"/>
                    </a:lnTo>
                    <a:lnTo>
                      <a:pt x="199" y="427"/>
                    </a:lnTo>
                    <a:lnTo>
                      <a:pt x="215" y="432"/>
                    </a:lnTo>
                    <a:lnTo>
                      <a:pt x="232" y="437"/>
                    </a:lnTo>
                    <a:lnTo>
                      <a:pt x="249" y="439"/>
                    </a:lnTo>
                    <a:lnTo>
                      <a:pt x="268" y="440"/>
                    </a:lnTo>
                    <a:lnTo>
                      <a:pt x="289" y="439"/>
                    </a:lnTo>
                    <a:lnTo>
                      <a:pt x="307" y="435"/>
                    </a:lnTo>
                    <a:lnTo>
                      <a:pt x="326" y="430"/>
                    </a:lnTo>
                    <a:lnTo>
                      <a:pt x="343" y="422"/>
                    </a:lnTo>
                    <a:lnTo>
                      <a:pt x="360" y="412"/>
                    </a:lnTo>
                    <a:lnTo>
                      <a:pt x="375" y="401"/>
                    </a:lnTo>
                    <a:lnTo>
                      <a:pt x="389" y="388"/>
                    </a:lnTo>
                    <a:lnTo>
                      <a:pt x="404" y="374"/>
                    </a:lnTo>
                    <a:lnTo>
                      <a:pt x="404" y="497"/>
                    </a:lnTo>
                    <a:lnTo>
                      <a:pt x="371" y="511"/>
                    </a:lnTo>
                    <a:lnTo>
                      <a:pt x="338" y="522"/>
                    </a:lnTo>
                    <a:lnTo>
                      <a:pt x="303" y="528"/>
                    </a:lnTo>
                    <a:lnTo>
                      <a:pt x="267" y="530"/>
                    </a:lnTo>
                    <a:lnTo>
                      <a:pt x="239" y="528"/>
                    </a:lnTo>
                    <a:lnTo>
                      <a:pt x="213" y="524"/>
                    </a:lnTo>
                    <a:lnTo>
                      <a:pt x="188" y="518"/>
                    </a:lnTo>
                    <a:lnTo>
                      <a:pt x="164" y="509"/>
                    </a:lnTo>
                    <a:lnTo>
                      <a:pt x="140" y="499"/>
                    </a:lnTo>
                    <a:lnTo>
                      <a:pt x="119" y="486"/>
                    </a:lnTo>
                    <a:lnTo>
                      <a:pt x="98" y="472"/>
                    </a:lnTo>
                    <a:lnTo>
                      <a:pt x="79" y="454"/>
                    </a:lnTo>
                    <a:lnTo>
                      <a:pt x="62" y="437"/>
                    </a:lnTo>
                    <a:lnTo>
                      <a:pt x="46" y="416"/>
                    </a:lnTo>
                    <a:lnTo>
                      <a:pt x="33" y="395"/>
                    </a:lnTo>
                    <a:lnTo>
                      <a:pt x="21" y="372"/>
                    </a:lnTo>
                    <a:lnTo>
                      <a:pt x="12" y="348"/>
                    </a:lnTo>
                    <a:lnTo>
                      <a:pt x="6" y="322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6" y="213"/>
                    </a:lnTo>
                    <a:lnTo>
                      <a:pt x="12" y="186"/>
                    </a:lnTo>
                    <a:lnTo>
                      <a:pt x="21" y="161"/>
                    </a:lnTo>
                    <a:lnTo>
                      <a:pt x="33" y="138"/>
                    </a:lnTo>
                    <a:lnTo>
                      <a:pt x="46" y="115"/>
                    </a:lnTo>
                    <a:lnTo>
                      <a:pt x="62" y="95"/>
                    </a:lnTo>
                    <a:lnTo>
                      <a:pt x="79" y="76"/>
                    </a:lnTo>
                    <a:lnTo>
                      <a:pt x="98" y="59"/>
                    </a:lnTo>
                    <a:lnTo>
                      <a:pt x="119" y="45"/>
                    </a:lnTo>
                    <a:lnTo>
                      <a:pt x="142" y="31"/>
                    </a:lnTo>
                    <a:lnTo>
                      <a:pt x="165" y="20"/>
                    </a:lnTo>
                    <a:lnTo>
                      <a:pt x="190" y="12"/>
                    </a:lnTo>
                    <a:lnTo>
                      <a:pt x="216" y="5"/>
                    </a:lnTo>
                    <a:lnTo>
                      <a:pt x="244" y="2"/>
                    </a:lnTo>
                    <a:lnTo>
                      <a:pt x="272" y="0"/>
                    </a:lnTo>
                    <a:lnTo>
                      <a:pt x="306" y="2"/>
                    </a:lnTo>
                    <a:lnTo>
                      <a:pt x="340" y="8"/>
                    </a:lnTo>
                    <a:lnTo>
                      <a:pt x="373" y="18"/>
                    </a:lnTo>
                    <a:lnTo>
                      <a:pt x="404" y="32"/>
                    </a:lnTo>
                    <a:lnTo>
                      <a:pt x="404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423440" y="882720"/>
                <a:ext cx="111600" cy="101520"/>
              </a:xfrm>
              <a:custGeom>
                <a:avLst/>
                <a:gdLst/>
                <a:ahLst/>
                <a:rect l="l" t="t" r="r" b="b"/>
                <a:pathLst>
                  <a:path w="532" h="530">
                    <a:moveTo>
                      <a:pt x="532" y="264"/>
                    </a:moveTo>
                    <a:lnTo>
                      <a:pt x="530" y="293"/>
                    </a:lnTo>
                    <a:lnTo>
                      <a:pt x="527" y="319"/>
                    </a:lnTo>
                    <a:lnTo>
                      <a:pt x="520" y="344"/>
                    </a:lnTo>
                    <a:lnTo>
                      <a:pt x="511" y="370"/>
                    </a:lnTo>
                    <a:lnTo>
                      <a:pt x="501" y="393"/>
                    </a:lnTo>
                    <a:lnTo>
                      <a:pt x="487" y="415"/>
                    </a:lnTo>
                    <a:lnTo>
                      <a:pt x="472" y="434"/>
                    </a:lnTo>
                    <a:lnTo>
                      <a:pt x="454" y="453"/>
                    </a:lnTo>
                    <a:lnTo>
                      <a:pt x="436" y="471"/>
                    </a:lnTo>
                    <a:lnTo>
                      <a:pt x="416" y="485"/>
                    </a:lnTo>
                    <a:lnTo>
                      <a:pt x="394" y="498"/>
                    </a:lnTo>
                    <a:lnTo>
                      <a:pt x="370" y="509"/>
                    </a:lnTo>
                    <a:lnTo>
                      <a:pt x="346" y="518"/>
                    </a:lnTo>
                    <a:lnTo>
                      <a:pt x="321" y="524"/>
                    </a:lnTo>
                    <a:lnTo>
                      <a:pt x="293" y="528"/>
                    </a:lnTo>
                    <a:lnTo>
                      <a:pt x="266" y="530"/>
                    </a:lnTo>
                    <a:lnTo>
                      <a:pt x="238" y="528"/>
                    </a:lnTo>
                    <a:lnTo>
                      <a:pt x="212" y="524"/>
                    </a:lnTo>
                    <a:lnTo>
                      <a:pt x="187" y="518"/>
                    </a:lnTo>
                    <a:lnTo>
                      <a:pt x="162" y="509"/>
                    </a:lnTo>
                    <a:lnTo>
                      <a:pt x="139" y="498"/>
                    </a:lnTo>
                    <a:lnTo>
                      <a:pt x="117" y="485"/>
                    </a:lnTo>
                    <a:lnTo>
                      <a:pt x="97" y="471"/>
                    </a:lnTo>
                    <a:lnTo>
                      <a:pt x="78" y="453"/>
                    </a:lnTo>
                    <a:lnTo>
                      <a:pt x="61" y="434"/>
                    </a:lnTo>
                    <a:lnTo>
                      <a:pt x="45" y="415"/>
                    </a:lnTo>
                    <a:lnTo>
                      <a:pt x="32" y="393"/>
                    </a:lnTo>
                    <a:lnTo>
                      <a:pt x="21" y="370"/>
                    </a:lnTo>
                    <a:lnTo>
                      <a:pt x="12" y="344"/>
                    </a:lnTo>
                    <a:lnTo>
                      <a:pt x="6" y="319"/>
                    </a:lnTo>
                    <a:lnTo>
                      <a:pt x="3" y="293"/>
                    </a:lnTo>
                    <a:lnTo>
                      <a:pt x="0" y="264"/>
                    </a:lnTo>
                    <a:lnTo>
                      <a:pt x="3" y="237"/>
                    </a:lnTo>
                    <a:lnTo>
                      <a:pt x="6" y="210"/>
                    </a:lnTo>
                    <a:lnTo>
                      <a:pt x="12" y="185"/>
                    </a:lnTo>
                    <a:lnTo>
                      <a:pt x="21" y="160"/>
                    </a:lnTo>
                    <a:lnTo>
                      <a:pt x="32" y="137"/>
                    </a:lnTo>
                    <a:lnTo>
                      <a:pt x="45" y="115"/>
                    </a:lnTo>
                    <a:lnTo>
                      <a:pt x="61" y="95"/>
                    </a:lnTo>
                    <a:lnTo>
                      <a:pt x="78" y="76"/>
                    </a:lnTo>
                    <a:lnTo>
                      <a:pt x="97" y="59"/>
                    </a:lnTo>
                    <a:lnTo>
                      <a:pt x="117" y="45"/>
                    </a:lnTo>
                    <a:lnTo>
                      <a:pt x="139" y="31"/>
                    </a:lnTo>
                    <a:lnTo>
                      <a:pt x="162" y="20"/>
                    </a:lnTo>
                    <a:lnTo>
                      <a:pt x="187" y="12"/>
                    </a:lnTo>
                    <a:lnTo>
                      <a:pt x="212" y="5"/>
                    </a:lnTo>
                    <a:lnTo>
                      <a:pt x="238" y="2"/>
                    </a:lnTo>
                    <a:lnTo>
                      <a:pt x="266" y="0"/>
                    </a:lnTo>
                    <a:lnTo>
                      <a:pt x="293" y="2"/>
                    </a:lnTo>
                    <a:lnTo>
                      <a:pt x="321" y="5"/>
                    </a:lnTo>
                    <a:lnTo>
                      <a:pt x="346" y="12"/>
                    </a:lnTo>
                    <a:lnTo>
                      <a:pt x="370" y="20"/>
                    </a:lnTo>
                    <a:lnTo>
                      <a:pt x="394" y="31"/>
                    </a:lnTo>
                    <a:lnTo>
                      <a:pt x="416" y="45"/>
                    </a:lnTo>
                    <a:lnTo>
                      <a:pt x="436" y="59"/>
                    </a:lnTo>
                    <a:lnTo>
                      <a:pt x="454" y="76"/>
                    </a:lnTo>
                    <a:lnTo>
                      <a:pt x="472" y="95"/>
                    </a:lnTo>
                    <a:lnTo>
                      <a:pt x="487" y="115"/>
                    </a:lnTo>
                    <a:lnTo>
                      <a:pt x="501" y="137"/>
                    </a:lnTo>
                    <a:lnTo>
                      <a:pt x="511" y="160"/>
                    </a:lnTo>
                    <a:lnTo>
                      <a:pt x="520" y="185"/>
                    </a:lnTo>
                    <a:lnTo>
                      <a:pt x="527" y="210"/>
                    </a:lnTo>
                    <a:lnTo>
                      <a:pt x="530" y="237"/>
                    </a:lnTo>
                    <a:lnTo>
                      <a:pt x="532" y="264"/>
                    </a:lnTo>
                    <a:close/>
                    <a:moveTo>
                      <a:pt x="96" y="264"/>
                    </a:moveTo>
                    <a:lnTo>
                      <a:pt x="97" y="282"/>
                    </a:lnTo>
                    <a:lnTo>
                      <a:pt x="100" y="299"/>
                    </a:lnTo>
                    <a:lnTo>
                      <a:pt x="103" y="316"/>
                    </a:lnTo>
                    <a:lnTo>
                      <a:pt x="110" y="331"/>
                    </a:lnTo>
                    <a:lnTo>
                      <a:pt x="117" y="346"/>
                    </a:lnTo>
                    <a:lnTo>
                      <a:pt x="125" y="361"/>
                    </a:lnTo>
                    <a:lnTo>
                      <a:pt x="135" y="374"/>
                    </a:lnTo>
                    <a:lnTo>
                      <a:pt x="146" y="386"/>
                    </a:lnTo>
                    <a:lnTo>
                      <a:pt x="158" y="398"/>
                    </a:lnTo>
                    <a:lnTo>
                      <a:pt x="171" y="408"/>
                    </a:lnTo>
                    <a:lnTo>
                      <a:pt x="185" y="417"/>
                    </a:lnTo>
                    <a:lnTo>
                      <a:pt x="200" y="424"/>
                    </a:lnTo>
                    <a:lnTo>
                      <a:pt x="215" y="430"/>
                    </a:lnTo>
                    <a:lnTo>
                      <a:pt x="232" y="434"/>
                    </a:lnTo>
                    <a:lnTo>
                      <a:pt x="248" y="437"/>
                    </a:lnTo>
                    <a:lnTo>
                      <a:pt x="266" y="438"/>
                    </a:lnTo>
                    <a:lnTo>
                      <a:pt x="283" y="437"/>
                    </a:lnTo>
                    <a:lnTo>
                      <a:pt x="301" y="434"/>
                    </a:lnTo>
                    <a:lnTo>
                      <a:pt x="317" y="430"/>
                    </a:lnTo>
                    <a:lnTo>
                      <a:pt x="333" y="424"/>
                    </a:lnTo>
                    <a:lnTo>
                      <a:pt x="348" y="417"/>
                    </a:lnTo>
                    <a:lnTo>
                      <a:pt x="361" y="408"/>
                    </a:lnTo>
                    <a:lnTo>
                      <a:pt x="374" y="398"/>
                    </a:lnTo>
                    <a:lnTo>
                      <a:pt x="386" y="386"/>
                    </a:lnTo>
                    <a:lnTo>
                      <a:pt x="397" y="374"/>
                    </a:lnTo>
                    <a:lnTo>
                      <a:pt x="407" y="361"/>
                    </a:lnTo>
                    <a:lnTo>
                      <a:pt x="416" y="346"/>
                    </a:lnTo>
                    <a:lnTo>
                      <a:pt x="423" y="331"/>
                    </a:lnTo>
                    <a:lnTo>
                      <a:pt x="428" y="316"/>
                    </a:lnTo>
                    <a:lnTo>
                      <a:pt x="433" y="299"/>
                    </a:lnTo>
                    <a:lnTo>
                      <a:pt x="436" y="282"/>
                    </a:lnTo>
                    <a:lnTo>
                      <a:pt x="436" y="264"/>
                    </a:lnTo>
                    <a:lnTo>
                      <a:pt x="436" y="248"/>
                    </a:lnTo>
                    <a:lnTo>
                      <a:pt x="433" y="230"/>
                    </a:lnTo>
                    <a:lnTo>
                      <a:pt x="428" y="214"/>
                    </a:lnTo>
                    <a:lnTo>
                      <a:pt x="423" y="197"/>
                    </a:lnTo>
                    <a:lnTo>
                      <a:pt x="416" y="183"/>
                    </a:lnTo>
                    <a:lnTo>
                      <a:pt x="407" y="169"/>
                    </a:lnTo>
                    <a:lnTo>
                      <a:pt x="397" y="154"/>
                    </a:lnTo>
                    <a:lnTo>
                      <a:pt x="386" y="142"/>
                    </a:lnTo>
                    <a:lnTo>
                      <a:pt x="374" y="131"/>
                    </a:lnTo>
                    <a:lnTo>
                      <a:pt x="361" y="121"/>
                    </a:lnTo>
                    <a:lnTo>
                      <a:pt x="348" y="113"/>
                    </a:lnTo>
                    <a:lnTo>
                      <a:pt x="333" y="105"/>
                    </a:lnTo>
                    <a:lnTo>
                      <a:pt x="317" y="99"/>
                    </a:lnTo>
                    <a:lnTo>
                      <a:pt x="301" y="95"/>
                    </a:lnTo>
                    <a:lnTo>
                      <a:pt x="283" y="92"/>
                    </a:lnTo>
                    <a:lnTo>
                      <a:pt x="266" y="92"/>
                    </a:lnTo>
                    <a:lnTo>
                      <a:pt x="248" y="92"/>
                    </a:lnTo>
                    <a:lnTo>
                      <a:pt x="232" y="95"/>
                    </a:lnTo>
                    <a:lnTo>
                      <a:pt x="215" y="99"/>
                    </a:lnTo>
                    <a:lnTo>
                      <a:pt x="200" y="105"/>
                    </a:lnTo>
                    <a:lnTo>
                      <a:pt x="185" y="113"/>
                    </a:lnTo>
                    <a:lnTo>
                      <a:pt x="171" y="121"/>
                    </a:lnTo>
                    <a:lnTo>
                      <a:pt x="158" y="131"/>
                    </a:lnTo>
                    <a:lnTo>
                      <a:pt x="146" y="142"/>
                    </a:lnTo>
                    <a:lnTo>
                      <a:pt x="135" y="154"/>
                    </a:lnTo>
                    <a:lnTo>
                      <a:pt x="125" y="169"/>
                    </a:lnTo>
                    <a:lnTo>
                      <a:pt x="117" y="183"/>
                    </a:lnTo>
                    <a:lnTo>
                      <a:pt x="110" y="197"/>
                    </a:lnTo>
                    <a:lnTo>
                      <a:pt x="103" y="214"/>
                    </a:lnTo>
                    <a:lnTo>
                      <a:pt x="100" y="230"/>
                    </a:lnTo>
                    <a:lnTo>
                      <a:pt x="97" y="248"/>
                    </a:lnTo>
                    <a:lnTo>
                      <a:pt x="96" y="2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549440" y="882720"/>
                <a:ext cx="144360" cy="98280"/>
              </a:xfrm>
              <a:custGeom>
                <a:avLst/>
                <a:gdLst/>
                <a:ahLst/>
                <a:rect l="l" t="t" r="r" b="b"/>
                <a:pathLst>
                  <a:path w="690" h="512">
                    <a:moveTo>
                      <a:pt x="96" y="77"/>
                    </a:moveTo>
                    <a:lnTo>
                      <a:pt x="98" y="77"/>
                    </a:lnTo>
                    <a:lnTo>
                      <a:pt x="109" y="62"/>
                    </a:lnTo>
                    <a:lnTo>
                      <a:pt x="122" y="47"/>
                    </a:lnTo>
                    <a:lnTo>
                      <a:pt x="137" y="34"/>
                    </a:lnTo>
                    <a:lnTo>
                      <a:pt x="154" y="23"/>
                    </a:lnTo>
                    <a:lnTo>
                      <a:pt x="171" y="13"/>
                    </a:lnTo>
                    <a:lnTo>
                      <a:pt x="190" y="6"/>
                    </a:lnTo>
                    <a:lnTo>
                      <a:pt x="210" y="2"/>
                    </a:lnTo>
                    <a:lnTo>
                      <a:pt x="229" y="0"/>
                    </a:lnTo>
                    <a:lnTo>
                      <a:pt x="253" y="2"/>
                    </a:lnTo>
                    <a:lnTo>
                      <a:pt x="274" y="6"/>
                    </a:lnTo>
                    <a:lnTo>
                      <a:pt x="295" y="13"/>
                    </a:lnTo>
                    <a:lnTo>
                      <a:pt x="314" y="24"/>
                    </a:lnTo>
                    <a:lnTo>
                      <a:pt x="330" y="36"/>
                    </a:lnTo>
                    <a:lnTo>
                      <a:pt x="346" y="51"/>
                    </a:lnTo>
                    <a:lnTo>
                      <a:pt x="360" y="69"/>
                    </a:lnTo>
                    <a:lnTo>
                      <a:pt x="373" y="88"/>
                    </a:lnTo>
                    <a:lnTo>
                      <a:pt x="385" y="69"/>
                    </a:lnTo>
                    <a:lnTo>
                      <a:pt x="401" y="52"/>
                    </a:lnTo>
                    <a:lnTo>
                      <a:pt x="418" y="37"/>
                    </a:lnTo>
                    <a:lnTo>
                      <a:pt x="438" y="24"/>
                    </a:lnTo>
                    <a:lnTo>
                      <a:pt x="458" y="14"/>
                    </a:lnTo>
                    <a:lnTo>
                      <a:pt x="480" y="6"/>
                    </a:lnTo>
                    <a:lnTo>
                      <a:pt x="503" y="2"/>
                    </a:lnTo>
                    <a:lnTo>
                      <a:pt x="526" y="0"/>
                    </a:lnTo>
                    <a:lnTo>
                      <a:pt x="550" y="1"/>
                    </a:lnTo>
                    <a:lnTo>
                      <a:pt x="571" y="5"/>
                    </a:lnTo>
                    <a:lnTo>
                      <a:pt x="589" y="11"/>
                    </a:lnTo>
                    <a:lnTo>
                      <a:pt x="607" y="17"/>
                    </a:lnTo>
                    <a:lnTo>
                      <a:pt x="622" y="27"/>
                    </a:lnTo>
                    <a:lnTo>
                      <a:pt x="635" y="38"/>
                    </a:lnTo>
                    <a:lnTo>
                      <a:pt x="647" y="51"/>
                    </a:lnTo>
                    <a:lnTo>
                      <a:pt x="657" y="65"/>
                    </a:lnTo>
                    <a:lnTo>
                      <a:pt x="666" y="81"/>
                    </a:lnTo>
                    <a:lnTo>
                      <a:pt x="673" y="97"/>
                    </a:lnTo>
                    <a:lnTo>
                      <a:pt x="678" y="115"/>
                    </a:lnTo>
                    <a:lnTo>
                      <a:pt x="684" y="133"/>
                    </a:lnTo>
                    <a:lnTo>
                      <a:pt x="689" y="173"/>
                    </a:lnTo>
                    <a:lnTo>
                      <a:pt x="690" y="215"/>
                    </a:lnTo>
                    <a:lnTo>
                      <a:pt x="690" y="512"/>
                    </a:lnTo>
                    <a:lnTo>
                      <a:pt x="595" y="512"/>
                    </a:lnTo>
                    <a:lnTo>
                      <a:pt x="595" y="230"/>
                    </a:lnTo>
                    <a:lnTo>
                      <a:pt x="595" y="206"/>
                    </a:lnTo>
                    <a:lnTo>
                      <a:pt x="593" y="181"/>
                    </a:lnTo>
                    <a:lnTo>
                      <a:pt x="588" y="157"/>
                    </a:lnTo>
                    <a:lnTo>
                      <a:pt x="580" y="133"/>
                    </a:lnTo>
                    <a:lnTo>
                      <a:pt x="568" y="114"/>
                    </a:lnTo>
                    <a:lnTo>
                      <a:pt x="561" y="106"/>
                    </a:lnTo>
                    <a:lnTo>
                      <a:pt x="552" y="98"/>
                    </a:lnTo>
                    <a:lnTo>
                      <a:pt x="542" y="93"/>
                    </a:lnTo>
                    <a:lnTo>
                      <a:pt x="531" y="88"/>
                    </a:lnTo>
                    <a:lnTo>
                      <a:pt x="517" y="86"/>
                    </a:lnTo>
                    <a:lnTo>
                      <a:pt x="503" y="85"/>
                    </a:lnTo>
                    <a:lnTo>
                      <a:pt x="484" y="86"/>
                    </a:lnTo>
                    <a:lnTo>
                      <a:pt x="469" y="90"/>
                    </a:lnTo>
                    <a:lnTo>
                      <a:pt x="454" y="95"/>
                    </a:lnTo>
                    <a:lnTo>
                      <a:pt x="442" y="103"/>
                    </a:lnTo>
                    <a:lnTo>
                      <a:pt x="432" y="112"/>
                    </a:lnTo>
                    <a:lnTo>
                      <a:pt x="423" y="123"/>
                    </a:lnTo>
                    <a:lnTo>
                      <a:pt x="416" y="135"/>
                    </a:lnTo>
                    <a:lnTo>
                      <a:pt x="409" y="148"/>
                    </a:lnTo>
                    <a:lnTo>
                      <a:pt x="401" y="176"/>
                    </a:lnTo>
                    <a:lnTo>
                      <a:pt x="396" y="207"/>
                    </a:lnTo>
                    <a:lnTo>
                      <a:pt x="394" y="238"/>
                    </a:lnTo>
                    <a:lnTo>
                      <a:pt x="393" y="267"/>
                    </a:lnTo>
                    <a:lnTo>
                      <a:pt x="393" y="512"/>
                    </a:lnTo>
                    <a:lnTo>
                      <a:pt x="297" y="512"/>
                    </a:lnTo>
                    <a:lnTo>
                      <a:pt x="297" y="249"/>
                    </a:lnTo>
                    <a:lnTo>
                      <a:pt x="297" y="224"/>
                    </a:lnTo>
                    <a:lnTo>
                      <a:pt x="295" y="196"/>
                    </a:lnTo>
                    <a:lnTo>
                      <a:pt x="292" y="169"/>
                    </a:lnTo>
                    <a:lnTo>
                      <a:pt x="285" y="142"/>
                    </a:lnTo>
                    <a:lnTo>
                      <a:pt x="280" y="130"/>
                    </a:lnTo>
                    <a:lnTo>
                      <a:pt x="273" y="119"/>
                    </a:lnTo>
                    <a:lnTo>
                      <a:pt x="267" y="110"/>
                    </a:lnTo>
                    <a:lnTo>
                      <a:pt x="258" y="102"/>
                    </a:lnTo>
                    <a:lnTo>
                      <a:pt x="247" y="95"/>
                    </a:lnTo>
                    <a:lnTo>
                      <a:pt x="235" y="90"/>
                    </a:lnTo>
                    <a:lnTo>
                      <a:pt x="222" y="86"/>
                    </a:lnTo>
                    <a:lnTo>
                      <a:pt x="206" y="85"/>
                    </a:lnTo>
                    <a:lnTo>
                      <a:pt x="188" y="86"/>
                    </a:lnTo>
                    <a:lnTo>
                      <a:pt x="172" y="90"/>
                    </a:lnTo>
                    <a:lnTo>
                      <a:pt x="158" y="95"/>
                    </a:lnTo>
                    <a:lnTo>
                      <a:pt x="146" y="103"/>
                    </a:lnTo>
                    <a:lnTo>
                      <a:pt x="135" y="112"/>
                    </a:lnTo>
                    <a:lnTo>
                      <a:pt x="126" y="123"/>
                    </a:lnTo>
                    <a:lnTo>
                      <a:pt x="119" y="135"/>
                    </a:lnTo>
                    <a:lnTo>
                      <a:pt x="113" y="148"/>
                    </a:lnTo>
                    <a:lnTo>
                      <a:pt x="103" y="176"/>
                    </a:lnTo>
                    <a:lnTo>
                      <a:pt x="99" y="207"/>
                    </a:lnTo>
                    <a:lnTo>
                      <a:pt x="97" y="238"/>
                    </a:lnTo>
                    <a:lnTo>
                      <a:pt x="96" y="267"/>
                    </a:lnTo>
                    <a:lnTo>
                      <a:pt x="96" y="512"/>
                    </a:lnTo>
                    <a:lnTo>
                      <a:pt x="0" y="512"/>
                    </a:lnTo>
                    <a:lnTo>
                      <a:pt x="0" y="15"/>
                    </a:lnTo>
                    <a:lnTo>
                      <a:pt x="96" y="15"/>
                    </a:lnTo>
                    <a:lnTo>
                      <a:pt x="96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908640" y="1022400"/>
                <a:ext cx="9082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a-DK" sz="600" spc="-1" strike="noStrike">
                    <a:solidFill>
                      <a:srgbClr val="ffffff"/>
                    </a:solidFill>
                    <a:latin typeface="Futura Bk BT"/>
                  </a:rPr>
                  <a:t>www.kirktelecom.dk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7" name=""/>
          <p:cNvSpPr/>
          <p:nvPr/>
        </p:nvSpPr>
        <p:spPr>
          <a:xfrm>
            <a:off x="2228760" y="0"/>
            <a:ext cx="76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CCFP Administration Program Ver.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2"/>
          <a:stretch/>
        </p:blipFill>
        <p:spPr>
          <a:xfrm>
            <a:off x="3200400" y="517680"/>
            <a:ext cx="5486400" cy="395280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3107520" y="4762440"/>
            <a:ext cx="20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нные о системе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E36D-A8CC-4456-B3E2-EAE19E6514CA}" type="slidenum">
              <a:t>22</a:t>
            </a:fld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889360" y="457200"/>
            <a:ext cx="6521400" cy="0"/>
          </a:xfrm>
          <a:prstGeom prst="line">
            <a:avLst/>
          </a:prstGeom>
          <a:ln cap="sq"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0" y="0"/>
            <a:ext cx="6129000" cy="6858000"/>
            <a:chOff x="0" y="0"/>
            <a:chExt cx="6129000" cy="6858000"/>
          </a:xfrm>
        </p:grpSpPr>
        <p:sp>
          <p:nvSpPr>
            <p:cNvPr id="782" name=""/>
            <p:cNvSpPr/>
            <p:nvPr/>
          </p:nvSpPr>
          <p:spPr>
            <a:xfrm>
              <a:off x="0" y="0"/>
              <a:ext cx="2228760" cy="3429000"/>
            </a:xfrm>
            <a:prstGeom prst="rect">
              <a:avLst/>
            </a:prstGeom>
            <a:solidFill>
              <a:srgbClr val="000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0" y="3429000"/>
              <a:ext cx="2228760" cy="3429000"/>
            </a:xfrm>
            <a:prstGeom prst="rect">
              <a:avLst/>
            </a:pr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91836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79924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6" name="" descr=""/>
            <p:cNvPicPr/>
            <p:nvPr/>
          </p:nvPicPr>
          <p:blipFill>
            <a:blip r:embed="rId1"/>
            <a:stretch/>
          </p:blipFill>
          <p:spPr>
            <a:xfrm>
              <a:off x="201240" y="2055960"/>
              <a:ext cx="1705680" cy="271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7" name=""/>
            <p:cNvGrpSpPr/>
            <p:nvPr/>
          </p:nvGrpSpPr>
          <p:grpSpPr>
            <a:xfrm>
              <a:off x="211320" y="380880"/>
              <a:ext cx="1605600" cy="821880"/>
              <a:chOff x="211320" y="380880"/>
              <a:chExt cx="1605600" cy="821880"/>
            </a:xfrm>
          </p:grpSpPr>
          <p:sp>
            <p:nvSpPr>
              <p:cNvPr id="788" name=""/>
              <p:cNvSpPr/>
              <p:nvPr/>
            </p:nvSpPr>
            <p:spPr>
              <a:xfrm>
                <a:off x="403920" y="38088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7">
                    <a:moveTo>
                      <a:pt x="29" y="1655"/>
                    </a:moveTo>
                    <a:lnTo>
                      <a:pt x="79" y="1682"/>
                    </a:lnTo>
                    <a:lnTo>
                      <a:pt x="623" y="1957"/>
                    </a:lnTo>
                    <a:lnTo>
                      <a:pt x="684" y="1987"/>
                    </a:lnTo>
                    <a:lnTo>
                      <a:pt x="687" y="1916"/>
                    </a:lnTo>
                    <a:lnTo>
                      <a:pt x="691" y="1864"/>
                    </a:lnTo>
                    <a:lnTo>
                      <a:pt x="697" y="1814"/>
                    </a:lnTo>
                    <a:lnTo>
                      <a:pt x="704" y="1763"/>
                    </a:lnTo>
                    <a:lnTo>
                      <a:pt x="713" y="1714"/>
                    </a:lnTo>
                    <a:lnTo>
                      <a:pt x="724" y="1665"/>
                    </a:lnTo>
                    <a:lnTo>
                      <a:pt x="737" y="1616"/>
                    </a:lnTo>
                    <a:lnTo>
                      <a:pt x="751" y="1569"/>
                    </a:lnTo>
                    <a:lnTo>
                      <a:pt x="767" y="1522"/>
                    </a:lnTo>
                    <a:lnTo>
                      <a:pt x="784" y="1476"/>
                    </a:lnTo>
                    <a:lnTo>
                      <a:pt x="803" y="1431"/>
                    </a:lnTo>
                    <a:lnTo>
                      <a:pt x="824" y="1386"/>
                    </a:lnTo>
                    <a:lnTo>
                      <a:pt x="846" y="1343"/>
                    </a:lnTo>
                    <a:lnTo>
                      <a:pt x="869" y="1300"/>
                    </a:lnTo>
                    <a:lnTo>
                      <a:pt x="894" y="1257"/>
                    </a:lnTo>
                    <a:lnTo>
                      <a:pt x="920" y="1217"/>
                    </a:lnTo>
                    <a:lnTo>
                      <a:pt x="948" y="1177"/>
                    </a:lnTo>
                    <a:lnTo>
                      <a:pt x="976" y="1137"/>
                    </a:lnTo>
                    <a:lnTo>
                      <a:pt x="1007" y="1100"/>
                    </a:lnTo>
                    <a:lnTo>
                      <a:pt x="1038" y="1063"/>
                    </a:lnTo>
                    <a:lnTo>
                      <a:pt x="1071" y="1027"/>
                    </a:lnTo>
                    <a:lnTo>
                      <a:pt x="1105" y="993"/>
                    </a:lnTo>
                    <a:lnTo>
                      <a:pt x="1140" y="959"/>
                    </a:lnTo>
                    <a:lnTo>
                      <a:pt x="1176" y="927"/>
                    </a:lnTo>
                    <a:lnTo>
                      <a:pt x="1213" y="896"/>
                    </a:lnTo>
                    <a:lnTo>
                      <a:pt x="1250" y="866"/>
                    </a:lnTo>
                    <a:lnTo>
                      <a:pt x="1290" y="838"/>
                    </a:lnTo>
                    <a:lnTo>
                      <a:pt x="1331" y="810"/>
                    </a:lnTo>
                    <a:lnTo>
                      <a:pt x="1372" y="785"/>
                    </a:lnTo>
                    <a:lnTo>
                      <a:pt x="1414" y="760"/>
                    </a:lnTo>
                    <a:lnTo>
                      <a:pt x="1457" y="737"/>
                    </a:lnTo>
                    <a:lnTo>
                      <a:pt x="1501" y="716"/>
                    </a:lnTo>
                    <a:lnTo>
                      <a:pt x="1546" y="696"/>
                    </a:lnTo>
                    <a:lnTo>
                      <a:pt x="1584" y="680"/>
                    </a:lnTo>
                    <a:lnTo>
                      <a:pt x="1594" y="673"/>
                    </a:lnTo>
                    <a:lnTo>
                      <a:pt x="1600" y="665"/>
                    </a:lnTo>
                    <a:lnTo>
                      <a:pt x="1604" y="658"/>
                    </a:lnTo>
                    <a:lnTo>
                      <a:pt x="1606" y="650"/>
                    </a:lnTo>
                    <a:lnTo>
                      <a:pt x="1605" y="638"/>
                    </a:lnTo>
                    <a:lnTo>
                      <a:pt x="1603" y="632"/>
                    </a:lnTo>
                    <a:lnTo>
                      <a:pt x="1586" y="586"/>
                    </a:lnTo>
                    <a:lnTo>
                      <a:pt x="1385" y="31"/>
                    </a:lnTo>
                    <a:lnTo>
                      <a:pt x="1381" y="18"/>
                    </a:lnTo>
                    <a:lnTo>
                      <a:pt x="1380" y="13"/>
                    </a:lnTo>
                    <a:lnTo>
                      <a:pt x="1372" y="5"/>
                    </a:lnTo>
                    <a:lnTo>
                      <a:pt x="1367" y="2"/>
                    </a:lnTo>
                    <a:lnTo>
                      <a:pt x="1359" y="0"/>
                    </a:lnTo>
                    <a:lnTo>
                      <a:pt x="1349" y="0"/>
                    </a:lnTo>
                    <a:lnTo>
                      <a:pt x="1337" y="3"/>
                    </a:lnTo>
                    <a:lnTo>
                      <a:pt x="1307" y="14"/>
                    </a:lnTo>
                    <a:lnTo>
                      <a:pt x="1248" y="37"/>
                    </a:lnTo>
                    <a:lnTo>
                      <a:pt x="1190" y="63"/>
                    </a:lnTo>
                    <a:lnTo>
                      <a:pt x="1133" y="89"/>
                    </a:lnTo>
                    <a:lnTo>
                      <a:pt x="1076" y="119"/>
                    </a:lnTo>
                    <a:lnTo>
                      <a:pt x="1021" y="149"/>
                    </a:lnTo>
                    <a:lnTo>
                      <a:pt x="966" y="181"/>
                    </a:lnTo>
                    <a:lnTo>
                      <a:pt x="913" y="215"/>
                    </a:lnTo>
                    <a:lnTo>
                      <a:pt x="861" y="251"/>
                    </a:lnTo>
                    <a:lnTo>
                      <a:pt x="810" y="289"/>
                    </a:lnTo>
                    <a:lnTo>
                      <a:pt x="759" y="328"/>
                    </a:lnTo>
                    <a:lnTo>
                      <a:pt x="711" y="369"/>
                    </a:lnTo>
                    <a:lnTo>
                      <a:pt x="663" y="411"/>
                    </a:lnTo>
                    <a:lnTo>
                      <a:pt x="616" y="455"/>
                    </a:lnTo>
                    <a:lnTo>
                      <a:pt x="572" y="501"/>
                    </a:lnTo>
                    <a:lnTo>
                      <a:pt x="528" y="547"/>
                    </a:lnTo>
                    <a:lnTo>
                      <a:pt x="485" y="595"/>
                    </a:lnTo>
                    <a:lnTo>
                      <a:pt x="443" y="645"/>
                    </a:lnTo>
                    <a:lnTo>
                      <a:pt x="404" y="695"/>
                    </a:lnTo>
                    <a:lnTo>
                      <a:pt x="365" y="747"/>
                    </a:lnTo>
                    <a:lnTo>
                      <a:pt x="329" y="800"/>
                    </a:lnTo>
                    <a:lnTo>
                      <a:pt x="294" y="854"/>
                    </a:lnTo>
                    <a:lnTo>
                      <a:pt x="260" y="910"/>
                    </a:lnTo>
                    <a:lnTo>
                      <a:pt x="228" y="967"/>
                    </a:lnTo>
                    <a:lnTo>
                      <a:pt x="197" y="1024"/>
                    </a:lnTo>
                    <a:lnTo>
                      <a:pt x="169" y="1084"/>
                    </a:lnTo>
                    <a:lnTo>
                      <a:pt x="142" y="1144"/>
                    </a:lnTo>
                    <a:lnTo>
                      <a:pt x="116" y="1204"/>
                    </a:lnTo>
                    <a:lnTo>
                      <a:pt x="93" y="1266"/>
                    </a:lnTo>
                    <a:lnTo>
                      <a:pt x="71" y="1329"/>
                    </a:lnTo>
                    <a:lnTo>
                      <a:pt x="52" y="1392"/>
                    </a:lnTo>
                    <a:lnTo>
                      <a:pt x="34" y="1457"/>
                    </a:lnTo>
                    <a:lnTo>
                      <a:pt x="18" y="1522"/>
                    </a:lnTo>
                    <a:lnTo>
                      <a:pt x="2" y="1593"/>
                    </a:lnTo>
                    <a:lnTo>
                      <a:pt x="0" y="1610"/>
                    </a:lnTo>
                    <a:lnTo>
                      <a:pt x="1" y="1623"/>
                    </a:lnTo>
                    <a:lnTo>
                      <a:pt x="6" y="1634"/>
                    </a:lnTo>
                    <a:lnTo>
                      <a:pt x="11" y="1643"/>
                    </a:lnTo>
                    <a:lnTo>
                      <a:pt x="17" y="1648"/>
                    </a:lnTo>
                    <a:lnTo>
                      <a:pt x="23" y="1652"/>
                    </a:lnTo>
                    <a:lnTo>
                      <a:pt x="29" y="1655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03920" y="77004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5">
                    <a:moveTo>
                      <a:pt x="29" y="333"/>
                    </a:moveTo>
                    <a:lnTo>
                      <a:pt x="79" y="306"/>
                    </a:lnTo>
                    <a:lnTo>
                      <a:pt x="623" y="31"/>
                    </a:lnTo>
                    <a:lnTo>
                      <a:pt x="684" y="0"/>
                    </a:lnTo>
                    <a:lnTo>
                      <a:pt x="687" y="72"/>
                    </a:lnTo>
                    <a:lnTo>
                      <a:pt x="691" y="123"/>
                    </a:lnTo>
                    <a:lnTo>
                      <a:pt x="697" y="174"/>
                    </a:lnTo>
                    <a:lnTo>
                      <a:pt x="704" y="224"/>
                    </a:lnTo>
                    <a:lnTo>
                      <a:pt x="713" y="273"/>
                    </a:lnTo>
                    <a:lnTo>
                      <a:pt x="724" y="323"/>
                    </a:lnTo>
                    <a:lnTo>
                      <a:pt x="737" y="371"/>
                    </a:lnTo>
                    <a:lnTo>
                      <a:pt x="751" y="418"/>
                    </a:lnTo>
                    <a:lnTo>
                      <a:pt x="767" y="465"/>
                    </a:lnTo>
                    <a:lnTo>
                      <a:pt x="784" y="512"/>
                    </a:lnTo>
                    <a:lnTo>
                      <a:pt x="803" y="557"/>
                    </a:lnTo>
                    <a:lnTo>
                      <a:pt x="824" y="602"/>
                    </a:lnTo>
                    <a:lnTo>
                      <a:pt x="846" y="645"/>
                    </a:lnTo>
                    <a:lnTo>
                      <a:pt x="869" y="688"/>
                    </a:lnTo>
                    <a:lnTo>
                      <a:pt x="894" y="730"/>
                    </a:lnTo>
                    <a:lnTo>
                      <a:pt x="920" y="771"/>
                    </a:lnTo>
                    <a:lnTo>
                      <a:pt x="948" y="811"/>
                    </a:lnTo>
                    <a:lnTo>
                      <a:pt x="976" y="850"/>
                    </a:lnTo>
                    <a:lnTo>
                      <a:pt x="1007" y="888"/>
                    </a:lnTo>
                    <a:lnTo>
                      <a:pt x="1038" y="924"/>
                    </a:lnTo>
                    <a:lnTo>
                      <a:pt x="1071" y="961"/>
                    </a:lnTo>
                    <a:lnTo>
                      <a:pt x="1105" y="995"/>
                    </a:lnTo>
                    <a:lnTo>
                      <a:pt x="1140" y="1029"/>
                    </a:lnTo>
                    <a:lnTo>
                      <a:pt x="1176" y="1061"/>
                    </a:lnTo>
                    <a:lnTo>
                      <a:pt x="1213" y="1092"/>
                    </a:lnTo>
                    <a:lnTo>
                      <a:pt x="1252" y="1122"/>
                    </a:lnTo>
                    <a:lnTo>
                      <a:pt x="1290" y="1151"/>
                    </a:lnTo>
                    <a:lnTo>
                      <a:pt x="1331" y="1177"/>
                    </a:lnTo>
                    <a:lnTo>
                      <a:pt x="1372" y="1203"/>
                    </a:lnTo>
                    <a:lnTo>
                      <a:pt x="1414" y="1227"/>
                    </a:lnTo>
                    <a:lnTo>
                      <a:pt x="1457" y="1250"/>
                    </a:lnTo>
                    <a:lnTo>
                      <a:pt x="1501" y="1271"/>
                    </a:lnTo>
                    <a:lnTo>
                      <a:pt x="1546" y="1292"/>
                    </a:lnTo>
                    <a:lnTo>
                      <a:pt x="1584" y="1308"/>
                    </a:lnTo>
                    <a:lnTo>
                      <a:pt x="1594" y="1315"/>
                    </a:lnTo>
                    <a:lnTo>
                      <a:pt x="1600" y="1323"/>
                    </a:lnTo>
                    <a:lnTo>
                      <a:pt x="1605" y="1331"/>
                    </a:lnTo>
                    <a:lnTo>
                      <a:pt x="1606" y="1337"/>
                    </a:lnTo>
                    <a:lnTo>
                      <a:pt x="1605" y="1349"/>
                    </a:lnTo>
                    <a:lnTo>
                      <a:pt x="1603" y="1355"/>
                    </a:lnTo>
                    <a:lnTo>
                      <a:pt x="1586" y="1401"/>
                    </a:lnTo>
                    <a:lnTo>
                      <a:pt x="1388" y="1950"/>
                    </a:lnTo>
                    <a:lnTo>
                      <a:pt x="1381" y="1965"/>
                    </a:lnTo>
                    <a:lnTo>
                      <a:pt x="1379" y="1970"/>
                    </a:lnTo>
                    <a:lnTo>
                      <a:pt x="1371" y="1978"/>
                    </a:lnTo>
                    <a:lnTo>
                      <a:pt x="1366" y="1983"/>
                    </a:lnTo>
                    <a:lnTo>
                      <a:pt x="1358" y="1985"/>
                    </a:lnTo>
                    <a:lnTo>
                      <a:pt x="1348" y="1985"/>
                    </a:lnTo>
                    <a:lnTo>
                      <a:pt x="1338" y="1983"/>
                    </a:lnTo>
                    <a:lnTo>
                      <a:pt x="1302" y="1969"/>
                    </a:lnTo>
                    <a:lnTo>
                      <a:pt x="1242" y="1942"/>
                    </a:lnTo>
                    <a:lnTo>
                      <a:pt x="1181" y="1915"/>
                    </a:lnTo>
                    <a:lnTo>
                      <a:pt x="1123" y="1886"/>
                    </a:lnTo>
                    <a:lnTo>
                      <a:pt x="1066" y="1857"/>
                    </a:lnTo>
                    <a:lnTo>
                      <a:pt x="1009" y="1824"/>
                    </a:lnTo>
                    <a:lnTo>
                      <a:pt x="954" y="1791"/>
                    </a:lnTo>
                    <a:lnTo>
                      <a:pt x="901" y="1756"/>
                    </a:lnTo>
                    <a:lnTo>
                      <a:pt x="848" y="1719"/>
                    </a:lnTo>
                    <a:lnTo>
                      <a:pt x="796" y="1682"/>
                    </a:lnTo>
                    <a:lnTo>
                      <a:pt x="747" y="1642"/>
                    </a:lnTo>
                    <a:lnTo>
                      <a:pt x="698" y="1602"/>
                    </a:lnTo>
                    <a:lnTo>
                      <a:pt x="650" y="1560"/>
                    </a:lnTo>
                    <a:lnTo>
                      <a:pt x="604" y="1517"/>
                    </a:lnTo>
                    <a:lnTo>
                      <a:pt x="559" y="1472"/>
                    </a:lnTo>
                    <a:lnTo>
                      <a:pt x="517" y="1426"/>
                    </a:lnTo>
                    <a:lnTo>
                      <a:pt x="475" y="1379"/>
                    </a:lnTo>
                    <a:lnTo>
                      <a:pt x="434" y="1331"/>
                    </a:lnTo>
                    <a:lnTo>
                      <a:pt x="395" y="1281"/>
                    </a:lnTo>
                    <a:lnTo>
                      <a:pt x="358" y="1230"/>
                    </a:lnTo>
                    <a:lnTo>
                      <a:pt x="323" y="1178"/>
                    </a:lnTo>
                    <a:lnTo>
                      <a:pt x="287" y="1124"/>
                    </a:lnTo>
                    <a:lnTo>
                      <a:pt x="255" y="1070"/>
                    </a:lnTo>
                    <a:lnTo>
                      <a:pt x="224" y="1014"/>
                    </a:lnTo>
                    <a:lnTo>
                      <a:pt x="194" y="957"/>
                    </a:lnTo>
                    <a:lnTo>
                      <a:pt x="166" y="900"/>
                    </a:lnTo>
                    <a:lnTo>
                      <a:pt x="139" y="841"/>
                    </a:lnTo>
                    <a:lnTo>
                      <a:pt x="115" y="781"/>
                    </a:lnTo>
                    <a:lnTo>
                      <a:pt x="92" y="720"/>
                    </a:lnTo>
                    <a:lnTo>
                      <a:pt x="71" y="658"/>
                    </a:lnTo>
                    <a:lnTo>
                      <a:pt x="52" y="595"/>
                    </a:lnTo>
                    <a:lnTo>
                      <a:pt x="34" y="530"/>
                    </a:lnTo>
                    <a:lnTo>
                      <a:pt x="18" y="465"/>
                    </a:lnTo>
                    <a:lnTo>
                      <a:pt x="3" y="394"/>
                    </a:lnTo>
                    <a:lnTo>
                      <a:pt x="0" y="378"/>
                    </a:lnTo>
                    <a:lnTo>
                      <a:pt x="1" y="364"/>
                    </a:lnTo>
                    <a:lnTo>
                      <a:pt x="6" y="353"/>
                    </a:lnTo>
                    <a:lnTo>
                      <a:pt x="11" y="346"/>
                    </a:lnTo>
                    <a:lnTo>
                      <a:pt x="17" y="339"/>
                    </a:lnTo>
                    <a:lnTo>
                      <a:pt x="23" y="336"/>
                    </a:lnTo>
                    <a:lnTo>
                      <a:pt x="29" y="333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67440" y="698400"/>
                <a:ext cx="149400" cy="147600"/>
              </a:xfrm>
              <a:custGeom>
                <a:avLst/>
                <a:gdLst/>
                <a:ahLst/>
                <a:rect l="l" t="t" r="r" b="b"/>
                <a:pathLst>
                  <a:path w="714" h="759">
                    <a:moveTo>
                      <a:pt x="699" y="379"/>
                    </a:moveTo>
                    <a:lnTo>
                      <a:pt x="706" y="375"/>
                    </a:lnTo>
                    <a:lnTo>
                      <a:pt x="710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09" y="351"/>
                    </a:lnTo>
                    <a:lnTo>
                      <a:pt x="705" y="346"/>
                    </a:lnTo>
                    <a:lnTo>
                      <a:pt x="699" y="342"/>
                    </a:lnTo>
                    <a:lnTo>
                      <a:pt x="35" y="4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3" y="11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735"/>
                    </a:lnTo>
                    <a:lnTo>
                      <a:pt x="1" y="743"/>
                    </a:lnTo>
                    <a:lnTo>
                      <a:pt x="3" y="748"/>
                    </a:lnTo>
                    <a:lnTo>
                      <a:pt x="5" y="753"/>
                    </a:lnTo>
                    <a:lnTo>
                      <a:pt x="10" y="757"/>
                    </a:lnTo>
                    <a:lnTo>
                      <a:pt x="15" y="759"/>
                    </a:lnTo>
                    <a:lnTo>
                      <a:pt x="21" y="759"/>
                    </a:lnTo>
                    <a:lnTo>
                      <a:pt x="27" y="758"/>
                    </a:lnTo>
                    <a:lnTo>
                      <a:pt x="34" y="755"/>
                    </a:lnTo>
                    <a:lnTo>
                      <a:pt x="699" y="379"/>
                    </a:lnTo>
                    <a:close/>
                  </a:path>
                </a:pathLst>
              </a:custGeom>
              <a:solidFill>
                <a:srgbClr val="00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211320" y="701640"/>
                <a:ext cx="149760" cy="146160"/>
              </a:xfrm>
              <a:custGeom>
                <a:avLst/>
                <a:gdLst/>
                <a:ahLst/>
                <a:rect l="l" t="t" r="r" b="b"/>
                <a:pathLst>
                  <a:path w="714" h="758">
                    <a:moveTo>
                      <a:pt x="701" y="379"/>
                    </a:moveTo>
                    <a:lnTo>
                      <a:pt x="706" y="374"/>
                    </a:lnTo>
                    <a:lnTo>
                      <a:pt x="711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11" y="350"/>
                    </a:lnTo>
                    <a:lnTo>
                      <a:pt x="706" y="346"/>
                    </a:lnTo>
                    <a:lnTo>
                      <a:pt x="700" y="342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0" y="734"/>
                    </a:lnTo>
                    <a:lnTo>
                      <a:pt x="1" y="742"/>
                    </a:lnTo>
                    <a:lnTo>
                      <a:pt x="3" y="749"/>
                    </a:lnTo>
                    <a:lnTo>
                      <a:pt x="7" y="753"/>
                    </a:lnTo>
                    <a:lnTo>
                      <a:pt x="10" y="756"/>
                    </a:lnTo>
                    <a:lnTo>
                      <a:pt x="15" y="758"/>
                    </a:lnTo>
                    <a:lnTo>
                      <a:pt x="21" y="758"/>
                    </a:lnTo>
                    <a:lnTo>
                      <a:pt x="27" y="757"/>
                    </a:lnTo>
                    <a:lnTo>
                      <a:pt x="34" y="754"/>
                    </a:lnTo>
                    <a:lnTo>
                      <a:pt x="701" y="379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011960" y="517680"/>
                <a:ext cx="195840" cy="250560"/>
              </a:xfrm>
              <a:custGeom>
                <a:avLst/>
                <a:gdLst/>
                <a:ahLst/>
                <a:rect l="l" t="t" r="r" b="b"/>
                <a:pathLst>
                  <a:path w="930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30" y="1293"/>
                    </a:lnTo>
                    <a:lnTo>
                      <a:pt x="713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230480" y="517680"/>
                <a:ext cx="34200" cy="25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316520" y="517680"/>
                <a:ext cx="168480" cy="250560"/>
              </a:xfrm>
              <a:custGeom>
                <a:avLst/>
                <a:gdLst/>
                <a:ahLst/>
                <a:rect l="l" t="t" r="r" b="b"/>
                <a:pathLst>
                  <a:path w="803" h="1293">
                    <a:moveTo>
                      <a:pt x="803" y="1293"/>
                    </a:moveTo>
                    <a:lnTo>
                      <a:pt x="607" y="1293"/>
                    </a:lnTo>
                    <a:lnTo>
                      <a:pt x="228" y="746"/>
                    </a:lnTo>
                    <a:lnTo>
                      <a:pt x="161" y="746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283" y="1"/>
                    </a:lnTo>
                    <a:lnTo>
                      <a:pt x="327" y="4"/>
                    </a:lnTo>
                    <a:lnTo>
                      <a:pt x="370" y="8"/>
                    </a:lnTo>
                    <a:lnTo>
                      <a:pt x="413" y="16"/>
                    </a:lnTo>
                    <a:lnTo>
                      <a:pt x="456" y="27"/>
                    </a:lnTo>
                    <a:lnTo>
                      <a:pt x="497" y="41"/>
                    </a:lnTo>
                    <a:lnTo>
                      <a:pt x="536" y="61"/>
                    </a:lnTo>
                    <a:lnTo>
                      <a:pt x="556" y="73"/>
                    </a:lnTo>
                    <a:lnTo>
                      <a:pt x="574" y="87"/>
                    </a:lnTo>
                    <a:lnTo>
                      <a:pt x="592" y="101"/>
                    </a:lnTo>
                    <a:lnTo>
                      <a:pt x="608" y="118"/>
                    </a:lnTo>
                    <a:lnTo>
                      <a:pt x="623" y="135"/>
                    </a:lnTo>
                    <a:lnTo>
                      <a:pt x="637" y="153"/>
                    </a:lnTo>
                    <a:lnTo>
                      <a:pt x="650" y="173"/>
                    </a:lnTo>
                    <a:lnTo>
                      <a:pt x="661" y="192"/>
                    </a:lnTo>
                    <a:lnTo>
                      <a:pt x="671" y="212"/>
                    </a:lnTo>
                    <a:lnTo>
                      <a:pt x="680" y="233"/>
                    </a:lnTo>
                    <a:lnTo>
                      <a:pt x="694" y="277"/>
                    </a:lnTo>
                    <a:lnTo>
                      <a:pt x="700" y="300"/>
                    </a:lnTo>
                    <a:lnTo>
                      <a:pt x="703" y="323"/>
                    </a:lnTo>
                    <a:lnTo>
                      <a:pt x="705" y="346"/>
                    </a:lnTo>
                    <a:lnTo>
                      <a:pt x="705" y="369"/>
                    </a:lnTo>
                    <a:lnTo>
                      <a:pt x="704" y="403"/>
                    </a:lnTo>
                    <a:lnTo>
                      <a:pt x="700" y="436"/>
                    </a:lnTo>
                    <a:lnTo>
                      <a:pt x="693" y="469"/>
                    </a:lnTo>
                    <a:lnTo>
                      <a:pt x="683" y="500"/>
                    </a:lnTo>
                    <a:lnTo>
                      <a:pt x="671" y="531"/>
                    </a:lnTo>
                    <a:lnTo>
                      <a:pt x="657" y="558"/>
                    </a:lnTo>
                    <a:lnTo>
                      <a:pt x="639" y="585"/>
                    </a:lnTo>
                    <a:lnTo>
                      <a:pt x="621" y="611"/>
                    </a:lnTo>
                    <a:lnTo>
                      <a:pt x="599" y="634"/>
                    </a:lnTo>
                    <a:lnTo>
                      <a:pt x="576" y="655"/>
                    </a:lnTo>
                    <a:lnTo>
                      <a:pt x="550" y="673"/>
                    </a:lnTo>
                    <a:lnTo>
                      <a:pt x="523" y="691"/>
                    </a:lnTo>
                    <a:lnTo>
                      <a:pt x="493" y="704"/>
                    </a:lnTo>
                    <a:lnTo>
                      <a:pt x="463" y="716"/>
                    </a:lnTo>
                    <a:lnTo>
                      <a:pt x="430" y="725"/>
                    </a:lnTo>
                    <a:lnTo>
                      <a:pt x="396" y="730"/>
                    </a:lnTo>
                    <a:lnTo>
                      <a:pt x="803" y="1293"/>
                    </a:lnTo>
                    <a:close/>
                    <a:moveTo>
                      <a:pt x="161" y="612"/>
                    </a:moveTo>
                    <a:lnTo>
                      <a:pt x="213" y="612"/>
                    </a:lnTo>
                    <a:lnTo>
                      <a:pt x="274" y="611"/>
                    </a:lnTo>
                    <a:lnTo>
                      <a:pt x="335" y="604"/>
                    </a:lnTo>
                    <a:lnTo>
                      <a:pt x="365" y="599"/>
                    </a:lnTo>
                    <a:lnTo>
                      <a:pt x="393" y="591"/>
                    </a:lnTo>
                    <a:lnTo>
                      <a:pt x="420" y="582"/>
                    </a:lnTo>
                    <a:lnTo>
                      <a:pt x="445" y="571"/>
                    </a:lnTo>
                    <a:lnTo>
                      <a:pt x="469" y="557"/>
                    </a:lnTo>
                    <a:lnTo>
                      <a:pt x="490" y="540"/>
                    </a:lnTo>
                    <a:lnTo>
                      <a:pt x="509" y="522"/>
                    </a:lnTo>
                    <a:lnTo>
                      <a:pt x="524" y="499"/>
                    </a:lnTo>
                    <a:lnTo>
                      <a:pt x="537" y="473"/>
                    </a:lnTo>
                    <a:lnTo>
                      <a:pt x="547" y="445"/>
                    </a:lnTo>
                    <a:lnTo>
                      <a:pt x="553" y="412"/>
                    </a:lnTo>
                    <a:lnTo>
                      <a:pt x="555" y="376"/>
                    </a:lnTo>
                    <a:lnTo>
                      <a:pt x="553" y="339"/>
                    </a:lnTo>
                    <a:lnTo>
                      <a:pt x="546" y="308"/>
                    </a:lnTo>
                    <a:lnTo>
                      <a:pt x="536" y="279"/>
                    </a:lnTo>
                    <a:lnTo>
                      <a:pt x="523" y="254"/>
                    </a:lnTo>
                    <a:lnTo>
                      <a:pt x="505" y="232"/>
                    </a:lnTo>
                    <a:lnTo>
                      <a:pt x="486" y="213"/>
                    </a:lnTo>
                    <a:lnTo>
                      <a:pt x="464" y="198"/>
                    </a:lnTo>
                    <a:lnTo>
                      <a:pt x="440" y="184"/>
                    </a:lnTo>
                    <a:lnTo>
                      <a:pt x="413" y="173"/>
                    </a:lnTo>
                    <a:lnTo>
                      <a:pt x="385" y="164"/>
                    </a:lnTo>
                    <a:lnTo>
                      <a:pt x="356" y="157"/>
                    </a:lnTo>
                    <a:lnTo>
                      <a:pt x="325" y="152"/>
                    </a:lnTo>
                    <a:lnTo>
                      <a:pt x="296" y="148"/>
                    </a:lnTo>
                    <a:lnTo>
                      <a:pt x="265" y="146"/>
                    </a:lnTo>
                    <a:lnTo>
                      <a:pt x="204" y="144"/>
                    </a:lnTo>
                    <a:lnTo>
                      <a:pt x="161" y="144"/>
                    </a:lnTo>
                    <a:lnTo>
                      <a:pt x="161" y="6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502280" y="517680"/>
                <a:ext cx="196200" cy="250560"/>
              </a:xfrm>
              <a:custGeom>
                <a:avLst/>
                <a:gdLst/>
                <a:ahLst/>
                <a:rect l="l" t="t" r="r" b="b"/>
                <a:pathLst>
                  <a:path w="929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29" y="1293"/>
                    </a:lnTo>
                    <a:lnTo>
                      <a:pt x="712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999720" y="847800"/>
                <a:ext cx="54720" cy="133200"/>
              </a:xfrm>
              <a:custGeom>
                <a:avLst/>
                <a:gdLst/>
                <a:ahLst/>
                <a:rect l="l" t="t" r="r" b="b"/>
                <a:pathLst>
                  <a:path w="264" h="687">
                    <a:moveTo>
                      <a:pt x="169" y="687"/>
                    </a:moveTo>
                    <a:lnTo>
                      <a:pt x="74" y="687"/>
                    </a:lnTo>
                    <a:lnTo>
                      <a:pt x="74" y="279"/>
                    </a:lnTo>
                    <a:lnTo>
                      <a:pt x="0" y="279"/>
                    </a:lnTo>
                    <a:lnTo>
                      <a:pt x="0" y="190"/>
                    </a:lnTo>
                    <a:lnTo>
                      <a:pt x="74" y="190"/>
                    </a:lnTo>
                    <a:lnTo>
                      <a:pt x="74" y="0"/>
                    </a:lnTo>
                    <a:lnTo>
                      <a:pt x="169" y="0"/>
                    </a:lnTo>
                    <a:lnTo>
                      <a:pt x="169" y="190"/>
                    </a:lnTo>
                    <a:lnTo>
                      <a:pt x="264" y="190"/>
                    </a:lnTo>
                    <a:lnTo>
                      <a:pt x="264" y="279"/>
                    </a:lnTo>
                    <a:lnTo>
                      <a:pt x="169" y="279"/>
                    </a:lnTo>
                    <a:lnTo>
                      <a:pt x="169" y="6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058400" y="882720"/>
                <a:ext cx="9936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5" y="280"/>
                    </a:moveTo>
                    <a:lnTo>
                      <a:pt x="98" y="311"/>
                    </a:lnTo>
                    <a:lnTo>
                      <a:pt x="106" y="341"/>
                    </a:lnTo>
                    <a:lnTo>
                      <a:pt x="119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8" y="415"/>
                    </a:lnTo>
                    <a:lnTo>
                      <a:pt x="170" y="423"/>
                    </a:lnTo>
                    <a:lnTo>
                      <a:pt x="184" y="431"/>
                    </a:lnTo>
                    <a:lnTo>
                      <a:pt x="197" y="437"/>
                    </a:lnTo>
                    <a:lnTo>
                      <a:pt x="213" y="441"/>
                    </a:lnTo>
                    <a:lnTo>
                      <a:pt x="229" y="443"/>
                    </a:lnTo>
                    <a:lnTo>
                      <a:pt x="245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5" y="430"/>
                    </a:lnTo>
                    <a:lnTo>
                      <a:pt x="333" y="418"/>
                    </a:lnTo>
                    <a:lnTo>
                      <a:pt x="351" y="405"/>
                    </a:lnTo>
                    <a:lnTo>
                      <a:pt x="366" y="388"/>
                    </a:lnTo>
                    <a:lnTo>
                      <a:pt x="380" y="368"/>
                    </a:lnTo>
                    <a:lnTo>
                      <a:pt x="394" y="348"/>
                    </a:lnTo>
                    <a:lnTo>
                      <a:pt x="475" y="394"/>
                    </a:lnTo>
                    <a:lnTo>
                      <a:pt x="455" y="424"/>
                    </a:lnTo>
                    <a:lnTo>
                      <a:pt x="433" y="451"/>
                    </a:lnTo>
                    <a:lnTo>
                      <a:pt x="407" y="474"/>
                    </a:lnTo>
                    <a:lnTo>
                      <a:pt x="378" y="494"/>
                    </a:lnTo>
                    <a:lnTo>
                      <a:pt x="347" y="509"/>
                    </a:lnTo>
                    <a:lnTo>
                      <a:pt x="315" y="520"/>
                    </a:lnTo>
                    <a:lnTo>
                      <a:pt x="279" y="528"/>
                    </a:lnTo>
                    <a:lnTo>
                      <a:pt x="244" y="530"/>
                    </a:lnTo>
                    <a:lnTo>
                      <a:pt x="217" y="528"/>
                    </a:lnTo>
                    <a:lnTo>
                      <a:pt x="191" y="524"/>
                    </a:lnTo>
                    <a:lnTo>
                      <a:pt x="165" y="518"/>
                    </a:lnTo>
                    <a:lnTo>
                      <a:pt x="142" y="509"/>
                    </a:lnTo>
                    <a:lnTo>
                      <a:pt x="120" y="498"/>
                    </a:lnTo>
                    <a:lnTo>
                      <a:pt x="101" y="485"/>
                    </a:lnTo>
                    <a:lnTo>
                      <a:pt x="82" y="471"/>
                    </a:lnTo>
                    <a:lnTo>
                      <a:pt x="66" y="454"/>
                    </a:lnTo>
                    <a:lnTo>
                      <a:pt x="50" y="435"/>
                    </a:lnTo>
                    <a:lnTo>
                      <a:pt x="37" y="416"/>
                    </a:lnTo>
                    <a:lnTo>
                      <a:pt x="26" y="394"/>
                    </a:lnTo>
                    <a:lnTo>
                      <a:pt x="16" y="371"/>
                    </a:lnTo>
                    <a:lnTo>
                      <a:pt x="10" y="346"/>
                    </a:lnTo>
                    <a:lnTo>
                      <a:pt x="4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4" y="213"/>
                    </a:lnTo>
                    <a:lnTo>
                      <a:pt x="9" y="186"/>
                    </a:lnTo>
                    <a:lnTo>
                      <a:pt x="15" y="161"/>
                    </a:lnTo>
                    <a:lnTo>
                      <a:pt x="24" y="138"/>
                    </a:lnTo>
                    <a:lnTo>
                      <a:pt x="34" y="116"/>
                    </a:lnTo>
                    <a:lnTo>
                      <a:pt x="47" y="95"/>
                    </a:lnTo>
                    <a:lnTo>
                      <a:pt x="61" y="76"/>
                    </a:lnTo>
                    <a:lnTo>
                      <a:pt x="77" y="60"/>
                    </a:lnTo>
                    <a:lnTo>
                      <a:pt x="95" y="45"/>
                    </a:lnTo>
                    <a:lnTo>
                      <a:pt x="115" y="31"/>
                    </a:lnTo>
                    <a:lnTo>
                      <a:pt x="137" y="20"/>
                    </a:lnTo>
                    <a:lnTo>
                      <a:pt x="160" y="12"/>
                    </a:lnTo>
                    <a:lnTo>
                      <a:pt x="185" y="5"/>
                    </a:lnTo>
                    <a:lnTo>
                      <a:pt x="213" y="2"/>
                    </a:lnTo>
                    <a:lnTo>
                      <a:pt x="242" y="0"/>
                    </a:lnTo>
                    <a:lnTo>
                      <a:pt x="271" y="2"/>
                    </a:lnTo>
                    <a:lnTo>
                      <a:pt x="297" y="5"/>
                    </a:lnTo>
                    <a:lnTo>
                      <a:pt x="322" y="12"/>
                    </a:lnTo>
                    <a:lnTo>
                      <a:pt x="345" y="20"/>
                    </a:lnTo>
                    <a:lnTo>
                      <a:pt x="366" y="31"/>
                    </a:lnTo>
                    <a:lnTo>
                      <a:pt x="385" y="45"/>
                    </a:lnTo>
                    <a:lnTo>
                      <a:pt x="402" y="60"/>
                    </a:lnTo>
                    <a:lnTo>
                      <a:pt x="418" y="76"/>
                    </a:lnTo>
                    <a:lnTo>
                      <a:pt x="431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0" y="161"/>
                    </a:lnTo>
                    <a:lnTo>
                      <a:pt x="467" y="185"/>
                    </a:lnTo>
                    <a:lnTo>
                      <a:pt x="471" y="210"/>
                    </a:lnTo>
                    <a:lnTo>
                      <a:pt x="474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5" y="280"/>
                    </a:lnTo>
                    <a:close/>
                    <a:moveTo>
                      <a:pt x="379" y="207"/>
                    </a:moveTo>
                    <a:lnTo>
                      <a:pt x="373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5" y="117"/>
                    </a:lnTo>
                    <a:lnTo>
                      <a:pt x="316" y="103"/>
                    </a:lnTo>
                    <a:lnTo>
                      <a:pt x="294" y="92"/>
                    </a:lnTo>
                    <a:lnTo>
                      <a:pt x="270" y="85"/>
                    </a:lnTo>
                    <a:lnTo>
                      <a:pt x="242" y="83"/>
                    </a:lnTo>
                    <a:lnTo>
                      <a:pt x="215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1" y="137"/>
                    </a:lnTo>
                    <a:lnTo>
                      <a:pt x="117" y="158"/>
                    </a:lnTo>
                    <a:lnTo>
                      <a:pt x="107" y="182"/>
                    </a:lnTo>
                    <a:lnTo>
                      <a:pt x="101" y="207"/>
                    </a:lnTo>
                    <a:lnTo>
                      <a:pt x="379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177200" y="846000"/>
                <a:ext cx="2052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211400" y="882720"/>
                <a:ext cx="9972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7" y="280"/>
                    </a:moveTo>
                    <a:lnTo>
                      <a:pt x="99" y="311"/>
                    </a:lnTo>
                    <a:lnTo>
                      <a:pt x="108" y="341"/>
                    </a:lnTo>
                    <a:lnTo>
                      <a:pt x="120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9" y="415"/>
                    </a:lnTo>
                    <a:lnTo>
                      <a:pt x="171" y="423"/>
                    </a:lnTo>
                    <a:lnTo>
                      <a:pt x="185" y="431"/>
                    </a:lnTo>
                    <a:lnTo>
                      <a:pt x="199" y="437"/>
                    </a:lnTo>
                    <a:lnTo>
                      <a:pt x="213" y="441"/>
                    </a:lnTo>
                    <a:lnTo>
                      <a:pt x="230" y="443"/>
                    </a:lnTo>
                    <a:lnTo>
                      <a:pt x="246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6" y="430"/>
                    </a:lnTo>
                    <a:lnTo>
                      <a:pt x="335" y="418"/>
                    </a:lnTo>
                    <a:lnTo>
                      <a:pt x="351" y="405"/>
                    </a:lnTo>
                    <a:lnTo>
                      <a:pt x="367" y="388"/>
                    </a:lnTo>
                    <a:lnTo>
                      <a:pt x="381" y="368"/>
                    </a:lnTo>
                    <a:lnTo>
                      <a:pt x="395" y="348"/>
                    </a:lnTo>
                    <a:lnTo>
                      <a:pt x="475" y="394"/>
                    </a:lnTo>
                    <a:lnTo>
                      <a:pt x="457" y="424"/>
                    </a:lnTo>
                    <a:lnTo>
                      <a:pt x="434" y="451"/>
                    </a:lnTo>
                    <a:lnTo>
                      <a:pt x="407" y="474"/>
                    </a:lnTo>
                    <a:lnTo>
                      <a:pt x="379" y="494"/>
                    </a:lnTo>
                    <a:lnTo>
                      <a:pt x="348" y="509"/>
                    </a:lnTo>
                    <a:lnTo>
                      <a:pt x="315" y="520"/>
                    </a:lnTo>
                    <a:lnTo>
                      <a:pt x="281" y="528"/>
                    </a:lnTo>
                    <a:lnTo>
                      <a:pt x="245" y="530"/>
                    </a:lnTo>
                    <a:lnTo>
                      <a:pt x="218" y="528"/>
                    </a:lnTo>
                    <a:lnTo>
                      <a:pt x="191" y="524"/>
                    </a:lnTo>
                    <a:lnTo>
                      <a:pt x="166" y="518"/>
                    </a:lnTo>
                    <a:lnTo>
                      <a:pt x="143" y="509"/>
                    </a:lnTo>
                    <a:lnTo>
                      <a:pt x="121" y="498"/>
                    </a:lnTo>
                    <a:lnTo>
                      <a:pt x="101" y="485"/>
                    </a:lnTo>
                    <a:lnTo>
                      <a:pt x="83" y="471"/>
                    </a:lnTo>
                    <a:lnTo>
                      <a:pt x="66" y="454"/>
                    </a:lnTo>
                    <a:lnTo>
                      <a:pt x="51" y="435"/>
                    </a:lnTo>
                    <a:lnTo>
                      <a:pt x="38" y="416"/>
                    </a:lnTo>
                    <a:lnTo>
                      <a:pt x="27" y="394"/>
                    </a:lnTo>
                    <a:lnTo>
                      <a:pt x="18" y="371"/>
                    </a:lnTo>
                    <a:lnTo>
                      <a:pt x="10" y="346"/>
                    </a:lnTo>
                    <a:lnTo>
                      <a:pt x="5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5" y="213"/>
                    </a:lnTo>
                    <a:lnTo>
                      <a:pt x="9" y="186"/>
                    </a:lnTo>
                    <a:lnTo>
                      <a:pt x="16" y="161"/>
                    </a:lnTo>
                    <a:lnTo>
                      <a:pt x="24" y="138"/>
                    </a:lnTo>
                    <a:lnTo>
                      <a:pt x="35" y="116"/>
                    </a:lnTo>
                    <a:lnTo>
                      <a:pt x="48" y="95"/>
                    </a:lnTo>
                    <a:lnTo>
                      <a:pt x="62" y="76"/>
                    </a:lnTo>
                    <a:lnTo>
                      <a:pt x="78" y="60"/>
                    </a:lnTo>
                    <a:lnTo>
                      <a:pt x="96" y="45"/>
                    </a:lnTo>
                    <a:lnTo>
                      <a:pt x="116" y="31"/>
                    </a:lnTo>
                    <a:lnTo>
                      <a:pt x="137" y="20"/>
                    </a:lnTo>
                    <a:lnTo>
                      <a:pt x="162" y="12"/>
                    </a:lnTo>
                    <a:lnTo>
                      <a:pt x="187" y="5"/>
                    </a:lnTo>
                    <a:lnTo>
                      <a:pt x="214" y="2"/>
                    </a:lnTo>
                    <a:lnTo>
                      <a:pt x="243" y="0"/>
                    </a:lnTo>
                    <a:lnTo>
                      <a:pt x="271" y="2"/>
                    </a:lnTo>
                    <a:lnTo>
                      <a:pt x="299" y="5"/>
                    </a:lnTo>
                    <a:lnTo>
                      <a:pt x="323" y="12"/>
                    </a:lnTo>
                    <a:lnTo>
                      <a:pt x="346" y="20"/>
                    </a:lnTo>
                    <a:lnTo>
                      <a:pt x="367" y="31"/>
                    </a:lnTo>
                    <a:lnTo>
                      <a:pt x="386" y="45"/>
                    </a:lnTo>
                    <a:lnTo>
                      <a:pt x="403" y="60"/>
                    </a:lnTo>
                    <a:lnTo>
                      <a:pt x="418" y="76"/>
                    </a:lnTo>
                    <a:lnTo>
                      <a:pt x="432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1" y="161"/>
                    </a:lnTo>
                    <a:lnTo>
                      <a:pt x="468" y="185"/>
                    </a:lnTo>
                    <a:lnTo>
                      <a:pt x="472" y="210"/>
                    </a:lnTo>
                    <a:lnTo>
                      <a:pt x="475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7" y="280"/>
                    </a:lnTo>
                    <a:close/>
                    <a:moveTo>
                      <a:pt x="380" y="207"/>
                    </a:moveTo>
                    <a:lnTo>
                      <a:pt x="374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6" y="117"/>
                    </a:lnTo>
                    <a:lnTo>
                      <a:pt x="317" y="103"/>
                    </a:lnTo>
                    <a:lnTo>
                      <a:pt x="295" y="92"/>
                    </a:lnTo>
                    <a:lnTo>
                      <a:pt x="270" y="85"/>
                    </a:lnTo>
                    <a:lnTo>
                      <a:pt x="243" y="83"/>
                    </a:lnTo>
                    <a:lnTo>
                      <a:pt x="216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2" y="137"/>
                    </a:lnTo>
                    <a:lnTo>
                      <a:pt x="119" y="158"/>
                    </a:lnTo>
                    <a:lnTo>
                      <a:pt x="108" y="182"/>
                    </a:lnTo>
                    <a:lnTo>
                      <a:pt x="101" y="207"/>
                    </a:lnTo>
                    <a:lnTo>
                      <a:pt x="380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326960" y="882720"/>
                <a:ext cx="84240" cy="101520"/>
              </a:xfrm>
              <a:custGeom>
                <a:avLst/>
                <a:gdLst/>
                <a:ahLst/>
                <a:rect l="l" t="t" r="r" b="b"/>
                <a:pathLst>
                  <a:path w="404" h="530">
                    <a:moveTo>
                      <a:pt x="404" y="157"/>
                    </a:moveTo>
                    <a:lnTo>
                      <a:pt x="389" y="141"/>
                    </a:lnTo>
                    <a:lnTo>
                      <a:pt x="373" y="127"/>
                    </a:lnTo>
                    <a:lnTo>
                      <a:pt x="358" y="116"/>
                    </a:lnTo>
                    <a:lnTo>
                      <a:pt x="340" y="106"/>
                    </a:lnTo>
                    <a:lnTo>
                      <a:pt x="321" y="99"/>
                    </a:lnTo>
                    <a:lnTo>
                      <a:pt x="303" y="94"/>
                    </a:lnTo>
                    <a:lnTo>
                      <a:pt x="283" y="91"/>
                    </a:lnTo>
                    <a:lnTo>
                      <a:pt x="261" y="90"/>
                    </a:lnTo>
                    <a:lnTo>
                      <a:pt x="245" y="91"/>
                    </a:lnTo>
                    <a:lnTo>
                      <a:pt x="227" y="93"/>
                    </a:lnTo>
                    <a:lnTo>
                      <a:pt x="212" y="97"/>
                    </a:lnTo>
                    <a:lnTo>
                      <a:pt x="196" y="104"/>
                    </a:lnTo>
                    <a:lnTo>
                      <a:pt x="182" y="112"/>
                    </a:lnTo>
                    <a:lnTo>
                      <a:pt x="168" y="120"/>
                    </a:lnTo>
                    <a:lnTo>
                      <a:pt x="156" y="130"/>
                    </a:lnTo>
                    <a:lnTo>
                      <a:pt x="144" y="142"/>
                    </a:lnTo>
                    <a:lnTo>
                      <a:pt x="133" y="154"/>
                    </a:lnTo>
                    <a:lnTo>
                      <a:pt x="124" y="169"/>
                    </a:lnTo>
                    <a:lnTo>
                      <a:pt x="115" y="183"/>
                    </a:lnTo>
                    <a:lnTo>
                      <a:pt x="109" y="198"/>
                    </a:lnTo>
                    <a:lnTo>
                      <a:pt x="103" y="214"/>
                    </a:lnTo>
                    <a:lnTo>
                      <a:pt x="99" y="230"/>
                    </a:lnTo>
                    <a:lnTo>
                      <a:pt x="97" y="247"/>
                    </a:lnTo>
                    <a:lnTo>
                      <a:pt x="96" y="264"/>
                    </a:lnTo>
                    <a:lnTo>
                      <a:pt x="97" y="283"/>
                    </a:lnTo>
                    <a:lnTo>
                      <a:pt x="99" y="300"/>
                    </a:lnTo>
                    <a:lnTo>
                      <a:pt x="103" y="318"/>
                    </a:lnTo>
                    <a:lnTo>
                      <a:pt x="109" y="334"/>
                    </a:lnTo>
                    <a:lnTo>
                      <a:pt x="115" y="350"/>
                    </a:lnTo>
                    <a:lnTo>
                      <a:pt x="124" y="364"/>
                    </a:lnTo>
                    <a:lnTo>
                      <a:pt x="133" y="378"/>
                    </a:lnTo>
                    <a:lnTo>
                      <a:pt x="144" y="390"/>
                    </a:lnTo>
                    <a:lnTo>
                      <a:pt x="156" y="401"/>
                    </a:lnTo>
                    <a:lnTo>
                      <a:pt x="169" y="411"/>
                    </a:lnTo>
                    <a:lnTo>
                      <a:pt x="183" y="420"/>
                    </a:lnTo>
                    <a:lnTo>
                      <a:pt x="199" y="427"/>
                    </a:lnTo>
                    <a:lnTo>
                      <a:pt x="215" y="432"/>
                    </a:lnTo>
                    <a:lnTo>
                      <a:pt x="232" y="437"/>
                    </a:lnTo>
                    <a:lnTo>
                      <a:pt x="249" y="439"/>
                    </a:lnTo>
                    <a:lnTo>
                      <a:pt x="268" y="440"/>
                    </a:lnTo>
                    <a:lnTo>
                      <a:pt x="289" y="439"/>
                    </a:lnTo>
                    <a:lnTo>
                      <a:pt x="307" y="435"/>
                    </a:lnTo>
                    <a:lnTo>
                      <a:pt x="326" y="430"/>
                    </a:lnTo>
                    <a:lnTo>
                      <a:pt x="343" y="422"/>
                    </a:lnTo>
                    <a:lnTo>
                      <a:pt x="360" y="412"/>
                    </a:lnTo>
                    <a:lnTo>
                      <a:pt x="375" y="401"/>
                    </a:lnTo>
                    <a:lnTo>
                      <a:pt x="389" y="388"/>
                    </a:lnTo>
                    <a:lnTo>
                      <a:pt x="404" y="374"/>
                    </a:lnTo>
                    <a:lnTo>
                      <a:pt x="404" y="497"/>
                    </a:lnTo>
                    <a:lnTo>
                      <a:pt x="371" y="511"/>
                    </a:lnTo>
                    <a:lnTo>
                      <a:pt x="338" y="522"/>
                    </a:lnTo>
                    <a:lnTo>
                      <a:pt x="303" y="528"/>
                    </a:lnTo>
                    <a:lnTo>
                      <a:pt x="267" y="530"/>
                    </a:lnTo>
                    <a:lnTo>
                      <a:pt x="239" y="528"/>
                    </a:lnTo>
                    <a:lnTo>
                      <a:pt x="213" y="524"/>
                    </a:lnTo>
                    <a:lnTo>
                      <a:pt x="188" y="518"/>
                    </a:lnTo>
                    <a:lnTo>
                      <a:pt x="164" y="509"/>
                    </a:lnTo>
                    <a:lnTo>
                      <a:pt x="140" y="499"/>
                    </a:lnTo>
                    <a:lnTo>
                      <a:pt x="119" y="486"/>
                    </a:lnTo>
                    <a:lnTo>
                      <a:pt x="98" y="472"/>
                    </a:lnTo>
                    <a:lnTo>
                      <a:pt x="79" y="454"/>
                    </a:lnTo>
                    <a:lnTo>
                      <a:pt x="62" y="437"/>
                    </a:lnTo>
                    <a:lnTo>
                      <a:pt x="46" y="416"/>
                    </a:lnTo>
                    <a:lnTo>
                      <a:pt x="33" y="395"/>
                    </a:lnTo>
                    <a:lnTo>
                      <a:pt x="21" y="372"/>
                    </a:lnTo>
                    <a:lnTo>
                      <a:pt x="12" y="348"/>
                    </a:lnTo>
                    <a:lnTo>
                      <a:pt x="6" y="322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6" y="213"/>
                    </a:lnTo>
                    <a:lnTo>
                      <a:pt x="12" y="186"/>
                    </a:lnTo>
                    <a:lnTo>
                      <a:pt x="21" y="161"/>
                    </a:lnTo>
                    <a:lnTo>
                      <a:pt x="33" y="138"/>
                    </a:lnTo>
                    <a:lnTo>
                      <a:pt x="46" y="115"/>
                    </a:lnTo>
                    <a:lnTo>
                      <a:pt x="62" y="95"/>
                    </a:lnTo>
                    <a:lnTo>
                      <a:pt x="79" y="76"/>
                    </a:lnTo>
                    <a:lnTo>
                      <a:pt x="98" y="59"/>
                    </a:lnTo>
                    <a:lnTo>
                      <a:pt x="119" y="45"/>
                    </a:lnTo>
                    <a:lnTo>
                      <a:pt x="142" y="31"/>
                    </a:lnTo>
                    <a:lnTo>
                      <a:pt x="165" y="20"/>
                    </a:lnTo>
                    <a:lnTo>
                      <a:pt x="190" y="12"/>
                    </a:lnTo>
                    <a:lnTo>
                      <a:pt x="216" y="5"/>
                    </a:lnTo>
                    <a:lnTo>
                      <a:pt x="244" y="2"/>
                    </a:lnTo>
                    <a:lnTo>
                      <a:pt x="272" y="0"/>
                    </a:lnTo>
                    <a:lnTo>
                      <a:pt x="306" y="2"/>
                    </a:lnTo>
                    <a:lnTo>
                      <a:pt x="340" y="8"/>
                    </a:lnTo>
                    <a:lnTo>
                      <a:pt x="373" y="18"/>
                    </a:lnTo>
                    <a:lnTo>
                      <a:pt x="404" y="32"/>
                    </a:lnTo>
                    <a:lnTo>
                      <a:pt x="404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423440" y="882720"/>
                <a:ext cx="111600" cy="101520"/>
              </a:xfrm>
              <a:custGeom>
                <a:avLst/>
                <a:gdLst/>
                <a:ahLst/>
                <a:rect l="l" t="t" r="r" b="b"/>
                <a:pathLst>
                  <a:path w="532" h="530">
                    <a:moveTo>
                      <a:pt x="532" y="264"/>
                    </a:moveTo>
                    <a:lnTo>
                      <a:pt x="530" y="293"/>
                    </a:lnTo>
                    <a:lnTo>
                      <a:pt x="527" y="319"/>
                    </a:lnTo>
                    <a:lnTo>
                      <a:pt x="520" y="344"/>
                    </a:lnTo>
                    <a:lnTo>
                      <a:pt x="511" y="370"/>
                    </a:lnTo>
                    <a:lnTo>
                      <a:pt x="501" y="393"/>
                    </a:lnTo>
                    <a:lnTo>
                      <a:pt x="487" y="415"/>
                    </a:lnTo>
                    <a:lnTo>
                      <a:pt x="472" y="434"/>
                    </a:lnTo>
                    <a:lnTo>
                      <a:pt x="454" y="453"/>
                    </a:lnTo>
                    <a:lnTo>
                      <a:pt x="436" y="471"/>
                    </a:lnTo>
                    <a:lnTo>
                      <a:pt x="416" y="485"/>
                    </a:lnTo>
                    <a:lnTo>
                      <a:pt x="394" y="498"/>
                    </a:lnTo>
                    <a:lnTo>
                      <a:pt x="370" y="509"/>
                    </a:lnTo>
                    <a:lnTo>
                      <a:pt x="346" y="518"/>
                    </a:lnTo>
                    <a:lnTo>
                      <a:pt x="321" y="524"/>
                    </a:lnTo>
                    <a:lnTo>
                      <a:pt x="293" y="528"/>
                    </a:lnTo>
                    <a:lnTo>
                      <a:pt x="266" y="530"/>
                    </a:lnTo>
                    <a:lnTo>
                      <a:pt x="238" y="528"/>
                    </a:lnTo>
                    <a:lnTo>
                      <a:pt x="212" y="524"/>
                    </a:lnTo>
                    <a:lnTo>
                      <a:pt x="187" y="518"/>
                    </a:lnTo>
                    <a:lnTo>
                      <a:pt x="162" y="509"/>
                    </a:lnTo>
                    <a:lnTo>
                      <a:pt x="139" y="498"/>
                    </a:lnTo>
                    <a:lnTo>
                      <a:pt x="117" y="485"/>
                    </a:lnTo>
                    <a:lnTo>
                      <a:pt x="97" y="471"/>
                    </a:lnTo>
                    <a:lnTo>
                      <a:pt x="78" y="453"/>
                    </a:lnTo>
                    <a:lnTo>
                      <a:pt x="61" y="434"/>
                    </a:lnTo>
                    <a:lnTo>
                      <a:pt x="45" y="415"/>
                    </a:lnTo>
                    <a:lnTo>
                      <a:pt x="32" y="393"/>
                    </a:lnTo>
                    <a:lnTo>
                      <a:pt x="21" y="370"/>
                    </a:lnTo>
                    <a:lnTo>
                      <a:pt x="12" y="344"/>
                    </a:lnTo>
                    <a:lnTo>
                      <a:pt x="6" y="319"/>
                    </a:lnTo>
                    <a:lnTo>
                      <a:pt x="3" y="293"/>
                    </a:lnTo>
                    <a:lnTo>
                      <a:pt x="0" y="264"/>
                    </a:lnTo>
                    <a:lnTo>
                      <a:pt x="3" y="237"/>
                    </a:lnTo>
                    <a:lnTo>
                      <a:pt x="6" y="210"/>
                    </a:lnTo>
                    <a:lnTo>
                      <a:pt x="12" y="185"/>
                    </a:lnTo>
                    <a:lnTo>
                      <a:pt x="21" y="160"/>
                    </a:lnTo>
                    <a:lnTo>
                      <a:pt x="32" y="137"/>
                    </a:lnTo>
                    <a:lnTo>
                      <a:pt x="45" y="115"/>
                    </a:lnTo>
                    <a:lnTo>
                      <a:pt x="61" y="95"/>
                    </a:lnTo>
                    <a:lnTo>
                      <a:pt x="78" y="76"/>
                    </a:lnTo>
                    <a:lnTo>
                      <a:pt x="97" y="59"/>
                    </a:lnTo>
                    <a:lnTo>
                      <a:pt x="117" y="45"/>
                    </a:lnTo>
                    <a:lnTo>
                      <a:pt x="139" y="31"/>
                    </a:lnTo>
                    <a:lnTo>
                      <a:pt x="162" y="20"/>
                    </a:lnTo>
                    <a:lnTo>
                      <a:pt x="187" y="12"/>
                    </a:lnTo>
                    <a:lnTo>
                      <a:pt x="212" y="5"/>
                    </a:lnTo>
                    <a:lnTo>
                      <a:pt x="238" y="2"/>
                    </a:lnTo>
                    <a:lnTo>
                      <a:pt x="266" y="0"/>
                    </a:lnTo>
                    <a:lnTo>
                      <a:pt x="293" y="2"/>
                    </a:lnTo>
                    <a:lnTo>
                      <a:pt x="321" y="5"/>
                    </a:lnTo>
                    <a:lnTo>
                      <a:pt x="346" y="12"/>
                    </a:lnTo>
                    <a:lnTo>
                      <a:pt x="370" y="20"/>
                    </a:lnTo>
                    <a:lnTo>
                      <a:pt x="394" y="31"/>
                    </a:lnTo>
                    <a:lnTo>
                      <a:pt x="416" y="45"/>
                    </a:lnTo>
                    <a:lnTo>
                      <a:pt x="436" y="59"/>
                    </a:lnTo>
                    <a:lnTo>
                      <a:pt x="454" y="76"/>
                    </a:lnTo>
                    <a:lnTo>
                      <a:pt x="472" y="95"/>
                    </a:lnTo>
                    <a:lnTo>
                      <a:pt x="487" y="115"/>
                    </a:lnTo>
                    <a:lnTo>
                      <a:pt x="501" y="137"/>
                    </a:lnTo>
                    <a:lnTo>
                      <a:pt x="511" y="160"/>
                    </a:lnTo>
                    <a:lnTo>
                      <a:pt x="520" y="185"/>
                    </a:lnTo>
                    <a:lnTo>
                      <a:pt x="527" y="210"/>
                    </a:lnTo>
                    <a:lnTo>
                      <a:pt x="530" y="237"/>
                    </a:lnTo>
                    <a:lnTo>
                      <a:pt x="532" y="264"/>
                    </a:lnTo>
                    <a:close/>
                    <a:moveTo>
                      <a:pt x="96" y="264"/>
                    </a:moveTo>
                    <a:lnTo>
                      <a:pt x="97" y="282"/>
                    </a:lnTo>
                    <a:lnTo>
                      <a:pt x="100" y="299"/>
                    </a:lnTo>
                    <a:lnTo>
                      <a:pt x="103" y="316"/>
                    </a:lnTo>
                    <a:lnTo>
                      <a:pt x="110" y="331"/>
                    </a:lnTo>
                    <a:lnTo>
                      <a:pt x="117" y="346"/>
                    </a:lnTo>
                    <a:lnTo>
                      <a:pt x="125" y="361"/>
                    </a:lnTo>
                    <a:lnTo>
                      <a:pt x="135" y="374"/>
                    </a:lnTo>
                    <a:lnTo>
                      <a:pt x="146" y="386"/>
                    </a:lnTo>
                    <a:lnTo>
                      <a:pt x="158" y="398"/>
                    </a:lnTo>
                    <a:lnTo>
                      <a:pt x="171" y="408"/>
                    </a:lnTo>
                    <a:lnTo>
                      <a:pt x="185" y="417"/>
                    </a:lnTo>
                    <a:lnTo>
                      <a:pt x="200" y="424"/>
                    </a:lnTo>
                    <a:lnTo>
                      <a:pt x="215" y="430"/>
                    </a:lnTo>
                    <a:lnTo>
                      <a:pt x="232" y="434"/>
                    </a:lnTo>
                    <a:lnTo>
                      <a:pt x="248" y="437"/>
                    </a:lnTo>
                    <a:lnTo>
                      <a:pt x="266" y="438"/>
                    </a:lnTo>
                    <a:lnTo>
                      <a:pt x="283" y="437"/>
                    </a:lnTo>
                    <a:lnTo>
                      <a:pt x="301" y="434"/>
                    </a:lnTo>
                    <a:lnTo>
                      <a:pt x="317" y="430"/>
                    </a:lnTo>
                    <a:lnTo>
                      <a:pt x="333" y="424"/>
                    </a:lnTo>
                    <a:lnTo>
                      <a:pt x="348" y="417"/>
                    </a:lnTo>
                    <a:lnTo>
                      <a:pt x="361" y="408"/>
                    </a:lnTo>
                    <a:lnTo>
                      <a:pt x="374" y="398"/>
                    </a:lnTo>
                    <a:lnTo>
                      <a:pt x="386" y="386"/>
                    </a:lnTo>
                    <a:lnTo>
                      <a:pt x="397" y="374"/>
                    </a:lnTo>
                    <a:lnTo>
                      <a:pt x="407" y="361"/>
                    </a:lnTo>
                    <a:lnTo>
                      <a:pt x="416" y="346"/>
                    </a:lnTo>
                    <a:lnTo>
                      <a:pt x="423" y="331"/>
                    </a:lnTo>
                    <a:lnTo>
                      <a:pt x="428" y="316"/>
                    </a:lnTo>
                    <a:lnTo>
                      <a:pt x="433" y="299"/>
                    </a:lnTo>
                    <a:lnTo>
                      <a:pt x="436" y="282"/>
                    </a:lnTo>
                    <a:lnTo>
                      <a:pt x="436" y="264"/>
                    </a:lnTo>
                    <a:lnTo>
                      <a:pt x="436" y="248"/>
                    </a:lnTo>
                    <a:lnTo>
                      <a:pt x="433" y="230"/>
                    </a:lnTo>
                    <a:lnTo>
                      <a:pt x="428" y="214"/>
                    </a:lnTo>
                    <a:lnTo>
                      <a:pt x="423" y="197"/>
                    </a:lnTo>
                    <a:lnTo>
                      <a:pt x="416" y="183"/>
                    </a:lnTo>
                    <a:lnTo>
                      <a:pt x="407" y="169"/>
                    </a:lnTo>
                    <a:lnTo>
                      <a:pt x="397" y="154"/>
                    </a:lnTo>
                    <a:lnTo>
                      <a:pt x="386" y="142"/>
                    </a:lnTo>
                    <a:lnTo>
                      <a:pt x="374" y="131"/>
                    </a:lnTo>
                    <a:lnTo>
                      <a:pt x="361" y="121"/>
                    </a:lnTo>
                    <a:lnTo>
                      <a:pt x="348" y="113"/>
                    </a:lnTo>
                    <a:lnTo>
                      <a:pt x="333" y="105"/>
                    </a:lnTo>
                    <a:lnTo>
                      <a:pt x="317" y="99"/>
                    </a:lnTo>
                    <a:lnTo>
                      <a:pt x="301" y="95"/>
                    </a:lnTo>
                    <a:lnTo>
                      <a:pt x="283" y="92"/>
                    </a:lnTo>
                    <a:lnTo>
                      <a:pt x="266" y="92"/>
                    </a:lnTo>
                    <a:lnTo>
                      <a:pt x="248" y="92"/>
                    </a:lnTo>
                    <a:lnTo>
                      <a:pt x="232" y="95"/>
                    </a:lnTo>
                    <a:lnTo>
                      <a:pt x="215" y="99"/>
                    </a:lnTo>
                    <a:lnTo>
                      <a:pt x="200" y="105"/>
                    </a:lnTo>
                    <a:lnTo>
                      <a:pt x="185" y="113"/>
                    </a:lnTo>
                    <a:lnTo>
                      <a:pt x="171" y="121"/>
                    </a:lnTo>
                    <a:lnTo>
                      <a:pt x="158" y="131"/>
                    </a:lnTo>
                    <a:lnTo>
                      <a:pt x="146" y="142"/>
                    </a:lnTo>
                    <a:lnTo>
                      <a:pt x="135" y="154"/>
                    </a:lnTo>
                    <a:lnTo>
                      <a:pt x="125" y="169"/>
                    </a:lnTo>
                    <a:lnTo>
                      <a:pt x="117" y="183"/>
                    </a:lnTo>
                    <a:lnTo>
                      <a:pt x="110" y="197"/>
                    </a:lnTo>
                    <a:lnTo>
                      <a:pt x="103" y="214"/>
                    </a:lnTo>
                    <a:lnTo>
                      <a:pt x="100" y="230"/>
                    </a:lnTo>
                    <a:lnTo>
                      <a:pt x="97" y="248"/>
                    </a:lnTo>
                    <a:lnTo>
                      <a:pt x="96" y="2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549440" y="882720"/>
                <a:ext cx="144360" cy="98280"/>
              </a:xfrm>
              <a:custGeom>
                <a:avLst/>
                <a:gdLst/>
                <a:ahLst/>
                <a:rect l="l" t="t" r="r" b="b"/>
                <a:pathLst>
                  <a:path w="690" h="512">
                    <a:moveTo>
                      <a:pt x="96" y="77"/>
                    </a:moveTo>
                    <a:lnTo>
                      <a:pt x="98" y="77"/>
                    </a:lnTo>
                    <a:lnTo>
                      <a:pt x="109" y="62"/>
                    </a:lnTo>
                    <a:lnTo>
                      <a:pt x="122" y="47"/>
                    </a:lnTo>
                    <a:lnTo>
                      <a:pt x="137" y="34"/>
                    </a:lnTo>
                    <a:lnTo>
                      <a:pt x="154" y="23"/>
                    </a:lnTo>
                    <a:lnTo>
                      <a:pt x="171" y="13"/>
                    </a:lnTo>
                    <a:lnTo>
                      <a:pt x="190" y="6"/>
                    </a:lnTo>
                    <a:lnTo>
                      <a:pt x="210" y="2"/>
                    </a:lnTo>
                    <a:lnTo>
                      <a:pt x="229" y="0"/>
                    </a:lnTo>
                    <a:lnTo>
                      <a:pt x="253" y="2"/>
                    </a:lnTo>
                    <a:lnTo>
                      <a:pt x="274" y="6"/>
                    </a:lnTo>
                    <a:lnTo>
                      <a:pt x="295" y="13"/>
                    </a:lnTo>
                    <a:lnTo>
                      <a:pt x="314" y="24"/>
                    </a:lnTo>
                    <a:lnTo>
                      <a:pt x="330" y="36"/>
                    </a:lnTo>
                    <a:lnTo>
                      <a:pt x="346" y="51"/>
                    </a:lnTo>
                    <a:lnTo>
                      <a:pt x="360" y="69"/>
                    </a:lnTo>
                    <a:lnTo>
                      <a:pt x="373" y="88"/>
                    </a:lnTo>
                    <a:lnTo>
                      <a:pt x="385" y="69"/>
                    </a:lnTo>
                    <a:lnTo>
                      <a:pt x="401" y="52"/>
                    </a:lnTo>
                    <a:lnTo>
                      <a:pt x="418" y="37"/>
                    </a:lnTo>
                    <a:lnTo>
                      <a:pt x="438" y="24"/>
                    </a:lnTo>
                    <a:lnTo>
                      <a:pt x="458" y="14"/>
                    </a:lnTo>
                    <a:lnTo>
                      <a:pt x="480" y="6"/>
                    </a:lnTo>
                    <a:lnTo>
                      <a:pt x="503" y="2"/>
                    </a:lnTo>
                    <a:lnTo>
                      <a:pt x="526" y="0"/>
                    </a:lnTo>
                    <a:lnTo>
                      <a:pt x="550" y="1"/>
                    </a:lnTo>
                    <a:lnTo>
                      <a:pt x="571" y="5"/>
                    </a:lnTo>
                    <a:lnTo>
                      <a:pt x="589" y="11"/>
                    </a:lnTo>
                    <a:lnTo>
                      <a:pt x="607" y="17"/>
                    </a:lnTo>
                    <a:lnTo>
                      <a:pt x="622" y="27"/>
                    </a:lnTo>
                    <a:lnTo>
                      <a:pt x="635" y="38"/>
                    </a:lnTo>
                    <a:lnTo>
                      <a:pt x="647" y="51"/>
                    </a:lnTo>
                    <a:lnTo>
                      <a:pt x="657" y="65"/>
                    </a:lnTo>
                    <a:lnTo>
                      <a:pt x="666" y="81"/>
                    </a:lnTo>
                    <a:lnTo>
                      <a:pt x="673" y="97"/>
                    </a:lnTo>
                    <a:lnTo>
                      <a:pt x="678" y="115"/>
                    </a:lnTo>
                    <a:lnTo>
                      <a:pt x="684" y="133"/>
                    </a:lnTo>
                    <a:lnTo>
                      <a:pt x="689" y="173"/>
                    </a:lnTo>
                    <a:lnTo>
                      <a:pt x="690" y="215"/>
                    </a:lnTo>
                    <a:lnTo>
                      <a:pt x="690" y="512"/>
                    </a:lnTo>
                    <a:lnTo>
                      <a:pt x="595" y="512"/>
                    </a:lnTo>
                    <a:lnTo>
                      <a:pt x="595" y="230"/>
                    </a:lnTo>
                    <a:lnTo>
                      <a:pt x="595" y="206"/>
                    </a:lnTo>
                    <a:lnTo>
                      <a:pt x="593" y="181"/>
                    </a:lnTo>
                    <a:lnTo>
                      <a:pt x="588" y="157"/>
                    </a:lnTo>
                    <a:lnTo>
                      <a:pt x="580" y="133"/>
                    </a:lnTo>
                    <a:lnTo>
                      <a:pt x="568" y="114"/>
                    </a:lnTo>
                    <a:lnTo>
                      <a:pt x="561" y="106"/>
                    </a:lnTo>
                    <a:lnTo>
                      <a:pt x="552" y="98"/>
                    </a:lnTo>
                    <a:lnTo>
                      <a:pt x="542" y="93"/>
                    </a:lnTo>
                    <a:lnTo>
                      <a:pt x="531" y="88"/>
                    </a:lnTo>
                    <a:lnTo>
                      <a:pt x="517" y="86"/>
                    </a:lnTo>
                    <a:lnTo>
                      <a:pt x="503" y="85"/>
                    </a:lnTo>
                    <a:lnTo>
                      <a:pt x="484" y="86"/>
                    </a:lnTo>
                    <a:lnTo>
                      <a:pt x="469" y="90"/>
                    </a:lnTo>
                    <a:lnTo>
                      <a:pt x="454" y="95"/>
                    </a:lnTo>
                    <a:lnTo>
                      <a:pt x="442" y="103"/>
                    </a:lnTo>
                    <a:lnTo>
                      <a:pt x="432" y="112"/>
                    </a:lnTo>
                    <a:lnTo>
                      <a:pt x="423" y="123"/>
                    </a:lnTo>
                    <a:lnTo>
                      <a:pt x="416" y="135"/>
                    </a:lnTo>
                    <a:lnTo>
                      <a:pt x="409" y="148"/>
                    </a:lnTo>
                    <a:lnTo>
                      <a:pt x="401" y="176"/>
                    </a:lnTo>
                    <a:lnTo>
                      <a:pt x="396" y="207"/>
                    </a:lnTo>
                    <a:lnTo>
                      <a:pt x="394" y="238"/>
                    </a:lnTo>
                    <a:lnTo>
                      <a:pt x="393" y="267"/>
                    </a:lnTo>
                    <a:lnTo>
                      <a:pt x="393" y="512"/>
                    </a:lnTo>
                    <a:lnTo>
                      <a:pt x="297" y="512"/>
                    </a:lnTo>
                    <a:lnTo>
                      <a:pt x="297" y="249"/>
                    </a:lnTo>
                    <a:lnTo>
                      <a:pt x="297" y="224"/>
                    </a:lnTo>
                    <a:lnTo>
                      <a:pt x="295" y="196"/>
                    </a:lnTo>
                    <a:lnTo>
                      <a:pt x="292" y="169"/>
                    </a:lnTo>
                    <a:lnTo>
                      <a:pt x="285" y="142"/>
                    </a:lnTo>
                    <a:lnTo>
                      <a:pt x="280" y="130"/>
                    </a:lnTo>
                    <a:lnTo>
                      <a:pt x="273" y="119"/>
                    </a:lnTo>
                    <a:lnTo>
                      <a:pt x="267" y="110"/>
                    </a:lnTo>
                    <a:lnTo>
                      <a:pt x="258" y="102"/>
                    </a:lnTo>
                    <a:lnTo>
                      <a:pt x="247" y="95"/>
                    </a:lnTo>
                    <a:lnTo>
                      <a:pt x="235" y="90"/>
                    </a:lnTo>
                    <a:lnTo>
                      <a:pt x="222" y="86"/>
                    </a:lnTo>
                    <a:lnTo>
                      <a:pt x="206" y="85"/>
                    </a:lnTo>
                    <a:lnTo>
                      <a:pt x="188" y="86"/>
                    </a:lnTo>
                    <a:lnTo>
                      <a:pt x="172" y="90"/>
                    </a:lnTo>
                    <a:lnTo>
                      <a:pt x="158" y="95"/>
                    </a:lnTo>
                    <a:lnTo>
                      <a:pt x="146" y="103"/>
                    </a:lnTo>
                    <a:lnTo>
                      <a:pt x="135" y="112"/>
                    </a:lnTo>
                    <a:lnTo>
                      <a:pt x="126" y="123"/>
                    </a:lnTo>
                    <a:lnTo>
                      <a:pt x="119" y="135"/>
                    </a:lnTo>
                    <a:lnTo>
                      <a:pt x="113" y="148"/>
                    </a:lnTo>
                    <a:lnTo>
                      <a:pt x="103" y="176"/>
                    </a:lnTo>
                    <a:lnTo>
                      <a:pt x="99" y="207"/>
                    </a:lnTo>
                    <a:lnTo>
                      <a:pt x="97" y="238"/>
                    </a:lnTo>
                    <a:lnTo>
                      <a:pt x="96" y="267"/>
                    </a:lnTo>
                    <a:lnTo>
                      <a:pt x="96" y="512"/>
                    </a:lnTo>
                    <a:lnTo>
                      <a:pt x="0" y="512"/>
                    </a:lnTo>
                    <a:lnTo>
                      <a:pt x="0" y="15"/>
                    </a:lnTo>
                    <a:lnTo>
                      <a:pt x="96" y="15"/>
                    </a:lnTo>
                    <a:lnTo>
                      <a:pt x="96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908640" y="1022400"/>
                <a:ext cx="9082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a-DK" sz="600" spc="-1" strike="noStrike">
                    <a:solidFill>
                      <a:srgbClr val="ffffff"/>
                    </a:solidFill>
                    <a:latin typeface="Futura Bk BT"/>
                  </a:rPr>
                  <a:t>www.kirktelecom.dk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4" name=""/>
          <p:cNvSpPr/>
          <p:nvPr/>
        </p:nvSpPr>
        <p:spPr>
          <a:xfrm>
            <a:off x="2228760" y="0"/>
            <a:ext cx="76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CCFP Administration Program Ver.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2"/>
          <a:stretch/>
        </p:blipFill>
        <p:spPr>
          <a:xfrm>
            <a:off x="3181320" y="517680"/>
            <a:ext cx="5486400" cy="3952800"/>
          </a:xfrm>
          <a:prstGeom prst="rect">
            <a:avLst/>
          </a:prstGeom>
          <a:ln w="0">
            <a:noFill/>
          </a:ln>
        </p:spPr>
      </p:pic>
      <p:sp>
        <p:nvSpPr>
          <p:cNvPr id="806" name=""/>
          <p:cNvSpPr/>
          <p:nvPr/>
        </p:nvSpPr>
        <p:spPr>
          <a:xfrm>
            <a:off x="3082320" y="4506840"/>
            <a:ext cx="638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пуск записи отчет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g file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храняемого в памяти систе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ли в П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F7E3-6A75-42B8-9645-2D018735C245}" type="slidenum">
              <a:t>23</a:t>
            </a:fld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2889360" y="457200"/>
            <a:ext cx="6521400" cy="0"/>
          </a:xfrm>
          <a:prstGeom prst="line">
            <a:avLst/>
          </a:prstGeom>
          <a:ln cap="sq"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0" y="0"/>
            <a:ext cx="6129000" cy="6858000"/>
            <a:chOff x="0" y="0"/>
            <a:chExt cx="6129000" cy="6858000"/>
          </a:xfrm>
        </p:grpSpPr>
        <p:sp>
          <p:nvSpPr>
            <p:cNvPr id="809" name=""/>
            <p:cNvSpPr/>
            <p:nvPr/>
          </p:nvSpPr>
          <p:spPr>
            <a:xfrm>
              <a:off x="0" y="0"/>
              <a:ext cx="2228760" cy="3429000"/>
            </a:xfrm>
            <a:prstGeom prst="rect">
              <a:avLst/>
            </a:prstGeom>
            <a:solidFill>
              <a:srgbClr val="000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0" y="3429000"/>
              <a:ext cx="2228760" cy="3429000"/>
            </a:xfrm>
            <a:prstGeom prst="rect">
              <a:avLst/>
            </a:pr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91836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79924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3" name="" descr=""/>
            <p:cNvPicPr/>
            <p:nvPr/>
          </p:nvPicPr>
          <p:blipFill>
            <a:blip r:embed="rId1"/>
            <a:stretch/>
          </p:blipFill>
          <p:spPr>
            <a:xfrm>
              <a:off x="201240" y="2055960"/>
              <a:ext cx="1705680" cy="271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14" name=""/>
            <p:cNvGrpSpPr/>
            <p:nvPr/>
          </p:nvGrpSpPr>
          <p:grpSpPr>
            <a:xfrm>
              <a:off x="211320" y="380880"/>
              <a:ext cx="1605600" cy="821880"/>
              <a:chOff x="211320" y="380880"/>
              <a:chExt cx="1605600" cy="821880"/>
            </a:xfrm>
          </p:grpSpPr>
          <p:sp>
            <p:nvSpPr>
              <p:cNvPr id="815" name=""/>
              <p:cNvSpPr/>
              <p:nvPr/>
            </p:nvSpPr>
            <p:spPr>
              <a:xfrm>
                <a:off x="403920" y="38088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7">
                    <a:moveTo>
                      <a:pt x="29" y="1655"/>
                    </a:moveTo>
                    <a:lnTo>
                      <a:pt x="79" y="1682"/>
                    </a:lnTo>
                    <a:lnTo>
                      <a:pt x="623" y="1957"/>
                    </a:lnTo>
                    <a:lnTo>
                      <a:pt x="684" y="1987"/>
                    </a:lnTo>
                    <a:lnTo>
                      <a:pt x="687" y="1916"/>
                    </a:lnTo>
                    <a:lnTo>
                      <a:pt x="691" y="1864"/>
                    </a:lnTo>
                    <a:lnTo>
                      <a:pt x="697" y="1814"/>
                    </a:lnTo>
                    <a:lnTo>
                      <a:pt x="704" y="1763"/>
                    </a:lnTo>
                    <a:lnTo>
                      <a:pt x="713" y="1714"/>
                    </a:lnTo>
                    <a:lnTo>
                      <a:pt x="724" y="1665"/>
                    </a:lnTo>
                    <a:lnTo>
                      <a:pt x="737" y="1616"/>
                    </a:lnTo>
                    <a:lnTo>
                      <a:pt x="751" y="1569"/>
                    </a:lnTo>
                    <a:lnTo>
                      <a:pt x="767" y="1522"/>
                    </a:lnTo>
                    <a:lnTo>
                      <a:pt x="784" y="1476"/>
                    </a:lnTo>
                    <a:lnTo>
                      <a:pt x="803" y="1431"/>
                    </a:lnTo>
                    <a:lnTo>
                      <a:pt x="824" y="1386"/>
                    </a:lnTo>
                    <a:lnTo>
                      <a:pt x="846" y="1343"/>
                    </a:lnTo>
                    <a:lnTo>
                      <a:pt x="869" y="1300"/>
                    </a:lnTo>
                    <a:lnTo>
                      <a:pt x="894" y="1257"/>
                    </a:lnTo>
                    <a:lnTo>
                      <a:pt x="920" y="1217"/>
                    </a:lnTo>
                    <a:lnTo>
                      <a:pt x="948" y="1177"/>
                    </a:lnTo>
                    <a:lnTo>
                      <a:pt x="976" y="1137"/>
                    </a:lnTo>
                    <a:lnTo>
                      <a:pt x="1007" y="1100"/>
                    </a:lnTo>
                    <a:lnTo>
                      <a:pt x="1038" y="1063"/>
                    </a:lnTo>
                    <a:lnTo>
                      <a:pt x="1071" y="1027"/>
                    </a:lnTo>
                    <a:lnTo>
                      <a:pt x="1105" y="993"/>
                    </a:lnTo>
                    <a:lnTo>
                      <a:pt x="1140" y="959"/>
                    </a:lnTo>
                    <a:lnTo>
                      <a:pt x="1176" y="927"/>
                    </a:lnTo>
                    <a:lnTo>
                      <a:pt x="1213" y="896"/>
                    </a:lnTo>
                    <a:lnTo>
                      <a:pt x="1250" y="866"/>
                    </a:lnTo>
                    <a:lnTo>
                      <a:pt x="1290" y="838"/>
                    </a:lnTo>
                    <a:lnTo>
                      <a:pt x="1331" y="810"/>
                    </a:lnTo>
                    <a:lnTo>
                      <a:pt x="1372" y="785"/>
                    </a:lnTo>
                    <a:lnTo>
                      <a:pt x="1414" y="760"/>
                    </a:lnTo>
                    <a:lnTo>
                      <a:pt x="1457" y="737"/>
                    </a:lnTo>
                    <a:lnTo>
                      <a:pt x="1501" y="716"/>
                    </a:lnTo>
                    <a:lnTo>
                      <a:pt x="1546" y="696"/>
                    </a:lnTo>
                    <a:lnTo>
                      <a:pt x="1584" y="680"/>
                    </a:lnTo>
                    <a:lnTo>
                      <a:pt x="1594" y="673"/>
                    </a:lnTo>
                    <a:lnTo>
                      <a:pt x="1600" y="665"/>
                    </a:lnTo>
                    <a:lnTo>
                      <a:pt x="1604" y="658"/>
                    </a:lnTo>
                    <a:lnTo>
                      <a:pt x="1606" y="650"/>
                    </a:lnTo>
                    <a:lnTo>
                      <a:pt x="1605" y="638"/>
                    </a:lnTo>
                    <a:lnTo>
                      <a:pt x="1603" y="632"/>
                    </a:lnTo>
                    <a:lnTo>
                      <a:pt x="1586" y="586"/>
                    </a:lnTo>
                    <a:lnTo>
                      <a:pt x="1385" y="31"/>
                    </a:lnTo>
                    <a:lnTo>
                      <a:pt x="1381" y="18"/>
                    </a:lnTo>
                    <a:lnTo>
                      <a:pt x="1380" y="13"/>
                    </a:lnTo>
                    <a:lnTo>
                      <a:pt x="1372" y="5"/>
                    </a:lnTo>
                    <a:lnTo>
                      <a:pt x="1367" y="2"/>
                    </a:lnTo>
                    <a:lnTo>
                      <a:pt x="1359" y="0"/>
                    </a:lnTo>
                    <a:lnTo>
                      <a:pt x="1349" y="0"/>
                    </a:lnTo>
                    <a:lnTo>
                      <a:pt x="1337" y="3"/>
                    </a:lnTo>
                    <a:lnTo>
                      <a:pt x="1307" y="14"/>
                    </a:lnTo>
                    <a:lnTo>
                      <a:pt x="1248" y="37"/>
                    </a:lnTo>
                    <a:lnTo>
                      <a:pt x="1190" y="63"/>
                    </a:lnTo>
                    <a:lnTo>
                      <a:pt x="1133" y="89"/>
                    </a:lnTo>
                    <a:lnTo>
                      <a:pt x="1076" y="119"/>
                    </a:lnTo>
                    <a:lnTo>
                      <a:pt x="1021" y="149"/>
                    </a:lnTo>
                    <a:lnTo>
                      <a:pt x="966" y="181"/>
                    </a:lnTo>
                    <a:lnTo>
                      <a:pt x="913" y="215"/>
                    </a:lnTo>
                    <a:lnTo>
                      <a:pt x="861" y="251"/>
                    </a:lnTo>
                    <a:lnTo>
                      <a:pt x="810" y="289"/>
                    </a:lnTo>
                    <a:lnTo>
                      <a:pt x="759" y="328"/>
                    </a:lnTo>
                    <a:lnTo>
                      <a:pt x="711" y="369"/>
                    </a:lnTo>
                    <a:lnTo>
                      <a:pt x="663" y="411"/>
                    </a:lnTo>
                    <a:lnTo>
                      <a:pt x="616" y="455"/>
                    </a:lnTo>
                    <a:lnTo>
                      <a:pt x="572" y="501"/>
                    </a:lnTo>
                    <a:lnTo>
                      <a:pt x="528" y="547"/>
                    </a:lnTo>
                    <a:lnTo>
                      <a:pt x="485" y="595"/>
                    </a:lnTo>
                    <a:lnTo>
                      <a:pt x="443" y="645"/>
                    </a:lnTo>
                    <a:lnTo>
                      <a:pt x="404" y="695"/>
                    </a:lnTo>
                    <a:lnTo>
                      <a:pt x="365" y="747"/>
                    </a:lnTo>
                    <a:lnTo>
                      <a:pt x="329" y="800"/>
                    </a:lnTo>
                    <a:lnTo>
                      <a:pt x="294" y="854"/>
                    </a:lnTo>
                    <a:lnTo>
                      <a:pt x="260" y="910"/>
                    </a:lnTo>
                    <a:lnTo>
                      <a:pt x="228" y="967"/>
                    </a:lnTo>
                    <a:lnTo>
                      <a:pt x="197" y="1024"/>
                    </a:lnTo>
                    <a:lnTo>
                      <a:pt x="169" y="1084"/>
                    </a:lnTo>
                    <a:lnTo>
                      <a:pt x="142" y="1144"/>
                    </a:lnTo>
                    <a:lnTo>
                      <a:pt x="116" y="1204"/>
                    </a:lnTo>
                    <a:lnTo>
                      <a:pt x="93" y="1266"/>
                    </a:lnTo>
                    <a:lnTo>
                      <a:pt x="71" y="1329"/>
                    </a:lnTo>
                    <a:lnTo>
                      <a:pt x="52" y="1392"/>
                    </a:lnTo>
                    <a:lnTo>
                      <a:pt x="34" y="1457"/>
                    </a:lnTo>
                    <a:lnTo>
                      <a:pt x="18" y="1522"/>
                    </a:lnTo>
                    <a:lnTo>
                      <a:pt x="2" y="1593"/>
                    </a:lnTo>
                    <a:lnTo>
                      <a:pt x="0" y="1610"/>
                    </a:lnTo>
                    <a:lnTo>
                      <a:pt x="1" y="1623"/>
                    </a:lnTo>
                    <a:lnTo>
                      <a:pt x="6" y="1634"/>
                    </a:lnTo>
                    <a:lnTo>
                      <a:pt x="11" y="1643"/>
                    </a:lnTo>
                    <a:lnTo>
                      <a:pt x="17" y="1648"/>
                    </a:lnTo>
                    <a:lnTo>
                      <a:pt x="23" y="1652"/>
                    </a:lnTo>
                    <a:lnTo>
                      <a:pt x="29" y="1655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03920" y="77004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5">
                    <a:moveTo>
                      <a:pt x="29" y="333"/>
                    </a:moveTo>
                    <a:lnTo>
                      <a:pt x="79" y="306"/>
                    </a:lnTo>
                    <a:lnTo>
                      <a:pt x="623" y="31"/>
                    </a:lnTo>
                    <a:lnTo>
                      <a:pt x="684" y="0"/>
                    </a:lnTo>
                    <a:lnTo>
                      <a:pt x="687" y="72"/>
                    </a:lnTo>
                    <a:lnTo>
                      <a:pt x="691" y="123"/>
                    </a:lnTo>
                    <a:lnTo>
                      <a:pt x="697" y="174"/>
                    </a:lnTo>
                    <a:lnTo>
                      <a:pt x="704" y="224"/>
                    </a:lnTo>
                    <a:lnTo>
                      <a:pt x="713" y="273"/>
                    </a:lnTo>
                    <a:lnTo>
                      <a:pt x="724" y="323"/>
                    </a:lnTo>
                    <a:lnTo>
                      <a:pt x="737" y="371"/>
                    </a:lnTo>
                    <a:lnTo>
                      <a:pt x="751" y="418"/>
                    </a:lnTo>
                    <a:lnTo>
                      <a:pt x="767" y="465"/>
                    </a:lnTo>
                    <a:lnTo>
                      <a:pt x="784" y="512"/>
                    </a:lnTo>
                    <a:lnTo>
                      <a:pt x="803" y="557"/>
                    </a:lnTo>
                    <a:lnTo>
                      <a:pt x="824" y="602"/>
                    </a:lnTo>
                    <a:lnTo>
                      <a:pt x="846" y="645"/>
                    </a:lnTo>
                    <a:lnTo>
                      <a:pt x="869" y="688"/>
                    </a:lnTo>
                    <a:lnTo>
                      <a:pt x="894" y="730"/>
                    </a:lnTo>
                    <a:lnTo>
                      <a:pt x="920" y="771"/>
                    </a:lnTo>
                    <a:lnTo>
                      <a:pt x="948" y="811"/>
                    </a:lnTo>
                    <a:lnTo>
                      <a:pt x="976" y="850"/>
                    </a:lnTo>
                    <a:lnTo>
                      <a:pt x="1007" y="888"/>
                    </a:lnTo>
                    <a:lnTo>
                      <a:pt x="1038" y="924"/>
                    </a:lnTo>
                    <a:lnTo>
                      <a:pt x="1071" y="961"/>
                    </a:lnTo>
                    <a:lnTo>
                      <a:pt x="1105" y="995"/>
                    </a:lnTo>
                    <a:lnTo>
                      <a:pt x="1140" y="1029"/>
                    </a:lnTo>
                    <a:lnTo>
                      <a:pt x="1176" y="1061"/>
                    </a:lnTo>
                    <a:lnTo>
                      <a:pt x="1213" y="1092"/>
                    </a:lnTo>
                    <a:lnTo>
                      <a:pt x="1252" y="1122"/>
                    </a:lnTo>
                    <a:lnTo>
                      <a:pt x="1290" y="1151"/>
                    </a:lnTo>
                    <a:lnTo>
                      <a:pt x="1331" y="1177"/>
                    </a:lnTo>
                    <a:lnTo>
                      <a:pt x="1372" y="1203"/>
                    </a:lnTo>
                    <a:lnTo>
                      <a:pt x="1414" y="1227"/>
                    </a:lnTo>
                    <a:lnTo>
                      <a:pt x="1457" y="1250"/>
                    </a:lnTo>
                    <a:lnTo>
                      <a:pt x="1501" y="1271"/>
                    </a:lnTo>
                    <a:lnTo>
                      <a:pt x="1546" y="1292"/>
                    </a:lnTo>
                    <a:lnTo>
                      <a:pt x="1584" y="1308"/>
                    </a:lnTo>
                    <a:lnTo>
                      <a:pt x="1594" y="1315"/>
                    </a:lnTo>
                    <a:lnTo>
                      <a:pt x="1600" y="1323"/>
                    </a:lnTo>
                    <a:lnTo>
                      <a:pt x="1605" y="1331"/>
                    </a:lnTo>
                    <a:lnTo>
                      <a:pt x="1606" y="1337"/>
                    </a:lnTo>
                    <a:lnTo>
                      <a:pt x="1605" y="1349"/>
                    </a:lnTo>
                    <a:lnTo>
                      <a:pt x="1603" y="1355"/>
                    </a:lnTo>
                    <a:lnTo>
                      <a:pt x="1586" y="1401"/>
                    </a:lnTo>
                    <a:lnTo>
                      <a:pt x="1388" y="1950"/>
                    </a:lnTo>
                    <a:lnTo>
                      <a:pt x="1381" y="1965"/>
                    </a:lnTo>
                    <a:lnTo>
                      <a:pt x="1379" y="1970"/>
                    </a:lnTo>
                    <a:lnTo>
                      <a:pt x="1371" y="1978"/>
                    </a:lnTo>
                    <a:lnTo>
                      <a:pt x="1366" y="1983"/>
                    </a:lnTo>
                    <a:lnTo>
                      <a:pt x="1358" y="1985"/>
                    </a:lnTo>
                    <a:lnTo>
                      <a:pt x="1348" y="1985"/>
                    </a:lnTo>
                    <a:lnTo>
                      <a:pt x="1338" y="1983"/>
                    </a:lnTo>
                    <a:lnTo>
                      <a:pt x="1302" y="1969"/>
                    </a:lnTo>
                    <a:lnTo>
                      <a:pt x="1242" y="1942"/>
                    </a:lnTo>
                    <a:lnTo>
                      <a:pt x="1181" y="1915"/>
                    </a:lnTo>
                    <a:lnTo>
                      <a:pt x="1123" y="1886"/>
                    </a:lnTo>
                    <a:lnTo>
                      <a:pt x="1066" y="1857"/>
                    </a:lnTo>
                    <a:lnTo>
                      <a:pt x="1009" y="1824"/>
                    </a:lnTo>
                    <a:lnTo>
                      <a:pt x="954" y="1791"/>
                    </a:lnTo>
                    <a:lnTo>
                      <a:pt x="901" y="1756"/>
                    </a:lnTo>
                    <a:lnTo>
                      <a:pt x="848" y="1719"/>
                    </a:lnTo>
                    <a:lnTo>
                      <a:pt x="796" y="1682"/>
                    </a:lnTo>
                    <a:lnTo>
                      <a:pt x="747" y="1642"/>
                    </a:lnTo>
                    <a:lnTo>
                      <a:pt x="698" y="1602"/>
                    </a:lnTo>
                    <a:lnTo>
                      <a:pt x="650" y="1560"/>
                    </a:lnTo>
                    <a:lnTo>
                      <a:pt x="604" y="1517"/>
                    </a:lnTo>
                    <a:lnTo>
                      <a:pt x="559" y="1472"/>
                    </a:lnTo>
                    <a:lnTo>
                      <a:pt x="517" y="1426"/>
                    </a:lnTo>
                    <a:lnTo>
                      <a:pt x="475" y="1379"/>
                    </a:lnTo>
                    <a:lnTo>
                      <a:pt x="434" y="1331"/>
                    </a:lnTo>
                    <a:lnTo>
                      <a:pt x="395" y="1281"/>
                    </a:lnTo>
                    <a:lnTo>
                      <a:pt x="358" y="1230"/>
                    </a:lnTo>
                    <a:lnTo>
                      <a:pt x="323" y="1178"/>
                    </a:lnTo>
                    <a:lnTo>
                      <a:pt x="287" y="1124"/>
                    </a:lnTo>
                    <a:lnTo>
                      <a:pt x="255" y="1070"/>
                    </a:lnTo>
                    <a:lnTo>
                      <a:pt x="224" y="1014"/>
                    </a:lnTo>
                    <a:lnTo>
                      <a:pt x="194" y="957"/>
                    </a:lnTo>
                    <a:lnTo>
                      <a:pt x="166" y="900"/>
                    </a:lnTo>
                    <a:lnTo>
                      <a:pt x="139" y="841"/>
                    </a:lnTo>
                    <a:lnTo>
                      <a:pt x="115" y="781"/>
                    </a:lnTo>
                    <a:lnTo>
                      <a:pt x="92" y="720"/>
                    </a:lnTo>
                    <a:lnTo>
                      <a:pt x="71" y="658"/>
                    </a:lnTo>
                    <a:lnTo>
                      <a:pt x="52" y="595"/>
                    </a:lnTo>
                    <a:lnTo>
                      <a:pt x="34" y="530"/>
                    </a:lnTo>
                    <a:lnTo>
                      <a:pt x="18" y="465"/>
                    </a:lnTo>
                    <a:lnTo>
                      <a:pt x="3" y="394"/>
                    </a:lnTo>
                    <a:lnTo>
                      <a:pt x="0" y="378"/>
                    </a:lnTo>
                    <a:lnTo>
                      <a:pt x="1" y="364"/>
                    </a:lnTo>
                    <a:lnTo>
                      <a:pt x="6" y="353"/>
                    </a:lnTo>
                    <a:lnTo>
                      <a:pt x="11" y="346"/>
                    </a:lnTo>
                    <a:lnTo>
                      <a:pt x="17" y="339"/>
                    </a:lnTo>
                    <a:lnTo>
                      <a:pt x="23" y="336"/>
                    </a:lnTo>
                    <a:lnTo>
                      <a:pt x="29" y="333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67440" y="698400"/>
                <a:ext cx="149400" cy="147600"/>
              </a:xfrm>
              <a:custGeom>
                <a:avLst/>
                <a:gdLst/>
                <a:ahLst/>
                <a:rect l="l" t="t" r="r" b="b"/>
                <a:pathLst>
                  <a:path w="714" h="759">
                    <a:moveTo>
                      <a:pt x="699" y="379"/>
                    </a:moveTo>
                    <a:lnTo>
                      <a:pt x="706" y="375"/>
                    </a:lnTo>
                    <a:lnTo>
                      <a:pt x="710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09" y="351"/>
                    </a:lnTo>
                    <a:lnTo>
                      <a:pt x="705" y="346"/>
                    </a:lnTo>
                    <a:lnTo>
                      <a:pt x="699" y="342"/>
                    </a:lnTo>
                    <a:lnTo>
                      <a:pt x="35" y="4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3" y="11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735"/>
                    </a:lnTo>
                    <a:lnTo>
                      <a:pt x="1" y="743"/>
                    </a:lnTo>
                    <a:lnTo>
                      <a:pt x="3" y="748"/>
                    </a:lnTo>
                    <a:lnTo>
                      <a:pt x="5" y="753"/>
                    </a:lnTo>
                    <a:lnTo>
                      <a:pt x="10" y="757"/>
                    </a:lnTo>
                    <a:lnTo>
                      <a:pt x="15" y="759"/>
                    </a:lnTo>
                    <a:lnTo>
                      <a:pt x="21" y="759"/>
                    </a:lnTo>
                    <a:lnTo>
                      <a:pt x="27" y="758"/>
                    </a:lnTo>
                    <a:lnTo>
                      <a:pt x="34" y="755"/>
                    </a:lnTo>
                    <a:lnTo>
                      <a:pt x="699" y="379"/>
                    </a:lnTo>
                    <a:close/>
                  </a:path>
                </a:pathLst>
              </a:custGeom>
              <a:solidFill>
                <a:srgbClr val="00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11320" y="701640"/>
                <a:ext cx="149760" cy="146160"/>
              </a:xfrm>
              <a:custGeom>
                <a:avLst/>
                <a:gdLst/>
                <a:ahLst/>
                <a:rect l="l" t="t" r="r" b="b"/>
                <a:pathLst>
                  <a:path w="714" h="758">
                    <a:moveTo>
                      <a:pt x="701" y="379"/>
                    </a:moveTo>
                    <a:lnTo>
                      <a:pt x="706" y="374"/>
                    </a:lnTo>
                    <a:lnTo>
                      <a:pt x="711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11" y="350"/>
                    </a:lnTo>
                    <a:lnTo>
                      <a:pt x="706" y="346"/>
                    </a:lnTo>
                    <a:lnTo>
                      <a:pt x="700" y="342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0" y="734"/>
                    </a:lnTo>
                    <a:lnTo>
                      <a:pt x="1" y="742"/>
                    </a:lnTo>
                    <a:lnTo>
                      <a:pt x="3" y="749"/>
                    </a:lnTo>
                    <a:lnTo>
                      <a:pt x="7" y="753"/>
                    </a:lnTo>
                    <a:lnTo>
                      <a:pt x="10" y="756"/>
                    </a:lnTo>
                    <a:lnTo>
                      <a:pt x="15" y="758"/>
                    </a:lnTo>
                    <a:lnTo>
                      <a:pt x="21" y="758"/>
                    </a:lnTo>
                    <a:lnTo>
                      <a:pt x="27" y="757"/>
                    </a:lnTo>
                    <a:lnTo>
                      <a:pt x="34" y="754"/>
                    </a:lnTo>
                    <a:lnTo>
                      <a:pt x="701" y="379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011960" y="517680"/>
                <a:ext cx="195840" cy="250560"/>
              </a:xfrm>
              <a:custGeom>
                <a:avLst/>
                <a:gdLst/>
                <a:ahLst/>
                <a:rect l="l" t="t" r="r" b="b"/>
                <a:pathLst>
                  <a:path w="930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30" y="1293"/>
                    </a:lnTo>
                    <a:lnTo>
                      <a:pt x="713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230480" y="517680"/>
                <a:ext cx="34200" cy="25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316520" y="517680"/>
                <a:ext cx="168480" cy="250560"/>
              </a:xfrm>
              <a:custGeom>
                <a:avLst/>
                <a:gdLst/>
                <a:ahLst/>
                <a:rect l="l" t="t" r="r" b="b"/>
                <a:pathLst>
                  <a:path w="803" h="1293">
                    <a:moveTo>
                      <a:pt x="803" y="1293"/>
                    </a:moveTo>
                    <a:lnTo>
                      <a:pt x="607" y="1293"/>
                    </a:lnTo>
                    <a:lnTo>
                      <a:pt x="228" y="746"/>
                    </a:lnTo>
                    <a:lnTo>
                      <a:pt x="161" y="746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283" y="1"/>
                    </a:lnTo>
                    <a:lnTo>
                      <a:pt x="327" y="4"/>
                    </a:lnTo>
                    <a:lnTo>
                      <a:pt x="370" y="8"/>
                    </a:lnTo>
                    <a:lnTo>
                      <a:pt x="413" y="16"/>
                    </a:lnTo>
                    <a:lnTo>
                      <a:pt x="456" y="27"/>
                    </a:lnTo>
                    <a:lnTo>
                      <a:pt x="497" y="41"/>
                    </a:lnTo>
                    <a:lnTo>
                      <a:pt x="536" y="61"/>
                    </a:lnTo>
                    <a:lnTo>
                      <a:pt x="556" y="73"/>
                    </a:lnTo>
                    <a:lnTo>
                      <a:pt x="574" y="87"/>
                    </a:lnTo>
                    <a:lnTo>
                      <a:pt x="592" y="101"/>
                    </a:lnTo>
                    <a:lnTo>
                      <a:pt x="608" y="118"/>
                    </a:lnTo>
                    <a:lnTo>
                      <a:pt x="623" y="135"/>
                    </a:lnTo>
                    <a:lnTo>
                      <a:pt x="637" y="153"/>
                    </a:lnTo>
                    <a:lnTo>
                      <a:pt x="650" y="173"/>
                    </a:lnTo>
                    <a:lnTo>
                      <a:pt x="661" y="192"/>
                    </a:lnTo>
                    <a:lnTo>
                      <a:pt x="671" y="212"/>
                    </a:lnTo>
                    <a:lnTo>
                      <a:pt x="680" y="233"/>
                    </a:lnTo>
                    <a:lnTo>
                      <a:pt x="694" y="277"/>
                    </a:lnTo>
                    <a:lnTo>
                      <a:pt x="700" y="300"/>
                    </a:lnTo>
                    <a:lnTo>
                      <a:pt x="703" y="323"/>
                    </a:lnTo>
                    <a:lnTo>
                      <a:pt x="705" y="346"/>
                    </a:lnTo>
                    <a:lnTo>
                      <a:pt x="705" y="369"/>
                    </a:lnTo>
                    <a:lnTo>
                      <a:pt x="704" y="403"/>
                    </a:lnTo>
                    <a:lnTo>
                      <a:pt x="700" y="436"/>
                    </a:lnTo>
                    <a:lnTo>
                      <a:pt x="693" y="469"/>
                    </a:lnTo>
                    <a:lnTo>
                      <a:pt x="683" y="500"/>
                    </a:lnTo>
                    <a:lnTo>
                      <a:pt x="671" y="531"/>
                    </a:lnTo>
                    <a:lnTo>
                      <a:pt x="657" y="558"/>
                    </a:lnTo>
                    <a:lnTo>
                      <a:pt x="639" y="585"/>
                    </a:lnTo>
                    <a:lnTo>
                      <a:pt x="621" y="611"/>
                    </a:lnTo>
                    <a:lnTo>
                      <a:pt x="599" y="634"/>
                    </a:lnTo>
                    <a:lnTo>
                      <a:pt x="576" y="655"/>
                    </a:lnTo>
                    <a:lnTo>
                      <a:pt x="550" y="673"/>
                    </a:lnTo>
                    <a:lnTo>
                      <a:pt x="523" y="691"/>
                    </a:lnTo>
                    <a:lnTo>
                      <a:pt x="493" y="704"/>
                    </a:lnTo>
                    <a:lnTo>
                      <a:pt x="463" y="716"/>
                    </a:lnTo>
                    <a:lnTo>
                      <a:pt x="430" y="725"/>
                    </a:lnTo>
                    <a:lnTo>
                      <a:pt x="396" y="730"/>
                    </a:lnTo>
                    <a:lnTo>
                      <a:pt x="803" y="1293"/>
                    </a:lnTo>
                    <a:close/>
                    <a:moveTo>
                      <a:pt x="161" y="612"/>
                    </a:moveTo>
                    <a:lnTo>
                      <a:pt x="213" y="612"/>
                    </a:lnTo>
                    <a:lnTo>
                      <a:pt x="274" y="611"/>
                    </a:lnTo>
                    <a:lnTo>
                      <a:pt x="335" y="604"/>
                    </a:lnTo>
                    <a:lnTo>
                      <a:pt x="365" y="599"/>
                    </a:lnTo>
                    <a:lnTo>
                      <a:pt x="393" y="591"/>
                    </a:lnTo>
                    <a:lnTo>
                      <a:pt x="420" y="582"/>
                    </a:lnTo>
                    <a:lnTo>
                      <a:pt x="445" y="571"/>
                    </a:lnTo>
                    <a:lnTo>
                      <a:pt x="469" y="557"/>
                    </a:lnTo>
                    <a:lnTo>
                      <a:pt x="490" y="540"/>
                    </a:lnTo>
                    <a:lnTo>
                      <a:pt x="509" y="522"/>
                    </a:lnTo>
                    <a:lnTo>
                      <a:pt x="524" y="499"/>
                    </a:lnTo>
                    <a:lnTo>
                      <a:pt x="537" y="473"/>
                    </a:lnTo>
                    <a:lnTo>
                      <a:pt x="547" y="445"/>
                    </a:lnTo>
                    <a:lnTo>
                      <a:pt x="553" y="412"/>
                    </a:lnTo>
                    <a:lnTo>
                      <a:pt x="555" y="376"/>
                    </a:lnTo>
                    <a:lnTo>
                      <a:pt x="553" y="339"/>
                    </a:lnTo>
                    <a:lnTo>
                      <a:pt x="546" y="308"/>
                    </a:lnTo>
                    <a:lnTo>
                      <a:pt x="536" y="279"/>
                    </a:lnTo>
                    <a:lnTo>
                      <a:pt x="523" y="254"/>
                    </a:lnTo>
                    <a:lnTo>
                      <a:pt x="505" y="232"/>
                    </a:lnTo>
                    <a:lnTo>
                      <a:pt x="486" y="213"/>
                    </a:lnTo>
                    <a:lnTo>
                      <a:pt x="464" y="198"/>
                    </a:lnTo>
                    <a:lnTo>
                      <a:pt x="440" y="184"/>
                    </a:lnTo>
                    <a:lnTo>
                      <a:pt x="413" y="173"/>
                    </a:lnTo>
                    <a:lnTo>
                      <a:pt x="385" y="164"/>
                    </a:lnTo>
                    <a:lnTo>
                      <a:pt x="356" y="157"/>
                    </a:lnTo>
                    <a:lnTo>
                      <a:pt x="325" y="152"/>
                    </a:lnTo>
                    <a:lnTo>
                      <a:pt x="296" y="148"/>
                    </a:lnTo>
                    <a:lnTo>
                      <a:pt x="265" y="146"/>
                    </a:lnTo>
                    <a:lnTo>
                      <a:pt x="204" y="144"/>
                    </a:lnTo>
                    <a:lnTo>
                      <a:pt x="161" y="144"/>
                    </a:lnTo>
                    <a:lnTo>
                      <a:pt x="161" y="6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502280" y="517680"/>
                <a:ext cx="196200" cy="250560"/>
              </a:xfrm>
              <a:custGeom>
                <a:avLst/>
                <a:gdLst/>
                <a:ahLst/>
                <a:rect l="l" t="t" r="r" b="b"/>
                <a:pathLst>
                  <a:path w="929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29" y="1293"/>
                    </a:lnTo>
                    <a:lnTo>
                      <a:pt x="712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999720" y="847800"/>
                <a:ext cx="54720" cy="133200"/>
              </a:xfrm>
              <a:custGeom>
                <a:avLst/>
                <a:gdLst/>
                <a:ahLst/>
                <a:rect l="l" t="t" r="r" b="b"/>
                <a:pathLst>
                  <a:path w="264" h="687">
                    <a:moveTo>
                      <a:pt x="169" y="687"/>
                    </a:moveTo>
                    <a:lnTo>
                      <a:pt x="74" y="687"/>
                    </a:lnTo>
                    <a:lnTo>
                      <a:pt x="74" y="279"/>
                    </a:lnTo>
                    <a:lnTo>
                      <a:pt x="0" y="279"/>
                    </a:lnTo>
                    <a:lnTo>
                      <a:pt x="0" y="190"/>
                    </a:lnTo>
                    <a:lnTo>
                      <a:pt x="74" y="190"/>
                    </a:lnTo>
                    <a:lnTo>
                      <a:pt x="74" y="0"/>
                    </a:lnTo>
                    <a:lnTo>
                      <a:pt x="169" y="0"/>
                    </a:lnTo>
                    <a:lnTo>
                      <a:pt x="169" y="190"/>
                    </a:lnTo>
                    <a:lnTo>
                      <a:pt x="264" y="190"/>
                    </a:lnTo>
                    <a:lnTo>
                      <a:pt x="264" y="279"/>
                    </a:lnTo>
                    <a:lnTo>
                      <a:pt x="169" y="279"/>
                    </a:lnTo>
                    <a:lnTo>
                      <a:pt x="169" y="6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058400" y="882720"/>
                <a:ext cx="9936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5" y="280"/>
                    </a:moveTo>
                    <a:lnTo>
                      <a:pt x="98" y="311"/>
                    </a:lnTo>
                    <a:lnTo>
                      <a:pt x="106" y="341"/>
                    </a:lnTo>
                    <a:lnTo>
                      <a:pt x="119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8" y="415"/>
                    </a:lnTo>
                    <a:lnTo>
                      <a:pt x="170" y="423"/>
                    </a:lnTo>
                    <a:lnTo>
                      <a:pt x="184" y="431"/>
                    </a:lnTo>
                    <a:lnTo>
                      <a:pt x="197" y="437"/>
                    </a:lnTo>
                    <a:lnTo>
                      <a:pt x="213" y="441"/>
                    </a:lnTo>
                    <a:lnTo>
                      <a:pt x="229" y="443"/>
                    </a:lnTo>
                    <a:lnTo>
                      <a:pt x="245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5" y="430"/>
                    </a:lnTo>
                    <a:lnTo>
                      <a:pt x="333" y="418"/>
                    </a:lnTo>
                    <a:lnTo>
                      <a:pt x="351" y="405"/>
                    </a:lnTo>
                    <a:lnTo>
                      <a:pt x="366" y="388"/>
                    </a:lnTo>
                    <a:lnTo>
                      <a:pt x="380" y="368"/>
                    </a:lnTo>
                    <a:lnTo>
                      <a:pt x="394" y="348"/>
                    </a:lnTo>
                    <a:lnTo>
                      <a:pt x="475" y="394"/>
                    </a:lnTo>
                    <a:lnTo>
                      <a:pt x="455" y="424"/>
                    </a:lnTo>
                    <a:lnTo>
                      <a:pt x="433" y="451"/>
                    </a:lnTo>
                    <a:lnTo>
                      <a:pt x="407" y="474"/>
                    </a:lnTo>
                    <a:lnTo>
                      <a:pt x="378" y="494"/>
                    </a:lnTo>
                    <a:lnTo>
                      <a:pt x="347" y="509"/>
                    </a:lnTo>
                    <a:lnTo>
                      <a:pt x="315" y="520"/>
                    </a:lnTo>
                    <a:lnTo>
                      <a:pt x="279" y="528"/>
                    </a:lnTo>
                    <a:lnTo>
                      <a:pt x="244" y="530"/>
                    </a:lnTo>
                    <a:lnTo>
                      <a:pt x="217" y="528"/>
                    </a:lnTo>
                    <a:lnTo>
                      <a:pt x="191" y="524"/>
                    </a:lnTo>
                    <a:lnTo>
                      <a:pt x="165" y="518"/>
                    </a:lnTo>
                    <a:lnTo>
                      <a:pt x="142" y="509"/>
                    </a:lnTo>
                    <a:lnTo>
                      <a:pt x="120" y="498"/>
                    </a:lnTo>
                    <a:lnTo>
                      <a:pt x="101" y="485"/>
                    </a:lnTo>
                    <a:lnTo>
                      <a:pt x="82" y="471"/>
                    </a:lnTo>
                    <a:lnTo>
                      <a:pt x="66" y="454"/>
                    </a:lnTo>
                    <a:lnTo>
                      <a:pt x="50" y="435"/>
                    </a:lnTo>
                    <a:lnTo>
                      <a:pt x="37" y="416"/>
                    </a:lnTo>
                    <a:lnTo>
                      <a:pt x="26" y="394"/>
                    </a:lnTo>
                    <a:lnTo>
                      <a:pt x="16" y="371"/>
                    </a:lnTo>
                    <a:lnTo>
                      <a:pt x="10" y="346"/>
                    </a:lnTo>
                    <a:lnTo>
                      <a:pt x="4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4" y="213"/>
                    </a:lnTo>
                    <a:lnTo>
                      <a:pt x="9" y="186"/>
                    </a:lnTo>
                    <a:lnTo>
                      <a:pt x="15" y="161"/>
                    </a:lnTo>
                    <a:lnTo>
                      <a:pt x="24" y="138"/>
                    </a:lnTo>
                    <a:lnTo>
                      <a:pt x="34" y="116"/>
                    </a:lnTo>
                    <a:lnTo>
                      <a:pt x="47" y="95"/>
                    </a:lnTo>
                    <a:lnTo>
                      <a:pt x="61" y="76"/>
                    </a:lnTo>
                    <a:lnTo>
                      <a:pt x="77" y="60"/>
                    </a:lnTo>
                    <a:lnTo>
                      <a:pt x="95" y="45"/>
                    </a:lnTo>
                    <a:lnTo>
                      <a:pt x="115" y="31"/>
                    </a:lnTo>
                    <a:lnTo>
                      <a:pt x="137" y="20"/>
                    </a:lnTo>
                    <a:lnTo>
                      <a:pt x="160" y="12"/>
                    </a:lnTo>
                    <a:lnTo>
                      <a:pt x="185" y="5"/>
                    </a:lnTo>
                    <a:lnTo>
                      <a:pt x="213" y="2"/>
                    </a:lnTo>
                    <a:lnTo>
                      <a:pt x="242" y="0"/>
                    </a:lnTo>
                    <a:lnTo>
                      <a:pt x="271" y="2"/>
                    </a:lnTo>
                    <a:lnTo>
                      <a:pt x="297" y="5"/>
                    </a:lnTo>
                    <a:lnTo>
                      <a:pt x="322" y="12"/>
                    </a:lnTo>
                    <a:lnTo>
                      <a:pt x="345" y="20"/>
                    </a:lnTo>
                    <a:lnTo>
                      <a:pt x="366" y="31"/>
                    </a:lnTo>
                    <a:lnTo>
                      <a:pt x="385" y="45"/>
                    </a:lnTo>
                    <a:lnTo>
                      <a:pt x="402" y="60"/>
                    </a:lnTo>
                    <a:lnTo>
                      <a:pt x="418" y="76"/>
                    </a:lnTo>
                    <a:lnTo>
                      <a:pt x="431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0" y="161"/>
                    </a:lnTo>
                    <a:lnTo>
                      <a:pt x="467" y="185"/>
                    </a:lnTo>
                    <a:lnTo>
                      <a:pt x="471" y="210"/>
                    </a:lnTo>
                    <a:lnTo>
                      <a:pt x="474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5" y="280"/>
                    </a:lnTo>
                    <a:close/>
                    <a:moveTo>
                      <a:pt x="379" y="207"/>
                    </a:moveTo>
                    <a:lnTo>
                      <a:pt x="373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5" y="117"/>
                    </a:lnTo>
                    <a:lnTo>
                      <a:pt x="316" y="103"/>
                    </a:lnTo>
                    <a:lnTo>
                      <a:pt x="294" y="92"/>
                    </a:lnTo>
                    <a:lnTo>
                      <a:pt x="270" y="85"/>
                    </a:lnTo>
                    <a:lnTo>
                      <a:pt x="242" y="83"/>
                    </a:lnTo>
                    <a:lnTo>
                      <a:pt x="215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1" y="137"/>
                    </a:lnTo>
                    <a:lnTo>
                      <a:pt x="117" y="158"/>
                    </a:lnTo>
                    <a:lnTo>
                      <a:pt x="107" y="182"/>
                    </a:lnTo>
                    <a:lnTo>
                      <a:pt x="101" y="207"/>
                    </a:lnTo>
                    <a:lnTo>
                      <a:pt x="379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177200" y="846000"/>
                <a:ext cx="2052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211400" y="882720"/>
                <a:ext cx="9972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7" y="280"/>
                    </a:moveTo>
                    <a:lnTo>
                      <a:pt x="99" y="311"/>
                    </a:lnTo>
                    <a:lnTo>
                      <a:pt x="108" y="341"/>
                    </a:lnTo>
                    <a:lnTo>
                      <a:pt x="120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9" y="415"/>
                    </a:lnTo>
                    <a:lnTo>
                      <a:pt x="171" y="423"/>
                    </a:lnTo>
                    <a:lnTo>
                      <a:pt x="185" y="431"/>
                    </a:lnTo>
                    <a:lnTo>
                      <a:pt x="199" y="437"/>
                    </a:lnTo>
                    <a:lnTo>
                      <a:pt x="213" y="441"/>
                    </a:lnTo>
                    <a:lnTo>
                      <a:pt x="230" y="443"/>
                    </a:lnTo>
                    <a:lnTo>
                      <a:pt x="246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6" y="430"/>
                    </a:lnTo>
                    <a:lnTo>
                      <a:pt x="335" y="418"/>
                    </a:lnTo>
                    <a:lnTo>
                      <a:pt x="351" y="405"/>
                    </a:lnTo>
                    <a:lnTo>
                      <a:pt x="367" y="388"/>
                    </a:lnTo>
                    <a:lnTo>
                      <a:pt x="381" y="368"/>
                    </a:lnTo>
                    <a:lnTo>
                      <a:pt x="395" y="348"/>
                    </a:lnTo>
                    <a:lnTo>
                      <a:pt x="475" y="394"/>
                    </a:lnTo>
                    <a:lnTo>
                      <a:pt x="457" y="424"/>
                    </a:lnTo>
                    <a:lnTo>
                      <a:pt x="434" y="451"/>
                    </a:lnTo>
                    <a:lnTo>
                      <a:pt x="407" y="474"/>
                    </a:lnTo>
                    <a:lnTo>
                      <a:pt x="379" y="494"/>
                    </a:lnTo>
                    <a:lnTo>
                      <a:pt x="348" y="509"/>
                    </a:lnTo>
                    <a:lnTo>
                      <a:pt x="315" y="520"/>
                    </a:lnTo>
                    <a:lnTo>
                      <a:pt x="281" y="528"/>
                    </a:lnTo>
                    <a:lnTo>
                      <a:pt x="245" y="530"/>
                    </a:lnTo>
                    <a:lnTo>
                      <a:pt x="218" y="528"/>
                    </a:lnTo>
                    <a:lnTo>
                      <a:pt x="191" y="524"/>
                    </a:lnTo>
                    <a:lnTo>
                      <a:pt x="166" y="518"/>
                    </a:lnTo>
                    <a:lnTo>
                      <a:pt x="143" y="509"/>
                    </a:lnTo>
                    <a:lnTo>
                      <a:pt x="121" y="498"/>
                    </a:lnTo>
                    <a:lnTo>
                      <a:pt x="101" y="485"/>
                    </a:lnTo>
                    <a:lnTo>
                      <a:pt x="83" y="471"/>
                    </a:lnTo>
                    <a:lnTo>
                      <a:pt x="66" y="454"/>
                    </a:lnTo>
                    <a:lnTo>
                      <a:pt x="51" y="435"/>
                    </a:lnTo>
                    <a:lnTo>
                      <a:pt x="38" y="416"/>
                    </a:lnTo>
                    <a:lnTo>
                      <a:pt x="27" y="394"/>
                    </a:lnTo>
                    <a:lnTo>
                      <a:pt x="18" y="371"/>
                    </a:lnTo>
                    <a:lnTo>
                      <a:pt x="10" y="346"/>
                    </a:lnTo>
                    <a:lnTo>
                      <a:pt x="5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5" y="213"/>
                    </a:lnTo>
                    <a:lnTo>
                      <a:pt x="9" y="186"/>
                    </a:lnTo>
                    <a:lnTo>
                      <a:pt x="16" y="161"/>
                    </a:lnTo>
                    <a:lnTo>
                      <a:pt x="24" y="138"/>
                    </a:lnTo>
                    <a:lnTo>
                      <a:pt x="35" y="116"/>
                    </a:lnTo>
                    <a:lnTo>
                      <a:pt x="48" y="95"/>
                    </a:lnTo>
                    <a:lnTo>
                      <a:pt x="62" y="76"/>
                    </a:lnTo>
                    <a:lnTo>
                      <a:pt x="78" y="60"/>
                    </a:lnTo>
                    <a:lnTo>
                      <a:pt x="96" y="45"/>
                    </a:lnTo>
                    <a:lnTo>
                      <a:pt x="116" y="31"/>
                    </a:lnTo>
                    <a:lnTo>
                      <a:pt x="137" y="20"/>
                    </a:lnTo>
                    <a:lnTo>
                      <a:pt x="162" y="12"/>
                    </a:lnTo>
                    <a:lnTo>
                      <a:pt x="187" y="5"/>
                    </a:lnTo>
                    <a:lnTo>
                      <a:pt x="214" y="2"/>
                    </a:lnTo>
                    <a:lnTo>
                      <a:pt x="243" y="0"/>
                    </a:lnTo>
                    <a:lnTo>
                      <a:pt x="271" y="2"/>
                    </a:lnTo>
                    <a:lnTo>
                      <a:pt x="299" y="5"/>
                    </a:lnTo>
                    <a:lnTo>
                      <a:pt x="323" y="12"/>
                    </a:lnTo>
                    <a:lnTo>
                      <a:pt x="346" y="20"/>
                    </a:lnTo>
                    <a:lnTo>
                      <a:pt x="367" y="31"/>
                    </a:lnTo>
                    <a:lnTo>
                      <a:pt x="386" y="45"/>
                    </a:lnTo>
                    <a:lnTo>
                      <a:pt x="403" y="60"/>
                    </a:lnTo>
                    <a:lnTo>
                      <a:pt x="418" y="76"/>
                    </a:lnTo>
                    <a:lnTo>
                      <a:pt x="432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1" y="161"/>
                    </a:lnTo>
                    <a:lnTo>
                      <a:pt x="468" y="185"/>
                    </a:lnTo>
                    <a:lnTo>
                      <a:pt x="472" y="210"/>
                    </a:lnTo>
                    <a:lnTo>
                      <a:pt x="475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7" y="280"/>
                    </a:lnTo>
                    <a:close/>
                    <a:moveTo>
                      <a:pt x="380" y="207"/>
                    </a:moveTo>
                    <a:lnTo>
                      <a:pt x="374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6" y="117"/>
                    </a:lnTo>
                    <a:lnTo>
                      <a:pt x="317" y="103"/>
                    </a:lnTo>
                    <a:lnTo>
                      <a:pt x="295" y="92"/>
                    </a:lnTo>
                    <a:lnTo>
                      <a:pt x="270" y="85"/>
                    </a:lnTo>
                    <a:lnTo>
                      <a:pt x="243" y="83"/>
                    </a:lnTo>
                    <a:lnTo>
                      <a:pt x="216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2" y="137"/>
                    </a:lnTo>
                    <a:lnTo>
                      <a:pt x="119" y="158"/>
                    </a:lnTo>
                    <a:lnTo>
                      <a:pt x="108" y="182"/>
                    </a:lnTo>
                    <a:lnTo>
                      <a:pt x="101" y="207"/>
                    </a:lnTo>
                    <a:lnTo>
                      <a:pt x="380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326960" y="882720"/>
                <a:ext cx="84240" cy="101520"/>
              </a:xfrm>
              <a:custGeom>
                <a:avLst/>
                <a:gdLst/>
                <a:ahLst/>
                <a:rect l="l" t="t" r="r" b="b"/>
                <a:pathLst>
                  <a:path w="404" h="530">
                    <a:moveTo>
                      <a:pt x="404" y="157"/>
                    </a:moveTo>
                    <a:lnTo>
                      <a:pt x="389" y="141"/>
                    </a:lnTo>
                    <a:lnTo>
                      <a:pt x="373" y="127"/>
                    </a:lnTo>
                    <a:lnTo>
                      <a:pt x="358" y="116"/>
                    </a:lnTo>
                    <a:lnTo>
                      <a:pt x="340" y="106"/>
                    </a:lnTo>
                    <a:lnTo>
                      <a:pt x="321" y="99"/>
                    </a:lnTo>
                    <a:lnTo>
                      <a:pt x="303" y="94"/>
                    </a:lnTo>
                    <a:lnTo>
                      <a:pt x="283" y="91"/>
                    </a:lnTo>
                    <a:lnTo>
                      <a:pt x="261" y="90"/>
                    </a:lnTo>
                    <a:lnTo>
                      <a:pt x="245" y="91"/>
                    </a:lnTo>
                    <a:lnTo>
                      <a:pt x="227" y="93"/>
                    </a:lnTo>
                    <a:lnTo>
                      <a:pt x="212" y="97"/>
                    </a:lnTo>
                    <a:lnTo>
                      <a:pt x="196" y="104"/>
                    </a:lnTo>
                    <a:lnTo>
                      <a:pt x="182" y="112"/>
                    </a:lnTo>
                    <a:lnTo>
                      <a:pt x="168" y="120"/>
                    </a:lnTo>
                    <a:lnTo>
                      <a:pt x="156" y="130"/>
                    </a:lnTo>
                    <a:lnTo>
                      <a:pt x="144" y="142"/>
                    </a:lnTo>
                    <a:lnTo>
                      <a:pt x="133" y="154"/>
                    </a:lnTo>
                    <a:lnTo>
                      <a:pt x="124" y="169"/>
                    </a:lnTo>
                    <a:lnTo>
                      <a:pt x="115" y="183"/>
                    </a:lnTo>
                    <a:lnTo>
                      <a:pt x="109" y="198"/>
                    </a:lnTo>
                    <a:lnTo>
                      <a:pt x="103" y="214"/>
                    </a:lnTo>
                    <a:lnTo>
                      <a:pt x="99" y="230"/>
                    </a:lnTo>
                    <a:lnTo>
                      <a:pt x="97" y="247"/>
                    </a:lnTo>
                    <a:lnTo>
                      <a:pt x="96" y="264"/>
                    </a:lnTo>
                    <a:lnTo>
                      <a:pt x="97" y="283"/>
                    </a:lnTo>
                    <a:lnTo>
                      <a:pt x="99" y="300"/>
                    </a:lnTo>
                    <a:lnTo>
                      <a:pt x="103" y="318"/>
                    </a:lnTo>
                    <a:lnTo>
                      <a:pt x="109" y="334"/>
                    </a:lnTo>
                    <a:lnTo>
                      <a:pt x="115" y="350"/>
                    </a:lnTo>
                    <a:lnTo>
                      <a:pt x="124" y="364"/>
                    </a:lnTo>
                    <a:lnTo>
                      <a:pt x="133" y="378"/>
                    </a:lnTo>
                    <a:lnTo>
                      <a:pt x="144" y="390"/>
                    </a:lnTo>
                    <a:lnTo>
                      <a:pt x="156" y="401"/>
                    </a:lnTo>
                    <a:lnTo>
                      <a:pt x="169" y="411"/>
                    </a:lnTo>
                    <a:lnTo>
                      <a:pt x="183" y="420"/>
                    </a:lnTo>
                    <a:lnTo>
                      <a:pt x="199" y="427"/>
                    </a:lnTo>
                    <a:lnTo>
                      <a:pt x="215" y="432"/>
                    </a:lnTo>
                    <a:lnTo>
                      <a:pt x="232" y="437"/>
                    </a:lnTo>
                    <a:lnTo>
                      <a:pt x="249" y="439"/>
                    </a:lnTo>
                    <a:lnTo>
                      <a:pt x="268" y="440"/>
                    </a:lnTo>
                    <a:lnTo>
                      <a:pt x="289" y="439"/>
                    </a:lnTo>
                    <a:lnTo>
                      <a:pt x="307" y="435"/>
                    </a:lnTo>
                    <a:lnTo>
                      <a:pt x="326" y="430"/>
                    </a:lnTo>
                    <a:lnTo>
                      <a:pt x="343" y="422"/>
                    </a:lnTo>
                    <a:lnTo>
                      <a:pt x="360" y="412"/>
                    </a:lnTo>
                    <a:lnTo>
                      <a:pt x="375" y="401"/>
                    </a:lnTo>
                    <a:lnTo>
                      <a:pt x="389" y="388"/>
                    </a:lnTo>
                    <a:lnTo>
                      <a:pt x="404" y="374"/>
                    </a:lnTo>
                    <a:lnTo>
                      <a:pt x="404" y="497"/>
                    </a:lnTo>
                    <a:lnTo>
                      <a:pt x="371" y="511"/>
                    </a:lnTo>
                    <a:lnTo>
                      <a:pt x="338" y="522"/>
                    </a:lnTo>
                    <a:lnTo>
                      <a:pt x="303" y="528"/>
                    </a:lnTo>
                    <a:lnTo>
                      <a:pt x="267" y="530"/>
                    </a:lnTo>
                    <a:lnTo>
                      <a:pt x="239" y="528"/>
                    </a:lnTo>
                    <a:lnTo>
                      <a:pt x="213" y="524"/>
                    </a:lnTo>
                    <a:lnTo>
                      <a:pt x="188" y="518"/>
                    </a:lnTo>
                    <a:lnTo>
                      <a:pt x="164" y="509"/>
                    </a:lnTo>
                    <a:lnTo>
                      <a:pt x="140" y="499"/>
                    </a:lnTo>
                    <a:lnTo>
                      <a:pt x="119" y="486"/>
                    </a:lnTo>
                    <a:lnTo>
                      <a:pt x="98" y="472"/>
                    </a:lnTo>
                    <a:lnTo>
                      <a:pt x="79" y="454"/>
                    </a:lnTo>
                    <a:lnTo>
                      <a:pt x="62" y="437"/>
                    </a:lnTo>
                    <a:lnTo>
                      <a:pt x="46" y="416"/>
                    </a:lnTo>
                    <a:lnTo>
                      <a:pt x="33" y="395"/>
                    </a:lnTo>
                    <a:lnTo>
                      <a:pt x="21" y="372"/>
                    </a:lnTo>
                    <a:lnTo>
                      <a:pt x="12" y="348"/>
                    </a:lnTo>
                    <a:lnTo>
                      <a:pt x="6" y="322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6" y="213"/>
                    </a:lnTo>
                    <a:lnTo>
                      <a:pt x="12" y="186"/>
                    </a:lnTo>
                    <a:lnTo>
                      <a:pt x="21" y="161"/>
                    </a:lnTo>
                    <a:lnTo>
                      <a:pt x="33" y="138"/>
                    </a:lnTo>
                    <a:lnTo>
                      <a:pt x="46" y="115"/>
                    </a:lnTo>
                    <a:lnTo>
                      <a:pt x="62" y="95"/>
                    </a:lnTo>
                    <a:lnTo>
                      <a:pt x="79" y="76"/>
                    </a:lnTo>
                    <a:lnTo>
                      <a:pt x="98" y="59"/>
                    </a:lnTo>
                    <a:lnTo>
                      <a:pt x="119" y="45"/>
                    </a:lnTo>
                    <a:lnTo>
                      <a:pt x="142" y="31"/>
                    </a:lnTo>
                    <a:lnTo>
                      <a:pt x="165" y="20"/>
                    </a:lnTo>
                    <a:lnTo>
                      <a:pt x="190" y="12"/>
                    </a:lnTo>
                    <a:lnTo>
                      <a:pt x="216" y="5"/>
                    </a:lnTo>
                    <a:lnTo>
                      <a:pt x="244" y="2"/>
                    </a:lnTo>
                    <a:lnTo>
                      <a:pt x="272" y="0"/>
                    </a:lnTo>
                    <a:lnTo>
                      <a:pt x="306" y="2"/>
                    </a:lnTo>
                    <a:lnTo>
                      <a:pt x="340" y="8"/>
                    </a:lnTo>
                    <a:lnTo>
                      <a:pt x="373" y="18"/>
                    </a:lnTo>
                    <a:lnTo>
                      <a:pt x="404" y="32"/>
                    </a:lnTo>
                    <a:lnTo>
                      <a:pt x="404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423440" y="882720"/>
                <a:ext cx="111600" cy="101520"/>
              </a:xfrm>
              <a:custGeom>
                <a:avLst/>
                <a:gdLst/>
                <a:ahLst/>
                <a:rect l="l" t="t" r="r" b="b"/>
                <a:pathLst>
                  <a:path w="532" h="530">
                    <a:moveTo>
                      <a:pt x="532" y="264"/>
                    </a:moveTo>
                    <a:lnTo>
                      <a:pt x="530" y="293"/>
                    </a:lnTo>
                    <a:lnTo>
                      <a:pt x="527" y="319"/>
                    </a:lnTo>
                    <a:lnTo>
                      <a:pt x="520" y="344"/>
                    </a:lnTo>
                    <a:lnTo>
                      <a:pt x="511" y="370"/>
                    </a:lnTo>
                    <a:lnTo>
                      <a:pt x="501" y="393"/>
                    </a:lnTo>
                    <a:lnTo>
                      <a:pt x="487" y="415"/>
                    </a:lnTo>
                    <a:lnTo>
                      <a:pt x="472" y="434"/>
                    </a:lnTo>
                    <a:lnTo>
                      <a:pt x="454" y="453"/>
                    </a:lnTo>
                    <a:lnTo>
                      <a:pt x="436" y="471"/>
                    </a:lnTo>
                    <a:lnTo>
                      <a:pt x="416" y="485"/>
                    </a:lnTo>
                    <a:lnTo>
                      <a:pt x="394" y="498"/>
                    </a:lnTo>
                    <a:lnTo>
                      <a:pt x="370" y="509"/>
                    </a:lnTo>
                    <a:lnTo>
                      <a:pt x="346" y="518"/>
                    </a:lnTo>
                    <a:lnTo>
                      <a:pt x="321" y="524"/>
                    </a:lnTo>
                    <a:lnTo>
                      <a:pt x="293" y="528"/>
                    </a:lnTo>
                    <a:lnTo>
                      <a:pt x="266" y="530"/>
                    </a:lnTo>
                    <a:lnTo>
                      <a:pt x="238" y="528"/>
                    </a:lnTo>
                    <a:lnTo>
                      <a:pt x="212" y="524"/>
                    </a:lnTo>
                    <a:lnTo>
                      <a:pt x="187" y="518"/>
                    </a:lnTo>
                    <a:lnTo>
                      <a:pt x="162" y="509"/>
                    </a:lnTo>
                    <a:lnTo>
                      <a:pt x="139" y="498"/>
                    </a:lnTo>
                    <a:lnTo>
                      <a:pt x="117" y="485"/>
                    </a:lnTo>
                    <a:lnTo>
                      <a:pt x="97" y="471"/>
                    </a:lnTo>
                    <a:lnTo>
                      <a:pt x="78" y="453"/>
                    </a:lnTo>
                    <a:lnTo>
                      <a:pt x="61" y="434"/>
                    </a:lnTo>
                    <a:lnTo>
                      <a:pt x="45" y="415"/>
                    </a:lnTo>
                    <a:lnTo>
                      <a:pt x="32" y="393"/>
                    </a:lnTo>
                    <a:lnTo>
                      <a:pt x="21" y="370"/>
                    </a:lnTo>
                    <a:lnTo>
                      <a:pt x="12" y="344"/>
                    </a:lnTo>
                    <a:lnTo>
                      <a:pt x="6" y="319"/>
                    </a:lnTo>
                    <a:lnTo>
                      <a:pt x="3" y="293"/>
                    </a:lnTo>
                    <a:lnTo>
                      <a:pt x="0" y="264"/>
                    </a:lnTo>
                    <a:lnTo>
                      <a:pt x="3" y="237"/>
                    </a:lnTo>
                    <a:lnTo>
                      <a:pt x="6" y="210"/>
                    </a:lnTo>
                    <a:lnTo>
                      <a:pt x="12" y="185"/>
                    </a:lnTo>
                    <a:lnTo>
                      <a:pt x="21" y="160"/>
                    </a:lnTo>
                    <a:lnTo>
                      <a:pt x="32" y="137"/>
                    </a:lnTo>
                    <a:lnTo>
                      <a:pt x="45" y="115"/>
                    </a:lnTo>
                    <a:lnTo>
                      <a:pt x="61" y="95"/>
                    </a:lnTo>
                    <a:lnTo>
                      <a:pt x="78" y="76"/>
                    </a:lnTo>
                    <a:lnTo>
                      <a:pt x="97" y="59"/>
                    </a:lnTo>
                    <a:lnTo>
                      <a:pt x="117" y="45"/>
                    </a:lnTo>
                    <a:lnTo>
                      <a:pt x="139" y="31"/>
                    </a:lnTo>
                    <a:lnTo>
                      <a:pt x="162" y="20"/>
                    </a:lnTo>
                    <a:lnTo>
                      <a:pt x="187" y="12"/>
                    </a:lnTo>
                    <a:lnTo>
                      <a:pt x="212" y="5"/>
                    </a:lnTo>
                    <a:lnTo>
                      <a:pt x="238" y="2"/>
                    </a:lnTo>
                    <a:lnTo>
                      <a:pt x="266" y="0"/>
                    </a:lnTo>
                    <a:lnTo>
                      <a:pt x="293" y="2"/>
                    </a:lnTo>
                    <a:lnTo>
                      <a:pt x="321" y="5"/>
                    </a:lnTo>
                    <a:lnTo>
                      <a:pt x="346" y="12"/>
                    </a:lnTo>
                    <a:lnTo>
                      <a:pt x="370" y="20"/>
                    </a:lnTo>
                    <a:lnTo>
                      <a:pt x="394" y="31"/>
                    </a:lnTo>
                    <a:lnTo>
                      <a:pt x="416" y="45"/>
                    </a:lnTo>
                    <a:lnTo>
                      <a:pt x="436" y="59"/>
                    </a:lnTo>
                    <a:lnTo>
                      <a:pt x="454" y="76"/>
                    </a:lnTo>
                    <a:lnTo>
                      <a:pt x="472" y="95"/>
                    </a:lnTo>
                    <a:lnTo>
                      <a:pt x="487" y="115"/>
                    </a:lnTo>
                    <a:lnTo>
                      <a:pt x="501" y="137"/>
                    </a:lnTo>
                    <a:lnTo>
                      <a:pt x="511" y="160"/>
                    </a:lnTo>
                    <a:lnTo>
                      <a:pt x="520" y="185"/>
                    </a:lnTo>
                    <a:lnTo>
                      <a:pt x="527" y="210"/>
                    </a:lnTo>
                    <a:lnTo>
                      <a:pt x="530" y="237"/>
                    </a:lnTo>
                    <a:lnTo>
                      <a:pt x="532" y="264"/>
                    </a:lnTo>
                    <a:close/>
                    <a:moveTo>
                      <a:pt x="96" y="264"/>
                    </a:moveTo>
                    <a:lnTo>
                      <a:pt x="97" y="282"/>
                    </a:lnTo>
                    <a:lnTo>
                      <a:pt x="100" y="299"/>
                    </a:lnTo>
                    <a:lnTo>
                      <a:pt x="103" y="316"/>
                    </a:lnTo>
                    <a:lnTo>
                      <a:pt x="110" y="331"/>
                    </a:lnTo>
                    <a:lnTo>
                      <a:pt x="117" y="346"/>
                    </a:lnTo>
                    <a:lnTo>
                      <a:pt x="125" y="361"/>
                    </a:lnTo>
                    <a:lnTo>
                      <a:pt x="135" y="374"/>
                    </a:lnTo>
                    <a:lnTo>
                      <a:pt x="146" y="386"/>
                    </a:lnTo>
                    <a:lnTo>
                      <a:pt x="158" y="398"/>
                    </a:lnTo>
                    <a:lnTo>
                      <a:pt x="171" y="408"/>
                    </a:lnTo>
                    <a:lnTo>
                      <a:pt x="185" y="417"/>
                    </a:lnTo>
                    <a:lnTo>
                      <a:pt x="200" y="424"/>
                    </a:lnTo>
                    <a:lnTo>
                      <a:pt x="215" y="430"/>
                    </a:lnTo>
                    <a:lnTo>
                      <a:pt x="232" y="434"/>
                    </a:lnTo>
                    <a:lnTo>
                      <a:pt x="248" y="437"/>
                    </a:lnTo>
                    <a:lnTo>
                      <a:pt x="266" y="438"/>
                    </a:lnTo>
                    <a:lnTo>
                      <a:pt x="283" y="437"/>
                    </a:lnTo>
                    <a:lnTo>
                      <a:pt x="301" y="434"/>
                    </a:lnTo>
                    <a:lnTo>
                      <a:pt x="317" y="430"/>
                    </a:lnTo>
                    <a:lnTo>
                      <a:pt x="333" y="424"/>
                    </a:lnTo>
                    <a:lnTo>
                      <a:pt x="348" y="417"/>
                    </a:lnTo>
                    <a:lnTo>
                      <a:pt x="361" y="408"/>
                    </a:lnTo>
                    <a:lnTo>
                      <a:pt x="374" y="398"/>
                    </a:lnTo>
                    <a:lnTo>
                      <a:pt x="386" y="386"/>
                    </a:lnTo>
                    <a:lnTo>
                      <a:pt x="397" y="374"/>
                    </a:lnTo>
                    <a:lnTo>
                      <a:pt x="407" y="361"/>
                    </a:lnTo>
                    <a:lnTo>
                      <a:pt x="416" y="346"/>
                    </a:lnTo>
                    <a:lnTo>
                      <a:pt x="423" y="331"/>
                    </a:lnTo>
                    <a:lnTo>
                      <a:pt x="428" y="316"/>
                    </a:lnTo>
                    <a:lnTo>
                      <a:pt x="433" y="299"/>
                    </a:lnTo>
                    <a:lnTo>
                      <a:pt x="436" y="282"/>
                    </a:lnTo>
                    <a:lnTo>
                      <a:pt x="436" y="264"/>
                    </a:lnTo>
                    <a:lnTo>
                      <a:pt x="436" y="248"/>
                    </a:lnTo>
                    <a:lnTo>
                      <a:pt x="433" y="230"/>
                    </a:lnTo>
                    <a:lnTo>
                      <a:pt x="428" y="214"/>
                    </a:lnTo>
                    <a:lnTo>
                      <a:pt x="423" y="197"/>
                    </a:lnTo>
                    <a:lnTo>
                      <a:pt x="416" y="183"/>
                    </a:lnTo>
                    <a:lnTo>
                      <a:pt x="407" y="169"/>
                    </a:lnTo>
                    <a:lnTo>
                      <a:pt x="397" y="154"/>
                    </a:lnTo>
                    <a:lnTo>
                      <a:pt x="386" y="142"/>
                    </a:lnTo>
                    <a:lnTo>
                      <a:pt x="374" y="131"/>
                    </a:lnTo>
                    <a:lnTo>
                      <a:pt x="361" y="121"/>
                    </a:lnTo>
                    <a:lnTo>
                      <a:pt x="348" y="113"/>
                    </a:lnTo>
                    <a:lnTo>
                      <a:pt x="333" y="105"/>
                    </a:lnTo>
                    <a:lnTo>
                      <a:pt x="317" y="99"/>
                    </a:lnTo>
                    <a:lnTo>
                      <a:pt x="301" y="95"/>
                    </a:lnTo>
                    <a:lnTo>
                      <a:pt x="283" y="92"/>
                    </a:lnTo>
                    <a:lnTo>
                      <a:pt x="266" y="92"/>
                    </a:lnTo>
                    <a:lnTo>
                      <a:pt x="248" y="92"/>
                    </a:lnTo>
                    <a:lnTo>
                      <a:pt x="232" y="95"/>
                    </a:lnTo>
                    <a:lnTo>
                      <a:pt x="215" y="99"/>
                    </a:lnTo>
                    <a:lnTo>
                      <a:pt x="200" y="105"/>
                    </a:lnTo>
                    <a:lnTo>
                      <a:pt x="185" y="113"/>
                    </a:lnTo>
                    <a:lnTo>
                      <a:pt x="171" y="121"/>
                    </a:lnTo>
                    <a:lnTo>
                      <a:pt x="158" y="131"/>
                    </a:lnTo>
                    <a:lnTo>
                      <a:pt x="146" y="142"/>
                    </a:lnTo>
                    <a:lnTo>
                      <a:pt x="135" y="154"/>
                    </a:lnTo>
                    <a:lnTo>
                      <a:pt x="125" y="169"/>
                    </a:lnTo>
                    <a:lnTo>
                      <a:pt x="117" y="183"/>
                    </a:lnTo>
                    <a:lnTo>
                      <a:pt x="110" y="197"/>
                    </a:lnTo>
                    <a:lnTo>
                      <a:pt x="103" y="214"/>
                    </a:lnTo>
                    <a:lnTo>
                      <a:pt x="100" y="230"/>
                    </a:lnTo>
                    <a:lnTo>
                      <a:pt x="97" y="248"/>
                    </a:lnTo>
                    <a:lnTo>
                      <a:pt x="96" y="2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49440" y="882720"/>
                <a:ext cx="144360" cy="98280"/>
              </a:xfrm>
              <a:custGeom>
                <a:avLst/>
                <a:gdLst/>
                <a:ahLst/>
                <a:rect l="l" t="t" r="r" b="b"/>
                <a:pathLst>
                  <a:path w="690" h="512">
                    <a:moveTo>
                      <a:pt x="96" y="77"/>
                    </a:moveTo>
                    <a:lnTo>
                      <a:pt x="98" y="77"/>
                    </a:lnTo>
                    <a:lnTo>
                      <a:pt x="109" y="62"/>
                    </a:lnTo>
                    <a:lnTo>
                      <a:pt x="122" y="47"/>
                    </a:lnTo>
                    <a:lnTo>
                      <a:pt x="137" y="34"/>
                    </a:lnTo>
                    <a:lnTo>
                      <a:pt x="154" y="23"/>
                    </a:lnTo>
                    <a:lnTo>
                      <a:pt x="171" y="13"/>
                    </a:lnTo>
                    <a:lnTo>
                      <a:pt x="190" y="6"/>
                    </a:lnTo>
                    <a:lnTo>
                      <a:pt x="210" y="2"/>
                    </a:lnTo>
                    <a:lnTo>
                      <a:pt x="229" y="0"/>
                    </a:lnTo>
                    <a:lnTo>
                      <a:pt x="253" y="2"/>
                    </a:lnTo>
                    <a:lnTo>
                      <a:pt x="274" y="6"/>
                    </a:lnTo>
                    <a:lnTo>
                      <a:pt x="295" y="13"/>
                    </a:lnTo>
                    <a:lnTo>
                      <a:pt x="314" y="24"/>
                    </a:lnTo>
                    <a:lnTo>
                      <a:pt x="330" y="36"/>
                    </a:lnTo>
                    <a:lnTo>
                      <a:pt x="346" y="51"/>
                    </a:lnTo>
                    <a:lnTo>
                      <a:pt x="360" y="69"/>
                    </a:lnTo>
                    <a:lnTo>
                      <a:pt x="373" y="88"/>
                    </a:lnTo>
                    <a:lnTo>
                      <a:pt x="385" y="69"/>
                    </a:lnTo>
                    <a:lnTo>
                      <a:pt x="401" y="52"/>
                    </a:lnTo>
                    <a:lnTo>
                      <a:pt x="418" y="37"/>
                    </a:lnTo>
                    <a:lnTo>
                      <a:pt x="438" y="24"/>
                    </a:lnTo>
                    <a:lnTo>
                      <a:pt x="458" y="14"/>
                    </a:lnTo>
                    <a:lnTo>
                      <a:pt x="480" y="6"/>
                    </a:lnTo>
                    <a:lnTo>
                      <a:pt x="503" y="2"/>
                    </a:lnTo>
                    <a:lnTo>
                      <a:pt x="526" y="0"/>
                    </a:lnTo>
                    <a:lnTo>
                      <a:pt x="550" y="1"/>
                    </a:lnTo>
                    <a:lnTo>
                      <a:pt x="571" y="5"/>
                    </a:lnTo>
                    <a:lnTo>
                      <a:pt x="589" y="11"/>
                    </a:lnTo>
                    <a:lnTo>
                      <a:pt x="607" y="17"/>
                    </a:lnTo>
                    <a:lnTo>
                      <a:pt x="622" y="27"/>
                    </a:lnTo>
                    <a:lnTo>
                      <a:pt x="635" y="38"/>
                    </a:lnTo>
                    <a:lnTo>
                      <a:pt x="647" y="51"/>
                    </a:lnTo>
                    <a:lnTo>
                      <a:pt x="657" y="65"/>
                    </a:lnTo>
                    <a:lnTo>
                      <a:pt x="666" y="81"/>
                    </a:lnTo>
                    <a:lnTo>
                      <a:pt x="673" y="97"/>
                    </a:lnTo>
                    <a:lnTo>
                      <a:pt x="678" y="115"/>
                    </a:lnTo>
                    <a:lnTo>
                      <a:pt x="684" y="133"/>
                    </a:lnTo>
                    <a:lnTo>
                      <a:pt x="689" y="173"/>
                    </a:lnTo>
                    <a:lnTo>
                      <a:pt x="690" y="215"/>
                    </a:lnTo>
                    <a:lnTo>
                      <a:pt x="690" y="512"/>
                    </a:lnTo>
                    <a:lnTo>
                      <a:pt x="595" y="512"/>
                    </a:lnTo>
                    <a:lnTo>
                      <a:pt x="595" y="230"/>
                    </a:lnTo>
                    <a:lnTo>
                      <a:pt x="595" y="206"/>
                    </a:lnTo>
                    <a:lnTo>
                      <a:pt x="593" y="181"/>
                    </a:lnTo>
                    <a:lnTo>
                      <a:pt x="588" y="157"/>
                    </a:lnTo>
                    <a:lnTo>
                      <a:pt x="580" y="133"/>
                    </a:lnTo>
                    <a:lnTo>
                      <a:pt x="568" y="114"/>
                    </a:lnTo>
                    <a:lnTo>
                      <a:pt x="561" y="106"/>
                    </a:lnTo>
                    <a:lnTo>
                      <a:pt x="552" y="98"/>
                    </a:lnTo>
                    <a:lnTo>
                      <a:pt x="542" y="93"/>
                    </a:lnTo>
                    <a:lnTo>
                      <a:pt x="531" y="88"/>
                    </a:lnTo>
                    <a:lnTo>
                      <a:pt x="517" y="86"/>
                    </a:lnTo>
                    <a:lnTo>
                      <a:pt x="503" y="85"/>
                    </a:lnTo>
                    <a:lnTo>
                      <a:pt x="484" y="86"/>
                    </a:lnTo>
                    <a:lnTo>
                      <a:pt x="469" y="90"/>
                    </a:lnTo>
                    <a:lnTo>
                      <a:pt x="454" y="95"/>
                    </a:lnTo>
                    <a:lnTo>
                      <a:pt x="442" y="103"/>
                    </a:lnTo>
                    <a:lnTo>
                      <a:pt x="432" y="112"/>
                    </a:lnTo>
                    <a:lnTo>
                      <a:pt x="423" y="123"/>
                    </a:lnTo>
                    <a:lnTo>
                      <a:pt x="416" y="135"/>
                    </a:lnTo>
                    <a:lnTo>
                      <a:pt x="409" y="148"/>
                    </a:lnTo>
                    <a:lnTo>
                      <a:pt x="401" y="176"/>
                    </a:lnTo>
                    <a:lnTo>
                      <a:pt x="396" y="207"/>
                    </a:lnTo>
                    <a:lnTo>
                      <a:pt x="394" y="238"/>
                    </a:lnTo>
                    <a:lnTo>
                      <a:pt x="393" y="267"/>
                    </a:lnTo>
                    <a:lnTo>
                      <a:pt x="393" y="512"/>
                    </a:lnTo>
                    <a:lnTo>
                      <a:pt x="297" y="512"/>
                    </a:lnTo>
                    <a:lnTo>
                      <a:pt x="297" y="249"/>
                    </a:lnTo>
                    <a:lnTo>
                      <a:pt x="297" y="224"/>
                    </a:lnTo>
                    <a:lnTo>
                      <a:pt x="295" y="196"/>
                    </a:lnTo>
                    <a:lnTo>
                      <a:pt x="292" y="169"/>
                    </a:lnTo>
                    <a:lnTo>
                      <a:pt x="285" y="142"/>
                    </a:lnTo>
                    <a:lnTo>
                      <a:pt x="280" y="130"/>
                    </a:lnTo>
                    <a:lnTo>
                      <a:pt x="273" y="119"/>
                    </a:lnTo>
                    <a:lnTo>
                      <a:pt x="267" y="110"/>
                    </a:lnTo>
                    <a:lnTo>
                      <a:pt x="258" y="102"/>
                    </a:lnTo>
                    <a:lnTo>
                      <a:pt x="247" y="95"/>
                    </a:lnTo>
                    <a:lnTo>
                      <a:pt x="235" y="90"/>
                    </a:lnTo>
                    <a:lnTo>
                      <a:pt x="222" y="86"/>
                    </a:lnTo>
                    <a:lnTo>
                      <a:pt x="206" y="85"/>
                    </a:lnTo>
                    <a:lnTo>
                      <a:pt x="188" y="86"/>
                    </a:lnTo>
                    <a:lnTo>
                      <a:pt x="172" y="90"/>
                    </a:lnTo>
                    <a:lnTo>
                      <a:pt x="158" y="95"/>
                    </a:lnTo>
                    <a:lnTo>
                      <a:pt x="146" y="103"/>
                    </a:lnTo>
                    <a:lnTo>
                      <a:pt x="135" y="112"/>
                    </a:lnTo>
                    <a:lnTo>
                      <a:pt x="126" y="123"/>
                    </a:lnTo>
                    <a:lnTo>
                      <a:pt x="119" y="135"/>
                    </a:lnTo>
                    <a:lnTo>
                      <a:pt x="113" y="148"/>
                    </a:lnTo>
                    <a:lnTo>
                      <a:pt x="103" y="176"/>
                    </a:lnTo>
                    <a:lnTo>
                      <a:pt x="99" y="207"/>
                    </a:lnTo>
                    <a:lnTo>
                      <a:pt x="97" y="238"/>
                    </a:lnTo>
                    <a:lnTo>
                      <a:pt x="96" y="267"/>
                    </a:lnTo>
                    <a:lnTo>
                      <a:pt x="96" y="512"/>
                    </a:lnTo>
                    <a:lnTo>
                      <a:pt x="0" y="512"/>
                    </a:lnTo>
                    <a:lnTo>
                      <a:pt x="0" y="15"/>
                    </a:lnTo>
                    <a:lnTo>
                      <a:pt x="96" y="15"/>
                    </a:lnTo>
                    <a:lnTo>
                      <a:pt x="96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908640" y="1022400"/>
                <a:ext cx="9082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a-DK" sz="600" spc="-1" strike="noStrike">
                    <a:solidFill>
                      <a:srgbClr val="ffffff"/>
                    </a:solidFill>
                    <a:latin typeface="Futura Bk BT"/>
                  </a:rPr>
                  <a:t>www.kirktelecom.dk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1" name=""/>
          <p:cNvSpPr/>
          <p:nvPr/>
        </p:nvSpPr>
        <p:spPr>
          <a:xfrm>
            <a:off x="2228760" y="0"/>
            <a:ext cx="76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CCFP Administration Program Ver.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2" name="" descr=""/>
          <p:cNvPicPr/>
          <p:nvPr/>
        </p:nvPicPr>
        <p:blipFill>
          <a:blip r:embed="rId2"/>
          <a:stretch/>
        </p:blipFill>
        <p:spPr>
          <a:xfrm>
            <a:off x="3429000" y="517680"/>
            <a:ext cx="5486400" cy="3952800"/>
          </a:xfrm>
          <a:prstGeom prst="rect">
            <a:avLst/>
          </a:prstGeom>
          <a:ln w="0">
            <a:noFill/>
          </a:ln>
        </p:spPr>
      </p:pic>
      <p:sp>
        <p:nvSpPr>
          <p:cNvPr id="833" name=""/>
          <p:cNvSpPr/>
          <p:nvPr/>
        </p:nvSpPr>
        <p:spPr>
          <a:xfrm>
            <a:off x="3427920" y="4538520"/>
            <a:ext cx="586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смотр статистических данных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используется для определения коррект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боты системы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426120" y="5729400"/>
            <a:ext cx="53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брос статистики без выключения питания системы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5799240" y="1467000"/>
            <a:ext cx="2297160" cy="426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7CB4-96F6-4D69-963B-5B738D8E683F}" type="slidenum">
              <a:t>24</a:t>
            </a:fld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2889360" y="457200"/>
            <a:ext cx="6521400" cy="0"/>
          </a:xfrm>
          <a:prstGeom prst="line">
            <a:avLst/>
          </a:prstGeom>
          <a:ln cap="sq"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0" y="0"/>
            <a:ext cx="6129000" cy="6858000"/>
            <a:chOff x="0" y="0"/>
            <a:chExt cx="6129000" cy="6858000"/>
          </a:xfrm>
        </p:grpSpPr>
        <p:sp>
          <p:nvSpPr>
            <p:cNvPr id="838" name=""/>
            <p:cNvSpPr/>
            <p:nvPr/>
          </p:nvSpPr>
          <p:spPr>
            <a:xfrm>
              <a:off x="0" y="0"/>
              <a:ext cx="2228760" cy="3429000"/>
            </a:xfrm>
            <a:prstGeom prst="rect">
              <a:avLst/>
            </a:prstGeom>
            <a:solidFill>
              <a:srgbClr val="000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0" y="3429000"/>
              <a:ext cx="2228760" cy="3429000"/>
            </a:xfrm>
            <a:prstGeom prst="rect">
              <a:avLst/>
            </a:pr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91836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79924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2" name="" descr=""/>
            <p:cNvPicPr/>
            <p:nvPr/>
          </p:nvPicPr>
          <p:blipFill>
            <a:blip r:embed="rId1"/>
            <a:stretch/>
          </p:blipFill>
          <p:spPr>
            <a:xfrm>
              <a:off x="201240" y="2055960"/>
              <a:ext cx="1705680" cy="271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43" name=""/>
            <p:cNvGrpSpPr/>
            <p:nvPr/>
          </p:nvGrpSpPr>
          <p:grpSpPr>
            <a:xfrm>
              <a:off x="211320" y="380880"/>
              <a:ext cx="1605600" cy="821880"/>
              <a:chOff x="211320" y="380880"/>
              <a:chExt cx="1605600" cy="821880"/>
            </a:xfrm>
          </p:grpSpPr>
          <p:sp>
            <p:nvSpPr>
              <p:cNvPr id="844" name=""/>
              <p:cNvSpPr/>
              <p:nvPr/>
            </p:nvSpPr>
            <p:spPr>
              <a:xfrm>
                <a:off x="403920" y="38088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7">
                    <a:moveTo>
                      <a:pt x="29" y="1655"/>
                    </a:moveTo>
                    <a:lnTo>
                      <a:pt x="79" y="1682"/>
                    </a:lnTo>
                    <a:lnTo>
                      <a:pt x="623" y="1957"/>
                    </a:lnTo>
                    <a:lnTo>
                      <a:pt x="684" y="1987"/>
                    </a:lnTo>
                    <a:lnTo>
                      <a:pt x="687" y="1916"/>
                    </a:lnTo>
                    <a:lnTo>
                      <a:pt x="691" y="1864"/>
                    </a:lnTo>
                    <a:lnTo>
                      <a:pt x="697" y="1814"/>
                    </a:lnTo>
                    <a:lnTo>
                      <a:pt x="704" y="1763"/>
                    </a:lnTo>
                    <a:lnTo>
                      <a:pt x="713" y="1714"/>
                    </a:lnTo>
                    <a:lnTo>
                      <a:pt x="724" y="1665"/>
                    </a:lnTo>
                    <a:lnTo>
                      <a:pt x="737" y="1616"/>
                    </a:lnTo>
                    <a:lnTo>
                      <a:pt x="751" y="1569"/>
                    </a:lnTo>
                    <a:lnTo>
                      <a:pt x="767" y="1522"/>
                    </a:lnTo>
                    <a:lnTo>
                      <a:pt x="784" y="1476"/>
                    </a:lnTo>
                    <a:lnTo>
                      <a:pt x="803" y="1431"/>
                    </a:lnTo>
                    <a:lnTo>
                      <a:pt x="824" y="1386"/>
                    </a:lnTo>
                    <a:lnTo>
                      <a:pt x="846" y="1343"/>
                    </a:lnTo>
                    <a:lnTo>
                      <a:pt x="869" y="1300"/>
                    </a:lnTo>
                    <a:lnTo>
                      <a:pt x="894" y="1257"/>
                    </a:lnTo>
                    <a:lnTo>
                      <a:pt x="920" y="1217"/>
                    </a:lnTo>
                    <a:lnTo>
                      <a:pt x="948" y="1177"/>
                    </a:lnTo>
                    <a:lnTo>
                      <a:pt x="976" y="1137"/>
                    </a:lnTo>
                    <a:lnTo>
                      <a:pt x="1007" y="1100"/>
                    </a:lnTo>
                    <a:lnTo>
                      <a:pt x="1038" y="1063"/>
                    </a:lnTo>
                    <a:lnTo>
                      <a:pt x="1071" y="1027"/>
                    </a:lnTo>
                    <a:lnTo>
                      <a:pt x="1105" y="993"/>
                    </a:lnTo>
                    <a:lnTo>
                      <a:pt x="1140" y="959"/>
                    </a:lnTo>
                    <a:lnTo>
                      <a:pt x="1176" y="927"/>
                    </a:lnTo>
                    <a:lnTo>
                      <a:pt x="1213" y="896"/>
                    </a:lnTo>
                    <a:lnTo>
                      <a:pt x="1250" y="866"/>
                    </a:lnTo>
                    <a:lnTo>
                      <a:pt x="1290" y="838"/>
                    </a:lnTo>
                    <a:lnTo>
                      <a:pt x="1331" y="810"/>
                    </a:lnTo>
                    <a:lnTo>
                      <a:pt x="1372" y="785"/>
                    </a:lnTo>
                    <a:lnTo>
                      <a:pt x="1414" y="760"/>
                    </a:lnTo>
                    <a:lnTo>
                      <a:pt x="1457" y="737"/>
                    </a:lnTo>
                    <a:lnTo>
                      <a:pt x="1501" y="716"/>
                    </a:lnTo>
                    <a:lnTo>
                      <a:pt x="1546" y="696"/>
                    </a:lnTo>
                    <a:lnTo>
                      <a:pt x="1584" y="680"/>
                    </a:lnTo>
                    <a:lnTo>
                      <a:pt x="1594" y="673"/>
                    </a:lnTo>
                    <a:lnTo>
                      <a:pt x="1600" y="665"/>
                    </a:lnTo>
                    <a:lnTo>
                      <a:pt x="1604" y="658"/>
                    </a:lnTo>
                    <a:lnTo>
                      <a:pt x="1606" y="650"/>
                    </a:lnTo>
                    <a:lnTo>
                      <a:pt x="1605" y="638"/>
                    </a:lnTo>
                    <a:lnTo>
                      <a:pt x="1603" y="632"/>
                    </a:lnTo>
                    <a:lnTo>
                      <a:pt x="1586" y="586"/>
                    </a:lnTo>
                    <a:lnTo>
                      <a:pt x="1385" y="31"/>
                    </a:lnTo>
                    <a:lnTo>
                      <a:pt x="1381" y="18"/>
                    </a:lnTo>
                    <a:lnTo>
                      <a:pt x="1380" y="13"/>
                    </a:lnTo>
                    <a:lnTo>
                      <a:pt x="1372" y="5"/>
                    </a:lnTo>
                    <a:lnTo>
                      <a:pt x="1367" y="2"/>
                    </a:lnTo>
                    <a:lnTo>
                      <a:pt x="1359" y="0"/>
                    </a:lnTo>
                    <a:lnTo>
                      <a:pt x="1349" y="0"/>
                    </a:lnTo>
                    <a:lnTo>
                      <a:pt x="1337" y="3"/>
                    </a:lnTo>
                    <a:lnTo>
                      <a:pt x="1307" y="14"/>
                    </a:lnTo>
                    <a:lnTo>
                      <a:pt x="1248" y="37"/>
                    </a:lnTo>
                    <a:lnTo>
                      <a:pt x="1190" y="63"/>
                    </a:lnTo>
                    <a:lnTo>
                      <a:pt x="1133" y="89"/>
                    </a:lnTo>
                    <a:lnTo>
                      <a:pt x="1076" y="119"/>
                    </a:lnTo>
                    <a:lnTo>
                      <a:pt x="1021" y="149"/>
                    </a:lnTo>
                    <a:lnTo>
                      <a:pt x="966" y="181"/>
                    </a:lnTo>
                    <a:lnTo>
                      <a:pt x="913" y="215"/>
                    </a:lnTo>
                    <a:lnTo>
                      <a:pt x="861" y="251"/>
                    </a:lnTo>
                    <a:lnTo>
                      <a:pt x="810" y="289"/>
                    </a:lnTo>
                    <a:lnTo>
                      <a:pt x="759" y="328"/>
                    </a:lnTo>
                    <a:lnTo>
                      <a:pt x="711" y="369"/>
                    </a:lnTo>
                    <a:lnTo>
                      <a:pt x="663" y="411"/>
                    </a:lnTo>
                    <a:lnTo>
                      <a:pt x="616" y="455"/>
                    </a:lnTo>
                    <a:lnTo>
                      <a:pt x="572" y="501"/>
                    </a:lnTo>
                    <a:lnTo>
                      <a:pt x="528" y="547"/>
                    </a:lnTo>
                    <a:lnTo>
                      <a:pt x="485" y="595"/>
                    </a:lnTo>
                    <a:lnTo>
                      <a:pt x="443" y="645"/>
                    </a:lnTo>
                    <a:lnTo>
                      <a:pt x="404" y="695"/>
                    </a:lnTo>
                    <a:lnTo>
                      <a:pt x="365" y="747"/>
                    </a:lnTo>
                    <a:lnTo>
                      <a:pt x="329" y="800"/>
                    </a:lnTo>
                    <a:lnTo>
                      <a:pt x="294" y="854"/>
                    </a:lnTo>
                    <a:lnTo>
                      <a:pt x="260" y="910"/>
                    </a:lnTo>
                    <a:lnTo>
                      <a:pt x="228" y="967"/>
                    </a:lnTo>
                    <a:lnTo>
                      <a:pt x="197" y="1024"/>
                    </a:lnTo>
                    <a:lnTo>
                      <a:pt x="169" y="1084"/>
                    </a:lnTo>
                    <a:lnTo>
                      <a:pt x="142" y="1144"/>
                    </a:lnTo>
                    <a:lnTo>
                      <a:pt x="116" y="1204"/>
                    </a:lnTo>
                    <a:lnTo>
                      <a:pt x="93" y="1266"/>
                    </a:lnTo>
                    <a:lnTo>
                      <a:pt x="71" y="1329"/>
                    </a:lnTo>
                    <a:lnTo>
                      <a:pt x="52" y="1392"/>
                    </a:lnTo>
                    <a:lnTo>
                      <a:pt x="34" y="1457"/>
                    </a:lnTo>
                    <a:lnTo>
                      <a:pt x="18" y="1522"/>
                    </a:lnTo>
                    <a:lnTo>
                      <a:pt x="2" y="1593"/>
                    </a:lnTo>
                    <a:lnTo>
                      <a:pt x="0" y="1610"/>
                    </a:lnTo>
                    <a:lnTo>
                      <a:pt x="1" y="1623"/>
                    </a:lnTo>
                    <a:lnTo>
                      <a:pt x="6" y="1634"/>
                    </a:lnTo>
                    <a:lnTo>
                      <a:pt x="11" y="1643"/>
                    </a:lnTo>
                    <a:lnTo>
                      <a:pt x="17" y="1648"/>
                    </a:lnTo>
                    <a:lnTo>
                      <a:pt x="23" y="1652"/>
                    </a:lnTo>
                    <a:lnTo>
                      <a:pt x="29" y="1655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03920" y="77004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5">
                    <a:moveTo>
                      <a:pt x="29" y="333"/>
                    </a:moveTo>
                    <a:lnTo>
                      <a:pt x="79" y="306"/>
                    </a:lnTo>
                    <a:lnTo>
                      <a:pt x="623" y="31"/>
                    </a:lnTo>
                    <a:lnTo>
                      <a:pt x="684" y="0"/>
                    </a:lnTo>
                    <a:lnTo>
                      <a:pt x="687" y="72"/>
                    </a:lnTo>
                    <a:lnTo>
                      <a:pt x="691" y="123"/>
                    </a:lnTo>
                    <a:lnTo>
                      <a:pt x="697" y="174"/>
                    </a:lnTo>
                    <a:lnTo>
                      <a:pt x="704" y="224"/>
                    </a:lnTo>
                    <a:lnTo>
                      <a:pt x="713" y="273"/>
                    </a:lnTo>
                    <a:lnTo>
                      <a:pt x="724" y="323"/>
                    </a:lnTo>
                    <a:lnTo>
                      <a:pt x="737" y="371"/>
                    </a:lnTo>
                    <a:lnTo>
                      <a:pt x="751" y="418"/>
                    </a:lnTo>
                    <a:lnTo>
                      <a:pt x="767" y="465"/>
                    </a:lnTo>
                    <a:lnTo>
                      <a:pt x="784" y="512"/>
                    </a:lnTo>
                    <a:lnTo>
                      <a:pt x="803" y="557"/>
                    </a:lnTo>
                    <a:lnTo>
                      <a:pt x="824" y="602"/>
                    </a:lnTo>
                    <a:lnTo>
                      <a:pt x="846" y="645"/>
                    </a:lnTo>
                    <a:lnTo>
                      <a:pt x="869" y="688"/>
                    </a:lnTo>
                    <a:lnTo>
                      <a:pt x="894" y="730"/>
                    </a:lnTo>
                    <a:lnTo>
                      <a:pt x="920" y="771"/>
                    </a:lnTo>
                    <a:lnTo>
                      <a:pt x="948" y="811"/>
                    </a:lnTo>
                    <a:lnTo>
                      <a:pt x="976" y="850"/>
                    </a:lnTo>
                    <a:lnTo>
                      <a:pt x="1007" y="888"/>
                    </a:lnTo>
                    <a:lnTo>
                      <a:pt x="1038" y="924"/>
                    </a:lnTo>
                    <a:lnTo>
                      <a:pt x="1071" y="961"/>
                    </a:lnTo>
                    <a:lnTo>
                      <a:pt x="1105" y="995"/>
                    </a:lnTo>
                    <a:lnTo>
                      <a:pt x="1140" y="1029"/>
                    </a:lnTo>
                    <a:lnTo>
                      <a:pt x="1176" y="1061"/>
                    </a:lnTo>
                    <a:lnTo>
                      <a:pt x="1213" y="1092"/>
                    </a:lnTo>
                    <a:lnTo>
                      <a:pt x="1252" y="1122"/>
                    </a:lnTo>
                    <a:lnTo>
                      <a:pt x="1290" y="1151"/>
                    </a:lnTo>
                    <a:lnTo>
                      <a:pt x="1331" y="1177"/>
                    </a:lnTo>
                    <a:lnTo>
                      <a:pt x="1372" y="1203"/>
                    </a:lnTo>
                    <a:lnTo>
                      <a:pt x="1414" y="1227"/>
                    </a:lnTo>
                    <a:lnTo>
                      <a:pt x="1457" y="1250"/>
                    </a:lnTo>
                    <a:lnTo>
                      <a:pt x="1501" y="1271"/>
                    </a:lnTo>
                    <a:lnTo>
                      <a:pt x="1546" y="1292"/>
                    </a:lnTo>
                    <a:lnTo>
                      <a:pt x="1584" y="1308"/>
                    </a:lnTo>
                    <a:lnTo>
                      <a:pt x="1594" y="1315"/>
                    </a:lnTo>
                    <a:lnTo>
                      <a:pt x="1600" y="1323"/>
                    </a:lnTo>
                    <a:lnTo>
                      <a:pt x="1605" y="1331"/>
                    </a:lnTo>
                    <a:lnTo>
                      <a:pt x="1606" y="1337"/>
                    </a:lnTo>
                    <a:lnTo>
                      <a:pt x="1605" y="1349"/>
                    </a:lnTo>
                    <a:lnTo>
                      <a:pt x="1603" y="1355"/>
                    </a:lnTo>
                    <a:lnTo>
                      <a:pt x="1586" y="1401"/>
                    </a:lnTo>
                    <a:lnTo>
                      <a:pt x="1388" y="1950"/>
                    </a:lnTo>
                    <a:lnTo>
                      <a:pt x="1381" y="1965"/>
                    </a:lnTo>
                    <a:lnTo>
                      <a:pt x="1379" y="1970"/>
                    </a:lnTo>
                    <a:lnTo>
                      <a:pt x="1371" y="1978"/>
                    </a:lnTo>
                    <a:lnTo>
                      <a:pt x="1366" y="1983"/>
                    </a:lnTo>
                    <a:lnTo>
                      <a:pt x="1358" y="1985"/>
                    </a:lnTo>
                    <a:lnTo>
                      <a:pt x="1348" y="1985"/>
                    </a:lnTo>
                    <a:lnTo>
                      <a:pt x="1338" y="1983"/>
                    </a:lnTo>
                    <a:lnTo>
                      <a:pt x="1302" y="1969"/>
                    </a:lnTo>
                    <a:lnTo>
                      <a:pt x="1242" y="1942"/>
                    </a:lnTo>
                    <a:lnTo>
                      <a:pt x="1181" y="1915"/>
                    </a:lnTo>
                    <a:lnTo>
                      <a:pt x="1123" y="1886"/>
                    </a:lnTo>
                    <a:lnTo>
                      <a:pt x="1066" y="1857"/>
                    </a:lnTo>
                    <a:lnTo>
                      <a:pt x="1009" y="1824"/>
                    </a:lnTo>
                    <a:lnTo>
                      <a:pt x="954" y="1791"/>
                    </a:lnTo>
                    <a:lnTo>
                      <a:pt x="901" y="1756"/>
                    </a:lnTo>
                    <a:lnTo>
                      <a:pt x="848" y="1719"/>
                    </a:lnTo>
                    <a:lnTo>
                      <a:pt x="796" y="1682"/>
                    </a:lnTo>
                    <a:lnTo>
                      <a:pt x="747" y="1642"/>
                    </a:lnTo>
                    <a:lnTo>
                      <a:pt x="698" y="1602"/>
                    </a:lnTo>
                    <a:lnTo>
                      <a:pt x="650" y="1560"/>
                    </a:lnTo>
                    <a:lnTo>
                      <a:pt x="604" y="1517"/>
                    </a:lnTo>
                    <a:lnTo>
                      <a:pt x="559" y="1472"/>
                    </a:lnTo>
                    <a:lnTo>
                      <a:pt x="517" y="1426"/>
                    </a:lnTo>
                    <a:lnTo>
                      <a:pt x="475" y="1379"/>
                    </a:lnTo>
                    <a:lnTo>
                      <a:pt x="434" y="1331"/>
                    </a:lnTo>
                    <a:lnTo>
                      <a:pt x="395" y="1281"/>
                    </a:lnTo>
                    <a:lnTo>
                      <a:pt x="358" y="1230"/>
                    </a:lnTo>
                    <a:lnTo>
                      <a:pt x="323" y="1178"/>
                    </a:lnTo>
                    <a:lnTo>
                      <a:pt x="287" y="1124"/>
                    </a:lnTo>
                    <a:lnTo>
                      <a:pt x="255" y="1070"/>
                    </a:lnTo>
                    <a:lnTo>
                      <a:pt x="224" y="1014"/>
                    </a:lnTo>
                    <a:lnTo>
                      <a:pt x="194" y="957"/>
                    </a:lnTo>
                    <a:lnTo>
                      <a:pt x="166" y="900"/>
                    </a:lnTo>
                    <a:lnTo>
                      <a:pt x="139" y="841"/>
                    </a:lnTo>
                    <a:lnTo>
                      <a:pt x="115" y="781"/>
                    </a:lnTo>
                    <a:lnTo>
                      <a:pt x="92" y="720"/>
                    </a:lnTo>
                    <a:lnTo>
                      <a:pt x="71" y="658"/>
                    </a:lnTo>
                    <a:lnTo>
                      <a:pt x="52" y="595"/>
                    </a:lnTo>
                    <a:lnTo>
                      <a:pt x="34" y="530"/>
                    </a:lnTo>
                    <a:lnTo>
                      <a:pt x="18" y="465"/>
                    </a:lnTo>
                    <a:lnTo>
                      <a:pt x="3" y="394"/>
                    </a:lnTo>
                    <a:lnTo>
                      <a:pt x="0" y="378"/>
                    </a:lnTo>
                    <a:lnTo>
                      <a:pt x="1" y="364"/>
                    </a:lnTo>
                    <a:lnTo>
                      <a:pt x="6" y="353"/>
                    </a:lnTo>
                    <a:lnTo>
                      <a:pt x="11" y="346"/>
                    </a:lnTo>
                    <a:lnTo>
                      <a:pt x="17" y="339"/>
                    </a:lnTo>
                    <a:lnTo>
                      <a:pt x="23" y="336"/>
                    </a:lnTo>
                    <a:lnTo>
                      <a:pt x="29" y="333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67440" y="698400"/>
                <a:ext cx="149400" cy="147600"/>
              </a:xfrm>
              <a:custGeom>
                <a:avLst/>
                <a:gdLst/>
                <a:ahLst/>
                <a:rect l="l" t="t" r="r" b="b"/>
                <a:pathLst>
                  <a:path w="714" h="759">
                    <a:moveTo>
                      <a:pt x="699" y="379"/>
                    </a:moveTo>
                    <a:lnTo>
                      <a:pt x="706" y="375"/>
                    </a:lnTo>
                    <a:lnTo>
                      <a:pt x="710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09" y="351"/>
                    </a:lnTo>
                    <a:lnTo>
                      <a:pt x="705" y="346"/>
                    </a:lnTo>
                    <a:lnTo>
                      <a:pt x="699" y="342"/>
                    </a:lnTo>
                    <a:lnTo>
                      <a:pt x="35" y="4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3" y="11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735"/>
                    </a:lnTo>
                    <a:lnTo>
                      <a:pt x="1" y="743"/>
                    </a:lnTo>
                    <a:lnTo>
                      <a:pt x="3" y="748"/>
                    </a:lnTo>
                    <a:lnTo>
                      <a:pt x="5" y="753"/>
                    </a:lnTo>
                    <a:lnTo>
                      <a:pt x="10" y="757"/>
                    </a:lnTo>
                    <a:lnTo>
                      <a:pt x="15" y="759"/>
                    </a:lnTo>
                    <a:lnTo>
                      <a:pt x="21" y="759"/>
                    </a:lnTo>
                    <a:lnTo>
                      <a:pt x="27" y="758"/>
                    </a:lnTo>
                    <a:lnTo>
                      <a:pt x="34" y="755"/>
                    </a:lnTo>
                    <a:lnTo>
                      <a:pt x="699" y="379"/>
                    </a:lnTo>
                    <a:close/>
                  </a:path>
                </a:pathLst>
              </a:custGeom>
              <a:solidFill>
                <a:srgbClr val="00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11320" y="701640"/>
                <a:ext cx="149760" cy="146160"/>
              </a:xfrm>
              <a:custGeom>
                <a:avLst/>
                <a:gdLst/>
                <a:ahLst/>
                <a:rect l="l" t="t" r="r" b="b"/>
                <a:pathLst>
                  <a:path w="714" h="758">
                    <a:moveTo>
                      <a:pt x="701" y="379"/>
                    </a:moveTo>
                    <a:lnTo>
                      <a:pt x="706" y="374"/>
                    </a:lnTo>
                    <a:lnTo>
                      <a:pt x="711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11" y="350"/>
                    </a:lnTo>
                    <a:lnTo>
                      <a:pt x="706" y="346"/>
                    </a:lnTo>
                    <a:lnTo>
                      <a:pt x="700" y="342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0" y="734"/>
                    </a:lnTo>
                    <a:lnTo>
                      <a:pt x="1" y="742"/>
                    </a:lnTo>
                    <a:lnTo>
                      <a:pt x="3" y="749"/>
                    </a:lnTo>
                    <a:lnTo>
                      <a:pt x="7" y="753"/>
                    </a:lnTo>
                    <a:lnTo>
                      <a:pt x="10" y="756"/>
                    </a:lnTo>
                    <a:lnTo>
                      <a:pt x="15" y="758"/>
                    </a:lnTo>
                    <a:lnTo>
                      <a:pt x="21" y="758"/>
                    </a:lnTo>
                    <a:lnTo>
                      <a:pt x="27" y="757"/>
                    </a:lnTo>
                    <a:lnTo>
                      <a:pt x="34" y="754"/>
                    </a:lnTo>
                    <a:lnTo>
                      <a:pt x="701" y="379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011960" y="517680"/>
                <a:ext cx="195840" cy="250560"/>
              </a:xfrm>
              <a:custGeom>
                <a:avLst/>
                <a:gdLst/>
                <a:ahLst/>
                <a:rect l="l" t="t" r="r" b="b"/>
                <a:pathLst>
                  <a:path w="930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30" y="1293"/>
                    </a:lnTo>
                    <a:lnTo>
                      <a:pt x="713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230480" y="517680"/>
                <a:ext cx="34200" cy="25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316520" y="517680"/>
                <a:ext cx="168480" cy="250560"/>
              </a:xfrm>
              <a:custGeom>
                <a:avLst/>
                <a:gdLst/>
                <a:ahLst/>
                <a:rect l="l" t="t" r="r" b="b"/>
                <a:pathLst>
                  <a:path w="803" h="1293">
                    <a:moveTo>
                      <a:pt x="803" y="1293"/>
                    </a:moveTo>
                    <a:lnTo>
                      <a:pt x="607" y="1293"/>
                    </a:lnTo>
                    <a:lnTo>
                      <a:pt x="228" y="746"/>
                    </a:lnTo>
                    <a:lnTo>
                      <a:pt x="161" y="746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283" y="1"/>
                    </a:lnTo>
                    <a:lnTo>
                      <a:pt x="327" y="4"/>
                    </a:lnTo>
                    <a:lnTo>
                      <a:pt x="370" y="8"/>
                    </a:lnTo>
                    <a:lnTo>
                      <a:pt x="413" y="16"/>
                    </a:lnTo>
                    <a:lnTo>
                      <a:pt x="456" y="27"/>
                    </a:lnTo>
                    <a:lnTo>
                      <a:pt x="497" y="41"/>
                    </a:lnTo>
                    <a:lnTo>
                      <a:pt x="536" y="61"/>
                    </a:lnTo>
                    <a:lnTo>
                      <a:pt x="556" y="73"/>
                    </a:lnTo>
                    <a:lnTo>
                      <a:pt x="574" y="87"/>
                    </a:lnTo>
                    <a:lnTo>
                      <a:pt x="592" y="101"/>
                    </a:lnTo>
                    <a:lnTo>
                      <a:pt x="608" y="118"/>
                    </a:lnTo>
                    <a:lnTo>
                      <a:pt x="623" y="135"/>
                    </a:lnTo>
                    <a:lnTo>
                      <a:pt x="637" y="153"/>
                    </a:lnTo>
                    <a:lnTo>
                      <a:pt x="650" y="173"/>
                    </a:lnTo>
                    <a:lnTo>
                      <a:pt x="661" y="192"/>
                    </a:lnTo>
                    <a:lnTo>
                      <a:pt x="671" y="212"/>
                    </a:lnTo>
                    <a:lnTo>
                      <a:pt x="680" y="233"/>
                    </a:lnTo>
                    <a:lnTo>
                      <a:pt x="694" y="277"/>
                    </a:lnTo>
                    <a:lnTo>
                      <a:pt x="700" y="300"/>
                    </a:lnTo>
                    <a:lnTo>
                      <a:pt x="703" y="323"/>
                    </a:lnTo>
                    <a:lnTo>
                      <a:pt x="705" y="346"/>
                    </a:lnTo>
                    <a:lnTo>
                      <a:pt x="705" y="369"/>
                    </a:lnTo>
                    <a:lnTo>
                      <a:pt x="704" y="403"/>
                    </a:lnTo>
                    <a:lnTo>
                      <a:pt x="700" y="436"/>
                    </a:lnTo>
                    <a:lnTo>
                      <a:pt x="693" y="469"/>
                    </a:lnTo>
                    <a:lnTo>
                      <a:pt x="683" y="500"/>
                    </a:lnTo>
                    <a:lnTo>
                      <a:pt x="671" y="531"/>
                    </a:lnTo>
                    <a:lnTo>
                      <a:pt x="657" y="558"/>
                    </a:lnTo>
                    <a:lnTo>
                      <a:pt x="639" y="585"/>
                    </a:lnTo>
                    <a:lnTo>
                      <a:pt x="621" y="611"/>
                    </a:lnTo>
                    <a:lnTo>
                      <a:pt x="599" y="634"/>
                    </a:lnTo>
                    <a:lnTo>
                      <a:pt x="576" y="655"/>
                    </a:lnTo>
                    <a:lnTo>
                      <a:pt x="550" y="673"/>
                    </a:lnTo>
                    <a:lnTo>
                      <a:pt x="523" y="691"/>
                    </a:lnTo>
                    <a:lnTo>
                      <a:pt x="493" y="704"/>
                    </a:lnTo>
                    <a:lnTo>
                      <a:pt x="463" y="716"/>
                    </a:lnTo>
                    <a:lnTo>
                      <a:pt x="430" y="725"/>
                    </a:lnTo>
                    <a:lnTo>
                      <a:pt x="396" y="730"/>
                    </a:lnTo>
                    <a:lnTo>
                      <a:pt x="803" y="1293"/>
                    </a:lnTo>
                    <a:close/>
                    <a:moveTo>
                      <a:pt x="161" y="612"/>
                    </a:moveTo>
                    <a:lnTo>
                      <a:pt x="213" y="612"/>
                    </a:lnTo>
                    <a:lnTo>
                      <a:pt x="274" y="611"/>
                    </a:lnTo>
                    <a:lnTo>
                      <a:pt x="335" y="604"/>
                    </a:lnTo>
                    <a:lnTo>
                      <a:pt x="365" y="599"/>
                    </a:lnTo>
                    <a:lnTo>
                      <a:pt x="393" y="591"/>
                    </a:lnTo>
                    <a:lnTo>
                      <a:pt x="420" y="582"/>
                    </a:lnTo>
                    <a:lnTo>
                      <a:pt x="445" y="571"/>
                    </a:lnTo>
                    <a:lnTo>
                      <a:pt x="469" y="557"/>
                    </a:lnTo>
                    <a:lnTo>
                      <a:pt x="490" y="540"/>
                    </a:lnTo>
                    <a:lnTo>
                      <a:pt x="509" y="522"/>
                    </a:lnTo>
                    <a:lnTo>
                      <a:pt x="524" y="499"/>
                    </a:lnTo>
                    <a:lnTo>
                      <a:pt x="537" y="473"/>
                    </a:lnTo>
                    <a:lnTo>
                      <a:pt x="547" y="445"/>
                    </a:lnTo>
                    <a:lnTo>
                      <a:pt x="553" y="412"/>
                    </a:lnTo>
                    <a:lnTo>
                      <a:pt x="555" y="376"/>
                    </a:lnTo>
                    <a:lnTo>
                      <a:pt x="553" y="339"/>
                    </a:lnTo>
                    <a:lnTo>
                      <a:pt x="546" y="308"/>
                    </a:lnTo>
                    <a:lnTo>
                      <a:pt x="536" y="279"/>
                    </a:lnTo>
                    <a:lnTo>
                      <a:pt x="523" y="254"/>
                    </a:lnTo>
                    <a:lnTo>
                      <a:pt x="505" y="232"/>
                    </a:lnTo>
                    <a:lnTo>
                      <a:pt x="486" y="213"/>
                    </a:lnTo>
                    <a:lnTo>
                      <a:pt x="464" y="198"/>
                    </a:lnTo>
                    <a:lnTo>
                      <a:pt x="440" y="184"/>
                    </a:lnTo>
                    <a:lnTo>
                      <a:pt x="413" y="173"/>
                    </a:lnTo>
                    <a:lnTo>
                      <a:pt x="385" y="164"/>
                    </a:lnTo>
                    <a:lnTo>
                      <a:pt x="356" y="157"/>
                    </a:lnTo>
                    <a:lnTo>
                      <a:pt x="325" y="152"/>
                    </a:lnTo>
                    <a:lnTo>
                      <a:pt x="296" y="148"/>
                    </a:lnTo>
                    <a:lnTo>
                      <a:pt x="265" y="146"/>
                    </a:lnTo>
                    <a:lnTo>
                      <a:pt x="204" y="144"/>
                    </a:lnTo>
                    <a:lnTo>
                      <a:pt x="161" y="144"/>
                    </a:lnTo>
                    <a:lnTo>
                      <a:pt x="161" y="6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502280" y="517680"/>
                <a:ext cx="196200" cy="250560"/>
              </a:xfrm>
              <a:custGeom>
                <a:avLst/>
                <a:gdLst/>
                <a:ahLst/>
                <a:rect l="l" t="t" r="r" b="b"/>
                <a:pathLst>
                  <a:path w="929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29" y="1293"/>
                    </a:lnTo>
                    <a:lnTo>
                      <a:pt x="712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999720" y="847800"/>
                <a:ext cx="54720" cy="133200"/>
              </a:xfrm>
              <a:custGeom>
                <a:avLst/>
                <a:gdLst/>
                <a:ahLst/>
                <a:rect l="l" t="t" r="r" b="b"/>
                <a:pathLst>
                  <a:path w="264" h="687">
                    <a:moveTo>
                      <a:pt x="169" y="687"/>
                    </a:moveTo>
                    <a:lnTo>
                      <a:pt x="74" y="687"/>
                    </a:lnTo>
                    <a:lnTo>
                      <a:pt x="74" y="279"/>
                    </a:lnTo>
                    <a:lnTo>
                      <a:pt x="0" y="279"/>
                    </a:lnTo>
                    <a:lnTo>
                      <a:pt x="0" y="190"/>
                    </a:lnTo>
                    <a:lnTo>
                      <a:pt x="74" y="190"/>
                    </a:lnTo>
                    <a:lnTo>
                      <a:pt x="74" y="0"/>
                    </a:lnTo>
                    <a:lnTo>
                      <a:pt x="169" y="0"/>
                    </a:lnTo>
                    <a:lnTo>
                      <a:pt x="169" y="190"/>
                    </a:lnTo>
                    <a:lnTo>
                      <a:pt x="264" y="190"/>
                    </a:lnTo>
                    <a:lnTo>
                      <a:pt x="264" y="279"/>
                    </a:lnTo>
                    <a:lnTo>
                      <a:pt x="169" y="279"/>
                    </a:lnTo>
                    <a:lnTo>
                      <a:pt x="169" y="6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058400" y="882720"/>
                <a:ext cx="9936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5" y="280"/>
                    </a:moveTo>
                    <a:lnTo>
                      <a:pt x="98" y="311"/>
                    </a:lnTo>
                    <a:lnTo>
                      <a:pt x="106" y="341"/>
                    </a:lnTo>
                    <a:lnTo>
                      <a:pt x="119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8" y="415"/>
                    </a:lnTo>
                    <a:lnTo>
                      <a:pt x="170" y="423"/>
                    </a:lnTo>
                    <a:lnTo>
                      <a:pt x="184" y="431"/>
                    </a:lnTo>
                    <a:lnTo>
                      <a:pt x="197" y="437"/>
                    </a:lnTo>
                    <a:lnTo>
                      <a:pt x="213" y="441"/>
                    </a:lnTo>
                    <a:lnTo>
                      <a:pt x="229" y="443"/>
                    </a:lnTo>
                    <a:lnTo>
                      <a:pt x="245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5" y="430"/>
                    </a:lnTo>
                    <a:lnTo>
                      <a:pt x="333" y="418"/>
                    </a:lnTo>
                    <a:lnTo>
                      <a:pt x="351" y="405"/>
                    </a:lnTo>
                    <a:lnTo>
                      <a:pt x="366" y="388"/>
                    </a:lnTo>
                    <a:lnTo>
                      <a:pt x="380" y="368"/>
                    </a:lnTo>
                    <a:lnTo>
                      <a:pt x="394" y="348"/>
                    </a:lnTo>
                    <a:lnTo>
                      <a:pt x="475" y="394"/>
                    </a:lnTo>
                    <a:lnTo>
                      <a:pt x="455" y="424"/>
                    </a:lnTo>
                    <a:lnTo>
                      <a:pt x="433" y="451"/>
                    </a:lnTo>
                    <a:lnTo>
                      <a:pt x="407" y="474"/>
                    </a:lnTo>
                    <a:lnTo>
                      <a:pt x="378" y="494"/>
                    </a:lnTo>
                    <a:lnTo>
                      <a:pt x="347" y="509"/>
                    </a:lnTo>
                    <a:lnTo>
                      <a:pt x="315" y="520"/>
                    </a:lnTo>
                    <a:lnTo>
                      <a:pt x="279" y="528"/>
                    </a:lnTo>
                    <a:lnTo>
                      <a:pt x="244" y="530"/>
                    </a:lnTo>
                    <a:lnTo>
                      <a:pt x="217" y="528"/>
                    </a:lnTo>
                    <a:lnTo>
                      <a:pt x="191" y="524"/>
                    </a:lnTo>
                    <a:lnTo>
                      <a:pt x="165" y="518"/>
                    </a:lnTo>
                    <a:lnTo>
                      <a:pt x="142" y="509"/>
                    </a:lnTo>
                    <a:lnTo>
                      <a:pt x="120" y="498"/>
                    </a:lnTo>
                    <a:lnTo>
                      <a:pt x="101" y="485"/>
                    </a:lnTo>
                    <a:lnTo>
                      <a:pt x="82" y="471"/>
                    </a:lnTo>
                    <a:lnTo>
                      <a:pt x="66" y="454"/>
                    </a:lnTo>
                    <a:lnTo>
                      <a:pt x="50" y="435"/>
                    </a:lnTo>
                    <a:lnTo>
                      <a:pt x="37" y="416"/>
                    </a:lnTo>
                    <a:lnTo>
                      <a:pt x="26" y="394"/>
                    </a:lnTo>
                    <a:lnTo>
                      <a:pt x="16" y="371"/>
                    </a:lnTo>
                    <a:lnTo>
                      <a:pt x="10" y="346"/>
                    </a:lnTo>
                    <a:lnTo>
                      <a:pt x="4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4" y="213"/>
                    </a:lnTo>
                    <a:lnTo>
                      <a:pt x="9" y="186"/>
                    </a:lnTo>
                    <a:lnTo>
                      <a:pt x="15" y="161"/>
                    </a:lnTo>
                    <a:lnTo>
                      <a:pt x="24" y="138"/>
                    </a:lnTo>
                    <a:lnTo>
                      <a:pt x="34" y="116"/>
                    </a:lnTo>
                    <a:lnTo>
                      <a:pt x="47" y="95"/>
                    </a:lnTo>
                    <a:lnTo>
                      <a:pt x="61" y="76"/>
                    </a:lnTo>
                    <a:lnTo>
                      <a:pt x="77" y="60"/>
                    </a:lnTo>
                    <a:lnTo>
                      <a:pt x="95" y="45"/>
                    </a:lnTo>
                    <a:lnTo>
                      <a:pt x="115" y="31"/>
                    </a:lnTo>
                    <a:lnTo>
                      <a:pt x="137" y="20"/>
                    </a:lnTo>
                    <a:lnTo>
                      <a:pt x="160" y="12"/>
                    </a:lnTo>
                    <a:lnTo>
                      <a:pt x="185" y="5"/>
                    </a:lnTo>
                    <a:lnTo>
                      <a:pt x="213" y="2"/>
                    </a:lnTo>
                    <a:lnTo>
                      <a:pt x="242" y="0"/>
                    </a:lnTo>
                    <a:lnTo>
                      <a:pt x="271" y="2"/>
                    </a:lnTo>
                    <a:lnTo>
                      <a:pt x="297" y="5"/>
                    </a:lnTo>
                    <a:lnTo>
                      <a:pt x="322" y="12"/>
                    </a:lnTo>
                    <a:lnTo>
                      <a:pt x="345" y="20"/>
                    </a:lnTo>
                    <a:lnTo>
                      <a:pt x="366" y="31"/>
                    </a:lnTo>
                    <a:lnTo>
                      <a:pt x="385" y="45"/>
                    </a:lnTo>
                    <a:lnTo>
                      <a:pt x="402" y="60"/>
                    </a:lnTo>
                    <a:lnTo>
                      <a:pt x="418" y="76"/>
                    </a:lnTo>
                    <a:lnTo>
                      <a:pt x="431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0" y="161"/>
                    </a:lnTo>
                    <a:lnTo>
                      <a:pt x="467" y="185"/>
                    </a:lnTo>
                    <a:lnTo>
                      <a:pt x="471" y="210"/>
                    </a:lnTo>
                    <a:lnTo>
                      <a:pt x="474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5" y="280"/>
                    </a:lnTo>
                    <a:close/>
                    <a:moveTo>
                      <a:pt x="379" y="207"/>
                    </a:moveTo>
                    <a:lnTo>
                      <a:pt x="373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5" y="117"/>
                    </a:lnTo>
                    <a:lnTo>
                      <a:pt x="316" y="103"/>
                    </a:lnTo>
                    <a:lnTo>
                      <a:pt x="294" y="92"/>
                    </a:lnTo>
                    <a:lnTo>
                      <a:pt x="270" y="85"/>
                    </a:lnTo>
                    <a:lnTo>
                      <a:pt x="242" y="83"/>
                    </a:lnTo>
                    <a:lnTo>
                      <a:pt x="215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1" y="137"/>
                    </a:lnTo>
                    <a:lnTo>
                      <a:pt x="117" y="158"/>
                    </a:lnTo>
                    <a:lnTo>
                      <a:pt x="107" y="182"/>
                    </a:lnTo>
                    <a:lnTo>
                      <a:pt x="101" y="207"/>
                    </a:lnTo>
                    <a:lnTo>
                      <a:pt x="379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177200" y="846000"/>
                <a:ext cx="2052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211400" y="882720"/>
                <a:ext cx="9972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7" y="280"/>
                    </a:moveTo>
                    <a:lnTo>
                      <a:pt x="99" y="311"/>
                    </a:lnTo>
                    <a:lnTo>
                      <a:pt x="108" y="341"/>
                    </a:lnTo>
                    <a:lnTo>
                      <a:pt x="120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9" y="415"/>
                    </a:lnTo>
                    <a:lnTo>
                      <a:pt x="171" y="423"/>
                    </a:lnTo>
                    <a:lnTo>
                      <a:pt x="185" y="431"/>
                    </a:lnTo>
                    <a:lnTo>
                      <a:pt x="199" y="437"/>
                    </a:lnTo>
                    <a:lnTo>
                      <a:pt x="213" y="441"/>
                    </a:lnTo>
                    <a:lnTo>
                      <a:pt x="230" y="443"/>
                    </a:lnTo>
                    <a:lnTo>
                      <a:pt x="246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6" y="430"/>
                    </a:lnTo>
                    <a:lnTo>
                      <a:pt x="335" y="418"/>
                    </a:lnTo>
                    <a:lnTo>
                      <a:pt x="351" y="405"/>
                    </a:lnTo>
                    <a:lnTo>
                      <a:pt x="367" y="388"/>
                    </a:lnTo>
                    <a:lnTo>
                      <a:pt x="381" y="368"/>
                    </a:lnTo>
                    <a:lnTo>
                      <a:pt x="395" y="348"/>
                    </a:lnTo>
                    <a:lnTo>
                      <a:pt x="475" y="394"/>
                    </a:lnTo>
                    <a:lnTo>
                      <a:pt x="457" y="424"/>
                    </a:lnTo>
                    <a:lnTo>
                      <a:pt x="434" y="451"/>
                    </a:lnTo>
                    <a:lnTo>
                      <a:pt x="407" y="474"/>
                    </a:lnTo>
                    <a:lnTo>
                      <a:pt x="379" y="494"/>
                    </a:lnTo>
                    <a:lnTo>
                      <a:pt x="348" y="509"/>
                    </a:lnTo>
                    <a:lnTo>
                      <a:pt x="315" y="520"/>
                    </a:lnTo>
                    <a:lnTo>
                      <a:pt x="281" y="528"/>
                    </a:lnTo>
                    <a:lnTo>
                      <a:pt x="245" y="530"/>
                    </a:lnTo>
                    <a:lnTo>
                      <a:pt x="218" y="528"/>
                    </a:lnTo>
                    <a:lnTo>
                      <a:pt x="191" y="524"/>
                    </a:lnTo>
                    <a:lnTo>
                      <a:pt x="166" y="518"/>
                    </a:lnTo>
                    <a:lnTo>
                      <a:pt x="143" y="509"/>
                    </a:lnTo>
                    <a:lnTo>
                      <a:pt x="121" y="498"/>
                    </a:lnTo>
                    <a:lnTo>
                      <a:pt x="101" y="485"/>
                    </a:lnTo>
                    <a:lnTo>
                      <a:pt x="83" y="471"/>
                    </a:lnTo>
                    <a:lnTo>
                      <a:pt x="66" y="454"/>
                    </a:lnTo>
                    <a:lnTo>
                      <a:pt x="51" y="435"/>
                    </a:lnTo>
                    <a:lnTo>
                      <a:pt x="38" y="416"/>
                    </a:lnTo>
                    <a:lnTo>
                      <a:pt x="27" y="394"/>
                    </a:lnTo>
                    <a:lnTo>
                      <a:pt x="18" y="371"/>
                    </a:lnTo>
                    <a:lnTo>
                      <a:pt x="10" y="346"/>
                    </a:lnTo>
                    <a:lnTo>
                      <a:pt x="5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5" y="213"/>
                    </a:lnTo>
                    <a:lnTo>
                      <a:pt x="9" y="186"/>
                    </a:lnTo>
                    <a:lnTo>
                      <a:pt x="16" y="161"/>
                    </a:lnTo>
                    <a:lnTo>
                      <a:pt x="24" y="138"/>
                    </a:lnTo>
                    <a:lnTo>
                      <a:pt x="35" y="116"/>
                    </a:lnTo>
                    <a:lnTo>
                      <a:pt x="48" y="95"/>
                    </a:lnTo>
                    <a:lnTo>
                      <a:pt x="62" y="76"/>
                    </a:lnTo>
                    <a:lnTo>
                      <a:pt x="78" y="60"/>
                    </a:lnTo>
                    <a:lnTo>
                      <a:pt x="96" y="45"/>
                    </a:lnTo>
                    <a:lnTo>
                      <a:pt x="116" y="31"/>
                    </a:lnTo>
                    <a:lnTo>
                      <a:pt x="137" y="20"/>
                    </a:lnTo>
                    <a:lnTo>
                      <a:pt x="162" y="12"/>
                    </a:lnTo>
                    <a:lnTo>
                      <a:pt x="187" y="5"/>
                    </a:lnTo>
                    <a:lnTo>
                      <a:pt x="214" y="2"/>
                    </a:lnTo>
                    <a:lnTo>
                      <a:pt x="243" y="0"/>
                    </a:lnTo>
                    <a:lnTo>
                      <a:pt x="271" y="2"/>
                    </a:lnTo>
                    <a:lnTo>
                      <a:pt x="299" y="5"/>
                    </a:lnTo>
                    <a:lnTo>
                      <a:pt x="323" y="12"/>
                    </a:lnTo>
                    <a:lnTo>
                      <a:pt x="346" y="20"/>
                    </a:lnTo>
                    <a:lnTo>
                      <a:pt x="367" y="31"/>
                    </a:lnTo>
                    <a:lnTo>
                      <a:pt x="386" y="45"/>
                    </a:lnTo>
                    <a:lnTo>
                      <a:pt x="403" y="60"/>
                    </a:lnTo>
                    <a:lnTo>
                      <a:pt x="418" y="76"/>
                    </a:lnTo>
                    <a:lnTo>
                      <a:pt x="432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1" y="161"/>
                    </a:lnTo>
                    <a:lnTo>
                      <a:pt x="468" y="185"/>
                    </a:lnTo>
                    <a:lnTo>
                      <a:pt x="472" y="210"/>
                    </a:lnTo>
                    <a:lnTo>
                      <a:pt x="475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7" y="280"/>
                    </a:lnTo>
                    <a:close/>
                    <a:moveTo>
                      <a:pt x="380" y="207"/>
                    </a:moveTo>
                    <a:lnTo>
                      <a:pt x="374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6" y="117"/>
                    </a:lnTo>
                    <a:lnTo>
                      <a:pt x="317" y="103"/>
                    </a:lnTo>
                    <a:lnTo>
                      <a:pt x="295" y="92"/>
                    </a:lnTo>
                    <a:lnTo>
                      <a:pt x="270" y="85"/>
                    </a:lnTo>
                    <a:lnTo>
                      <a:pt x="243" y="83"/>
                    </a:lnTo>
                    <a:lnTo>
                      <a:pt x="216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2" y="137"/>
                    </a:lnTo>
                    <a:lnTo>
                      <a:pt x="119" y="158"/>
                    </a:lnTo>
                    <a:lnTo>
                      <a:pt x="108" y="182"/>
                    </a:lnTo>
                    <a:lnTo>
                      <a:pt x="101" y="207"/>
                    </a:lnTo>
                    <a:lnTo>
                      <a:pt x="380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326960" y="882720"/>
                <a:ext cx="84240" cy="101520"/>
              </a:xfrm>
              <a:custGeom>
                <a:avLst/>
                <a:gdLst/>
                <a:ahLst/>
                <a:rect l="l" t="t" r="r" b="b"/>
                <a:pathLst>
                  <a:path w="404" h="530">
                    <a:moveTo>
                      <a:pt x="404" y="157"/>
                    </a:moveTo>
                    <a:lnTo>
                      <a:pt x="389" y="141"/>
                    </a:lnTo>
                    <a:lnTo>
                      <a:pt x="373" y="127"/>
                    </a:lnTo>
                    <a:lnTo>
                      <a:pt x="358" y="116"/>
                    </a:lnTo>
                    <a:lnTo>
                      <a:pt x="340" y="106"/>
                    </a:lnTo>
                    <a:lnTo>
                      <a:pt x="321" y="99"/>
                    </a:lnTo>
                    <a:lnTo>
                      <a:pt x="303" y="94"/>
                    </a:lnTo>
                    <a:lnTo>
                      <a:pt x="283" y="91"/>
                    </a:lnTo>
                    <a:lnTo>
                      <a:pt x="261" y="90"/>
                    </a:lnTo>
                    <a:lnTo>
                      <a:pt x="245" y="91"/>
                    </a:lnTo>
                    <a:lnTo>
                      <a:pt x="227" y="93"/>
                    </a:lnTo>
                    <a:lnTo>
                      <a:pt x="212" y="97"/>
                    </a:lnTo>
                    <a:lnTo>
                      <a:pt x="196" y="104"/>
                    </a:lnTo>
                    <a:lnTo>
                      <a:pt x="182" y="112"/>
                    </a:lnTo>
                    <a:lnTo>
                      <a:pt x="168" y="120"/>
                    </a:lnTo>
                    <a:lnTo>
                      <a:pt x="156" y="130"/>
                    </a:lnTo>
                    <a:lnTo>
                      <a:pt x="144" y="142"/>
                    </a:lnTo>
                    <a:lnTo>
                      <a:pt x="133" y="154"/>
                    </a:lnTo>
                    <a:lnTo>
                      <a:pt x="124" y="169"/>
                    </a:lnTo>
                    <a:lnTo>
                      <a:pt x="115" y="183"/>
                    </a:lnTo>
                    <a:lnTo>
                      <a:pt x="109" y="198"/>
                    </a:lnTo>
                    <a:lnTo>
                      <a:pt x="103" y="214"/>
                    </a:lnTo>
                    <a:lnTo>
                      <a:pt x="99" y="230"/>
                    </a:lnTo>
                    <a:lnTo>
                      <a:pt x="97" y="247"/>
                    </a:lnTo>
                    <a:lnTo>
                      <a:pt x="96" y="264"/>
                    </a:lnTo>
                    <a:lnTo>
                      <a:pt x="97" y="283"/>
                    </a:lnTo>
                    <a:lnTo>
                      <a:pt x="99" y="300"/>
                    </a:lnTo>
                    <a:lnTo>
                      <a:pt x="103" y="318"/>
                    </a:lnTo>
                    <a:lnTo>
                      <a:pt x="109" y="334"/>
                    </a:lnTo>
                    <a:lnTo>
                      <a:pt x="115" y="350"/>
                    </a:lnTo>
                    <a:lnTo>
                      <a:pt x="124" y="364"/>
                    </a:lnTo>
                    <a:lnTo>
                      <a:pt x="133" y="378"/>
                    </a:lnTo>
                    <a:lnTo>
                      <a:pt x="144" y="390"/>
                    </a:lnTo>
                    <a:lnTo>
                      <a:pt x="156" y="401"/>
                    </a:lnTo>
                    <a:lnTo>
                      <a:pt x="169" y="411"/>
                    </a:lnTo>
                    <a:lnTo>
                      <a:pt x="183" y="420"/>
                    </a:lnTo>
                    <a:lnTo>
                      <a:pt x="199" y="427"/>
                    </a:lnTo>
                    <a:lnTo>
                      <a:pt x="215" y="432"/>
                    </a:lnTo>
                    <a:lnTo>
                      <a:pt x="232" y="437"/>
                    </a:lnTo>
                    <a:lnTo>
                      <a:pt x="249" y="439"/>
                    </a:lnTo>
                    <a:lnTo>
                      <a:pt x="268" y="440"/>
                    </a:lnTo>
                    <a:lnTo>
                      <a:pt x="289" y="439"/>
                    </a:lnTo>
                    <a:lnTo>
                      <a:pt x="307" y="435"/>
                    </a:lnTo>
                    <a:lnTo>
                      <a:pt x="326" y="430"/>
                    </a:lnTo>
                    <a:lnTo>
                      <a:pt x="343" y="422"/>
                    </a:lnTo>
                    <a:lnTo>
                      <a:pt x="360" y="412"/>
                    </a:lnTo>
                    <a:lnTo>
                      <a:pt x="375" y="401"/>
                    </a:lnTo>
                    <a:lnTo>
                      <a:pt x="389" y="388"/>
                    </a:lnTo>
                    <a:lnTo>
                      <a:pt x="404" y="374"/>
                    </a:lnTo>
                    <a:lnTo>
                      <a:pt x="404" y="497"/>
                    </a:lnTo>
                    <a:lnTo>
                      <a:pt x="371" y="511"/>
                    </a:lnTo>
                    <a:lnTo>
                      <a:pt x="338" y="522"/>
                    </a:lnTo>
                    <a:lnTo>
                      <a:pt x="303" y="528"/>
                    </a:lnTo>
                    <a:lnTo>
                      <a:pt x="267" y="530"/>
                    </a:lnTo>
                    <a:lnTo>
                      <a:pt x="239" y="528"/>
                    </a:lnTo>
                    <a:lnTo>
                      <a:pt x="213" y="524"/>
                    </a:lnTo>
                    <a:lnTo>
                      <a:pt x="188" y="518"/>
                    </a:lnTo>
                    <a:lnTo>
                      <a:pt x="164" y="509"/>
                    </a:lnTo>
                    <a:lnTo>
                      <a:pt x="140" y="499"/>
                    </a:lnTo>
                    <a:lnTo>
                      <a:pt x="119" y="486"/>
                    </a:lnTo>
                    <a:lnTo>
                      <a:pt x="98" y="472"/>
                    </a:lnTo>
                    <a:lnTo>
                      <a:pt x="79" y="454"/>
                    </a:lnTo>
                    <a:lnTo>
                      <a:pt x="62" y="437"/>
                    </a:lnTo>
                    <a:lnTo>
                      <a:pt x="46" y="416"/>
                    </a:lnTo>
                    <a:lnTo>
                      <a:pt x="33" y="395"/>
                    </a:lnTo>
                    <a:lnTo>
                      <a:pt x="21" y="372"/>
                    </a:lnTo>
                    <a:lnTo>
                      <a:pt x="12" y="348"/>
                    </a:lnTo>
                    <a:lnTo>
                      <a:pt x="6" y="322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6" y="213"/>
                    </a:lnTo>
                    <a:lnTo>
                      <a:pt x="12" y="186"/>
                    </a:lnTo>
                    <a:lnTo>
                      <a:pt x="21" y="161"/>
                    </a:lnTo>
                    <a:lnTo>
                      <a:pt x="33" y="138"/>
                    </a:lnTo>
                    <a:lnTo>
                      <a:pt x="46" y="115"/>
                    </a:lnTo>
                    <a:lnTo>
                      <a:pt x="62" y="95"/>
                    </a:lnTo>
                    <a:lnTo>
                      <a:pt x="79" y="76"/>
                    </a:lnTo>
                    <a:lnTo>
                      <a:pt x="98" y="59"/>
                    </a:lnTo>
                    <a:lnTo>
                      <a:pt x="119" y="45"/>
                    </a:lnTo>
                    <a:lnTo>
                      <a:pt x="142" y="31"/>
                    </a:lnTo>
                    <a:lnTo>
                      <a:pt x="165" y="20"/>
                    </a:lnTo>
                    <a:lnTo>
                      <a:pt x="190" y="12"/>
                    </a:lnTo>
                    <a:lnTo>
                      <a:pt x="216" y="5"/>
                    </a:lnTo>
                    <a:lnTo>
                      <a:pt x="244" y="2"/>
                    </a:lnTo>
                    <a:lnTo>
                      <a:pt x="272" y="0"/>
                    </a:lnTo>
                    <a:lnTo>
                      <a:pt x="306" y="2"/>
                    </a:lnTo>
                    <a:lnTo>
                      <a:pt x="340" y="8"/>
                    </a:lnTo>
                    <a:lnTo>
                      <a:pt x="373" y="18"/>
                    </a:lnTo>
                    <a:lnTo>
                      <a:pt x="404" y="32"/>
                    </a:lnTo>
                    <a:lnTo>
                      <a:pt x="404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423440" y="882720"/>
                <a:ext cx="111600" cy="101520"/>
              </a:xfrm>
              <a:custGeom>
                <a:avLst/>
                <a:gdLst/>
                <a:ahLst/>
                <a:rect l="l" t="t" r="r" b="b"/>
                <a:pathLst>
                  <a:path w="532" h="530">
                    <a:moveTo>
                      <a:pt x="532" y="264"/>
                    </a:moveTo>
                    <a:lnTo>
                      <a:pt x="530" y="293"/>
                    </a:lnTo>
                    <a:lnTo>
                      <a:pt x="527" y="319"/>
                    </a:lnTo>
                    <a:lnTo>
                      <a:pt x="520" y="344"/>
                    </a:lnTo>
                    <a:lnTo>
                      <a:pt x="511" y="370"/>
                    </a:lnTo>
                    <a:lnTo>
                      <a:pt x="501" y="393"/>
                    </a:lnTo>
                    <a:lnTo>
                      <a:pt x="487" y="415"/>
                    </a:lnTo>
                    <a:lnTo>
                      <a:pt x="472" y="434"/>
                    </a:lnTo>
                    <a:lnTo>
                      <a:pt x="454" y="453"/>
                    </a:lnTo>
                    <a:lnTo>
                      <a:pt x="436" y="471"/>
                    </a:lnTo>
                    <a:lnTo>
                      <a:pt x="416" y="485"/>
                    </a:lnTo>
                    <a:lnTo>
                      <a:pt x="394" y="498"/>
                    </a:lnTo>
                    <a:lnTo>
                      <a:pt x="370" y="509"/>
                    </a:lnTo>
                    <a:lnTo>
                      <a:pt x="346" y="518"/>
                    </a:lnTo>
                    <a:lnTo>
                      <a:pt x="321" y="524"/>
                    </a:lnTo>
                    <a:lnTo>
                      <a:pt x="293" y="528"/>
                    </a:lnTo>
                    <a:lnTo>
                      <a:pt x="266" y="530"/>
                    </a:lnTo>
                    <a:lnTo>
                      <a:pt x="238" y="528"/>
                    </a:lnTo>
                    <a:lnTo>
                      <a:pt x="212" y="524"/>
                    </a:lnTo>
                    <a:lnTo>
                      <a:pt x="187" y="518"/>
                    </a:lnTo>
                    <a:lnTo>
                      <a:pt x="162" y="509"/>
                    </a:lnTo>
                    <a:lnTo>
                      <a:pt x="139" y="498"/>
                    </a:lnTo>
                    <a:lnTo>
                      <a:pt x="117" y="485"/>
                    </a:lnTo>
                    <a:lnTo>
                      <a:pt x="97" y="471"/>
                    </a:lnTo>
                    <a:lnTo>
                      <a:pt x="78" y="453"/>
                    </a:lnTo>
                    <a:lnTo>
                      <a:pt x="61" y="434"/>
                    </a:lnTo>
                    <a:lnTo>
                      <a:pt x="45" y="415"/>
                    </a:lnTo>
                    <a:lnTo>
                      <a:pt x="32" y="393"/>
                    </a:lnTo>
                    <a:lnTo>
                      <a:pt x="21" y="370"/>
                    </a:lnTo>
                    <a:lnTo>
                      <a:pt x="12" y="344"/>
                    </a:lnTo>
                    <a:lnTo>
                      <a:pt x="6" y="319"/>
                    </a:lnTo>
                    <a:lnTo>
                      <a:pt x="3" y="293"/>
                    </a:lnTo>
                    <a:lnTo>
                      <a:pt x="0" y="264"/>
                    </a:lnTo>
                    <a:lnTo>
                      <a:pt x="3" y="237"/>
                    </a:lnTo>
                    <a:lnTo>
                      <a:pt x="6" y="210"/>
                    </a:lnTo>
                    <a:lnTo>
                      <a:pt x="12" y="185"/>
                    </a:lnTo>
                    <a:lnTo>
                      <a:pt x="21" y="160"/>
                    </a:lnTo>
                    <a:lnTo>
                      <a:pt x="32" y="137"/>
                    </a:lnTo>
                    <a:lnTo>
                      <a:pt x="45" y="115"/>
                    </a:lnTo>
                    <a:lnTo>
                      <a:pt x="61" y="95"/>
                    </a:lnTo>
                    <a:lnTo>
                      <a:pt x="78" y="76"/>
                    </a:lnTo>
                    <a:lnTo>
                      <a:pt x="97" y="59"/>
                    </a:lnTo>
                    <a:lnTo>
                      <a:pt x="117" y="45"/>
                    </a:lnTo>
                    <a:lnTo>
                      <a:pt x="139" y="31"/>
                    </a:lnTo>
                    <a:lnTo>
                      <a:pt x="162" y="20"/>
                    </a:lnTo>
                    <a:lnTo>
                      <a:pt x="187" y="12"/>
                    </a:lnTo>
                    <a:lnTo>
                      <a:pt x="212" y="5"/>
                    </a:lnTo>
                    <a:lnTo>
                      <a:pt x="238" y="2"/>
                    </a:lnTo>
                    <a:lnTo>
                      <a:pt x="266" y="0"/>
                    </a:lnTo>
                    <a:lnTo>
                      <a:pt x="293" y="2"/>
                    </a:lnTo>
                    <a:lnTo>
                      <a:pt x="321" y="5"/>
                    </a:lnTo>
                    <a:lnTo>
                      <a:pt x="346" y="12"/>
                    </a:lnTo>
                    <a:lnTo>
                      <a:pt x="370" y="20"/>
                    </a:lnTo>
                    <a:lnTo>
                      <a:pt x="394" y="31"/>
                    </a:lnTo>
                    <a:lnTo>
                      <a:pt x="416" y="45"/>
                    </a:lnTo>
                    <a:lnTo>
                      <a:pt x="436" y="59"/>
                    </a:lnTo>
                    <a:lnTo>
                      <a:pt x="454" y="76"/>
                    </a:lnTo>
                    <a:lnTo>
                      <a:pt x="472" y="95"/>
                    </a:lnTo>
                    <a:lnTo>
                      <a:pt x="487" y="115"/>
                    </a:lnTo>
                    <a:lnTo>
                      <a:pt x="501" y="137"/>
                    </a:lnTo>
                    <a:lnTo>
                      <a:pt x="511" y="160"/>
                    </a:lnTo>
                    <a:lnTo>
                      <a:pt x="520" y="185"/>
                    </a:lnTo>
                    <a:lnTo>
                      <a:pt x="527" y="210"/>
                    </a:lnTo>
                    <a:lnTo>
                      <a:pt x="530" y="237"/>
                    </a:lnTo>
                    <a:lnTo>
                      <a:pt x="532" y="264"/>
                    </a:lnTo>
                    <a:close/>
                    <a:moveTo>
                      <a:pt x="96" y="264"/>
                    </a:moveTo>
                    <a:lnTo>
                      <a:pt x="97" y="282"/>
                    </a:lnTo>
                    <a:lnTo>
                      <a:pt x="100" y="299"/>
                    </a:lnTo>
                    <a:lnTo>
                      <a:pt x="103" y="316"/>
                    </a:lnTo>
                    <a:lnTo>
                      <a:pt x="110" y="331"/>
                    </a:lnTo>
                    <a:lnTo>
                      <a:pt x="117" y="346"/>
                    </a:lnTo>
                    <a:lnTo>
                      <a:pt x="125" y="361"/>
                    </a:lnTo>
                    <a:lnTo>
                      <a:pt x="135" y="374"/>
                    </a:lnTo>
                    <a:lnTo>
                      <a:pt x="146" y="386"/>
                    </a:lnTo>
                    <a:lnTo>
                      <a:pt x="158" y="398"/>
                    </a:lnTo>
                    <a:lnTo>
                      <a:pt x="171" y="408"/>
                    </a:lnTo>
                    <a:lnTo>
                      <a:pt x="185" y="417"/>
                    </a:lnTo>
                    <a:lnTo>
                      <a:pt x="200" y="424"/>
                    </a:lnTo>
                    <a:lnTo>
                      <a:pt x="215" y="430"/>
                    </a:lnTo>
                    <a:lnTo>
                      <a:pt x="232" y="434"/>
                    </a:lnTo>
                    <a:lnTo>
                      <a:pt x="248" y="437"/>
                    </a:lnTo>
                    <a:lnTo>
                      <a:pt x="266" y="438"/>
                    </a:lnTo>
                    <a:lnTo>
                      <a:pt x="283" y="437"/>
                    </a:lnTo>
                    <a:lnTo>
                      <a:pt x="301" y="434"/>
                    </a:lnTo>
                    <a:lnTo>
                      <a:pt x="317" y="430"/>
                    </a:lnTo>
                    <a:lnTo>
                      <a:pt x="333" y="424"/>
                    </a:lnTo>
                    <a:lnTo>
                      <a:pt x="348" y="417"/>
                    </a:lnTo>
                    <a:lnTo>
                      <a:pt x="361" y="408"/>
                    </a:lnTo>
                    <a:lnTo>
                      <a:pt x="374" y="398"/>
                    </a:lnTo>
                    <a:lnTo>
                      <a:pt x="386" y="386"/>
                    </a:lnTo>
                    <a:lnTo>
                      <a:pt x="397" y="374"/>
                    </a:lnTo>
                    <a:lnTo>
                      <a:pt x="407" y="361"/>
                    </a:lnTo>
                    <a:lnTo>
                      <a:pt x="416" y="346"/>
                    </a:lnTo>
                    <a:lnTo>
                      <a:pt x="423" y="331"/>
                    </a:lnTo>
                    <a:lnTo>
                      <a:pt x="428" y="316"/>
                    </a:lnTo>
                    <a:lnTo>
                      <a:pt x="433" y="299"/>
                    </a:lnTo>
                    <a:lnTo>
                      <a:pt x="436" y="282"/>
                    </a:lnTo>
                    <a:lnTo>
                      <a:pt x="436" y="264"/>
                    </a:lnTo>
                    <a:lnTo>
                      <a:pt x="436" y="248"/>
                    </a:lnTo>
                    <a:lnTo>
                      <a:pt x="433" y="230"/>
                    </a:lnTo>
                    <a:lnTo>
                      <a:pt x="428" y="214"/>
                    </a:lnTo>
                    <a:lnTo>
                      <a:pt x="423" y="197"/>
                    </a:lnTo>
                    <a:lnTo>
                      <a:pt x="416" y="183"/>
                    </a:lnTo>
                    <a:lnTo>
                      <a:pt x="407" y="169"/>
                    </a:lnTo>
                    <a:lnTo>
                      <a:pt x="397" y="154"/>
                    </a:lnTo>
                    <a:lnTo>
                      <a:pt x="386" y="142"/>
                    </a:lnTo>
                    <a:lnTo>
                      <a:pt x="374" y="131"/>
                    </a:lnTo>
                    <a:lnTo>
                      <a:pt x="361" y="121"/>
                    </a:lnTo>
                    <a:lnTo>
                      <a:pt x="348" y="113"/>
                    </a:lnTo>
                    <a:lnTo>
                      <a:pt x="333" y="105"/>
                    </a:lnTo>
                    <a:lnTo>
                      <a:pt x="317" y="99"/>
                    </a:lnTo>
                    <a:lnTo>
                      <a:pt x="301" y="95"/>
                    </a:lnTo>
                    <a:lnTo>
                      <a:pt x="283" y="92"/>
                    </a:lnTo>
                    <a:lnTo>
                      <a:pt x="266" y="92"/>
                    </a:lnTo>
                    <a:lnTo>
                      <a:pt x="248" y="92"/>
                    </a:lnTo>
                    <a:lnTo>
                      <a:pt x="232" y="95"/>
                    </a:lnTo>
                    <a:lnTo>
                      <a:pt x="215" y="99"/>
                    </a:lnTo>
                    <a:lnTo>
                      <a:pt x="200" y="105"/>
                    </a:lnTo>
                    <a:lnTo>
                      <a:pt x="185" y="113"/>
                    </a:lnTo>
                    <a:lnTo>
                      <a:pt x="171" y="121"/>
                    </a:lnTo>
                    <a:lnTo>
                      <a:pt x="158" y="131"/>
                    </a:lnTo>
                    <a:lnTo>
                      <a:pt x="146" y="142"/>
                    </a:lnTo>
                    <a:lnTo>
                      <a:pt x="135" y="154"/>
                    </a:lnTo>
                    <a:lnTo>
                      <a:pt x="125" y="169"/>
                    </a:lnTo>
                    <a:lnTo>
                      <a:pt x="117" y="183"/>
                    </a:lnTo>
                    <a:lnTo>
                      <a:pt x="110" y="197"/>
                    </a:lnTo>
                    <a:lnTo>
                      <a:pt x="103" y="214"/>
                    </a:lnTo>
                    <a:lnTo>
                      <a:pt x="100" y="230"/>
                    </a:lnTo>
                    <a:lnTo>
                      <a:pt x="97" y="248"/>
                    </a:lnTo>
                    <a:lnTo>
                      <a:pt x="96" y="2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549440" y="882720"/>
                <a:ext cx="144360" cy="98280"/>
              </a:xfrm>
              <a:custGeom>
                <a:avLst/>
                <a:gdLst/>
                <a:ahLst/>
                <a:rect l="l" t="t" r="r" b="b"/>
                <a:pathLst>
                  <a:path w="690" h="512">
                    <a:moveTo>
                      <a:pt x="96" y="77"/>
                    </a:moveTo>
                    <a:lnTo>
                      <a:pt x="98" y="77"/>
                    </a:lnTo>
                    <a:lnTo>
                      <a:pt x="109" y="62"/>
                    </a:lnTo>
                    <a:lnTo>
                      <a:pt x="122" y="47"/>
                    </a:lnTo>
                    <a:lnTo>
                      <a:pt x="137" y="34"/>
                    </a:lnTo>
                    <a:lnTo>
                      <a:pt x="154" y="23"/>
                    </a:lnTo>
                    <a:lnTo>
                      <a:pt x="171" y="13"/>
                    </a:lnTo>
                    <a:lnTo>
                      <a:pt x="190" y="6"/>
                    </a:lnTo>
                    <a:lnTo>
                      <a:pt x="210" y="2"/>
                    </a:lnTo>
                    <a:lnTo>
                      <a:pt x="229" y="0"/>
                    </a:lnTo>
                    <a:lnTo>
                      <a:pt x="253" y="2"/>
                    </a:lnTo>
                    <a:lnTo>
                      <a:pt x="274" y="6"/>
                    </a:lnTo>
                    <a:lnTo>
                      <a:pt x="295" y="13"/>
                    </a:lnTo>
                    <a:lnTo>
                      <a:pt x="314" y="24"/>
                    </a:lnTo>
                    <a:lnTo>
                      <a:pt x="330" y="36"/>
                    </a:lnTo>
                    <a:lnTo>
                      <a:pt x="346" y="51"/>
                    </a:lnTo>
                    <a:lnTo>
                      <a:pt x="360" y="69"/>
                    </a:lnTo>
                    <a:lnTo>
                      <a:pt x="373" y="88"/>
                    </a:lnTo>
                    <a:lnTo>
                      <a:pt x="385" y="69"/>
                    </a:lnTo>
                    <a:lnTo>
                      <a:pt x="401" y="52"/>
                    </a:lnTo>
                    <a:lnTo>
                      <a:pt x="418" y="37"/>
                    </a:lnTo>
                    <a:lnTo>
                      <a:pt x="438" y="24"/>
                    </a:lnTo>
                    <a:lnTo>
                      <a:pt x="458" y="14"/>
                    </a:lnTo>
                    <a:lnTo>
                      <a:pt x="480" y="6"/>
                    </a:lnTo>
                    <a:lnTo>
                      <a:pt x="503" y="2"/>
                    </a:lnTo>
                    <a:lnTo>
                      <a:pt x="526" y="0"/>
                    </a:lnTo>
                    <a:lnTo>
                      <a:pt x="550" y="1"/>
                    </a:lnTo>
                    <a:lnTo>
                      <a:pt x="571" y="5"/>
                    </a:lnTo>
                    <a:lnTo>
                      <a:pt x="589" y="11"/>
                    </a:lnTo>
                    <a:lnTo>
                      <a:pt x="607" y="17"/>
                    </a:lnTo>
                    <a:lnTo>
                      <a:pt x="622" y="27"/>
                    </a:lnTo>
                    <a:lnTo>
                      <a:pt x="635" y="38"/>
                    </a:lnTo>
                    <a:lnTo>
                      <a:pt x="647" y="51"/>
                    </a:lnTo>
                    <a:lnTo>
                      <a:pt x="657" y="65"/>
                    </a:lnTo>
                    <a:lnTo>
                      <a:pt x="666" y="81"/>
                    </a:lnTo>
                    <a:lnTo>
                      <a:pt x="673" y="97"/>
                    </a:lnTo>
                    <a:lnTo>
                      <a:pt x="678" y="115"/>
                    </a:lnTo>
                    <a:lnTo>
                      <a:pt x="684" y="133"/>
                    </a:lnTo>
                    <a:lnTo>
                      <a:pt x="689" y="173"/>
                    </a:lnTo>
                    <a:lnTo>
                      <a:pt x="690" y="215"/>
                    </a:lnTo>
                    <a:lnTo>
                      <a:pt x="690" y="512"/>
                    </a:lnTo>
                    <a:lnTo>
                      <a:pt x="595" y="512"/>
                    </a:lnTo>
                    <a:lnTo>
                      <a:pt x="595" y="230"/>
                    </a:lnTo>
                    <a:lnTo>
                      <a:pt x="595" y="206"/>
                    </a:lnTo>
                    <a:lnTo>
                      <a:pt x="593" y="181"/>
                    </a:lnTo>
                    <a:lnTo>
                      <a:pt x="588" y="157"/>
                    </a:lnTo>
                    <a:lnTo>
                      <a:pt x="580" y="133"/>
                    </a:lnTo>
                    <a:lnTo>
                      <a:pt x="568" y="114"/>
                    </a:lnTo>
                    <a:lnTo>
                      <a:pt x="561" y="106"/>
                    </a:lnTo>
                    <a:lnTo>
                      <a:pt x="552" y="98"/>
                    </a:lnTo>
                    <a:lnTo>
                      <a:pt x="542" y="93"/>
                    </a:lnTo>
                    <a:lnTo>
                      <a:pt x="531" y="88"/>
                    </a:lnTo>
                    <a:lnTo>
                      <a:pt x="517" y="86"/>
                    </a:lnTo>
                    <a:lnTo>
                      <a:pt x="503" y="85"/>
                    </a:lnTo>
                    <a:lnTo>
                      <a:pt x="484" y="86"/>
                    </a:lnTo>
                    <a:lnTo>
                      <a:pt x="469" y="90"/>
                    </a:lnTo>
                    <a:lnTo>
                      <a:pt x="454" y="95"/>
                    </a:lnTo>
                    <a:lnTo>
                      <a:pt x="442" y="103"/>
                    </a:lnTo>
                    <a:lnTo>
                      <a:pt x="432" y="112"/>
                    </a:lnTo>
                    <a:lnTo>
                      <a:pt x="423" y="123"/>
                    </a:lnTo>
                    <a:lnTo>
                      <a:pt x="416" y="135"/>
                    </a:lnTo>
                    <a:lnTo>
                      <a:pt x="409" y="148"/>
                    </a:lnTo>
                    <a:lnTo>
                      <a:pt x="401" y="176"/>
                    </a:lnTo>
                    <a:lnTo>
                      <a:pt x="396" y="207"/>
                    </a:lnTo>
                    <a:lnTo>
                      <a:pt x="394" y="238"/>
                    </a:lnTo>
                    <a:lnTo>
                      <a:pt x="393" y="267"/>
                    </a:lnTo>
                    <a:lnTo>
                      <a:pt x="393" y="512"/>
                    </a:lnTo>
                    <a:lnTo>
                      <a:pt x="297" y="512"/>
                    </a:lnTo>
                    <a:lnTo>
                      <a:pt x="297" y="249"/>
                    </a:lnTo>
                    <a:lnTo>
                      <a:pt x="297" y="224"/>
                    </a:lnTo>
                    <a:lnTo>
                      <a:pt x="295" y="196"/>
                    </a:lnTo>
                    <a:lnTo>
                      <a:pt x="292" y="169"/>
                    </a:lnTo>
                    <a:lnTo>
                      <a:pt x="285" y="142"/>
                    </a:lnTo>
                    <a:lnTo>
                      <a:pt x="280" y="130"/>
                    </a:lnTo>
                    <a:lnTo>
                      <a:pt x="273" y="119"/>
                    </a:lnTo>
                    <a:lnTo>
                      <a:pt x="267" y="110"/>
                    </a:lnTo>
                    <a:lnTo>
                      <a:pt x="258" y="102"/>
                    </a:lnTo>
                    <a:lnTo>
                      <a:pt x="247" y="95"/>
                    </a:lnTo>
                    <a:lnTo>
                      <a:pt x="235" y="90"/>
                    </a:lnTo>
                    <a:lnTo>
                      <a:pt x="222" y="86"/>
                    </a:lnTo>
                    <a:lnTo>
                      <a:pt x="206" y="85"/>
                    </a:lnTo>
                    <a:lnTo>
                      <a:pt x="188" y="86"/>
                    </a:lnTo>
                    <a:lnTo>
                      <a:pt x="172" y="90"/>
                    </a:lnTo>
                    <a:lnTo>
                      <a:pt x="158" y="95"/>
                    </a:lnTo>
                    <a:lnTo>
                      <a:pt x="146" y="103"/>
                    </a:lnTo>
                    <a:lnTo>
                      <a:pt x="135" y="112"/>
                    </a:lnTo>
                    <a:lnTo>
                      <a:pt x="126" y="123"/>
                    </a:lnTo>
                    <a:lnTo>
                      <a:pt x="119" y="135"/>
                    </a:lnTo>
                    <a:lnTo>
                      <a:pt x="113" y="148"/>
                    </a:lnTo>
                    <a:lnTo>
                      <a:pt x="103" y="176"/>
                    </a:lnTo>
                    <a:lnTo>
                      <a:pt x="99" y="207"/>
                    </a:lnTo>
                    <a:lnTo>
                      <a:pt x="97" y="238"/>
                    </a:lnTo>
                    <a:lnTo>
                      <a:pt x="96" y="267"/>
                    </a:lnTo>
                    <a:lnTo>
                      <a:pt x="96" y="512"/>
                    </a:lnTo>
                    <a:lnTo>
                      <a:pt x="0" y="512"/>
                    </a:lnTo>
                    <a:lnTo>
                      <a:pt x="0" y="15"/>
                    </a:lnTo>
                    <a:lnTo>
                      <a:pt x="96" y="15"/>
                    </a:lnTo>
                    <a:lnTo>
                      <a:pt x="96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908640" y="1022400"/>
                <a:ext cx="9082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a-DK" sz="600" spc="-1" strike="noStrike">
                    <a:solidFill>
                      <a:srgbClr val="ffffff"/>
                    </a:solidFill>
                    <a:latin typeface="Futura Bk BT"/>
                  </a:rPr>
                  <a:t>www.kirktelecom.dk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0" name=""/>
          <p:cNvSpPr/>
          <p:nvPr/>
        </p:nvSpPr>
        <p:spPr>
          <a:xfrm>
            <a:off x="2228760" y="0"/>
            <a:ext cx="76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CCFP Administration Program Ver.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1" name="" descr=""/>
          <p:cNvPicPr/>
          <p:nvPr/>
        </p:nvPicPr>
        <p:blipFill>
          <a:blip r:embed="rId2"/>
          <a:stretch/>
        </p:blipFill>
        <p:spPr>
          <a:xfrm>
            <a:off x="3181320" y="517680"/>
            <a:ext cx="5486400" cy="395280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3082320" y="4506840"/>
            <a:ext cx="685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цедура соединения двух контроллер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установлена система из 2-х соединенных контроллеров, т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ебуется отдельная установка параметров и дл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ster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дл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ave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120480" y="5294160"/>
            <a:ext cx="612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тверждение того, что вы прочитали информацию в окне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лько после подтверждения появится следующее ок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 flipV="1">
            <a:off x="5486400" y="3180960"/>
            <a:ext cx="642960" cy="251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398E-C565-4DB6-95E7-EDB952619803}" type="slidenum">
              <a:t>25</a:t>
            </a:fld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2889360" y="457200"/>
            <a:ext cx="6521400" cy="0"/>
          </a:xfrm>
          <a:prstGeom prst="line">
            <a:avLst/>
          </a:prstGeom>
          <a:ln cap="sq"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0" y="0"/>
            <a:ext cx="6129000" cy="6858000"/>
            <a:chOff x="0" y="0"/>
            <a:chExt cx="6129000" cy="6858000"/>
          </a:xfrm>
        </p:grpSpPr>
        <p:sp>
          <p:nvSpPr>
            <p:cNvPr id="867" name=""/>
            <p:cNvSpPr/>
            <p:nvPr/>
          </p:nvSpPr>
          <p:spPr>
            <a:xfrm>
              <a:off x="0" y="0"/>
              <a:ext cx="2228760" cy="3429000"/>
            </a:xfrm>
            <a:prstGeom prst="rect">
              <a:avLst/>
            </a:prstGeom>
            <a:solidFill>
              <a:srgbClr val="000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0" y="3429000"/>
              <a:ext cx="2228760" cy="3429000"/>
            </a:xfrm>
            <a:prstGeom prst="rect">
              <a:avLst/>
            </a:pr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91836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79924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1"/>
            <a:stretch/>
          </p:blipFill>
          <p:spPr>
            <a:xfrm>
              <a:off x="201240" y="2055960"/>
              <a:ext cx="1705680" cy="271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2" name=""/>
            <p:cNvGrpSpPr/>
            <p:nvPr/>
          </p:nvGrpSpPr>
          <p:grpSpPr>
            <a:xfrm>
              <a:off x="211320" y="380880"/>
              <a:ext cx="1605600" cy="821880"/>
              <a:chOff x="211320" y="380880"/>
              <a:chExt cx="1605600" cy="821880"/>
            </a:xfrm>
          </p:grpSpPr>
          <p:sp>
            <p:nvSpPr>
              <p:cNvPr id="873" name=""/>
              <p:cNvSpPr/>
              <p:nvPr/>
            </p:nvSpPr>
            <p:spPr>
              <a:xfrm>
                <a:off x="403920" y="38088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7">
                    <a:moveTo>
                      <a:pt x="29" y="1655"/>
                    </a:moveTo>
                    <a:lnTo>
                      <a:pt x="79" y="1682"/>
                    </a:lnTo>
                    <a:lnTo>
                      <a:pt x="623" y="1957"/>
                    </a:lnTo>
                    <a:lnTo>
                      <a:pt x="684" y="1987"/>
                    </a:lnTo>
                    <a:lnTo>
                      <a:pt x="687" y="1916"/>
                    </a:lnTo>
                    <a:lnTo>
                      <a:pt x="691" y="1864"/>
                    </a:lnTo>
                    <a:lnTo>
                      <a:pt x="697" y="1814"/>
                    </a:lnTo>
                    <a:lnTo>
                      <a:pt x="704" y="1763"/>
                    </a:lnTo>
                    <a:lnTo>
                      <a:pt x="713" y="1714"/>
                    </a:lnTo>
                    <a:lnTo>
                      <a:pt x="724" y="1665"/>
                    </a:lnTo>
                    <a:lnTo>
                      <a:pt x="737" y="1616"/>
                    </a:lnTo>
                    <a:lnTo>
                      <a:pt x="751" y="1569"/>
                    </a:lnTo>
                    <a:lnTo>
                      <a:pt x="767" y="1522"/>
                    </a:lnTo>
                    <a:lnTo>
                      <a:pt x="784" y="1476"/>
                    </a:lnTo>
                    <a:lnTo>
                      <a:pt x="803" y="1431"/>
                    </a:lnTo>
                    <a:lnTo>
                      <a:pt x="824" y="1386"/>
                    </a:lnTo>
                    <a:lnTo>
                      <a:pt x="846" y="1343"/>
                    </a:lnTo>
                    <a:lnTo>
                      <a:pt x="869" y="1300"/>
                    </a:lnTo>
                    <a:lnTo>
                      <a:pt x="894" y="1257"/>
                    </a:lnTo>
                    <a:lnTo>
                      <a:pt x="920" y="1217"/>
                    </a:lnTo>
                    <a:lnTo>
                      <a:pt x="948" y="1177"/>
                    </a:lnTo>
                    <a:lnTo>
                      <a:pt x="976" y="1137"/>
                    </a:lnTo>
                    <a:lnTo>
                      <a:pt x="1007" y="1100"/>
                    </a:lnTo>
                    <a:lnTo>
                      <a:pt x="1038" y="1063"/>
                    </a:lnTo>
                    <a:lnTo>
                      <a:pt x="1071" y="1027"/>
                    </a:lnTo>
                    <a:lnTo>
                      <a:pt x="1105" y="993"/>
                    </a:lnTo>
                    <a:lnTo>
                      <a:pt x="1140" y="959"/>
                    </a:lnTo>
                    <a:lnTo>
                      <a:pt x="1176" y="927"/>
                    </a:lnTo>
                    <a:lnTo>
                      <a:pt x="1213" y="896"/>
                    </a:lnTo>
                    <a:lnTo>
                      <a:pt x="1250" y="866"/>
                    </a:lnTo>
                    <a:lnTo>
                      <a:pt x="1290" y="838"/>
                    </a:lnTo>
                    <a:lnTo>
                      <a:pt x="1331" y="810"/>
                    </a:lnTo>
                    <a:lnTo>
                      <a:pt x="1372" y="785"/>
                    </a:lnTo>
                    <a:lnTo>
                      <a:pt x="1414" y="760"/>
                    </a:lnTo>
                    <a:lnTo>
                      <a:pt x="1457" y="737"/>
                    </a:lnTo>
                    <a:lnTo>
                      <a:pt x="1501" y="716"/>
                    </a:lnTo>
                    <a:lnTo>
                      <a:pt x="1546" y="696"/>
                    </a:lnTo>
                    <a:lnTo>
                      <a:pt x="1584" y="680"/>
                    </a:lnTo>
                    <a:lnTo>
                      <a:pt x="1594" y="673"/>
                    </a:lnTo>
                    <a:lnTo>
                      <a:pt x="1600" y="665"/>
                    </a:lnTo>
                    <a:lnTo>
                      <a:pt x="1604" y="658"/>
                    </a:lnTo>
                    <a:lnTo>
                      <a:pt x="1606" y="650"/>
                    </a:lnTo>
                    <a:lnTo>
                      <a:pt x="1605" y="638"/>
                    </a:lnTo>
                    <a:lnTo>
                      <a:pt x="1603" y="632"/>
                    </a:lnTo>
                    <a:lnTo>
                      <a:pt x="1586" y="586"/>
                    </a:lnTo>
                    <a:lnTo>
                      <a:pt x="1385" y="31"/>
                    </a:lnTo>
                    <a:lnTo>
                      <a:pt x="1381" y="18"/>
                    </a:lnTo>
                    <a:lnTo>
                      <a:pt x="1380" y="13"/>
                    </a:lnTo>
                    <a:lnTo>
                      <a:pt x="1372" y="5"/>
                    </a:lnTo>
                    <a:lnTo>
                      <a:pt x="1367" y="2"/>
                    </a:lnTo>
                    <a:lnTo>
                      <a:pt x="1359" y="0"/>
                    </a:lnTo>
                    <a:lnTo>
                      <a:pt x="1349" y="0"/>
                    </a:lnTo>
                    <a:lnTo>
                      <a:pt x="1337" y="3"/>
                    </a:lnTo>
                    <a:lnTo>
                      <a:pt x="1307" y="14"/>
                    </a:lnTo>
                    <a:lnTo>
                      <a:pt x="1248" y="37"/>
                    </a:lnTo>
                    <a:lnTo>
                      <a:pt x="1190" y="63"/>
                    </a:lnTo>
                    <a:lnTo>
                      <a:pt x="1133" y="89"/>
                    </a:lnTo>
                    <a:lnTo>
                      <a:pt x="1076" y="119"/>
                    </a:lnTo>
                    <a:lnTo>
                      <a:pt x="1021" y="149"/>
                    </a:lnTo>
                    <a:lnTo>
                      <a:pt x="966" y="181"/>
                    </a:lnTo>
                    <a:lnTo>
                      <a:pt x="913" y="215"/>
                    </a:lnTo>
                    <a:lnTo>
                      <a:pt x="861" y="251"/>
                    </a:lnTo>
                    <a:lnTo>
                      <a:pt x="810" y="289"/>
                    </a:lnTo>
                    <a:lnTo>
                      <a:pt x="759" y="328"/>
                    </a:lnTo>
                    <a:lnTo>
                      <a:pt x="711" y="369"/>
                    </a:lnTo>
                    <a:lnTo>
                      <a:pt x="663" y="411"/>
                    </a:lnTo>
                    <a:lnTo>
                      <a:pt x="616" y="455"/>
                    </a:lnTo>
                    <a:lnTo>
                      <a:pt x="572" y="501"/>
                    </a:lnTo>
                    <a:lnTo>
                      <a:pt x="528" y="547"/>
                    </a:lnTo>
                    <a:lnTo>
                      <a:pt x="485" y="595"/>
                    </a:lnTo>
                    <a:lnTo>
                      <a:pt x="443" y="645"/>
                    </a:lnTo>
                    <a:lnTo>
                      <a:pt x="404" y="695"/>
                    </a:lnTo>
                    <a:lnTo>
                      <a:pt x="365" y="747"/>
                    </a:lnTo>
                    <a:lnTo>
                      <a:pt x="329" y="800"/>
                    </a:lnTo>
                    <a:lnTo>
                      <a:pt x="294" y="854"/>
                    </a:lnTo>
                    <a:lnTo>
                      <a:pt x="260" y="910"/>
                    </a:lnTo>
                    <a:lnTo>
                      <a:pt x="228" y="967"/>
                    </a:lnTo>
                    <a:lnTo>
                      <a:pt x="197" y="1024"/>
                    </a:lnTo>
                    <a:lnTo>
                      <a:pt x="169" y="1084"/>
                    </a:lnTo>
                    <a:lnTo>
                      <a:pt x="142" y="1144"/>
                    </a:lnTo>
                    <a:lnTo>
                      <a:pt x="116" y="1204"/>
                    </a:lnTo>
                    <a:lnTo>
                      <a:pt x="93" y="1266"/>
                    </a:lnTo>
                    <a:lnTo>
                      <a:pt x="71" y="1329"/>
                    </a:lnTo>
                    <a:lnTo>
                      <a:pt x="52" y="1392"/>
                    </a:lnTo>
                    <a:lnTo>
                      <a:pt x="34" y="1457"/>
                    </a:lnTo>
                    <a:lnTo>
                      <a:pt x="18" y="1522"/>
                    </a:lnTo>
                    <a:lnTo>
                      <a:pt x="2" y="1593"/>
                    </a:lnTo>
                    <a:lnTo>
                      <a:pt x="0" y="1610"/>
                    </a:lnTo>
                    <a:lnTo>
                      <a:pt x="1" y="1623"/>
                    </a:lnTo>
                    <a:lnTo>
                      <a:pt x="6" y="1634"/>
                    </a:lnTo>
                    <a:lnTo>
                      <a:pt x="11" y="1643"/>
                    </a:lnTo>
                    <a:lnTo>
                      <a:pt x="17" y="1648"/>
                    </a:lnTo>
                    <a:lnTo>
                      <a:pt x="23" y="1652"/>
                    </a:lnTo>
                    <a:lnTo>
                      <a:pt x="29" y="1655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03920" y="77004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5">
                    <a:moveTo>
                      <a:pt x="29" y="333"/>
                    </a:moveTo>
                    <a:lnTo>
                      <a:pt x="79" y="306"/>
                    </a:lnTo>
                    <a:lnTo>
                      <a:pt x="623" y="31"/>
                    </a:lnTo>
                    <a:lnTo>
                      <a:pt x="684" y="0"/>
                    </a:lnTo>
                    <a:lnTo>
                      <a:pt x="687" y="72"/>
                    </a:lnTo>
                    <a:lnTo>
                      <a:pt x="691" y="123"/>
                    </a:lnTo>
                    <a:lnTo>
                      <a:pt x="697" y="174"/>
                    </a:lnTo>
                    <a:lnTo>
                      <a:pt x="704" y="224"/>
                    </a:lnTo>
                    <a:lnTo>
                      <a:pt x="713" y="273"/>
                    </a:lnTo>
                    <a:lnTo>
                      <a:pt x="724" y="323"/>
                    </a:lnTo>
                    <a:lnTo>
                      <a:pt x="737" y="371"/>
                    </a:lnTo>
                    <a:lnTo>
                      <a:pt x="751" y="418"/>
                    </a:lnTo>
                    <a:lnTo>
                      <a:pt x="767" y="465"/>
                    </a:lnTo>
                    <a:lnTo>
                      <a:pt x="784" y="512"/>
                    </a:lnTo>
                    <a:lnTo>
                      <a:pt x="803" y="557"/>
                    </a:lnTo>
                    <a:lnTo>
                      <a:pt x="824" y="602"/>
                    </a:lnTo>
                    <a:lnTo>
                      <a:pt x="846" y="645"/>
                    </a:lnTo>
                    <a:lnTo>
                      <a:pt x="869" y="688"/>
                    </a:lnTo>
                    <a:lnTo>
                      <a:pt x="894" y="730"/>
                    </a:lnTo>
                    <a:lnTo>
                      <a:pt x="920" y="771"/>
                    </a:lnTo>
                    <a:lnTo>
                      <a:pt x="948" y="811"/>
                    </a:lnTo>
                    <a:lnTo>
                      <a:pt x="976" y="850"/>
                    </a:lnTo>
                    <a:lnTo>
                      <a:pt x="1007" y="888"/>
                    </a:lnTo>
                    <a:lnTo>
                      <a:pt x="1038" y="924"/>
                    </a:lnTo>
                    <a:lnTo>
                      <a:pt x="1071" y="961"/>
                    </a:lnTo>
                    <a:lnTo>
                      <a:pt x="1105" y="995"/>
                    </a:lnTo>
                    <a:lnTo>
                      <a:pt x="1140" y="1029"/>
                    </a:lnTo>
                    <a:lnTo>
                      <a:pt x="1176" y="1061"/>
                    </a:lnTo>
                    <a:lnTo>
                      <a:pt x="1213" y="1092"/>
                    </a:lnTo>
                    <a:lnTo>
                      <a:pt x="1252" y="1122"/>
                    </a:lnTo>
                    <a:lnTo>
                      <a:pt x="1290" y="1151"/>
                    </a:lnTo>
                    <a:lnTo>
                      <a:pt x="1331" y="1177"/>
                    </a:lnTo>
                    <a:lnTo>
                      <a:pt x="1372" y="1203"/>
                    </a:lnTo>
                    <a:lnTo>
                      <a:pt x="1414" y="1227"/>
                    </a:lnTo>
                    <a:lnTo>
                      <a:pt x="1457" y="1250"/>
                    </a:lnTo>
                    <a:lnTo>
                      <a:pt x="1501" y="1271"/>
                    </a:lnTo>
                    <a:lnTo>
                      <a:pt x="1546" y="1292"/>
                    </a:lnTo>
                    <a:lnTo>
                      <a:pt x="1584" y="1308"/>
                    </a:lnTo>
                    <a:lnTo>
                      <a:pt x="1594" y="1315"/>
                    </a:lnTo>
                    <a:lnTo>
                      <a:pt x="1600" y="1323"/>
                    </a:lnTo>
                    <a:lnTo>
                      <a:pt x="1605" y="1331"/>
                    </a:lnTo>
                    <a:lnTo>
                      <a:pt x="1606" y="1337"/>
                    </a:lnTo>
                    <a:lnTo>
                      <a:pt x="1605" y="1349"/>
                    </a:lnTo>
                    <a:lnTo>
                      <a:pt x="1603" y="1355"/>
                    </a:lnTo>
                    <a:lnTo>
                      <a:pt x="1586" y="1401"/>
                    </a:lnTo>
                    <a:lnTo>
                      <a:pt x="1388" y="1950"/>
                    </a:lnTo>
                    <a:lnTo>
                      <a:pt x="1381" y="1965"/>
                    </a:lnTo>
                    <a:lnTo>
                      <a:pt x="1379" y="1970"/>
                    </a:lnTo>
                    <a:lnTo>
                      <a:pt x="1371" y="1978"/>
                    </a:lnTo>
                    <a:lnTo>
                      <a:pt x="1366" y="1983"/>
                    </a:lnTo>
                    <a:lnTo>
                      <a:pt x="1358" y="1985"/>
                    </a:lnTo>
                    <a:lnTo>
                      <a:pt x="1348" y="1985"/>
                    </a:lnTo>
                    <a:lnTo>
                      <a:pt x="1338" y="1983"/>
                    </a:lnTo>
                    <a:lnTo>
                      <a:pt x="1302" y="1969"/>
                    </a:lnTo>
                    <a:lnTo>
                      <a:pt x="1242" y="1942"/>
                    </a:lnTo>
                    <a:lnTo>
                      <a:pt x="1181" y="1915"/>
                    </a:lnTo>
                    <a:lnTo>
                      <a:pt x="1123" y="1886"/>
                    </a:lnTo>
                    <a:lnTo>
                      <a:pt x="1066" y="1857"/>
                    </a:lnTo>
                    <a:lnTo>
                      <a:pt x="1009" y="1824"/>
                    </a:lnTo>
                    <a:lnTo>
                      <a:pt x="954" y="1791"/>
                    </a:lnTo>
                    <a:lnTo>
                      <a:pt x="901" y="1756"/>
                    </a:lnTo>
                    <a:lnTo>
                      <a:pt x="848" y="1719"/>
                    </a:lnTo>
                    <a:lnTo>
                      <a:pt x="796" y="1682"/>
                    </a:lnTo>
                    <a:lnTo>
                      <a:pt x="747" y="1642"/>
                    </a:lnTo>
                    <a:lnTo>
                      <a:pt x="698" y="1602"/>
                    </a:lnTo>
                    <a:lnTo>
                      <a:pt x="650" y="1560"/>
                    </a:lnTo>
                    <a:lnTo>
                      <a:pt x="604" y="1517"/>
                    </a:lnTo>
                    <a:lnTo>
                      <a:pt x="559" y="1472"/>
                    </a:lnTo>
                    <a:lnTo>
                      <a:pt x="517" y="1426"/>
                    </a:lnTo>
                    <a:lnTo>
                      <a:pt x="475" y="1379"/>
                    </a:lnTo>
                    <a:lnTo>
                      <a:pt x="434" y="1331"/>
                    </a:lnTo>
                    <a:lnTo>
                      <a:pt x="395" y="1281"/>
                    </a:lnTo>
                    <a:lnTo>
                      <a:pt x="358" y="1230"/>
                    </a:lnTo>
                    <a:lnTo>
                      <a:pt x="323" y="1178"/>
                    </a:lnTo>
                    <a:lnTo>
                      <a:pt x="287" y="1124"/>
                    </a:lnTo>
                    <a:lnTo>
                      <a:pt x="255" y="1070"/>
                    </a:lnTo>
                    <a:lnTo>
                      <a:pt x="224" y="1014"/>
                    </a:lnTo>
                    <a:lnTo>
                      <a:pt x="194" y="957"/>
                    </a:lnTo>
                    <a:lnTo>
                      <a:pt x="166" y="900"/>
                    </a:lnTo>
                    <a:lnTo>
                      <a:pt x="139" y="841"/>
                    </a:lnTo>
                    <a:lnTo>
                      <a:pt x="115" y="781"/>
                    </a:lnTo>
                    <a:lnTo>
                      <a:pt x="92" y="720"/>
                    </a:lnTo>
                    <a:lnTo>
                      <a:pt x="71" y="658"/>
                    </a:lnTo>
                    <a:lnTo>
                      <a:pt x="52" y="595"/>
                    </a:lnTo>
                    <a:lnTo>
                      <a:pt x="34" y="530"/>
                    </a:lnTo>
                    <a:lnTo>
                      <a:pt x="18" y="465"/>
                    </a:lnTo>
                    <a:lnTo>
                      <a:pt x="3" y="394"/>
                    </a:lnTo>
                    <a:lnTo>
                      <a:pt x="0" y="378"/>
                    </a:lnTo>
                    <a:lnTo>
                      <a:pt x="1" y="364"/>
                    </a:lnTo>
                    <a:lnTo>
                      <a:pt x="6" y="353"/>
                    </a:lnTo>
                    <a:lnTo>
                      <a:pt x="11" y="346"/>
                    </a:lnTo>
                    <a:lnTo>
                      <a:pt x="17" y="339"/>
                    </a:lnTo>
                    <a:lnTo>
                      <a:pt x="23" y="336"/>
                    </a:lnTo>
                    <a:lnTo>
                      <a:pt x="29" y="333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667440" y="698400"/>
                <a:ext cx="149400" cy="147600"/>
              </a:xfrm>
              <a:custGeom>
                <a:avLst/>
                <a:gdLst/>
                <a:ahLst/>
                <a:rect l="l" t="t" r="r" b="b"/>
                <a:pathLst>
                  <a:path w="714" h="759">
                    <a:moveTo>
                      <a:pt x="699" y="379"/>
                    </a:moveTo>
                    <a:lnTo>
                      <a:pt x="706" y="375"/>
                    </a:lnTo>
                    <a:lnTo>
                      <a:pt x="710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09" y="351"/>
                    </a:lnTo>
                    <a:lnTo>
                      <a:pt x="705" y="346"/>
                    </a:lnTo>
                    <a:lnTo>
                      <a:pt x="699" y="342"/>
                    </a:lnTo>
                    <a:lnTo>
                      <a:pt x="35" y="4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3" y="11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735"/>
                    </a:lnTo>
                    <a:lnTo>
                      <a:pt x="1" y="743"/>
                    </a:lnTo>
                    <a:lnTo>
                      <a:pt x="3" y="748"/>
                    </a:lnTo>
                    <a:lnTo>
                      <a:pt x="5" y="753"/>
                    </a:lnTo>
                    <a:lnTo>
                      <a:pt x="10" y="757"/>
                    </a:lnTo>
                    <a:lnTo>
                      <a:pt x="15" y="759"/>
                    </a:lnTo>
                    <a:lnTo>
                      <a:pt x="21" y="759"/>
                    </a:lnTo>
                    <a:lnTo>
                      <a:pt x="27" y="758"/>
                    </a:lnTo>
                    <a:lnTo>
                      <a:pt x="34" y="755"/>
                    </a:lnTo>
                    <a:lnTo>
                      <a:pt x="699" y="379"/>
                    </a:lnTo>
                    <a:close/>
                  </a:path>
                </a:pathLst>
              </a:custGeom>
              <a:solidFill>
                <a:srgbClr val="00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11320" y="701640"/>
                <a:ext cx="149760" cy="146160"/>
              </a:xfrm>
              <a:custGeom>
                <a:avLst/>
                <a:gdLst/>
                <a:ahLst/>
                <a:rect l="l" t="t" r="r" b="b"/>
                <a:pathLst>
                  <a:path w="714" h="758">
                    <a:moveTo>
                      <a:pt x="701" y="379"/>
                    </a:moveTo>
                    <a:lnTo>
                      <a:pt x="706" y="374"/>
                    </a:lnTo>
                    <a:lnTo>
                      <a:pt x="711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11" y="350"/>
                    </a:lnTo>
                    <a:lnTo>
                      <a:pt x="706" y="346"/>
                    </a:lnTo>
                    <a:lnTo>
                      <a:pt x="700" y="342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0" y="734"/>
                    </a:lnTo>
                    <a:lnTo>
                      <a:pt x="1" y="742"/>
                    </a:lnTo>
                    <a:lnTo>
                      <a:pt x="3" y="749"/>
                    </a:lnTo>
                    <a:lnTo>
                      <a:pt x="7" y="753"/>
                    </a:lnTo>
                    <a:lnTo>
                      <a:pt x="10" y="756"/>
                    </a:lnTo>
                    <a:lnTo>
                      <a:pt x="15" y="758"/>
                    </a:lnTo>
                    <a:lnTo>
                      <a:pt x="21" y="758"/>
                    </a:lnTo>
                    <a:lnTo>
                      <a:pt x="27" y="757"/>
                    </a:lnTo>
                    <a:lnTo>
                      <a:pt x="34" y="754"/>
                    </a:lnTo>
                    <a:lnTo>
                      <a:pt x="701" y="379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1011960" y="517680"/>
                <a:ext cx="195840" cy="250560"/>
              </a:xfrm>
              <a:custGeom>
                <a:avLst/>
                <a:gdLst/>
                <a:ahLst/>
                <a:rect l="l" t="t" r="r" b="b"/>
                <a:pathLst>
                  <a:path w="930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30" y="1293"/>
                    </a:lnTo>
                    <a:lnTo>
                      <a:pt x="713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1230480" y="517680"/>
                <a:ext cx="34200" cy="25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316520" y="517680"/>
                <a:ext cx="168480" cy="250560"/>
              </a:xfrm>
              <a:custGeom>
                <a:avLst/>
                <a:gdLst/>
                <a:ahLst/>
                <a:rect l="l" t="t" r="r" b="b"/>
                <a:pathLst>
                  <a:path w="803" h="1293">
                    <a:moveTo>
                      <a:pt x="803" y="1293"/>
                    </a:moveTo>
                    <a:lnTo>
                      <a:pt x="607" y="1293"/>
                    </a:lnTo>
                    <a:lnTo>
                      <a:pt x="228" y="746"/>
                    </a:lnTo>
                    <a:lnTo>
                      <a:pt x="161" y="746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283" y="1"/>
                    </a:lnTo>
                    <a:lnTo>
                      <a:pt x="327" y="4"/>
                    </a:lnTo>
                    <a:lnTo>
                      <a:pt x="370" y="8"/>
                    </a:lnTo>
                    <a:lnTo>
                      <a:pt x="413" y="16"/>
                    </a:lnTo>
                    <a:lnTo>
                      <a:pt x="456" y="27"/>
                    </a:lnTo>
                    <a:lnTo>
                      <a:pt x="497" y="41"/>
                    </a:lnTo>
                    <a:lnTo>
                      <a:pt x="536" y="61"/>
                    </a:lnTo>
                    <a:lnTo>
                      <a:pt x="556" y="73"/>
                    </a:lnTo>
                    <a:lnTo>
                      <a:pt x="574" y="87"/>
                    </a:lnTo>
                    <a:lnTo>
                      <a:pt x="592" y="101"/>
                    </a:lnTo>
                    <a:lnTo>
                      <a:pt x="608" y="118"/>
                    </a:lnTo>
                    <a:lnTo>
                      <a:pt x="623" y="135"/>
                    </a:lnTo>
                    <a:lnTo>
                      <a:pt x="637" y="153"/>
                    </a:lnTo>
                    <a:lnTo>
                      <a:pt x="650" y="173"/>
                    </a:lnTo>
                    <a:lnTo>
                      <a:pt x="661" y="192"/>
                    </a:lnTo>
                    <a:lnTo>
                      <a:pt x="671" y="212"/>
                    </a:lnTo>
                    <a:lnTo>
                      <a:pt x="680" y="233"/>
                    </a:lnTo>
                    <a:lnTo>
                      <a:pt x="694" y="277"/>
                    </a:lnTo>
                    <a:lnTo>
                      <a:pt x="700" y="300"/>
                    </a:lnTo>
                    <a:lnTo>
                      <a:pt x="703" y="323"/>
                    </a:lnTo>
                    <a:lnTo>
                      <a:pt x="705" y="346"/>
                    </a:lnTo>
                    <a:lnTo>
                      <a:pt x="705" y="369"/>
                    </a:lnTo>
                    <a:lnTo>
                      <a:pt x="704" y="403"/>
                    </a:lnTo>
                    <a:lnTo>
                      <a:pt x="700" y="436"/>
                    </a:lnTo>
                    <a:lnTo>
                      <a:pt x="693" y="469"/>
                    </a:lnTo>
                    <a:lnTo>
                      <a:pt x="683" y="500"/>
                    </a:lnTo>
                    <a:lnTo>
                      <a:pt x="671" y="531"/>
                    </a:lnTo>
                    <a:lnTo>
                      <a:pt x="657" y="558"/>
                    </a:lnTo>
                    <a:lnTo>
                      <a:pt x="639" y="585"/>
                    </a:lnTo>
                    <a:lnTo>
                      <a:pt x="621" y="611"/>
                    </a:lnTo>
                    <a:lnTo>
                      <a:pt x="599" y="634"/>
                    </a:lnTo>
                    <a:lnTo>
                      <a:pt x="576" y="655"/>
                    </a:lnTo>
                    <a:lnTo>
                      <a:pt x="550" y="673"/>
                    </a:lnTo>
                    <a:lnTo>
                      <a:pt x="523" y="691"/>
                    </a:lnTo>
                    <a:lnTo>
                      <a:pt x="493" y="704"/>
                    </a:lnTo>
                    <a:lnTo>
                      <a:pt x="463" y="716"/>
                    </a:lnTo>
                    <a:lnTo>
                      <a:pt x="430" y="725"/>
                    </a:lnTo>
                    <a:lnTo>
                      <a:pt x="396" y="730"/>
                    </a:lnTo>
                    <a:lnTo>
                      <a:pt x="803" y="1293"/>
                    </a:lnTo>
                    <a:close/>
                    <a:moveTo>
                      <a:pt x="161" y="612"/>
                    </a:moveTo>
                    <a:lnTo>
                      <a:pt x="213" y="612"/>
                    </a:lnTo>
                    <a:lnTo>
                      <a:pt x="274" y="611"/>
                    </a:lnTo>
                    <a:lnTo>
                      <a:pt x="335" y="604"/>
                    </a:lnTo>
                    <a:lnTo>
                      <a:pt x="365" y="599"/>
                    </a:lnTo>
                    <a:lnTo>
                      <a:pt x="393" y="591"/>
                    </a:lnTo>
                    <a:lnTo>
                      <a:pt x="420" y="582"/>
                    </a:lnTo>
                    <a:lnTo>
                      <a:pt x="445" y="571"/>
                    </a:lnTo>
                    <a:lnTo>
                      <a:pt x="469" y="557"/>
                    </a:lnTo>
                    <a:lnTo>
                      <a:pt x="490" y="540"/>
                    </a:lnTo>
                    <a:lnTo>
                      <a:pt x="509" y="522"/>
                    </a:lnTo>
                    <a:lnTo>
                      <a:pt x="524" y="499"/>
                    </a:lnTo>
                    <a:lnTo>
                      <a:pt x="537" y="473"/>
                    </a:lnTo>
                    <a:lnTo>
                      <a:pt x="547" y="445"/>
                    </a:lnTo>
                    <a:lnTo>
                      <a:pt x="553" y="412"/>
                    </a:lnTo>
                    <a:lnTo>
                      <a:pt x="555" y="376"/>
                    </a:lnTo>
                    <a:lnTo>
                      <a:pt x="553" y="339"/>
                    </a:lnTo>
                    <a:lnTo>
                      <a:pt x="546" y="308"/>
                    </a:lnTo>
                    <a:lnTo>
                      <a:pt x="536" y="279"/>
                    </a:lnTo>
                    <a:lnTo>
                      <a:pt x="523" y="254"/>
                    </a:lnTo>
                    <a:lnTo>
                      <a:pt x="505" y="232"/>
                    </a:lnTo>
                    <a:lnTo>
                      <a:pt x="486" y="213"/>
                    </a:lnTo>
                    <a:lnTo>
                      <a:pt x="464" y="198"/>
                    </a:lnTo>
                    <a:lnTo>
                      <a:pt x="440" y="184"/>
                    </a:lnTo>
                    <a:lnTo>
                      <a:pt x="413" y="173"/>
                    </a:lnTo>
                    <a:lnTo>
                      <a:pt x="385" y="164"/>
                    </a:lnTo>
                    <a:lnTo>
                      <a:pt x="356" y="157"/>
                    </a:lnTo>
                    <a:lnTo>
                      <a:pt x="325" y="152"/>
                    </a:lnTo>
                    <a:lnTo>
                      <a:pt x="296" y="148"/>
                    </a:lnTo>
                    <a:lnTo>
                      <a:pt x="265" y="146"/>
                    </a:lnTo>
                    <a:lnTo>
                      <a:pt x="204" y="144"/>
                    </a:lnTo>
                    <a:lnTo>
                      <a:pt x="161" y="144"/>
                    </a:lnTo>
                    <a:lnTo>
                      <a:pt x="161" y="6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02280" y="517680"/>
                <a:ext cx="196200" cy="250560"/>
              </a:xfrm>
              <a:custGeom>
                <a:avLst/>
                <a:gdLst/>
                <a:ahLst/>
                <a:rect l="l" t="t" r="r" b="b"/>
                <a:pathLst>
                  <a:path w="929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29" y="1293"/>
                    </a:lnTo>
                    <a:lnTo>
                      <a:pt x="712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999720" y="847800"/>
                <a:ext cx="54720" cy="133200"/>
              </a:xfrm>
              <a:custGeom>
                <a:avLst/>
                <a:gdLst/>
                <a:ahLst/>
                <a:rect l="l" t="t" r="r" b="b"/>
                <a:pathLst>
                  <a:path w="264" h="687">
                    <a:moveTo>
                      <a:pt x="169" y="687"/>
                    </a:moveTo>
                    <a:lnTo>
                      <a:pt x="74" y="687"/>
                    </a:lnTo>
                    <a:lnTo>
                      <a:pt x="74" y="279"/>
                    </a:lnTo>
                    <a:lnTo>
                      <a:pt x="0" y="279"/>
                    </a:lnTo>
                    <a:lnTo>
                      <a:pt x="0" y="190"/>
                    </a:lnTo>
                    <a:lnTo>
                      <a:pt x="74" y="190"/>
                    </a:lnTo>
                    <a:lnTo>
                      <a:pt x="74" y="0"/>
                    </a:lnTo>
                    <a:lnTo>
                      <a:pt x="169" y="0"/>
                    </a:lnTo>
                    <a:lnTo>
                      <a:pt x="169" y="190"/>
                    </a:lnTo>
                    <a:lnTo>
                      <a:pt x="264" y="190"/>
                    </a:lnTo>
                    <a:lnTo>
                      <a:pt x="264" y="279"/>
                    </a:lnTo>
                    <a:lnTo>
                      <a:pt x="169" y="279"/>
                    </a:lnTo>
                    <a:lnTo>
                      <a:pt x="169" y="6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1058400" y="882720"/>
                <a:ext cx="9936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5" y="280"/>
                    </a:moveTo>
                    <a:lnTo>
                      <a:pt x="98" y="311"/>
                    </a:lnTo>
                    <a:lnTo>
                      <a:pt x="106" y="341"/>
                    </a:lnTo>
                    <a:lnTo>
                      <a:pt x="119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8" y="415"/>
                    </a:lnTo>
                    <a:lnTo>
                      <a:pt x="170" y="423"/>
                    </a:lnTo>
                    <a:lnTo>
                      <a:pt x="184" y="431"/>
                    </a:lnTo>
                    <a:lnTo>
                      <a:pt x="197" y="437"/>
                    </a:lnTo>
                    <a:lnTo>
                      <a:pt x="213" y="441"/>
                    </a:lnTo>
                    <a:lnTo>
                      <a:pt x="229" y="443"/>
                    </a:lnTo>
                    <a:lnTo>
                      <a:pt x="245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5" y="430"/>
                    </a:lnTo>
                    <a:lnTo>
                      <a:pt x="333" y="418"/>
                    </a:lnTo>
                    <a:lnTo>
                      <a:pt x="351" y="405"/>
                    </a:lnTo>
                    <a:lnTo>
                      <a:pt x="366" y="388"/>
                    </a:lnTo>
                    <a:lnTo>
                      <a:pt x="380" y="368"/>
                    </a:lnTo>
                    <a:lnTo>
                      <a:pt x="394" y="348"/>
                    </a:lnTo>
                    <a:lnTo>
                      <a:pt x="475" y="394"/>
                    </a:lnTo>
                    <a:lnTo>
                      <a:pt x="455" y="424"/>
                    </a:lnTo>
                    <a:lnTo>
                      <a:pt x="433" y="451"/>
                    </a:lnTo>
                    <a:lnTo>
                      <a:pt x="407" y="474"/>
                    </a:lnTo>
                    <a:lnTo>
                      <a:pt x="378" y="494"/>
                    </a:lnTo>
                    <a:lnTo>
                      <a:pt x="347" y="509"/>
                    </a:lnTo>
                    <a:lnTo>
                      <a:pt x="315" y="520"/>
                    </a:lnTo>
                    <a:lnTo>
                      <a:pt x="279" y="528"/>
                    </a:lnTo>
                    <a:lnTo>
                      <a:pt x="244" y="530"/>
                    </a:lnTo>
                    <a:lnTo>
                      <a:pt x="217" y="528"/>
                    </a:lnTo>
                    <a:lnTo>
                      <a:pt x="191" y="524"/>
                    </a:lnTo>
                    <a:lnTo>
                      <a:pt x="165" y="518"/>
                    </a:lnTo>
                    <a:lnTo>
                      <a:pt x="142" y="509"/>
                    </a:lnTo>
                    <a:lnTo>
                      <a:pt x="120" y="498"/>
                    </a:lnTo>
                    <a:lnTo>
                      <a:pt x="101" y="485"/>
                    </a:lnTo>
                    <a:lnTo>
                      <a:pt x="82" y="471"/>
                    </a:lnTo>
                    <a:lnTo>
                      <a:pt x="66" y="454"/>
                    </a:lnTo>
                    <a:lnTo>
                      <a:pt x="50" y="435"/>
                    </a:lnTo>
                    <a:lnTo>
                      <a:pt x="37" y="416"/>
                    </a:lnTo>
                    <a:lnTo>
                      <a:pt x="26" y="394"/>
                    </a:lnTo>
                    <a:lnTo>
                      <a:pt x="16" y="371"/>
                    </a:lnTo>
                    <a:lnTo>
                      <a:pt x="10" y="346"/>
                    </a:lnTo>
                    <a:lnTo>
                      <a:pt x="4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4" y="213"/>
                    </a:lnTo>
                    <a:lnTo>
                      <a:pt x="9" y="186"/>
                    </a:lnTo>
                    <a:lnTo>
                      <a:pt x="15" y="161"/>
                    </a:lnTo>
                    <a:lnTo>
                      <a:pt x="24" y="138"/>
                    </a:lnTo>
                    <a:lnTo>
                      <a:pt x="34" y="116"/>
                    </a:lnTo>
                    <a:lnTo>
                      <a:pt x="47" y="95"/>
                    </a:lnTo>
                    <a:lnTo>
                      <a:pt x="61" y="76"/>
                    </a:lnTo>
                    <a:lnTo>
                      <a:pt x="77" y="60"/>
                    </a:lnTo>
                    <a:lnTo>
                      <a:pt x="95" y="45"/>
                    </a:lnTo>
                    <a:lnTo>
                      <a:pt x="115" y="31"/>
                    </a:lnTo>
                    <a:lnTo>
                      <a:pt x="137" y="20"/>
                    </a:lnTo>
                    <a:lnTo>
                      <a:pt x="160" y="12"/>
                    </a:lnTo>
                    <a:lnTo>
                      <a:pt x="185" y="5"/>
                    </a:lnTo>
                    <a:lnTo>
                      <a:pt x="213" y="2"/>
                    </a:lnTo>
                    <a:lnTo>
                      <a:pt x="242" y="0"/>
                    </a:lnTo>
                    <a:lnTo>
                      <a:pt x="271" y="2"/>
                    </a:lnTo>
                    <a:lnTo>
                      <a:pt x="297" y="5"/>
                    </a:lnTo>
                    <a:lnTo>
                      <a:pt x="322" y="12"/>
                    </a:lnTo>
                    <a:lnTo>
                      <a:pt x="345" y="20"/>
                    </a:lnTo>
                    <a:lnTo>
                      <a:pt x="366" y="31"/>
                    </a:lnTo>
                    <a:lnTo>
                      <a:pt x="385" y="45"/>
                    </a:lnTo>
                    <a:lnTo>
                      <a:pt x="402" y="60"/>
                    </a:lnTo>
                    <a:lnTo>
                      <a:pt x="418" y="76"/>
                    </a:lnTo>
                    <a:lnTo>
                      <a:pt x="431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0" y="161"/>
                    </a:lnTo>
                    <a:lnTo>
                      <a:pt x="467" y="185"/>
                    </a:lnTo>
                    <a:lnTo>
                      <a:pt x="471" y="210"/>
                    </a:lnTo>
                    <a:lnTo>
                      <a:pt x="474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5" y="280"/>
                    </a:lnTo>
                    <a:close/>
                    <a:moveTo>
                      <a:pt x="379" y="207"/>
                    </a:moveTo>
                    <a:lnTo>
                      <a:pt x="373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5" y="117"/>
                    </a:lnTo>
                    <a:lnTo>
                      <a:pt x="316" y="103"/>
                    </a:lnTo>
                    <a:lnTo>
                      <a:pt x="294" y="92"/>
                    </a:lnTo>
                    <a:lnTo>
                      <a:pt x="270" y="85"/>
                    </a:lnTo>
                    <a:lnTo>
                      <a:pt x="242" y="83"/>
                    </a:lnTo>
                    <a:lnTo>
                      <a:pt x="215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1" y="137"/>
                    </a:lnTo>
                    <a:lnTo>
                      <a:pt x="117" y="158"/>
                    </a:lnTo>
                    <a:lnTo>
                      <a:pt x="107" y="182"/>
                    </a:lnTo>
                    <a:lnTo>
                      <a:pt x="101" y="207"/>
                    </a:lnTo>
                    <a:lnTo>
                      <a:pt x="379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1177200" y="846000"/>
                <a:ext cx="2052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1211400" y="882720"/>
                <a:ext cx="9972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7" y="280"/>
                    </a:moveTo>
                    <a:lnTo>
                      <a:pt x="99" y="311"/>
                    </a:lnTo>
                    <a:lnTo>
                      <a:pt x="108" y="341"/>
                    </a:lnTo>
                    <a:lnTo>
                      <a:pt x="120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9" y="415"/>
                    </a:lnTo>
                    <a:lnTo>
                      <a:pt x="171" y="423"/>
                    </a:lnTo>
                    <a:lnTo>
                      <a:pt x="185" y="431"/>
                    </a:lnTo>
                    <a:lnTo>
                      <a:pt x="199" y="437"/>
                    </a:lnTo>
                    <a:lnTo>
                      <a:pt x="213" y="441"/>
                    </a:lnTo>
                    <a:lnTo>
                      <a:pt x="230" y="443"/>
                    </a:lnTo>
                    <a:lnTo>
                      <a:pt x="246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6" y="430"/>
                    </a:lnTo>
                    <a:lnTo>
                      <a:pt x="335" y="418"/>
                    </a:lnTo>
                    <a:lnTo>
                      <a:pt x="351" y="405"/>
                    </a:lnTo>
                    <a:lnTo>
                      <a:pt x="367" y="388"/>
                    </a:lnTo>
                    <a:lnTo>
                      <a:pt x="381" y="368"/>
                    </a:lnTo>
                    <a:lnTo>
                      <a:pt x="395" y="348"/>
                    </a:lnTo>
                    <a:lnTo>
                      <a:pt x="475" y="394"/>
                    </a:lnTo>
                    <a:lnTo>
                      <a:pt x="457" y="424"/>
                    </a:lnTo>
                    <a:lnTo>
                      <a:pt x="434" y="451"/>
                    </a:lnTo>
                    <a:lnTo>
                      <a:pt x="407" y="474"/>
                    </a:lnTo>
                    <a:lnTo>
                      <a:pt x="379" y="494"/>
                    </a:lnTo>
                    <a:lnTo>
                      <a:pt x="348" y="509"/>
                    </a:lnTo>
                    <a:lnTo>
                      <a:pt x="315" y="520"/>
                    </a:lnTo>
                    <a:lnTo>
                      <a:pt x="281" y="528"/>
                    </a:lnTo>
                    <a:lnTo>
                      <a:pt x="245" y="530"/>
                    </a:lnTo>
                    <a:lnTo>
                      <a:pt x="218" y="528"/>
                    </a:lnTo>
                    <a:lnTo>
                      <a:pt x="191" y="524"/>
                    </a:lnTo>
                    <a:lnTo>
                      <a:pt x="166" y="518"/>
                    </a:lnTo>
                    <a:lnTo>
                      <a:pt x="143" y="509"/>
                    </a:lnTo>
                    <a:lnTo>
                      <a:pt x="121" y="498"/>
                    </a:lnTo>
                    <a:lnTo>
                      <a:pt x="101" y="485"/>
                    </a:lnTo>
                    <a:lnTo>
                      <a:pt x="83" y="471"/>
                    </a:lnTo>
                    <a:lnTo>
                      <a:pt x="66" y="454"/>
                    </a:lnTo>
                    <a:lnTo>
                      <a:pt x="51" y="435"/>
                    </a:lnTo>
                    <a:lnTo>
                      <a:pt x="38" y="416"/>
                    </a:lnTo>
                    <a:lnTo>
                      <a:pt x="27" y="394"/>
                    </a:lnTo>
                    <a:lnTo>
                      <a:pt x="18" y="371"/>
                    </a:lnTo>
                    <a:lnTo>
                      <a:pt x="10" y="346"/>
                    </a:lnTo>
                    <a:lnTo>
                      <a:pt x="5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5" y="213"/>
                    </a:lnTo>
                    <a:lnTo>
                      <a:pt x="9" y="186"/>
                    </a:lnTo>
                    <a:lnTo>
                      <a:pt x="16" y="161"/>
                    </a:lnTo>
                    <a:lnTo>
                      <a:pt x="24" y="138"/>
                    </a:lnTo>
                    <a:lnTo>
                      <a:pt x="35" y="116"/>
                    </a:lnTo>
                    <a:lnTo>
                      <a:pt x="48" y="95"/>
                    </a:lnTo>
                    <a:lnTo>
                      <a:pt x="62" y="76"/>
                    </a:lnTo>
                    <a:lnTo>
                      <a:pt x="78" y="60"/>
                    </a:lnTo>
                    <a:lnTo>
                      <a:pt x="96" y="45"/>
                    </a:lnTo>
                    <a:lnTo>
                      <a:pt x="116" y="31"/>
                    </a:lnTo>
                    <a:lnTo>
                      <a:pt x="137" y="20"/>
                    </a:lnTo>
                    <a:lnTo>
                      <a:pt x="162" y="12"/>
                    </a:lnTo>
                    <a:lnTo>
                      <a:pt x="187" y="5"/>
                    </a:lnTo>
                    <a:lnTo>
                      <a:pt x="214" y="2"/>
                    </a:lnTo>
                    <a:lnTo>
                      <a:pt x="243" y="0"/>
                    </a:lnTo>
                    <a:lnTo>
                      <a:pt x="271" y="2"/>
                    </a:lnTo>
                    <a:lnTo>
                      <a:pt x="299" y="5"/>
                    </a:lnTo>
                    <a:lnTo>
                      <a:pt x="323" y="12"/>
                    </a:lnTo>
                    <a:lnTo>
                      <a:pt x="346" y="20"/>
                    </a:lnTo>
                    <a:lnTo>
                      <a:pt x="367" y="31"/>
                    </a:lnTo>
                    <a:lnTo>
                      <a:pt x="386" y="45"/>
                    </a:lnTo>
                    <a:lnTo>
                      <a:pt x="403" y="60"/>
                    </a:lnTo>
                    <a:lnTo>
                      <a:pt x="418" y="76"/>
                    </a:lnTo>
                    <a:lnTo>
                      <a:pt x="432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1" y="161"/>
                    </a:lnTo>
                    <a:lnTo>
                      <a:pt x="468" y="185"/>
                    </a:lnTo>
                    <a:lnTo>
                      <a:pt x="472" y="210"/>
                    </a:lnTo>
                    <a:lnTo>
                      <a:pt x="475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7" y="280"/>
                    </a:lnTo>
                    <a:close/>
                    <a:moveTo>
                      <a:pt x="380" y="207"/>
                    </a:moveTo>
                    <a:lnTo>
                      <a:pt x="374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6" y="117"/>
                    </a:lnTo>
                    <a:lnTo>
                      <a:pt x="317" y="103"/>
                    </a:lnTo>
                    <a:lnTo>
                      <a:pt x="295" y="92"/>
                    </a:lnTo>
                    <a:lnTo>
                      <a:pt x="270" y="85"/>
                    </a:lnTo>
                    <a:lnTo>
                      <a:pt x="243" y="83"/>
                    </a:lnTo>
                    <a:lnTo>
                      <a:pt x="216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2" y="137"/>
                    </a:lnTo>
                    <a:lnTo>
                      <a:pt x="119" y="158"/>
                    </a:lnTo>
                    <a:lnTo>
                      <a:pt x="108" y="182"/>
                    </a:lnTo>
                    <a:lnTo>
                      <a:pt x="101" y="207"/>
                    </a:lnTo>
                    <a:lnTo>
                      <a:pt x="380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326960" y="882720"/>
                <a:ext cx="84240" cy="101520"/>
              </a:xfrm>
              <a:custGeom>
                <a:avLst/>
                <a:gdLst/>
                <a:ahLst/>
                <a:rect l="l" t="t" r="r" b="b"/>
                <a:pathLst>
                  <a:path w="404" h="530">
                    <a:moveTo>
                      <a:pt x="404" y="157"/>
                    </a:moveTo>
                    <a:lnTo>
                      <a:pt x="389" y="141"/>
                    </a:lnTo>
                    <a:lnTo>
                      <a:pt x="373" y="127"/>
                    </a:lnTo>
                    <a:lnTo>
                      <a:pt x="358" y="116"/>
                    </a:lnTo>
                    <a:lnTo>
                      <a:pt x="340" y="106"/>
                    </a:lnTo>
                    <a:lnTo>
                      <a:pt x="321" y="99"/>
                    </a:lnTo>
                    <a:lnTo>
                      <a:pt x="303" y="94"/>
                    </a:lnTo>
                    <a:lnTo>
                      <a:pt x="283" y="91"/>
                    </a:lnTo>
                    <a:lnTo>
                      <a:pt x="261" y="90"/>
                    </a:lnTo>
                    <a:lnTo>
                      <a:pt x="245" y="91"/>
                    </a:lnTo>
                    <a:lnTo>
                      <a:pt x="227" y="93"/>
                    </a:lnTo>
                    <a:lnTo>
                      <a:pt x="212" y="97"/>
                    </a:lnTo>
                    <a:lnTo>
                      <a:pt x="196" y="104"/>
                    </a:lnTo>
                    <a:lnTo>
                      <a:pt x="182" y="112"/>
                    </a:lnTo>
                    <a:lnTo>
                      <a:pt x="168" y="120"/>
                    </a:lnTo>
                    <a:lnTo>
                      <a:pt x="156" y="130"/>
                    </a:lnTo>
                    <a:lnTo>
                      <a:pt x="144" y="142"/>
                    </a:lnTo>
                    <a:lnTo>
                      <a:pt x="133" y="154"/>
                    </a:lnTo>
                    <a:lnTo>
                      <a:pt x="124" y="169"/>
                    </a:lnTo>
                    <a:lnTo>
                      <a:pt x="115" y="183"/>
                    </a:lnTo>
                    <a:lnTo>
                      <a:pt x="109" y="198"/>
                    </a:lnTo>
                    <a:lnTo>
                      <a:pt x="103" y="214"/>
                    </a:lnTo>
                    <a:lnTo>
                      <a:pt x="99" y="230"/>
                    </a:lnTo>
                    <a:lnTo>
                      <a:pt x="97" y="247"/>
                    </a:lnTo>
                    <a:lnTo>
                      <a:pt x="96" y="264"/>
                    </a:lnTo>
                    <a:lnTo>
                      <a:pt x="97" y="283"/>
                    </a:lnTo>
                    <a:lnTo>
                      <a:pt x="99" y="300"/>
                    </a:lnTo>
                    <a:lnTo>
                      <a:pt x="103" y="318"/>
                    </a:lnTo>
                    <a:lnTo>
                      <a:pt x="109" y="334"/>
                    </a:lnTo>
                    <a:lnTo>
                      <a:pt x="115" y="350"/>
                    </a:lnTo>
                    <a:lnTo>
                      <a:pt x="124" y="364"/>
                    </a:lnTo>
                    <a:lnTo>
                      <a:pt x="133" y="378"/>
                    </a:lnTo>
                    <a:lnTo>
                      <a:pt x="144" y="390"/>
                    </a:lnTo>
                    <a:lnTo>
                      <a:pt x="156" y="401"/>
                    </a:lnTo>
                    <a:lnTo>
                      <a:pt x="169" y="411"/>
                    </a:lnTo>
                    <a:lnTo>
                      <a:pt x="183" y="420"/>
                    </a:lnTo>
                    <a:lnTo>
                      <a:pt x="199" y="427"/>
                    </a:lnTo>
                    <a:lnTo>
                      <a:pt x="215" y="432"/>
                    </a:lnTo>
                    <a:lnTo>
                      <a:pt x="232" y="437"/>
                    </a:lnTo>
                    <a:lnTo>
                      <a:pt x="249" y="439"/>
                    </a:lnTo>
                    <a:lnTo>
                      <a:pt x="268" y="440"/>
                    </a:lnTo>
                    <a:lnTo>
                      <a:pt x="289" y="439"/>
                    </a:lnTo>
                    <a:lnTo>
                      <a:pt x="307" y="435"/>
                    </a:lnTo>
                    <a:lnTo>
                      <a:pt x="326" y="430"/>
                    </a:lnTo>
                    <a:lnTo>
                      <a:pt x="343" y="422"/>
                    </a:lnTo>
                    <a:lnTo>
                      <a:pt x="360" y="412"/>
                    </a:lnTo>
                    <a:lnTo>
                      <a:pt x="375" y="401"/>
                    </a:lnTo>
                    <a:lnTo>
                      <a:pt x="389" y="388"/>
                    </a:lnTo>
                    <a:lnTo>
                      <a:pt x="404" y="374"/>
                    </a:lnTo>
                    <a:lnTo>
                      <a:pt x="404" y="497"/>
                    </a:lnTo>
                    <a:lnTo>
                      <a:pt x="371" y="511"/>
                    </a:lnTo>
                    <a:lnTo>
                      <a:pt x="338" y="522"/>
                    </a:lnTo>
                    <a:lnTo>
                      <a:pt x="303" y="528"/>
                    </a:lnTo>
                    <a:lnTo>
                      <a:pt x="267" y="530"/>
                    </a:lnTo>
                    <a:lnTo>
                      <a:pt x="239" y="528"/>
                    </a:lnTo>
                    <a:lnTo>
                      <a:pt x="213" y="524"/>
                    </a:lnTo>
                    <a:lnTo>
                      <a:pt x="188" y="518"/>
                    </a:lnTo>
                    <a:lnTo>
                      <a:pt x="164" y="509"/>
                    </a:lnTo>
                    <a:lnTo>
                      <a:pt x="140" y="499"/>
                    </a:lnTo>
                    <a:lnTo>
                      <a:pt x="119" y="486"/>
                    </a:lnTo>
                    <a:lnTo>
                      <a:pt x="98" y="472"/>
                    </a:lnTo>
                    <a:lnTo>
                      <a:pt x="79" y="454"/>
                    </a:lnTo>
                    <a:lnTo>
                      <a:pt x="62" y="437"/>
                    </a:lnTo>
                    <a:lnTo>
                      <a:pt x="46" y="416"/>
                    </a:lnTo>
                    <a:lnTo>
                      <a:pt x="33" y="395"/>
                    </a:lnTo>
                    <a:lnTo>
                      <a:pt x="21" y="372"/>
                    </a:lnTo>
                    <a:lnTo>
                      <a:pt x="12" y="348"/>
                    </a:lnTo>
                    <a:lnTo>
                      <a:pt x="6" y="322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6" y="213"/>
                    </a:lnTo>
                    <a:lnTo>
                      <a:pt x="12" y="186"/>
                    </a:lnTo>
                    <a:lnTo>
                      <a:pt x="21" y="161"/>
                    </a:lnTo>
                    <a:lnTo>
                      <a:pt x="33" y="138"/>
                    </a:lnTo>
                    <a:lnTo>
                      <a:pt x="46" y="115"/>
                    </a:lnTo>
                    <a:lnTo>
                      <a:pt x="62" y="95"/>
                    </a:lnTo>
                    <a:lnTo>
                      <a:pt x="79" y="76"/>
                    </a:lnTo>
                    <a:lnTo>
                      <a:pt x="98" y="59"/>
                    </a:lnTo>
                    <a:lnTo>
                      <a:pt x="119" y="45"/>
                    </a:lnTo>
                    <a:lnTo>
                      <a:pt x="142" y="31"/>
                    </a:lnTo>
                    <a:lnTo>
                      <a:pt x="165" y="20"/>
                    </a:lnTo>
                    <a:lnTo>
                      <a:pt x="190" y="12"/>
                    </a:lnTo>
                    <a:lnTo>
                      <a:pt x="216" y="5"/>
                    </a:lnTo>
                    <a:lnTo>
                      <a:pt x="244" y="2"/>
                    </a:lnTo>
                    <a:lnTo>
                      <a:pt x="272" y="0"/>
                    </a:lnTo>
                    <a:lnTo>
                      <a:pt x="306" y="2"/>
                    </a:lnTo>
                    <a:lnTo>
                      <a:pt x="340" y="8"/>
                    </a:lnTo>
                    <a:lnTo>
                      <a:pt x="373" y="18"/>
                    </a:lnTo>
                    <a:lnTo>
                      <a:pt x="404" y="32"/>
                    </a:lnTo>
                    <a:lnTo>
                      <a:pt x="404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423440" y="882720"/>
                <a:ext cx="111600" cy="101520"/>
              </a:xfrm>
              <a:custGeom>
                <a:avLst/>
                <a:gdLst/>
                <a:ahLst/>
                <a:rect l="l" t="t" r="r" b="b"/>
                <a:pathLst>
                  <a:path w="532" h="530">
                    <a:moveTo>
                      <a:pt x="532" y="264"/>
                    </a:moveTo>
                    <a:lnTo>
                      <a:pt x="530" y="293"/>
                    </a:lnTo>
                    <a:lnTo>
                      <a:pt x="527" y="319"/>
                    </a:lnTo>
                    <a:lnTo>
                      <a:pt x="520" y="344"/>
                    </a:lnTo>
                    <a:lnTo>
                      <a:pt x="511" y="370"/>
                    </a:lnTo>
                    <a:lnTo>
                      <a:pt x="501" y="393"/>
                    </a:lnTo>
                    <a:lnTo>
                      <a:pt x="487" y="415"/>
                    </a:lnTo>
                    <a:lnTo>
                      <a:pt x="472" y="434"/>
                    </a:lnTo>
                    <a:lnTo>
                      <a:pt x="454" y="453"/>
                    </a:lnTo>
                    <a:lnTo>
                      <a:pt x="436" y="471"/>
                    </a:lnTo>
                    <a:lnTo>
                      <a:pt x="416" y="485"/>
                    </a:lnTo>
                    <a:lnTo>
                      <a:pt x="394" y="498"/>
                    </a:lnTo>
                    <a:lnTo>
                      <a:pt x="370" y="509"/>
                    </a:lnTo>
                    <a:lnTo>
                      <a:pt x="346" y="518"/>
                    </a:lnTo>
                    <a:lnTo>
                      <a:pt x="321" y="524"/>
                    </a:lnTo>
                    <a:lnTo>
                      <a:pt x="293" y="528"/>
                    </a:lnTo>
                    <a:lnTo>
                      <a:pt x="266" y="530"/>
                    </a:lnTo>
                    <a:lnTo>
                      <a:pt x="238" y="528"/>
                    </a:lnTo>
                    <a:lnTo>
                      <a:pt x="212" y="524"/>
                    </a:lnTo>
                    <a:lnTo>
                      <a:pt x="187" y="518"/>
                    </a:lnTo>
                    <a:lnTo>
                      <a:pt x="162" y="509"/>
                    </a:lnTo>
                    <a:lnTo>
                      <a:pt x="139" y="498"/>
                    </a:lnTo>
                    <a:lnTo>
                      <a:pt x="117" y="485"/>
                    </a:lnTo>
                    <a:lnTo>
                      <a:pt x="97" y="471"/>
                    </a:lnTo>
                    <a:lnTo>
                      <a:pt x="78" y="453"/>
                    </a:lnTo>
                    <a:lnTo>
                      <a:pt x="61" y="434"/>
                    </a:lnTo>
                    <a:lnTo>
                      <a:pt x="45" y="415"/>
                    </a:lnTo>
                    <a:lnTo>
                      <a:pt x="32" y="393"/>
                    </a:lnTo>
                    <a:lnTo>
                      <a:pt x="21" y="370"/>
                    </a:lnTo>
                    <a:lnTo>
                      <a:pt x="12" y="344"/>
                    </a:lnTo>
                    <a:lnTo>
                      <a:pt x="6" y="319"/>
                    </a:lnTo>
                    <a:lnTo>
                      <a:pt x="3" y="293"/>
                    </a:lnTo>
                    <a:lnTo>
                      <a:pt x="0" y="264"/>
                    </a:lnTo>
                    <a:lnTo>
                      <a:pt x="3" y="237"/>
                    </a:lnTo>
                    <a:lnTo>
                      <a:pt x="6" y="210"/>
                    </a:lnTo>
                    <a:lnTo>
                      <a:pt x="12" y="185"/>
                    </a:lnTo>
                    <a:lnTo>
                      <a:pt x="21" y="160"/>
                    </a:lnTo>
                    <a:lnTo>
                      <a:pt x="32" y="137"/>
                    </a:lnTo>
                    <a:lnTo>
                      <a:pt x="45" y="115"/>
                    </a:lnTo>
                    <a:lnTo>
                      <a:pt x="61" y="95"/>
                    </a:lnTo>
                    <a:lnTo>
                      <a:pt x="78" y="76"/>
                    </a:lnTo>
                    <a:lnTo>
                      <a:pt x="97" y="59"/>
                    </a:lnTo>
                    <a:lnTo>
                      <a:pt x="117" y="45"/>
                    </a:lnTo>
                    <a:lnTo>
                      <a:pt x="139" y="31"/>
                    </a:lnTo>
                    <a:lnTo>
                      <a:pt x="162" y="20"/>
                    </a:lnTo>
                    <a:lnTo>
                      <a:pt x="187" y="12"/>
                    </a:lnTo>
                    <a:lnTo>
                      <a:pt x="212" y="5"/>
                    </a:lnTo>
                    <a:lnTo>
                      <a:pt x="238" y="2"/>
                    </a:lnTo>
                    <a:lnTo>
                      <a:pt x="266" y="0"/>
                    </a:lnTo>
                    <a:lnTo>
                      <a:pt x="293" y="2"/>
                    </a:lnTo>
                    <a:lnTo>
                      <a:pt x="321" y="5"/>
                    </a:lnTo>
                    <a:lnTo>
                      <a:pt x="346" y="12"/>
                    </a:lnTo>
                    <a:lnTo>
                      <a:pt x="370" y="20"/>
                    </a:lnTo>
                    <a:lnTo>
                      <a:pt x="394" y="31"/>
                    </a:lnTo>
                    <a:lnTo>
                      <a:pt x="416" y="45"/>
                    </a:lnTo>
                    <a:lnTo>
                      <a:pt x="436" y="59"/>
                    </a:lnTo>
                    <a:lnTo>
                      <a:pt x="454" y="76"/>
                    </a:lnTo>
                    <a:lnTo>
                      <a:pt x="472" y="95"/>
                    </a:lnTo>
                    <a:lnTo>
                      <a:pt x="487" y="115"/>
                    </a:lnTo>
                    <a:lnTo>
                      <a:pt x="501" y="137"/>
                    </a:lnTo>
                    <a:lnTo>
                      <a:pt x="511" y="160"/>
                    </a:lnTo>
                    <a:lnTo>
                      <a:pt x="520" y="185"/>
                    </a:lnTo>
                    <a:lnTo>
                      <a:pt x="527" y="210"/>
                    </a:lnTo>
                    <a:lnTo>
                      <a:pt x="530" y="237"/>
                    </a:lnTo>
                    <a:lnTo>
                      <a:pt x="532" y="264"/>
                    </a:lnTo>
                    <a:close/>
                    <a:moveTo>
                      <a:pt x="96" y="264"/>
                    </a:moveTo>
                    <a:lnTo>
                      <a:pt x="97" y="282"/>
                    </a:lnTo>
                    <a:lnTo>
                      <a:pt x="100" y="299"/>
                    </a:lnTo>
                    <a:lnTo>
                      <a:pt x="103" y="316"/>
                    </a:lnTo>
                    <a:lnTo>
                      <a:pt x="110" y="331"/>
                    </a:lnTo>
                    <a:lnTo>
                      <a:pt x="117" y="346"/>
                    </a:lnTo>
                    <a:lnTo>
                      <a:pt x="125" y="361"/>
                    </a:lnTo>
                    <a:lnTo>
                      <a:pt x="135" y="374"/>
                    </a:lnTo>
                    <a:lnTo>
                      <a:pt x="146" y="386"/>
                    </a:lnTo>
                    <a:lnTo>
                      <a:pt x="158" y="398"/>
                    </a:lnTo>
                    <a:lnTo>
                      <a:pt x="171" y="408"/>
                    </a:lnTo>
                    <a:lnTo>
                      <a:pt x="185" y="417"/>
                    </a:lnTo>
                    <a:lnTo>
                      <a:pt x="200" y="424"/>
                    </a:lnTo>
                    <a:lnTo>
                      <a:pt x="215" y="430"/>
                    </a:lnTo>
                    <a:lnTo>
                      <a:pt x="232" y="434"/>
                    </a:lnTo>
                    <a:lnTo>
                      <a:pt x="248" y="437"/>
                    </a:lnTo>
                    <a:lnTo>
                      <a:pt x="266" y="438"/>
                    </a:lnTo>
                    <a:lnTo>
                      <a:pt x="283" y="437"/>
                    </a:lnTo>
                    <a:lnTo>
                      <a:pt x="301" y="434"/>
                    </a:lnTo>
                    <a:lnTo>
                      <a:pt x="317" y="430"/>
                    </a:lnTo>
                    <a:lnTo>
                      <a:pt x="333" y="424"/>
                    </a:lnTo>
                    <a:lnTo>
                      <a:pt x="348" y="417"/>
                    </a:lnTo>
                    <a:lnTo>
                      <a:pt x="361" y="408"/>
                    </a:lnTo>
                    <a:lnTo>
                      <a:pt x="374" y="398"/>
                    </a:lnTo>
                    <a:lnTo>
                      <a:pt x="386" y="386"/>
                    </a:lnTo>
                    <a:lnTo>
                      <a:pt x="397" y="374"/>
                    </a:lnTo>
                    <a:lnTo>
                      <a:pt x="407" y="361"/>
                    </a:lnTo>
                    <a:lnTo>
                      <a:pt x="416" y="346"/>
                    </a:lnTo>
                    <a:lnTo>
                      <a:pt x="423" y="331"/>
                    </a:lnTo>
                    <a:lnTo>
                      <a:pt x="428" y="316"/>
                    </a:lnTo>
                    <a:lnTo>
                      <a:pt x="433" y="299"/>
                    </a:lnTo>
                    <a:lnTo>
                      <a:pt x="436" y="282"/>
                    </a:lnTo>
                    <a:lnTo>
                      <a:pt x="436" y="264"/>
                    </a:lnTo>
                    <a:lnTo>
                      <a:pt x="436" y="248"/>
                    </a:lnTo>
                    <a:lnTo>
                      <a:pt x="433" y="230"/>
                    </a:lnTo>
                    <a:lnTo>
                      <a:pt x="428" y="214"/>
                    </a:lnTo>
                    <a:lnTo>
                      <a:pt x="423" y="197"/>
                    </a:lnTo>
                    <a:lnTo>
                      <a:pt x="416" y="183"/>
                    </a:lnTo>
                    <a:lnTo>
                      <a:pt x="407" y="169"/>
                    </a:lnTo>
                    <a:lnTo>
                      <a:pt x="397" y="154"/>
                    </a:lnTo>
                    <a:lnTo>
                      <a:pt x="386" y="142"/>
                    </a:lnTo>
                    <a:lnTo>
                      <a:pt x="374" y="131"/>
                    </a:lnTo>
                    <a:lnTo>
                      <a:pt x="361" y="121"/>
                    </a:lnTo>
                    <a:lnTo>
                      <a:pt x="348" y="113"/>
                    </a:lnTo>
                    <a:lnTo>
                      <a:pt x="333" y="105"/>
                    </a:lnTo>
                    <a:lnTo>
                      <a:pt x="317" y="99"/>
                    </a:lnTo>
                    <a:lnTo>
                      <a:pt x="301" y="95"/>
                    </a:lnTo>
                    <a:lnTo>
                      <a:pt x="283" y="92"/>
                    </a:lnTo>
                    <a:lnTo>
                      <a:pt x="266" y="92"/>
                    </a:lnTo>
                    <a:lnTo>
                      <a:pt x="248" y="92"/>
                    </a:lnTo>
                    <a:lnTo>
                      <a:pt x="232" y="95"/>
                    </a:lnTo>
                    <a:lnTo>
                      <a:pt x="215" y="99"/>
                    </a:lnTo>
                    <a:lnTo>
                      <a:pt x="200" y="105"/>
                    </a:lnTo>
                    <a:lnTo>
                      <a:pt x="185" y="113"/>
                    </a:lnTo>
                    <a:lnTo>
                      <a:pt x="171" y="121"/>
                    </a:lnTo>
                    <a:lnTo>
                      <a:pt x="158" y="131"/>
                    </a:lnTo>
                    <a:lnTo>
                      <a:pt x="146" y="142"/>
                    </a:lnTo>
                    <a:lnTo>
                      <a:pt x="135" y="154"/>
                    </a:lnTo>
                    <a:lnTo>
                      <a:pt x="125" y="169"/>
                    </a:lnTo>
                    <a:lnTo>
                      <a:pt x="117" y="183"/>
                    </a:lnTo>
                    <a:lnTo>
                      <a:pt x="110" y="197"/>
                    </a:lnTo>
                    <a:lnTo>
                      <a:pt x="103" y="214"/>
                    </a:lnTo>
                    <a:lnTo>
                      <a:pt x="100" y="230"/>
                    </a:lnTo>
                    <a:lnTo>
                      <a:pt x="97" y="248"/>
                    </a:lnTo>
                    <a:lnTo>
                      <a:pt x="96" y="2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549440" y="882720"/>
                <a:ext cx="144360" cy="98280"/>
              </a:xfrm>
              <a:custGeom>
                <a:avLst/>
                <a:gdLst/>
                <a:ahLst/>
                <a:rect l="l" t="t" r="r" b="b"/>
                <a:pathLst>
                  <a:path w="690" h="512">
                    <a:moveTo>
                      <a:pt x="96" y="77"/>
                    </a:moveTo>
                    <a:lnTo>
                      <a:pt x="98" y="77"/>
                    </a:lnTo>
                    <a:lnTo>
                      <a:pt x="109" y="62"/>
                    </a:lnTo>
                    <a:lnTo>
                      <a:pt x="122" y="47"/>
                    </a:lnTo>
                    <a:lnTo>
                      <a:pt x="137" y="34"/>
                    </a:lnTo>
                    <a:lnTo>
                      <a:pt x="154" y="23"/>
                    </a:lnTo>
                    <a:lnTo>
                      <a:pt x="171" y="13"/>
                    </a:lnTo>
                    <a:lnTo>
                      <a:pt x="190" y="6"/>
                    </a:lnTo>
                    <a:lnTo>
                      <a:pt x="210" y="2"/>
                    </a:lnTo>
                    <a:lnTo>
                      <a:pt x="229" y="0"/>
                    </a:lnTo>
                    <a:lnTo>
                      <a:pt x="253" y="2"/>
                    </a:lnTo>
                    <a:lnTo>
                      <a:pt x="274" y="6"/>
                    </a:lnTo>
                    <a:lnTo>
                      <a:pt x="295" y="13"/>
                    </a:lnTo>
                    <a:lnTo>
                      <a:pt x="314" y="24"/>
                    </a:lnTo>
                    <a:lnTo>
                      <a:pt x="330" y="36"/>
                    </a:lnTo>
                    <a:lnTo>
                      <a:pt x="346" y="51"/>
                    </a:lnTo>
                    <a:lnTo>
                      <a:pt x="360" y="69"/>
                    </a:lnTo>
                    <a:lnTo>
                      <a:pt x="373" y="88"/>
                    </a:lnTo>
                    <a:lnTo>
                      <a:pt x="385" y="69"/>
                    </a:lnTo>
                    <a:lnTo>
                      <a:pt x="401" y="52"/>
                    </a:lnTo>
                    <a:lnTo>
                      <a:pt x="418" y="37"/>
                    </a:lnTo>
                    <a:lnTo>
                      <a:pt x="438" y="24"/>
                    </a:lnTo>
                    <a:lnTo>
                      <a:pt x="458" y="14"/>
                    </a:lnTo>
                    <a:lnTo>
                      <a:pt x="480" y="6"/>
                    </a:lnTo>
                    <a:lnTo>
                      <a:pt x="503" y="2"/>
                    </a:lnTo>
                    <a:lnTo>
                      <a:pt x="526" y="0"/>
                    </a:lnTo>
                    <a:lnTo>
                      <a:pt x="550" y="1"/>
                    </a:lnTo>
                    <a:lnTo>
                      <a:pt x="571" y="5"/>
                    </a:lnTo>
                    <a:lnTo>
                      <a:pt x="589" y="11"/>
                    </a:lnTo>
                    <a:lnTo>
                      <a:pt x="607" y="17"/>
                    </a:lnTo>
                    <a:lnTo>
                      <a:pt x="622" y="27"/>
                    </a:lnTo>
                    <a:lnTo>
                      <a:pt x="635" y="38"/>
                    </a:lnTo>
                    <a:lnTo>
                      <a:pt x="647" y="51"/>
                    </a:lnTo>
                    <a:lnTo>
                      <a:pt x="657" y="65"/>
                    </a:lnTo>
                    <a:lnTo>
                      <a:pt x="666" y="81"/>
                    </a:lnTo>
                    <a:lnTo>
                      <a:pt x="673" y="97"/>
                    </a:lnTo>
                    <a:lnTo>
                      <a:pt x="678" y="115"/>
                    </a:lnTo>
                    <a:lnTo>
                      <a:pt x="684" y="133"/>
                    </a:lnTo>
                    <a:lnTo>
                      <a:pt x="689" y="173"/>
                    </a:lnTo>
                    <a:lnTo>
                      <a:pt x="690" y="215"/>
                    </a:lnTo>
                    <a:lnTo>
                      <a:pt x="690" y="512"/>
                    </a:lnTo>
                    <a:lnTo>
                      <a:pt x="595" y="512"/>
                    </a:lnTo>
                    <a:lnTo>
                      <a:pt x="595" y="230"/>
                    </a:lnTo>
                    <a:lnTo>
                      <a:pt x="595" y="206"/>
                    </a:lnTo>
                    <a:lnTo>
                      <a:pt x="593" y="181"/>
                    </a:lnTo>
                    <a:lnTo>
                      <a:pt x="588" y="157"/>
                    </a:lnTo>
                    <a:lnTo>
                      <a:pt x="580" y="133"/>
                    </a:lnTo>
                    <a:lnTo>
                      <a:pt x="568" y="114"/>
                    </a:lnTo>
                    <a:lnTo>
                      <a:pt x="561" y="106"/>
                    </a:lnTo>
                    <a:lnTo>
                      <a:pt x="552" y="98"/>
                    </a:lnTo>
                    <a:lnTo>
                      <a:pt x="542" y="93"/>
                    </a:lnTo>
                    <a:lnTo>
                      <a:pt x="531" y="88"/>
                    </a:lnTo>
                    <a:lnTo>
                      <a:pt x="517" y="86"/>
                    </a:lnTo>
                    <a:lnTo>
                      <a:pt x="503" y="85"/>
                    </a:lnTo>
                    <a:lnTo>
                      <a:pt x="484" y="86"/>
                    </a:lnTo>
                    <a:lnTo>
                      <a:pt x="469" y="90"/>
                    </a:lnTo>
                    <a:lnTo>
                      <a:pt x="454" y="95"/>
                    </a:lnTo>
                    <a:lnTo>
                      <a:pt x="442" y="103"/>
                    </a:lnTo>
                    <a:lnTo>
                      <a:pt x="432" y="112"/>
                    </a:lnTo>
                    <a:lnTo>
                      <a:pt x="423" y="123"/>
                    </a:lnTo>
                    <a:lnTo>
                      <a:pt x="416" y="135"/>
                    </a:lnTo>
                    <a:lnTo>
                      <a:pt x="409" y="148"/>
                    </a:lnTo>
                    <a:lnTo>
                      <a:pt x="401" y="176"/>
                    </a:lnTo>
                    <a:lnTo>
                      <a:pt x="396" y="207"/>
                    </a:lnTo>
                    <a:lnTo>
                      <a:pt x="394" y="238"/>
                    </a:lnTo>
                    <a:lnTo>
                      <a:pt x="393" y="267"/>
                    </a:lnTo>
                    <a:lnTo>
                      <a:pt x="393" y="512"/>
                    </a:lnTo>
                    <a:lnTo>
                      <a:pt x="297" y="512"/>
                    </a:lnTo>
                    <a:lnTo>
                      <a:pt x="297" y="249"/>
                    </a:lnTo>
                    <a:lnTo>
                      <a:pt x="297" y="224"/>
                    </a:lnTo>
                    <a:lnTo>
                      <a:pt x="295" y="196"/>
                    </a:lnTo>
                    <a:lnTo>
                      <a:pt x="292" y="169"/>
                    </a:lnTo>
                    <a:lnTo>
                      <a:pt x="285" y="142"/>
                    </a:lnTo>
                    <a:lnTo>
                      <a:pt x="280" y="130"/>
                    </a:lnTo>
                    <a:lnTo>
                      <a:pt x="273" y="119"/>
                    </a:lnTo>
                    <a:lnTo>
                      <a:pt x="267" y="110"/>
                    </a:lnTo>
                    <a:lnTo>
                      <a:pt x="258" y="102"/>
                    </a:lnTo>
                    <a:lnTo>
                      <a:pt x="247" y="95"/>
                    </a:lnTo>
                    <a:lnTo>
                      <a:pt x="235" y="90"/>
                    </a:lnTo>
                    <a:lnTo>
                      <a:pt x="222" y="86"/>
                    </a:lnTo>
                    <a:lnTo>
                      <a:pt x="206" y="85"/>
                    </a:lnTo>
                    <a:lnTo>
                      <a:pt x="188" y="86"/>
                    </a:lnTo>
                    <a:lnTo>
                      <a:pt x="172" y="90"/>
                    </a:lnTo>
                    <a:lnTo>
                      <a:pt x="158" y="95"/>
                    </a:lnTo>
                    <a:lnTo>
                      <a:pt x="146" y="103"/>
                    </a:lnTo>
                    <a:lnTo>
                      <a:pt x="135" y="112"/>
                    </a:lnTo>
                    <a:lnTo>
                      <a:pt x="126" y="123"/>
                    </a:lnTo>
                    <a:lnTo>
                      <a:pt x="119" y="135"/>
                    </a:lnTo>
                    <a:lnTo>
                      <a:pt x="113" y="148"/>
                    </a:lnTo>
                    <a:lnTo>
                      <a:pt x="103" y="176"/>
                    </a:lnTo>
                    <a:lnTo>
                      <a:pt x="99" y="207"/>
                    </a:lnTo>
                    <a:lnTo>
                      <a:pt x="97" y="238"/>
                    </a:lnTo>
                    <a:lnTo>
                      <a:pt x="96" y="267"/>
                    </a:lnTo>
                    <a:lnTo>
                      <a:pt x="96" y="512"/>
                    </a:lnTo>
                    <a:lnTo>
                      <a:pt x="0" y="512"/>
                    </a:lnTo>
                    <a:lnTo>
                      <a:pt x="0" y="15"/>
                    </a:lnTo>
                    <a:lnTo>
                      <a:pt x="96" y="15"/>
                    </a:lnTo>
                    <a:lnTo>
                      <a:pt x="96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908640" y="1022400"/>
                <a:ext cx="9082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a-DK" sz="600" spc="-1" strike="noStrike">
                    <a:solidFill>
                      <a:srgbClr val="ffffff"/>
                    </a:solidFill>
                    <a:latin typeface="Futura Bk BT"/>
                  </a:rPr>
                  <a:t>www.kirktelecom.dk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9" name=""/>
          <p:cNvSpPr/>
          <p:nvPr/>
        </p:nvSpPr>
        <p:spPr>
          <a:xfrm>
            <a:off x="2228760" y="0"/>
            <a:ext cx="76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CCFP Administration Program Ver.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0" name="" descr=""/>
          <p:cNvPicPr/>
          <p:nvPr/>
        </p:nvPicPr>
        <p:blipFill>
          <a:blip r:embed="rId2"/>
          <a:stretch/>
        </p:blipFill>
        <p:spPr>
          <a:xfrm>
            <a:off x="2724120" y="698400"/>
            <a:ext cx="6334200" cy="4457880"/>
          </a:xfrm>
          <a:prstGeom prst="rect">
            <a:avLst/>
          </a:prstGeom>
          <a:ln w="0">
            <a:noFill/>
          </a:ln>
        </p:spPr>
      </p:pic>
      <p:sp>
        <p:nvSpPr>
          <p:cNvPr id="891" name=""/>
          <p:cNvSpPr/>
          <p:nvPr/>
        </p:nvSpPr>
        <p:spPr>
          <a:xfrm>
            <a:off x="2793600" y="5683320"/>
            <a:ext cx="51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ug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смотр некоторых параметров системы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 flipV="1">
            <a:off x="3676680" y="1562040"/>
            <a:ext cx="2122560" cy="412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2331-96E4-4181-B684-87EDCAAB3BC1}" type="slidenum">
              <a:t>26</a:t>
            </a:fld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2889360" y="457200"/>
            <a:ext cx="6521400" cy="0"/>
          </a:xfrm>
          <a:prstGeom prst="line">
            <a:avLst/>
          </a:prstGeom>
          <a:ln cap="sq"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0" y="0"/>
            <a:ext cx="6129000" cy="6858000"/>
            <a:chOff x="0" y="0"/>
            <a:chExt cx="6129000" cy="6858000"/>
          </a:xfrm>
        </p:grpSpPr>
        <p:sp>
          <p:nvSpPr>
            <p:cNvPr id="895" name=""/>
            <p:cNvSpPr/>
            <p:nvPr/>
          </p:nvSpPr>
          <p:spPr>
            <a:xfrm>
              <a:off x="0" y="0"/>
              <a:ext cx="2228760" cy="3429000"/>
            </a:xfrm>
            <a:prstGeom prst="rect">
              <a:avLst/>
            </a:prstGeom>
            <a:solidFill>
              <a:srgbClr val="000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0" y="3429000"/>
              <a:ext cx="2228760" cy="3429000"/>
            </a:xfrm>
            <a:prstGeom prst="rect">
              <a:avLst/>
            </a:pr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91836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79924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9" name="" descr=""/>
            <p:cNvPicPr/>
            <p:nvPr/>
          </p:nvPicPr>
          <p:blipFill>
            <a:blip r:embed="rId1"/>
            <a:stretch/>
          </p:blipFill>
          <p:spPr>
            <a:xfrm>
              <a:off x="201240" y="2055960"/>
              <a:ext cx="1705680" cy="271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0" name=""/>
            <p:cNvGrpSpPr/>
            <p:nvPr/>
          </p:nvGrpSpPr>
          <p:grpSpPr>
            <a:xfrm>
              <a:off x="211320" y="380880"/>
              <a:ext cx="1605600" cy="821880"/>
              <a:chOff x="211320" y="380880"/>
              <a:chExt cx="1605600" cy="821880"/>
            </a:xfrm>
          </p:grpSpPr>
          <p:sp>
            <p:nvSpPr>
              <p:cNvPr id="901" name=""/>
              <p:cNvSpPr/>
              <p:nvPr/>
            </p:nvSpPr>
            <p:spPr>
              <a:xfrm>
                <a:off x="403920" y="38088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7">
                    <a:moveTo>
                      <a:pt x="29" y="1655"/>
                    </a:moveTo>
                    <a:lnTo>
                      <a:pt x="79" y="1682"/>
                    </a:lnTo>
                    <a:lnTo>
                      <a:pt x="623" y="1957"/>
                    </a:lnTo>
                    <a:lnTo>
                      <a:pt x="684" y="1987"/>
                    </a:lnTo>
                    <a:lnTo>
                      <a:pt x="687" y="1916"/>
                    </a:lnTo>
                    <a:lnTo>
                      <a:pt x="691" y="1864"/>
                    </a:lnTo>
                    <a:lnTo>
                      <a:pt x="697" y="1814"/>
                    </a:lnTo>
                    <a:lnTo>
                      <a:pt x="704" y="1763"/>
                    </a:lnTo>
                    <a:lnTo>
                      <a:pt x="713" y="1714"/>
                    </a:lnTo>
                    <a:lnTo>
                      <a:pt x="724" y="1665"/>
                    </a:lnTo>
                    <a:lnTo>
                      <a:pt x="737" y="1616"/>
                    </a:lnTo>
                    <a:lnTo>
                      <a:pt x="751" y="1569"/>
                    </a:lnTo>
                    <a:lnTo>
                      <a:pt x="767" y="1522"/>
                    </a:lnTo>
                    <a:lnTo>
                      <a:pt x="784" y="1476"/>
                    </a:lnTo>
                    <a:lnTo>
                      <a:pt x="803" y="1431"/>
                    </a:lnTo>
                    <a:lnTo>
                      <a:pt x="824" y="1386"/>
                    </a:lnTo>
                    <a:lnTo>
                      <a:pt x="846" y="1343"/>
                    </a:lnTo>
                    <a:lnTo>
                      <a:pt x="869" y="1300"/>
                    </a:lnTo>
                    <a:lnTo>
                      <a:pt x="894" y="1257"/>
                    </a:lnTo>
                    <a:lnTo>
                      <a:pt x="920" y="1217"/>
                    </a:lnTo>
                    <a:lnTo>
                      <a:pt x="948" y="1177"/>
                    </a:lnTo>
                    <a:lnTo>
                      <a:pt x="976" y="1137"/>
                    </a:lnTo>
                    <a:lnTo>
                      <a:pt x="1007" y="1100"/>
                    </a:lnTo>
                    <a:lnTo>
                      <a:pt x="1038" y="1063"/>
                    </a:lnTo>
                    <a:lnTo>
                      <a:pt x="1071" y="1027"/>
                    </a:lnTo>
                    <a:lnTo>
                      <a:pt x="1105" y="993"/>
                    </a:lnTo>
                    <a:lnTo>
                      <a:pt x="1140" y="959"/>
                    </a:lnTo>
                    <a:lnTo>
                      <a:pt x="1176" y="927"/>
                    </a:lnTo>
                    <a:lnTo>
                      <a:pt x="1213" y="896"/>
                    </a:lnTo>
                    <a:lnTo>
                      <a:pt x="1250" y="866"/>
                    </a:lnTo>
                    <a:lnTo>
                      <a:pt x="1290" y="838"/>
                    </a:lnTo>
                    <a:lnTo>
                      <a:pt x="1331" y="810"/>
                    </a:lnTo>
                    <a:lnTo>
                      <a:pt x="1372" y="785"/>
                    </a:lnTo>
                    <a:lnTo>
                      <a:pt x="1414" y="760"/>
                    </a:lnTo>
                    <a:lnTo>
                      <a:pt x="1457" y="737"/>
                    </a:lnTo>
                    <a:lnTo>
                      <a:pt x="1501" y="716"/>
                    </a:lnTo>
                    <a:lnTo>
                      <a:pt x="1546" y="696"/>
                    </a:lnTo>
                    <a:lnTo>
                      <a:pt x="1584" y="680"/>
                    </a:lnTo>
                    <a:lnTo>
                      <a:pt x="1594" y="673"/>
                    </a:lnTo>
                    <a:lnTo>
                      <a:pt x="1600" y="665"/>
                    </a:lnTo>
                    <a:lnTo>
                      <a:pt x="1604" y="658"/>
                    </a:lnTo>
                    <a:lnTo>
                      <a:pt x="1606" y="650"/>
                    </a:lnTo>
                    <a:lnTo>
                      <a:pt x="1605" y="638"/>
                    </a:lnTo>
                    <a:lnTo>
                      <a:pt x="1603" y="632"/>
                    </a:lnTo>
                    <a:lnTo>
                      <a:pt x="1586" y="586"/>
                    </a:lnTo>
                    <a:lnTo>
                      <a:pt x="1385" y="31"/>
                    </a:lnTo>
                    <a:lnTo>
                      <a:pt x="1381" y="18"/>
                    </a:lnTo>
                    <a:lnTo>
                      <a:pt x="1380" y="13"/>
                    </a:lnTo>
                    <a:lnTo>
                      <a:pt x="1372" y="5"/>
                    </a:lnTo>
                    <a:lnTo>
                      <a:pt x="1367" y="2"/>
                    </a:lnTo>
                    <a:lnTo>
                      <a:pt x="1359" y="0"/>
                    </a:lnTo>
                    <a:lnTo>
                      <a:pt x="1349" y="0"/>
                    </a:lnTo>
                    <a:lnTo>
                      <a:pt x="1337" y="3"/>
                    </a:lnTo>
                    <a:lnTo>
                      <a:pt x="1307" y="14"/>
                    </a:lnTo>
                    <a:lnTo>
                      <a:pt x="1248" y="37"/>
                    </a:lnTo>
                    <a:lnTo>
                      <a:pt x="1190" y="63"/>
                    </a:lnTo>
                    <a:lnTo>
                      <a:pt x="1133" y="89"/>
                    </a:lnTo>
                    <a:lnTo>
                      <a:pt x="1076" y="119"/>
                    </a:lnTo>
                    <a:lnTo>
                      <a:pt x="1021" y="149"/>
                    </a:lnTo>
                    <a:lnTo>
                      <a:pt x="966" y="181"/>
                    </a:lnTo>
                    <a:lnTo>
                      <a:pt x="913" y="215"/>
                    </a:lnTo>
                    <a:lnTo>
                      <a:pt x="861" y="251"/>
                    </a:lnTo>
                    <a:lnTo>
                      <a:pt x="810" y="289"/>
                    </a:lnTo>
                    <a:lnTo>
                      <a:pt x="759" y="328"/>
                    </a:lnTo>
                    <a:lnTo>
                      <a:pt x="711" y="369"/>
                    </a:lnTo>
                    <a:lnTo>
                      <a:pt x="663" y="411"/>
                    </a:lnTo>
                    <a:lnTo>
                      <a:pt x="616" y="455"/>
                    </a:lnTo>
                    <a:lnTo>
                      <a:pt x="572" y="501"/>
                    </a:lnTo>
                    <a:lnTo>
                      <a:pt x="528" y="547"/>
                    </a:lnTo>
                    <a:lnTo>
                      <a:pt x="485" y="595"/>
                    </a:lnTo>
                    <a:lnTo>
                      <a:pt x="443" y="645"/>
                    </a:lnTo>
                    <a:lnTo>
                      <a:pt x="404" y="695"/>
                    </a:lnTo>
                    <a:lnTo>
                      <a:pt x="365" y="747"/>
                    </a:lnTo>
                    <a:lnTo>
                      <a:pt x="329" y="800"/>
                    </a:lnTo>
                    <a:lnTo>
                      <a:pt x="294" y="854"/>
                    </a:lnTo>
                    <a:lnTo>
                      <a:pt x="260" y="910"/>
                    </a:lnTo>
                    <a:lnTo>
                      <a:pt x="228" y="967"/>
                    </a:lnTo>
                    <a:lnTo>
                      <a:pt x="197" y="1024"/>
                    </a:lnTo>
                    <a:lnTo>
                      <a:pt x="169" y="1084"/>
                    </a:lnTo>
                    <a:lnTo>
                      <a:pt x="142" y="1144"/>
                    </a:lnTo>
                    <a:lnTo>
                      <a:pt x="116" y="1204"/>
                    </a:lnTo>
                    <a:lnTo>
                      <a:pt x="93" y="1266"/>
                    </a:lnTo>
                    <a:lnTo>
                      <a:pt x="71" y="1329"/>
                    </a:lnTo>
                    <a:lnTo>
                      <a:pt x="52" y="1392"/>
                    </a:lnTo>
                    <a:lnTo>
                      <a:pt x="34" y="1457"/>
                    </a:lnTo>
                    <a:lnTo>
                      <a:pt x="18" y="1522"/>
                    </a:lnTo>
                    <a:lnTo>
                      <a:pt x="2" y="1593"/>
                    </a:lnTo>
                    <a:lnTo>
                      <a:pt x="0" y="1610"/>
                    </a:lnTo>
                    <a:lnTo>
                      <a:pt x="1" y="1623"/>
                    </a:lnTo>
                    <a:lnTo>
                      <a:pt x="6" y="1634"/>
                    </a:lnTo>
                    <a:lnTo>
                      <a:pt x="11" y="1643"/>
                    </a:lnTo>
                    <a:lnTo>
                      <a:pt x="17" y="1648"/>
                    </a:lnTo>
                    <a:lnTo>
                      <a:pt x="23" y="1652"/>
                    </a:lnTo>
                    <a:lnTo>
                      <a:pt x="29" y="1655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03920" y="77004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5">
                    <a:moveTo>
                      <a:pt x="29" y="333"/>
                    </a:moveTo>
                    <a:lnTo>
                      <a:pt x="79" y="306"/>
                    </a:lnTo>
                    <a:lnTo>
                      <a:pt x="623" y="31"/>
                    </a:lnTo>
                    <a:lnTo>
                      <a:pt x="684" y="0"/>
                    </a:lnTo>
                    <a:lnTo>
                      <a:pt x="687" y="72"/>
                    </a:lnTo>
                    <a:lnTo>
                      <a:pt x="691" y="123"/>
                    </a:lnTo>
                    <a:lnTo>
                      <a:pt x="697" y="174"/>
                    </a:lnTo>
                    <a:lnTo>
                      <a:pt x="704" y="224"/>
                    </a:lnTo>
                    <a:lnTo>
                      <a:pt x="713" y="273"/>
                    </a:lnTo>
                    <a:lnTo>
                      <a:pt x="724" y="323"/>
                    </a:lnTo>
                    <a:lnTo>
                      <a:pt x="737" y="371"/>
                    </a:lnTo>
                    <a:lnTo>
                      <a:pt x="751" y="418"/>
                    </a:lnTo>
                    <a:lnTo>
                      <a:pt x="767" y="465"/>
                    </a:lnTo>
                    <a:lnTo>
                      <a:pt x="784" y="512"/>
                    </a:lnTo>
                    <a:lnTo>
                      <a:pt x="803" y="557"/>
                    </a:lnTo>
                    <a:lnTo>
                      <a:pt x="824" y="602"/>
                    </a:lnTo>
                    <a:lnTo>
                      <a:pt x="846" y="645"/>
                    </a:lnTo>
                    <a:lnTo>
                      <a:pt x="869" y="688"/>
                    </a:lnTo>
                    <a:lnTo>
                      <a:pt x="894" y="730"/>
                    </a:lnTo>
                    <a:lnTo>
                      <a:pt x="920" y="771"/>
                    </a:lnTo>
                    <a:lnTo>
                      <a:pt x="948" y="811"/>
                    </a:lnTo>
                    <a:lnTo>
                      <a:pt x="976" y="850"/>
                    </a:lnTo>
                    <a:lnTo>
                      <a:pt x="1007" y="888"/>
                    </a:lnTo>
                    <a:lnTo>
                      <a:pt x="1038" y="924"/>
                    </a:lnTo>
                    <a:lnTo>
                      <a:pt x="1071" y="961"/>
                    </a:lnTo>
                    <a:lnTo>
                      <a:pt x="1105" y="995"/>
                    </a:lnTo>
                    <a:lnTo>
                      <a:pt x="1140" y="1029"/>
                    </a:lnTo>
                    <a:lnTo>
                      <a:pt x="1176" y="1061"/>
                    </a:lnTo>
                    <a:lnTo>
                      <a:pt x="1213" y="1092"/>
                    </a:lnTo>
                    <a:lnTo>
                      <a:pt x="1252" y="1122"/>
                    </a:lnTo>
                    <a:lnTo>
                      <a:pt x="1290" y="1151"/>
                    </a:lnTo>
                    <a:lnTo>
                      <a:pt x="1331" y="1177"/>
                    </a:lnTo>
                    <a:lnTo>
                      <a:pt x="1372" y="1203"/>
                    </a:lnTo>
                    <a:lnTo>
                      <a:pt x="1414" y="1227"/>
                    </a:lnTo>
                    <a:lnTo>
                      <a:pt x="1457" y="1250"/>
                    </a:lnTo>
                    <a:lnTo>
                      <a:pt x="1501" y="1271"/>
                    </a:lnTo>
                    <a:lnTo>
                      <a:pt x="1546" y="1292"/>
                    </a:lnTo>
                    <a:lnTo>
                      <a:pt x="1584" y="1308"/>
                    </a:lnTo>
                    <a:lnTo>
                      <a:pt x="1594" y="1315"/>
                    </a:lnTo>
                    <a:lnTo>
                      <a:pt x="1600" y="1323"/>
                    </a:lnTo>
                    <a:lnTo>
                      <a:pt x="1605" y="1331"/>
                    </a:lnTo>
                    <a:lnTo>
                      <a:pt x="1606" y="1337"/>
                    </a:lnTo>
                    <a:lnTo>
                      <a:pt x="1605" y="1349"/>
                    </a:lnTo>
                    <a:lnTo>
                      <a:pt x="1603" y="1355"/>
                    </a:lnTo>
                    <a:lnTo>
                      <a:pt x="1586" y="1401"/>
                    </a:lnTo>
                    <a:lnTo>
                      <a:pt x="1388" y="1950"/>
                    </a:lnTo>
                    <a:lnTo>
                      <a:pt x="1381" y="1965"/>
                    </a:lnTo>
                    <a:lnTo>
                      <a:pt x="1379" y="1970"/>
                    </a:lnTo>
                    <a:lnTo>
                      <a:pt x="1371" y="1978"/>
                    </a:lnTo>
                    <a:lnTo>
                      <a:pt x="1366" y="1983"/>
                    </a:lnTo>
                    <a:lnTo>
                      <a:pt x="1358" y="1985"/>
                    </a:lnTo>
                    <a:lnTo>
                      <a:pt x="1348" y="1985"/>
                    </a:lnTo>
                    <a:lnTo>
                      <a:pt x="1338" y="1983"/>
                    </a:lnTo>
                    <a:lnTo>
                      <a:pt x="1302" y="1969"/>
                    </a:lnTo>
                    <a:lnTo>
                      <a:pt x="1242" y="1942"/>
                    </a:lnTo>
                    <a:lnTo>
                      <a:pt x="1181" y="1915"/>
                    </a:lnTo>
                    <a:lnTo>
                      <a:pt x="1123" y="1886"/>
                    </a:lnTo>
                    <a:lnTo>
                      <a:pt x="1066" y="1857"/>
                    </a:lnTo>
                    <a:lnTo>
                      <a:pt x="1009" y="1824"/>
                    </a:lnTo>
                    <a:lnTo>
                      <a:pt x="954" y="1791"/>
                    </a:lnTo>
                    <a:lnTo>
                      <a:pt x="901" y="1756"/>
                    </a:lnTo>
                    <a:lnTo>
                      <a:pt x="848" y="1719"/>
                    </a:lnTo>
                    <a:lnTo>
                      <a:pt x="796" y="1682"/>
                    </a:lnTo>
                    <a:lnTo>
                      <a:pt x="747" y="1642"/>
                    </a:lnTo>
                    <a:lnTo>
                      <a:pt x="698" y="1602"/>
                    </a:lnTo>
                    <a:lnTo>
                      <a:pt x="650" y="1560"/>
                    </a:lnTo>
                    <a:lnTo>
                      <a:pt x="604" y="1517"/>
                    </a:lnTo>
                    <a:lnTo>
                      <a:pt x="559" y="1472"/>
                    </a:lnTo>
                    <a:lnTo>
                      <a:pt x="517" y="1426"/>
                    </a:lnTo>
                    <a:lnTo>
                      <a:pt x="475" y="1379"/>
                    </a:lnTo>
                    <a:lnTo>
                      <a:pt x="434" y="1331"/>
                    </a:lnTo>
                    <a:lnTo>
                      <a:pt x="395" y="1281"/>
                    </a:lnTo>
                    <a:lnTo>
                      <a:pt x="358" y="1230"/>
                    </a:lnTo>
                    <a:lnTo>
                      <a:pt x="323" y="1178"/>
                    </a:lnTo>
                    <a:lnTo>
                      <a:pt x="287" y="1124"/>
                    </a:lnTo>
                    <a:lnTo>
                      <a:pt x="255" y="1070"/>
                    </a:lnTo>
                    <a:lnTo>
                      <a:pt x="224" y="1014"/>
                    </a:lnTo>
                    <a:lnTo>
                      <a:pt x="194" y="957"/>
                    </a:lnTo>
                    <a:lnTo>
                      <a:pt x="166" y="900"/>
                    </a:lnTo>
                    <a:lnTo>
                      <a:pt x="139" y="841"/>
                    </a:lnTo>
                    <a:lnTo>
                      <a:pt x="115" y="781"/>
                    </a:lnTo>
                    <a:lnTo>
                      <a:pt x="92" y="720"/>
                    </a:lnTo>
                    <a:lnTo>
                      <a:pt x="71" y="658"/>
                    </a:lnTo>
                    <a:lnTo>
                      <a:pt x="52" y="595"/>
                    </a:lnTo>
                    <a:lnTo>
                      <a:pt x="34" y="530"/>
                    </a:lnTo>
                    <a:lnTo>
                      <a:pt x="18" y="465"/>
                    </a:lnTo>
                    <a:lnTo>
                      <a:pt x="3" y="394"/>
                    </a:lnTo>
                    <a:lnTo>
                      <a:pt x="0" y="378"/>
                    </a:lnTo>
                    <a:lnTo>
                      <a:pt x="1" y="364"/>
                    </a:lnTo>
                    <a:lnTo>
                      <a:pt x="6" y="353"/>
                    </a:lnTo>
                    <a:lnTo>
                      <a:pt x="11" y="346"/>
                    </a:lnTo>
                    <a:lnTo>
                      <a:pt x="17" y="339"/>
                    </a:lnTo>
                    <a:lnTo>
                      <a:pt x="23" y="336"/>
                    </a:lnTo>
                    <a:lnTo>
                      <a:pt x="29" y="333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67440" y="698400"/>
                <a:ext cx="149400" cy="147600"/>
              </a:xfrm>
              <a:custGeom>
                <a:avLst/>
                <a:gdLst/>
                <a:ahLst/>
                <a:rect l="l" t="t" r="r" b="b"/>
                <a:pathLst>
                  <a:path w="714" h="759">
                    <a:moveTo>
                      <a:pt x="699" y="379"/>
                    </a:moveTo>
                    <a:lnTo>
                      <a:pt x="706" y="375"/>
                    </a:lnTo>
                    <a:lnTo>
                      <a:pt x="710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09" y="351"/>
                    </a:lnTo>
                    <a:lnTo>
                      <a:pt x="705" y="346"/>
                    </a:lnTo>
                    <a:lnTo>
                      <a:pt x="699" y="342"/>
                    </a:lnTo>
                    <a:lnTo>
                      <a:pt x="35" y="4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3" y="11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735"/>
                    </a:lnTo>
                    <a:lnTo>
                      <a:pt x="1" y="743"/>
                    </a:lnTo>
                    <a:lnTo>
                      <a:pt x="3" y="748"/>
                    </a:lnTo>
                    <a:lnTo>
                      <a:pt x="5" y="753"/>
                    </a:lnTo>
                    <a:lnTo>
                      <a:pt x="10" y="757"/>
                    </a:lnTo>
                    <a:lnTo>
                      <a:pt x="15" y="759"/>
                    </a:lnTo>
                    <a:lnTo>
                      <a:pt x="21" y="759"/>
                    </a:lnTo>
                    <a:lnTo>
                      <a:pt x="27" y="758"/>
                    </a:lnTo>
                    <a:lnTo>
                      <a:pt x="34" y="755"/>
                    </a:lnTo>
                    <a:lnTo>
                      <a:pt x="699" y="379"/>
                    </a:lnTo>
                    <a:close/>
                  </a:path>
                </a:pathLst>
              </a:custGeom>
              <a:solidFill>
                <a:srgbClr val="00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211320" y="701640"/>
                <a:ext cx="149760" cy="146160"/>
              </a:xfrm>
              <a:custGeom>
                <a:avLst/>
                <a:gdLst/>
                <a:ahLst/>
                <a:rect l="l" t="t" r="r" b="b"/>
                <a:pathLst>
                  <a:path w="714" h="758">
                    <a:moveTo>
                      <a:pt x="701" y="379"/>
                    </a:moveTo>
                    <a:lnTo>
                      <a:pt x="706" y="374"/>
                    </a:lnTo>
                    <a:lnTo>
                      <a:pt x="711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11" y="350"/>
                    </a:lnTo>
                    <a:lnTo>
                      <a:pt x="706" y="346"/>
                    </a:lnTo>
                    <a:lnTo>
                      <a:pt x="700" y="342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0" y="734"/>
                    </a:lnTo>
                    <a:lnTo>
                      <a:pt x="1" y="742"/>
                    </a:lnTo>
                    <a:lnTo>
                      <a:pt x="3" y="749"/>
                    </a:lnTo>
                    <a:lnTo>
                      <a:pt x="7" y="753"/>
                    </a:lnTo>
                    <a:lnTo>
                      <a:pt x="10" y="756"/>
                    </a:lnTo>
                    <a:lnTo>
                      <a:pt x="15" y="758"/>
                    </a:lnTo>
                    <a:lnTo>
                      <a:pt x="21" y="758"/>
                    </a:lnTo>
                    <a:lnTo>
                      <a:pt x="27" y="757"/>
                    </a:lnTo>
                    <a:lnTo>
                      <a:pt x="34" y="754"/>
                    </a:lnTo>
                    <a:lnTo>
                      <a:pt x="701" y="379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011960" y="517680"/>
                <a:ext cx="195840" cy="250560"/>
              </a:xfrm>
              <a:custGeom>
                <a:avLst/>
                <a:gdLst/>
                <a:ahLst/>
                <a:rect l="l" t="t" r="r" b="b"/>
                <a:pathLst>
                  <a:path w="930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30" y="1293"/>
                    </a:lnTo>
                    <a:lnTo>
                      <a:pt x="713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230480" y="517680"/>
                <a:ext cx="34200" cy="25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316520" y="517680"/>
                <a:ext cx="168480" cy="250560"/>
              </a:xfrm>
              <a:custGeom>
                <a:avLst/>
                <a:gdLst/>
                <a:ahLst/>
                <a:rect l="l" t="t" r="r" b="b"/>
                <a:pathLst>
                  <a:path w="803" h="1293">
                    <a:moveTo>
                      <a:pt x="803" y="1293"/>
                    </a:moveTo>
                    <a:lnTo>
                      <a:pt x="607" y="1293"/>
                    </a:lnTo>
                    <a:lnTo>
                      <a:pt x="228" y="746"/>
                    </a:lnTo>
                    <a:lnTo>
                      <a:pt x="161" y="746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283" y="1"/>
                    </a:lnTo>
                    <a:lnTo>
                      <a:pt x="327" y="4"/>
                    </a:lnTo>
                    <a:lnTo>
                      <a:pt x="370" y="8"/>
                    </a:lnTo>
                    <a:lnTo>
                      <a:pt x="413" y="16"/>
                    </a:lnTo>
                    <a:lnTo>
                      <a:pt x="456" y="27"/>
                    </a:lnTo>
                    <a:lnTo>
                      <a:pt x="497" y="41"/>
                    </a:lnTo>
                    <a:lnTo>
                      <a:pt x="536" y="61"/>
                    </a:lnTo>
                    <a:lnTo>
                      <a:pt x="556" y="73"/>
                    </a:lnTo>
                    <a:lnTo>
                      <a:pt x="574" y="87"/>
                    </a:lnTo>
                    <a:lnTo>
                      <a:pt x="592" y="101"/>
                    </a:lnTo>
                    <a:lnTo>
                      <a:pt x="608" y="118"/>
                    </a:lnTo>
                    <a:lnTo>
                      <a:pt x="623" y="135"/>
                    </a:lnTo>
                    <a:lnTo>
                      <a:pt x="637" y="153"/>
                    </a:lnTo>
                    <a:lnTo>
                      <a:pt x="650" y="173"/>
                    </a:lnTo>
                    <a:lnTo>
                      <a:pt x="661" y="192"/>
                    </a:lnTo>
                    <a:lnTo>
                      <a:pt x="671" y="212"/>
                    </a:lnTo>
                    <a:lnTo>
                      <a:pt x="680" y="233"/>
                    </a:lnTo>
                    <a:lnTo>
                      <a:pt x="694" y="277"/>
                    </a:lnTo>
                    <a:lnTo>
                      <a:pt x="700" y="300"/>
                    </a:lnTo>
                    <a:lnTo>
                      <a:pt x="703" y="323"/>
                    </a:lnTo>
                    <a:lnTo>
                      <a:pt x="705" y="346"/>
                    </a:lnTo>
                    <a:lnTo>
                      <a:pt x="705" y="369"/>
                    </a:lnTo>
                    <a:lnTo>
                      <a:pt x="704" y="403"/>
                    </a:lnTo>
                    <a:lnTo>
                      <a:pt x="700" y="436"/>
                    </a:lnTo>
                    <a:lnTo>
                      <a:pt x="693" y="469"/>
                    </a:lnTo>
                    <a:lnTo>
                      <a:pt x="683" y="500"/>
                    </a:lnTo>
                    <a:lnTo>
                      <a:pt x="671" y="531"/>
                    </a:lnTo>
                    <a:lnTo>
                      <a:pt x="657" y="558"/>
                    </a:lnTo>
                    <a:lnTo>
                      <a:pt x="639" y="585"/>
                    </a:lnTo>
                    <a:lnTo>
                      <a:pt x="621" y="611"/>
                    </a:lnTo>
                    <a:lnTo>
                      <a:pt x="599" y="634"/>
                    </a:lnTo>
                    <a:lnTo>
                      <a:pt x="576" y="655"/>
                    </a:lnTo>
                    <a:lnTo>
                      <a:pt x="550" y="673"/>
                    </a:lnTo>
                    <a:lnTo>
                      <a:pt x="523" y="691"/>
                    </a:lnTo>
                    <a:lnTo>
                      <a:pt x="493" y="704"/>
                    </a:lnTo>
                    <a:lnTo>
                      <a:pt x="463" y="716"/>
                    </a:lnTo>
                    <a:lnTo>
                      <a:pt x="430" y="725"/>
                    </a:lnTo>
                    <a:lnTo>
                      <a:pt x="396" y="730"/>
                    </a:lnTo>
                    <a:lnTo>
                      <a:pt x="803" y="1293"/>
                    </a:lnTo>
                    <a:close/>
                    <a:moveTo>
                      <a:pt x="161" y="612"/>
                    </a:moveTo>
                    <a:lnTo>
                      <a:pt x="213" y="612"/>
                    </a:lnTo>
                    <a:lnTo>
                      <a:pt x="274" y="611"/>
                    </a:lnTo>
                    <a:lnTo>
                      <a:pt x="335" y="604"/>
                    </a:lnTo>
                    <a:lnTo>
                      <a:pt x="365" y="599"/>
                    </a:lnTo>
                    <a:lnTo>
                      <a:pt x="393" y="591"/>
                    </a:lnTo>
                    <a:lnTo>
                      <a:pt x="420" y="582"/>
                    </a:lnTo>
                    <a:lnTo>
                      <a:pt x="445" y="571"/>
                    </a:lnTo>
                    <a:lnTo>
                      <a:pt x="469" y="557"/>
                    </a:lnTo>
                    <a:lnTo>
                      <a:pt x="490" y="540"/>
                    </a:lnTo>
                    <a:lnTo>
                      <a:pt x="509" y="522"/>
                    </a:lnTo>
                    <a:lnTo>
                      <a:pt x="524" y="499"/>
                    </a:lnTo>
                    <a:lnTo>
                      <a:pt x="537" y="473"/>
                    </a:lnTo>
                    <a:lnTo>
                      <a:pt x="547" y="445"/>
                    </a:lnTo>
                    <a:lnTo>
                      <a:pt x="553" y="412"/>
                    </a:lnTo>
                    <a:lnTo>
                      <a:pt x="555" y="376"/>
                    </a:lnTo>
                    <a:lnTo>
                      <a:pt x="553" y="339"/>
                    </a:lnTo>
                    <a:lnTo>
                      <a:pt x="546" y="308"/>
                    </a:lnTo>
                    <a:lnTo>
                      <a:pt x="536" y="279"/>
                    </a:lnTo>
                    <a:lnTo>
                      <a:pt x="523" y="254"/>
                    </a:lnTo>
                    <a:lnTo>
                      <a:pt x="505" y="232"/>
                    </a:lnTo>
                    <a:lnTo>
                      <a:pt x="486" y="213"/>
                    </a:lnTo>
                    <a:lnTo>
                      <a:pt x="464" y="198"/>
                    </a:lnTo>
                    <a:lnTo>
                      <a:pt x="440" y="184"/>
                    </a:lnTo>
                    <a:lnTo>
                      <a:pt x="413" y="173"/>
                    </a:lnTo>
                    <a:lnTo>
                      <a:pt x="385" y="164"/>
                    </a:lnTo>
                    <a:lnTo>
                      <a:pt x="356" y="157"/>
                    </a:lnTo>
                    <a:lnTo>
                      <a:pt x="325" y="152"/>
                    </a:lnTo>
                    <a:lnTo>
                      <a:pt x="296" y="148"/>
                    </a:lnTo>
                    <a:lnTo>
                      <a:pt x="265" y="146"/>
                    </a:lnTo>
                    <a:lnTo>
                      <a:pt x="204" y="144"/>
                    </a:lnTo>
                    <a:lnTo>
                      <a:pt x="161" y="144"/>
                    </a:lnTo>
                    <a:lnTo>
                      <a:pt x="161" y="6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502280" y="517680"/>
                <a:ext cx="196200" cy="250560"/>
              </a:xfrm>
              <a:custGeom>
                <a:avLst/>
                <a:gdLst/>
                <a:ahLst/>
                <a:rect l="l" t="t" r="r" b="b"/>
                <a:pathLst>
                  <a:path w="929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29" y="1293"/>
                    </a:lnTo>
                    <a:lnTo>
                      <a:pt x="712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999720" y="847800"/>
                <a:ext cx="54720" cy="133200"/>
              </a:xfrm>
              <a:custGeom>
                <a:avLst/>
                <a:gdLst/>
                <a:ahLst/>
                <a:rect l="l" t="t" r="r" b="b"/>
                <a:pathLst>
                  <a:path w="264" h="687">
                    <a:moveTo>
                      <a:pt x="169" y="687"/>
                    </a:moveTo>
                    <a:lnTo>
                      <a:pt x="74" y="687"/>
                    </a:lnTo>
                    <a:lnTo>
                      <a:pt x="74" y="279"/>
                    </a:lnTo>
                    <a:lnTo>
                      <a:pt x="0" y="279"/>
                    </a:lnTo>
                    <a:lnTo>
                      <a:pt x="0" y="190"/>
                    </a:lnTo>
                    <a:lnTo>
                      <a:pt x="74" y="190"/>
                    </a:lnTo>
                    <a:lnTo>
                      <a:pt x="74" y="0"/>
                    </a:lnTo>
                    <a:lnTo>
                      <a:pt x="169" y="0"/>
                    </a:lnTo>
                    <a:lnTo>
                      <a:pt x="169" y="190"/>
                    </a:lnTo>
                    <a:lnTo>
                      <a:pt x="264" y="190"/>
                    </a:lnTo>
                    <a:lnTo>
                      <a:pt x="264" y="279"/>
                    </a:lnTo>
                    <a:lnTo>
                      <a:pt x="169" y="279"/>
                    </a:lnTo>
                    <a:lnTo>
                      <a:pt x="169" y="6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058400" y="882720"/>
                <a:ext cx="9936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5" y="280"/>
                    </a:moveTo>
                    <a:lnTo>
                      <a:pt x="98" y="311"/>
                    </a:lnTo>
                    <a:lnTo>
                      <a:pt x="106" y="341"/>
                    </a:lnTo>
                    <a:lnTo>
                      <a:pt x="119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8" y="415"/>
                    </a:lnTo>
                    <a:lnTo>
                      <a:pt x="170" y="423"/>
                    </a:lnTo>
                    <a:lnTo>
                      <a:pt x="184" y="431"/>
                    </a:lnTo>
                    <a:lnTo>
                      <a:pt x="197" y="437"/>
                    </a:lnTo>
                    <a:lnTo>
                      <a:pt x="213" y="441"/>
                    </a:lnTo>
                    <a:lnTo>
                      <a:pt x="229" y="443"/>
                    </a:lnTo>
                    <a:lnTo>
                      <a:pt x="245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5" y="430"/>
                    </a:lnTo>
                    <a:lnTo>
                      <a:pt x="333" y="418"/>
                    </a:lnTo>
                    <a:lnTo>
                      <a:pt x="351" y="405"/>
                    </a:lnTo>
                    <a:lnTo>
                      <a:pt x="366" y="388"/>
                    </a:lnTo>
                    <a:lnTo>
                      <a:pt x="380" y="368"/>
                    </a:lnTo>
                    <a:lnTo>
                      <a:pt x="394" y="348"/>
                    </a:lnTo>
                    <a:lnTo>
                      <a:pt x="475" y="394"/>
                    </a:lnTo>
                    <a:lnTo>
                      <a:pt x="455" y="424"/>
                    </a:lnTo>
                    <a:lnTo>
                      <a:pt x="433" y="451"/>
                    </a:lnTo>
                    <a:lnTo>
                      <a:pt x="407" y="474"/>
                    </a:lnTo>
                    <a:lnTo>
                      <a:pt x="378" y="494"/>
                    </a:lnTo>
                    <a:lnTo>
                      <a:pt x="347" y="509"/>
                    </a:lnTo>
                    <a:lnTo>
                      <a:pt x="315" y="520"/>
                    </a:lnTo>
                    <a:lnTo>
                      <a:pt x="279" y="528"/>
                    </a:lnTo>
                    <a:lnTo>
                      <a:pt x="244" y="530"/>
                    </a:lnTo>
                    <a:lnTo>
                      <a:pt x="217" y="528"/>
                    </a:lnTo>
                    <a:lnTo>
                      <a:pt x="191" y="524"/>
                    </a:lnTo>
                    <a:lnTo>
                      <a:pt x="165" y="518"/>
                    </a:lnTo>
                    <a:lnTo>
                      <a:pt x="142" y="509"/>
                    </a:lnTo>
                    <a:lnTo>
                      <a:pt x="120" y="498"/>
                    </a:lnTo>
                    <a:lnTo>
                      <a:pt x="101" y="485"/>
                    </a:lnTo>
                    <a:lnTo>
                      <a:pt x="82" y="471"/>
                    </a:lnTo>
                    <a:lnTo>
                      <a:pt x="66" y="454"/>
                    </a:lnTo>
                    <a:lnTo>
                      <a:pt x="50" y="435"/>
                    </a:lnTo>
                    <a:lnTo>
                      <a:pt x="37" y="416"/>
                    </a:lnTo>
                    <a:lnTo>
                      <a:pt x="26" y="394"/>
                    </a:lnTo>
                    <a:lnTo>
                      <a:pt x="16" y="371"/>
                    </a:lnTo>
                    <a:lnTo>
                      <a:pt x="10" y="346"/>
                    </a:lnTo>
                    <a:lnTo>
                      <a:pt x="4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4" y="213"/>
                    </a:lnTo>
                    <a:lnTo>
                      <a:pt x="9" y="186"/>
                    </a:lnTo>
                    <a:lnTo>
                      <a:pt x="15" y="161"/>
                    </a:lnTo>
                    <a:lnTo>
                      <a:pt x="24" y="138"/>
                    </a:lnTo>
                    <a:lnTo>
                      <a:pt x="34" y="116"/>
                    </a:lnTo>
                    <a:lnTo>
                      <a:pt x="47" y="95"/>
                    </a:lnTo>
                    <a:lnTo>
                      <a:pt x="61" y="76"/>
                    </a:lnTo>
                    <a:lnTo>
                      <a:pt x="77" y="60"/>
                    </a:lnTo>
                    <a:lnTo>
                      <a:pt x="95" y="45"/>
                    </a:lnTo>
                    <a:lnTo>
                      <a:pt x="115" y="31"/>
                    </a:lnTo>
                    <a:lnTo>
                      <a:pt x="137" y="20"/>
                    </a:lnTo>
                    <a:lnTo>
                      <a:pt x="160" y="12"/>
                    </a:lnTo>
                    <a:lnTo>
                      <a:pt x="185" y="5"/>
                    </a:lnTo>
                    <a:lnTo>
                      <a:pt x="213" y="2"/>
                    </a:lnTo>
                    <a:lnTo>
                      <a:pt x="242" y="0"/>
                    </a:lnTo>
                    <a:lnTo>
                      <a:pt x="271" y="2"/>
                    </a:lnTo>
                    <a:lnTo>
                      <a:pt x="297" y="5"/>
                    </a:lnTo>
                    <a:lnTo>
                      <a:pt x="322" y="12"/>
                    </a:lnTo>
                    <a:lnTo>
                      <a:pt x="345" y="20"/>
                    </a:lnTo>
                    <a:lnTo>
                      <a:pt x="366" y="31"/>
                    </a:lnTo>
                    <a:lnTo>
                      <a:pt x="385" y="45"/>
                    </a:lnTo>
                    <a:lnTo>
                      <a:pt x="402" y="60"/>
                    </a:lnTo>
                    <a:lnTo>
                      <a:pt x="418" y="76"/>
                    </a:lnTo>
                    <a:lnTo>
                      <a:pt x="431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0" y="161"/>
                    </a:lnTo>
                    <a:lnTo>
                      <a:pt x="467" y="185"/>
                    </a:lnTo>
                    <a:lnTo>
                      <a:pt x="471" y="210"/>
                    </a:lnTo>
                    <a:lnTo>
                      <a:pt x="474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5" y="280"/>
                    </a:lnTo>
                    <a:close/>
                    <a:moveTo>
                      <a:pt x="379" y="207"/>
                    </a:moveTo>
                    <a:lnTo>
                      <a:pt x="373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5" y="117"/>
                    </a:lnTo>
                    <a:lnTo>
                      <a:pt x="316" y="103"/>
                    </a:lnTo>
                    <a:lnTo>
                      <a:pt x="294" y="92"/>
                    </a:lnTo>
                    <a:lnTo>
                      <a:pt x="270" y="85"/>
                    </a:lnTo>
                    <a:lnTo>
                      <a:pt x="242" y="83"/>
                    </a:lnTo>
                    <a:lnTo>
                      <a:pt x="215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1" y="137"/>
                    </a:lnTo>
                    <a:lnTo>
                      <a:pt x="117" y="158"/>
                    </a:lnTo>
                    <a:lnTo>
                      <a:pt x="107" y="182"/>
                    </a:lnTo>
                    <a:lnTo>
                      <a:pt x="101" y="207"/>
                    </a:lnTo>
                    <a:lnTo>
                      <a:pt x="379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177200" y="846000"/>
                <a:ext cx="2052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211400" y="882720"/>
                <a:ext cx="9972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7" y="280"/>
                    </a:moveTo>
                    <a:lnTo>
                      <a:pt x="99" y="311"/>
                    </a:lnTo>
                    <a:lnTo>
                      <a:pt x="108" y="341"/>
                    </a:lnTo>
                    <a:lnTo>
                      <a:pt x="120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9" y="415"/>
                    </a:lnTo>
                    <a:lnTo>
                      <a:pt x="171" y="423"/>
                    </a:lnTo>
                    <a:lnTo>
                      <a:pt x="185" y="431"/>
                    </a:lnTo>
                    <a:lnTo>
                      <a:pt x="199" y="437"/>
                    </a:lnTo>
                    <a:lnTo>
                      <a:pt x="213" y="441"/>
                    </a:lnTo>
                    <a:lnTo>
                      <a:pt x="230" y="443"/>
                    </a:lnTo>
                    <a:lnTo>
                      <a:pt x="246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6" y="430"/>
                    </a:lnTo>
                    <a:lnTo>
                      <a:pt x="335" y="418"/>
                    </a:lnTo>
                    <a:lnTo>
                      <a:pt x="351" y="405"/>
                    </a:lnTo>
                    <a:lnTo>
                      <a:pt x="367" y="388"/>
                    </a:lnTo>
                    <a:lnTo>
                      <a:pt x="381" y="368"/>
                    </a:lnTo>
                    <a:lnTo>
                      <a:pt x="395" y="348"/>
                    </a:lnTo>
                    <a:lnTo>
                      <a:pt x="475" y="394"/>
                    </a:lnTo>
                    <a:lnTo>
                      <a:pt x="457" y="424"/>
                    </a:lnTo>
                    <a:lnTo>
                      <a:pt x="434" y="451"/>
                    </a:lnTo>
                    <a:lnTo>
                      <a:pt x="407" y="474"/>
                    </a:lnTo>
                    <a:lnTo>
                      <a:pt x="379" y="494"/>
                    </a:lnTo>
                    <a:lnTo>
                      <a:pt x="348" y="509"/>
                    </a:lnTo>
                    <a:lnTo>
                      <a:pt x="315" y="520"/>
                    </a:lnTo>
                    <a:lnTo>
                      <a:pt x="281" y="528"/>
                    </a:lnTo>
                    <a:lnTo>
                      <a:pt x="245" y="530"/>
                    </a:lnTo>
                    <a:lnTo>
                      <a:pt x="218" y="528"/>
                    </a:lnTo>
                    <a:lnTo>
                      <a:pt x="191" y="524"/>
                    </a:lnTo>
                    <a:lnTo>
                      <a:pt x="166" y="518"/>
                    </a:lnTo>
                    <a:lnTo>
                      <a:pt x="143" y="509"/>
                    </a:lnTo>
                    <a:lnTo>
                      <a:pt x="121" y="498"/>
                    </a:lnTo>
                    <a:lnTo>
                      <a:pt x="101" y="485"/>
                    </a:lnTo>
                    <a:lnTo>
                      <a:pt x="83" y="471"/>
                    </a:lnTo>
                    <a:lnTo>
                      <a:pt x="66" y="454"/>
                    </a:lnTo>
                    <a:lnTo>
                      <a:pt x="51" y="435"/>
                    </a:lnTo>
                    <a:lnTo>
                      <a:pt x="38" y="416"/>
                    </a:lnTo>
                    <a:lnTo>
                      <a:pt x="27" y="394"/>
                    </a:lnTo>
                    <a:lnTo>
                      <a:pt x="18" y="371"/>
                    </a:lnTo>
                    <a:lnTo>
                      <a:pt x="10" y="346"/>
                    </a:lnTo>
                    <a:lnTo>
                      <a:pt x="5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5" y="213"/>
                    </a:lnTo>
                    <a:lnTo>
                      <a:pt x="9" y="186"/>
                    </a:lnTo>
                    <a:lnTo>
                      <a:pt x="16" y="161"/>
                    </a:lnTo>
                    <a:lnTo>
                      <a:pt x="24" y="138"/>
                    </a:lnTo>
                    <a:lnTo>
                      <a:pt x="35" y="116"/>
                    </a:lnTo>
                    <a:lnTo>
                      <a:pt x="48" y="95"/>
                    </a:lnTo>
                    <a:lnTo>
                      <a:pt x="62" y="76"/>
                    </a:lnTo>
                    <a:lnTo>
                      <a:pt x="78" y="60"/>
                    </a:lnTo>
                    <a:lnTo>
                      <a:pt x="96" y="45"/>
                    </a:lnTo>
                    <a:lnTo>
                      <a:pt x="116" y="31"/>
                    </a:lnTo>
                    <a:lnTo>
                      <a:pt x="137" y="20"/>
                    </a:lnTo>
                    <a:lnTo>
                      <a:pt x="162" y="12"/>
                    </a:lnTo>
                    <a:lnTo>
                      <a:pt x="187" y="5"/>
                    </a:lnTo>
                    <a:lnTo>
                      <a:pt x="214" y="2"/>
                    </a:lnTo>
                    <a:lnTo>
                      <a:pt x="243" y="0"/>
                    </a:lnTo>
                    <a:lnTo>
                      <a:pt x="271" y="2"/>
                    </a:lnTo>
                    <a:lnTo>
                      <a:pt x="299" y="5"/>
                    </a:lnTo>
                    <a:lnTo>
                      <a:pt x="323" y="12"/>
                    </a:lnTo>
                    <a:lnTo>
                      <a:pt x="346" y="20"/>
                    </a:lnTo>
                    <a:lnTo>
                      <a:pt x="367" y="31"/>
                    </a:lnTo>
                    <a:lnTo>
                      <a:pt x="386" y="45"/>
                    </a:lnTo>
                    <a:lnTo>
                      <a:pt x="403" y="60"/>
                    </a:lnTo>
                    <a:lnTo>
                      <a:pt x="418" y="76"/>
                    </a:lnTo>
                    <a:lnTo>
                      <a:pt x="432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1" y="161"/>
                    </a:lnTo>
                    <a:lnTo>
                      <a:pt x="468" y="185"/>
                    </a:lnTo>
                    <a:lnTo>
                      <a:pt x="472" y="210"/>
                    </a:lnTo>
                    <a:lnTo>
                      <a:pt x="475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7" y="280"/>
                    </a:lnTo>
                    <a:close/>
                    <a:moveTo>
                      <a:pt x="380" y="207"/>
                    </a:moveTo>
                    <a:lnTo>
                      <a:pt x="374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6" y="117"/>
                    </a:lnTo>
                    <a:lnTo>
                      <a:pt x="317" y="103"/>
                    </a:lnTo>
                    <a:lnTo>
                      <a:pt x="295" y="92"/>
                    </a:lnTo>
                    <a:lnTo>
                      <a:pt x="270" y="85"/>
                    </a:lnTo>
                    <a:lnTo>
                      <a:pt x="243" y="83"/>
                    </a:lnTo>
                    <a:lnTo>
                      <a:pt x="216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2" y="137"/>
                    </a:lnTo>
                    <a:lnTo>
                      <a:pt x="119" y="158"/>
                    </a:lnTo>
                    <a:lnTo>
                      <a:pt x="108" y="182"/>
                    </a:lnTo>
                    <a:lnTo>
                      <a:pt x="101" y="207"/>
                    </a:lnTo>
                    <a:lnTo>
                      <a:pt x="380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1326960" y="882720"/>
                <a:ext cx="84240" cy="101520"/>
              </a:xfrm>
              <a:custGeom>
                <a:avLst/>
                <a:gdLst/>
                <a:ahLst/>
                <a:rect l="l" t="t" r="r" b="b"/>
                <a:pathLst>
                  <a:path w="404" h="530">
                    <a:moveTo>
                      <a:pt x="404" y="157"/>
                    </a:moveTo>
                    <a:lnTo>
                      <a:pt x="389" y="141"/>
                    </a:lnTo>
                    <a:lnTo>
                      <a:pt x="373" y="127"/>
                    </a:lnTo>
                    <a:lnTo>
                      <a:pt x="358" y="116"/>
                    </a:lnTo>
                    <a:lnTo>
                      <a:pt x="340" y="106"/>
                    </a:lnTo>
                    <a:lnTo>
                      <a:pt x="321" y="99"/>
                    </a:lnTo>
                    <a:lnTo>
                      <a:pt x="303" y="94"/>
                    </a:lnTo>
                    <a:lnTo>
                      <a:pt x="283" y="91"/>
                    </a:lnTo>
                    <a:lnTo>
                      <a:pt x="261" y="90"/>
                    </a:lnTo>
                    <a:lnTo>
                      <a:pt x="245" y="91"/>
                    </a:lnTo>
                    <a:lnTo>
                      <a:pt x="227" y="93"/>
                    </a:lnTo>
                    <a:lnTo>
                      <a:pt x="212" y="97"/>
                    </a:lnTo>
                    <a:lnTo>
                      <a:pt x="196" y="104"/>
                    </a:lnTo>
                    <a:lnTo>
                      <a:pt x="182" y="112"/>
                    </a:lnTo>
                    <a:lnTo>
                      <a:pt x="168" y="120"/>
                    </a:lnTo>
                    <a:lnTo>
                      <a:pt x="156" y="130"/>
                    </a:lnTo>
                    <a:lnTo>
                      <a:pt x="144" y="142"/>
                    </a:lnTo>
                    <a:lnTo>
                      <a:pt x="133" y="154"/>
                    </a:lnTo>
                    <a:lnTo>
                      <a:pt x="124" y="169"/>
                    </a:lnTo>
                    <a:lnTo>
                      <a:pt x="115" y="183"/>
                    </a:lnTo>
                    <a:lnTo>
                      <a:pt x="109" y="198"/>
                    </a:lnTo>
                    <a:lnTo>
                      <a:pt x="103" y="214"/>
                    </a:lnTo>
                    <a:lnTo>
                      <a:pt x="99" y="230"/>
                    </a:lnTo>
                    <a:lnTo>
                      <a:pt x="97" y="247"/>
                    </a:lnTo>
                    <a:lnTo>
                      <a:pt x="96" y="264"/>
                    </a:lnTo>
                    <a:lnTo>
                      <a:pt x="97" y="283"/>
                    </a:lnTo>
                    <a:lnTo>
                      <a:pt x="99" y="300"/>
                    </a:lnTo>
                    <a:lnTo>
                      <a:pt x="103" y="318"/>
                    </a:lnTo>
                    <a:lnTo>
                      <a:pt x="109" y="334"/>
                    </a:lnTo>
                    <a:lnTo>
                      <a:pt x="115" y="350"/>
                    </a:lnTo>
                    <a:lnTo>
                      <a:pt x="124" y="364"/>
                    </a:lnTo>
                    <a:lnTo>
                      <a:pt x="133" y="378"/>
                    </a:lnTo>
                    <a:lnTo>
                      <a:pt x="144" y="390"/>
                    </a:lnTo>
                    <a:lnTo>
                      <a:pt x="156" y="401"/>
                    </a:lnTo>
                    <a:lnTo>
                      <a:pt x="169" y="411"/>
                    </a:lnTo>
                    <a:lnTo>
                      <a:pt x="183" y="420"/>
                    </a:lnTo>
                    <a:lnTo>
                      <a:pt x="199" y="427"/>
                    </a:lnTo>
                    <a:lnTo>
                      <a:pt x="215" y="432"/>
                    </a:lnTo>
                    <a:lnTo>
                      <a:pt x="232" y="437"/>
                    </a:lnTo>
                    <a:lnTo>
                      <a:pt x="249" y="439"/>
                    </a:lnTo>
                    <a:lnTo>
                      <a:pt x="268" y="440"/>
                    </a:lnTo>
                    <a:lnTo>
                      <a:pt x="289" y="439"/>
                    </a:lnTo>
                    <a:lnTo>
                      <a:pt x="307" y="435"/>
                    </a:lnTo>
                    <a:lnTo>
                      <a:pt x="326" y="430"/>
                    </a:lnTo>
                    <a:lnTo>
                      <a:pt x="343" y="422"/>
                    </a:lnTo>
                    <a:lnTo>
                      <a:pt x="360" y="412"/>
                    </a:lnTo>
                    <a:lnTo>
                      <a:pt x="375" y="401"/>
                    </a:lnTo>
                    <a:lnTo>
                      <a:pt x="389" y="388"/>
                    </a:lnTo>
                    <a:lnTo>
                      <a:pt x="404" y="374"/>
                    </a:lnTo>
                    <a:lnTo>
                      <a:pt x="404" y="497"/>
                    </a:lnTo>
                    <a:lnTo>
                      <a:pt x="371" y="511"/>
                    </a:lnTo>
                    <a:lnTo>
                      <a:pt x="338" y="522"/>
                    </a:lnTo>
                    <a:lnTo>
                      <a:pt x="303" y="528"/>
                    </a:lnTo>
                    <a:lnTo>
                      <a:pt x="267" y="530"/>
                    </a:lnTo>
                    <a:lnTo>
                      <a:pt x="239" y="528"/>
                    </a:lnTo>
                    <a:lnTo>
                      <a:pt x="213" y="524"/>
                    </a:lnTo>
                    <a:lnTo>
                      <a:pt x="188" y="518"/>
                    </a:lnTo>
                    <a:lnTo>
                      <a:pt x="164" y="509"/>
                    </a:lnTo>
                    <a:lnTo>
                      <a:pt x="140" y="499"/>
                    </a:lnTo>
                    <a:lnTo>
                      <a:pt x="119" y="486"/>
                    </a:lnTo>
                    <a:lnTo>
                      <a:pt x="98" y="472"/>
                    </a:lnTo>
                    <a:lnTo>
                      <a:pt x="79" y="454"/>
                    </a:lnTo>
                    <a:lnTo>
                      <a:pt x="62" y="437"/>
                    </a:lnTo>
                    <a:lnTo>
                      <a:pt x="46" y="416"/>
                    </a:lnTo>
                    <a:lnTo>
                      <a:pt x="33" y="395"/>
                    </a:lnTo>
                    <a:lnTo>
                      <a:pt x="21" y="372"/>
                    </a:lnTo>
                    <a:lnTo>
                      <a:pt x="12" y="348"/>
                    </a:lnTo>
                    <a:lnTo>
                      <a:pt x="6" y="322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6" y="213"/>
                    </a:lnTo>
                    <a:lnTo>
                      <a:pt x="12" y="186"/>
                    </a:lnTo>
                    <a:lnTo>
                      <a:pt x="21" y="161"/>
                    </a:lnTo>
                    <a:lnTo>
                      <a:pt x="33" y="138"/>
                    </a:lnTo>
                    <a:lnTo>
                      <a:pt x="46" y="115"/>
                    </a:lnTo>
                    <a:lnTo>
                      <a:pt x="62" y="95"/>
                    </a:lnTo>
                    <a:lnTo>
                      <a:pt x="79" y="76"/>
                    </a:lnTo>
                    <a:lnTo>
                      <a:pt x="98" y="59"/>
                    </a:lnTo>
                    <a:lnTo>
                      <a:pt x="119" y="45"/>
                    </a:lnTo>
                    <a:lnTo>
                      <a:pt x="142" y="31"/>
                    </a:lnTo>
                    <a:lnTo>
                      <a:pt x="165" y="20"/>
                    </a:lnTo>
                    <a:lnTo>
                      <a:pt x="190" y="12"/>
                    </a:lnTo>
                    <a:lnTo>
                      <a:pt x="216" y="5"/>
                    </a:lnTo>
                    <a:lnTo>
                      <a:pt x="244" y="2"/>
                    </a:lnTo>
                    <a:lnTo>
                      <a:pt x="272" y="0"/>
                    </a:lnTo>
                    <a:lnTo>
                      <a:pt x="306" y="2"/>
                    </a:lnTo>
                    <a:lnTo>
                      <a:pt x="340" y="8"/>
                    </a:lnTo>
                    <a:lnTo>
                      <a:pt x="373" y="18"/>
                    </a:lnTo>
                    <a:lnTo>
                      <a:pt x="404" y="32"/>
                    </a:lnTo>
                    <a:lnTo>
                      <a:pt x="404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423440" y="882720"/>
                <a:ext cx="111600" cy="101520"/>
              </a:xfrm>
              <a:custGeom>
                <a:avLst/>
                <a:gdLst/>
                <a:ahLst/>
                <a:rect l="l" t="t" r="r" b="b"/>
                <a:pathLst>
                  <a:path w="532" h="530">
                    <a:moveTo>
                      <a:pt x="532" y="264"/>
                    </a:moveTo>
                    <a:lnTo>
                      <a:pt x="530" y="293"/>
                    </a:lnTo>
                    <a:lnTo>
                      <a:pt x="527" y="319"/>
                    </a:lnTo>
                    <a:lnTo>
                      <a:pt x="520" y="344"/>
                    </a:lnTo>
                    <a:lnTo>
                      <a:pt x="511" y="370"/>
                    </a:lnTo>
                    <a:lnTo>
                      <a:pt x="501" y="393"/>
                    </a:lnTo>
                    <a:lnTo>
                      <a:pt x="487" y="415"/>
                    </a:lnTo>
                    <a:lnTo>
                      <a:pt x="472" y="434"/>
                    </a:lnTo>
                    <a:lnTo>
                      <a:pt x="454" y="453"/>
                    </a:lnTo>
                    <a:lnTo>
                      <a:pt x="436" y="471"/>
                    </a:lnTo>
                    <a:lnTo>
                      <a:pt x="416" y="485"/>
                    </a:lnTo>
                    <a:lnTo>
                      <a:pt x="394" y="498"/>
                    </a:lnTo>
                    <a:lnTo>
                      <a:pt x="370" y="509"/>
                    </a:lnTo>
                    <a:lnTo>
                      <a:pt x="346" y="518"/>
                    </a:lnTo>
                    <a:lnTo>
                      <a:pt x="321" y="524"/>
                    </a:lnTo>
                    <a:lnTo>
                      <a:pt x="293" y="528"/>
                    </a:lnTo>
                    <a:lnTo>
                      <a:pt x="266" y="530"/>
                    </a:lnTo>
                    <a:lnTo>
                      <a:pt x="238" y="528"/>
                    </a:lnTo>
                    <a:lnTo>
                      <a:pt x="212" y="524"/>
                    </a:lnTo>
                    <a:lnTo>
                      <a:pt x="187" y="518"/>
                    </a:lnTo>
                    <a:lnTo>
                      <a:pt x="162" y="509"/>
                    </a:lnTo>
                    <a:lnTo>
                      <a:pt x="139" y="498"/>
                    </a:lnTo>
                    <a:lnTo>
                      <a:pt x="117" y="485"/>
                    </a:lnTo>
                    <a:lnTo>
                      <a:pt x="97" y="471"/>
                    </a:lnTo>
                    <a:lnTo>
                      <a:pt x="78" y="453"/>
                    </a:lnTo>
                    <a:lnTo>
                      <a:pt x="61" y="434"/>
                    </a:lnTo>
                    <a:lnTo>
                      <a:pt x="45" y="415"/>
                    </a:lnTo>
                    <a:lnTo>
                      <a:pt x="32" y="393"/>
                    </a:lnTo>
                    <a:lnTo>
                      <a:pt x="21" y="370"/>
                    </a:lnTo>
                    <a:lnTo>
                      <a:pt x="12" y="344"/>
                    </a:lnTo>
                    <a:lnTo>
                      <a:pt x="6" y="319"/>
                    </a:lnTo>
                    <a:lnTo>
                      <a:pt x="3" y="293"/>
                    </a:lnTo>
                    <a:lnTo>
                      <a:pt x="0" y="264"/>
                    </a:lnTo>
                    <a:lnTo>
                      <a:pt x="3" y="237"/>
                    </a:lnTo>
                    <a:lnTo>
                      <a:pt x="6" y="210"/>
                    </a:lnTo>
                    <a:lnTo>
                      <a:pt x="12" y="185"/>
                    </a:lnTo>
                    <a:lnTo>
                      <a:pt x="21" y="160"/>
                    </a:lnTo>
                    <a:lnTo>
                      <a:pt x="32" y="137"/>
                    </a:lnTo>
                    <a:lnTo>
                      <a:pt x="45" y="115"/>
                    </a:lnTo>
                    <a:lnTo>
                      <a:pt x="61" y="95"/>
                    </a:lnTo>
                    <a:lnTo>
                      <a:pt x="78" y="76"/>
                    </a:lnTo>
                    <a:lnTo>
                      <a:pt x="97" y="59"/>
                    </a:lnTo>
                    <a:lnTo>
                      <a:pt x="117" y="45"/>
                    </a:lnTo>
                    <a:lnTo>
                      <a:pt x="139" y="31"/>
                    </a:lnTo>
                    <a:lnTo>
                      <a:pt x="162" y="20"/>
                    </a:lnTo>
                    <a:lnTo>
                      <a:pt x="187" y="12"/>
                    </a:lnTo>
                    <a:lnTo>
                      <a:pt x="212" y="5"/>
                    </a:lnTo>
                    <a:lnTo>
                      <a:pt x="238" y="2"/>
                    </a:lnTo>
                    <a:lnTo>
                      <a:pt x="266" y="0"/>
                    </a:lnTo>
                    <a:lnTo>
                      <a:pt x="293" y="2"/>
                    </a:lnTo>
                    <a:lnTo>
                      <a:pt x="321" y="5"/>
                    </a:lnTo>
                    <a:lnTo>
                      <a:pt x="346" y="12"/>
                    </a:lnTo>
                    <a:lnTo>
                      <a:pt x="370" y="20"/>
                    </a:lnTo>
                    <a:lnTo>
                      <a:pt x="394" y="31"/>
                    </a:lnTo>
                    <a:lnTo>
                      <a:pt x="416" y="45"/>
                    </a:lnTo>
                    <a:lnTo>
                      <a:pt x="436" y="59"/>
                    </a:lnTo>
                    <a:lnTo>
                      <a:pt x="454" y="76"/>
                    </a:lnTo>
                    <a:lnTo>
                      <a:pt x="472" y="95"/>
                    </a:lnTo>
                    <a:lnTo>
                      <a:pt x="487" y="115"/>
                    </a:lnTo>
                    <a:lnTo>
                      <a:pt x="501" y="137"/>
                    </a:lnTo>
                    <a:lnTo>
                      <a:pt x="511" y="160"/>
                    </a:lnTo>
                    <a:lnTo>
                      <a:pt x="520" y="185"/>
                    </a:lnTo>
                    <a:lnTo>
                      <a:pt x="527" y="210"/>
                    </a:lnTo>
                    <a:lnTo>
                      <a:pt x="530" y="237"/>
                    </a:lnTo>
                    <a:lnTo>
                      <a:pt x="532" y="264"/>
                    </a:lnTo>
                    <a:close/>
                    <a:moveTo>
                      <a:pt x="96" y="264"/>
                    </a:moveTo>
                    <a:lnTo>
                      <a:pt x="97" y="282"/>
                    </a:lnTo>
                    <a:lnTo>
                      <a:pt x="100" y="299"/>
                    </a:lnTo>
                    <a:lnTo>
                      <a:pt x="103" y="316"/>
                    </a:lnTo>
                    <a:lnTo>
                      <a:pt x="110" y="331"/>
                    </a:lnTo>
                    <a:lnTo>
                      <a:pt x="117" y="346"/>
                    </a:lnTo>
                    <a:lnTo>
                      <a:pt x="125" y="361"/>
                    </a:lnTo>
                    <a:lnTo>
                      <a:pt x="135" y="374"/>
                    </a:lnTo>
                    <a:lnTo>
                      <a:pt x="146" y="386"/>
                    </a:lnTo>
                    <a:lnTo>
                      <a:pt x="158" y="398"/>
                    </a:lnTo>
                    <a:lnTo>
                      <a:pt x="171" y="408"/>
                    </a:lnTo>
                    <a:lnTo>
                      <a:pt x="185" y="417"/>
                    </a:lnTo>
                    <a:lnTo>
                      <a:pt x="200" y="424"/>
                    </a:lnTo>
                    <a:lnTo>
                      <a:pt x="215" y="430"/>
                    </a:lnTo>
                    <a:lnTo>
                      <a:pt x="232" y="434"/>
                    </a:lnTo>
                    <a:lnTo>
                      <a:pt x="248" y="437"/>
                    </a:lnTo>
                    <a:lnTo>
                      <a:pt x="266" y="438"/>
                    </a:lnTo>
                    <a:lnTo>
                      <a:pt x="283" y="437"/>
                    </a:lnTo>
                    <a:lnTo>
                      <a:pt x="301" y="434"/>
                    </a:lnTo>
                    <a:lnTo>
                      <a:pt x="317" y="430"/>
                    </a:lnTo>
                    <a:lnTo>
                      <a:pt x="333" y="424"/>
                    </a:lnTo>
                    <a:lnTo>
                      <a:pt x="348" y="417"/>
                    </a:lnTo>
                    <a:lnTo>
                      <a:pt x="361" y="408"/>
                    </a:lnTo>
                    <a:lnTo>
                      <a:pt x="374" y="398"/>
                    </a:lnTo>
                    <a:lnTo>
                      <a:pt x="386" y="386"/>
                    </a:lnTo>
                    <a:lnTo>
                      <a:pt x="397" y="374"/>
                    </a:lnTo>
                    <a:lnTo>
                      <a:pt x="407" y="361"/>
                    </a:lnTo>
                    <a:lnTo>
                      <a:pt x="416" y="346"/>
                    </a:lnTo>
                    <a:lnTo>
                      <a:pt x="423" y="331"/>
                    </a:lnTo>
                    <a:lnTo>
                      <a:pt x="428" y="316"/>
                    </a:lnTo>
                    <a:lnTo>
                      <a:pt x="433" y="299"/>
                    </a:lnTo>
                    <a:lnTo>
                      <a:pt x="436" y="282"/>
                    </a:lnTo>
                    <a:lnTo>
                      <a:pt x="436" y="264"/>
                    </a:lnTo>
                    <a:lnTo>
                      <a:pt x="436" y="248"/>
                    </a:lnTo>
                    <a:lnTo>
                      <a:pt x="433" y="230"/>
                    </a:lnTo>
                    <a:lnTo>
                      <a:pt x="428" y="214"/>
                    </a:lnTo>
                    <a:lnTo>
                      <a:pt x="423" y="197"/>
                    </a:lnTo>
                    <a:lnTo>
                      <a:pt x="416" y="183"/>
                    </a:lnTo>
                    <a:lnTo>
                      <a:pt x="407" y="169"/>
                    </a:lnTo>
                    <a:lnTo>
                      <a:pt x="397" y="154"/>
                    </a:lnTo>
                    <a:lnTo>
                      <a:pt x="386" y="142"/>
                    </a:lnTo>
                    <a:lnTo>
                      <a:pt x="374" y="131"/>
                    </a:lnTo>
                    <a:lnTo>
                      <a:pt x="361" y="121"/>
                    </a:lnTo>
                    <a:lnTo>
                      <a:pt x="348" y="113"/>
                    </a:lnTo>
                    <a:lnTo>
                      <a:pt x="333" y="105"/>
                    </a:lnTo>
                    <a:lnTo>
                      <a:pt x="317" y="99"/>
                    </a:lnTo>
                    <a:lnTo>
                      <a:pt x="301" y="95"/>
                    </a:lnTo>
                    <a:lnTo>
                      <a:pt x="283" y="92"/>
                    </a:lnTo>
                    <a:lnTo>
                      <a:pt x="266" y="92"/>
                    </a:lnTo>
                    <a:lnTo>
                      <a:pt x="248" y="92"/>
                    </a:lnTo>
                    <a:lnTo>
                      <a:pt x="232" y="95"/>
                    </a:lnTo>
                    <a:lnTo>
                      <a:pt x="215" y="99"/>
                    </a:lnTo>
                    <a:lnTo>
                      <a:pt x="200" y="105"/>
                    </a:lnTo>
                    <a:lnTo>
                      <a:pt x="185" y="113"/>
                    </a:lnTo>
                    <a:lnTo>
                      <a:pt x="171" y="121"/>
                    </a:lnTo>
                    <a:lnTo>
                      <a:pt x="158" y="131"/>
                    </a:lnTo>
                    <a:lnTo>
                      <a:pt x="146" y="142"/>
                    </a:lnTo>
                    <a:lnTo>
                      <a:pt x="135" y="154"/>
                    </a:lnTo>
                    <a:lnTo>
                      <a:pt x="125" y="169"/>
                    </a:lnTo>
                    <a:lnTo>
                      <a:pt x="117" y="183"/>
                    </a:lnTo>
                    <a:lnTo>
                      <a:pt x="110" y="197"/>
                    </a:lnTo>
                    <a:lnTo>
                      <a:pt x="103" y="214"/>
                    </a:lnTo>
                    <a:lnTo>
                      <a:pt x="100" y="230"/>
                    </a:lnTo>
                    <a:lnTo>
                      <a:pt x="97" y="248"/>
                    </a:lnTo>
                    <a:lnTo>
                      <a:pt x="96" y="2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549440" y="882720"/>
                <a:ext cx="144360" cy="98280"/>
              </a:xfrm>
              <a:custGeom>
                <a:avLst/>
                <a:gdLst/>
                <a:ahLst/>
                <a:rect l="l" t="t" r="r" b="b"/>
                <a:pathLst>
                  <a:path w="690" h="512">
                    <a:moveTo>
                      <a:pt x="96" y="77"/>
                    </a:moveTo>
                    <a:lnTo>
                      <a:pt x="98" y="77"/>
                    </a:lnTo>
                    <a:lnTo>
                      <a:pt x="109" y="62"/>
                    </a:lnTo>
                    <a:lnTo>
                      <a:pt x="122" y="47"/>
                    </a:lnTo>
                    <a:lnTo>
                      <a:pt x="137" y="34"/>
                    </a:lnTo>
                    <a:lnTo>
                      <a:pt x="154" y="23"/>
                    </a:lnTo>
                    <a:lnTo>
                      <a:pt x="171" y="13"/>
                    </a:lnTo>
                    <a:lnTo>
                      <a:pt x="190" y="6"/>
                    </a:lnTo>
                    <a:lnTo>
                      <a:pt x="210" y="2"/>
                    </a:lnTo>
                    <a:lnTo>
                      <a:pt x="229" y="0"/>
                    </a:lnTo>
                    <a:lnTo>
                      <a:pt x="253" y="2"/>
                    </a:lnTo>
                    <a:lnTo>
                      <a:pt x="274" y="6"/>
                    </a:lnTo>
                    <a:lnTo>
                      <a:pt x="295" y="13"/>
                    </a:lnTo>
                    <a:lnTo>
                      <a:pt x="314" y="24"/>
                    </a:lnTo>
                    <a:lnTo>
                      <a:pt x="330" y="36"/>
                    </a:lnTo>
                    <a:lnTo>
                      <a:pt x="346" y="51"/>
                    </a:lnTo>
                    <a:lnTo>
                      <a:pt x="360" y="69"/>
                    </a:lnTo>
                    <a:lnTo>
                      <a:pt x="373" y="88"/>
                    </a:lnTo>
                    <a:lnTo>
                      <a:pt x="385" y="69"/>
                    </a:lnTo>
                    <a:lnTo>
                      <a:pt x="401" y="52"/>
                    </a:lnTo>
                    <a:lnTo>
                      <a:pt x="418" y="37"/>
                    </a:lnTo>
                    <a:lnTo>
                      <a:pt x="438" y="24"/>
                    </a:lnTo>
                    <a:lnTo>
                      <a:pt x="458" y="14"/>
                    </a:lnTo>
                    <a:lnTo>
                      <a:pt x="480" y="6"/>
                    </a:lnTo>
                    <a:lnTo>
                      <a:pt x="503" y="2"/>
                    </a:lnTo>
                    <a:lnTo>
                      <a:pt x="526" y="0"/>
                    </a:lnTo>
                    <a:lnTo>
                      <a:pt x="550" y="1"/>
                    </a:lnTo>
                    <a:lnTo>
                      <a:pt x="571" y="5"/>
                    </a:lnTo>
                    <a:lnTo>
                      <a:pt x="589" y="11"/>
                    </a:lnTo>
                    <a:lnTo>
                      <a:pt x="607" y="17"/>
                    </a:lnTo>
                    <a:lnTo>
                      <a:pt x="622" y="27"/>
                    </a:lnTo>
                    <a:lnTo>
                      <a:pt x="635" y="38"/>
                    </a:lnTo>
                    <a:lnTo>
                      <a:pt x="647" y="51"/>
                    </a:lnTo>
                    <a:lnTo>
                      <a:pt x="657" y="65"/>
                    </a:lnTo>
                    <a:lnTo>
                      <a:pt x="666" y="81"/>
                    </a:lnTo>
                    <a:lnTo>
                      <a:pt x="673" y="97"/>
                    </a:lnTo>
                    <a:lnTo>
                      <a:pt x="678" y="115"/>
                    </a:lnTo>
                    <a:lnTo>
                      <a:pt x="684" y="133"/>
                    </a:lnTo>
                    <a:lnTo>
                      <a:pt x="689" y="173"/>
                    </a:lnTo>
                    <a:lnTo>
                      <a:pt x="690" y="215"/>
                    </a:lnTo>
                    <a:lnTo>
                      <a:pt x="690" y="512"/>
                    </a:lnTo>
                    <a:lnTo>
                      <a:pt x="595" y="512"/>
                    </a:lnTo>
                    <a:lnTo>
                      <a:pt x="595" y="230"/>
                    </a:lnTo>
                    <a:lnTo>
                      <a:pt x="595" y="206"/>
                    </a:lnTo>
                    <a:lnTo>
                      <a:pt x="593" y="181"/>
                    </a:lnTo>
                    <a:lnTo>
                      <a:pt x="588" y="157"/>
                    </a:lnTo>
                    <a:lnTo>
                      <a:pt x="580" y="133"/>
                    </a:lnTo>
                    <a:lnTo>
                      <a:pt x="568" y="114"/>
                    </a:lnTo>
                    <a:lnTo>
                      <a:pt x="561" y="106"/>
                    </a:lnTo>
                    <a:lnTo>
                      <a:pt x="552" y="98"/>
                    </a:lnTo>
                    <a:lnTo>
                      <a:pt x="542" y="93"/>
                    </a:lnTo>
                    <a:lnTo>
                      <a:pt x="531" y="88"/>
                    </a:lnTo>
                    <a:lnTo>
                      <a:pt x="517" y="86"/>
                    </a:lnTo>
                    <a:lnTo>
                      <a:pt x="503" y="85"/>
                    </a:lnTo>
                    <a:lnTo>
                      <a:pt x="484" y="86"/>
                    </a:lnTo>
                    <a:lnTo>
                      <a:pt x="469" y="90"/>
                    </a:lnTo>
                    <a:lnTo>
                      <a:pt x="454" y="95"/>
                    </a:lnTo>
                    <a:lnTo>
                      <a:pt x="442" y="103"/>
                    </a:lnTo>
                    <a:lnTo>
                      <a:pt x="432" y="112"/>
                    </a:lnTo>
                    <a:lnTo>
                      <a:pt x="423" y="123"/>
                    </a:lnTo>
                    <a:lnTo>
                      <a:pt x="416" y="135"/>
                    </a:lnTo>
                    <a:lnTo>
                      <a:pt x="409" y="148"/>
                    </a:lnTo>
                    <a:lnTo>
                      <a:pt x="401" y="176"/>
                    </a:lnTo>
                    <a:lnTo>
                      <a:pt x="396" y="207"/>
                    </a:lnTo>
                    <a:lnTo>
                      <a:pt x="394" y="238"/>
                    </a:lnTo>
                    <a:lnTo>
                      <a:pt x="393" y="267"/>
                    </a:lnTo>
                    <a:lnTo>
                      <a:pt x="393" y="512"/>
                    </a:lnTo>
                    <a:lnTo>
                      <a:pt x="297" y="512"/>
                    </a:lnTo>
                    <a:lnTo>
                      <a:pt x="297" y="249"/>
                    </a:lnTo>
                    <a:lnTo>
                      <a:pt x="297" y="224"/>
                    </a:lnTo>
                    <a:lnTo>
                      <a:pt x="295" y="196"/>
                    </a:lnTo>
                    <a:lnTo>
                      <a:pt x="292" y="169"/>
                    </a:lnTo>
                    <a:lnTo>
                      <a:pt x="285" y="142"/>
                    </a:lnTo>
                    <a:lnTo>
                      <a:pt x="280" y="130"/>
                    </a:lnTo>
                    <a:lnTo>
                      <a:pt x="273" y="119"/>
                    </a:lnTo>
                    <a:lnTo>
                      <a:pt x="267" y="110"/>
                    </a:lnTo>
                    <a:lnTo>
                      <a:pt x="258" y="102"/>
                    </a:lnTo>
                    <a:lnTo>
                      <a:pt x="247" y="95"/>
                    </a:lnTo>
                    <a:lnTo>
                      <a:pt x="235" y="90"/>
                    </a:lnTo>
                    <a:lnTo>
                      <a:pt x="222" y="86"/>
                    </a:lnTo>
                    <a:lnTo>
                      <a:pt x="206" y="85"/>
                    </a:lnTo>
                    <a:lnTo>
                      <a:pt x="188" y="86"/>
                    </a:lnTo>
                    <a:lnTo>
                      <a:pt x="172" y="90"/>
                    </a:lnTo>
                    <a:lnTo>
                      <a:pt x="158" y="95"/>
                    </a:lnTo>
                    <a:lnTo>
                      <a:pt x="146" y="103"/>
                    </a:lnTo>
                    <a:lnTo>
                      <a:pt x="135" y="112"/>
                    </a:lnTo>
                    <a:lnTo>
                      <a:pt x="126" y="123"/>
                    </a:lnTo>
                    <a:lnTo>
                      <a:pt x="119" y="135"/>
                    </a:lnTo>
                    <a:lnTo>
                      <a:pt x="113" y="148"/>
                    </a:lnTo>
                    <a:lnTo>
                      <a:pt x="103" y="176"/>
                    </a:lnTo>
                    <a:lnTo>
                      <a:pt x="99" y="207"/>
                    </a:lnTo>
                    <a:lnTo>
                      <a:pt x="97" y="238"/>
                    </a:lnTo>
                    <a:lnTo>
                      <a:pt x="96" y="267"/>
                    </a:lnTo>
                    <a:lnTo>
                      <a:pt x="96" y="512"/>
                    </a:lnTo>
                    <a:lnTo>
                      <a:pt x="0" y="512"/>
                    </a:lnTo>
                    <a:lnTo>
                      <a:pt x="0" y="15"/>
                    </a:lnTo>
                    <a:lnTo>
                      <a:pt x="96" y="15"/>
                    </a:lnTo>
                    <a:lnTo>
                      <a:pt x="96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908640" y="1022400"/>
                <a:ext cx="9082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a-DK" sz="600" spc="-1" strike="noStrike">
                    <a:solidFill>
                      <a:srgbClr val="ffffff"/>
                    </a:solidFill>
                    <a:latin typeface="Futura Bk BT"/>
                  </a:rPr>
                  <a:t>www.kirktelecom.dk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7" name=""/>
          <p:cNvSpPr/>
          <p:nvPr/>
        </p:nvSpPr>
        <p:spPr>
          <a:xfrm>
            <a:off x="2228760" y="0"/>
            <a:ext cx="76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CCFP Administration Program Ver.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" descr=""/>
          <p:cNvPicPr/>
          <p:nvPr/>
        </p:nvPicPr>
        <p:blipFill>
          <a:blip r:embed="rId2"/>
          <a:stretch/>
        </p:blipFill>
        <p:spPr>
          <a:xfrm>
            <a:off x="3191040" y="698400"/>
            <a:ext cx="5476680" cy="392436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3095280" y="4800600"/>
            <a:ext cx="571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смотр параметров трубок, подключенных к системе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Part No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мер по каталогу производителя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S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рсия ПО труб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584880" y="270972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Part num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399720" y="270972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ftware 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4305240" y="1676520"/>
            <a:ext cx="1494000" cy="103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 flipV="1">
            <a:off x="6629040" y="1676520"/>
            <a:ext cx="609480" cy="103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6541-369E-44DC-B7C4-F87E6D6C494A}" type="slidenum">
              <a:t>27</a:t>
            </a:fld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2889360" y="5689440"/>
            <a:ext cx="621972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889360" y="457200"/>
            <a:ext cx="6521400" cy="0"/>
          </a:xfrm>
          <a:prstGeom prst="line">
            <a:avLst/>
          </a:prstGeom>
          <a:ln cap="sq"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0" y="0"/>
            <a:ext cx="6129000" cy="6858000"/>
            <a:chOff x="0" y="0"/>
            <a:chExt cx="6129000" cy="6858000"/>
          </a:xfrm>
        </p:grpSpPr>
        <p:sp>
          <p:nvSpPr>
            <p:cNvPr id="927" name=""/>
            <p:cNvSpPr/>
            <p:nvPr/>
          </p:nvSpPr>
          <p:spPr>
            <a:xfrm>
              <a:off x="0" y="0"/>
              <a:ext cx="2228760" cy="3429000"/>
            </a:xfrm>
            <a:prstGeom prst="rect">
              <a:avLst/>
            </a:prstGeom>
            <a:solidFill>
              <a:srgbClr val="000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0" y="3429000"/>
              <a:ext cx="2228760" cy="3429000"/>
            </a:xfrm>
            <a:prstGeom prst="rect">
              <a:avLst/>
            </a:pr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91836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79924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1" name="" descr=""/>
            <p:cNvPicPr/>
            <p:nvPr/>
          </p:nvPicPr>
          <p:blipFill>
            <a:blip r:embed="rId1"/>
            <a:stretch/>
          </p:blipFill>
          <p:spPr>
            <a:xfrm>
              <a:off x="201240" y="2055960"/>
              <a:ext cx="1705680" cy="271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2" name=""/>
            <p:cNvGrpSpPr/>
            <p:nvPr/>
          </p:nvGrpSpPr>
          <p:grpSpPr>
            <a:xfrm>
              <a:off x="211320" y="380880"/>
              <a:ext cx="1605600" cy="821880"/>
              <a:chOff x="211320" y="380880"/>
              <a:chExt cx="1605600" cy="821880"/>
            </a:xfrm>
          </p:grpSpPr>
          <p:sp>
            <p:nvSpPr>
              <p:cNvPr id="933" name=""/>
              <p:cNvSpPr/>
              <p:nvPr/>
            </p:nvSpPr>
            <p:spPr>
              <a:xfrm>
                <a:off x="403920" y="38088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7">
                    <a:moveTo>
                      <a:pt x="29" y="1655"/>
                    </a:moveTo>
                    <a:lnTo>
                      <a:pt x="79" y="1682"/>
                    </a:lnTo>
                    <a:lnTo>
                      <a:pt x="623" y="1957"/>
                    </a:lnTo>
                    <a:lnTo>
                      <a:pt x="684" y="1987"/>
                    </a:lnTo>
                    <a:lnTo>
                      <a:pt x="687" y="1916"/>
                    </a:lnTo>
                    <a:lnTo>
                      <a:pt x="691" y="1864"/>
                    </a:lnTo>
                    <a:lnTo>
                      <a:pt x="697" y="1814"/>
                    </a:lnTo>
                    <a:lnTo>
                      <a:pt x="704" y="1763"/>
                    </a:lnTo>
                    <a:lnTo>
                      <a:pt x="713" y="1714"/>
                    </a:lnTo>
                    <a:lnTo>
                      <a:pt x="724" y="1665"/>
                    </a:lnTo>
                    <a:lnTo>
                      <a:pt x="737" y="1616"/>
                    </a:lnTo>
                    <a:lnTo>
                      <a:pt x="751" y="1569"/>
                    </a:lnTo>
                    <a:lnTo>
                      <a:pt x="767" y="1522"/>
                    </a:lnTo>
                    <a:lnTo>
                      <a:pt x="784" y="1476"/>
                    </a:lnTo>
                    <a:lnTo>
                      <a:pt x="803" y="1431"/>
                    </a:lnTo>
                    <a:lnTo>
                      <a:pt x="824" y="1386"/>
                    </a:lnTo>
                    <a:lnTo>
                      <a:pt x="846" y="1343"/>
                    </a:lnTo>
                    <a:lnTo>
                      <a:pt x="869" y="1300"/>
                    </a:lnTo>
                    <a:lnTo>
                      <a:pt x="894" y="1257"/>
                    </a:lnTo>
                    <a:lnTo>
                      <a:pt x="920" y="1217"/>
                    </a:lnTo>
                    <a:lnTo>
                      <a:pt x="948" y="1177"/>
                    </a:lnTo>
                    <a:lnTo>
                      <a:pt x="976" y="1137"/>
                    </a:lnTo>
                    <a:lnTo>
                      <a:pt x="1007" y="1100"/>
                    </a:lnTo>
                    <a:lnTo>
                      <a:pt x="1038" y="1063"/>
                    </a:lnTo>
                    <a:lnTo>
                      <a:pt x="1071" y="1027"/>
                    </a:lnTo>
                    <a:lnTo>
                      <a:pt x="1105" y="993"/>
                    </a:lnTo>
                    <a:lnTo>
                      <a:pt x="1140" y="959"/>
                    </a:lnTo>
                    <a:lnTo>
                      <a:pt x="1176" y="927"/>
                    </a:lnTo>
                    <a:lnTo>
                      <a:pt x="1213" y="896"/>
                    </a:lnTo>
                    <a:lnTo>
                      <a:pt x="1250" y="866"/>
                    </a:lnTo>
                    <a:lnTo>
                      <a:pt x="1290" y="838"/>
                    </a:lnTo>
                    <a:lnTo>
                      <a:pt x="1331" y="810"/>
                    </a:lnTo>
                    <a:lnTo>
                      <a:pt x="1372" y="785"/>
                    </a:lnTo>
                    <a:lnTo>
                      <a:pt x="1414" y="760"/>
                    </a:lnTo>
                    <a:lnTo>
                      <a:pt x="1457" y="737"/>
                    </a:lnTo>
                    <a:lnTo>
                      <a:pt x="1501" y="716"/>
                    </a:lnTo>
                    <a:lnTo>
                      <a:pt x="1546" y="696"/>
                    </a:lnTo>
                    <a:lnTo>
                      <a:pt x="1584" y="680"/>
                    </a:lnTo>
                    <a:lnTo>
                      <a:pt x="1594" y="673"/>
                    </a:lnTo>
                    <a:lnTo>
                      <a:pt x="1600" y="665"/>
                    </a:lnTo>
                    <a:lnTo>
                      <a:pt x="1604" y="658"/>
                    </a:lnTo>
                    <a:lnTo>
                      <a:pt x="1606" y="650"/>
                    </a:lnTo>
                    <a:lnTo>
                      <a:pt x="1605" y="638"/>
                    </a:lnTo>
                    <a:lnTo>
                      <a:pt x="1603" y="632"/>
                    </a:lnTo>
                    <a:lnTo>
                      <a:pt x="1586" y="586"/>
                    </a:lnTo>
                    <a:lnTo>
                      <a:pt x="1385" y="31"/>
                    </a:lnTo>
                    <a:lnTo>
                      <a:pt x="1381" y="18"/>
                    </a:lnTo>
                    <a:lnTo>
                      <a:pt x="1380" y="13"/>
                    </a:lnTo>
                    <a:lnTo>
                      <a:pt x="1372" y="5"/>
                    </a:lnTo>
                    <a:lnTo>
                      <a:pt x="1367" y="2"/>
                    </a:lnTo>
                    <a:lnTo>
                      <a:pt x="1359" y="0"/>
                    </a:lnTo>
                    <a:lnTo>
                      <a:pt x="1349" y="0"/>
                    </a:lnTo>
                    <a:lnTo>
                      <a:pt x="1337" y="3"/>
                    </a:lnTo>
                    <a:lnTo>
                      <a:pt x="1307" y="14"/>
                    </a:lnTo>
                    <a:lnTo>
                      <a:pt x="1248" y="37"/>
                    </a:lnTo>
                    <a:lnTo>
                      <a:pt x="1190" y="63"/>
                    </a:lnTo>
                    <a:lnTo>
                      <a:pt x="1133" y="89"/>
                    </a:lnTo>
                    <a:lnTo>
                      <a:pt x="1076" y="119"/>
                    </a:lnTo>
                    <a:lnTo>
                      <a:pt x="1021" y="149"/>
                    </a:lnTo>
                    <a:lnTo>
                      <a:pt x="966" y="181"/>
                    </a:lnTo>
                    <a:lnTo>
                      <a:pt x="913" y="215"/>
                    </a:lnTo>
                    <a:lnTo>
                      <a:pt x="861" y="251"/>
                    </a:lnTo>
                    <a:lnTo>
                      <a:pt x="810" y="289"/>
                    </a:lnTo>
                    <a:lnTo>
                      <a:pt x="759" y="328"/>
                    </a:lnTo>
                    <a:lnTo>
                      <a:pt x="711" y="369"/>
                    </a:lnTo>
                    <a:lnTo>
                      <a:pt x="663" y="411"/>
                    </a:lnTo>
                    <a:lnTo>
                      <a:pt x="616" y="455"/>
                    </a:lnTo>
                    <a:lnTo>
                      <a:pt x="572" y="501"/>
                    </a:lnTo>
                    <a:lnTo>
                      <a:pt x="528" y="547"/>
                    </a:lnTo>
                    <a:lnTo>
                      <a:pt x="485" y="595"/>
                    </a:lnTo>
                    <a:lnTo>
                      <a:pt x="443" y="645"/>
                    </a:lnTo>
                    <a:lnTo>
                      <a:pt x="404" y="695"/>
                    </a:lnTo>
                    <a:lnTo>
                      <a:pt x="365" y="747"/>
                    </a:lnTo>
                    <a:lnTo>
                      <a:pt x="329" y="800"/>
                    </a:lnTo>
                    <a:lnTo>
                      <a:pt x="294" y="854"/>
                    </a:lnTo>
                    <a:lnTo>
                      <a:pt x="260" y="910"/>
                    </a:lnTo>
                    <a:lnTo>
                      <a:pt x="228" y="967"/>
                    </a:lnTo>
                    <a:lnTo>
                      <a:pt x="197" y="1024"/>
                    </a:lnTo>
                    <a:lnTo>
                      <a:pt x="169" y="1084"/>
                    </a:lnTo>
                    <a:lnTo>
                      <a:pt x="142" y="1144"/>
                    </a:lnTo>
                    <a:lnTo>
                      <a:pt x="116" y="1204"/>
                    </a:lnTo>
                    <a:lnTo>
                      <a:pt x="93" y="1266"/>
                    </a:lnTo>
                    <a:lnTo>
                      <a:pt x="71" y="1329"/>
                    </a:lnTo>
                    <a:lnTo>
                      <a:pt x="52" y="1392"/>
                    </a:lnTo>
                    <a:lnTo>
                      <a:pt x="34" y="1457"/>
                    </a:lnTo>
                    <a:lnTo>
                      <a:pt x="18" y="1522"/>
                    </a:lnTo>
                    <a:lnTo>
                      <a:pt x="2" y="1593"/>
                    </a:lnTo>
                    <a:lnTo>
                      <a:pt x="0" y="1610"/>
                    </a:lnTo>
                    <a:lnTo>
                      <a:pt x="1" y="1623"/>
                    </a:lnTo>
                    <a:lnTo>
                      <a:pt x="6" y="1634"/>
                    </a:lnTo>
                    <a:lnTo>
                      <a:pt x="11" y="1643"/>
                    </a:lnTo>
                    <a:lnTo>
                      <a:pt x="17" y="1648"/>
                    </a:lnTo>
                    <a:lnTo>
                      <a:pt x="23" y="1652"/>
                    </a:lnTo>
                    <a:lnTo>
                      <a:pt x="29" y="1655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03920" y="77004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5">
                    <a:moveTo>
                      <a:pt x="29" y="333"/>
                    </a:moveTo>
                    <a:lnTo>
                      <a:pt x="79" y="306"/>
                    </a:lnTo>
                    <a:lnTo>
                      <a:pt x="623" y="31"/>
                    </a:lnTo>
                    <a:lnTo>
                      <a:pt x="684" y="0"/>
                    </a:lnTo>
                    <a:lnTo>
                      <a:pt x="687" y="72"/>
                    </a:lnTo>
                    <a:lnTo>
                      <a:pt x="691" y="123"/>
                    </a:lnTo>
                    <a:lnTo>
                      <a:pt x="697" y="174"/>
                    </a:lnTo>
                    <a:lnTo>
                      <a:pt x="704" y="224"/>
                    </a:lnTo>
                    <a:lnTo>
                      <a:pt x="713" y="273"/>
                    </a:lnTo>
                    <a:lnTo>
                      <a:pt x="724" y="323"/>
                    </a:lnTo>
                    <a:lnTo>
                      <a:pt x="737" y="371"/>
                    </a:lnTo>
                    <a:lnTo>
                      <a:pt x="751" y="418"/>
                    </a:lnTo>
                    <a:lnTo>
                      <a:pt x="767" y="465"/>
                    </a:lnTo>
                    <a:lnTo>
                      <a:pt x="784" y="512"/>
                    </a:lnTo>
                    <a:lnTo>
                      <a:pt x="803" y="557"/>
                    </a:lnTo>
                    <a:lnTo>
                      <a:pt x="824" y="602"/>
                    </a:lnTo>
                    <a:lnTo>
                      <a:pt x="846" y="645"/>
                    </a:lnTo>
                    <a:lnTo>
                      <a:pt x="869" y="688"/>
                    </a:lnTo>
                    <a:lnTo>
                      <a:pt x="894" y="730"/>
                    </a:lnTo>
                    <a:lnTo>
                      <a:pt x="920" y="771"/>
                    </a:lnTo>
                    <a:lnTo>
                      <a:pt x="948" y="811"/>
                    </a:lnTo>
                    <a:lnTo>
                      <a:pt x="976" y="850"/>
                    </a:lnTo>
                    <a:lnTo>
                      <a:pt x="1007" y="888"/>
                    </a:lnTo>
                    <a:lnTo>
                      <a:pt x="1038" y="924"/>
                    </a:lnTo>
                    <a:lnTo>
                      <a:pt x="1071" y="961"/>
                    </a:lnTo>
                    <a:lnTo>
                      <a:pt x="1105" y="995"/>
                    </a:lnTo>
                    <a:lnTo>
                      <a:pt x="1140" y="1029"/>
                    </a:lnTo>
                    <a:lnTo>
                      <a:pt x="1176" y="1061"/>
                    </a:lnTo>
                    <a:lnTo>
                      <a:pt x="1213" y="1092"/>
                    </a:lnTo>
                    <a:lnTo>
                      <a:pt x="1252" y="1122"/>
                    </a:lnTo>
                    <a:lnTo>
                      <a:pt x="1290" y="1151"/>
                    </a:lnTo>
                    <a:lnTo>
                      <a:pt x="1331" y="1177"/>
                    </a:lnTo>
                    <a:lnTo>
                      <a:pt x="1372" y="1203"/>
                    </a:lnTo>
                    <a:lnTo>
                      <a:pt x="1414" y="1227"/>
                    </a:lnTo>
                    <a:lnTo>
                      <a:pt x="1457" y="1250"/>
                    </a:lnTo>
                    <a:lnTo>
                      <a:pt x="1501" y="1271"/>
                    </a:lnTo>
                    <a:lnTo>
                      <a:pt x="1546" y="1292"/>
                    </a:lnTo>
                    <a:lnTo>
                      <a:pt x="1584" y="1308"/>
                    </a:lnTo>
                    <a:lnTo>
                      <a:pt x="1594" y="1315"/>
                    </a:lnTo>
                    <a:lnTo>
                      <a:pt x="1600" y="1323"/>
                    </a:lnTo>
                    <a:lnTo>
                      <a:pt x="1605" y="1331"/>
                    </a:lnTo>
                    <a:lnTo>
                      <a:pt x="1606" y="1337"/>
                    </a:lnTo>
                    <a:lnTo>
                      <a:pt x="1605" y="1349"/>
                    </a:lnTo>
                    <a:lnTo>
                      <a:pt x="1603" y="1355"/>
                    </a:lnTo>
                    <a:lnTo>
                      <a:pt x="1586" y="1401"/>
                    </a:lnTo>
                    <a:lnTo>
                      <a:pt x="1388" y="1950"/>
                    </a:lnTo>
                    <a:lnTo>
                      <a:pt x="1381" y="1965"/>
                    </a:lnTo>
                    <a:lnTo>
                      <a:pt x="1379" y="1970"/>
                    </a:lnTo>
                    <a:lnTo>
                      <a:pt x="1371" y="1978"/>
                    </a:lnTo>
                    <a:lnTo>
                      <a:pt x="1366" y="1983"/>
                    </a:lnTo>
                    <a:lnTo>
                      <a:pt x="1358" y="1985"/>
                    </a:lnTo>
                    <a:lnTo>
                      <a:pt x="1348" y="1985"/>
                    </a:lnTo>
                    <a:lnTo>
                      <a:pt x="1338" y="1983"/>
                    </a:lnTo>
                    <a:lnTo>
                      <a:pt x="1302" y="1969"/>
                    </a:lnTo>
                    <a:lnTo>
                      <a:pt x="1242" y="1942"/>
                    </a:lnTo>
                    <a:lnTo>
                      <a:pt x="1181" y="1915"/>
                    </a:lnTo>
                    <a:lnTo>
                      <a:pt x="1123" y="1886"/>
                    </a:lnTo>
                    <a:lnTo>
                      <a:pt x="1066" y="1857"/>
                    </a:lnTo>
                    <a:lnTo>
                      <a:pt x="1009" y="1824"/>
                    </a:lnTo>
                    <a:lnTo>
                      <a:pt x="954" y="1791"/>
                    </a:lnTo>
                    <a:lnTo>
                      <a:pt x="901" y="1756"/>
                    </a:lnTo>
                    <a:lnTo>
                      <a:pt x="848" y="1719"/>
                    </a:lnTo>
                    <a:lnTo>
                      <a:pt x="796" y="1682"/>
                    </a:lnTo>
                    <a:lnTo>
                      <a:pt x="747" y="1642"/>
                    </a:lnTo>
                    <a:lnTo>
                      <a:pt x="698" y="1602"/>
                    </a:lnTo>
                    <a:lnTo>
                      <a:pt x="650" y="1560"/>
                    </a:lnTo>
                    <a:lnTo>
                      <a:pt x="604" y="1517"/>
                    </a:lnTo>
                    <a:lnTo>
                      <a:pt x="559" y="1472"/>
                    </a:lnTo>
                    <a:lnTo>
                      <a:pt x="517" y="1426"/>
                    </a:lnTo>
                    <a:lnTo>
                      <a:pt x="475" y="1379"/>
                    </a:lnTo>
                    <a:lnTo>
                      <a:pt x="434" y="1331"/>
                    </a:lnTo>
                    <a:lnTo>
                      <a:pt x="395" y="1281"/>
                    </a:lnTo>
                    <a:lnTo>
                      <a:pt x="358" y="1230"/>
                    </a:lnTo>
                    <a:lnTo>
                      <a:pt x="323" y="1178"/>
                    </a:lnTo>
                    <a:lnTo>
                      <a:pt x="287" y="1124"/>
                    </a:lnTo>
                    <a:lnTo>
                      <a:pt x="255" y="1070"/>
                    </a:lnTo>
                    <a:lnTo>
                      <a:pt x="224" y="1014"/>
                    </a:lnTo>
                    <a:lnTo>
                      <a:pt x="194" y="957"/>
                    </a:lnTo>
                    <a:lnTo>
                      <a:pt x="166" y="900"/>
                    </a:lnTo>
                    <a:lnTo>
                      <a:pt x="139" y="841"/>
                    </a:lnTo>
                    <a:lnTo>
                      <a:pt x="115" y="781"/>
                    </a:lnTo>
                    <a:lnTo>
                      <a:pt x="92" y="720"/>
                    </a:lnTo>
                    <a:lnTo>
                      <a:pt x="71" y="658"/>
                    </a:lnTo>
                    <a:lnTo>
                      <a:pt x="52" y="595"/>
                    </a:lnTo>
                    <a:lnTo>
                      <a:pt x="34" y="530"/>
                    </a:lnTo>
                    <a:lnTo>
                      <a:pt x="18" y="465"/>
                    </a:lnTo>
                    <a:lnTo>
                      <a:pt x="3" y="394"/>
                    </a:lnTo>
                    <a:lnTo>
                      <a:pt x="0" y="378"/>
                    </a:lnTo>
                    <a:lnTo>
                      <a:pt x="1" y="364"/>
                    </a:lnTo>
                    <a:lnTo>
                      <a:pt x="6" y="353"/>
                    </a:lnTo>
                    <a:lnTo>
                      <a:pt x="11" y="346"/>
                    </a:lnTo>
                    <a:lnTo>
                      <a:pt x="17" y="339"/>
                    </a:lnTo>
                    <a:lnTo>
                      <a:pt x="23" y="336"/>
                    </a:lnTo>
                    <a:lnTo>
                      <a:pt x="29" y="333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67440" y="698400"/>
                <a:ext cx="149400" cy="147600"/>
              </a:xfrm>
              <a:custGeom>
                <a:avLst/>
                <a:gdLst/>
                <a:ahLst/>
                <a:rect l="l" t="t" r="r" b="b"/>
                <a:pathLst>
                  <a:path w="714" h="759">
                    <a:moveTo>
                      <a:pt x="699" y="379"/>
                    </a:moveTo>
                    <a:lnTo>
                      <a:pt x="706" y="375"/>
                    </a:lnTo>
                    <a:lnTo>
                      <a:pt x="710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09" y="351"/>
                    </a:lnTo>
                    <a:lnTo>
                      <a:pt x="705" y="346"/>
                    </a:lnTo>
                    <a:lnTo>
                      <a:pt x="699" y="342"/>
                    </a:lnTo>
                    <a:lnTo>
                      <a:pt x="35" y="4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3" y="11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735"/>
                    </a:lnTo>
                    <a:lnTo>
                      <a:pt x="1" y="743"/>
                    </a:lnTo>
                    <a:lnTo>
                      <a:pt x="3" y="748"/>
                    </a:lnTo>
                    <a:lnTo>
                      <a:pt x="5" y="753"/>
                    </a:lnTo>
                    <a:lnTo>
                      <a:pt x="10" y="757"/>
                    </a:lnTo>
                    <a:lnTo>
                      <a:pt x="15" y="759"/>
                    </a:lnTo>
                    <a:lnTo>
                      <a:pt x="21" y="759"/>
                    </a:lnTo>
                    <a:lnTo>
                      <a:pt x="27" y="758"/>
                    </a:lnTo>
                    <a:lnTo>
                      <a:pt x="34" y="755"/>
                    </a:lnTo>
                    <a:lnTo>
                      <a:pt x="699" y="379"/>
                    </a:lnTo>
                    <a:close/>
                  </a:path>
                </a:pathLst>
              </a:custGeom>
              <a:solidFill>
                <a:srgbClr val="00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11320" y="701640"/>
                <a:ext cx="149760" cy="146160"/>
              </a:xfrm>
              <a:custGeom>
                <a:avLst/>
                <a:gdLst/>
                <a:ahLst/>
                <a:rect l="l" t="t" r="r" b="b"/>
                <a:pathLst>
                  <a:path w="714" h="758">
                    <a:moveTo>
                      <a:pt x="701" y="379"/>
                    </a:moveTo>
                    <a:lnTo>
                      <a:pt x="706" y="374"/>
                    </a:lnTo>
                    <a:lnTo>
                      <a:pt x="711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11" y="350"/>
                    </a:lnTo>
                    <a:lnTo>
                      <a:pt x="706" y="346"/>
                    </a:lnTo>
                    <a:lnTo>
                      <a:pt x="700" y="342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0" y="734"/>
                    </a:lnTo>
                    <a:lnTo>
                      <a:pt x="1" y="742"/>
                    </a:lnTo>
                    <a:lnTo>
                      <a:pt x="3" y="749"/>
                    </a:lnTo>
                    <a:lnTo>
                      <a:pt x="7" y="753"/>
                    </a:lnTo>
                    <a:lnTo>
                      <a:pt x="10" y="756"/>
                    </a:lnTo>
                    <a:lnTo>
                      <a:pt x="15" y="758"/>
                    </a:lnTo>
                    <a:lnTo>
                      <a:pt x="21" y="758"/>
                    </a:lnTo>
                    <a:lnTo>
                      <a:pt x="27" y="757"/>
                    </a:lnTo>
                    <a:lnTo>
                      <a:pt x="34" y="754"/>
                    </a:lnTo>
                    <a:lnTo>
                      <a:pt x="701" y="379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011960" y="517680"/>
                <a:ext cx="195840" cy="250560"/>
              </a:xfrm>
              <a:custGeom>
                <a:avLst/>
                <a:gdLst/>
                <a:ahLst/>
                <a:rect l="l" t="t" r="r" b="b"/>
                <a:pathLst>
                  <a:path w="930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30" y="1293"/>
                    </a:lnTo>
                    <a:lnTo>
                      <a:pt x="713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230480" y="517680"/>
                <a:ext cx="34200" cy="25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1316520" y="517680"/>
                <a:ext cx="168480" cy="250560"/>
              </a:xfrm>
              <a:custGeom>
                <a:avLst/>
                <a:gdLst/>
                <a:ahLst/>
                <a:rect l="l" t="t" r="r" b="b"/>
                <a:pathLst>
                  <a:path w="803" h="1293">
                    <a:moveTo>
                      <a:pt x="803" y="1293"/>
                    </a:moveTo>
                    <a:lnTo>
                      <a:pt x="607" y="1293"/>
                    </a:lnTo>
                    <a:lnTo>
                      <a:pt x="228" y="746"/>
                    </a:lnTo>
                    <a:lnTo>
                      <a:pt x="161" y="746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283" y="1"/>
                    </a:lnTo>
                    <a:lnTo>
                      <a:pt x="327" y="4"/>
                    </a:lnTo>
                    <a:lnTo>
                      <a:pt x="370" y="8"/>
                    </a:lnTo>
                    <a:lnTo>
                      <a:pt x="413" y="16"/>
                    </a:lnTo>
                    <a:lnTo>
                      <a:pt x="456" y="27"/>
                    </a:lnTo>
                    <a:lnTo>
                      <a:pt x="497" y="41"/>
                    </a:lnTo>
                    <a:lnTo>
                      <a:pt x="536" y="61"/>
                    </a:lnTo>
                    <a:lnTo>
                      <a:pt x="556" y="73"/>
                    </a:lnTo>
                    <a:lnTo>
                      <a:pt x="574" y="87"/>
                    </a:lnTo>
                    <a:lnTo>
                      <a:pt x="592" y="101"/>
                    </a:lnTo>
                    <a:lnTo>
                      <a:pt x="608" y="118"/>
                    </a:lnTo>
                    <a:lnTo>
                      <a:pt x="623" y="135"/>
                    </a:lnTo>
                    <a:lnTo>
                      <a:pt x="637" y="153"/>
                    </a:lnTo>
                    <a:lnTo>
                      <a:pt x="650" y="173"/>
                    </a:lnTo>
                    <a:lnTo>
                      <a:pt x="661" y="192"/>
                    </a:lnTo>
                    <a:lnTo>
                      <a:pt x="671" y="212"/>
                    </a:lnTo>
                    <a:lnTo>
                      <a:pt x="680" y="233"/>
                    </a:lnTo>
                    <a:lnTo>
                      <a:pt x="694" y="277"/>
                    </a:lnTo>
                    <a:lnTo>
                      <a:pt x="700" y="300"/>
                    </a:lnTo>
                    <a:lnTo>
                      <a:pt x="703" y="323"/>
                    </a:lnTo>
                    <a:lnTo>
                      <a:pt x="705" y="346"/>
                    </a:lnTo>
                    <a:lnTo>
                      <a:pt x="705" y="369"/>
                    </a:lnTo>
                    <a:lnTo>
                      <a:pt x="704" y="403"/>
                    </a:lnTo>
                    <a:lnTo>
                      <a:pt x="700" y="436"/>
                    </a:lnTo>
                    <a:lnTo>
                      <a:pt x="693" y="469"/>
                    </a:lnTo>
                    <a:lnTo>
                      <a:pt x="683" y="500"/>
                    </a:lnTo>
                    <a:lnTo>
                      <a:pt x="671" y="531"/>
                    </a:lnTo>
                    <a:lnTo>
                      <a:pt x="657" y="558"/>
                    </a:lnTo>
                    <a:lnTo>
                      <a:pt x="639" y="585"/>
                    </a:lnTo>
                    <a:lnTo>
                      <a:pt x="621" y="611"/>
                    </a:lnTo>
                    <a:lnTo>
                      <a:pt x="599" y="634"/>
                    </a:lnTo>
                    <a:lnTo>
                      <a:pt x="576" y="655"/>
                    </a:lnTo>
                    <a:lnTo>
                      <a:pt x="550" y="673"/>
                    </a:lnTo>
                    <a:lnTo>
                      <a:pt x="523" y="691"/>
                    </a:lnTo>
                    <a:lnTo>
                      <a:pt x="493" y="704"/>
                    </a:lnTo>
                    <a:lnTo>
                      <a:pt x="463" y="716"/>
                    </a:lnTo>
                    <a:lnTo>
                      <a:pt x="430" y="725"/>
                    </a:lnTo>
                    <a:lnTo>
                      <a:pt x="396" y="730"/>
                    </a:lnTo>
                    <a:lnTo>
                      <a:pt x="803" y="1293"/>
                    </a:lnTo>
                    <a:close/>
                    <a:moveTo>
                      <a:pt x="161" y="612"/>
                    </a:moveTo>
                    <a:lnTo>
                      <a:pt x="213" y="612"/>
                    </a:lnTo>
                    <a:lnTo>
                      <a:pt x="274" y="611"/>
                    </a:lnTo>
                    <a:lnTo>
                      <a:pt x="335" y="604"/>
                    </a:lnTo>
                    <a:lnTo>
                      <a:pt x="365" y="599"/>
                    </a:lnTo>
                    <a:lnTo>
                      <a:pt x="393" y="591"/>
                    </a:lnTo>
                    <a:lnTo>
                      <a:pt x="420" y="582"/>
                    </a:lnTo>
                    <a:lnTo>
                      <a:pt x="445" y="571"/>
                    </a:lnTo>
                    <a:lnTo>
                      <a:pt x="469" y="557"/>
                    </a:lnTo>
                    <a:lnTo>
                      <a:pt x="490" y="540"/>
                    </a:lnTo>
                    <a:lnTo>
                      <a:pt x="509" y="522"/>
                    </a:lnTo>
                    <a:lnTo>
                      <a:pt x="524" y="499"/>
                    </a:lnTo>
                    <a:lnTo>
                      <a:pt x="537" y="473"/>
                    </a:lnTo>
                    <a:lnTo>
                      <a:pt x="547" y="445"/>
                    </a:lnTo>
                    <a:lnTo>
                      <a:pt x="553" y="412"/>
                    </a:lnTo>
                    <a:lnTo>
                      <a:pt x="555" y="376"/>
                    </a:lnTo>
                    <a:lnTo>
                      <a:pt x="553" y="339"/>
                    </a:lnTo>
                    <a:lnTo>
                      <a:pt x="546" y="308"/>
                    </a:lnTo>
                    <a:lnTo>
                      <a:pt x="536" y="279"/>
                    </a:lnTo>
                    <a:lnTo>
                      <a:pt x="523" y="254"/>
                    </a:lnTo>
                    <a:lnTo>
                      <a:pt x="505" y="232"/>
                    </a:lnTo>
                    <a:lnTo>
                      <a:pt x="486" y="213"/>
                    </a:lnTo>
                    <a:lnTo>
                      <a:pt x="464" y="198"/>
                    </a:lnTo>
                    <a:lnTo>
                      <a:pt x="440" y="184"/>
                    </a:lnTo>
                    <a:lnTo>
                      <a:pt x="413" y="173"/>
                    </a:lnTo>
                    <a:lnTo>
                      <a:pt x="385" y="164"/>
                    </a:lnTo>
                    <a:lnTo>
                      <a:pt x="356" y="157"/>
                    </a:lnTo>
                    <a:lnTo>
                      <a:pt x="325" y="152"/>
                    </a:lnTo>
                    <a:lnTo>
                      <a:pt x="296" y="148"/>
                    </a:lnTo>
                    <a:lnTo>
                      <a:pt x="265" y="146"/>
                    </a:lnTo>
                    <a:lnTo>
                      <a:pt x="204" y="144"/>
                    </a:lnTo>
                    <a:lnTo>
                      <a:pt x="161" y="144"/>
                    </a:lnTo>
                    <a:lnTo>
                      <a:pt x="161" y="6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1502280" y="517680"/>
                <a:ext cx="196200" cy="250560"/>
              </a:xfrm>
              <a:custGeom>
                <a:avLst/>
                <a:gdLst/>
                <a:ahLst/>
                <a:rect l="l" t="t" r="r" b="b"/>
                <a:pathLst>
                  <a:path w="929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29" y="1293"/>
                    </a:lnTo>
                    <a:lnTo>
                      <a:pt x="712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999720" y="847800"/>
                <a:ext cx="54720" cy="133200"/>
              </a:xfrm>
              <a:custGeom>
                <a:avLst/>
                <a:gdLst/>
                <a:ahLst/>
                <a:rect l="l" t="t" r="r" b="b"/>
                <a:pathLst>
                  <a:path w="264" h="687">
                    <a:moveTo>
                      <a:pt x="169" y="687"/>
                    </a:moveTo>
                    <a:lnTo>
                      <a:pt x="74" y="687"/>
                    </a:lnTo>
                    <a:lnTo>
                      <a:pt x="74" y="279"/>
                    </a:lnTo>
                    <a:lnTo>
                      <a:pt x="0" y="279"/>
                    </a:lnTo>
                    <a:lnTo>
                      <a:pt x="0" y="190"/>
                    </a:lnTo>
                    <a:lnTo>
                      <a:pt x="74" y="190"/>
                    </a:lnTo>
                    <a:lnTo>
                      <a:pt x="74" y="0"/>
                    </a:lnTo>
                    <a:lnTo>
                      <a:pt x="169" y="0"/>
                    </a:lnTo>
                    <a:lnTo>
                      <a:pt x="169" y="190"/>
                    </a:lnTo>
                    <a:lnTo>
                      <a:pt x="264" y="190"/>
                    </a:lnTo>
                    <a:lnTo>
                      <a:pt x="264" y="279"/>
                    </a:lnTo>
                    <a:lnTo>
                      <a:pt x="169" y="279"/>
                    </a:lnTo>
                    <a:lnTo>
                      <a:pt x="169" y="6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058400" y="882720"/>
                <a:ext cx="9936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5" y="280"/>
                    </a:moveTo>
                    <a:lnTo>
                      <a:pt x="98" y="311"/>
                    </a:lnTo>
                    <a:lnTo>
                      <a:pt x="106" y="341"/>
                    </a:lnTo>
                    <a:lnTo>
                      <a:pt x="119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8" y="415"/>
                    </a:lnTo>
                    <a:lnTo>
                      <a:pt x="170" y="423"/>
                    </a:lnTo>
                    <a:lnTo>
                      <a:pt x="184" y="431"/>
                    </a:lnTo>
                    <a:lnTo>
                      <a:pt x="197" y="437"/>
                    </a:lnTo>
                    <a:lnTo>
                      <a:pt x="213" y="441"/>
                    </a:lnTo>
                    <a:lnTo>
                      <a:pt x="229" y="443"/>
                    </a:lnTo>
                    <a:lnTo>
                      <a:pt x="245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5" y="430"/>
                    </a:lnTo>
                    <a:lnTo>
                      <a:pt x="333" y="418"/>
                    </a:lnTo>
                    <a:lnTo>
                      <a:pt x="351" y="405"/>
                    </a:lnTo>
                    <a:lnTo>
                      <a:pt x="366" y="388"/>
                    </a:lnTo>
                    <a:lnTo>
                      <a:pt x="380" y="368"/>
                    </a:lnTo>
                    <a:lnTo>
                      <a:pt x="394" y="348"/>
                    </a:lnTo>
                    <a:lnTo>
                      <a:pt x="475" y="394"/>
                    </a:lnTo>
                    <a:lnTo>
                      <a:pt x="455" y="424"/>
                    </a:lnTo>
                    <a:lnTo>
                      <a:pt x="433" y="451"/>
                    </a:lnTo>
                    <a:lnTo>
                      <a:pt x="407" y="474"/>
                    </a:lnTo>
                    <a:lnTo>
                      <a:pt x="378" y="494"/>
                    </a:lnTo>
                    <a:lnTo>
                      <a:pt x="347" y="509"/>
                    </a:lnTo>
                    <a:lnTo>
                      <a:pt x="315" y="520"/>
                    </a:lnTo>
                    <a:lnTo>
                      <a:pt x="279" y="528"/>
                    </a:lnTo>
                    <a:lnTo>
                      <a:pt x="244" y="530"/>
                    </a:lnTo>
                    <a:lnTo>
                      <a:pt x="217" y="528"/>
                    </a:lnTo>
                    <a:lnTo>
                      <a:pt x="191" y="524"/>
                    </a:lnTo>
                    <a:lnTo>
                      <a:pt x="165" y="518"/>
                    </a:lnTo>
                    <a:lnTo>
                      <a:pt x="142" y="509"/>
                    </a:lnTo>
                    <a:lnTo>
                      <a:pt x="120" y="498"/>
                    </a:lnTo>
                    <a:lnTo>
                      <a:pt x="101" y="485"/>
                    </a:lnTo>
                    <a:lnTo>
                      <a:pt x="82" y="471"/>
                    </a:lnTo>
                    <a:lnTo>
                      <a:pt x="66" y="454"/>
                    </a:lnTo>
                    <a:lnTo>
                      <a:pt x="50" y="435"/>
                    </a:lnTo>
                    <a:lnTo>
                      <a:pt x="37" y="416"/>
                    </a:lnTo>
                    <a:lnTo>
                      <a:pt x="26" y="394"/>
                    </a:lnTo>
                    <a:lnTo>
                      <a:pt x="16" y="371"/>
                    </a:lnTo>
                    <a:lnTo>
                      <a:pt x="10" y="346"/>
                    </a:lnTo>
                    <a:lnTo>
                      <a:pt x="4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4" y="213"/>
                    </a:lnTo>
                    <a:lnTo>
                      <a:pt x="9" y="186"/>
                    </a:lnTo>
                    <a:lnTo>
                      <a:pt x="15" y="161"/>
                    </a:lnTo>
                    <a:lnTo>
                      <a:pt x="24" y="138"/>
                    </a:lnTo>
                    <a:lnTo>
                      <a:pt x="34" y="116"/>
                    </a:lnTo>
                    <a:lnTo>
                      <a:pt x="47" y="95"/>
                    </a:lnTo>
                    <a:lnTo>
                      <a:pt x="61" y="76"/>
                    </a:lnTo>
                    <a:lnTo>
                      <a:pt x="77" y="60"/>
                    </a:lnTo>
                    <a:lnTo>
                      <a:pt x="95" y="45"/>
                    </a:lnTo>
                    <a:lnTo>
                      <a:pt x="115" y="31"/>
                    </a:lnTo>
                    <a:lnTo>
                      <a:pt x="137" y="20"/>
                    </a:lnTo>
                    <a:lnTo>
                      <a:pt x="160" y="12"/>
                    </a:lnTo>
                    <a:lnTo>
                      <a:pt x="185" y="5"/>
                    </a:lnTo>
                    <a:lnTo>
                      <a:pt x="213" y="2"/>
                    </a:lnTo>
                    <a:lnTo>
                      <a:pt x="242" y="0"/>
                    </a:lnTo>
                    <a:lnTo>
                      <a:pt x="271" y="2"/>
                    </a:lnTo>
                    <a:lnTo>
                      <a:pt x="297" y="5"/>
                    </a:lnTo>
                    <a:lnTo>
                      <a:pt x="322" y="12"/>
                    </a:lnTo>
                    <a:lnTo>
                      <a:pt x="345" y="20"/>
                    </a:lnTo>
                    <a:lnTo>
                      <a:pt x="366" y="31"/>
                    </a:lnTo>
                    <a:lnTo>
                      <a:pt x="385" y="45"/>
                    </a:lnTo>
                    <a:lnTo>
                      <a:pt x="402" y="60"/>
                    </a:lnTo>
                    <a:lnTo>
                      <a:pt x="418" y="76"/>
                    </a:lnTo>
                    <a:lnTo>
                      <a:pt x="431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0" y="161"/>
                    </a:lnTo>
                    <a:lnTo>
                      <a:pt x="467" y="185"/>
                    </a:lnTo>
                    <a:lnTo>
                      <a:pt x="471" y="210"/>
                    </a:lnTo>
                    <a:lnTo>
                      <a:pt x="474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5" y="280"/>
                    </a:lnTo>
                    <a:close/>
                    <a:moveTo>
                      <a:pt x="379" y="207"/>
                    </a:moveTo>
                    <a:lnTo>
                      <a:pt x="373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5" y="117"/>
                    </a:lnTo>
                    <a:lnTo>
                      <a:pt x="316" y="103"/>
                    </a:lnTo>
                    <a:lnTo>
                      <a:pt x="294" y="92"/>
                    </a:lnTo>
                    <a:lnTo>
                      <a:pt x="270" y="85"/>
                    </a:lnTo>
                    <a:lnTo>
                      <a:pt x="242" y="83"/>
                    </a:lnTo>
                    <a:lnTo>
                      <a:pt x="215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1" y="137"/>
                    </a:lnTo>
                    <a:lnTo>
                      <a:pt x="117" y="158"/>
                    </a:lnTo>
                    <a:lnTo>
                      <a:pt x="107" y="182"/>
                    </a:lnTo>
                    <a:lnTo>
                      <a:pt x="101" y="207"/>
                    </a:lnTo>
                    <a:lnTo>
                      <a:pt x="379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177200" y="846000"/>
                <a:ext cx="2052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211400" y="882720"/>
                <a:ext cx="9972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7" y="280"/>
                    </a:moveTo>
                    <a:lnTo>
                      <a:pt x="99" y="311"/>
                    </a:lnTo>
                    <a:lnTo>
                      <a:pt x="108" y="341"/>
                    </a:lnTo>
                    <a:lnTo>
                      <a:pt x="120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9" y="415"/>
                    </a:lnTo>
                    <a:lnTo>
                      <a:pt x="171" y="423"/>
                    </a:lnTo>
                    <a:lnTo>
                      <a:pt x="185" y="431"/>
                    </a:lnTo>
                    <a:lnTo>
                      <a:pt x="199" y="437"/>
                    </a:lnTo>
                    <a:lnTo>
                      <a:pt x="213" y="441"/>
                    </a:lnTo>
                    <a:lnTo>
                      <a:pt x="230" y="443"/>
                    </a:lnTo>
                    <a:lnTo>
                      <a:pt x="246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6" y="430"/>
                    </a:lnTo>
                    <a:lnTo>
                      <a:pt x="335" y="418"/>
                    </a:lnTo>
                    <a:lnTo>
                      <a:pt x="351" y="405"/>
                    </a:lnTo>
                    <a:lnTo>
                      <a:pt x="367" y="388"/>
                    </a:lnTo>
                    <a:lnTo>
                      <a:pt x="381" y="368"/>
                    </a:lnTo>
                    <a:lnTo>
                      <a:pt x="395" y="348"/>
                    </a:lnTo>
                    <a:lnTo>
                      <a:pt x="475" y="394"/>
                    </a:lnTo>
                    <a:lnTo>
                      <a:pt x="457" y="424"/>
                    </a:lnTo>
                    <a:lnTo>
                      <a:pt x="434" y="451"/>
                    </a:lnTo>
                    <a:lnTo>
                      <a:pt x="407" y="474"/>
                    </a:lnTo>
                    <a:lnTo>
                      <a:pt x="379" y="494"/>
                    </a:lnTo>
                    <a:lnTo>
                      <a:pt x="348" y="509"/>
                    </a:lnTo>
                    <a:lnTo>
                      <a:pt x="315" y="520"/>
                    </a:lnTo>
                    <a:lnTo>
                      <a:pt x="281" y="528"/>
                    </a:lnTo>
                    <a:lnTo>
                      <a:pt x="245" y="530"/>
                    </a:lnTo>
                    <a:lnTo>
                      <a:pt x="218" y="528"/>
                    </a:lnTo>
                    <a:lnTo>
                      <a:pt x="191" y="524"/>
                    </a:lnTo>
                    <a:lnTo>
                      <a:pt x="166" y="518"/>
                    </a:lnTo>
                    <a:lnTo>
                      <a:pt x="143" y="509"/>
                    </a:lnTo>
                    <a:lnTo>
                      <a:pt x="121" y="498"/>
                    </a:lnTo>
                    <a:lnTo>
                      <a:pt x="101" y="485"/>
                    </a:lnTo>
                    <a:lnTo>
                      <a:pt x="83" y="471"/>
                    </a:lnTo>
                    <a:lnTo>
                      <a:pt x="66" y="454"/>
                    </a:lnTo>
                    <a:lnTo>
                      <a:pt x="51" y="435"/>
                    </a:lnTo>
                    <a:lnTo>
                      <a:pt x="38" y="416"/>
                    </a:lnTo>
                    <a:lnTo>
                      <a:pt x="27" y="394"/>
                    </a:lnTo>
                    <a:lnTo>
                      <a:pt x="18" y="371"/>
                    </a:lnTo>
                    <a:lnTo>
                      <a:pt x="10" y="346"/>
                    </a:lnTo>
                    <a:lnTo>
                      <a:pt x="5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5" y="213"/>
                    </a:lnTo>
                    <a:lnTo>
                      <a:pt x="9" y="186"/>
                    </a:lnTo>
                    <a:lnTo>
                      <a:pt x="16" y="161"/>
                    </a:lnTo>
                    <a:lnTo>
                      <a:pt x="24" y="138"/>
                    </a:lnTo>
                    <a:lnTo>
                      <a:pt x="35" y="116"/>
                    </a:lnTo>
                    <a:lnTo>
                      <a:pt x="48" y="95"/>
                    </a:lnTo>
                    <a:lnTo>
                      <a:pt x="62" y="76"/>
                    </a:lnTo>
                    <a:lnTo>
                      <a:pt x="78" y="60"/>
                    </a:lnTo>
                    <a:lnTo>
                      <a:pt x="96" y="45"/>
                    </a:lnTo>
                    <a:lnTo>
                      <a:pt x="116" y="31"/>
                    </a:lnTo>
                    <a:lnTo>
                      <a:pt x="137" y="20"/>
                    </a:lnTo>
                    <a:lnTo>
                      <a:pt x="162" y="12"/>
                    </a:lnTo>
                    <a:lnTo>
                      <a:pt x="187" y="5"/>
                    </a:lnTo>
                    <a:lnTo>
                      <a:pt x="214" y="2"/>
                    </a:lnTo>
                    <a:lnTo>
                      <a:pt x="243" y="0"/>
                    </a:lnTo>
                    <a:lnTo>
                      <a:pt x="271" y="2"/>
                    </a:lnTo>
                    <a:lnTo>
                      <a:pt x="299" y="5"/>
                    </a:lnTo>
                    <a:lnTo>
                      <a:pt x="323" y="12"/>
                    </a:lnTo>
                    <a:lnTo>
                      <a:pt x="346" y="20"/>
                    </a:lnTo>
                    <a:lnTo>
                      <a:pt x="367" y="31"/>
                    </a:lnTo>
                    <a:lnTo>
                      <a:pt x="386" y="45"/>
                    </a:lnTo>
                    <a:lnTo>
                      <a:pt x="403" y="60"/>
                    </a:lnTo>
                    <a:lnTo>
                      <a:pt x="418" y="76"/>
                    </a:lnTo>
                    <a:lnTo>
                      <a:pt x="432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1" y="161"/>
                    </a:lnTo>
                    <a:lnTo>
                      <a:pt x="468" y="185"/>
                    </a:lnTo>
                    <a:lnTo>
                      <a:pt x="472" y="210"/>
                    </a:lnTo>
                    <a:lnTo>
                      <a:pt x="475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7" y="280"/>
                    </a:lnTo>
                    <a:close/>
                    <a:moveTo>
                      <a:pt x="380" y="207"/>
                    </a:moveTo>
                    <a:lnTo>
                      <a:pt x="374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6" y="117"/>
                    </a:lnTo>
                    <a:lnTo>
                      <a:pt x="317" y="103"/>
                    </a:lnTo>
                    <a:lnTo>
                      <a:pt x="295" y="92"/>
                    </a:lnTo>
                    <a:lnTo>
                      <a:pt x="270" y="85"/>
                    </a:lnTo>
                    <a:lnTo>
                      <a:pt x="243" y="83"/>
                    </a:lnTo>
                    <a:lnTo>
                      <a:pt x="216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2" y="137"/>
                    </a:lnTo>
                    <a:lnTo>
                      <a:pt x="119" y="158"/>
                    </a:lnTo>
                    <a:lnTo>
                      <a:pt x="108" y="182"/>
                    </a:lnTo>
                    <a:lnTo>
                      <a:pt x="101" y="207"/>
                    </a:lnTo>
                    <a:lnTo>
                      <a:pt x="380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326960" y="882720"/>
                <a:ext cx="84240" cy="101520"/>
              </a:xfrm>
              <a:custGeom>
                <a:avLst/>
                <a:gdLst/>
                <a:ahLst/>
                <a:rect l="l" t="t" r="r" b="b"/>
                <a:pathLst>
                  <a:path w="404" h="530">
                    <a:moveTo>
                      <a:pt x="404" y="157"/>
                    </a:moveTo>
                    <a:lnTo>
                      <a:pt x="389" y="141"/>
                    </a:lnTo>
                    <a:lnTo>
                      <a:pt x="373" y="127"/>
                    </a:lnTo>
                    <a:lnTo>
                      <a:pt x="358" y="116"/>
                    </a:lnTo>
                    <a:lnTo>
                      <a:pt x="340" y="106"/>
                    </a:lnTo>
                    <a:lnTo>
                      <a:pt x="321" y="99"/>
                    </a:lnTo>
                    <a:lnTo>
                      <a:pt x="303" y="94"/>
                    </a:lnTo>
                    <a:lnTo>
                      <a:pt x="283" y="91"/>
                    </a:lnTo>
                    <a:lnTo>
                      <a:pt x="261" y="90"/>
                    </a:lnTo>
                    <a:lnTo>
                      <a:pt x="245" y="91"/>
                    </a:lnTo>
                    <a:lnTo>
                      <a:pt x="227" y="93"/>
                    </a:lnTo>
                    <a:lnTo>
                      <a:pt x="212" y="97"/>
                    </a:lnTo>
                    <a:lnTo>
                      <a:pt x="196" y="104"/>
                    </a:lnTo>
                    <a:lnTo>
                      <a:pt x="182" y="112"/>
                    </a:lnTo>
                    <a:lnTo>
                      <a:pt x="168" y="120"/>
                    </a:lnTo>
                    <a:lnTo>
                      <a:pt x="156" y="130"/>
                    </a:lnTo>
                    <a:lnTo>
                      <a:pt x="144" y="142"/>
                    </a:lnTo>
                    <a:lnTo>
                      <a:pt x="133" y="154"/>
                    </a:lnTo>
                    <a:lnTo>
                      <a:pt x="124" y="169"/>
                    </a:lnTo>
                    <a:lnTo>
                      <a:pt x="115" y="183"/>
                    </a:lnTo>
                    <a:lnTo>
                      <a:pt x="109" y="198"/>
                    </a:lnTo>
                    <a:lnTo>
                      <a:pt x="103" y="214"/>
                    </a:lnTo>
                    <a:lnTo>
                      <a:pt x="99" y="230"/>
                    </a:lnTo>
                    <a:lnTo>
                      <a:pt x="97" y="247"/>
                    </a:lnTo>
                    <a:lnTo>
                      <a:pt x="96" y="264"/>
                    </a:lnTo>
                    <a:lnTo>
                      <a:pt x="97" y="283"/>
                    </a:lnTo>
                    <a:lnTo>
                      <a:pt x="99" y="300"/>
                    </a:lnTo>
                    <a:lnTo>
                      <a:pt x="103" y="318"/>
                    </a:lnTo>
                    <a:lnTo>
                      <a:pt x="109" y="334"/>
                    </a:lnTo>
                    <a:lnTo>
                      <a:pt x="115" y="350"/>
                    </a:lnTo>
                    <a:lnTo>
                      <a:pt x="124" y="364"/>
                    </a:lnTo>
                    <a:lnTo>
                      <a:pt x="133" y="378"/>
                    </a:lnTo>
                    <a:lnTo>
                      <a:pt x="144" y="390"/>
                    </a:lnTo>
                    <a:lnTo>
                      <a:pt x="156" y="401"/>
                    </a:lnTo>
                    <a:lnTo>
                      <a:pt x="169" y="411"/>
                    </a:lnTo>
                    <a:lnTo>
                      <a:pt x="183" y="420"/>
                    </a:lnTo>
                    <a:lnTo>
                      <a:pt x="199" y="427"/>
                    </a:lnTo>
                    <a:lnTo>
                      <a:pt x="215" y="432"/>
                    </a:lnTo>
                    <a:lnTo>
                      <a:pt x="232" y="437"/>
                    </a:lnTo>
                    <a:lnTo>
                      <a:pt x="249" y="439"/>
                    </a:lnTo>
                    <a:lnTo>
                      <a:pt x="268" y="440"/>
                    </a:lnTo>
                    <a:lnTo>
                      <a:pt x="289" y="439"/>
                    </a:lnTo>
                    <a:lnTo>
                      <a:pt x="307" y="435"/>
                    </a:lnTo>
                    <a:lnTo>
                      <a:pt x="326" y="430"/>
                    </a:lnTo>
                    <a:lnTo>
                      <a:pt x="343" y="422"/>
                    </a:lnTo>
                    <a:lnTo>
                      <a:pt x="360" y="412"/>
                    </a:lnTo>
                    <a:lnTo>
                      <a:pt x="375" y="401"/>
                    </a:lnTo>
                    <a:lnTo>
                      <a:pt x="389" y="388"/>
                    </a:lnTo>
                    <a:lnTo>
                      <a:pt x="404" y="374"/>
                    </a:lnTo>
                    <a:lnTo>
                      <a:pt x="404" y="497"/>
                    </a:lnTo>
                    <a:lnTo>
                      <a:pt x="371" y="511"/>
                    </a:lnTo>
                    <a:lnTo>
                      <a:pt x="338" y="522"/>
                    </a:lnTo>
                    <a:lnTo>
                      <a:pt x="303" y="528"/>
                    </a:lnTo>
                    <a:lnTo>
                      <a:pt x="267" y="530"/>
                    </a:lnTo>
                    <a:lnTo>
                      <a:pt x="239" y="528"/>
                    </a:lnTo>
                    <a:lnTo>
                      <a:pt x="213" y="524"/>
                    </a:lnTo>
                    <a:lnTo>
                      <a:pt x="188" y="518"/>
                    </a:lnTo>
                    <a:lnTo>
                      <a:pt x="164" y="509"/>
                    </a:lnTo>
                    <a:lnTo>
                      <a:pt x="140" y="499"/>
                    </a:lnTo>
                    <a:lnTo>
                      <a:pt x="119" y="486"/>
                    </a:lnTo>
                    <a:lnTo>
                      <a:pt x="98" y="472"/>
                    </a:lnTo>
                    <a:lnTo>
                      <a:pt x="79" y="454"/>
                    </a:lnTo>
                    <a:lnTo>
                      <a:pt x="62" y="437"/>
                    </a:lnTo>
                    <a:lnTo>
                      <a:pt x="46" y="416"/>
                    </a:lnTo>
                    <a:lnTo>
                      <a:pt x="33" y="395"/>
                    </a:lnTo>
                    <a:lnTo>
                      <a:pt x="21" y="372"/>
                    </a:lnTo>
                    <a:lnTo>
                      <a:pt x="12" y="348"/>
                    </a:lnTo>
                    <a:lnTo>
                      <a:pt x="6" y="322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6" y="213"/>
                    </a:lnTo>
                    <a:lnTo>
                      <a:pt x="12" y="186"/>
                    </a:lnTo>
                    <a:lnTo>
                      <a:pt x="21" y="161"/>
                    </a:lnTo>
                    <a:lnTo>
                      <a:pt x="33" y="138"/>
                    </a:lnTo>
                    <a:lnTo>
                      <a:pt x="46" y="115"/>
                    </a:lnTo>
                    <a:lnTo>
                      <a:pt x="62" y="95"/>
                    </a:lnTo>
                    <a:lnTo>
                      <a:pt x="79" y="76"/>
                    </a:lnTo>
                    <a:lnTo>
                      <a:pt x="98" y="59"/>
                    </a:lnTo>
                    <a:lnTo>
                      <a:pt x="119" y="45"/>
                    </a:lnTo>
                    <a:lnTo>
                      <a:pt x="142" y="31"/>
                    </a:lnTo>
                    <a:lnTo>
                      <a:pt x="165" y="20"/>
                    </a:lnTo>
                    <a:lnTo>
                      <a:pt x="190" y="12"/>
                    </a:lnTo>
                    <a:lnTo>
                      <a:pt x="216" y="5"/>
                    </a:lnTo>
                    <a:lnTo>
                      <a:pt x="244" y="2"/>
                    </a:lnTo>
                    <a:lnTo>
                      <a:pt x="272" y="0"/>
                    </a:lnTo>
                    <a:lnTo>
                      <a:pt x="306" y="2"/>
                    </a:lnTo>
                    <a:lnTo>
                      <a:pt x="340" y="8"/>
                    </a:lnTo>
                    <a:lnTo>
                      <a:pt x="373" y="18"/>
                    </a:lnTo>
                    <a:lnTo>
                      <a:pt x="404" y="32"/>
                    </a:lnTo>
                    <a:lnTo>
                      <a:pt x="404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423440" y="882720"/>
                <a:ext cx="111600" cy="101520"/>
              </a:xfrm>
              <a:custGeom>
                <a:avLst/>
                <a:gdLst/>
                <a:ahLst/>
                <a:rect l="l" t="t" r="r" b="b"/>
                <a:pathLst>
                  <a:path w="532" h="530">
                    <a:moveTo>
                      <a:pt x="532" y="264"/>
                    </a:moveTo>
                    <a:lnTo>
                      <a:pt x="530" y="293"/>
                    </a:lnTo>
                    <a:lnTo>
                      <a:pt x="527" y="319"/>
                    </a:lnTo>
                    <a:lnTo>
                      <a:pt x="520" y="344"/>
                    </a:lnTo>
                    <a:lnTo>
                      <a:pt x="511" y="370"/>
                    </a:lnTo>
                    <a:lnTo>
                      <a:pt x="501" y="393"/>
                    </a:lnTo>
                    <a:lnTo>
                      <a:pt x="487" y="415"/>
                    </a:lnTo>
                    <a:lnTo>
                      <a:pt x="472" y="434"/>
                    </a:lnTo>
                    <a:lnTo>
                      <a:pt x="454" y="453"/>
                    </a:lnTo>
                    <a:lnTo>
                      <a:pt x="436" y="471"/>
                    </a:lnTo>
                    <a:lnTo>
                      <a:pt x="416" y="485"/>
                    </a:lnTo>
                    <a:lnTo>
                      <a:pt x="394" y="498"/>
                    </a:lnTo>
                    <a:lnTo>
                      <a:pt x="370" y="509"/>
                    </a:lnTo>
                    <a:lnTo>
                      <a:pt x="346" y="518"/>
                    </a:lnTo>
                    <a:lnTo>
                      <a:pt x="321" y="524"/>
                    </a:lnTo>
                    <a:lnTo>
                      <a:pt x="293" y="528"/>
                    </a:lnTo>
                    <a:lnTo>
                      <a:pt x="266" y="530"/>
                    </a:lnTo>
                    <a:lnTo>
                      <a:pt x="238" y="528"/>
                    </a:lnTo>
                    <a:lnTo>
                      <a:pt x="212" y="524"/>
                    </a:lnTo>
                    <a:lnTo>
                      <a:pt x="187" y="518"/>
                    </a:lnTo>
                    <a:lnTo>
                      <a:pt x="162" y="509"/>
                    </a:lnTo>
                    <a:lnTo>
                      <a:pt x="139" y="498"/>
                    </a:lnTo>
                    <a:lnTo>
                      <a:pt x="117" y="485"/>
                    </a:lnTo>
                    <a:lnTo>
                      <a:pt x="97" y="471"/>
                    </a:lnTo>
                    <a:lnTo>
                      <a:pt x="78" y="453"/>
                    </a:lnTo>
                    <a:lnTo>
                      <a:pt x="61" y="434"/>
                    </a:lnTo>
                    <a:lnTo>
                      <a:pt x="45" y="415"/>
                    </a:lnTo>
                    <a:lnTo>
                      <a:pt x="32" y="393"/>
                    </a:lnTo>
                    <a:lnTo>
                      <a:pt x="21" y="370"/>
                    </a:lnTo>
                    <a:lnTo>
                      <a:pt x="12" y="344"/>
                    </a:lnTo>
                    <a:lnTo>
                      <a:pt x="6" y="319"/>
                    </a:lnTo>
                    <a:lnTo>
                      <a:pt x="3" y="293"/>
                    </a:lnTo>
                    <a:lnTo>
                      <a:pt x="0" y="264"/>
                    </a:lnTo>
                    <a:lnTo>
                      <a:pt x="3" y="237"/>
                    </a:lnTo>
                    <a:lnTo>
                      <a:pt x="6" y="210"/>
                    </a:lnTo>
                    <a:lnTo>
                      <a:pt x="12" y="185"/>
                    </a:lnTo>
                    <a:lnTo>
                      <a:pt x="21" y="160"/>
                    </a:lnTo>
                    <a:lnTo>
                      <a:pt x="32" y="137"/>
                    </a:lnTo>
                    <a:lnTo>
                      <a:pt x="45" y="115"/>
                    </a:lnTo>
                    <a:lnTo>
                      <a:pt x="61" y="95"/>
                    </a:lnTo>
                    <a:lnTo>
                      <a:pt x="78" y="76"/>
                    </a:lnTo>
                    <a:lnTo>
                      <a:pt x="97" y="59"/>
                    </a:lnTo>
                    <a:lnTo>
                      <a:pt x="117" y="45"/>
                    </a:lnTo>
                    <a:lnTo>
                      <a:pt x="139" y="31"/>
                    </a:lnTo>
                    <a:lnTo>
                      <a:pt x="162" y="20"/>
                    </a:lnTo>
                    <a:lnTo>
                      <a:pt x="187" y="12"/>
                    </a:lnTo>
                    <a:lnTo>
                      <a:pt x="212" y="5"/>
                    </a:lnTo>
                    <a:lnTo>
                      <a:pt x="238" y="2"/>
                    </a:lnTo>
                    <a:lnTo>
                      <a:pt x="266" y="0"/>
                    </a:lnTo>
                    <a:lnTo>
                      <a:pt x="293" y="2"/>
                    </a:lnTo>
                    <a:lnTo>
                      <a:pt x="321" y="5"/>
                    </a:lnTo>
                    <a:lnTo>
                      <a:pt x="346" y="12"/>
                    </a:lnTo>
                    <a:lnTo>
                      <a:pt x="370" y="20"/>
                    </a:lnTo>
                    <a:lnTo>
                      <a:pt x="394" y="31"/>
                    </a:lnTo>
                    <a:lnTo>
                      <a:pt x="416" y="45"/>
                    </a:lnTo>
                    <a:lnTo>
                      <a:pt x="436" y="59"/>
                    </a:lnTo>
                    <a:lnTo>
                      <a:pt x="454" y="76"/>
                    </a:lnTo>
                    <a:lnTo>
                      <a:pt x="472" y="95"/>
                    </a:lnTo>
                    <a:lnTo>
                      <a:pt x="487" y="115"/>
                    </a:lnTo>
                    <a:lnTo>
                      <a:pt x="501" y="137"/>
                    </a:lnTo>
                    <a:lnTo>
                      <a:pt x="511" y="160"/>
                    </a:lnTo>
                    <a:lnTo>
                      <a:pt x="520" y="185"/>
                    </a:lnTo>
                    <a:lnTo>
                      <a:pt x="527" y="210"/>
                    </a:lnTo>
                    <a:lnTo>
                      <a:pt x="530" y="237"/>
                    </a:lnTo>
                    <a:lnTo>
                      <a:pt x="532" y="264"/>
                    </a:lnTo>
                    <a:close/>
                    <a:moveTo>
                      <a:pt x="96" y="264"/>
                    </a:moveTo>
                    <a:lnTo>
                      <a:pt x="97" y="282"/>
                    </a:lnTo>
                    <a:lnTo>
                      <a:pt x="100" y="299"/>
                    </a:lnTo>
                    <a:lnTo>
                      <a:pt x="103" y="316"/>
                    </a:lnTo>
                    <a:lnTo>
                      <a:pt x="110" y="331"/>
                    </a:lnTo>
                    <a:lnTo>
                      <a:pt x="117" y="346"/>
                    </a:lnTo>
                    <a:lnTo>
                      <a:pt x="125" y="361"/>
                    </a:lnTo>
                    <a:lnTo>
                      <a:pt x="135" y="374"/>
                    </a:lnTo>
                    <a:lnTo>
                      <a:pt x="146" y="386"/>
                    </a:lnTo>
                    <a:lnTo>
                      <a:pt x="158" y="398"/>
                    </a:lnTo>
                    <a:lnTo>
                      <a:pt x="171" y="408"/>
                    </a:lnTo>
                    <a:lnTo>
                      <a:pt x="185" y="417"/>
                    </a:lnTo>
                    <a:lnTo>
                      <a:pt x="200" y="424"/>
                    </a:lnTo>
                    <a:lnTo>
                      <a:pt x="215" y="430"/>
                    </a:lnTo>
                    <a:lnTo>
                      <a:pt x="232" y="434"/>
                    </a:lnTo>
                    <a:lnTo>
                      <a:pt x="248" y="437"/>
                    </a:lnTo>
                    <a:lnTo>
                      <a:pt x="266" y="438"/>
                    </a:lnTo>
                    <a:lnTo>
                      <a:pt x="283" y="437"/>
                    </a:lnTo>
                    <a:lnTo>
                      <a:pt x="301" y="434"/>
                    </a:lnTo>
                    <a:lnTo>
                      <a:pt x="317" y="430"/>
                    </a:lnTo>
                    <a:lnTo>
                      <a:pt x="333" y="424"/>
                    </a:lnTo>
                    <a:lnTo>
                      <a:pt x="348" y="417"/>
                    </a:lnTo>
                    <a:lnTo>
                      <a:pt x="361" y="408"/>
                    </a:lnTo>
                    <a:lnTo>
                      <a:pt x="374" y="398"/>
                    </a:lnTo>
                    <a:lnTo>
                      <a:pt x="386" y="386"/>
                    </a:lnTo>
                    <a:lnTo>
                      <a:pt x="397" y="374"/>
                    </a:lnTo>
                    <a:lnTo>
                      <a:pt x="407" y="361"/>
                    </a:lnTo>
                    <a:lnTo>
                      <a:pt x="416" y="346"/>
                    </a:lnTo>
                    <a:lnTo>
                      <a:pt x="423" y="331"/>
                    </a:lnTo>
                    <a:lnTo>
                      <a:pt x="428" y="316"/>
                    </a:lnTo>
                    <a:lnTo>
                      <a:pt x="433" y="299"/>
                    </a:lnTo>
                    <a:lnTo>
                      <a:pt x="436" y="282"/>
                    </a:lnTo>
                    <a:lnTo>
                      <a:pt x="436" y="264"/>
                    </a:lnTo>
                    <a:lnTo>
                      <a:pt x="436" y="248"/>
                    </a:lnTo>
                    <a:lnTo>
                      <a:pt x="433" y="230"/>
                    </a:lnTo>
                    <a:lnTo>
                      <a:pt x="428" y="214"/>
                    </a:lnTo>
                    <a:lnTo>
                      <a:pt x="423" y="197"/>
                    </a:lnTo>
                    <a:lnTo>
                      <a:pt x="416" y="183"/>
                    </a:lnTo>
                    <a:lnTo>
                      <a:pt x="407" y="169"/>
                    </a:lnTo>
                    <a:lnTo>
                      <a:pt x="397" y="154"/>
                    </a:lnTo>
                    <a:lnTo>
                      <a:pt x="386" y="142"/>
                    </a:lnTo>
                    <a:lnTo>
                      <a:pt x="374" y="131"/>
                    </a:lnTo>
                    <a:lnTo>
                      <a:pt x="361" y="121"/>
                    </a:lnTo>
                    <a:lnTo>
                      <a:pt x="348" y="113"/>
                    </a:lnTo>
                    <a:lnTo>
                      <a:pt x="333" y="105"/>
                    </a:lnTo>
                    <a:lnTo>
                      <a:pt x="317" y="99"/>
                    </a:lnTo>
                    <a:lnTo>
                      <a:pt x="301" y="95"/>
                    </a:lnTo>
                    <a:lnTo>
                      <a:pt x="283" y="92"/>
                    </a:lnTo>
                    <a:lnTo>
                      <a:pt x="266" y="92"/>
                    </a:lnTo>
                    <a:lnTo>
                      <a:pt x="248" y="92"/>
                    </a:lnTo>
                    <a:lnTo>
                      <a:pt x="232" y="95"/>
                    </a:lnTo>
                    <a:lnTo>
                      <a:pt x="215" y="99"/>
                    </a:lnTo>
                    <a:lnTo>
                      <a:pt x="200" y="105"/>
                    </a:lnTo>
                    <a:lnTo>
                      <a:pt x="185" y="113"/>
                    </a:lnTo>
                    <a:lnTo>
                      <a:pt x="171" y="121"/>
                    </a:lnTo>
                    <a:lnTo>
                      <a:pt x="158" y="131"/>
                    </a:lnTo>
                    <a:lnTo>
                      <a:pt x="146" y="142"/>
                    </a:lnTo>
                    <a:lnTo>
                      <a:pt x="135" y="154"/>
                    </a:lnTo>
                    <a:lnTo>
                      <a:pt x="125" y="169"/>
                    </a:lnTo>
                    <a:lnTo>
                      <a:pt x="117" y="183"/>
                    </a:lnTo>
                    <a:lnTo>
                      <a:pt x="110" y="197"/>
                    </a:lnTo>
                    <a:lnTo>
                      <a:pt x="103" y="214"/>
                    </a:lnTo>
                    <a:lnTo>
                      <a:pt x="100" y="230"/>
                    </a:lnTo>
                    <a:lnTo>
                      <a:pt x="97" y="248"/>
                    </a:lnTo>
                    <a:lnTo>
                      <a:pt x="96" y="2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49440" y="882720"/>
                <a:ext cx="144360" cy="98280"/>
              </a:xfrm>
              <a:custGeom>
                <a:avLst/>
                <a:gdLst/>
                <a:ahLst/>
                <a:rect l="l" t="t" r="r" b="b"/>
                <a:pathLst>
                  <a:path w="690" h="512">
                    <a:moveTo>
                      <a:pt x="96" y="77"/>
                    </a:moveTo>
                    <a:lnTo>
                      <a:pt x="98" y="77"/>
                    </a:lnTo>
                    <a:lnTo>
                      <a:pt x="109" y="62"/>
                    </a:lnTo>
                    <a:lnTo>
                      <a:pt x="122" y="47"/>
                    </a:lnTo>
                    <a:lnTo>
                      <a:pt x="137" y="34"/>
                    </a:lnTo>
                    <a:lnTo>
                      <a:pt x="154" y="23"/>
                    </a:lnTo>
                    <a:lnTo>
                      <a:pt x="171" y="13"/>
                    </a:lnTo>
                    <a:lnTo>
                      <a:pt x="190" y="6"/>
                    </a:lnTo>
                    <a:lnTo>
                      <a:pt x="210" y="2"/>
                    </a:lnTo>
                    <a:lnTo>
                      <a:pt x="229" y="0"/>
                    </a:lnTo>
                    <a:lnTo>
                      <a:pt x="253" y="2"/>
                    </a:lnTo>
                    <a:lnTo>
                      <a:pt x="274" y="6"/>
                    </a:lnTo>
                    <a:lnTo>
                      <a:pt x="295" y="13"/>
                    </a:lnTo>
                    <a:lnTo>
                      <a:pt x="314" y="24"/>
                    </a:lnTo>
                    <a:lnTo>
                      <a:pt x="330" y="36"/>
                    </a:lnTo>
                    <a:lnTo>
                      <a:pt x="346" y="51"/>
                    </a:lnTo>
                    <a:lnTo>
                      <a:pt x="360" y="69"/>
                    </a:lnTo>
                    <a:lnTo>
                      <a:pt x="373" y="88"/>
                    </a:lnTo>
                    <a:lnTo>
                      <a:pt x="385" y="69"/>
                    </a:lnTo>
                    <a:lnTo>
                      <a:pt x="401" y="52"/>
                    </a:lnTo>
                    <a:lnTo>
                      <a:pt x="418" y="37"/>
                    </a:lnTo>
                    <a:lnTo>
                      <a:pt x="438" y="24"/>
                    </a:lnTo>
                    <a:lnTo>
                      <a:pt x="458" y="14"/>
                    </a:lnTo>
                    <a:lnTo>
                      <a:pt x="480" y="6"/>
                    </a:lnTo>
                    <a:lnTo>
                      <a:pt x="503" y="2"/>
                    </a:lnTo>
                    <a:lnTo>
                      <a:pt x="526" y="0"/>
                    </a:lnTo>
                    <a:lnTo>
                      <a:pt x="550" y="1"/>
                    </a:lnTo>
                    <a:lnTo>
                      <a:pt x="571" y="5"/>
                    </a:lnTo>
                    <a:lnTo>
                      <a:pt x="589" y="11"/>
                    </a:lnTo>
                    <a:lnTo>
                      <a:pt x="607" y="17"/>
                    </a:lnTo>
                    <a:lnTo>
                      <a:pt x="622" y="27"/>
                    </a:lnTo>
                    <a:lnTo>
                      <a:pt x="635" y="38"/>
                    </a:lnTo>
                    <a:lnTo>
                      <a:pt x="647" y="51"/>
                    </a:lnTo>
                    <a:lnTo>
                      <a:pt x="657" y="65"/>
                    </a:lnTo>
                    <a:lnTo>
                      <a:pt x="666" y="81"/>
                    </a:lnTo>
                    <a:lnTo>
                      <a:pt x="673" y="97"/>
                    </a:lnTo>
                    <a:lnTo>
                      <a:pt x="678" y="115"/>
                    </a:lnTo>
                    <a:lnTo>
                      <a:pt x="684" y="133"/>
                    </a:lnTo>
                    <a:lnTo>
                      <a:pt x="689" y="173"/>
                    </a:lnTo>
                    <a:lnTo>
                      <a:pt x="690" y="215"/>
                    </a:lnTo>
                    <a:lnTo>
                      <a:pt x="690" y="512"/>
                    </a:lnTo>
                    <a:lnTo>
                      <a:pt x="595" y="512"/>
                    </a:lnTo>
                    <a:lnTo>
                      <a:pt x="595" y="230"/>
                    </a:lnTo>
                    <a:lnTo>
                      <a:pt x="595" y="206"/>
                    </a:lnTo>
                    <a:lnTo>
                      <a:pt x="593" y="181"/>
                    </a:lnTo>
                    <a:lnTo>
                      <a:pt x="588" y="157"/>
                    </a:lnTo>
                    <a:lnTo>
                      <a:pt x="580" y="133"/>
                    </a:lnTo>
                    <a:lnTo>
                      <a:pt x="568" y="114"/>
                    </a:lnTo>
                    <a:lnTo>
                      <a:pt x="561" y="106"/>
                    </a:lnTo>
                    <a:lnTo>
                      <a:pt x="552" y="98"/>
                    </a:lnTo>
                    <a:lnTo>
                      <a:pt x="542" y="93"/>
                    </a:lnTo>
                    <a:lnTo>
                      <a:pt x="531" y="88"/>
                    </a:lnTo>
                    <a:lnTo>
                      <a:pt x="517" y="86"/>
                    </a:lnTo>
                    <a:lnTo>
                      <a:pt x="503" y="85"/>
                    </a:lnTo>
                    <a:lnTo>
                      <a:pt x="484" y="86"/>
                    </a:lnTo>
                    <a:lnTo>
                      <a:pt x="469" y="90"/>
                    </a:lnTo>
                    <a:lnTo>
                      <a:pt x="454" y="95"/>
                    </a:lnTo>
                    <a:lnTo>
                      <a:pt x="442" y="103"/>
                    </a:lnTo>
                    <a:lnTo>
                      <a:pt x="432" y="112"/>
                    </a:lnTo>
                    <a:lnTo>
                      <a:pt x="423" y="123"/>
                    </a:lnTo>
                    <a:lnTo>
                      <a:pt x="416" y="135"/>
                    </a:lnTo>
                    <a:lnTo>
                      <a:pt x="409" y="148"/>
                    </a:lnTo>
                    <a:lnTo>
                      <a:pt x="401" y="176"/>
                    </a:lnTo>
                    <a:lnTo>
                      <a:pt x="396" y="207"/>
                    </a:lnTo>
                    <a:lnTo>
                      <a:pt x="394" y="238"/>
                    </a:lnTo>
                    <a:lnTo>
                      <a:pt x="393" y="267"/>
                    </a:lnTo>
                    <a:lnTo>
                      <a:pt x="393" y="512"/>
                    </a:lnTo>
                    <a:lnTo>
                      <a:pt x="297" y="512"/>
                    </a:lnTo>
                    <a:lnTo>
                      <a:pt x="297" y="249"/>
                    </a:lnTo>
                    <a:lnTo>
                      <a:pt x="297" y="224"/>
                    </a:lnTo>
                    <a:lnTo>
                      <a:pt x="295" y="196"/>
                    </a:lnTo>
                    <a:lnTo>
                      <a:pt x="292" y="169"/>
                    </a:lnTo>
                    <a:lnTo>
                      <a:pt x="285" y="142"/>
                    </a:lnTo>
                    <a:lnTo>
                      <a:pt x="280" y="130"/>
                    </a:lnTo>
                    <a:lnTo>
                      <a:pt x="273" y="119"/>
                    </a:lnTo>
                    <a:lnTo>
                      <a:pt x="267" y="110"/>
                    </a:lnTo>
                    <a:lnTo>
                      <a:pt x="258" y="102"/>
                    </a:lnTo>
                    <a:lnTo>
                      <a:pt x="247" y="95"/>
                    </a:lnTo>
                    <a:lnTo>
                      <a:pt x="235" y="90"/>
                    </a:lnTo>
                    <a:lnTo>
                      <a:pt x="222" y="86"/>
                    </a:lnTo>
                    <a:lnTo>
                      <a:pt x="206" y="85"/>
                    </a:lnTo>
                    <a:lnTo>
                      <a:pt x="188" y="86"/>
                    </a:lnTo>
                    <a:lnTo>
                      <a:pt x="172" y="90"/>
                    </a:lnTo>
                    <a:lnTo>
                      <a:pt x="158" y="95"/>
                    </a:lnTo>
                    <a:lnTo>
                      <a:pt x="146" y="103"/>
                    </a:lnTo>
                    <a:lnTo>
                      <a:pt x="135" y="112"/>
                    </a:lnTo>
                    <a:lnTo>
                      <a:pt x="126" y="123"/>
                    </a:lnTo>
                    <a:lnTo>
                      <a:pt x="119" y="135"/>
                    </a:lnTo>
                    <a:lnTo>
                      <a:pt x="113" y="148"/>
                    </a:lnTo>
                    <a:lnTo>
                      <a:pt x="103" y="176"/>
                    </a:lnTo>
                    <a:lnTo>
                      <a:pt x="99" y="207"/>
                    </a:lnTo>
                    <a:lnTo>
                      <a:pt x="97" y="238"/>
                    </a:lnTo>
                    <a:lnTo>
                      <a:pt x="96" y="267"/>
                    </a:lnTo>
                    <a:lnTo>
                      <a:pt x="96" y="512"/>
                    </a:lnTo>
                    <a:lnTo>
                      <a:pt x="0" y="512"/>
                    </a:lnTo>
                    <a:lnTo>
                      <a:pt x="0" y="15"/>
                    </a:lnTo>
                    <a:lnTo>
                      <a:pt x="96" y="15"/>
                    </a:lnTo>
                    <a:lnTo>
                      <a:pt x="96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908640" y="1022400"/>
                <a:ext cx="9082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a-DK" sz="600" spc="-1" strike="noStrike">
                    <a:solidFill>
                      <a:srgbClr val="ffffff"/>
                    </a:solidFill>
                    <a:latin typeface="Futura Bk BT"/>
                  </a:rPr>
                  <a:t>www.kirktelecom.dk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9" name=""/>
          <p:cNvSpPr/>
          <p:nvPr/>
        </p:nvSpPr>
        <p:spPr>
          <a:xfrm>
            <a:off x="2228760" y="0"/>
            <a:ext cx="76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CCFP Administration Program Ver.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0" name="" descr=""/>
          <p:cNvPicPr/>
          <p:nvPr/>
        </p:nvPicPr>
        <p:blipFill>
          <a:blip r:embed="rId2"/>
          <a:stretch/>
        </p:blipFill>
        <p:spPr>
          <a:xfrm>
            <a:off x="3191040" y="698400"/>
            <a:ext cx="5476680" cy="3924360"/>
          </a:xfrm>
          <a:prstGeom prst="rect">
            <a:avLst/>
          </a:prstGeom>
          <a:ln w="0">
            <a:noFill/>
          </a:ln>
        </p:spPr>
      </p:pic>
      <p:sp>
        <p:nvSpPr>
          <p:cNvPr id="951" name=""/>
          <p:cNvSpPr/>
          <p:nvPr/>
        </p:nvSpPr>
        <p:spPr>
          <a:xfrm>
            <a:off x="3190320" y="4773600"/>
            <a:ext cx="66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смотр параметров базовых станций, подключенных к системе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167080" y="2629080"/>
            <a:ext cx="12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рсия П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6129360" y="1618920"/>
            <a:ext cx="776160" cy="10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887920" y="5667480"/>
            <a:ext cx="597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бедитесь, что базовые станции содержат идентичн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ерсии ПО</a:t>
            </a: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противном случае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adnover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 осуществляет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D87D-DA79-4181-A30F-5BA558D82D86}" type="slidenum">
              <a:t>28</a:t>
            </a:fld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2889360" y="457200"/>
            <a:ext cx="6521400" cy="0"/>
          </a:xfrm>
          <a:prstGeom prst="line">
            <a:avLst/>
          </a:prstGeom>
          <a:ln cap="sq"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0" y="0"/>
            <a:ext cx="6129000" cy="6858000"/>
            <a:chOff x="0" y="0"/>
            <a:chExt cx="6129000" cy="6858000"/>
          </a:xfrm>
        </p:grpSpPr>
        <p:sp>
          <p:nvSpPr>
            <p:cNvPr id="957" name=""/>
            <p:cNvSpPr/>
            <p:nvPr/>
          </p:nvSpPr>
          <p:spPr>
            <a:xfrm>
              <a:off x="0" y="0"/>
              <a:ext cx="2228760" cy="3429000"/>
            </a:xfrm>
            <a:prstGeom prst="rect">
              <a:avLst/>
            </a:prstGeom>
            <a:solidFill>
              <a:srgbClr val="000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3429000"/>
              <a:ext cx="2228760" cy="3429000"/>
            </a:xfrm>
            <a:prstGeom prst="rect">
              <a:avLst/>
            </a:pr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91836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79924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1" name="" descr=""/>
            <p:cNvPicPr/>
            <p:nvPr/>
          </p:nvPicPr>
          <p:blipFill>
            <a:blip r:embed="rId1"/>
            <a:stretch/>
          </p:blipFill>
          <p:spPr>
            <a:xfrm>
              <a:off x="201240" y="2055960"/>
              <a:ext cx="1705680" cy="271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2" name=""/>
            <p:cNvGrpSpPr/>
            <p:nvPr/>
          </p:nvGrpSpPr>
          <p:grpSpPr>
            <a:xfrm>
              <a:off x="211320" y="380880"/>
              <a:ext cx="1605600" cy="821880"/>
              <a:chOff x="211320" y="380880"/>
              <a:chExt cx="1605600" cy="821880"/>
            </a:xfrm>
          </p:grpSpPr>
          <p:sp>
            <p:nvSpPr>
              <p:cNvPr id="963" name=""/>
              <p:cNvSpPr/>
              <p:nvPr/>
            </p:nvSpPr>
            <p:spPr>
              <a:xfrm>
                <a:off x="403920" y="38088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7">
                    <a:moveTo>
                      <a:pt x="29" y="1655"/>
                    </a:moveTo>
                    <a:lnTo>
                      <a:pt x="79" y="1682"/>
                    </a:lnTo>
                    <a:lnTo>
                      <a:pt x="623" y="1957"/>
                    </a:lnTo>
                    <a:lnTo>
                      <a:pt x="684" y="1987"/>
                    </a:lnTo>
                    <a:lnTo>
                      <a:pt x="687" y="1916"/>
                    </a:lnTo>
                    <a:lnTo>
                      <a:pt x="691" y="1864"/>
                    </a:lnTo>
                    <a:lnTo>
                      <a:pt x="697" y="1814"/>
                    </a:lnTo>
                    <a:lnTo>
                      <a:pt x="704" y="1763"/>
                    </a:lnTo>
                    <a:lnTo>
                      <a:pt x="713" y="1714"/>
                    </a:lnTo>
                    <a:lnTo>
                      <a:pt x="724" y="1665"/>
                    </a:lnTo>
                    <a:lnTo>
                      <a:pt x="737" y="1616"/>
                    </a:lnTo>
                    <a:lnTo>
                      <a:pt x="751" y="1569"/>
                    </a:lnTo>
                    <a:lnTo>
                      <a:pt x="767" y="1522"/>
                    </a:lnTo>
                    <a:lnTo>
                      <a:pt x="784" y="1476"/>
                    </a:lnTo>
                    <a:lnTo>
                      <a:pt x="803" y="1431"/>
                    </a:lnTo>
                    <a:lnTo>
                      <a:pt x="824" y="1386"/>
                    </a:lnTo>
                    <a:lnTo>
                      <a:pt x="846" y="1343"/>
                    </a:lnTo>
                    <a:lnTo>
                      <a:pt x="869" y="1300"/>
                    </a:lnTo>
                    <a:lnTo>
                      <a:pt x="894" y="1257"/>
                    </a:lnTo>
                    <a:lnTo>
                      <a:pt x="920" y="1217"/>
                    </a:lnTo>
                    <a:lnTo>
                      <a:pt x="948" y="1177"/>
                    </a:lnTo>
                    <a:lnTo>
                      <a:pt x="976" y="1137"/>
                    </a:lnTo>
                    <a:lnTo>
                      <a:pt x="1007" y="1100"/>
                    </a:lnTo>
                    <a:lnTo>
                      <a:pt x="1038" y="1063"/>
                    </a:lnTo>
                    <a:lnTo>
                      <a:pt x="1071" y="1027"/>
                    </a:lnTo>
                    <a:lnTo>
                      <a:pt x="1105" y="993"/>
                    </a:lnTo>
                    <a:lnTo>
                      <a:pt x="1140" y="959"/>
                    </a:lnTo>
                    <a:lnTo>
                      <a:pt x="1176" y="927"/>
                    </a:lnTo>
                    <a:lnTo>
                      <a:pt x="1213" y="896"/>
                    </a:lnTo>
                    <a:lnTo>
                      <a:pt x="1250" y="866"/>
                    </a:lnTo>
                    <a:lnTo>
                      <a:pt x="1290" y="838"/>
                    </a:lnTo>
                    <a:lnTo>
                      <a:pt x="1331" y="810"/>
                    </a:lnTo>
                    <a:lnTo>
                      <a:pt x="1372" y="785"/>
                    </a:lnTo>
                    <a:lnTo>
                      <a:pt x="1414" y="760"/>
                    </a:lnTo>
                    <a:lnTo>
                      <a:pt x="1457" y="737"/>
                    </a:lnTo>
                    <a:lnTo>
                      <a:pt x="1501" y="716"/>
                    </a:lnTo>
                    <a:lnTo>
                      <a:pt x="1546" y="696"/>
                    </a:lnTo>
                    <a:lnTo>
                      <a:pt x="1584" y="680"/>
                    </a:lnTo>
                    <a:lnTo>
                      <a:pt x="1594" y="673"/>
                    </a:lnTo>
                    <a:lnTo>
                      <a:pt x="1600" y="665"/>
                    </a:lnTo>
                    <a:lnTo>
                      <a:pt x="1604" y="658"/>
                    </a:lnTo>
                    <a:lnTo>
                      <a:pt x="1606" y="650"/>
                    </a:lnTo>
                    <a:lnTo>
                      <a:pt x="1605" y="638"/>
                    </a:lnTo>
                    <a:lnTo>
                      <a:pt x="1603" y="632"/>
                    </a:lnTo>
                    <a:lnTo>
                      <a:pt x="1586" y="586"/>
                    </a:lnTo>
                    <a:lnTo>
                      <a:pt x="1385" y="31"/>
                    </a:lnTo>
                    <a:lnTo>
                      <a:pt x="1381" y="18"/>
                    </a:lnTo>
                    <a:lnTo>
                      <a:pt x="1380" y="13"/>
                    </a:lnTo>
                    <a:lnTo>
                      <a:pt x="1372" y="5"/>
                    </a:lnTo>
                    <a:lnTo>
                      <a:pt x="1367" y="2"/>
                    </a:lnTo>
                    <a:lnTo>
                      <a:pt x="1359" y="0"/>
                    </a:lnTo>
                    <a:lnTo>
                      <a:pt x="1349" y="0"/>
                    </a:lnTo>
                    <a:lnTo>
                      <a:pt x="1337" y="3"/>
                    </a:lnTo>
                    <a:lnTo>
                      <a:pt x="1307" y="14"/>
                    </a:lnTo>
                    <a:lnTo>
                      <a:pt x="1248" y="37"/>
                    </a:lnTo>
                    <a:lnTo>
                      <a:pt x="1190" y="63"/>
                    </a:lnTo>
                    <a:lnTo>
                      <a:pt x="1133" y="89"/>
                    </a:lnTo>
                    <a:lnTo>
                      <a:pt x="1076" y="119"/>
                    </a:lnTo>
                    <a:lnTo>
                      <a:pt x="1021" y="149"/>
                    </a:lnTo>
                    <a:lnTo>
                      <a:pt x="966" y="181"/>
                    </a:lnTo>
                    <a:lnTo>
                      <a:pt x="913" y="215"/>
                    </a:lnTo>
                    <a:lnTo>
                      <a:pt x="861" y="251"/>
                    </a:lnTo>
                    <a:lnTo>
                      <a:pt x="810" y="289"/>
                    </a:lnTo>
                    <a:lnTo>
                      <a:pt x="759" y="328"/>
                    </a:lnTo>
                    <a:lnTo>
                      <a:pt x="711" y="369"/>
                    </a:lnTo>
                    <a:lnTo>
                      <a:pt x="663" y="411"/>
                    </a:lnTo>
                    <a:lnTo>
                      <a:pt x="616" y="455"/>
                    </a:lnTo>
                    <a:lnTo>
                      <a:pt x="572" y="501"/>
                    </a:lnTo>
                    <a:lnTo>
                      <a:pt x="528" y="547"/>
                    </a:lnTo>
                    <a:lnTo>
                      <a:pt x="485" y="595"/>
                    </a:lnTo>
                    <a:lnTo>
                      <a:pt x="443" y="645"/>
                    </a:lnTo>
                    <a:lnTo>
                      <a:pt x="404" y="695"/>
                    </a:lnTo>
                    <a:lnTo>
                      <a:pt x="365" y="747"/>
                    </a:lnTo>
                    <a:lnTo>
                      <a:pt x="329" y="800"/>
                    </a:lnTo>
                    <a:lnTo>
                      <a:pt x="294" y="854"/>
                    </a:lnTo>
                    <a:lnTo>
                      <a:pt x="260" y="910"/>
                    </a:lnTo>
                    <a:lnTo>
                      <a:pt x="228" y="967"/>
                    </a:lnTo>
                    <a:lnTo>
                      <a:pt x="197" y="1024"/>
                    </a:lnTo>
                    <a:lnTo>
                      <a:pt x="169" y="1084"/>
                    </a:lnTo>
                    <a:lnTo>
                      <a:pt x="142" y="1144"/>
                    </a:lnTo>
                    <a:lnTo>
                      <a:pt x="116" y="1204"/>
                    </a:lnTo>
                    <a:lnTo>
                      <a:pt x="93" y="1266"/>
                    </a:lnTo>
                    <a:lnTo>
                      <a:pt x="71" y="1329"/>
                    </a:lnTo>
                    <a:lnTo>
                      <a:pt x="52" y="1392"/>
                    </a:lnTo>
                    <a:lnTo>
                      <a:pt x="34" y="1457"/>
                    </a:lnTo>
                    <a:lnTo>
                      <a:pt x="18" y="1522"/>
                    </a:lnTo>
                    <a:lnTo>
                      <a:pt x="2" y="1593"/>
                    </a:lnTo>
                    <a:lnTo>
                      <a:pt x="0" y="1610"/>
                    </a:lnTo>
                    <a:lnTo>
                      <a:pt x="1" y="1623"/>
                    </a:lnTo>
                    <a:lnTo>
                      <a:pt x="6" y="1634"/>
                    </a:lnTo>
                    <a:lnTo>
                      <a:pt x="11" y="1643"/>
                    </a:lnTo>
                    <a:lnTo>
                      <a:pt x="17" y="1648"/>
                    </a:lnTo>
                    <a:lnTo>
                      <a:pt x="23" y="1652"/>
                    </a:lnTo>
                    <a:lnTo>
                      <a:pt x="29" y="1655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03920" y="77004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5">
                    <a:moveTo>
                      <a:pt x="29" y="333"/>
                    </a:moveTo>
                    <a:lnTo>
                      <a:pt x="79" y="306"/>
                    </a:lnTo>
                    <a:lnTo>
                      <a:pt x="623" y="31"/>
                    </a:lnTo>
                    <a:lnTo>
                      <a:pt x="684" y="0"/>
                    </a:lnTo>
                    <a:lnTo>
                      <a:pt x="687" y="72"/>
                    </a:lnTo>
                    <a:lnTo>
                      <a:pt x="691" y="123"/>
                    </a:lnTo>
                    <a:lnTo>
                      <a:pt x="697" y="174"/>
                    </a:lnTo>
                    <a:lnTo>
                      <a:pt x="704" y="224"/>
                    </a:lnTo>
                    <a:lnTo>
                      <a:pt x="713" y="273"/>
                    </a:lnTo>
                    <a:lnTo>
                      <a:pt x="724" y="323"/>
                    </a:lnTo>
                    <a:lnTo>
                      <a:pt x="737" y="371"/>
                    </a:lnTo>
                    <a:lnTo>
                      <a:pt x="751" y="418"/>
                    </a:lnTo>
                    <a:lnTo>
                      <a:pt x="767" y="465"/>
                    </a:lnTo>
                    <a:lnTo>
                      <a:pt x="784" y="512"/>
                    </a:lnTo>
                    <a:lnTo>
                      <a:pt x="803" y="557"/>
                    </a:lnTo>
                    <a:lnTo>
                      <a:pt x="824" y="602"/>
                    </a:lnTo>
                    <a:lnTo>
                      <a:pt x="846" y="645"/>
                    </a:lnTo>
                    <a:lnTo>
                      <a:pt x="869" y="688"/>
                    </a:lnTo>
                    <a:lnTo>
                      <a:pt x="894" y="730"/>
                    </a:lnTo>
                    <a:lnTo>
                      <a:pt x="920" y="771"/>
                    </a:lnTo>
                    <a:lnTo>
                      <a:pt x="948" y="811"/>
                    </a:lnTo>
                    <a:lnTo>
                      <a:pt x="976" y="850"/>
                    </a:lnTo>
                    <a:lnTo>
                      <a:pt x="1007" y="888"/>
                    </a:lnTo>
                    <a:lnTo>
                      <a:pt x="1038" y="924"/>
                    </a:lnTo>
                    <a:lnTo>
                      <a:pt x="1071" y="961"/>
                    </a:lnTo>
                    <a:lnTo>
                      <a:pt x="1105" y="995"/>
                    </a:lnTo>
                    <a:lnTo>
                      <a:pt x="1140" y="1029"/>
                    </a:lnTo>
                    <a:lnTo>
                      <a:pt x="1176" y="1061"/>
                    </a:lnTo>
                    <a:lnTo>
                      <a:pt x="1213" y="1092"/>
                    </a:lnTo>
                    <a:lnTo>
                      <a:pt x="1252" y="1122"/>
                    </a:lnTo>
                    <a:lnTo>
                      <a:pt x="1290" y="1151"/>
                    </a:lnTo>
                    <a:lnTo>
                      <a:pt x="1331" y="1177"/>
                    </a:lnTo>
                    <a:lnTo>
                      <a:pt x="1372" y="1203"/>
                    </a:lnTo>
                    <a:lnTo>
                      <a:pt x="1414" y="1227"/>
                    </a:lnTo>
                    <a:lnTo>
                      <a:pt x="1457" y="1250"/>
                    </a:lnTo>
                    <a:lnTo>
                      <a:pt x="1501" y="1271"/>
                    </a:lnTo>
                    <a:lnTo>
                      <a:pt x="1546" y="1292"/>
                    </a:lnTo>
                    <a:lnTo>
                      <a:pt x="1584" y="1308"/>
                    </a:lnTo>
                    <a:lnTo>
                      <a:pt x="1594" y="1315"/>
                    </a:lnTo>
                    <a:lnTo>
                      <a:pt x="1600" y="1323"/>
                    </a:lnTo>
                    <a:lnTo>
                      <a:pt x="1605" y="1331"/>
                    </a:lnTo>
                    <a:lnTo>
                      <a:pt x="1606" y="1337"/>
                    </a:lnTo>
                    <a:lnTo>
                      <a:pt x="1605" y="1349"/>
                    </a:lnTo>
                    <a:lnTo>
                      <a:pt x="1603" y="1355"/>
                    </a:lnTo>
                    <a:lnTo>
                      <a:pt x="1586" y="1401"/>
                    </a:lnTo>
                    <a:lnTo>
                      <a:pt x="1388" y="1950"/>
                    </a:lnTo>
                    <a:lnTo>
                      <a:pt x="1381" y="1965"/>
                    </a:lnTo>
                    <a:lnTo>
                      <a:pt x="1379" y="1970"/>
                    </a:lnTo>
                    <a:lnTo>
                      <a:pt x="1371" y="1978"/>
                    </a:lnTo>
                    <a:lnTo>
                      <a:pt x="1366" y="1983"/>
                    </a:lnTo>
                    <a:lnTo>
                      <a:pt x="1358" y="1985"/>
                    </a:lnTo>
                    <a:lnTo>
                      <a:pt x="1348" y="1985"/>
                    </a:lnTo>
                    <a:lnTo>
                      <a:pt x="1338" y="1983"/>
                    </a:lnTo>
                    <a:lnTo>
                      <a:pt x="1302" y="1969"/>
                    </a:lnTo>
                    <a:lnTo>
                      <a:pt x="1242" y="1942"/>
                    </a:lnTo>
                    <a:lnTo>
                      <a:pt x="1181" y="1915"/>
                    </a:lnTo>
                    <a:lnTo>
                      <a:pt x="1123" y="1886"/>
                    </a:lnTo>
                    <a:lnTo>
                      <a:pt x="1066" y="1857"/>
                    </a:lnTo>
                    <a:lnTo>
                      <a:pt x="1009" y="1824"/>
                    </a:lnTo>
                    <a:lnTo>
                      <a:pt x="954" y="1791"/>
                    </a:lnTo>
                    <a:lnTo>
                      <a:pt x="901" y="1756"/>
                    </a:lnTo>
                    <a:lnTo>
                      <a:pt x="848" y="1719"/>
                    </a:lnTo>
                    <a:lnTo>
                      <a:pt x="796" y="1682"/>
                    </a:lnTo>
                    <a:lnTo>
                      <a:pt x="747" y="1642"/>
                    </a:lnTo>
                    <a:lnTo>
                      <a:pt x="698" y="1602"/>
                    </a:lnTo>
                    <a:lnTo>
                      <a:pt x="650" y="1560"/>
                    </a:lnTo>
                    <a:lnTo>
                      <a:pt x="604" y="1517"/>
                    </a:lnTo>
                    <a:lnTo>
                      <a:pt x="559" y="1472"/>
                    </a:lnTo>
                    <a:lnTo>
                      <a:pt x="517" y="1426"/>
                    </a:lnTo>
                    <a:lnTo>
                      <a:pt x="475" y="1379"/>
                    </a:lnTo>
                    <a:lnTo>
                      <a:pt x="434" y="1331"/>
                    </a:lnTo>
                    <a:lnTo>
                      <a:pt x="395" y="1281"/>
                    </a:lnTo>
                    <a:lnTo>
                      <a:pt x="358" y="1230"/>
                    </a:lnTo>
                    <a:lnTo>
                      <a:pt x="323" y="1178"/>
                    </a:lnTo>
                    <a:lnTo>
                      <a:pt x="287" y="1124"/>
                    </a:lnTo>
                    <a:lnTo>
                      <a:pt x="255" y="1070"/>
                    </a:lnTo>
                    <a:lnTo>
                      <a:pt x="224" y="1014"/>
                    </a:lnTo>
                    <a:lnTo>
                      <a:pt x="194" y="957"/>
                    </a:lnTo>
                    <a:lnTo>
                      <a:pt x="166" y="900"/>
                    </a:lnTo>
                    <a:lnTo>
                      <a:pt x="139" y="841"/>
                    </a:lnTo>
                    <a:lnTo>
                      <a:pt x="115" y="781"/>
                    </a:lnTo>
                    <a:lnTo>
                      <a:pt x="92" y="720"/>
                    </a:lnTo>
                    <a:lnTo>
                      <a:pt x="71" y="658"/>
                    </a:lnTo>
                    <a:lnTo>
                      <a:pt x="52" y="595"/>
                    </a:lnTo>
                    <a:lnTo>
                      <a:pt x="34" y="530"/>
                    </a:lnTo>
                    <a:lnTo>
                      <a:pt x="18" y="465"/>
                    </a:lnTo>
                    <a:lnTo>
                      <a:pt x="3" y="394"/>
                    </a:lnTo>
                    <a:lnTo>
                      <a:pt x="0" y="378"/>
                    </a:lnTo>
                    <a:lnTo>
                      <a:pt x="1" y="364"/>
                    </a:lnTo>
                    <a:lnTo>
                      <a:pt x="6" y="353"/>
                    </a:lnTo>
                    <a:lnTo>
                      <a:pt x="11" y="346"/>
                    </a:lnTo>
                    <a:lnTo>
                      <a:pt x="17" y="339"/>
                    </a:lnTo>
                    <a:lnTo>
                      <a:pt x="23" y="336"/>
                    </a:lnTo>
                    <a:lnTo>
                      <a:pt x="29" y="333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67440" y="698400"/>
                <a:ext cx="149400" cy="147600"/>
              </a:xfrm>
              <a:custGeom>
                <a:avLst/>
                <a:gdLst/>
                <a:ahLst/>
                <a:rect l="l" t="t" r="r" b="b"/>
                <a:pathLst>
                  <a:path w="714" h="759">
                    <a:moveTo>
                      <a:pt x="699" y="379"/>
                    </a:moveTo>
                    <a:lnTo>
                      <a:pt x="706" y="375"/>
                    </a:lnTo>
                    <a:lnTo>
                      <a:pt x="710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09" y="351"/>
                    </a:lnTo>
                    <a:lnTo>
                      <a:pt x="705" y="346"/>
                    </a:lnTo>
                    <a:lnTo>
                      <a:pt x="699" y="342"/>
                    </a:lnTo>
                    <a:lnTo>
                      <a:pt x="35" y="4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3" y="11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735"/>
                    </a:lnTo>
                    <a:lnTo>
                      <a:pt x="1" y="743"/>
                    </a:lnTo>
                    <a:lnTo>
                      <a:pt x="3" y="748"/>
                    </a:lnTo>
                    <a:lnTo>
                      <a:pt x="5" y="753"/>
                    </a:lnTo>
                    <a:lnTo>
                      <a:pt x="10" y="757"/>
                    </a:lnTo>
                    <a:lnTo>
                      <a:pt x="15" y="759"/>
                    </a:lnTo>
                    <a:lnTo>
                      <a:pt x="21" y="759"/>
                    </a:lnTo>
                    <a:lnTo>
                      <a:pt x="27" y="758"/>
                    </a:lnTo>
                    <a:lnTo>
                      <a:pt x="34" y="755"/>
                    </a:lnTo>
                    <a:lnTo>
                      <a:pt x="699" y="379"/>
                    </a:lnTo>
                    <a:close/>
                  </a:path>
                </a:pathLst>
              </a:custGeom>
              <a:solidFill>
                <a:srgbClr val="00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211320" y="701640"/>
                <a:ext cx="149760" cy="146160"/>
              </a:xfrm>
              <a:custGeom>
                <a:avLst/>
                <a:gdLst/>
                <a:ahLst/>
                <a:rect l="l" t="t" r="r" b="b"/>
                <a:pathLst>
                  <a:path w="714" h="758">
                    <a:moveTo>
                      <a:pt x="701" y="379"/>
                    </a:moveTo>
                    <a:lnTo>
                      <a:pt x="706" y="374"/>
                    </a:lnTo>
                    <a:lnTo>
                      <a:pt x="711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11" y="350"/>
                    </a:lnTo>
                    <a:lnTo>
                      <a:pt x="706" y="346"/>
                    </a:lnTo>
                    <a:lnTo>
                      <a:pt x="700" y="342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0" y="734"/>
                    </a:lnTo>
                    <a:lnTo>
                      <a:pt x="1" y="742"/>
                    </a:lnTo>
                    <a:lnTo>
                      <a:pt x="3" y="749"/>
                    </a:lnTo>
                    <a:lnTo>
                      <a:pt x="7" y="753"/>
                    </a:lnTo>
                    <a:lnTo>
                      <a:pt x="10" y="756"/>
                    </a:lnTo>
                    <a:lnTo>
                      <a:pt x="15" y="758"/>
                    </a:lnTo>
                    <a:lnTo>
                      <a:pt x="21" y="758"/>
                    </a:lnTo>
                    <a:lnTo>
                      <a:pt x="27" y="757"/>
                    </a:lnTo>
                    <a:lnTo>
                      <a:pt x="34" y="754"/>
                    </a:lnTo>
                    <a:lnTo>
                      <a:pt x="701" y="379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011960" y="517680"/>
                <a:ext cx="195840" cy="250560"/>
              </a:xfrm>
              <a:custGeom>
                <a:avLst/>
                <a:gdLst/>
                <a:ahLst/>
                <a:rect l="l" t="t" r="r" b="b"/>
                <a:pathLst>
                  <a:path w="930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30" y="1293"/>
                    </a:lnTo>
                    <a:lnTo>
                      <a:pt x="713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1230480" y="517680"/>
                <a:ext cx="34200" cy="25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316520" y="517680"/>
                <a:ext cx="168480" cy="250560"/>
              </a:xfrm>
              <a:custGeom>
                <a:avLst/>
                <a:gdLst/>
                <a:ahLst/>
                <a:rect l="l" t="t" r="r" b="b"/>
                <a:pathLst>
                  <a:path w="803" h="1293">
                    <a:moveTo>
                      <a:pt x="803" y="1293"/>
                    </a:moveTo>
                    <a:lnTo>
                      <a:pt x="607" y="1293"/>
                    </a:lnTo>
                    <a:lnTo>
                      <a:pt x="228" y="746"/>
                    </a:lnTo>
                    <a:lnTo>
                      <a:pt x="161" y="746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283" y="1"/>
                    </a:lnTo>
                    <a:lnTo>
                      <a:pt x="327" y="4"/>
                    </a:lnTo>
                    <a:lnTo>
                      <a:pt x="370" y="8"/>
                    </a:lnTo>
                    <a:lnTo>
                      <a:pt x="413" y="16"/>
                    </a:lnTo>
                    <a:lnTo>
                      <a:pt x="456" y="27"/>
                    </a:lnTo>
                    <a:lnTo>
                      <a:pt x="497" y="41"/>
                    </a:lnTo>
                    <a:lnTo>
                      <a:pt x="536" y="61"/>
                    </a:lnTo>
                    <a:lnTo>
                      <a:pt x="556" y="73"/>
                    </a:lnTo>
                    <a:lnTo>
                      <a:pt x="574" y="87"/>
                    </a:lnTo>
                    <a:lnTo>
                      <a:pt x="592" y="101"/>
                    </a:lnTo>
                    <a:lnTo>
                      <a:pt x="608" y="118"/>
                    </a:lnTo>
                    <a:lnTo>
                      <a:pt x="623" y="135"/>
                    </a:lnTo>
                    <a:lnTo>
                      <a:pt x="637" y="153"/>
                    </a:lnTo>
                    <a:lnTo>
                      <a:pt x="650" y="173"/>
                    </a:lnTo>
                    <a:lnTo>
                      <a:pt x="661" y="192"/>
                    </a:lnTo>
                    <a:lnTo>
                      <a:pt x="671" y="212"/>
                    </a:lnTo>
                    <a:lnTo>
                      <a:pt x="680" y="233"/>
                    </a:lnTo>
                    <a:lnTo>
                      <a:pt x="694" y="277"/>
                    </a:lnTo>
                    <a:lnTo>
                      <a:pt x="700" y="300"/>
                    </a:lnTo>
                    <a:lnTo>
                      <a:pt x="703" y="323"/>
                    </a:lnTo>
                    <a:lnTo>
                      <a:pt x="705" y="346"/>
                    </a:lnTo>
                    <a:lnTo>
                      <a:pt x="705" y="369"/>
                    </a:lnTo>
                    <a:lnTo>
                      <a:pt x="704" y="403"/>
                    </a:lnTo>
                    <a:lnTo>
                      <a:pt x="700" y="436"/>
                    </a:lnTo>
                    <a:lnTo>
                      <a:pt x="693" y="469"/>
                    </a:lnTo>
                    <a:lnTo>
                      <a:pt x="683" y="500"/>
                    </a:lnTo>
                    <a:lnTo>
                      <a:pt x="671" y="531"/>
                    </a:lnTo>
                    <a:lnTo>
                      <a:pt x="657" y="558"/>
                    </a:lnTo>
                    <a:lnTo>
                      <a:pt x="639" y="585"/>
                    </a:lnTo>
                    <a:lnTo>
                      <a:pt x="621" y="611"/>
                    </a:lnTo>
                    <a:lnTo>
                      <a:pt x="599" y="634"/>
                    </a:lnTo>
                    <a:lnTo>
                      <a:pt x="576" y="655"/>
                    </a:lnTo>
                    <a:lnTo>
                      <a:pt x="550" y="673"/>
                    </a:lnTo>
                    <a:lnTo>
                      <a:pt x="523" y="691"/>
                    </a:lnTo>
                    <a:lnTo>
                      <a:pt x="493" y="704"/>
                    </a:lnTo>
                    <a:lnTo>
                      <a:pt x="463" y="716"/>
                    </a:lnTo>
                    <a:lnTo>
                      <a:pt x="430" y="725"/>
                    </a:lnTo>
                    <a:lnTo>
                      <a:pt x="396" y="730"/>
                    </a:lnTo>
                    <a:lnTo>
                      <a:pt x="803" y="1293"/>
                    </a:lnTo>
                    <a:close/>
                    <a:moveTo>
                      <a:pt x="161" y="612"/>
                    </a:moveTo>
                    <a:lnTo>
                      <a:pt x="213" y="612"/>
                    </a:lnTo>
                    <a:lnTo>
                      <a:pt x="274" y="611"/>
                    </a:lnTo>
                    <a:lnTo>
                      <a:pt x="335" y="604"/>
                    </a:lnTo>
                    <a:lnTo>
                      <a:pt x="365" y="599"/>
                    </a:lnTo>
                    <a:lnTo>
                      <a:pt x="393" y="591"/>
                    </a:lnTo>
                    <a:lnTo>
                      <a:pt x="420" y="582"/>
                    </a:lnTo>
                    <a:lnTo>
                      <a:pt x="445" y="571"/>
                    </a:lnTo>
                    <a:lnTo>
                      <a:pt x="469" y="557"/>
                    </a:lnTo>
                    <a:lnTo>
                      <a:pt x="490" y="540"/>
                    </a:lnTo>
                    <a:lnTo>
                      <a:pt x="509" y="522"/>
                    </a:lnTo>
                    <a:lnTo>
                      <a:pt x="524" y="499"/>
                    </a:lnTo>
                    <a:lnTo>
                      <a:pt x="537" y="473"/>
                    </a:lnTo>
                    <a:lnTo>
                      <a:pt x="547" y="445"/>
                    </a:lnTo>
                    <a:lnTo>
                      <a:pt x="553" y="412"/>
                    </a:lnTo>
                    <a:lnTo>
                      <a:pt x="555" y="376"/>
                    </a:lnTo>
                    <a:lnTo>
                      <a:pt x="553" y="339"/>
                    </a:lnTo>
                    <a:lnTo>
                      <a:pt x="546" y="308"/>
                    </a:lnTo>
                    <a:lnTo>
                      <a:pt x="536" y="279"/>
                    </a:lnTo>
                    <a:lnTo>
                      <a:pt x="523" y="254"/>
                    </a:lnTo>
                    <a:lnTo>
                      <a:pt x="505" y="232"/>
                    </a:lnTo>
                    <a:lnTo>
                      <a:pt x="486" y="213"/>
                    </a:lnTo>
                    <a:lnTo>
                      <a:pt x="464" y="198"/>
                    </a:lnTo>
                    <a:lnTo>
                      <a:pt x="440" y="184"/>
                    </a:lnTo>
                    <a:lnTo>
                      <a:pt x="413" y="173"/>
                    </a:lnTo>
                    <a:lnTo>
                      <a:pt x="385" y="164"/>
                    </a:lnTo>
                    <a:lnTo>
                      <a:pt x="356" y="157"/>
                    </a:lnTo>
                    <a:lnTo>
                      <a:pt x="325" y="152"/>
                    </a:lnTo>
                    <a:lnTo>
                      <a:pt x="296" y="148"/>
                    </a:lnTo>
                    <a:lnTo>
                      <a:pt x="265" y="146"/>
                    </a:lnTo>
                    <a:lnTo>
                      <a:pt x="204" y="144"/>
                    </a:lnTo>
                    <a:lnTo>
                      <a:pt x="161" y="144"/>
                    </a:lnTo>
                    <a:lnTo>
                      <a:pt x="161" y="6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502280" y="517680"/>
                <a:ext cx="196200" cy="250560"/>
              </a:xfrm>
              <a:custGeom>
                <a:avLst/>
                <a:gdLst/>
                <a:ahLst/>
                <a:rect l="l" t="t" r="r" b="b"/>
                <a:pathLst>
                  <a:path w="929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29" y="1293"/>
                    </a:lnTo>
                    <a:lnTo>
                      <a:pt x="712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999720" y="847800"/>
                <a:ext cx="54720" cy="133200"/>
              </a:xfrm>
              <a:custGeom>
                <a:avLst/>
                <a:gdLst/>
                <a:ahLst/>
                <a:rect l="l" t="t" r="r" b="b"/>
                <a:pathLst>
                  <a:path w="264" h="687">
                    <a:moveTo>
                      <a:pt x="169" y="687"/>
                    </a:moveTo>
                    <a:lnTo>
                      <a:pt x="74" y="687"/>
                    </a:lnTo>
                    <a:lnTo>
                      <a:pt x="74" y="279"/>
                    </a:lnTo>
                    <a:lnTo>
                      <a:pt x="0" y="279"/>
                    </a:lnTo>
                    <a:lnTo>
                      <a:pt x="0" y="190"/>
                    </a:lnTo>
                    <a:lnTo>
                      <a:pt x="74" y="190"/>
                    </a:lnTo>
                    <a:lnTo>
                      <a:pt x="74" y="0"/>
                    </a:lnTo>
                    <a:lnTo>
                      <a:pt x="169" y="0"/>
                    </a:lnTo>
                    <a:lnTo>
                      <a:pt x="169" y="190"/>
                    </a:lnTo>
                    <a:lnTo>
                      <a:pt x="264" y="190"/>
                    </a:lnTo>
                    <a:lnTo>
                      <a:pt x="264" y="279"/>
                    </a:lnTo>
                    <a:lnTo>
                      <a:pt x="169" y="279"/>
                    </a:lnTo>
                    <a:lnTo>
                      <a:pt x="169" y="6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058400" y="882720"/>
                <a:ext cx="9936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5" y="280"/>
                    </a:moveTo>
                    <a:lnTo>
                      <a:pt x="98" y="311"/>
                    </a:lnTo>
                    <a:lnTo>
                      <a:pt x="106" y="341"/>
                    </a:lnTo>
                    <a:lnTo>
                      <a:pt x="119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8" y="415"/>
                    </a:lnTo>
                    <a:lnTo>
                      <a:pt x="170" y="423"/>
                    </a:lnTo>
                    <a:lnTo>
                      <a:pt x="184" y="431"/>
                    </a:lnTo>
                    <a:lnTo>
                      <a:pt x="197" y="437"/>
                    </a:lnTo>
                    <a:lnTo>
                      <a:pt x="213" y="441"/>
                    </a:lnTo>
                    <a:lnTo>
                      <a:pt x="229" y="443"/>
                    </a:lnTo>
                    <a:lnTo>
                      <a:pt x="245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5" y="430"/>
                    </a:lnTo>
                    <a:lnTo>
                      <a:pt x="333" y="418"/>
                    </a:lnTo>
                    <a:lnTo>
                      <a:pt x="351" y="405"/>
                    </a:lnTo>
                    <a:lnTo>
                      <a:pt x="366" y="388"/>
                    </a:lnTo>
                    <a:lnTo>
                      <a:pt x="380" y="368"/>
                    </a:lnTo>
                    <a:lnTo>
                      <a:pt x="394" y="348"/>
                    </a:lnTo>
                    <a:lnTo>
                      <a:pt x="475" y="394"/>
                    </a:lnTo>
                    <a:lnTo>
                      <a:pt x="455" y="424"/>
                    </a:lnTo>
                    <a:lnTo>
                      <a:pt x="433" y="451"/>
                    </a:lnTo>
                    <a:lnTo>
                      <a:pt x="407" y="474"/>
                    </a:lnTo>
                    <a:lnTo>
                      <a:pt x="378" y="494"/>
                    </a:lnTo>
                    <a:lnTo>
                      <a:pt x="347" y="509"/>
                    </a:lnTo>
                    <a:lnTo>
                      <a:pt x="315" y="520"/>
                    </a:lnTo>
                    <a:lnTo>
                      <a:pt x="279" y="528"/>
                    </a:lnTo>
                    <a:lnTo>
                      <a:pt x="244" y="530"/>
                    </a:lnTo>
                    <a:lnTo>
                      <a:pt x="217" y="528"/>
                    </a:lnTo>
                    <a:lnTo>
                      <a:pt x="191" y="524"/>
                    </a:lnTo>
                    <a:lnTo>
                      <a:pt x="165" y="518"/>
                    </a:lnTo>
                    <a:lnTo>
                      <a:pt x="142" y="509"/>
                    </a:lnTo>
                    <a:lnTo>
                      <a:pt x="120" y="498"/>
                    </a:lnTo>
                    <a:lnTo>
                      <a:pt x="101" y="485"/>
                    </a:lnTo>
                    <a:lnTo>
                      <a:pt x="82" y="471"/>
                    </a:lnTo>
                    <a:lnTo>
                      <a:pt x="66" y="454"/>
                    </a:lnTo>
                    <a:lnTo>
                      <a:pt x="50" y="435"/>
                    </a:lnTo>
                    <a:lnTo>
                      <a:pt x="37" y="416"/>
                    </a:lnTo>
                    <a:lnTo>
                      <a:pt x="26" y="394"/>
                    </a:lnTo>
                    <a:lnTo>
                      <a:pt x="16" y="371"/>
                    </a:lnTo>
                    <a:lnTo>
                      <a:pt x="10" y="346"/>
                    </a:lnTo>
                    <a:lnTo>
                      <a:pt x="4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4" y="213"/>
                    </a:lnTo>
                    <a:lnTo>
                      <a:pt x="9" y="186"/>
                    </a:lnTo>
                    <a:lnTo>
                      <a:pt x="15" y="161"/>
                    </a:lnTo>
                    <a:lnTo>
                      <a:pt x="24" y="138"/>
                    </a:lnTo>
                    <a:lnTo>
                      <a:pt x="34" y="116"/>
                    </a:lnTo>
                    <a:lnTo>
                      <a:pt x="47" y="95"/>
                    </a:lnTo>
                    <a:lnTo>
                      <a:pt x="61" y="76"/>
                    </a:lnTo>
                    <a:lnTo>
                      <a:pt x="77" y="60"/>
                    </a:lnTo>
                    <a:lnTo>
                      <a:pt x="95" y="45"/>
                    </a:lnTo>
                    <a:lnTo>
                      <a:pt x="115" y="31"/>
                    </a:lnTo>
                    <a:lnTo>
                      <a:pt x="137" y="20"/>
                    </a:lnTo>
                    <a:lnTo>
                      <a:pt x="160" y="12"/>
                    </a:lnTo>
                    <a:lnTo>
                      <a:pt x="185" y="5"/>
                    </a:lnTo>
                    <a:lnTo>
                      <a:pt x="213" y="2"/>
                    </a:lnTo>
                    <a:lnTo>
                      <a:pt x="242" y="0"/>
                    </a:lnTo>
                    <a:lnTo>
                      <a:pt x="271" y="2"/>
                    </a:lnTo>
                    <a:lnTo>
                      <a:pt x="297" y="5"/>
                    </a:lnTo>
                    <a:lnTo>
                      <a:pt x="322" y="12"/>
                    </a:lnTo>
                    <a:lnTo>
                      <a:pt x="345" y="20"/>
                    </a:lnTo>
                    <a:lnTo>
                      <a:pt x="366" y="31"/>
                    </a:lnTo>
                    <a:lnTo>
                      <a:pt x="385" y="45"/>
                    </a:lnTo>
                    <a:lnTo>
                      <a:pt x="402" y="60"/>
                    </a:lnTo>
                    <a:lnTo>
                      <a:pt x="418" y="76"/>
                    </a:lnTo>
                    <a:lnTo>
                      <a:pt x="431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0" y="161"/>
                    </a:lnTo>
                    <a:lnTo>
                      <a:pt x="467" y="185"/>
                    </a:lnTo>
                    <a:lnTo>
                      <a:pt x="471" y="210"/>
                    </a:lnTo>
                    <a:lnTo>
                      <a:pt x="474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5" y="280"/>
                    </a:lnTo>
                    <a:close/>
                    <a:moveTo>
                      <a:pt x="379" y="207"/>
                    </a:moveTo>
                    <a:lnTo>
                      <a:pt x="373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5" y="117"/>
                    </a:lnTo>
                    <a:lnTo>
                      <a:pt x="316" y="103"/>
                    </a:lnTo>
                    <a:lnTo>
                      <a:pt x="294" y="92"/>
                    </a:lnTo>
                    <a:lnTo>
                      <a:pt x="270" y="85"/>
                    </a:lnTo>
                    <a:lnTo>
                      <a:pt x="242" y="83"/>
                    </a:lnTo>
                    <a:lnTo>
                      <a:pt x="215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1" y="137"/>
                    </a:lnTo>
                    <a:lnTo>
                      <a:pt x="117" y="158"/>
                    </a:lnTo>
                    <a:lnTo>
                      <a:pt x="107" y="182"/>
                    </a:lnTo>
                    <a:lnTo>
                      <a:pt x="101" y="207"/>
                    </a:lnTo>
                    <a:lnTo>
                      <a:pt x="379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1177200" y="846000"/>
                <a:ext cx="2052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211400" y="882720"/>
                <a:ext cx="9972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7" y="280"/>
                    </a:moveTo>
                    <a:lnTo>
                      <a:pt x="99" y="311"/>
                    </a:lnTo>
                    <a:lnTo>
                      <a:pt x="108" y="341"/>
                    </a:lnTo>
                    <a:lnTo>
                      <a:pt x="120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9" y="415"/>
                    </a:lnTo>
                    <a:lnTo>
                      <a:pt x="171" y="423"/>
                    </a:lnTo>
                    <a:lnTo>
                      <a:pt x="185" y="431"/>
                    </a:lnTo>
                    <a:lnTo>
                      <a:pt x="199" y="437"/>
                    </a:lnTo>
                    <a:lnTo>
                      <a:pt x="213" y="441"/>
                    </a:lnTo>
                    <a:lnTo>
                      <a:pt x="230" y="443"/>
                    </a:lnTo>
                    <a:lnTo>
                      <a:pt x="246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6" y="430"/>
                    </a:lnTo>
                    <a:lnTo>
                      <a:pt x="335" y="418"/>
                    </a:lnTo>
                    <a:lnTo>
                      <a:pt x="351" y="405"/>
                    </a:lnTo>
                    <a:lnTo>
                      <a:pt x="367" y="388"/>
                    </a:lnTo>
                    <a:lnTo>
                      <a:pt x="381" y="368"/>
                    </a:lnTo>
                    <a:lnTo>
                      <a:pt x="395" y="348"/>
                    </a:lnTo>
                    <a:lnTo>
                      <a:pt x="475" y="394"/>
                    </a:lnTo>
                    <a:lnTo>
                      <a:pt x="457" y="424"/>
                    </a:lnTo>
                    <a:lnTo>
                      <a:pt x="434" y="451"/>
                    </a:lnTo>
                    <a:lnTo>
                      <a:pt x="407" y="474"/>
                    </a:lnTo>
                    <a:lnTo>
                      <a:pt x="379" y="494"/>
                    </a:lnTo>
                    <a:lnTo>
                      <a:pt x="348" y="509"/>
                    </a:lnTo>
                    <a:lnTo>
                      <a:pt x="315" y="520"/>
                    </a:lnTo>
                    <a:lnTo>
                      <a:pt x="281" y="528"/>
                    </a:lnTo>
                    <a:lnTo>
                      <a:pt x="245" y="530"/>
                    </a:lnTo>
                    <a:lnTo>
                      <a:pt x="218" y="528"/>
                    </a:lnTo>
                    <a:lnTo>
                      <a:pt x="191" y="524"/>
                    </a:lnTo>
                    <a:lnTo>
                      <a:pt x="166" y="518"/>
                    </a:lnTo>
                    <a:lnTo>
                      <a:pt x="143" y="509"/>
                    </a:lnTo>
                    <a:lnTo>
                      <a:pt x="121" y="498"/>
                    </a:lnTo>
                    <a:lnTo>
                      <a:pt x="101" y="485"/>
                    </a:lnTo>
                    <a:lnTo>
                      <a:pt x="83" y="471"/>
                    </a:lnTo>
                    <a:lnTo>
                      <a:pt x="66" y="454"/>
                    </a:lnTo>
                    <a:lnTo>
                      <a:pt x="51" y="435"/>
                    </a:lnTo>
                    <a:lnTo>
                      <a:pt x="38" y="416"/>
                    </a:lnTo>
                    <a:lnTo>
                      <a:pt x="27" y="394"/>
                    </a:lnTo>
                    <a:lnTo>
                      <a:pt x="18" y="371"/>
                    </a:lnTo>
                    <a:lnTo>
                      <a:pt x="10" y="346"/>
                    </a:lnTo>
                    <a:lnTo>
                      <a:pt x="5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5" y="213"/>
                    </a:lnTo>
                    <a:lnTo>
                      <a:pt x="9" y="186"/>
                    </a:lnTo>
                    <a:lnTo>
                      <a:pt x="16" y="161"/>
                    </a:lnTo>
                    <a:lnTo>
                      <a:pt x="24" y="138"/>
                    </a:lnTo>
                    <a:lnTo>
                      <a:pt x="35" y="116"/>
                    </a:lnTo>
                    <a:lnTo>
                      <a:pt x="48" y="95"/>
                    </a:lnTo>
                    <a:lnTo>
                      <a:pt x="62" y="76"/>
                    </a:lnTo>
                    <a:lnTo>
                      <a:pt x="78" y="60"/>
                    </a:lnTo>
                    <a:lnTo>
                      <a:pt x="96" y="45"/>
                    </a:lnTo>
                    <a:lnTo>
                      <a:pt x="116" y="31"/>
                    </a:lnTo>
                    <a:lnTo>
                      <a:pt x="137" y="20"/>
                    </a:lnTo>
                    <a:lnTo>
                      <a:pt x="162" y="12"/>
                    </a:lnTo>
                    <a:lnTo>
                      <a:pt x="187" y="5"/>
                    </a:lnTo>
                    <a:lnTo>
                      <a:pt x="214" y="2"/>
                    </a:lnTo>
                    <a:lnTo>
                      <a:pt x="243" y="0"/>
                    </a:lnTo>
                    <a:lnTo>
                      <a:pt x="271" y="2"/>
                    </a:lnTo>
                    <a:lnTo>
                      <a:pt x="299" y="5"/>
                    </a:lnTo>
                    <a:lnTo>
                      <a:pt x="323" y="12"/>
                    </a:lnTo>
                    <a:lnTo>
                      <a:pt x="346" y="20"/>
                    </a:lnTo>
                    <a:lnTo>
                      <a:pt x="367" y="31"/>
                    </a:lnTo>
                    <a:lnTo>
                      <a:pt x="386" y="45"/>
                    </a:lnTo>
                    <a:lnTo>
                      <a:pt x="403" y="60"/>
                    </a:lnTo>
                    <a:lnTo>
                      <a:pt x="418" y="76"/>
                    </a:lnTo>
                    <a:lnTo>
                      <a:pt x="432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1" y="161"/>
                    </a:lnTo>
                    <a:lnTo>
                      <a:pt x="468" y="185"/>
                    </a:lnTo>
                    <a:lnTo>
                      <a:pt x="472" y="210"/>
                    </a:lnTo>
                    <a:lnTo>
                      <a:pt x="475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7" y="280"/>
                    </a:lnTo>
                    <a:close/>
                    <a:moveTo>
                      <a:pt x="380" y="207"/>
                    </a:moveTo>
                    <a:lnTo>
                      <a:pt x="374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6" y="117"/>
                    </a:lnTo>
                    <a:lnTo>
                      <a:pt x="317" y="103"/>
                    </a:lnTo>
                    <a:lnTo>
                      <a:pt x="295" y="92"/>
                    </a:lnTo>
                    <a:lnTo>
                      <a:pt x="270" y="85"/>
                    </a:lnTo>
                    <a:lnTo>
                      <a:pt x="243" y="83"/>
                    </a:lnTo>
                    <a:lnTo>
                      <a:pt x="216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2" y="137"/>
                    </a:lnTo>
                    <a:lnTo>
                      <a:pt x="119" y="158"/>
                    </a:lnTo>
                    <a:lnTo>
                      <a:pt x="108" y="182"/>
                    </a:lnTo>
                    <a:lnTo>
                      <a:pt x="101" y="207"/>
                    </a:lnTo>
                    <a:lnTo>
                      <a:pt x="380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1326960" y="882720"/>
                <a:ext cx="84240" cy="101520"/>
              </a:xfrm>
              <a:custGeom>
                <a:avLst/>
                <a:gdLst/>
                <a:ahLst/>
                <a:rect l="l" t="t" r="r" b="b"/>
                <a:pathLst>
                  <a:path w="404" h="530">
                    <a:moveTo>
                      <a:pt x="404" y="157"/>
                    </a:moveTo>
                    <a:lnTo>
                      <a:pt x="389" y="141"/>
                    </a:lnTo>
                    <a:lnTo>
                      <a:pt x="373" y="127"/>
                    </a:lnTo>
                    <a:lnTo>
                      <a:pt x="358" y="116"/>
                    </a:lnTo>
                    <a:lnTo>
                      <a:pt x="340" y="106"/>
                    </a:lnTo>
                    <a:lnTo>
                      <a:pt x="321" y="99"/>
                    </a:lnTo>
                    <a:lnTo>
                      <a:pt x="303" y="94"/>
                    </a:lnTo>
                    <a:lnTo>
                      <a:pt x="283" y="91"/>
                    </a:lnTo>
                    <a:lnTo>
                      <a:pt x="261" y="90"/>
                    </a:lnTo>
                    <a:lnTo>
                      <a:pt x="245" y="91"/>
                    </a:lnTo>
                    <a:lnTo>
                      <a:pt x="227" y="93"/>
                    </a:lnTo>
                    <a:lnTo>
                      <a:pt x="212" y="97"/>
                    </a:lnTo>
                    <a:lnTo>
                      <a:pt x="196" y="104"/>
                    </a:lnTo>
                    <a:lnTo>
                      <a:pt x="182" y="112"/>
                    </a:lnTo>
                    <a:lnTo>
                      <a:pt x="168" y="120"/>
                    </a:lnTo>
                    <a:lnTo>
                      <a:pt x="156" y="130"/>
                    </a:lnTo>
                    <a:lnTo>
                      <a:pt x="144" y="142"/>
                    </a:lnTo>
                    <a:lnTo>
                      <a:pt x="133" y="154"/>
                    </a:lnTo>
                    <a:lnTo>
                      <a:pt x="124" y="169"/>
                    </a:lnTo>
                    <a:lnTo>
                      <a:pt x="115" y="183"/>
                    </a:lnTo>
                    <a:lnTo>
                      <a:pt x="109" y="198"/>
                    </a:lnTo>
                    <a:lnTo>
                      <a:pt x="103" y="214"/>
                    </a:lnTo>
                    <a:lnTo>
                      <a:pt x="99" y="230"/>
                    </a:lnTo>
                    <a:lnTo>
                      <a:pt x="97" y="247"/>
                    </a:lnTo>
                    <a:lnTo>
                      <a:pt x="96" y="264"/>
                    </a:lnTo>
                    <a:lnTo>
                      <a:pt x="97" y="283"/>
                    </a:lnTo>
                    <a:lnTo>
                      <a:pt x="99" y="300"/>
                    </a:lnTo>
                    <a:lnTo>
                      <a:pt x="103" y="318"/>
                    </a:lnTo>
                    <a:lnTo>
                      <a:pt x="109" y="334"/>
                    </a:lnTo>
                    <a:lnTo>
                      <a:pt x="115" y="350"/>
                    </a:lnTo>
                    <a:lnTo>
                      <a:pt x="124" y="364"/>
                    </a:lnTo>
                    <a:lnTo>
                      <a:pt x="133" y="378"/>
                    </a:lnTo>
                    <a:lnTo>
                      <a:pt x="144" y="390"/>
                    </a:lnTo>
                    <a:lnTo>
                      <a:pt x="156" y="401"/>
                    </a:lnTo>
                    <a:lnTo>
                      <a:pt x="169" y="411"/>
                    </a:lnTo>
                    <a:lnTo>
                      <a:pt x="183" y="420"/>
                    </a:lnTo>
                    <a:lnTo>
                      <a:pt x="199" y="427"/>
                    </a:lnTo>
                    <a:lnTo>
                      <a:pt x="215" y="432"/>
                    </a:lnTo>
                    <a:lnTo>
                      <a:pt x="232" y="437"/>
                    </a:lnTo>
                    <a:lnTo>
                      <a:pt x="249" y="439"/>
                    </a:lnTo>
                    <a:lnTo>
                      <a:pt x="268" y="440"/>
                    </a:lnTo>
                    <a:lnTo>
                      <a:pt x="289" y="439"/>
                    </a:lnTo>
                    <a:lnTo>
                      <a:pt x="307" y="435"/>
                    </a:lnTo>
                    <a:lnTo>
                      <a:pt x="326" y="430"/>
                    </a:lnTo>
                    <a:lnTo>
                      <a:pt x="343" y="422"/>
                    </a:lnTo>
                    <a:lnTo>
                      <a:pt x="360" y="412"/>
                    </a:lnTo>
                    <a:lnTo>
                      <a:pt x="375" y="401"/>
                    </a:lnTo>
                    <a:lnTo>
                      <a:pt x="389" y="388"/>
                    </a:lnTo>
                    <a:lnTo>
                      <a:pt x="404" y="374"/>
                    </a:lnTo>
                    <a:lnTo>
                      <a:pt x="404" y="497"/>
                    </a:lnTo>
                    <a:lnTo>
                      <a:pt x="371" y="511"/>
                    </a:lnTo>
                    <a:lnTo>
                      <a:pt x="338" y="522"/>
                    </a:lnTo>
                    <a:lnTo>
                      <a:pt x="303" y="528"/>
                    </a:lnTo>
                    <a:lnTo>
                      <a:pt x="267" y="530"/>
                    </a:lnTo>
                    <a:lnTo>
                      <a:pt x="239" y="528"/>
                    </a:lnTo>
                    <a:lnTo>
                      <a:pt x="213" y="524"/>
                    </a:lnTo>
                    <a:lnTo>
                      <a:pt x="188" y="518"/>
                    </a:lnTo>
                    <a:lnTo>
                      <a:pt x="164" y="509"/>
                    </a:lnTo>
                    <a:lnTo>
                      <a:pt x="140" y="499"/>
                    </a:lnTo>
                    <a:lnTo>
                      <a:pt x="119" y="486"/>
                    </a:lnTo>
                    <a:lnTo>
                      <a:pt x="98" y="472"/>
                    </a:lnTo>
                    <a:lnTo>
                      <a:pt x="79" y="454"/>
                    </a:lnTo>
                    <a:lnTo>
                      <a:pt x="62" y="437"/>
                    </a:lnTo>
                    <a:lnTo>
                      <a:pt x="46" y="416"/>
                    </a:lnTo>
                    <a:lnTo>
                      <a:pt x="33" y="395"/>
                    </a:lnTo>
                    <a:lnTo>
                      <a:pt x="21" y="372"/>
                    </a:lnTo>
                    <a:lnTo>
                      <a:pt x="12" y="348"/>
                    </a:lnTo>
                    <a:lnTo>
                      <a:pt x="6" y="322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6" y="213"/>
                    </a:lnTo>
                    <a:lnTo>
                      <a:pt x="12" y="186"/>
                    </a:lnTo>
                    <a:lnTo>
                      <a:pt x="21" y="161"/>
                    </a:lnTo>
                    <a:lnTo>
                      <a:pt x="33" y="138"/>
                    </a:lnTo>
                    <a:lnTo>
                      <a:pt x="46" y="115"/>
                    </a:lnTo>
                    <a:lnTo>
                      <a:pt x="62" y="95"/>
                    </a:lnTo>
                    <a:lnTo>
                      <a:pt x="79" y="76"/>
                    </a:lnTo>
                    <a:lnTo>
                      <a:pt x="98" y="59"/>
                    </a:lnTo>
                    <a:lnTo>
                      <a:pt x="119" y="45"/>
                    </a:lnTo>
                    <a:lnTo>
                      <a:pt x="142" y="31"/>
                    </a:lnTo>
                    <a:lnTo>
                      <a:pt x="165" y="20"/>
                    </a:lnTo>
                    <a:lnTo>
                      <a:pt x="190" y="12"/>
                    </a:lnTo>
                    <a:lnTo>
                      <a:pt x="216" y="5"/>
                    </a:lnTo>
                    <a:lnTo>
                      <a:pt x="244" y="2"/>
                    </a:lnTo>
                    <a:lnTo>
                      <a:pt x="272" y="0"/>
                    </a:lnTo>
                    <a:lnTo>
                      <a:pt x="306" y="2"/>
                    </a:lnTo>
                    <a:lnTo>
                      <a:pt x="340" y="8"/>
                    </a:lnTo>
                    <a:lnTo>
                      <a:pt x="373" y="18"/>
                    </a:lnTo>
                    <a:lnTo>
                      <a:pt x="404" y="32"/>
                    </a:lnTo>
                    <a:lnTo>
                      <a:pt x="404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1423440" y="882720"/>
                <a:ext cx="111600" cy="101520"/>
              </a:xfrm>
              <a:custGeom>
                <a:avLst/>
                <a:gdLst/>
                <a:ahLst/>
                <a:rect l="l" t="t" r="r" b="b"/>
                <a:pathLst>
                  <a:path w="532" h="530">
                    <a:moveTo>
                      <a:pt x="532" y="264"/>
                    </a:moveTo>
                    <a:lnTo>
                      <a:pt x="530" y="293"/>
                    </a:lnTo>
                    <a:lnTo>
                      <a:pt x="527" y="319"/>
                    </a:lnTo>
                    <a:lnTo>
                      <a:pt x="520" y="344"/>
                    </a:lnTo>
                    <a:lnTo>
                      <a:pt x="511" y="370"/>
                    </a:lnTo>
                    <a:lnTo>
                      <a:pt x="501" y="393"/>
                    </a:lnTo>
                    <a:lnTo>
                      <a:pt x="487" y="415"/>
                    </a:lnTo>
                    <a:lnTo>
                      <a:pt x="472" y="434"/>
                    </a:lnTo>
                    <a:lnTo>
                      <a:pt x="454" y="453"/>
                    </a:lnTo>
                    <a:lnTo>
                      <a:pt x="436" y="471"/>
                    </a:lnTo>
                    <a:lnTo>
                      <a:pt x="416" y="485"/>
                    </a:lnTo>
                    <a:lnTo>
                      <a:pt x="394" y="498"/>
                    </a:lnTo>
                    <a:lnTo>
                      <a:pt x="370" y="509"/>
                    </a:lnTo>
                    <a:lnTo>
                      <a:pt x="346" y="518"/>
                    </a:lnTo>
                    <a:lnTo>
                      <a:pt x="321" y="524"/>
                    </a:lnTo>
                    <a:lnTo>
                      <a:pt x="293" y="528"/>
                    </a:lnTo>
                    <a:lnTo>
                      <a:pt x="266" y="530"/>
                    </a:lnTo>
                    <a:lnTo>
                      <a:pt x="238" y="528"/>
                    </a:lnTo>
                    <a:lnTo>
                      <a:pt x="212" y="524"/>
                    </a:lnTo>
                    <a:lnTo>
                      <a:pt x="187" y="518"/>
                    </a:lnTo>
                    <a:lnTo>
                      <a:pt x="162" y="509"/>
                    </a:lnTo>
                    <a:lnTo>
                      <a:pt x="139" y="498"/>
                    </a:lnTo>
                    <a:lnTo>
                      <a:pt x="117" y="485"/>
                    </a:lnTo>
                    <a:lnTo>
                      <a:pt x="97" y="471"/>
                    </a:lnTo>
                    <a:lnTo>
                      <a:pt x="78" y="453"/>
                    </a:lnTo>
                    <a:lnTo>
                      <a:pt x="61" y="434"/>
                    </a:lnTo>
                    <a:lnTo>
                      <a:pt x="45" y="415"/>
                    </a:lnTo>
                    <a:lnTo>
                      <a:pt x="32" y="393"/>
                    </a:lnTo>
                    <a:lnTo>
                      <a:pt x="21" y="370"/>
                    </a:lnTo>
                    <a:lnTo>
                      <a:pt x="12" y="344"/>
                    </a:lnTo>
                    <a:lnTo>
                      <a:pt x="6" y="319"/>
                    </a:lnTo>
                    <a:lnTo>
                      <a:pt x="3" y="293"/>
                    </a:lnTo>
                    <a:lnTo>
                      <a:pt x="0" y="264"/>
                    </a:lnTo>
                    <a:lnTo>
                      <a:pt x="3" y="237"/>
                    </a:lnTo>
                    <a:lnTo>
                      <a:pt x="6" y="210"/>
                    </a:lnTo>
                    <a:lnTo>
                      <a:pt x="12" y="185"/>
                    </a:lnTo>
                    <a:lnTo>
                      <a:pt x="21" y="160"/>
                    </a:lnTo>
                    <a:lnTo>
                      <a:pt x="32" y="137"/>
                    </a:lnTo>
                    <a:lnTo>
                      <a:pt x="45" y="115"/>
                    </a:lnTo>
                    <a:lnTo>
                      <a:pt x="61" y="95"/>
                    </a:lnTo>
                    <a:lnTo>
                      <a:pt x="78" y="76"/>
                    </a:lnTo>
                    <a:lnTo>
                      <a:pt x="97" y="59"/>
                    </a:lnTo>
                    <a:lnTo>
                      <a:pt x="117" y="45"/>
                    </a:lnTo>
                    <a:lnTo>
                      <a:pt x="139" y="31"/>
                    </a:lnTo>
                    <a:lnTo>
                      <a:pt x="162" y="20"/>
                    </a:lnTo>
                    <a:lnTo>
                      <a:pt x="187" y="12"/>
                    </a:lnTo>
                    <a:lnTo>
                      <a:pt x="212" y="5"/>
                    </a:lnTo>
                    <a:lnTo>
                      <a:pt x="238" y="2"/>
                    </a:lnTo>
                    <a:lnTo>
                      <a:pt x="266" y="0"/>
                    </a:lnTo>
                    <a:lnTo>
                      <a:pt x="293" y="2"/>
                    </a:lnTo>
                    <a:lnTo>
                      <a:pt x="321" y="5"/>
                    </a:lnTo>
                    <a:lnTo>
                      <a:pt x="346" y="12"/>
                    </a:lnTo>
                    <a:lnTo>
                      <a:pt x="370" y="20"/>
                    </a:lnTo>
                    <a:lnTo>
                      <a:pt x="394" y="31"/>
                    </a:lnTo>
                    <a:lnTo>
                      <a:pt x="416" y="45"/>
                    </a:lnTo>
                    <a:lnTo>
                      <a:pt x="436" y="59"/>
                    </a:lnTo>
                    <a:lnTo>
                      <a:pt x="454" y="76"/>
                    </a:lnTo>
                    <a:lnTo>
                      <a:pt x="472" y="95"/>
                    </a:lnTo>
                    <a:lnTo>
                      <a:pt x="487" y="115"/>
                    </a:lnTo>
                    <a:lnTo>
                      <a:pt x="501" y="137"/>
                    </a:lnTo>
                    <a:lnTo>
                      <a:pt x="511" y="160"/>
                    </a:lnTo>
                    <a:lnTo>
                      <a:pt x="520" y="185"/>
                    </a:lnTo>
                    <a:lnTo>
                      <a:pt x="527" y="210"/>
                    </a:lnTo>
                    <a:lnTo>
                      <a:pt x="530" y="237"/>
                    </a:lnTo>
                    <a:lnTo>
                      <a:pt x="532" y="264"/>
                    </a:lnTo>
                    <a:close/>
                    <a:moveTo>
                      <a:pt x="96" y="264"/>
                    </a:moveTo>
                    <a:lnTo>
                      <a:pt x="97" y="282"/>
                    </a:lnTo>
                    <a:lnTo>
                      <a:pt x="100" y="299"/>
                    </a:lnTo>
                    <a:lnTo>
                      <a:pt x="103" y="316"/>
                    </a:lnTo>
                    <a:lnTo>
                      <a:pt x="110" y="331"/>
                    </a:lnTo>
                    <a:lnTo>
                      <a:pt x="117" y="346"/>
                    </a:lnTo>
                    <a:lnTo>
                      <a:pt x="125" y="361"/>
                    </a:lnTo>
                    <a:lnTo>
                      <a:pt x="135" y="374"/>
                    </a:lnTo>
                    <a:lnTo>
                      <a:pt x="146" y="386"/>
                    </a:lnTo>
                    <a:lnTo>
                      <a:pt x="158" y="398"/>
                    </a:lnTo>
                    <a:lnTo>
                      <a:pt x="171" y="408"/>
                    </a:lnTo>
                    <a:lnTo>
                      <a:pt x="185" y="417"/>
                    </a:lnTo>
                    <a:lnTo>
                      <a:pt x="200" y="424"/>
                    </a:lnTo>
                    <a:lnTo>
                      <a:pt x="215" y="430"/>
                    </a:lnTo>
                    <a:lnTo>
                      <a:pt x="232" y="434"/>
                    </a:lnTo>
                    <a:lnTo>
                      <a:pt x="248" y="437"/>
                    </a:lnTo>
                    <a:lnTo>
                      <a:pt x="266" y="438"/>
                    </a:lnTo>
                    <a:lnTo>
                      <a:pt x="283" y="437"/>
                    </a:lnTo>
                    <a:lnTo>
                      <a:pt x="301" y="434"/>
                    </a:lnTo>
                    <a:lnTo>
                      <a:pt x="317" y="430"/>
                    </a:lnTo>
                    <a:lnTo>
                      <a:pt x="333" y="424"/>
                    </a:lnTo>
                    <a:lnTo>
                      <a:pt x="348" y="417"/>
                    </a:lnTo>
                    <a:lnTo>
                      <a:pt x="361" y="408"/>
                    </a:lnTo>
                    <a:lnTo>
                      <a:pt x="374" y="398"/>
                    </a:lnTo>
                    <a:lnTo>
                      <a:pt x="386" y="386"/>
                    </a:lnTo>
                    <a:lnTo>
                      <a:pt x="397" y="374"/>
                    </a:lnTo>
                    <a:lnTo>
                      <a:pt x="407" y="361"/>
                    </a:lnTo>
                    <a:lnTo>
                      <a:pt x="416" y="346"/>
                    </a:lnTo>
                    <a:lnTo>
                      <a:pt x="423" y="331"/>
                    </a:lnTo>
                    <a:lnTo>
                      <a:pt x="428" y="316"/>
                    </a:lnTo>
                    <a:lnTo>
                      <a:pt x="433" y="299"/>
                    </a:lnTo>
                    <a:lnTo>
                      <a:pt x="436" y="282"/>
                    </a:lnTo>
                    <a:lnTo>
                      <a:pt x="436" y="264"/>
                    </a:lnTo>
                    <a:lnTo>
                      <a:pt x="436" y="248"/>
                    </a:lnTo>
                    <a:lnTo>
                      <a:pt x="433" y="230"/>
                    </a:lnTo>
                    <a:lnTo>
                      <a:pt x="428" y="214"/>
                    </a:lnTo>
                    <a:lnTo>
                      <a:pt x="423" y="197"/>
                    </a:lnTo>
                    <a:lnTo>
                      <a:pt x="416" y="183"/>
                    </a:lnTo>
                    <a:lnTo>
                      <a:pt x="407" y="169"/>
                    </a:lnTo>
                    <a:lnTo>
                      <a:pt x="397" y="154"/>
                    </a:lnTo>
                    <a:lnTo>
                      <a:pt x="386" y="142"/>
                    </a:lnTo>
                    <a:lnTo>
                      <a:pt x="374" y="131"/>
                    </a:lnTo>
                    <a:lnTo>
                      <a:pt x="361" y="121"/>
                    </a:lnTo>
                    <a:lnTo>
                      <a:pt x="348" y="113"/>
                    </a:lnTo>
                    <a:lnTo>
                      <a:pt x="333" y="105"/>
                    </a:lnTo>
                    <a:lnTo>
                      <a:pt x="317" y="99"/>
                    </a:lnTo>
                    <a:lnTo>
                      <a:pt x="301" y="95"/>
                    </a:lnTo>
                    <a:lnTo>
                      <a:pt x="283" y="92"/>
                    </a:lnTo>
                    <a:lnTo>
                      <a:pt x="266" y="92"/>
                    </a:lnTo>
                    <a:lnTo>
                      <a:pt x="248" y="92"/>
                    </a:lnTo>
                    <a:lnTo>
                      <a:pt x="232" y="95"/>
                    </a:lnTo>
                    <a:lnTo>
                      <a:pt x="215" y="99"/>
                    </a:lnTo>
                    <a:lnTo>
                      <a:pt x="200" y="105"/>
                    </a:lnTo>
                    <a:lnTo>
                      <a:pt x="185" y="113"/>
                    </a:lnTo>
                    <a:lnTo>
                      <a:pt x="171" y="121"/>
                    </a:lnTo>
                    <a:lnTo>
                      <a:pt x="158" y="131"/>
                    </a:lnTo>
                    <a:lnTo>
                      <a:pt x="146" y="142"/>
                    </a:lnTo>
                    <a:lnTo>
                      <a:pt x="135" y="154"/>
                    </a:lnTo>
                    <a:lnTo>
                      <a:pt x="125" y="169"/>
                    </a:lnTo>
                    <a:lnTo>
                      <a:pt x="117" y="183"/>
                    </a:lnTo>
                    <a:lnTo>
                      <a:pt x="110" y="197"/>
                    </a:lnTo>
                    <a:lnTo>
                      <a:pt x="103" y="214"/>
                    </a:lnTo>
                    <a:lnTo>
                      <a:pt x="100" y="230"/>
                    </a:lnTo>
                    <a:lnTo>
                      <a:pt x="97" y="248"/>
                    </a:lnTo>
                    <a:lnTo>
                      <a:pt x="96" y="2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1549440" y="882720"/>
                <a:ext cx="144360" cy="98280"/>
              </a:xfrm>
              <a:custGeom>
                <a:avLst/>
                <a:gdLst/>
                <a:ahLst/>
                <a:rect l="l" t="t" r="r" b="b"/>
                <a:pathLst>
                  <a:path w="690" h="512">
                    <a:moveTo>
                      <a:pt x="96" y="77"/>
                    </a:moveTo>
                    <a:lnTo>
                      <a:pt x="98" y="77"/>
                    </a:lnTo>
                    <a:lnTo>
                      <a:pt x="109" y="62"/>
                    </a:lnTo>
                    <a:lnTo>
                      <a:pt x="122" y="47"/>
                    </a:lnTo>
                    <a:lnTo>
                      <a:pt x="137" y="34"/>
                    </a:lnTo>
                    <a:lnTo>
                      <a:pt x="154" y="23"/>
                    </a:lnTo>
                    <a:lnTo>
                      <a:pt x="171" y="13"/>
                    </a:lnTo>
                    <a:lnTo>
                      <a:pt x="190" y="6"/>
                    </a:lnTo>
                    <a:lnTo>
                      <a:pt x="210" y="2"/>
                    </a:lnTo>
                    <a:lnTo>
                      <a:pt x="229" y="0"/>
                    </a:lnTo>
                    <a:lnTo>
                      <a:pt x="253" y="2"/>
                    </a:lnTo>
                    <a:lnTo>
                      <a:pt x="274" y="6"/>
                    </a:lnTo>
                    <a:lnTo>
                      <a:pt x="295" y="13"/>
                    </a:lnTo>
                    <a:lnTo>
                      <a:pt x="314" y="24"/>
                    </a:lnTo>
                    <a:lnTo>
                      <a:pt x="330" y="36"/>
                    </a:lnTo>
                    <a:lnTo>
                      <a:pt x="346" y="51"/>
                    </a:lnTo>
                    <a:lnTo>
                      <a:pt x="360" y="69"/>
                    </a:lnTo>
                    <a:lnTo>
                      <a:pt x="373" y="88"/>
                    </a:lnTo>
                    <a:lnTo>
                      <a:pt x="385" y="69"/>
                    </a:lnTo>
                    <a:lnTo>
                      <a:pt x="401" y="52"/>
                    </a:lnTo>
                    <a:lnTo>
                      <a:pt x="418" y="37"/>
                    </a:lnTo>
                    <a:lnTo>
                      <a:pt x="438" y="24"/>
                    </a:lnTo>
                    <a:lnTo>
                      <a:pt x="458" y="14"/>
                    </a:lnTo>
                    <a:lnTo>
                      <a:pt x="480" y="6"/>
                    </a:lnTo>
                    <a:lnTo>
                      <a:pt x="503" y="2"/>
                    </a:lnTo>
                    <a:lnTo>
                      <a:pt x="526" y="0"/>
                    </a:lnTo>
                    <a:lnTo>
                      <a:pt x="550" y="1"/>
                    </a:lnTo>
                    <a:lnTo>
                      <a:pt x="571" y="5"/>
                    </a:lnTo>
                    <a:lnTo>
                      <a:pt x="589" y="11"/>
                    </a:lnTo>
                    <a:lnTo>
                      <a:pt x="607" y="17"/>
                    </a:lnTo>
                    <a:lnTo>
                      <a:pt x="622" y="27"/>
                    </a:lnTo>
                    <a:lnTo>
                      <a:pt x="635" y="38"/>
                    </a:lnTo>
                    <a:lnTo>
                      <a:pt x="647" y="51"/>
                    </a:lnTo>
                    <a:lnTo>
                      <a:pt x="657" y="65"/>
                    </a:lnTo>
                    <a:lnTo>
                      <a:pt x="666" y="81"/>
                    </a:lnTo>
                    <a:lnTo>
                      <a:pt x="673" y="97"/>
                    </a:lnTo>
                    <a:lnTo>
                      <a:pt x="678" y="115"/>
                    </a:lnTo>
                    <a:lnTo>
                      <a:pt x="684" y="133"/>
                    </a:lnTo>
                    <a:lnTo>
                      <a:pt x="689" y="173"/>
                    </a:lnTo>
                    <a:lnTo>
                      <a:pt x="690" y="215"/>
                    </a:lnTo>
                    <a:lnTo>
                      <a:pt x="690" y="512"/>
                    </a:lnTo>
                    <a:lnTo>
                      <a:pt x="595" y="512"/>
                    </a:lnTo>
                    <a:lnTo>
                      <a:pt x="595" y="230"/>
                    </a:lnTo>
                    <a:lnTo>
                      <a:pt x="595" y="206"/>
                    </a:lnTo>
                    <a:lnTo>
                      <a:pt x="593" y="181"/>
                    </a:lnTo>
                    <a:lnTo>
                      <a:pt x="588" y="157"/>
                    </a:lnTo>
                    <a:lnTo>
                      <a:pt x="580" y="133"/>
                    </a:lnTo>
                    <a:lnTo>
                      <a:pt x="568" y="114"/>
                    </a:lnTo>
                    <a:lnTo>
                      <a:pt x="561" y="106"/>
                    </a:lnTo>
                    <a:lnTo>
                      <a:pt x="552" y="98"/>
                    </a:lnTo>
                    <a:lnTo>
                      <a:pt x="542" y="93"/>
                    </a:lnTo>
                    <a:lnTo>
                      <a:pt x="531" y="88"/>
                    </a:lnTo>
                    <a:lnTo>
                      <a:pt x="517" y="86"/>
                    </a:lnTo>
                    <a:lnTo>
                      <a:pt x="503" y="85"/>
                    </a:lnTo>
                    <a:lnTo>
                      <a:pt x="484" y="86"/>
                    </a:lnTo>
                    <a:lnTo>
                      <a:pt x="469" y="90"/>
                    </a:lnTo>
                    <a:lnTo>
                      <a:pt x="454" y="95"/>
                    </a:lnTo>
                    <a:lnTo>
                      <a:pt x="442" y="103"/>
                    </a:lnTo>
                    <a:lnTo>
                      <a:pt x="432" y="112"/>
                    </a:lnTo>
                    <a:lnTo>
                      <a:pt x="423" y="123"/>
                    </a:lnTo>
                    <a:lnTo>
                      <a:pt x="416" y="135"/>
                    </a:lnTo>
                    <a:lnTo>
                      <a:pt x="409" y="148"/>
                    </a:lnTo>
                    <a:lnTo>
                      <a:pt x="401" y="176"/>
                    </a:lnTo>
                    <a:lnTo>
                      <a:pt x="396" y="207"/>
                    </a:lnTo>
                    <a:lnTo>
                      <a:pt x="394" y="238"/>
                    </a:lnTo>
                    <a:lnTo>
                      <a:pt x="393" y="267"/>
                    </a:lnTo>
                    <a:lnTo>
                      <a:pt x="393" y="512"/>
                    </a:lnTo>
                    <a:lnTo>
                      <a:pt x="297" y="512"/>
                    </a:lnTo>
                    <a:lnTo>
                      <a:pt x="297" y="249"/>
                    </a:lnTo>
                    <a:lnTo>
                      <a:pt x="297" y="224"/>
                    </a:lnTo>
                    <a:lnTo>
                      <a:pt x="295" y="196"/>
                    </a:lnTo>
                    <a:lnTo>
                      <a:pt x="292" y="169"/>
                    </a:lnTo>
                    <a:lnTo>
                      <a:pt x="285" y="142"/>
                    </a:lnTo>
                    <a:lnTo>
                      <a:pt x="280" y="130"/>
                    </a:lnTo>
                    <a:lnTo>
                      <a:pt x="273" y="119"/>
                    </a:lnTo>
                    <a:lnTo>
                      <a:pt x="267" y="110"/>
                    </a:lnTo>
                    <a:lnTo>
                      <a:pt x="258" y="102"/>
                    </a:lnTo>
                    <a:lnTo>
                      <a:pt x="247" y="95"/>
                    </a:lnTo>
                    <a:lnTo>
                      <a:pt x="235" y="90"/>
                    </a:lnTo>
                    <a:lnTo>
                      <a:pt x="222" y="86"/>
                    </a:lnTo>
                    <a:lnTo>
                      <a:pt x="206" y="85"/>
                    </a:lnTo>
                    <a:lnTo>
                      <a:pt x="188" y="86"/>
                    </a:lnTo>
                    <a:lnTo>
                      <a:pt x="172" y="90"/>
                    </a:lnTo>
                    <a:lnTo>
                      <a:pt x="158" y="95"/>
                    </a:lnTo>
                    <a:lnTo>
                      <a:pt x="146" y="103"/>
                    </a:lnTo>
                    <a:lnTo>
                      <a:pt x="135" y="112"/>
                    </a:lnTo>
                    <a:lnTo>
                      <a:pt x="126" y="123"/>
                    </a:lnTo>
                    <a:lnTo>
                      <a:pt x="119" y="135"/>
                    </a:lnTo>
                    <a:lnTo>
                      <a:pt x="113" y="148"/>
                    </a:lnTo>
                    <a:lnTo>
                      <a:pt x="103" y="176"/>
                    </a:lnTo>
                    <a:lnTo>
                      <a:pt x="99" y="207"/>
                    </a:lnTo>
                    <a:lnTo>
                      <a:pt x="97" y="238"/>
                    </a:lnTo>
                    <a:lnTo>
                      <a:pt x="96" y="267"/>
                    </a:lnTo>
                    <a:lnTo>
                      <a:pt x="96" y="512"/>
                    </a:lnTo>
                    <a:lnTo>
                      <a:pt x="0" y="512"/>
                    </a:lnTo>
                    <a:lnTo>
                      <a:pt x="0" y="15"/>
                    </a:lnTo>
                    <a:lnTo>
                      <a:pt x="96" y="15"/>
                    </a:lnTo>
                    <a:lnTo>
                      <a:pt x="96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908640" y="1022400"/>
                <a:ext cx="9082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a-DK" sz="600" spc="-1" strike="noStrike">
                    <a:solidFill>
                      <a:srgbClr val="ffffff"/>
                    </a:solidFill>
                    <a:latin typeface="Futura Bk BT"/>
                  </a:rPr>
                  <a:t>www.kirktelecom.dk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9" name=""/>
          <p:cNvSpPr/>
          <p:nvPr/>
        </p:nvSpPr>
        <p:spPr>
          <a:xfrm>
            <a:off x="2228760" y="0"/>
            <a:ext cx="76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CCFP Administration Program Ver.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0" name="" descr=""/>
          <p:cNvPicPr/>
          <p:nvPr/>
        </p:nvPicPr>
        <p:blipFill>
          <a:blip r:embed="rId2"/>
          <a:stretch/>
        </p:blipFill>
        <p:spPr>
          <a:xfrm>
            <a:off x="3191040" y="698400"/>
            <a:ext cx="5476680" cy="3924360"/>
          </a:xfrm>
          <a:prstGeom prst="rect">
            <a:avLst/>
          </a:prstGeom>
          <a:ln w="0">
            <a:noFill/>
          </a:ln>
        </p:spPr>
      </p:pic>
      <p:sp>
        <p:nvSpPr>
          <p:cNvPr id="981" name=""/>
          <p:cNvSpPr/>
          <p:nvPr/>
        </p:nvSpPr>
        <p:spPr>
          <a:xfrm>
            <a:off x="3189600" y="4622760"/>
            <a:ext cx="40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грузка файла в ПЗУ базовой станции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134520" y="5264280"/>
            <a:ext cx="46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метьте номер базовой станции дл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grade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3505320" y="2055960"/>
            <a:ext cx="1333440" cy="320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191040" y="2838600"/>
            <a:ext cx="54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выполнения процедур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grade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дельное подробное руко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F8B5-70EC-4EEB-BFF7-DAC6F2AC8B3A}" type="slidenum">
              <a:t>29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3808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сталляция и размещение базовых стан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0"/>
            <a:ext cx="5657760" cy="6858000"/>
            <a:chOff x="0" y="0"/>
            <a:chExt cx="5657760" cy="6858000"/>
          </a:xfrm>
        </p:grpSpPr>
        <p:sp>
          <p:nvSpPr>
            <p:cNvPr id="105" name=""/>
            <p:cNvSpPr/>
            <p:nvPr/>
          </p:nvSpPr>
          <p:spPr>
            <a:xfrm>
              <a:off x="0" y="0"/>
              <a:ext cx="2057400" cy="3429000"/>
            </a:xfrm>
            <a:prstGeom prst="rect">
              <a:avLst/>
            </a:prstGeom>
            <a:solidFill>
              <a:srgbClr val="000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3429000"/>
              <a:ext cx="2057400" cy="3429000"/>
            </a:xfrm>
            <a:prstGeom prst="rect">
              <a:avLst/>
            </a:pr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6324480"/>
              <a:ext cx="3045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53200" y="6324480"/>
              <a:ext cx="3045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185760" y="2055960"/>
              <a:ext cx="1574640" cy="271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" name=""/>
            <p:cNvGrpSpPr/>
            <p:nvPr/>
          </p:nvGrpSpPr>
          <p:grpSpPr>
            <a:xfrm>
              <a:off x="195120" y="380880"/>
              <a:ext cx="1517400" cy="821880"/>
              <a:chOff x="195120" y="380880"/>
              <a:chExt cx="1517400" cy="821880"/>
            </a:xfrm>
          </p:grpSpPr>
          <p:sp>
            <p:nvSpPr>
              <p:cNvPr id="111" name=""/>
              <p:cNvSpPr/>
              <p:nvPr/>
            </p:nvSpPr>
            <p:spPr>
              <a:xfrm>
                <a:off x="372960" y="380880"/>
                <a:ext cx="313200" cy="387360"/>
              </a:xfrm>
              <a:custGeom>
                <a:avLst/>
                <a:gdLst/>
                <a:ahLst/>
                <a:rect l="l" t="t" r="r" b="b"/>
                <a:pathLst>
                  <a:path w="1606" h="1987">
                    <a:moveTo>
                      <a:pt x="29" y="1655"/>
                    </a:moveTo>
                    <a:lnTo>
                      <a:pt x="79" y="1682"/>
                    </a:lnTo>
                    <a:lnTo>
                      <a:pt x="623" y="1957"/>
                    </a:lnTo>
                    <a:lnTo>
                      <a:pt x="684" y="1987"/>
                    </a:lnTo>
                    <a:lnTo>
                      <a:pt x="687" y="1916"/>
                    </a:lnTo>
                    <a:lnTo>
                      <a:pt x="691" y="1864"/>
                    </a:lnTo>
                    <a:lnTo>
                      <a:pt x="697" y="1814"/>
                    </a:lnTo>
                    <a:lnTo>
                      <a:pt x="704" y="1763"/>
                    </a:lnTo>
                    <a:lnTo>
                      <a:pt x="713" y="1714"/>
                    </a:lnTo>
                    <a:lnTo>
                      <a:pt x="724" y="1665"/>
                    </a:lnTo>
                    <a:lnTo>
                      <a:pt x="737" y="1616"/>
                    </a:lnTo>
                    <a:lnTo>
                      <a:pt x="751" y="1569"/>
                    </a:lnTo>
                    <a:lnTo>
                      <a:pt x="767" y="1522"/>
                    </a:lnTo>
                    <a:lnTo>
                      <a:pt x="784" y="1476"/>
                    </a:lnTo>
                    <a:lnTo>
                      <a:pt x="803" y="1431"/>
                    </a:lnTo>
                    <a:lnTo>
                      <a:pt x="824" y="1386"/>
                    </a:lnTo>
                    <a:lnTo>
                      <a:pt x="846" y="1343"/>
                    </a:lnTo>
                    <a:lnTo>
                      <a:pt x="869" y="1300"/>
                    </a:lnTo>
                    <a:lnTo>
                      <a:pt x="894" y="1257"/>
                    </a:lnTo>
                    <a:lnTo>
                      <a:pt x="920" y="1217"/>
                    </a:lnTo>
                    <a:lnTo>
                      <a:pt x="948" y="1177"/>
                    </a:lnTo>
                    <a:lnTo>
                      <a:pt x="976" y="1137"/>
                    </a:lnTo>
                    <a:lnTo>
                      <a:pt x="1007" y="1100"/>
                    </a:lnTo>
                    <a:lnTo>
                      <a:pt x="1038" y="1063"/>
                    </a:lnTo>
                    <a:lnTo>
                      <a:pt x="1071" y="1027"/>
                    </a:lnTo>
                    <a:lnTo>
                      <a:pt x="1105" y="993"/>
                    </a:lnTo>
                    <a:lnTo>
                      <a:pt x="1140" y="959"/>
                    </a:lnTo>
                    <a:lnTo>
                      <a:pt x="1176" y="927"/>
                    </a:lnTo>
                    <a:lnTo>
                      <a:pt x="1213" y="896"/>
                    </a:lnTo>
                    <a:lnTo>
                      <a:pt x="1250" y="866"/>
                    </a:lnTo>
                    <a:lnTo>
                      <a:pt x="1290" y="838"/>
                    </a:lnTo>
                    <a:lnTo>
                      <a:pt x="1331" y="810"/>
                    </a:lnTo>
                    <a:lnTo>
                      <a:pt x="1372" y="785"/>
                    </a:lnTo>
                    <a:lnTo>
                      <a:pt x="1414" y="760"/>
                    </a:lnTo>
                    <a:lnTo>
                      <a:pt x="1457" y="737"/>
                    </a:lnTo>
                    <a:lnTo>
                      <a:pt x="1501" y="716"/>
                    </a:lnTo>
                    <a:lnTo>
                      <a:pt x="1546" y="696"/>
                    </a:lnTo>
                    <a:lnTo>
                      <a:pt x="1584" y="680"/>
                    </a:lnTo>
                    <a:lnTo>
                      <a:pt x="1594" y="673"/>
                    </a:lnTo>
                    <a:lnTo>
                      <a:pt x="1600" y="665"/>
                    </a:lnTo>
                    <a:lnTo>
                      <a:pt x="1604" y="658"/>
                    </a:lnTo>
                    <a:lnTo>
                      <a:pt x="1606" y="650"/>
                    </a:lnTo>
                    <a:lnTo>
                      <a:pt x="1605" y="638"/>
                    </a:lnTo>
                    <a:lnTo>
                      <a:pt x="1603" y="632"/>
                    </a:lnTo>
                    <a:lnTo>
                      <a:pt x="1586" y="586"/>
                    </a:lnTo>
                    <a:lnTo>
                      <a:pt x="1385" y="31"/>
                    </a:lnTo>
                    <a:lnTo>
                      <a:pt x="1381" y="18"/>
                    </a:lnTo>
                    <a:lnTo>
                      <a:pt x="1380" y="13"/>
                    </a:lnTo>
                    <a:lnTo>
                      <a:pt x="1372" y="5"/>
                    </a:lnTo>
                    <a:lnTo>
                      <a:pt x="1367" y="2"/>
                    </a:lnTo>
                    <a:lnTo>
                      <a:pt x="1359" y="0"/>
                    </a:lnTo>
                    <a:lnTo>
                      <a:pt x="1349" y="0"/>
                    </a:lnTo>
                    <a:lnTo>
                      <a:pt x="1337" y="3"/>
                    </a:lnTo>
                    <a:lnTo>
                      <a:pt x="1307" y="14"/>
                    </a:lnTo>
                    <a:lnTo>
                      <a:pt x="1248" y="37"/>
                    </a:lnTo>
                    <a:lnTo>
                      <a:pt x="1190" y="63"/>
                    </a:lnTo>
                    <a:lnTo>
                      <a:pt x="1133" y="89"/>
                    </a:lnTo>
                    <a:lnTo>
                      <a:pt x="1076" y="119"/>
                    </a:lnTo>
                    <a:lnTo>
                      <a:pt x="1021" y="149"/>
                    </a:lnTo>
                    <a:lnTo>
                      <a:pt x="966" y="181"/>
                    </a:lnTo>
                    <a:lnTo>
                      <a:pt x="913" y="215"/>
                    </a:lnTo>
                    <a:lnTo>
                      <a:pt x="861" y="251"/>
                    </a:lnTo>
                    <a:lnTo>
                      <a:pt x="810" y="289"/>
                    </a:lnTo>
                    <a:lnTo>
                      <a:pt x="759" y="328"/>
                    </a:lnTo>
                    <a:lnTo>
                      <a:pt x="711" y="369"/>
                    </a:lnTo>
                    <a:lnTo>
                      <a:pt x="663" y="411"/>
                    </a:lnTo>
                    <a:lnTo>
                      <a:pt x="616" y="455"/>
                    </a:lnTo>
                    <a:lnTo>
                      <a:pt x="572" y="501"/>
                    </a:lnTo>
                    <a:lnTo>
                      <a:pt x="528" y="547"/>
                    </a:lnTo>
                    <a:lnTo>
                      <a:pt x="485" y="595"/>
                    </a:lnTo>
                    <a:lnTo>
                      <a:pt x="443" y="645"/>
                    </a:lnTo>
                    <a:lnTo>
                      <a:pt x="404" y="695"/>
                    </a:lnTo>
                    <a:lnTo>
                      <a:pt x="365" y="747"/>
                    </a:lnTo>
                    <a:lnTo>
                      <a:pt x="329" y="800"/>
                    </a:lnTo>
                    <a:lnTo>
                      <a:pt x="294" y="854"/>
                    </a:lnTo>
                    <a:lnTo>
                      <a:pt x="260" y="910"/>
                    </a:lnTo>
                    <a:lnTo>
                      <a:pt x="228" y="967"/>
                    </a:lnTo>
                    <a:lnTo>
                      <a:pt x="197" y="1024"/>
                    </a:lnTo>
                    <a:lnTo>
                      <a:pt x="169" y="1084"/>
                    </a:lnTo>
                    <a:lnTo>
                      <a:pt x="142" y="1144"/>
                    </a:lnTo>
                    <a:lnTo>
                      <a:pt x="116" y="1204"/>
                    </a:lnTo>
                    <a:lnTo>
                      <a:pt x="93" y="1266"/>
                    </a:lnTo>
                    <a:lnTo>
                      <a:pt x="71" y="1329"/>
                    </a:lnTo>
                    <a:lnTo>
                      <a:pt x="52" y="1392"/>
                    </a:lnTo>
                    <a:lnTo>
                      <a:pt x="34" y="1457"/>
                    </a:lnTo>
                    <a:lnTo>
                      <a:pt x="18" y="1522"/>
                    </a:lnTo>
                    <a:lnTo>
                      <a:pt x="2" y="1593"/>
                    </a:lnTo>
                    <a:lnTo>
                      <a:pt x="0" y="1610"/>
                    </a:lnTo>
                    <a:lnTo>
                      <a:pt x="1" y="1623"/>
                    </a:lnTo>
                    <a:lnTo>
                      <a:pt x="6" y="1634"/>
                    </a:lnTo>
                    <a:lnTo>
                      <a:pt x="11" y="1643"/>
                    </a:lnTo>
                    <a:lnTo>
                      <a:pt x="17" y="1648"/>
                    </a:lnTo>
                    <a:lnTo>
                      <a:pt x="23" y="1652"/>
                    </a:lnTo>
                    <a:lnTo>
                      <a:pt x="29" y="1655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72960" y="770040"/>
                <a:ext cx="313200" cy="387360"/>
              </a:xfrm>
              <a:custGeom>
                <a:avLst/>
                <a:gdLst/>
                <a:ahLst/>
                <a:rect l="l" t="t" r="r" b="b"/>
                <a:pathLst>
                  <a:path w="1606" h="1985">
                    <a:moveTo>
                      <a:pt x="29" y="333"/>
                    </a:moveTo>
                    <a:lnTo>
                      <a:pt x="79" y="306"/>
                    </a:lnTo>
                    <a:lnTo>
                      <a:pt x="623" y="31"/>
                    </a:lnTo>
                    <a:lnTo>
                      <a:pt x="684" y="0"/>
                    </a:lnTo>
                    <a:lnTo>
                      <a:pt x="687" y="72"/>
                    </a:lnTo>
                    <a:lnTo>
                      <a:pt x="691" y="123"/>
                    </a:lnTo>
                    <a:lnTo>
                      <a:pt x="697" y="174"/>
                    </a:lnTo>
                    <a:lnTo>
                      <a:pt x="704" y="224"/>
                    </a:lnTo>
                    <a:lnTo>
                      <a:pt x="713" y="273"/>
                    </a:lnTo>
                    <a:lnTo>
                      <a:pt x="724" y="323"/>
                    </a:lnTo>
                    <a:lnTo>
                      <a:pt x="737" y="371"/>
                    </a:lnTo>
                    <a:lnTo>
                      <a:pt x="751" y="418"/>
                    </a:lnTo>
                    <a:lnTo>
                      <a:pt x="767" y="465"/>
                    </a:lnTo>
                    <a:lnTo>
                      <a:pt x="784" y="512"/>
                    </a:lnTo>
                    <a:lnTo>
                      <a:pt x="803" y="557"/>
                    </a:lnTo>
                    <a:lnTo>
                      <a:pt x="824" y="602"/>
                    </a:lnTo>
                    <a:lnTo>
                      <a:pt x="846" y="645"/>
                    </a:lnTo>
                    <a:lnTo>
                      <a:pt x="869" y="688"/>
                    </a:lnTo>
                    <a:lnTo>
                      <a:pt x="894" y="730"/>
                    </a:lnTo>
                    <a:lnTo>
                      <a:pt x="920" y="771"/>
                    </a:lnTo>
                    <a:lnTo>
                      <a:pt x="948" y="811"/>
                    </a:lnTo>
                    <a:lnTo>
                      <a:pt x="976" y="850"/>
                    </a:lnTo>
                    <a:lnTo>
                      <a:pt x="1007" y="888"/>
                    </a:lnTo>
                    <a:lnTo>
                      <a:pt x="1038" y="924"/>
                    </a:lnTo>
                    <a:lnTo>
                      <a:pt x="1071" y="961"/>
                    </a:lnTo>
                    <a:lnTo>
                      <a:pt x="1105" y="995"/>
                    </a:lnTo>
                    <a:lnTo>
                      <a:pt x="1140" y="1029"/>
                    </a:lnTo>
                    <a:lnTo>
                      <a:pt x="1176" y="1061"/>
                    </a:lnTo>
                    <a:lnTo>
                      <a:pt x="1213" y="1092"/>
                    </a:lnTo>
                    <a:lnTo>
                      <a:pt x="1252" y="1122"/>
                    </a:lnTo>
                    <a:lnTo>
                      <a:pt x="1290" y="1151"/>
                    </a:lnTo>
                    <a:lnTo>
                      <a:pt x="1331" y="1177"/>
                    </a:lnTo>
                    <a:lnTo>
                      <a:pt x="1372" y="1203"/>
                    </a:lnTo>
                    <a:lnTo>
                      <a:pt x="1414" y="1227"/>
                    </a:lnTo>
                    <a:lnTo>
                      <a:pt x="1457" y="1250"/>
                    </a:lnTo>
                    <a:lnTo>
                      <a:pt x="1501" y="1271"/>
                    </a:lnTo>
                    <a:lnTo>
                      <a:pt x="1546" y="1292"/>
                    </a:lnTo>
                    <a:lnTo>
                      <a:pt x="1584" y="1308"/>
                    </a:lnTo>
                    <a:lnTo>
                      <a:pt x="1594" y="1315"/>
                    </a:lnTo>
                    <a:lnTo>
                      <a:pt x="1600" y="1323"/>
                    </a:lnTo>
                    <a:lnTo>
                      <a:pt x="1605" y="1331"/>
                    </a:lnTo>
                    <a:lnTo>
                      <a:pt x="1606" y="1337"/>
                    </a:lnTo>
                    <a:lnTo>
                      <a:pt x="1605" y="1349"/>
                    </a:lnTo>
                    <a:lnTo>
                      <a:pt x="1603" y="1355"/>
                    </a:lnTo>
                    <a:lnTo>
                      <a:pt x="1586" y="1401"/>
                    </a:lnTo>
                    <a:lnTo>
                      <a:pt x="1388" y="1950"/>
                    </a:lnTo>
                    <a:lnTo>
                      <a:pt x="1381" y="1965"/>
                    </a:lnTo>
                    <a:lnTo>
                      <a:pt x="1379" y="1970"/>
                    </a:lnTo>
                    <a:lnTo>
                      <a:pt x="1371" y="1978"/>
                    </a:lnTo>
                    <a:lnTo>
                      <a:pt x="1366" y="1983"/>
                    </a:lnTo>
                    <a:lnTo>
                      <a:pt x="1358" y="1985"/>
                    </a:lnTo>
                    <a:lnTo>
                      <a:pt x="1348" y="1985"/>
                    </a:lnTo>
                    <a:lnTo>
                      <a:pt x="1338" y="1983"/>
                    </a:lnTo>
                    <a:lnTo>
                      <a:pt x="1302" y="1969"/>
                    </a:lnTo>
                    <a:lnTo>
                      <a:pt x="1242" y="1942"/>
                    </a:lnTo>
                    <a:lnTo>
                      <a:pt x="1181" y="1915"/>
                    </a:lnTo>
                    <a:lnTo>
                      <a:pt x="1123" y="1886"/>
                    </a:lnTo>
                    <a:lnTo>
                      <a:pt x="1066" y="1857"/>
                    </a:lnTo>
                    <a:lnTo>
                      <a:pt x="1009" y="1824"/>
                    </a:lnTo>
                    <a:lnTo>
                      <a:pt x="954" y="1791"/>
                    </a:lnTo>
                    <a:lnTo>
                      <a:pt x="901" y="1756"/>
                    </a:lnTo>
                    <a:lnTo>
                      <a:pt x="848" y="1719"/>
                    </a:lnTo>
                    <a:lnTo>
                      <a:pt x="796" y="1682"/>
                    </a:lnTo>
                    <a:lnTo>
                      <a:pt x="747" y="1642"/>
                    </a:lnTo>
                    <a:lnTo>
                      <a:pt x="698" y="1602"/>
                    </a:lnTo>
                    <a:lnTo>
                      <a:pt x="650" y="1560"/>
                    </a:lnTo>
                    <a:lnTo>
                      <a:pt x="604" y="1517"/>
                    </a:lnTo>
                    <a:lnTo>
                      <a:pt x="559" y="1472"/>
                    </a:lnTo>
                    <a:lnTo>
                      <a:pt x="517" y="1426"/>
                    </a:lnTo>
                    <a:lnTo>
                      <a:pt x="475" y="1379"/>
                    </a:lnTo>
                    <a:lnTo>
                      <a:pt x="434" y="1331"/>
                    </a:lnTo>
                    <a:lnTo>
                      <a:pt x="395" y="1281"/>
                    </a:lnTo>
                    <a:lnTo>
                      <a:pt x="358" y="1230"/>
                    </a:lnTo>
                    <a:lnTo>
                      <a:pt x="323" y="1178"/>
                    </a:lnTo>
                    <a:lnTo>
                      <a:pt x="287" y="1124"/>
                    </a:lnTo>
                    <a:lnTo>
                      <a:pt x="255" y="1070"/>
                    </a:lnTo>
                    <a:lnTo>
                      <a:pt x="224" y="1014"/>
                    </a:lnTo>
                    <a:lnTo>
                      <a:pt x="194" y="957"/>
                    </a:lnTo>
                    <a:lnTo>
                      <a:pt x="166" y="900"/>
                    </a:lnTo>
                    <a:lnTo>
                      <a:pt x="139" y="841"/>
                    </a:lnTo>
                    <a:lnTo>
                      <a:pt x="115" y="781"/>
                    </a:lnTo>
                    <a:lnTo>
                      <a:pt x="92" y="720"/>
                    </a:lnTo>
                    <a:lnTo>
                      <a:pt x="71" y="658"/>
                    </a:lnTo>
                    <a:lnTo>
                      <a:pt x="52" y="595"/>
                    </a:lnTo>
                    <a:lnTo>
                      <a:pt x="34" y="530"/>
                    </a:lnTo>
                    <a:lnTo>
                      <a:pt x="18" y="465"/>
                    </a:lnTo>
                    <a:lnTo>
                      <a:pt x="3" y="394"/>
                    </a:lnTo>
                    <a:lnTo>
                      <a:pt x="0" y="378"/>
                    </a:lnTo>
                    <a:lnTo>
                      <a:pt x="1" y="364"/>
                    </a:lnTo>
                    <a:lnTo>
                      <a:pt x="6" y="353"/>
                    </a:lnTo>
                    <a:lnTo>
                      <a:pt x="11" y="346"/>
                    </a:lnTo>
                    <a:lnTo>
                      <a:pt x="17" y="339"/>
                    </a:lnTo>
                    <a:lnTo>
                      <a:pt x="23" y="336"/>
                    </a:lnTo>
                    <a:lnTo>
                      <a:pt x="29" y="333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6320" y="698400"/>
                <a:ext cx="137880" cy="147600"/>
              </a:xfrm>
              <a:custGeom>
                <a:avLst/>
                <a:gdLst/>
                <a:ahLst/>
                <a:rect l="l" t="t" r="r" b="b"/>
                <a:pathLst>
                  <a:path w="714" h="759">
                    <a:moveTo>
                      <a:pt x="699" y="379"/>
                    </a:moveTo>
                    <a:lnTo>
                      <a:pt x="706" y="375"/>
                    </a:lnTo>
                    <a:lnTo>
                      <a:pt x="710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09" y="351"/>
                    </a:lnTo>
                    <a:lnTo>
                      <a:pt x="705" y="346"/>
                    </a:lnTo>
                    <a:lnTo>
                      <a:pt x="699" y="342"/>
                    </a:lnTo>
                    <a:lnTo>
                      <a:pt x="35" y="4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3" y="11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735"/>
                    </a:lnTo>
                    <a:lnTo>
                      <a:pt x="1" y="743"/>
                    </a:lnTo>
                    <a:lnTo>
                      <a:pt x="3" y="748"/>
                    </a:lnTo>
                    <a:lnTo>
                      <a:pt x="5" y="753"/>
                    </a:lnTo>
                    <a:lnTo>
                      <a:pt x="10" y="757"/>
                    </a:lnTo>
                    <a:lnTo>
                      <a:pt x="15" y="759"/>
                    </a:lnTo>
                    <a:lnTo>
                      <a:pt x="21" y="759"/>
                    </a:lnTo>
                    <a:lnTo>
                      <a:pt x="27" y="758"/>
                    </a:lnTo>
                    <a:lnTo>
                      <a:pt x="34" y="755"/>
                    </a:lnTo>
                    <a:lnTo>
                      <a:pt x="699" y="379"/>
                    </a:lnTo>
                    <a:close/>
                  </a:path>
                </a:pathLst>
              </a:custGeom>
              <a:solidFill>
                <a:srgbClr val="00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95120" y="701640"/>
                <a:ext cx="138240" cy="146160"/>
              </a:xfrm>
              <a:custGeom>
                <a:avLst/>
                <a:gdLst/>
                <a:ahLst/>
                <a:rect l="l" t="t" r="r" b="b"/>
                <a:pathLst>
                  <a:path w="714" h="758">
                    <a:moveTo>
                      <a:pt x="701" y="379"/>
                    </a:moveTo>
                    <a:lnTo>
                      <a:pt x="706" y="374"/>
                    </a:lnTo>
                    <a:lnTo>
                      <a:pt x="711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11" y="350"/>
                    </a:lnTo>
                    <a:lnTo>
                      <a:pt x="706" y="346"/>
                    </a:lnTo>
                    <a:lnTo>
                      <a:pt x="700" y="342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0" y="734"/>
                    </a:lnTo>
                    <a:lnTo>
                      <a:pt x="1" y="742"/>
                    </a:lnTo>
                    <a:lnTo>
                      <a:pt x="3" y="749"/>
                    </a:lnTo>
                    <a:lnTo>
                      <a:pt x="7" y="753"/>
                    </a:lnTo>
                    <a:lnTo>
                      <a:pt x="10" y="756"/>
                    </a:lnTo>
                    <a:lnTo>
                      <a:pt x="15" y="758"/>
                    </a:lnTo>
                    <a:lnTo>
                      <a:pt x="21" y="758"/>
                    </a:lnTo>
                    <a:lnTo>
                      <a:pt x="27" y="757"/>
                    </a:lnTo>
                    <a:lnTo>
                      <a:pt x="34" y="754"/>
                    </a:lnTo>
                    <a:lnTo>
                      <a:pt x="701" y="379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934200" y="517680"/>
                <a:ext cx="180720" cy="250560"/>
              </a:xfrm>
              <a:custGeom>
                <a:avLst/>
                <a:gdLst/>
                <a:ahLst/>
                <a:rect l="l" t="t" r="r" b="b"/>
                <a:pathLst>
                  <a:path w="930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30" y="1293"/>
                    </a:lnTo>
                    <a:lnTo>
                      <a:pt x="713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136160" y="517680"/>
                <a:ext cx="31680" cy="25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215360" y="517680"/>
                <a:ext cx="155520" cy="250560"/>
              </a:xfrm>
              <a:custGeom>
                <a:avLst/>
                <a:gdLst/>
                <a:ahLst/>
                <a:rect l="l" t="t" r="r" b="b"/>
                <a:pathLst>
                  <a:path w="803" h="1293">
                    <a:moveTo>
                      <a:pt x="803" y="1293"/>
                    </a:moveTo>
                    <a:lnTo>
                      <a:pt x="607" y="1293"/>
                    </a:lnTo>
                    <a:lnTo>
                      <a:pt x="228" y="746"/>
                    </a:lnTo>
                    <a:lnTo>
                      <a:pt x="161" y="746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283" y="1"/>
                    </a:lnTo>
                    <a:lnTo>
                      <a:pt x="327" y="4"/>
                    </a:lnTo>
                    <a:lnTo>
                      <a:pt x="370" y="8"/>
                    </a:lnTo>
                    <a:lnTo>
                      <a:pt x="413" y="16"/>
                    </a:lnTo>
                    <a:lnTo>
                      <a:pt x="456" y="27"/>
                    </a:lnTo>
                    <a:lnTo>
                      <a:pt x="497" y="41"/>
                    </a:lnTo>
                    <a:lnTo>
                      <a:pt x="536" y="61"/>
                    </a:lnTo>
                    <a:lnTo>
                      <a:pt x="556" y="73"/>
                    </a:lnTo>
                    <a:lnTo>
                      <a:pt x="574" y="87"/>
                    </a:lnTo>
                    <a:lnTo>
                      <a:pt x="592" y="101"/>
                    </a:lnTo>
                    <a:lnTo>
                      <a:pt x="608" y="118"/>
                    </a:lnTo>
                    <a:lnTo>
                      <a:pt x="623" y="135"/>
                    </a:lnTo>
                    <a:lnTo>
                      <a:pt x="637" y="153"/>
                    </a:lnTo>
                    <a:lnTo>
                      <a:pt x="650" y="173"/>
                    </a:lnTo>
                    <a:lnTo>
                      <a:pt x="661" y="192"/>
                    </a:lnTo>
                    <a:lnTo>
                      <a:pt x="671" y="212"/>
                    </a:lnTo>
                    <a:lnTo>
                      <a:pt x="680" y="233"/>
                    </a:lnTo>
                    <a:lnTo>
                      <a:pt x="694" y="277"/>
                    </a:lnTo>
                    <a:lnTo>
                      <a:pt x="700" y="300"/>
                    </a:lnTo>
                    <a:lnTo>
                      <a:pt x="703" y="323"/>
                    </a:lnTo>
                    <a:lnTo>
                      <a:pt x="705" y="346"/>
                    </a:lnTo>
                    <a:lnTo>
                      <a:pt x="705" y="369"/>
                    </a:lnTo>
                    <a:lnTo>
                      <a:pt x="704" y="403"/>
                    </a:lnTo>
                    <a:lnTo>
                      <a:pt x="700" y="436"/>
                    </a:lnTo>
                    <a:lnTo>
                      <a:pt x="693" y="469"/>
                    </a:lnTo>
                    <a:lnTo>
                      <a:pt x="683" y="500"/>
                    </a:lnTo>
                    <a:lnTo>
                      <a:pt x="671" y="531"/>
                    </a:lnTo>
                    <a:lnTo>
                      <a:pt x="657" y="558"/>
                    </a:lnTo>
                    <a:lnTo>
                      <a:pt x="639" y="585"/>
                    </a:lnTo>
                    <a:lnTo>
                      <a:pt x="621" y="611"/>
                    </a:lnTo>
                    <a:lnTo>
                      <a:pt x="599" y="634"/>
                    </a:lnTo>
                    <a:lnTo>
                      <a:pt x="576" y="655"/>
                    </a:lnTo>
                    <a:lnTo>
                      <a:pt x="550" y="673"/>
                    </a:lnTo>
                    <a:lnTo>
                      <a:pt x="523" y="691"/>
                    </a:lnTo>
                    <a:lnTo>
                      <a:pt x="493" y="704"/>
                    </a:lnTo>
                    <a:lnTo>
                      <a:pt x="463" y="716"/>
                    </a:lnTo>
                    <a:lnTo>
                      <a:pt x="430" y="725"/>
                    </a:lnTo>
                    <a:lnTo>
                      <a:pt x="396" y="730"/>
                    </a:lnTo>
                    <a:lnTo>
                      <a:pt x="803" y="1293"/>
                    </a:lnTo>
                    <a:close/>
                    <a:moveTo>
                      <a:pt x="161" y="612"/>
                    </a:moveTo>
                    <a:lnTo>
                      <a:pt x="213" y="612"/>
                    </a:lnTo>
                    <a:lnTo>
                      <a:pt x="274" y="611"/>
                    </a:lnTo>
                    <a:lnTo>
                      <a:pt x="335" y="604"/>
                    </a:lnTo>
                    <a:lnTo>
                      <a:pt x="365" y="599"/>
                    </a:lnTo>
                    <a:lnTo>
                      <a:pt x="393" y="591"/>
                    </a:lnTo>
                    <a:lnTo>
                      <a:pt x="420" y="582"/>
                    </a:lnTo>
                    <a:lnTo>
                      <a:pt x="445" y="571"/>
                    </a:lnTo>
                    <a:lnTo>
                      <a:pt x="469" y="557"/>
                    </a:lnTo>
                    <a:lnTo>
                      <a:pt x="490" y="540"/>
                    </a:lnTo>
                    <a:lnTo>
                      <a:pt x="509" y="522"/>
                    </a:lnTo>
                    <a:lnTo>
                      <a:pt x="524" y="499"/>
                    </a:lnTo>
                    <a:lnTo>
                      <a:pt x="537" y="473"/>
                    </a:lnTo>
                    <a:lnTo>
                      <a:pt x="547" y="445"/>
                    </a:lnTo>
                    <a:lnTo>
                      <a:pt x="553" y="412"/>
                    </a:lnTo>
                    <a:lnTo>
                      <a:pt x="555" y="376"/>
                    </a:lnTo>
                    <a:lnTo>
                      <a:pt x="553" y="339"/>
                    </a:lnTo>
                    <a:lnTo>
                      <a:pt x="546" y="308"/>
                    </a:lnTo>
                    <a:lnTo>
                      <a:pt x="536" y="279"/>
                    </a:lnTo>
                    <a:lnTo>
                      <a:pt x="523" y="254"/>
                    </a:lnTo>
                    <a:lnTo>
                      <a:pt x="505" y="232"/>
                    </a:lnTo>
                    <a:lnTo>
                      <a:pt x="486" y="213"/>
                    </a:lnTo>
                    <a:lnTo>
                      <a:pt x="464" y="198"/>
                    </a:lnTo>
                    <a:lnTo>
                      <a:pt x="440" y="184"/>
                    </a:lnTo>
                    <a:lnTo>
                      <a:pt x="413" y="173"/>
                    </a:lnTo>
                    <a:lnTo>
                      <a:pt x="385" y="164"/>
                    </a:lnTo>
                    <a:lnTo>
                      <a:pt x="356" y="157"/>
                    </a:lnTo>
                    <a:lnTo>
                      <a:pt x="325" y="152"/>
                    </a:lnTo>
                    <a:lnTo>
                      <a:pt x="296" y="148"/>
                    </a:lnTo>
                    <a:lnTo>
                      <a:pt x="265" y="146"/>
                    </a:lnTo>
                    <a:lnTo>
                      <a:pt x="204" y="144"/>
                    </a:lnTo>
                    <a:lnTo>
                      <a:pt x="161" y="144"/>
                    </a:lnTo>
                    <a:lnTo>
                      <a:pt x="161" y="6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387080" y="5176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929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29" y="1293"/>
                    </a:lnTo>
                    <a:lnTo>
                      <a:pt x="712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923040" y="847800"/>
                <a:ext cx="50760" cy="133200"/>
              </a:xfrm>
              <a:custGeom>
                <a:avLst/>
                <a:gdLst/>
                <a:ahLst/>
                <a:rect l="l" t="t" r="r" b="b"/>
                <a:pathLst>
                  <a:path w="264" h="687">
                    <a:moveTo>
                      <a:pt x="169" y="687"/>
                    </a:moveTo>
                    <a:lnTo>
                      <a:pt x="74" y="687"/>
                    </a:lnTo>
                    <a:lnTo>
                      <a:pt x="74" y="279"/>
                    </a:lnTo>
                    <a:lnTo>
                      <a:pt x="0" y="279"/>
                    </a:lnTo>
                    <a:lnTo>
                      <a:pt x="0" y="190"/>
                    </a:lnTo>
                    <a:lnTo>
                      <a:pt x="74" y="190"/>
                    </a:lnTo>
                    <a:lnTo>
                      <a:pt x="74" y="0"/>
                    </a:lnTo>
                    <a:lnTo>
                      <a:pt x="169" y="0"/>
                    </a:lnTo>
                    <a:lnTo>
                      <a:pt x="169" y="190"/>
                    </a:lnTo>
                    <a:lnTo>
                      <a:pt x="264" y="190"/>
                    </a:lnTo>
                    <a:lnTo>
                      <a:pt x="264" y="279"/>
                    </a:lnTo>
                    <a:lnTo>
                      <a:pt x="169" y="279"/>
                    </a:lnTo>
                    <a:lnTo>
                      <a:pt x="169" y="6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977040" y="882720"/>
                <a:ext cx="9180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5" y="280"/>
                    </a:moveTo>
                    <a:lnTo>
                      <a:pt x="98" y="311"/>
                    </a:lnTo>
                    <a:lnTo>
                      <a:pt x="106" y="341"/>
                    </a:lnTo>
                    <a:lnTo>
                      <a:pt x="119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8" y="415"/>
                    </a:lnTo>
                    <a:lnTo>
                      <a:pt x="170" y="423"/>
                    </a:lnTo>
                    <a:lnTo>
                      <a:pt x="184" y="431"/>
                    </a:lnTo>
                    <a:lnTo>
                      <a:pt x="197" y="437"/>
                    </a:lnTo>
                    <a:lnTo>
                      <a:pt x="213" y="441"/>
                    </a:lnTo>
                    <a:lnTo>
                      <a:pt x="229" y="443"/>
                    </a:lnTo>
                    <a:lnTo>
                      <a:pt x="245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5" y="430"/>
                    </a:lnTo>
                    <a:lnTo>
                      <a:pt x="333" y="418"/>
                    </a:lnTo>
                    <a:lnTo>
                      <a:pt x="351" y="405"/>
                    </a:lnTo>
                    <a:lnTo>
                      <a:pt x="366" y="388"/>
                    </a:lnTo>
                    <a:lnTo>
                      <a:pt x="380" y="368"/>
                    </a:lnTo>
                    <a:lnTo>
                      <a:pt x="394" y="348"/>
                    </a:lnTo>
                    <a:lnTo>
                      <a:pt x="475" y="394"/>
                    </a:lnTo>
                    <a:lnTo>
                      <a:pt x="455" y="424"/>
                    </a:lnTo>
                    <a:lnTo>
                      <a:pt x="433" y="451"/>
                    </a:lnTo>
                    <a:lnTo>
                      <a:pt x="407" y="474"/>
                    </a:lnTo>
                    <a:lnTo>
                      <a:pt x="378" y="494"/>
                    </a:lnTo>
                    <a:lnTo>
                      <a:pt x="347" y="509"/>
                    </a:lnTo>
                    <a:lnTo>
                      <a:pt x="315" y="520"/>
                    </a:lnTo>
                    <a:lnTo>
                      <a:pt x="279" y="528"/>
                    </a:lnTo>
                    <a:lnTo>
                      <a:pt x="244" y="530"/>
                    </a:lnTo>
                    <a:lnTo>
                      <a:pt x="217" y="528"/>
                    </a:lnTo>
                    <a:lnTo>
                      <a:pt x="191" y="524"/>
                    </a:lnTo>
                    <a:lnTo>
                      <a:pt x="165" y="518"/>
                    </a:lnTo>
                    <a:lnTo>
                      <a:pt x="142" y="509"/>
                    </a:lnTo>
                    <a:lnTo>
                      <a:pt x="120" y="498"/>
                    </a:lnTo>
                    <a:lnTo>
                      <a:pt x="101" y="485"/>
                    </a:lnTo>
                    <a:lnTo>
                      <a:pt x="82" y="471"/>
                    </a:lnTo>
                    <a:lnTo>
                      <a:pt x="66" y="454"/>
                    </a:lnTo>
                    <a:lnTo>
                      <a:pt x="50" y="435"/>
                    </a:lnTo>
                    <a:lnTo>
                      <a:pt x="37" y="416"/>
                    </a:lnTo>
                    <a:lnTo>
                      <a:pt x="26" y="394"/>
                    </a:lnTo>
                    <a:lnTo>
                      <a:pt x="16" y="371"/>
                    </a:lnTo>
                    <a:lnTo>
                      <a:pt x="10" y="346"/>
                    </a:lnTo>
                    <a:lnTo>
                      <a:pt x="4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4" y="213"/>
                    </a:lnTo>
                    <a:lnTo>
                      <a:pt x="9" y="186"/>
                    </a:lnTo>
                    <a:lnTo>
                      <a:pt x="15" y="161"/>
                    </a:lnTo>
                    <a:lnTo>
                      <a:pt x="24" y="138"/>
                    </a:lnTo>
                    <a:lnTo>
                      <a:pt x="34" y="116"/>
                    </a:lnTo>
                    <a:lnTo>
                      <a:pt x="47" y="95"/>
                    </a:lnTo>
                    <a:lnTo>
                      <a:pt x="61" y="76"/>
                    </a:lnTo>
                    <a:lnTo>
                      <a:pt x="77" y="60"/>
                    </a:lnTo>
                    <a:lnTo>
                      <a:pt x="95" y="45"/>
                    </a:lnTo>
                    <a:lnTo>
                      <a:pt x="115" y="31"/>
                    </a:lnTo>
                    <a:lnTo>
                      <a:pt x="137" y="20"/>
                    </a:lnTo>
                    <a:lnTo>
                      <a:pt x="160" y="12"/>
                    </a:lnTo>
                    <a:lnTo>
                      <a:pt x="185" y="5"/>
                    </a:lnTo>
                    <a:lnTo>
                      <a:pt x="213" y="2"/>
                    </a:lnTo>
                    <a:lnTo>
                      <a:pt x="242" y="0"/>
                    </a:lnTo>
                    <a:lnTo>
                      <a:pt x="271" y="2"/>
                    </a:lnTo>
                    <a:lnTo>
                      <a:pt x="297" y="5"/>
                    </a:lnTo>
                    <a:lnTo>
                      <a:pt x="322" y="12"/>
                    </a:lnTo>
                    <a:lnTo>
                      <a:pt x="345" y="20"/>
                    </a:lnTo>
                    <a:lnTo>
                      <a:pt x="366" y="31"/>
                    </a:lnTo>
                    <a:lnTo>
                      <a:pt x="385" y="45"/>
                    </a:lnTo>
                    <a:lnTo>
                      <a:pt x="402" y="60"/>
                    </a:lnTo>
                    <a:lnTo>
                      <a:pt x="418" y="76"/>
                    </a:lnTo>
                    <a:lnTo>
                      <a:pt x="431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0" y="161"/>
                    </a:lnTo>
                    <a:lnTo>
                      <a:pt x="467" y="185"/>
                    </a:lnTo>
                    <a:lnTo>
                      <a:pt x="471" y="210"/>
                    </a:lnTo>
                    <a:lnTo>
                      <a:pt x="474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5" y="280"/>
                    </a:lnTo>
                    <a:close/>
                    <a:moveTo>
                      <a:pt x="379" y="207"/>
                    </a:moveTo>
                    <a:lnTo>
                      <a:pt x="373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5" y="117"/>
                    </a:lnTo>
                    <a:lnTo>
                      <a:pt x="316" y="103"/>
                    </a:lnTo>
                    <a:lnTo>
                      <a:pt x="294" y="92"/>
                    </a:lnTo>
                    <a:lnTo>
                      <a:pt x="270" y="85"/>
                    </a:lnTo>
                    <a:lnTo>
                      <a:pt x="242" y="83"/>
                    </a:lnTo>
                    <a:lnTo>
                      <a:pt x="215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1" y="137"/>
                    </a:lnTo>
                    <a:lnTo>
                      <a:pt x="117" y="158"/>
                    </a:lnTo>
                    <a:lnTo>
                      <a:pt x="107" y="182"/>
                    </a:lnTo>
                    <a:lnTo>
                      <a:pt x="101" y="207"/>
                    </a:lnTo>
                    <a:lnTo>
                      <a:pt x="379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086480" y="846000"/>
                <a:ext cx="1908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18520" y="882720"/>
                <a:ext cx="9216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7" y="280"/>
                    </a:moveTo>
                    <a:lnTo>
                      <a:pt x="99" y="311"/>
                    </a:lnTo>
                    <a:lnTo>
                      <a:pt x="108" y="341"/>
                    </a:lnTo>
                    <a:lnTo>
                      <a:pt x="120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9" y="415"/>
                    </a:lnTo>
                    <a:lnTo>
                      <a:pt x="171" y="423"/>
                    </a:lnTo>
                    <a:lnTo>
                      <a:pt x="185" y="431"/>
                    </a:lnTo>
                    <a:lnTo>
                      <a:pt x="199" y="437"/>
                    </a:lnTo>
                    <a:lnTo>
                      <a:pt x="213" y="441"/>
                    </a:lnTo>
                    <a:lnTo>
                      <a:pt x="230" y="443"/>
                    </a:lnTo>
                    <a:lnTo>
                      <a:pt x="246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6" y="430"/>
                    </a:lnTo>
                    <a:lnTo>
                      <a:pt x="335" y="418"/>
                    </a:lnTo>
                    <a:lnTo>
                      <a:pt x="351" y="405"/>
                    </a:lnTo>
                    <a:lnTo>
                      <a:pt x="367" y="388"/>
                    </a:lnTo>
                    <a:lnTo>
                      <a:pt x="381" y="368"/>
                    </a:lnTo>
                    <a:lnTo>
                      <a:pt x="395" y="348"/>
                    </a:lnTo>
                    <a:lnTo>
                      <a:pt x="475" y="394"/>
                    </a:lnTo>
                    <a:lnTo>
                      <a:pt x="457" y="424"/>
                    </a:lnTo>
                    <a:lnTo>
                      <a:pt x="434" y="451"/>
                    </a:lnTo>
                    <a:lnTo>
                      <a:pt x="407" y="474"/>
                    </a:lnTo>
                    <a:lnTo>
                      <a:pt x="379" y="494"/>
                    </a:lnTo>
                    <a:lnTo>
                      <a:pt x="348" y="509"/>
                    </a:lnTo>
                    <a:lnTo>
                      <a:pt x="315" y="520"/>
                    </a:lnTo>
                    <a:lnTo>
                      <a:pt x="281" y="528"/>
                    </a:lnTo>
                    <a:lnTo>
                      <a:pt x="245" y="530"/>
                    </a:lnTo>
                    <a:lnTo>
                      <a:pt x="218" y="528"/>
                    </a:lnTo>
                    <a:lnTo>
                      <a:pt x="191" y="524"/>
                    </a:lnTo>
                    <a:lnTo>
                      <a:pt x="166" y="518"/>
                    </a:lnTo>
                    <a:lnTo>
                      <a:pt x="143" y="509"/>
                    </a:lnTo>
                    <a:lnTo>
                      <a:pt x="121" y="498"/>
                    </a:lnTo>
                    <a:lnTo>
                      <a:pt x="101" y="485"/>
                    </a:lnTo>
                    <a:lnTo>
                      <a:pt x="83" y="471"/>
                    </a:lnTo>
                    <a:lnTo>
                      <a:pt x="66" y="454"/>
                    </a:lnTo>
                    <a:lnTo>
                      <a:pt x="51" y="435"/>
                    </a:lnTo>
                    <a:lnTo>
                      <a:pt x="38" y="416"/>
                    </a:lnTo>
                    <a:lnTo>
                      <a:pt x="27" y="394"/>
                    </a:lnTo>
                    <a:lnTo>
                      <a:pt x="18" y="371"/>
                    </a:lnTo>
                    <a:lnTo>
                      <a:pt x="10" y="346"/>
                    </a:lnTo>
                    <a:lnTo>
                      <a:pt x="5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5" y="213"/>
                    </a:lnTo>
                    <a:lnTo>
                      <a:pt x="9" y="186"/>
                    </a:lnTo>
                    <a:lnTo>
                      <a:pt x="16" y="161"/>
                    </a:lnTo>
                    <a:lnTo>
                      <a:pt x="24" y="138"/>
                    </a:lnTo>
                    <a:lnTo>
                      <a:pt x="35" y="116"/>
                    </a:lnTo>
                    <a:lnTo>
                      <a:pt x="48" y="95"/>
                    </a:lnTo>
                    <a:lnTo>
                      <a:pt x="62" y="76"/>
                    </a:lnTo>
                    <a:lnTo>
                      <a:pt x="78" y="60"/>
                    </a:lnTo>
                    <a:lnTo>
                      <a:pt x="96" y="45"/>
                    </a:lnTo>
                    <a:lnTo>
                      <a:pt x="116" y="31"/>
                    </a:lnTo>
                    <a:lnTo>
                      <a:pt x="137" y="20"/>
                    </a:lnTo>
                    <a:lnTo>
                      <a:pt x="162" y="12"/>
                    </a:lnTo>
                    <a:lnTo>
                      <a:pt x="187" y="5"/>
                    </a:lnTo>
                    <a:lnTo>
                      <a:pt x="214" y="2"/>
                    </a:lnTo>
                    <a:lnTo>
                      <a:pt x="243" y="0"/>
                    </a:lnTo>
                    <a:lnTo>
                      <a:pt x="271" y="2"/>
                    </a:lnTo>
                    <a:lnTo>
                      <a:pt x="299" y="5"/>
                    </a:lnTo>
                    <a:lnTo>
                      <a:pt x="323" y="12"/>
                    </a:lnTo>
                    <a:lnTo>
                      <a:pt x="346" y="20"/>
                    </a:lnTo>
                    <a:lnTo>
                      <a:pt x="367" y="31"/>
                    </a:lnTo>
                    <a:lnTo>
                      <a:pt x="386" y="45"/>
                    </a:lnTo>
                    <a:lnTo>
                      <a:pt x="403" y="60"/>
                    </a:lnTo>
                    <a:lnTo>
                      <a:pt x="418" y="76"/>
                    </a:lnTo>
                    <a:lnTo>
                      <a:pt x="432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1" y="161"/>
                    </a:lnTo>
                    <a:lnTo>
                      <a:pt x="468" y="185"/>
                    </a:lnTo>
                    <a:lnTo>
                      <a:pt x="472" y="210"/>
                    </a:lnTo>
                    <a:lnTo>
                      <a:pt x="475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7" y="280"/>
                    </a:lnTo>
                    <a:close/>
                    <a:moveTo>
                      <a:pt x="380" y="207"/>
                    </a:moveTo>
                    <a:lnTo>
                      <a:pt x="374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6" y="117"/>
                    </a:lnTo>
                    <a:lnTo>
                      <a:pt x="317" y="103"/>
                    </a:lnTo>
                    <a:lnTo>
                      <a:pt x="295" y="92"/>
                    </a:lnTo>
                    <a:lnTo>
                      <a:pt x="270" y="85"/>
                    </a:lnTo>
                    <a:lnTo>
                      <a:pt x="243" y="83"/>
                    </a:lnTo>
                    <a:lnTo>
                      <a:pt x="216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2" y="137"/>
                    </a:lnTo>
                    <a:lnTo>
                      <a:pt x="119" y="158"/>
                    </a:lnTo>
                    <a:lnTo>
                      <a:pt x="108" y="182"/>
                    </a:lnTo>
                    <a:lnTo>
                      <a:pt x="101" y="207"/>
                    </a:lnTo>
                    <a:lnTo>
                      <a:pt x="380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225080" y="882720"/>
                <a:ext cx="77760" cy="101520"/>
              </a:xfrm>
              <a:custGeom>
                <a:avLst/>
                <a:gdLst/>
                <a:ahLst/>
                <a:rect l="l" t="t" r="r" b="b"/>
                <a:pathLst>
                  <a:path w="404" h="530">
                    <a:moveTo>
                      <a:pt x="404" y="157"/>
                    </a:moveTo>
                    <a:lnTo>
                      <a:pt x="389" y="141"/>
                    </a:lnTo>
                    <a:lnTo>
                      <a:pt x="373" y="127"/>
                    </a:lnTo>
                    <a:lnTo>
                      <a:pt x="358" y="116"/>
                    </a:lnTo>
                    <a:lnTo>
                      <a:pt x="340" y="106"/>
                    </a:lnTo>
                    <a:lnTo>
                      <a:pt x="321" y="99"/>
                    </a:lnTo>
                    <a:lnTo>
                      <a:pt x="303" y="94"/>
                    </a:lnTo>
                    <a:lnTo>
                      <a:pt x="283" y="91"/>
                    </a:lnTo>
                    <a:lnTo>
                      <a:pt x="261" y="90"/>
                    </a:lnTo>
                    <a:lnTo>
                      <a:pt x="245" y="91"/>
                    </a:lnTo>
                    <a:lnTo>
                      <a:pt x="227" y="93"/>
                    </a:lnTo>
                    <a:lnTo>
                      <a:pt x="212" y="97"/>
                    </a:lnTo>
                    <a:lnTo>
                      <a:pt x="196" y="104"/>
                    </a:lnTo>
                    <a:lnTo>
                      <a:pt x="182" y="112"/>
                    </a:lnTo>
                    <a:lnTo>
                      <a:pt x="168" y="120"/>
                    </a:lnTo>
                    <a:lnTo>
                      <a:pt x="156" y="130"/>
                    </a:lnTo>
                    <a:lnTo>
                      <a:pt x="144" y="142"/>
                    </a:lnTo>
                    <a:lnTo>
                      <a:pt x="133" y="154"/>
                    </a:lnTo>
                    <a:lnTo>
                      <a:pt x="124" y="169"/>
                    </a:lnTo>
                    <a:lnTo>
                      <a:pt x="115" y="183"/>
                    </a:lnTo>
                    <a:lnTo>
                      <a:pt x="109" y="198"/>
                    </a:lnTo>
                    <a:lnTo>
                      <a:pt x="103" y="214"/>
                    </a:lnTo>
                    <a:lnTo>
                      <a:pt x="99" y="230"/>
                    </a:lnTo>
                    <a:lnTo>
                      <a:pt x="97" y="247"/>
                    </a:lnTo>
                    <a:lnTo>
                      <a:pt x="96" y="264"/>
                    </a:lnTo>
                    <a:lnTo>
                      <a:pt x="97" y="283"/>
                    </a:lnTo>
                    <a:lnTo>
                      <a:pt x="99" y="300"/>
                    </a:lnTo>
                    <a:lnTo>
                      <a:pt x="103" y="318"/>
                    </a:lnTo>
                    <a:lnTo>
                      <a:pt x="109" y="334"/>
                    </a:lnTo>
                    <a:lnTo>
                      <a:pt x="115" y="350"/>
                    </a:lnTo>
                    <a:lnTo>
                      <a:pt x="124" y="364"/>
                    </a:lnTo>
                    <a:lnTo>
                      <a:pt x="133" y="378"/>
                    </a:lnTo>
                    <a:lnTo>
                      <a:pt x="144" y="390"/>
                    </a:lnTo>
                    <a:lnTo>
                      <a:pt x="156" y="401"/>
                    </a:lnTo>
                    <a:lnTo>
                      <a:pt x="169" y="411"/>
                    </a:lnTo>
                    <a:lnTo>
                      <a:pt x="183" y="420"/>
                    </a:lnTo>
                    <a:lnTo>
                      <a:pt x="199" y="427"/>
                    </a:lnTo>
                    <a:lnTo>
                      <a:pt x="215" y="432"/>
                    </a:lnTo>
                    <a:lnTo>
                      <a:pt x="232" y="437"/>
                    </a:lnTo>
                    <a:lnTo>
                      <a:pt x="249" y="439"/>
                    </a:lnTo>
                    <a:lnTo>
                      <a:pt x="268" y="440"/>
                    </a:lnTo>
                    <a:lnTo>
                      <a:pt x="289" y="439"/>
                    </a:lnTo>
                    <a:lnTo>
                      <a:pt x="307" y="435"/>
                    </a:lnTo>
                    <a:lnTo>
                      <a:pt x="326" y="430"/>
                    </a:lnTo>
                    <a:lnTo>
                      <a:pt x="343" y="422"/>
                    </a:lnTo>
                    <a:lnTo>
                      <a:pt x="360" y="412"/>
                    </a:lnTo>
                    <a:lnTo>
                      <a:pt x="375" y="401"/>
                    </a:lnTo>
                    <a:lnTo>
                      <a:pt x="389" y="388"/>
                    </a:lnTo>
                    <a:lnTo>
                      <a:pt x="404" y="374"/>
                    </a:lnTo>
                    <a:lnTo>
                      <a:pt x="404" y="497"/>
                    </a:lnTo>
                    <a:lnTo>
                      <a:pt x="371" y="511"/>
                    </a:lnTo>
                    <a:lnTo>
                      <a:pt x="338" y="522"/>
                    </a:lnTo>
                    <a:lnTo>
                      <a:pt x="303" y="528"/>
                    </a:lnTo>
                    <a:lnTo>
                      <a:pt x="267" y="530"/>
                    </a:lnTo>
                    <a:lnTo>
                      <a:pt x="239" y="528"/>
                    </a:lnTo>
                    <a:lnTo>
                      <a:pt x="213" y="524"/>
                    </a:lnTo>
                    <a:lnTo>
                      <a:pt x="188" y="518"/>
                    </a:lnTo>
                    <a:lnTo>
                      <a:pt x="164" y="509"/>
                    </a:lnTo>
                    <a:lnTo>
                      <a:pt x="140" y="499"/>
                    </a:lnTo>
                    <a:lnTo>
                      <a:pt x="119" y="486"/>
                    </a:lnTo>
                    <a:lnTo>
                      <a:pt x="98" y="472"/>
                    </a:lnTo>
                    <a:lnTo>
                      <a:pt x="79" y="454"/>
                    </a:lnTo>
                    <a:lnTo>
                      <a:pt x="62" y="437"/>
                    </a:lnTo>
                    <a:lnTo>
                      <a:pt x="46" y="416"/>
                    </a:lnTo>
                    <a:lnTo>
                      <a:pt x="33" y="395"/>
                    </a:lnTo>
                    <a:lnTo>
                      <a:pt x="21" y="372"/>
                    </a:lnTo>
                    <a:lnTo>
                      <a:pt x="12" y="348"/>
                    </a:lnTo>
                    <a:lnTo>
                      <a:pt x="6" y="322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6" y="213"/>
                    </a:lnTo>
                    <a:lnTo>
                      <a:pt x="12" y="186"/>
                    </a:lnTo>
                    <a:lnTo>
                      <a:pt x="21" y="161"/>
                    </a:lnTo>
                    <a:lnTo>
                      <a:pt x="33" y="138"/>
                    </a:lnTo>
                    <a:lnTo>
                      <a:pt x="46" y="115"/>
                    </a:lnTo>
                    <a:lnTo>
                      <a:pt x="62" y="95"/>
                    </a:lnTo>
                    <a:lnTo>
                      <a:pt x="79" y="76"/>
                    </a:lnTo>
                    <a:lnTo>
                      <a:pt x="98" y="59"/>
                    </a:lnTo>
                    <a:lnTo>
                      <a:pt x="119" y="45"/>
                    </a:lnTo>
                    <a:lnTo>
                      <a:pt x="142" y="31"/>
                    </a:lnTo>
                    <a:lnTo>
                      <a:pt x="165" y="20"/>
                    </a:lnTo>
                    <a:lnTo>
                      <a:pt x="190" y="12"/>
                    </a:lnTo>
                    <a:lnTo>
                      <a:pt x="216" y="5"/>
                    </a:lnTo>
                    <a:lnTo>
                      <a:pt x="244" y="2"/>
                    </a:lnTo>
                    <a:lnTo>
                      <a:pt x="272" y="0"/>
                    </a:lnTo>
                    <a:lnTo>
                      <a:pt x="306" y="2"/>
                    </a:lnTo>
                    <a:lnTo>
                      <a:pt x="340" y="8"/>
                    </a:lnTo>
                    <a:lnTo>
                      <a:pt x="373" y="18"/>
                    </a:lnTo>
                    <a:lnTo>
                      <a:pt x="404" y="32"/>
                    </a:lnTo>
                    <a:lnTo>
                      <a:pt x="404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314000" y="882720"/>
                <a:ext cx="102960" cy="101520"/>
              </a:xfrm>
              <a:custGeom>
                <a:avLst/>
                <a:gdLst/>
                <a:ahLst/>
                <a:rect l="l" t="t" r="r" b="b"/>
                <a:pathLst>
                  <a:path w="532" h="530">
                    <a:moveTo>
                      <a:pt x="532" y="264"/>
                    </a:moveTo>
                    <a:lnTo>
                      <a:pt x="530" y="293"/>
                    </a:lnTo>
                    <a:lnTo>
                      <a:pt x="527" y="319"/>
                    </a:lnTo>
                    <a:lnTo>
                      <a:pt x="520" y="344"/>
                    </a:lnTo>
                    <a:lnTo>
                      <a:pt x="511" y="370"/>
                    </a:lnTo>
                    <a:lnTo>
                      <a:pt x="501" y="393"/>
                    </a:lnTo>
                    <a:lnTo>
                      <a:pt x="487" y="415"/>
                    </a:lnTo>
                    <a:lnTo>
                      <a:pt x="472" y="434"/>
                    </a:lnTo>
                    <a:lnTo>
                      <a:pt x="454" y="453"/>
                    </a:lnTo>
                    <a:lnTo>
                      <a:pt x="436" y="471"/>
                    </a:lnTo>
                    <a:lnTo>
                      <a:pt x="416" y="485"/>
                    </a:lnTo>
                    <a:lnTo>
                      <a:pt x="394" y="498"/>
                    </a:lnTo>
                    <a:lnTo>
                      <a:pt x="370" y="509"/>
                    </a:lnTo>
                    <a:lnTo>
                      <a:pt x="346" y="518"/>
                    </a:lnTo>
                    <a:lnTo>
                      <a:pt x="321" y="524"/>
                    </a:lnTo>
                    <a:lnTo>
                      <a:pt x="293" y="528"/>
                    </a:lnTo>
                    <a:lnTo>
                      <a:pt x="266" y="530"/>
                    </a:lnTo>
                    <a:lnTo>
                      <a:pt x="238" y="528"/>
                    </a:lnTo>
                    <a:lnTo>
                      <a:pt x="212" y="524"/>
                    </a:lnTo>
                    <a:lnTo>
                      <a:pt x="187" y="518"/>
                    </a:lnTo>
                    <a:lnTo>
                      <a:pt x="162" y="509"/>
                    </a:lnTo>
                    <a:lnTo>
                      <a:pt x="139" y="498"/>
                    </a:lnTo>
                    <a:lnTo>
                      <a:pt x="117" y="485"/>
                    </a:lnTo>
                    <a:lnTo>
                      <a:pt x="97" y="471"/>
                    </a:lnTo>
                    <a:lnTo>
                      <a:pt x="78" y="453"/>
                    </a:lnTo>
                    <a:lnTo>
                      <a:pt x="61" y="434"/>
                    </a:lnTo>
                    <a:lnTo>
                      <a:pt x="45" y="415"/>
                    </a:lnTo>
                    <a:lnTo>
                      <a:pt x="32" y="393"/>
                    </a:lnTo>
                    <a:lnTo>
                      <a:pt x="21" y="370"/>
                    </a:lnTo>
                    <a:lnTo>
                      <a:pt x="12" y="344"/>
                    </a:lnTo>
                    <a:lnTo>
                      <a:pt x="6" y="319"/>
                    </a:lnTo>
                    <a:lnTo>
                      <a:pt x="3" y="293"/>
                    </a:lnTo>
                    <a:lnTo>
                      <a:pt x="0" y="264"/>
                    </a:lnTo>
                    <a:lnTo>
                      <a:pt x="3" y="237"/>
                    </a:lnTo>
                    <a:lnTo>
                      <a:pt x="6" y="210"/>
                    </a:lnTo>
                    <a:lnTo>
                      <a:pt x="12" y="185"/>
                    </a:lnTo>
                    <a:lnTo>
                      <a:pt x="21" y="160"/>
                    </a:lnTo>
                    <a:lnTo>
                      <a:pt x="32" y="137"/>
                    </a:lnTo>
                    <a:lnTo>
                      <a:pt x="45" y="115"/>
                    </a:lnTo>
                    <a:lnTo>
                      <a:pt x="61" y="95"/>
                    </a:lnTo>
                    <a:lnTo>
                      <a:pt x="78" y="76"/>
                    </a:lnTo>
                    <a:lnTo>
                      <a:pt x="97" y="59"/>
                    </a:lnTo>
                    <a:lnTo>
                      <a:pt x="117" y="45"/>
                    </a:lnTo>
                    <a:lnTo>
                      <a:pt x="139" y="31"/>
                    </a:lnTo>
                    <a:lnTo>
                      <a:pt x="162" y="20"/>
                    </a:lnTo>
                    <a:lnTo>
                      <a:pt x="187" y="12"/>
                    </a:lnTo>
                    <a:lnTo>
                      <a:pt x="212" y="5"/>
                    </a:lnTo>
                    <a:lnTo>
                      <a:pt x="238" y="2"/>
                    </a:lnTo>
                    <a:lnTo>
                      <a:pt x="266" y="0"/>
                    </a:lnTo>
                    <a:lnTo>
                      <a:pt x="293" y="2"/>
                    </a:lnTo>
                    <a:lnTo>
                      <a:pt x="321" y="5"/>
                    </a:lnTo>
                    <a:lnTo>
                      <a:pt x="346" y="12"/>
                    </a:lnTo>
                    <a:lnTo>
                      <a:pt x="370" y="20"/>
                    </a:lnTo>
                    <a:lnTo>
                      <a:pt x="394" y="31"/>
                    </a:lnTo>
                    <a:lnTo>
                      <a:pt x="416" y="45"/>
                    </a:lnTo>
                    <a:lnTo>
                      <a:pt x="436" y="59"/>
                    </a:lnTo>
                    <a:lnTo>
                      <a:pt x="454" y="76"/>
                    </a:lnTo>
                    <a:lnTo>
                      <a:pt x="472" y="95"/>
                    </a:lnTo>
                    <a:lnTo>
                      <a:pt x="487" y="115"/>
                    </a:lnTo>
                    <a:lnTo>
                      <a:pt x="501" y="137"/>
                    </a:lnTo>
                    <a:lnTo>
                      <a:pt x="511" y="160"/>
                    </a:lnTo>
                    <a:lnTo>
                      <a:pt x="520" y="185"/>
                    </a:lnTo>
                    <a:lnTo>
                      <a:pt x="527" y="210"/>
                    </a:lnTo>
                    <a:lnTo>
                      <a:pt x="530" y="237"/>
                    </a:lnTo>
                    <a:lnTo>
                      <a:pt x="532" y="264"/>
                    </a:lnTo>
                    <a:close/>
                    <a:moveTo>
                      <a:pt x="96" y="264"/>
                    </a:moveTo>
                    <a:lnTo>
                      <a:pt x="97" y="282"/>
                    </a:lnTo>
                    <a:lnTo>
                      <a:pt x="100" y="299"/>
                    </a:lnTo>
                    <a:lnTo>
                      <a:pt x="103" y="316"/>
                    </a:lnTo>
                    <a:lnTo>
                      <a:pt x="110" y="331"/>
                    </a:lnTo>
                    <a:lnTo>
                      <a:pt x="117" y="346"/>
                    </a:lnTo>
                    <a:lnTo>
                      <a:pt x="125" y="361"/>
                    </a:lnTo>
                    <a:lnTo>
                      <a:pt x="135" y="374"/>
                    </a:lnTo>
                    <a:lnTo>
                      <a:pt x="146" y="386"/>
                    </a:lnTo>
                    <a:lnTo>
                      <a:pt x="158" y="398"/>
                    </a:lnTo>
                    <a:lnTo>
                      <a:pt x="171" y="408"/>
                    </a:lnTo>
                    <a:lnTo>
                      <a:pt x="185" y="417"/>
                    </a:lnTo>
                    <a:lnTo>
                      <a:pt x="200" y="424"/>
                    </a:lnTo>
                    <a:lnTo>
                      <a:pt x="215" y="430"/>
                    </a:lnTo>
                    <a:lnTo>
                      <a:pt x="232" y="434"/>
                    </a:lnTo>
                    <a:lnTo>
                      <a:pt x="248" y="437"/>
                    </a:lnTo>
                    <a:lnTo>
                      <a:pt x="266" y="438"/>
                    </a:lnTo>
                    <a:lnTo>
                      <a:pt x="283" y="437"/>
                    </a:lnTo>
                    <a:lnTo>
                      <a:pt x="301" y="434"/>
                    </a:lnTo>
                    <a:lnTo>
                      <a:pt x="317" y="430"/>
                    </a:lnTo>
                    <a:lnTo>
                      <a:pt x="333" y="424"/>
                    </a:lnTo>
                    <a:lnTo>
                      <a:pt x="348" y="417"/>
                    </a:lnTo>
                    <a:lnTo>
                      <a:pt x="361" y="408"/>
                    </a:lnTo>
                    <a:lnTo>
                      <a:pt x="374" y="398"/>
                    </a:lnTo>
                    <a:lnTo>
                      <a:pt x="386" y="386"/>
                    </a:lnTo>
                    <a:lnTo>
                      <a:pt x="397" y="374"/>
                    </a:lnTo>
                    <a:lnTo>
                      <a:pt x="407" y="361"/>
                    </a:lnTo>
                    <a:lnTo>
                      <a:pt x="416" y="346"/>
                    </a:lnTo>
                    <a:lnTo>
                      <a:pt x="423" y="331"/>
                    </a:lnTo>
                    <a:lnTo>
                      <a:pt x="428" y="316"/>
                    </a:lnTo>
                    <a:lnTo>
                      <a:pt x="433" y="299"/>
                    </a:lnTo>
                    <a:lnTo>
                      <a:pt x="436" y="282"/>
                    </a:lnTo>
                    <a:lnTo>
                      <a:pt x="436" y="264"/>
                    </a:lnTo>
                    <a:lnTo>
                      <a:pt x="436" y="248"/>
                    </a:lnTo>
                    <a:lnTo>
                      <a:pt x="433" y="230"/>
                    </a:lnTo>
                    <a:lnTo>
                      <a:pt x="428" y="214"/>
                    </a:lnTo>
                    <a:lnTo>
                      <a:pt x="423" y="197"/>
                    </a:lnTo>
                    <a:lnTo>
                      <a:pt x="416" y="183"/>
                    </a:lnTo>
                    <a:lnTo>
                      <a:pt x="407" y="169"/>
                    </a:lnTo>
                    <a:lnTo>
                      <a:pt x="397" y="154"/>
                    </a:lnTo>
                    <a:lnTo>
                      <a:pt x="386" y="142"/>
                    </a:lnTo>
                    <a:lnTo>
                      <a:pt x="374" y="131"/>
                    </a:lnTo>
                    <a:lnTo>
                      <a:pt x="361" y="121"/>
                    </a:lnTo>
                    <a:lnTo>
                      <a:pt x="348" y="113"/>
                    </a:lnTo>
                    <a:lnTo>
                      <a:pt x="333" y="105"/>
                    </a:lnTo>
                    <a:lnTo>
                      <a:pt x="317" y="99"/>
                    </a:lnTo>
                    <a:lnTo>
                      <a:pt x="301" y="95"/>
                    </a:lnTo>
                    <a:lnTo>
                      <a:pt x="283" y="92"/>
                    </a:lnTo>
                    <a:lnTo>
                      <a:pt x="266" y="92"/>
                    </a:lnTo>
                    <a:lnTo>
                      <a:pt x="248" y="92"/>
                    </a:lnTo>
                    <a:lnTo>
                      <a:pt x="232" y="95"/>
                    </a:lnTo>
                    <a:lnTo>
                      <a:pt x="215" y="99"/>
                    </a:lnTo>
                    <a:lnTo>
                      <a:pt x="200" y="105"/>
                    </a:lnTo>
                    <a:lnTo>
                      <a:pt x="185" y="113"/>
                    </a:lnTo>
                    <a:lnTo>
                      <a:pt x="171" y="121"/>
                    </a:lnTo>
                    <a:lnTo>
                      <a:pt x="158" y="131"/>
                    </a:lnTo>
                    <a:lnTo>
                      <a:pt x="146" y="142"/>
                    </a:lnTo>
                    <a:lnTo>
                      <a:pt x="135" y="154"/>
                    </a:lnTo>
                    <a:lnTo>
                      <a:pt x="125" y="169"/>
                    </a:lnTo>
                    <a:lnTo>
                      <a:pt x="117" y="183"/>
                    </a:lnTo>
                    <a:lnTo>
                      <a:pt x="110" y="197"/>
                    </a:lnTo>
                    <a:lnTo>
                      <a:pt x="103" y="214"/>
                    </a:lnTo>
                    <a:lnTo>
                      <a:pt x="100" y="230"/>
                    </a:lnTo>
                    <a:lnTo>
                      <a:pt x="97" y="248"/>
                    </a:lnTo>
                    <a:lnTo>
                      <a:pt x="96" y="2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430280" y="882720"/>
                <a:ext cx="133200" cy="98280"/>
              </a:xfrm>
              <a:custGeom>
                <a:avLst/>
                <a:gdLst/>
                <a:ahLst/>
                <a:rect l="l" t="t" r="r" b="b"/>
                <a:pathLst>
                  <a:path w="690" h="512">
                    <a:moveTo>
                      <a:pt x="96" y="77"/>
                    </a:moveTo>
                    <a:lnTo>
                      <a:pt x="98" y="77"/>
                    </a:lnTo>
                    <a:lnTo>
                      <a:pt x="109" y="62"/>
                    </a:lnTo>
                    <a:lnTo>
                      <a:pt x="122" y="47"/>
                    </a:lnTo>
                    <a:lnTo>
                      <a:pt x="137" y="34"/>
                    </a:lnTo>
                    <a:lnTo>
                      <a:pt x="154" y="23"/>
                    </a:lnTo>
                    <a:lnTo>
                      <a:pt x="171" y="13"/>
                    </a:lnTo>
                    <a:lnTo>
                      <a:pt x="190" y="6"/>
                    </a:lnTo>
                    <a:lnTo>
                      <a:pt x="210" y="2"/>
                    </a:lnTo>
                    <a:lnTo>
                      <a:pt x="229" y="0"/>
                    </a:lnTo>
                    <a:lnTo>
                      <a:pt x="253" y="2"/>
                    </a:lnTo>
                    <a:lnTo>
                      <a:pt x="274" y="6"/>
                    </a:lnTo>
                    <a:lnTo>
                      <a:pt x="295" y="13"/>
                    </a:lnTo>
                    <a:lnTo>
                      <a:pt x="314" y="24"/>
                    </a:lnTo>
                    <a:lnTo>
                      <a:pt x="330" y="36"/>
                    </a:lnTo>
                    <a:lnTo>
                      <a:pt x="346" y="51"/>
                    </a:lnTo>
                    <a:lnTo>
                      <a:pt x="360" y="69"/>
                    </a:lnTo>
                    <a:lnTo>
                      <a:pt x="373" y="88"/>
                    </a:lnTo>
                    <a:lnTo>
                      <a:pt x="385" y="69"/>
                    </a:lnTo>
                    <a:lnTo>
                      <a:pt x="401" y="52"/>
                    </a:lnTo>
                    <a:lnTo>
                      <a:pt x="418" y="37"/>
                    </a:lnTo>
                    <a:lnTo>
                      <a:pt x="438" y="24"/>
                    </a:lnTo>
                    <a:lnTo>
                      <a:pt x="458" y="14"/>
                    </a:lnTo>
                    <a:lnTo>
                      <a:pt x="480" y="6"/>
                    </a:lnTo>
                    <a:lnTo>
                      <a:pt x="503" y="2"/>
                    </a:lnTo>
                    <a:lnTo>
                      <a:pt x="526" y="0"/>
                    </a:lnTo>
                    <a:lnTo>
                      <a:pt x="550" y="1"/>
                    </a:lnTo>
                    <a:lnTo>
                      <a:pt x="571" y="5"/>
                    </a:lnTo>
                    <a:lnTo>
                      <a:pt x="589" y="11"/>
                    </a:lnTo>
                    <a:lnTo>
                      <a:pt x="607" y="17"/>
                    </a:lnTo>
                    <a:lnTo>
                      <a:pt x="622" y="27"/>
                    </a:lnTo>
                    <a:lnTo>
                      <a:pt x="635" y="38"/>
                    </a:lnTo>
                    <a:lnTo>
                      <a:pt x="647" y="51"/>
                    </a:lnTo>
                    <a:lnTo>
                      <a:pt x="657" y="65"/>
                    </a:lnTo>
                    <a:lnTo>
                      <a:pt x="666" y="81"/>
                    </a:lnTo>
                    <a:lnTo>
                      <a:pt x="673" y="97"/>
                    </a:lnTo>
                    <a:lnTo>
                      <a:pt x="678" y="115"/>
                    </a:lnTo>
                    <a:lnTo>
                      <a:pt x="684" y="133"/>
                    </a:lnTo>
                    <a:lnTo>
                      <a:pt x="689" y="173"/>
                    </a:lnTo>
                    <a:lnTo>
                      <a:pt x="690" y="215"/>
                    </a:lnTo>
                    <a:lnTo>
                      <a:pt x="690" y="512"/>
                    </a:lnTo>
                    <a:lnTo>
                      <a:pt x="595" y="512"/>
                    </a:lnTo>
                    <a:lnTo>
                      <a:pt x="595" y="230"/>
                    </a:lnTo>
                    <a:lnTo>
                      <a:pt x="595" y="206"/>
                    </a:lnTo>
                    <a:lnTo>
                      <a:pt x="593" y="181"/>
                    </a:lnTo>
                    <a:lnTo>
                      <a:pt x="588" y="157"/>
                    </a:lnTo>
                    <a:lnTo>
                      <a:pt x="580" y="133"/>
                    </a:lnTo>
                    <a:lnTo>
                      <a:pt x="568" y="114"/>
                    </a:lnTo>
                    <a:lnTo>
                      <a:pt x="561" y="106"/>
                    </a:lnTo>
                    <a:lnTo>
                      <a:pt x="552" y="98"/>
                    </a:lnTo>
                    <a:lnTo>
                      <a:pt x="542" y="93"/>
                    </a:lnTo>
                    <a:lnTo>
                      <a:pt x="531" y="88"/>
                    </a:lnTo>
                    <a:lnTo>
                      <a:pt x="517" y="86"/>
                    </a:lnTo>
                    <a:lnTo>
                      <a:pt x="503" y="85"/>
                    </a:lnTo>
                    <a:lnTo>
                      <a:pt x="484" y="86"/>
                    </a:lnTo>
                    <a:lnTo>
                      <a:pt x="469" y="90"/>
                    </a:lnTo>
                    <a:lnTo>
                      <a:pt x="454" y="95"/>
                    </a:lnTo>
                    <a:lnTo>
                      <a:pt x="442" y="103"/>
                    </a:lnTo>
                    <a:lnTo>
                      <a:pt x="432" y="112"/>
                    </a:lnTo>
                    <a:lnTo>
                      <a:pt x="423" y="123"/>
                    </a:lnTo>
                    <a:lnTo>
                      <a:pt x="416" y="135"/>
                    </a:lnTo>
                    <a:lnTo>
                      <a:pt x="409" y="148"/>
                    </a:lnTo>
                    <a:lnTo>
                      <a:pt x="401" y="176"/>
                    </a:lnTo>
                    <a:lnTo>
                      <a:pt x="396" y="207"/>
                    </a:lnTo>
                    <a:lnTo>
                      <a:pt x="394" y="238"/>
                    </a:lnTo>
                    <a:lnTo>
                      <a:pt x="393" y="267"/>
                    </a:lnTo>
                    <a:lnTo>
                      <a:pt x="393" y="512"/>
                    </a:lnTo>
                    <a:lnTo>
                      <a:pt x="297" y="512"/>
                    </a:lnTo>
                    <a:lnTo>
                      <a:pt x="297" y="249"/>
                    </a:lnTo>
                    <a:lnTo>
                      <a:pt x="297" y="224"/>
                    </a:lnTo>
                    <a:lnTo>
                      <a:pt x="295" y="196"/>
                    </a:lnTo>
                    <a:lnTo>
                      <a:pt x="292" y="169"/>
                    </a:lnTo>
                    <a:lnTo>
                      <a:pt x="285" y="142"/>
                    </a:lnTo>
                    <a:lnTo>
                      <a:pt x="280" y="130"/>
                    </a:lnTo>
                    <a:lnTo>
                      <a:pt x="273" y="119"/>
                    </a:lnTo>
                    <a:lnTo>
                      <a:pt x="267" y="110"/>
                    </a:lnTo>
                    <a:lnTo>
                      <a:pt x="258" y="102"/>
                    </a:lnTo>
                    <a:lnTo>
                      <a:pt x="247" y="95"/>
                    </a:lnTo>
                    <a:lnTo>
                      <a:pt x="235" y="90"/>
                    </a:lnTo>
                    <a:lnTo>
                      <a:pt x="222" y="86"/>
                    </a:lnTo>
                    <a:lnTo>
                      <a:pt x="206" y="85"/>
                    </a:lnTo>
                    <a:lnTo>
                      <a:pt x="188" y="86"/>
                    </a:lnTo>
                    <a:lnTo>
                      <a:pt x="172" y="90"/>
                    </a:lnTo>
                    <a:lnTo>
                      <a:pt x="158" y="95"/>
                    </a:lnTo>
                    <a:lnTo>
                      <a:pt x="146" y="103"/>
                    </a:lnTo>
                    <a:lnTo>
                      <a:pt x="135" y="112"/>
                    </a:lnTo>
                    <a:lnTo>
                      <a:pt x="126" y="123"/>
                    </a:lnTo>
                    <a:lnTo>
                      <a:pt x="119" y="135"/>
                    </a:lnTo>
                    <a:lnTo>
                      <a:pt x="113" y="148"/>
                    </a:lnTo>
                    <a:lnTo>
                      <a:pt x="103" y="176"/>
                    </a:lnTo>
                    <a:lnTo>
                      <a:pt x="99" y="207"/>
                    </a:lnTo>
                    <a:lnTo>
                      <a:pt x="97" y="238"/>
                    </a:lnTo>
                    <a:lnTo>
                      <a:pt x="96" y="267"/>
                    </a:lnTo>
                    <a:lnTo>
                      <a:pt x="96" y="512"/>
                    </a:lnTo>
                    <a:lnTo>
                      <a:pt x="0" y="512"/>
                    </a:lnTo>
                    <a:lnTo>
                      <a:pt x="0" y="15"/>
                    </a:lnTo>
                    <a:lnTo>
                      <a:pt x="96" y="15"/>
                    </a:lnTo>
                    <a:lnTo>
                      <a:pt x="96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04240" y="1022400"/>
                <a:ext cx="9082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a-DK" sz="600" spc="-1" strike="noStrike">
                    <a:solidFill>
                      <a:srgbClr val="ffffff"/>
                    </a:solidFill>
                    <a:latin typeface="Futura Bk BT"/>
                  </a:rPr>
                  <a:t>www.kirktelecom.dk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057400" y="129528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зовые станции должны быть размещены таким образом, чтобы соседние зоны перекрывались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Зона действия зависит от материалов конструкции здания и от окружения</a:t>
            </a:r>
            <a:r>
              <a:rPr b="0" lang="da-DK" sz="1800" spc="-1" strike="noStrike" u="sng">
                <a:solidFill>
                  <a:srgbClr val="000000"/>
                </a:solidFill>
                <a:uFillTx/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86200" y="3111480"/>
            <a:ext cx="3276720" cy="321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4120" y="4724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352320" y="2743200"/>
            <a:ext cx="4876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диопокрытие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lang="da-DK" sz="1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x 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562720" y="3676680"/>
            <a:ext cx="1066680" cy="10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88200" y="40384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360" y="4648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зовая стан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81280" y="4876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517680"/>
            <a:ext cx="7236000" cy="2880"/>
          </a:xfrm>
          <a:prstGeom prst="line">
            <a:avLst/>
          </a:prstGeom>
          <a:ln cap="sq"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414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мещение базовых стан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4E39-6551-4185-B06F-6A7B5CFCEBFB}" type="slidenum">
              <a:t>3</a:t>
            </a:fld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2889360" y="457200"/>
            <a:ext cx="6521400" cy="0"/>
          </a:xfrm>
          <a:prstGeom prst="line">
            <a:avLst/>
          </a:prstGeom>
          <a:ln cap="sq"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0" y="0"/>
            <a:ext cx="6129000" cy="6858000"/>
            <a:chOff x="0" y="0"/>
            <a:chExt cx="6129000" cy="6858000"/>
          </a:xfrm>
        </p:grpSpPr>
        <p:sp>
          <p:nvSpPr>
            <p:cNvPr id="987" name=""/>
            <p:cNvSpPr/>
            <p:nvPr/>
          </p:nvSpPr>
          <p:spPr>
            <a:xfrm>
              <a:off x="0" y="0"/>
              <a:ext cx="2228760" cy="3429000"/>
            </a:xfrm>
            <a:prstGeom prst="rect">
              <a:avLst/>
            </a:prstGeom>
            <a:solidFill>
              <a:srgbClr val="000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0" y="3429000"/>
              <a:ext cx="2228760" cy="3429000"/>
            </a:xfrm>
            <a:prstGeom prst="rect">
              <a:avLst/>
            </a:pr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91836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79924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1" name="" descr=""/>
            <p:cNvPicPr/>
            <p:nvPr/>
          </p:nvPicPr>
          <p:blipFill>
            <a:blip r:embed="rId1"/>
            <a:stretch/>
          </p:blipFill>
          <p:spPr>
            <a:xfrm>
              <a:off x="201240" y="2055960"/>
              <a:ext cx="1705680" cy="271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2" name=""/>
            <p:cNvGrpSpPr/>
            <p:nvPr/>
          </p:nvGrpSpPr>
          <p:grpSpPr>
            <a:xfrm>
              <a:off x="211320" y="380880"/>
              <a:ext cx="1605600" cy="821880"/>
              <a:chOff x="211320" y="380880"/>
              <a:chExt cx="1605600" cy="821880"/>
            </a:xfrm>
          </p:grpSpPr>
          <p:sp>
            <p:nvSpPr>
              <p:cNvPr id="993" name=""/>
              <p:cNvSpPr/>
              <p:nvPr/>
            </p:nvSpPr>
            <p:spPr>
              <a:xfrm>
                <a:off x="403920" y="38088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7">
                    <a:moveTo>
                      <a:pt x="29" y="1655"/>
                    </a:moveTo>
                    <a:lnTo>
                      <a:pt x="79" y="1682"/>
                    </a:lnTo>
                    <a:lnTo>
                      <a:pt x="623" y="1957"/>
                    </a:lnTo>
                    <a:lnTo>
                      <a:pt x="684" y="1987"/>
                    </a:lnTo>
                    <a:lnTo>
                      <a:pt x="687" y="1916"/>
                    </a:lnTo>
                    <a:lnTo>
                      <a:pt x="691" y="1864"/>
                    </a:lnTo>
                    <a:lnTo>
                      <a:pt x="697" y="1814"/>
                    </a:lnTo>
                    <a:lnTo>
                      <a:pt x="704" y="1763"/>
                    </a:lnTo>
                    <a:lnTo>
                      <a:pt x="713" y="1714"/>
                    </a:lnTo>
                    <a:lnTo>
                      <a:pt x="724" y="1665"/>
                    </a:lnTo>
                    <a:lnTo>
                      <a:pt x="737" y="1616"/>
                    </a:lnTo>
                    <a:lnTo>
                      <a:pt x="751" y="1569"/>
                    </a:lnTo>
                    <a:lnTo>
                      <a:pt x="767" y="1522"/>
                    </a:lnTo>
                    <a:lnTo>
                      <a:pt x="784" y="1476"/>
                    </a:lnTo>
                    <a:lnTo>
                      <a:pt x="803" y="1431"/>
                    </a:lnTo>
                    <a:lnTo>
                      <a:pt x="824" y="1386"/>
                    </a:lnTo>
                    <a:lnTo>
                      <a:pt x="846" y="1343"/>
                    </a:lnTo>
                    <a:lnTo>
                      <a:pt x="869" y="1300"/>
                    </a:lnTo>
                    <a:lnTo>
                      <a:pt x="894" y="1257"/>
                    </a:lnTo>
                    <a:lnTo>
                      <a:pt x="920" y="1217"/>
                    </a:lnTo>
                    <a:lnTo>
                      <a:pt x="948" y="1177"/>
                    </a:lnTo>
                    <a:lnTo>
                      <a:pt x="976" y="1137"/>
                    </a:lnTo>
                    <a:lnTo>
                      <a:pt x="1007" y="1100"/>
                    </a:lnTo>
                    <a:lnTo>
                      <a:pt x="1038" y="1063"/>
                    </a:lnTo>
                    <a:lnTo>
                      <a:pt x="1071" y="1027"/>
                    </a:lnTo>
                    <a:lnTo>
                      <a:pt x="1105" y="993"/>
                    </a:lnTo>
                    <a:lnTo>
                      <a:pt x="1140" y="959"/>
                    </a:lnTo>
                    <a:lnTo>
                      <a:pt x="1176" y="927"/>
                    </a:lnTo>
                    <a:lnTo>
                      <a:pt x="1213" y="896"/>
                    </a:lnTo>
                    <a:lnTo>
                      <a:pt x="1250" y="866"/>
                    </a:lnTo>
                    <a:lnTo>
                      <a:pt x="1290" y="838"/>
                    </a:lnTo>
                    <a:lnTo>
                      <a:pt x="1331" y="810"/>
                    </a:lnTo>
                    <a:lnTo>
                      <a:pt x="1372" y="785"/>
                    </a:lnTo>
                    <a:lnTo>
                      <a:pt x="1414" y="760"/>
                    </a:lnTo>
                    <a:lnTo>
                      <a:pt x="1457" y="737"/>
                    </a:lnTo>
                    <a:lnTo>
                      <a:pt x="1501" y="716"/>
                    </a:lnTo>
                    <a:lnTo>
                      <a:pt x="1546" y="696"/>
                    </a:lnTo>
                    <a:lnTo>
                      <a:pt x="1584" y="680"/>
                    </a:lnTo>
                    <a:lnTo>
                      <a:pt x="1594" y="673"/>
                    </a:lnTo>
                    <a:lnTo>
                      <a:pt x="1600" y="665"/>
                    </a:lnTo>
                    <a:lnTo>
                      <a:pt x="1604" y="658"/>
                    </a:lnTo>
                    <a:lnTo>
                      <a:pt x="1606" y="650"/>
                    </a:lnTo>
                    <a:lnTo>
                      <a:pt x="1605" y="638"/>
                    </a:lnTo>
                    <a:lnTo>
                      <a:pt x="1603" y="632"/>
                    </a:lnTo>
                    <a:lnTo>
                      <a:pt x="1586" y="586"/>
                    </a:lnTo>
                    <a:lnTo>
                      <a:pt x="1385" y="31"/>
                    </a:lnTo>
                    <a:lnTo>
                      <a:pt x="1381" y="18"/>
                    </a:lnTo>
                    <a:lnTo>
                      <a:pt x="1380" y="13"/>
                    </a:lnTo>
                    <a:lnTo>
                      <a:pt x="1372" y="5"/>
                    </a:lnTo>
                    <a:lnTo>
                      <a:pt x="1367" y="2"/>
                    </a:lnTo>
                    <a:lnTo>
                      <a:pt x="1359" y="0"/>
                    </a:lnTo>
                    <a:lnTo>
                      <a:pt x="1349" y="0"/>
                    </a:lnTo>
                    <a:lnTo>
                      <a:pt x="1337" y="3"/>
                    </a:lnTo>
                    <a:lnTo>
                      <a:pt x="1307" y="14"/>
                    </a:lnTo>
                    <a:lnTo>
                      <a:pt x="1248" y="37"/>
                    </a:lnTo>
                    <a:lnTo>
                      <a:pt x="1190" y="63"/>
                    </a:lnTo>
                    <a:lnTo>
                      <a:pt x="1133" y="89"/>
                    </a:lnTo>
                    <a:lnTo>
                      <a:pt x="1076" y="119"/>
                    </a:lnTo>
                    <a:lnTo>
                      <a:pt x="1021" y="149"/>
                    </a:lnTo>
                    <a:lnTo>
                      <a:pt x="966" y="181"/>
                    </a:lnTo>
                    <a:lnTo>
                      <a:pt x="913" y="215"/>
                    </a:lnTo>
                    <a:lnTo>
                      <a:pt x="861" y="251"/>
                    </a:lnTo>
                    <a:lnTo>
                      <a:pt x="810" y="289"/>
                    </a:lnTo>
                    <a:lnTo>
                      <a:pt x="759" y="328"/>
                    </a:lnTo>
                    <a:lnTo>
                      <a:pt x="711" y="369"/>
                    </a:lnTo>
                    <a:lnTo>
                      <a:pt x="663" y="411"/>
                    </a:lnTo>
                    <a:lnTo>
                      <a:pt x="616" y="455"/>
                    </a:lnTo>
                    <a:lnTo>
                      <a:pt x="572" y="501"/>
                    </a:lnTo>
                    <a:lnTo>
                      <a:pt x="528" y="547"/>
                    </a:lnTo>
                    <a:lnTo>
                      <a:pt x="485" y="595"/>
                    </a:lnTo>
                    <a:lnTo>
                      <a:pt x="443" y="645"/>
                    </a:lnTo>
                    <a:lnTo>
                      <a:pt x="404" y="695"/>
                    </a:lnTo>
                    <a:lnTo>
                      <a:pt x="365" y="747"/>
                    </a:lnTo>
                    <a:lnTo>
                      <a:pt x="329" y="800"/>
                    </a:lnTo>
                    <a:lnTo>
                      <a:pt x="294" y="854"/>
                    </a:lnTo>
                    <a:lnTo>
                      <a:pt x="260" y="910"/>
                    </a:lnTo>
                    <a:lnTo>
                      <a:pt x="228" y="967"/>
                    </a:lnTo>
                    <a:lnTo>
                      <a:pt x="197" y="1024"/>
                    </a:lnTo>
                    <a:lnTo>
                      <a:pt x="169" y="1084"/>
                    </a:lnTo>
                    <a:lnTo>
                      <a:pt x="142" y="1144"/>
                    </a:lnTo>
                    <a:lnTo>
                      <a:pt x="116" y="1204"/>
                    </a:lnTo>
                    <a:lnTo>
                      <a:pt x="93" y="1266"/>
                    </a:lnTo>
                    <a:lnTo>
                      <a:pt x="71" y="1329"/>
                    </a:lnTo>
                    <a:lnTo>
                      <a:pt x="52" y="1392"/>
                    </a:lnTo>
                    <a:lnTo>
                      <a:pt x="34" y="1457"/>
                    </a:lnTo>
                    <a:lnTo>
                      <a:pt x="18" y="1522"/>
                    </a:lnTo>
                    <a:lnTo>
                      <a:pt x="2" y="1593"/>
                    </a:lnTo>
                    <a:lnTo>
                      <a:pt x="0" y="1610"/>
                    </a:lnTo>
                    <a:lnTo>
                      <a:pt x="1" y="1623"/>
                    </a:lnTo>
                    <a:lnTo>
                      <a:pt x="6" y="1634"/>
                    </a:lnTo>
                    <a:lnTo>
                      <a:pt x="11" y="1643"/>
                    </a:lnTo>
                    <a:lnTo>
                      <a:pt x="17" y="1648"/>
                    </a:lnTo>
                    <a:lnTo>
                      <a:pt x="23" y="1652"/>
                    </a:lnTo>
                    <a:lnTo>
                      <a:pt x="29" y="1655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03920" y="77004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5">
                    <a:moveTo>
                      <a:pt x="29" y="333"/>
                    </a:moveTo>
                    <a:lnTo>
                      <a:pt x="79" y="306"/>
                    </a:lnTo>
                    <a:lnTo>
                      <a:pt x="623" y="31"/>
                    </a:lnTo>
                    <a:lnTo>
                      <a:pt x="684" y="0"/>
                    </a:lnTo>
                    <a:lnTo>
                      <a:pt x="687" y="72"/>
                    </a:lnTo>
                    <a:lnTo>
                      <a:pt x="691" y="123"/>
                    </a:lnTo>
                    <a:lnTo>
                      <a:pt x="697" y="174"/>
                    </a:lnTo>
                    <a:lnTo>
                      <a:pt x="704" y="224"/>
                    </a:lnTo>
                    <a:lnTo>
                      <a:pt x="713" y="273"/>
                    </a:lnTo>
                    <a:lnTo>
                      <a:pt x="724" y="323"/>
                    </a:lnTo>
                    <a:lnTo>
                      <a:pt x="737" y="371"/>
                    </a:lnTo>
                    <a:lnTo>
                      <a:pt x="751" y="418"/>
                    </a:lnTo>
                    <a:lnTo>
                      <a:pt x="767" y="465"/>
                    </a:lnTo>
                    <a:lnTo>
                      <a:pt x="784" y="512"/>
                    </a:lnTo>
                    <a:lnTo>
                      <a:pt x="803" y="557"/>
                    </a:lnTo>
                    <a:lnTo>
                      <a:pt x="824" y="602"/>
                    </a:lnTo>
                    <a:lnTo>
                      <a:pt x="846" y="645"/>
                    </a:lnTo>
                    <a:lnTo>
                      <a:pt x="869" y="688"/>
                    </a:lnTo>
                    <a:lnTo>
                      <a:pt x="894" y="730"/>
                    </a:lnTo>
                    <a:lnTo>
                      <a:pt x="920" y="771"/>
                    </a:lnTo>
                    <a:lnTo>
                      <a:pt x="948" y="811"/>
                    </a:lnTo>
                    <a:lnTo>
                      <a:pt x="976" y="850"/>
                    </a:lnTo>
                    <a:lnTo>
                      <a:pt x="1007" y="888"/>
                    </a:lnTo>
                    <a:lnTo>
                      <a:pt x="1038" y="924"/>
                    </a:lnTo>
                    <a:lnTo>
                      <a:pt x="1071" y="961"/>
                    </a:lnTo>
                    <a:lnTo>
                      <a:pt x="1105" y="995"/>
                    </a:lnTo>
                    <a:lnTo>
                      <a:pt x="1140" y="1029"/>
                    </a:lnTo>
                    <a:lnTo>
                      <a:pt x="1176" y="1061"/>
                    </a:lnTo>
                    <a:lnTo>
                      <a:pt x="1213" y="1092"/>
                    </a:lnTo>
                    <a:lnTo>
                      <a:pt x="1252" y="1122"/>
                    </a:lnTo>
                    <a:lnTo>
                      <a:pt x="1290" y="1151"/>
                    </a:lnTo>
                    <a:lnTo>
                      <a:pt x="1331" y="1177"/>
                    </a:lnTo>
                    <a:lnTo>
                      <a:pt x="1372" y="1203"/>
                    </a:lnTo>
                    <a:lnTo>
                      <a:pt x="1414" y="1227"/>
                    </a:lnTo>
                    <a:lnTo>
                      <a:pt x="1457" y="1250"/>
                    </a:lnTo>
                    <a:lnTo>
                      <a:pt x="1501" y="1271"/>
                    </a:lnTo>
                    <a:lnTo>
                      <a:pt x="1546" y="1292"/>
                    </a:lnTo>
                    <a:lnTo>
                      <a:pt x="1584" y="1308"/>
                    </a:lnTo>
                    <a:lnTo>
                      <a:pt x="1594" y="1315"/>
                    </a:lnTo>
                    <a:lnTo>
                      <a:pt x="1600" y="1323"/>
                    </a:lnTo>
                    <a:lnTo>
                      <a:pt x="1605" y="1331"/>
                    </a:lnTo>
                    <a:lnTo>
                      <a:pt x="1606" y="1337"/>
                    </a:lnTo>
                    <a:lnTo>
                      <a:pt x="1605" y="1349"/>
                    </a:lnTo>
                    <a:lnTo>
                      <a:pt x="1603" y="1355"/>
                    </a:lnTo>
                    <a:lnTo>
                      <a:pt x="1586" y="1401"/>
                    </a:lnTo>
                    <a:lnTo>
                      <a:pt x="1388" y="1950"/>
                    </a:lnTo>
                    <a:lnTo>
                      <a:pt x="1381" y="1965"/>
                    </a:lnTo>
                    <a:lnTo>
                      <a:pt x="1379" y="1970"/>
                    </a:lnTo>
                    <a:lnTo>
                      <a:pt x="1371" y="1978"/>
                    </a:lnTo>
                    <a:lnTo>
                      <a:pt x="1366" y="1983"/>
                    </a:lnTo>
                    <a:lnTo>
                      <a:pt x="1358" y="1985"/>
                    </a:lnTo>
                    <a:lnTo>
                      <a:pt x="1348" y="1985"/>
                    </a:lnTo>
                    <a:lnTo>
                      <a:pt x="1338" y="1983"/>
                    </a:lnTo>
                    <a:lnTo>
                      <a:pt x="1302" y="1969"/>
                    </a:lnTo>
                    <a:lnTo>
                      <a:pt x="1242" y="1942"/>
                    </a:lnTo>
                    <a:lnTo>
                      <a:pt x="1181" y="1915"/>
                    </a:lnTo>
                    <a:lnTo>
                      <a:pt x="1123" y="1886"/>
                    </a:lnTo>
                    <a:lnTo>
                      <a:pt x="1066" y="1857"/>
                    </a:lnTo>
                    <a:lnTo>
                      <a:pt x="1009" y="1824"/>
                    </a:lnTo>
                    <a:lnTo>
                      <a:pt x="954" y="1791"/>
                    </a:lnTo>
                    <a:lnTo>
                      <a:pt x="901" y="1756"/>
                    </a:lnTo>
                    <a:lnTo>
                      <a:pt x="848" y="1719"/>
                    </a:lnTo>
                    <a:lnTo>
                      <a:pt x="796" y="1682"/>
                    </a:lnTo>
                    <a:lnTo>
                      <a:pt x="747" y="1642"/>
                    </a:lnTo>
                    <a:lnTo>
                      <a:pt x="698" y="1602"/>
                    </a:lnTo>
                    <a:lnTo>
                      <a:pt x="650" y="1560"/>
                    </a:lnTo>
                    <a:lnTo>
                      <a:pt x="604" y="1517"/>
                    </a:lnTo>
                    <a:lnTo>
                      <a:pt x="559" y="1472"/>
                    </a:lnTo>
                    <a:lnTo>
                      <a:pt x="517" y="1426"/>
                    </a:lnTo>
                    <a:lnTo>
                      <a:pt x="475" y="1379"/>
                    </a:lnTo>
                    <a:lnTo>
                      <a:pt x="434" y="1331"/>
                    </a:lnTo>
                    <a:lnTo>
                      <a:pt x="395" y="1281"/>
                    </a:lnTo>
                    <a:lnTo>
                      <a:pt x="358" y="1230"/>
                    </a:lnTo>
                    <a:lnTo>
                      <a:pt x="323" y="1178"/>
                    </a:lnTo>
                    <a:lnTo>
                      <a:pt x="287" y="1124"/>
                    </a:lnTo>
                    <a:lnTo>
                      <a:pt x="255" y="1070"/>
                    </a:lnTo>
                    <a:lnTo>
                      <a:pt x="224" y="1014"/>
                    </a:lnTo>
                    <a:lnTo>
                      <a:pt x="194" y="957"/>
                    </a:lnTo>
                    <a:lnTo>
                      <a:pt x="166" y="900"/>
                    </a:lnTo>
                    <a:lnTo>
                      <a:pt x="139" y="841"/>
                    </a:lnTo>
                    <a:lnTo>
                      <a:pt x="115" y="781"/>
                    </a:lnTo>
                    <a:lnTo>
                      <a:pt x="92" y="720"/>
                    </a:lnTo>
                    <a:lnTo>
                      <a:pt x="71" y="658"/>
                    </a:lnTo>
                    <a:lnTo>
                      <a:pt x="52" y="595"/>
                    </a:lnTo>
                    <a:lnTo>
                      <a:pt x="34" y="530"/>
                    </a:lnTo>
                    <a:lnTo>
                      <a:pt x="18" y="465"/>
                    </a:lnTo>
                    <a:lnTo>
                      <a:pt x="3" y="394"/>
                    </a:lnTo>
                    <a:lnTo>
                      <a:pt x="0" y="378"/>
                    </a:lnTo>
                    <a:lnTo>
                      <a:pt x="1" y="364"/>
                    </a:lnTo>
                    <a:lnTo>
                      <a:pt x="6" y="353"/>
                    </a:lnTo>
                    <a:lnTo>
                      <a:pt x="11" y="346"/>
                    </a:lnTo>
                    <a:lnTo>
                      <a:pt x="17" y="339"/>
                    </a:lnTo>
                    <a:lnTo>
                      <a:pt x="23" y="336"/>
                    </a:lnTo>
                    <a:lnTo>
                      <a:pt x="29" y="333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67440" y="698400"/>
                <a:ext cx="149400" cy="147600"/>
              </a:xfrm>
              <a:custGeom>
                <a:avLst/>
                <a:gdLst/>
                <a:ahLst/>
                <a:rect l="l" t="t" r="r" b="b"/>
                <a:pathLst>
                  <a:path w="714" h="759">
                    <a:moveTo>
                      <a:pt x="699" y="379"/>
                    </a:moveTo>
                    <a:lnTo>
                      <a:pt x="706" y="375"/>
                    </a:lnTo>
                    <a:lnTo>
                      <a:pt x="710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09" y="351"/>
                    </a:lnTo>
                    <a:lnTo>
                      <a:pt x="705" y="346"/>
                    </a:lnTo>
                    <a:lnTo>
                      <a:pt x="699" y="342"/>
                    </a:lnTo>
                    <a:lnTo>
                      <a:pt x="35" y="4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3" y="11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735"/>
                    </a:lnTo>
                    <a:lnTo>
                      <a:pt x="1" y="743"/>
                    </a:lnTo>
                    <a:lnTo>
                      <a:pt x="3" y="748"/>
                    </a:lnTo>
                    <a:lnTo>
                      <a:pt x="5" y="753"/>
                    </a:lnTo>
                    <a:lnTo>
                      <a:pt x="10" y="757"/>
                    </a:lnTo>
                    <a:lnTo>
                      <a:pt x="15" y="759"/>
                    </a:lnTo>
                    <a:lnTo>
                      <a:pt x="21" y="759"/>
                    </a:lnTo>
                    <a:lnTo>
                      <a:pt x="27" y="758"/>
                    </a:lnTo>
                    <a:lnTo>
                      <a:pt x="34" y="755"/>
                    </a:lnTo>
                    <a:lnTo>
                      <a:pt x="699" y="379"/>
                    </a:lnTo>
                    <a:close/>
                  </a:path>
                </a:pathLst>
              </a:custGeom>
              <a:solidFill>
                <a:srgbClr val="00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211320" y="701640"/>
                <a:ext cx="149760" cy="146160"/>
              </a:xfrm>
              <a:custGeom>
                <a:avLst/>
                <a:gdLst/>
                <a:ahLst/>
                <a:rect l="l" t="t" r="r" b="b"/>
                <a:pathLst>
                  <a:path w="714" h="758">
                    <a:moveTo>
                      <a:pt x="701" y="379"/>
                    </a:moveTo>
                    <a:lnTo>
                      <a:pt x="706" y="374"/>
                    </a:lnTo>
                    <a:lnTo>
                      <a:pt x="711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11" y="350"/>
                    </a:lnTo>
                    <a:lnTo>
                      <a:pt x="706" y="346"/>
                    </a:lnTo>
                    <a:lnTo>
                      <a:pt x="700" y="342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0" y="734"/>
                    </a:lnTo>
                    <a:lnTo>
                      <a:pt x="1" y="742"/>
                    </a:lnTo>
                    <a:lnTo>
                      <a:pt x="3" y="749"/>
                    </a:lnTo>
                    <a:lnTo>
                      <a:pt x="7" y="753"/>
                    </a:lnTo>
                    <a:lnTo>
                      <a:pt x="10" y="756"/>
                    </a:lnTo>
                    <a:lnTo>
                      <a:pt x="15" y="758"/>
                    </a:lnTo>
                    <a:lnTo>
                      <a:pt x="21" y="758"/>
                    </a:lnTo>
                    <a:lnTo>
                      <a:pt x="27" y="757"/>
                    </a:lnTo>
                    <a:lnTo>
                      <a:pt x="34" y="754"/>
                    </a:lnTo>
                    <a:lnTo>
                      <a:pt x="701" y="379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011960" y="517680"/>
                <a:ext cx="195840" cy="250560"/>
              </a:xfrm>
              <a:custGeom>
                <a:avLst/>
                <a:gdLst/>
                <a:ahLst/>
                <a:rect l="l" t="t" r="r" b="b"/>
                <a:pathLst>
                  <a:path w="930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30" y="1293"/>
                    </a:lnTo>
                    <a:lnTo>
                      <a:pt x="713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230480" y="517680"/>
                <a:ext cx="34200" cy="25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316520" y="517680"/>
                <a:ext cx="168480" cy="250560"/>
              </a:xfrm>
              <a:custGeom>
                <a:avLst/>
                <a:gdLst/>
                <a:ahLst/>
                <a:rect l="l" t="t" r="r" b="b"/>
                <a:pathLst>
                  <a:path w="803" h="1293">
                    <a:moveTo>
                      <a:pt x="803" y="1293"/>
                    </a:moveTo>
                    <a:lnTo>
                      <a:pt x="607" y="1293"/>
                    </a:lnTo>
                    <a:lnTo>
                      <a:pt x="228" y="746"/>
                    </a:lnTo>
                    <a:lnTo>
                      <a:pt x="161" y="746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283" y="1"/>
                    </a:lnTo>
                    <a:lnTo>
                      <a:pt x="327" y="4"/>
                    </a:lnTo>
                    <a:lnTo>
                      <a:pt x="370" y="8"/>
                    </a:lnTo>
                    <a:lnTo>
                      <a:pt x="413" y="16"/>
                    </a:lnTo>
                    <a:lnTo>
                      <a:pt x="456" y="27"/>
                    </a:lnTo>
                    <a:lnTo>
                      <a:pt x="497" y="41"/>
                    </a:lnTo>
                    <a:lnTo>
                      <a:pt x="536" y="61"/>
                    </a:lnTo>
                    <a:lnTo>
                      <a:pt x="556" y="73"/>
                    </a:lnTo>
                    <a:lnTo>
                      <a:pt x="574" y="87"/>
                    </a:lnTo>
                    <a:lnTo>
                      <a:pt x="592" y="101"/>
                    </a:lnTo>
                    <a:lnTo>
                      <a:pt x="608" y="118"/>
                    </a:lnTo>
                    <a:lnTo>
                      <a:pt x="623" y="135"/>
                    </a:lnTo>
                    <a:lnTo>
                      <a:pt x="637" y="153"/>
                    </a:lnTo>
                    <a:lnTo>
                      <a:pt x="650" y="173"/>
                    </a:lnTo>
                    <a:lnTo>
                      <a:pt x="661" y="192"/>
                    </a:lnTo>
                    <a:lnTo>
                      <a:pt x="671" y="212"/>
                    </a:lnTo>
                    <a:lnTo>
                      <a:pt x="680" y="233"/>
                    </a:lnTo>
                    <a:lnTo>
                      <a:pt x="694" y="277"/>
                    </a:lnTo>
                    <a:lnTo>
                      <a:pt x="700" y="300"/>
                    </a:lnTo>
                    <a:lnTo>
                      <a:pt x="703" y="323"/>
                    </a:lnTo>
                    <a:lnTo>
                      <a:pt x="705" y="346"/>
                    </a:lnTo>
                    <a:lnTo>
                      <a:pt x="705" y="369"/>
                    </a:lnTo>
                    <a:lnTo>
                      <a:pt x="704" y="403"/>
                    </a:lnTo>
                    <a:lnTo>
                      <a:pt x="700" y="436"/>
                    </a:lnTo>
                    <a:lnTo>
                      <a:pt x="693" y="469"/>
                    </a:lnTo>
                    <a:lnTo>
                      <a:pt x="683" y="500"/>
                    </a:lnTo>
                    <a:lnTo>
                      <a:pt x="671" y="531"/>
                    </a:lnTo>
                    <a:lnTo>
                      <a:pt x="657" y="558"/>
                    </a:lnTo>
                    <a:lnTo>
                      <a:pt x="639" y="585"/>
                    </a:lnTo>
                    <a:lnTo>
                      <a:pt x="621" y="611"/>
                    </a:lnTo>
                    <a:lnTo>
                      <a:pt x="599" y="634"/>
                    </a:lnTo>
                    <a:lnTo>
                      <a:pt x="576" y="655"/>
                    </a:lnTo>
                    <a:lnTo>
                      <a:pt x="550" y="673"/>
                    </a:lnTo>
                    <a:lnTo>
                      <a:pt x="523" y="691"/>
                    </a:lnTo>
                    <a:lnTo>
                      <a:pt x="493" y="704"/>
                    </a:lnTo>
                    <a:lnTo>
                      <a:pt x="463" y="716"/>
                    </a:lnTo>
                    <a:lnTo>
                      <a:pt x="430" y="725"/>
                    </a:lnTo>
                    <a:lnTo>
                      <a:pt x="396" y="730"/>
                    </a:lnTo>
                    <a:lnTo>
                      <a:pt x="803" y="1293"/>
                    </a:lnTo>
                    <a:close/>
                    <a:moveTo>
                      <a:pt x="161" y="612"/>
                    </a:moveTo>
                    <a:lnTo>
                      <a:pt x="213" y="612"/>
                    </a:lnTo>
                    <a:lnTo>
                      <a:pt x="274" y="611"/>
                    </a:lnTo>
                    <a:lnTo>
                      <a:pt x="335" y="604"/>
                    </a:lnTo>
                    <a:lnTo>
                      <a:pt x="365" y="599"/>
                    </a:lnTo>
                    <a:lnTo>
                      <a:pt x="393" y="591"/>
                    </a:lnTo>
                    <a:lnTo>
                      <a:pt x="420" y="582"/>
                    </a:lnTo>
                    <a:lnTo>
                      <a:pt x="445" y="571"/>
                    </a:lnTo>
                    <a:lnTo>
                      <a:pt x="469" y="557"/>
                    </a:lnTo>
                    <a:lnTo>
                      <a:pt x="490" y="540"/>
                    </a:lnTo>
                    <a:lnTo>
                      <a:pt x="509" y="522"/>
                    </a:lnTo>
                    <a:lnTo>
                      <a:pt x="524" y="499"/>
                    </a:lnTo>
                    <a:lnTo>
                      <a:pt x="537" y="473"/>
                    </a:lnTo>
                    <a:lnTo>
                      <a:pt x="547" y="445"/>
                    </a:lnTo>
                    <a:lnTo>
                      <a:pt x="553" y="412"/>
                    </a:lnTo>
                    <a:lnTo>
                      <a:pt x="555" y="376"/>
                    </a:lnTo>
                    <a:lnTo>
                      <a:pt x="553" y="339"/>
                    </a:lnTo>
                    <a:lnTo>
                      <a:pt x="546" y="308"/>
                    </a:lnTo>
                    <a:lnTo>
                      <a:pt x="536" y="279"/>
                    </a:lnTo>
                    <a:lnTo>
                      <a:pt x="523" y="254"/>
                    </a:lnTo>
                    <a:lnTo>
                      <a:pt x="505" y="232"/>
                    </a:lnTo>
                    <a:lnTo>
                      <a:pt x="486" y="213"/>
                    </a:lnTo>
                    <a:lnTo>
                      <a:pt x="464" y="198"/>
                    </a:lnTo>
                    <a:lnTo>
                      <a:pt x="440" y="184"/>
                    </a:lnTo>
                    <a:lnTo>
                      <a:pt x="413" y="173"/>
                    </a:lnTo>
                    <a:lnTo>
                      <a:pt x="385" y="164"/>
                    </a:lnTo>
                    <a:lnTo>
                      <a:pt x="356" y="157"/>
                    </a:lnTo>
                    <a:lnTo>
                      <a:pt x="325" y="152"/>
                    </a:lnTo>
                    <a:lnTo>
                      <a:pt x="296" y="148"/>
                    </a:lnTo>
                    <a:lnTo>
                      <a:pt x="265" y="146"/>
                    </a:lnTo>
                    <a:lnTo>
                      <a:pt x="204" y="144"/>
                    </a:lnTo>
                    <a:lnTo>
                      <a:pt x="161" y="144"/>
                    </a:lnTo>
                    <a:lnTo>
                      <a:pt x="161" y="6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502280" y="517680"/>
                <a:ext cx="196200" cy="250560"/>
              </a:xfrm>
              <a:custGeom>
                <a:avLst/>
                <a:gdLst/>
                <a:ahLst/>
                <a:rect l="l" t="t" r="r" b="b"/>
                <a:pathLst>
                  <a:path w="929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29" y="1293"/>
                    </a:lnTo>
                    <a:lnTo>
                      <a:pt x="712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999720" y="847800"/>
                <a:ext cx="54720" cy="133200"/>
              </a:xfrm>
              <a:custGeom>
                <a:avLst/>
                <a:gdLst/>
                <a:ahLst/>
                <a:rect l="l" t="t" r="r" b="b"/>
                <a:pathLst>
                  <a:path w="264" h="687">
                    <a:moveTo>
                      <a:pt x="169" y="687"/>
                    </a:moveTo>
                    <a:lnTo>
                      <a:pt x="74" y="687"/>
                    </a:lnTo>
                    <a:lnTo>
                      <a:pt x="74" y="279"/>
                    </a:lnTo>
                    <a:lnTo>
                      <a:pt x="0" y="279"/>
                    </a:lnTo>
                    <a:lnTo>
                      <a:pt x="0" y="190"/>
                    </a:lnTo>
                    <a:lnTo>
                      <a:pt x="74" y="190"/>
                    </a:lnTo>
                    <a:lnTo>
                      <a:pt x="74" y="0"/>
                    </a:lnTo>
                    <a:lnTo>
                      <a:pt x="169" y="0"/>
                    </a:lnTo>
                    <a:lnTo>
                      <a:pt x="169" y="190"/>
                    </a:lnTo>
                    <a:lnTo>
                      <a:pt x="264" y="190"/>
                    </a:lnTo>
                    <a:lnTo>
                      <a:pt x="264" y="279"/>
                    </a:lnTo>
                    <a:lnTo>
                      <a:pt x="169" y="279"/>
                    </a:lnTo>
                    <a:lnTo>
                      <a:pt x="169" y="6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058400" y="882720"/>
                <a:ext cx="9936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5" y="280"/>
                    </a:moveTo>
                    <a:lnTo>
                      <a:pt x="98" y="311"/>
                    </a:lnTo>
                    <a:lnTo>
                      <a:pt x="106" y="341"/>
                    </a:lnTo>
                    <a:lnTo>
                      <a:pt x="119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8" y="415"/>
                    </a:lnTo>
                    <a:lnTo>
                      <a:pt x="170" y="423"/>
                    </a:lnTo>
                    <a:lnTo>
                      <a:pt x="184" y="431"/>
                    </a:lnTo>
                    <a:lnTo>
                      <a:pt x="197" y="437"/>
                    </a:lnTo>
                    <a:lnTo>
                      <a:pt x="213" y="441"/>
                    </a:lnTo>
                    <a:lnTo>
                      <a:pt x="229" y="443"/>
                    </a:lnTo>
                    <a:lnTo>
                      <a:pt x="245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5" y="430"/>
                    </a:lnTo>
                    <a:lnTo>
                      <a:pt x="333" y="418"/>
                    </a:lnTo>
                    <a:lnTo>
                      <a:pt x="351" y="405"/>
                    </a:lnTo>
                    <a:lnTo>
                      <a:pt x="366" y="388"/>
                    </a:lnTo>
                    <a:lnTo>
                      <a:pt x="380" y="368"/>
                    </a:lnTo>
                    <a:lnTo>
                      <a:pt x="394" y="348"/>
                    </a:lnTo>
                    <a:lnTo>
                      <a:pt x="475" y="394"/>
                    </a:lnTo>
                    <a:lnTo>
                      <a:pt x="455" y="424"/>
                    </a:lnTo>
                    <a:lnTo>
                      <a:pt x="433" y="451"/>
                    </a:lnTo>
                    <a:lnTo>
                      <a:pt x="407" y="474"/>
                    </a:lnTo>
                    <a:lnTo>
                      <a:pt x="378" y="494"/>
                    </a:lnTo>
                    <a:lnTo>
                      <a:pt x="347" y="509"/>
                    </a:lnTo>
                    <a:lnTo>
                      <a:pt x="315" y="520"/>
                    </a:lnTo>
                    <a:lnTo>
                      <a:pt x="279" y="528"/>
                    </a:lnTo>
                    <a:lnTo>
                      <a:pt x="244" y="530"/>
                    </a:lnTo>
                    <a:lnTo>
                      <a:pt x="217" y="528"/>
                    </a:lnTo>
                    <a:lnTo>
                      <a:pt x="191" y="524"/>
                    </a:lnTo>
                    <a:lnTo>
                      <a:pt x="165" y="518"/>
                    </a:lnTo>
                    <a:lnTo>
                      <a:pt x="142" y="509"/>
                    </a:lnTo>
                    <a:lnTo>
                      <a:pt x="120" y="498"/>
                    </a:lnTo>
                    <a:lnTo>
                      <a:pt x="101" y="485"/>
                    </a:lnTo>
                    <a:lnTo>
                      <a:pt x="82" y="471"/>
                    </a:lnTo>
                    <a:lnTo>
                      <a:pt x="66" y="454"/>
                    </a:lnTo>
                    <a:lnTo>
                      <a:pt x="50" y="435"/>
                    </a:lnTo>
                    <a:lnTo>
                      <a:pt x="37" y="416"/>
                    </a:lnTo>
                    <a:lnTo>
                      <a:pt x="26" y="394"/>
                    </a:lnTo>
                    <a:lnTo>
                      <a:pt x="16" y="371"/>
                    </a:lnTo>
                    <a:lnTo>
                      <a:pt x="10" y="346"/>
                    </a:lnTo>
                    <a:lnTo>
                      <a:pt x="4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4" y="213"/>
                    </a:lnTo>
                    <a:lnTo>
                      <a:pt x="9" y="186"/>
                    </a:lnTo>
                    <a:lnTo>
                      <a:pt x="15" y="161"/>
                    </a:lnTo>
                    <a:lnTo>
                      <a:pt x="24" y="138"/>
                    </a:lnTo>
                    <a:lnTo>
                      <a:pt x="34" y="116"/>
                    </a:lnTo>
                    <a:lnTo>
                      <a:pt x="47" y="95"/>
                    </a:lnTo>
                    <a:lnTo>
                      <a:pt x="61" y="76"/>
                    </a:lnTo>
                    <a:lnTo>
                      <a:pt x="77" y="60"/>
                    </a:lnTo>
                    <a:lnTo>
                      <a:pt x="95" y="45"/>
                    </a:lnTo>
                    <a:lnTo>
                      <a:pt x="115" y="31"/>
                    </a:lnTo>
                    <a:lnTo>
                      <a:pt x="137" y="20"/>
                    </a:lnTo>
                    <a:lnTo>
                      <a:pt x="160" y="12"/>
                    </a:lnTo>
                    <a:lnTo>
                      <a:pt x="185" y="5"/>
                    </a:lnTo>
                    <a:lnTo>
                      <a:pt x="213" y="2"/>
                    </a:lnTo>
                    <a:lnTo>
                      <a:pt x="242" y="0"/>
                    </a:lnTo>
                    <a:lnTo>
                      <a:pt x="271" y="2"/>
                    </a:lnTo>
                    <a:lnTo>
                      <a:pt x="297" y="5"/>
                    </a:lnTo>
                    <a:lnTo>
                      <a:pt x="322" y="12"/>
                    </a:lnTo>
                    <a:lnTo>
                      <a:pt x="345" y="20"/>
                    </a:lnTo>
                    <a:lnTo>
                      <a:pt x="366" y="31"/>
                    </a:lnTo>
                    <a:lnTo>
                      <a:pt x="385" y="45"/>
                    </a:lnTo>
                    <a:lnTo>
                      <a:pt x="402" y="60"/>
                    </a:lnTo>
                    <a:lnTo>
                      <a:pt x="418" y="76"/>
                    </a:lnTo>
                    <a:lnTo>
                      <a:pt x="431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0" y="161"/>
                    </a:lnTo>
                    <a:lnTo>
                      <a:pt x="467" y="185"/>
                    </a:lnTo>
                    <a:lnTo>
                      <a:pt x="471" y="210"/>
                    </a:lnTo>
                    <a:lnTo>
                      <a:pt x="474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5" y="280"/>
                    </a:lnTo>
                    <a:close/>
                    <a:moveTo>
                      <a:pt x="379" y="207"/>
                    </a:moveTo>
                    <a:lnTo>
                      <a:pt x="373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5" y="117"/>
                    </a:lnTo>
                    <a:lnTo>
                      <a:pt x="316" y="103"/>
                    </a:lnTo>
                    <a:lnTo>
                      <a:pt x="294" y="92"/>
                    </a:lnTo>
                    <a:lnTo>
                      <a:pt x="270" y="85"/>
                    </a:lnTo>
                    <a:lnTo>
                      <a:pt x="242" y="83"/>
                    </a:lnTo>
                    <a:lnTo>
                      <a:pt x="215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1" y="137"/>
                    </a:lnTo>
                    <a:lnTo>
                      <a:pt x="117" y="158"/>
                    </a:lnTo>
                    <a:lnTo>
                      <a:pt x="107" y="182"/>
                    </a:lnTo>
                    <a:lnTo>
                      <a:pt x="101" y="207"/>
                    </a:lnTo>
                    <a:lnTo>
                      <a:pt x="379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177200" y="846000"/>
                <a:ext cx="2052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211400" y="882720"/>
                <a:ext cx="9972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7" y="280"/>
                    </a:moveTo>
                    <a:lnTo>
                      <a:pt x="99" y="311"/>
                    </a:lnTo>
                    <a:lnTo>
                      <a:pt x="108" y="341"/>
                    </a:lnTo>
                    <a:lnTo>
                      <a:pt x="120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9" y="415"/>
                    </a:lnTo>
                    <a:lnTo>
                      <a:pt x="171" y="423"/>
                    </a:lnTo>
                    <a:lnTo>
                      <a:pt x="185" y="431"/>
                    </a:lnTo>
                    <a:lnTo>
                      <a:pt x="199" y="437"/>
                    </a:lnTo>
                    <a:lnTo>
                      <a:pt x="213" y="441"/>
                    </a:lnTo>
                    <a:lnTo>
                      <a:pt x="230" y="443"/>
                    </a:lnTo>
                    <a:lnTo>
                      <a:pt x="246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6" y="430"/>
                    </a:lnTo>
                    <a:lnTo>
                      <a:pt x="335" y="418"/>
                    </a:lnTo>
                    <a:lnTo>
                      <a:pt x="351" y="405"/>
                    </a:lnTo>
                    <a:lnTo>
                      <a:pt x="367" y="388"/>
                    </a:lnTo>
                    <a:lnTo>
                      <a:pt x="381" y="368"/>
                    </a:lnTo>
                    <a:lnTo>
                      <a:pt x="395" y="348"/>
                    </a:lnTo>
                    <a:lnTo>
                      <a:pt x="475" y="394"/>
                    </a:lnTo>
                    <a:lnTo>
                      <a:pt x="457" y="424"/>
                    </a:lnTo>
                    <a:lnTo>
                      <a:pt x="434" y="451"/>
                    </a:lnTo>
                    <a:lnTo>
                      <a:pt x="407" y="474"/>
                    </a:lnTo>
                    <a:lnTo>
                      <a:pt x="379" y="494"/>
                    </a:lnTo>
                    <a:lnTo>
                      <a:pt x="348" y="509"/>
                    </a:lnTo>
                    <a:lnTo>
                      <a:pt x="315" y="520"/>
                    </a:lnTo>
                    <a:lnTo>
                      <a:pt x="281" y="528"/>
                    </a:lnTo>
                    <a:lnTo>
                      <a:pt x="245" y="530"/>
                    </a:lnTo>
                    <a:lnTo>
                      <a:pt x="218" y="528"/>
                    </a:lnTo>
                    <a:lnTo>
                      <a:pt x="191" y="524"/>
                    </a:lnTo>
                    <a:lnTo>
                      <a:pt x="166" y="518"/>
                    </a:lnTo>
                    <a:lnTo>
                      <a:pt x="143" y="509"/>
                    </a:lnTo>
                    <a:lnTo>
                      <a:pt x="121" y="498"/>
                    </a:lnTo>
                    <a:lnTo>
                      <a:pt x="101" y="485"/>
                    </a:lnTo>
                    <a:lnTo>
                      <a:pt x="83" y="471"/>
                    </a:lnTo>
                    <a:lnTo>
                      <a:pt x="66" y="454"/>
                    </a:lnTo>
                    <a:lnTo>
                      <a:pt x="51" y="435"/>
                    </a:lnTo>
                    <a:lnTo>
                      <a:pt x="38" y="416"/>
                    </a:lnTo>
                    <a:lnTo>
                      <a:pt x="27" y="394"/>
                    </a:lnTo>
                    <a:lnTo>
                      <a:pt x="18" y="371"/>
                    </a:lnTo>
                    <a:lnTo>
                      <a:pt x="10" y="346"/>
                    </a:lnTo>
                    <a:lnTo>
                      <a:pt x="5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5" y="213"/>
                    </a:lnTo>
                    <a:lnTo>
                      <a:pt x="9" y="186"/>
                    </a:lnTo>
                    <a:lnTo>
                      <a:pt x="16" y="161"/>
                    </a:lnTo>
                    <a:lnTo>
                      <a:pt x="24" y="138"/>
                    </a:lnTo>
                    <a:lnTo>
                      <a:pt x="35" y="116"/>
                    </a:lnTo>
                    <a:lnTo>
                      <a:pt x="48" y="95"/>
                    </a:lnTo>
                    <a:lnTo>
                      <a:pt x="62" y="76"/>
                    </a:lnTo>
                    <a:lnTo>
                      <a:pt x="78" y="60"/>
                    </a:lnTo>
                    <a:lnTo>
                      <a:pt x="96" y="45"/>
                    </a:lnTo>
                    <a:lnTo>
                      <a:pt x="116" y="31"/>
                    </a:lnTo>
                    <a:lnTo>
                      <a:pt x="137" y="20"/>
                    </a:lnTo>
                    <a:lnTo>
                      <a:pt x="162" y="12"/>
                    </a:lnTo>
                    <a:lnTo>
                      <a:pt x="187" y="5"/>
                    </a:lnTo>
                    <a:lnTo>
                      <a:pt x="214" y="2"/>
                    </a:lnTo>
                    <a:lnTo>
                      <a:pt x="243" y="0"/>
                    </a:lnTo>
                    <a:lnTo>
                      <a:pt x="271" y="2"/>
                    </a:lnTo>
                    <a:lnTo>
                      <a:pt x="299" y="5"/>
                    </a:lnTo>
                    <a:lnTo>
                      <a:pt x="323" y="12"/>
                    </a:lnTo>
                    <a:lnTo>
                      <a:pt x="346" y="20"/>
                    </a:lnTo>
                    <a:lnTo>
                      <a:pt x="367" y="31"/>
                    </a:lnTo>
                    <a:lnTo>
                      <a:pt x="386" y="45"/>
                    </a:lnTo>
                    <a:lnTo>
                      <a:pt x="403" y="60"/>
                    </a:lnTo>
                    <a:lnTo>
                      <a:pt x="418" y="76"/>
                    </a:lnTo>
                    <a:lnTo>
                      <a:pt x="432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1" y="161"/>
                    </a:lnTo>
                    <a:lnTo>
                      <a:pt x="468" y="185"/>
                    </a:lnTo>
                    <a:lnTo>
                      <a:pt x="472" y="210"/>
                    </a:lnTo>
                    <a:lnTo>
                      <a:pt x="475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7" y="280"/>
                    </a:lnTo>
                    <a:close/>
                    <a:moveTo>
                      <a:pt x="380" y="207"/>
                    </a:moveTo>
                    <a:lnTo>
                      <a:pt x="374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6" y="117"/>
                    </a:lnTo>
                    <a:lnTo>
                      <a:pt x="317" y="103"/>
                    </a:lnTo>
                    <a:lnTo>
                      <a:pt x="295" y="92"/>
                    </a:lnTo>
                    <a:lnTo>
                      <a:pt x="270" y="85"/>
                    </a:lnTo>
                    <a:lnTo>
                      <a:pt x="243" y="83"/>
                    </a:lnTo>
                    <a:lnTo>
                      <a:pt x="216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2" y="137"/>
                    </a:lnTo>
                    <a:lnTo>
                      <a:pt x="119" y="158"/>
                    </a:lnTo>
                    <a:lnTo>
                      <a:pt x="108" y="182"/>
                    </a:lnTo>
                    <a:lnTo>
                      <a:pt x="101" y="207"/>
                    </a:lnTo>
                    <a:lnTo>
                      <a:pt x="380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326960" y="882720"/>
                <a:ext cx="84240" cy="101520"/>
              </a:xfrm>
              <a:custGeom>
                <a:avLst/>
                <a:gdLst/>
                <a:ahLst/>
                <a:rect l="l" t="t" r="r" b="b"/>
                <a:pathLst>
                  <a:path w="404" h="530">
                    <a:moveTo>
                      <a:pt x="404" y="157"/>
                    </a:moveTo>
                    <a:lnTo>
                      <a:pt x="389" y="141"/>
                    </a:lnTo>
                    <a:lnTo>
                      <a:pt x="373" y="127"/>
                    </a:lnTo>
                    <a:lnTo>
                      <a:pt x="358" y="116"/>
                    </a:lnTo>
                    <a:lnTo>
                      <a:pt x="340" y="106"/>
                    </a:lnTo>
                    <a:lnTo>
                      <a:pt x="321" y="99"/>
                    </a:lnTo>
                    <a:lnTo>
                      <a:pt x="303" y="94"/>
                    </a:lnTo>
                    <a:lnTo>
                      <a:pt x="283" y="91"/>
                    </a:lnTo>
                    <a:lnTo>
                      <a:pt x="261" y="90"/>
                    </a:lnTo>
                    <a:lnTo>
                      <a:pt x="245" y="91"/>
                    </a:lnTo>
                    <a:lnTo>
                      <a:pt x="227" y="93"/>
                    </a:lnTo>
                    <a:lnTo>
                      <a:pt x="212" y="97"/>
                    </a:lnTo>
                    <a:lnTo>
                      <a:pt x="196" y="104"/>
                    </a:lnTo>
                    <a:lnTo>
                      <a:pt x="182" y="112"/>
                    </a:lnTo>
                    <a:lnTo>
                      <a:pt x="168" y="120"/>
                    </a:lnTo>
                    <a:lnTo>
                      <a:pt x="156" y="130"/>
                    </a:lnTo>
                    <a:lnTo>
                      <a:pt x="144" y="142"/>
                    </a:lnTo>
                    <a:lnTo>
                      <a:pt x="133" y="154"/>
                    </a:lnTo>
                    <a:lnTo>
                      <a:pt x="124" y="169"/>
                    </a:lnTo>
                    <a:lnTo>
                      <a:pt x="115" y="183"/>
                    </a:lnTo>
                    <a:lnTo>
                      <a:pt x="109" y="198"/>
                    </a:lnTo>
                    <a:lnTo>
                      <a:pt x="103" y="214"/>
                    </a:lnTo>
                    <a:lnTo>
                      <a:pt x="99" y="230"/>
                    </a:lnTo>
                    <a:lnTo>
                      <a:pt x="97" y="247"/>
                    </a:lnTo>
                    <a:lnTo>
                      <a:pt x="96" y="264"/>
                    </a:lnTo>
                    <a:lnTo>
                      <a:pt x="97" y="283"/>
                    </a:lnTo>
                    <a:lnTo>
                      <a:pt x="99" y="300"/>
                    </a:lnTo>
                    <a:lnTo>
                      <a:pt x="103" y="318"/>
                    </a:lnTo>
                    <a:lnTo>
                      <a:pt x="109" y="334"/>
                    </a:lnTo>
                    <a:lnTo>
                      <a:pt x="115" y="350"/>
                    </a:lnTo>
                    <a:lnTo>
                      <a:pt x="124" y="364"/>
                    </a:lnTo>
                    <a:lnTo>
                      <a:pt x="133" y="378"/>
                    </a:lnTo>
                    <a:lnTo>
                      <a:pt x="144" y="390"/>
                    </a:lnTo>
                    <a:lnTo>
                      <a:pt x="156" y="401"/>
                    </a:lnTo>
                    <a:lnTo>
                      <a:pt x="169" y="411"/>
                    </a:lnTo>
                    <a:lnTo>
                      <a:pt x="183" y="420"/>
                    </a:lnTo>
                    <a:lnTo>
                      <a:pt x="199" y="427"/>
                    </a:lnTo>
                    <a:lnTo>
                      <a:pt x="215" y="432"/>
                    </a:lnTo>
                    <a:lnTo>
                      <a:pt x="232" y="437"/>
                    </a:lnTo>
                    <a:lnTo>
                      <a:pt x="249" y="439"/>
                    </a:lnTo>
                    <a:lnTo>
                      <a:pt x="268" y="440"/>
                    </a:lnTo>
                    <a:lnTo>
                      <a:pt x="289" y="439"/>
                    </a:lnTo>
                    <a:lnTo>
                      <a:pt x="307" y="435"/>
                    </a:lnTo>
                    <a:lnTo>
                      <a:pt x="326" y="430"/>
                    </a:lnTo>
                    <a:lnTo>
                      <a:pt x="343" y="422"/>
                    </a:lnTo>
                    <a:lnTo>
                      <a:pt x="360" y="412"/>
                    </a:lnTo>
                    <a:lnTo>
                      <a:pt x="375" y="401"/>
                    </a:lnTo>
                    <a:lnTo>
                      <a:pt x="389" y="388"/>
                    </a:lnTo>
                    <a:lnTo>
                      <a:pt x="404" y="374"/>
                    </a:lnTo>
                    <a:lnTo>
                      <a:pt x="404" y="497"/>
                    </a:lnTo>
                    <a:lnTo>
                      <a:pt x="371" y="511"/>
                    </a:lnTo>
                    <a:lnTo>
                      <a:pt x="338" y="522"/>
                    </a:lnTo>
                    <a:lnTo>
                      <a:pt x="303" y="528"/>
                    </a:lnTo>
                    <a:lnTo>
                      <a:pt x="267" y="530"/>
                    </a:lnTo>
                    <a:lnTo>
                      <a:pt x="239" y="528"/>
                    </a:lnTo>
                    <a:lnTo>
                      <a:pt x="213" y="524"/>
                    </a:lnTo>
                    <a:lnTo>
                      <a:pt x="188" y="518"/>
                    </a:lnTo>
                    <a:lnTo>
                      <a:pt x="164" y="509"/>
                    </a:lnTo>
                    <a:lnTo>
                      <a:pt x="140" y="499"/>
                    </a:lnTo>
                    <a:lnTo>
                      <a:pt x="119" y="486"/>
                    </a:lnTo>
                    <a:lnTo>
                      <a:pt x="98" y="472"/>
                    </a:lnTo>
                    <a:lnTo>
                      <a:pt x="79" y="454"/>
                    </a:lnTo>
                    <a:lnTo>
                      <a:pt x="62" y="437"/>
                    </a:lnTo>
                    <a:lnTo>
                      <a:pt x="46" y="416"/>
                    </a:lnTo>
                    <a:lnTo>
                      <a:pt x="33" y="395"/>
                    </a:lnTo>
                    <a:lnTo>
                      <a:pt x="21" y="372"/>
                    </a:lnTo>
                    <a:lnTo>
                      <a:pt x="12" y="348"/>
                    </a:lnTo>
                    <a:lnTo>
                      <a:pt x="6" y="322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6" y="213"/>
                    </a:lnTo>
                    <a:lnTo>
                      <a:pt x="12" y="186"/>
                    </a:lnTo>
                    <a:lnTo>
                      <a:pt x="21" y="161"/>
                    </a:lnTo>
                    <a:lnTo>
                      <a:pt x="33" y="138"/>
                    </a:lnTo>
                    <a:lnTo>
                      <a:pt x="46" y="115"/>
                    </a:lnTo>
                    <a:lnTo>
                      <a:pt x="62" y="95"/>
                    </a:lnTo>
                    <a:lnTo>
                      <a:pt x="79" y="76"/>
                    </a:lnTo>
                    <a:lnTo>
                      <a:pt x="98" y="59"/>
                    </a:lnTo>
                    <a:lnTo>
                      <a:pt x="119" y="45"/>
                    </a:lnTo>
                    <a:lnTo>
                      <a:pt x="142" y="31"/>
                    </a:lnTo>
                    <a:lnTo>
                      <a:pt x="165" y="20"/>
                    </a:lnTo>
                    <a:lnTo>
                      <a:pt x="190" y="12"/>
                    </a:lnTo>
                    <a:lnTo>
                      <a:pt x="216" y="5"/>
                    </a:lnTo>
                    <a:lnTo>
                      <a:pt x="244" y="2"/>
                    </a:lnTo>
                    <a:lnTo>
                      <a:pt x="272" y="0"/>
                    </a:lnTo>
                    <a:lnTo>
                      <a:pt x="306" y="2"/>
                    </a:lnTo>
                    <a:lnTo>
                      <a:pt x="340" y="8"/>
                    </a:lnTo>
                    <a:lnTo>
                      <a:pt x="373" y="18"/>
                    </a:lnTo>
                    <a:lnTo>
                      <a:pt x="404" y="32"/>
                    </a:lnTo>
                    <a:lnTo>
                      <a:pt x="404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1423440" y="882720"/>
                <a:ext cx="111600" cy="101520"/>
              </a:xfrm>
              <a:custGeom>
                <a:avLst/>
                <a:gdLst/>
                <a:ahLst/>
                <a:rect l="l" t="t" r="r" b="b"/>
                <a:pathLst>
                  <a:path w="532" h="530">
                    <a:moveTo>
                      <a:pt x="532" y="264"/>
                    </a:moveTo>
                    <a:lnTo>
                      <a:pt x="530" y="293"/>
                    </a:lnTo>
                    <a:lnTo>
                      <a:pt x="527" y="319"/>
                    </a:lnTo>
                    <a:lnTo>
                      <a:pt x="520" y="344"/>
                    </a:lnTo>
                    <a:lnTo>
                      <a:pt x="511" y="370"/>
                    </a:lnTo>
                    <a:lnTo>
                      <a:pt x="501" y="393"/>
                    </a:lnTo>
                    <a:lnTo>
                      <a:pt x="487" y="415"/>
                    </a:lnTo>
                    <a:lnTo>
                      <a:pt x="472" y="434"/>
                    </a:lnTo>
                    <a:lnTo>
                      <a:pt x="454" y="453"/>
                    </a:lnTo>
                    <a:lnTo>
                      <a:pt x="436" y="471"/>
                    </a:lnTo>
                    <a:lnTo>
                      <a:pt x="416" y="485"/>
                    </a:lnTo>
                    <a:lnTo>
                      <a:pt x="394" y="498"/>
                    </a:lnTo>
                    <a:lnTo>
                      <a:pt x="370" y="509"/>
                    </a:lnTo>
                    <a:lnTo>
                      <a:pt x="346" y="518"/>
                    </a:lnTo>
                    <a:lnTo>
                      <a:pt x="321" y="524"/>
                    </a:lnTo>
                    <a:lnTo>
                      <a:pt x="293" y="528"/>
                    </a:lnTo>
                    <a:lnTo>
                      <a:pt x="266" y="530"/>
                    </a:lnTo>
                    <a:lnTo>
                      <a:pt x="238" y="528"/>
                    </a:lnTo>
                    <a:lnTo>
                      <a:pt x="212" y="524"/>
                    </a:lnTo>
                    <a:lnTo>
                      <a:pt x="187" y="518"/>
                    </a:lnTo>
                    <a:lnTo>
                      <a:pt x="162" y="509"/>
                    </a:lnTo>
                    <a:lnTo>
                      <a:pt x="139" y="498"/>
                    </a:lnTo>
                    <a:lnTo>
                      <a:pt x="117" y="485"/>
                    </a:lnTo>
                    <a:lnTo>
                      <a:pt x="97" y="471"/>
                    </a:lnTo>
                    <a:lnTo>
                      <a:pt x="78" y="453"/>
                    </a:lnTo>
                    <a:lnTo>
                      <a:pt x="61" y="434"/>
                    </a:lnTo>
                    <a:lnTo>
                      <a:pt x="45" y="415"/>
                    </a:lnTo>
                    <a:lnTo>
                      <a:pt x="32" y="393"/>
                    </a:lnTo>
                    <a:lnTo>
                      <a:pt x="21" y="370"/>
                    </a:lnTo>
                    <a:lnTo>
                      <a:pt x="12" y="344"/>
                    </a:lnTo>
                    <a:lnTo>
                      <a:pt x="6" y="319"/>
                    </a:lnTo>
                    <a:lnTo>
                      <a:pt x="3" y="293"/>
                    </a:lnTo>
                    <a:lnTo>
                      <a:pt x="0" y="264"/>
                    </a:lnTo>
                    <a:lnTo>
                      <a:pt x="3" y="237"/>
                    </a:lnTo>
                    <a:lnTo>
                      <a:pt x="6" y="210"/>
                    </a:lnTo>
                    <a:lnTo>
                      <a:pt x="12" y="185"/>
                    </a:lnTo>
                    <a:lnTo>
                      <a:pt x="21" y="160"/>
                    </a:lnTo>
                    <a:lnTo>
                      <a:pt x="32" y="137"/>
                    </a:lnTo>
                    <a:lnTo>
                      <a:pt x="45" y="115"/>
                    </a:lnTo>
                    <a:lnTo>
                      <a:pt x="61" y="95"/>
                    </a:lnTo>
                    <a:lnTo>
                      <a:pt x="78" y="76"/>
                    </a:lnTo>
                    <a:lnTo>
                      <a:pt x="97" y="59"/>
                    </a:lnTo>
                    <a:lnTo>
                      <a:pt x="117" y="45"/>
                    </a:lnTo>
                    <a:lnTo>
                      <a:pt x="139" y="31"/>
                    </a:lnTo>
                    <a:lnTo>
                      <a:pt x="162" y="20"/>
                    </a:lnTo>
                    <a:lnTo>
                      <a:pt x="187" y="12"/>
                    </a:lnTo>
                    <a:lnTo>
                      <a:pt x="212" y="5"/>
                    </a:lnTo>
                    <a:lnTo>
                      <a:pt x="238" y="2"/>
                    </a:lnTo>
                    <a:lnTo>
                      <a:pt x="266" y="0"/>
                    </a:lnTo>
                    <a:lnTo>
                      <a:pt x="293" y="2"/>
                    </a:lnTo>
                    <a:lnTo>
                      <a:pt x="321" y="5"/>
                    </a:lnTo>
                    <a:lnTo>
                      <a:pt x="346" y="12"/>
                    </a:lnTo>
                    <a:lnTo>
                      <a:pt x="370" y="20"/>
                    </a:lnTo>
                    <a:lnTo>
                      <a:pt x="394" y="31"/>
                    </a:lnTo>
                    <a:lnTo>
                      <a:pt x="416" y="45"/>
                    </a:lnTo>
                    <a:lnTo>
                      <a:pt x="436" y="59"/>
                    </a:lnTo>
                    <a:lnTo>
                      <a:pt x="454" y="76"/>
                    </a:lnTo>
                    <a:lnTo>
                      <a:pt x="472" y="95"/>
                    </a:lnTo>
                    <a:lnTo>
                      <a:pt x="487" y="115"/>
                    </a:lnTo>
                    <a:lnTo>
                      <a:pt x="501" y="137"/>
                    </a:lnTo>
                    <a:lnTo>
                      <a:pt x="511" y="160"/>
                    </a:lnTo>
                    <a:lnTo>
                      <a:pt x="520" y="185"/>
                    </a:lnTo>
                    <a:lnTo>
                      <a:pt x="527" y="210"/>
                    </a:lnTo>
                    <a:lnTo>
                      <a:pt x="530" y="237"/>
                    </a:lnTo>
                    <a:lnTo>
                      <a:pt x="532" y="264"/>
                    </a:lnTo>
                    <a:close/>
                    <a:moveTo>
                      <a:pt x="96" y="264"/>
                    </a:moveTo>
                    <a:lnTo>
                      <a:pt x="97" y="282"/>
                    </a:lnTo>
                    <a:lnTo>
                      <a:pt x="100" y="299"/>
                    </a:lnTo>
                    <a:lnTo>
                      <a:pt x="103" y="316"/>
                    </a:lnTo>
                    <a:lnTo>
                      <a:pt x="110" y="331"/>
                    </a:lnTo>
                    <a:lnTo>
                      <a:pt x="117" y="346"/>
                    </a:lnTo>
                    <a:lnTo>
                      <a:pt x="125" y="361"/>
                    </a:lnTo>
                    <a:lnTo>
                      <a:pt x="135" y="374"/>
                    </a:lnTo>
                    <a:lnTo>
                      <a:pt x="146" y="386"/>
                    </a:lnTo>
                    <a:lnTo>
                      <a:pt x="158" y="398"/>
                    </a:lnTo>
                    <a:lnTo>
                      <a:pt x="171" y="408"/>
                    </a:lnTo>
                    <a:lnTo>
                      <a:pt x="185" y="417"/>
                    </a:lnTo>
                    <a:lnTo>
                      <a:pt x="200" y="424"/>
                    </a:lnTo>
                    <a:lnTo>
                      <a:pt x="215" y="430"/>
                    </a:lnTo>
                    <a:lnTo>
                      <a:pt x="232" y="434"/>
                    </a:lnTo>
                    <a:lnTo>
                      <a:pt x="248" y="437"/>
                    </a:lnTo>
                    <a:lnTo>
                      <a:pt x="266" y="438"/>
                    </a:lnTo>
                    <a:lnTo>
                      <a:pt x="283" y="437"/>
                    </a:lnTo>
                    <a:lnTo>
                      <a:pt x="301" y="434"/>
                    </a:lnTo>
                    <a:lnTo>
                      <a:pt x="317" y="430"/>
                    </a:lnTo>
                    <a:lnTo>
                      <a:pt x="333" y="424"/>
                    </a:lnTo>
                    <a:lnTo>
                      <a:pt x="348" y="417"/>
                    </a:lnTo>
                    <a:lnTo>
                      <a:pt x="361" y="408"/>
                    </a:lnTo>
                    <a:lnTo>
                      <a:pt x="374" y="398"/>
                    </a:lnTo>
                    <a:lnTo>
                      <a:pt x="386" y="386"/>
                    </a:lnTo>
                    <a:lnTo>
                      <a:pt x="397" y="374"/>
                    </a:lnTo>
                    <a:lnTo>
                      <a:pt x="407" y="361"/>
                    </a:lnTo>
                    <a:lnTo>
                      <a:pt x="416" y="346"/>
                    </a:lnTo>
                    <a:lnTo>
                      <a:pt x="423" y="331"/>
                    </a:lnTo>
                    <a:lnTo>
                      <a:pt x="428" y="316"/>
                    </a:lnTo>
                    <a:lnTo>
                      <a:pt x="433" y="299"/>
                    </a:lnTo>
                    <a:lnTo>
                      <a:pt x="436" y="282"/>
                    </a:lnTo>
                    <a:lnTo>
                      <a:pt x="436" y="264"/>
                    </a:lnTo>
                    <a:lnTo>
                      <a:pt x="436" y="248"/>
                    </a:lnTo>
                    <a:lnTo>
                      <a:pt x="433" y="230"/>
                    </a:lnTo>
                    <a:lnTo>
                      <a:pt x="428" y="214"/>
                    </a:lnTo>
                    <a:lnTo>
                      <a:pt x="423" y="197"/>
                    </a:lnTo>
                    <a:lnTo>
                      <a:pt x="416" y="183"/>
                    </a:lnTo>
                    <a:lnTo>
                      <a:pt x="407" y="169"/>
                    </a:lnTo>
                    <a:lnTo>
                      <a:pt x="397" y="154"/>
                    </a:lnTo>
                    <a:lnTo>
                      <a:pt x="386" y="142"/>
                    </a:lnTo>
                    <a:lnTo>
                      <a:pt x="374" y="131"/>
                    </a:lnTo>
                    <a:lnTo>
                      <a:pt x="361" y="121"/>
                    </a:lnTo>
                    <a:lnTo>
                      <a:pt x="348" y="113"/>
                    </a:lnTo>
                    <a:lnTo>
                      <a:pt x="333" y="105"/>
                    </a:lnTo>
                    <a:lnTo>
                      <a:pt x="317" y="99"/>
                    </a:lnTo>
                    <a:lnTo>
                      <a:pt x="301" y="95"/>
                    </a:lnTo>
                    <a:lnTo>
                      <a:pt x="283" y="92"/>
                    </a:lnTo>
                    <a:lnTo>
                      <a:pt x="266" y="92"/>
                    </a:lnTo>
                    <a:lnTo>
                      <a:pt x="248" y="92"/>
                    </a:lnTo>
                    <a:lnTo>
                      <a:pt x="232" y="95"/>
                    </a:lnTo>
                    <a:lnTo>
                      <a:pt x="215" y="99"/>
                    </a:lnTo>
                    <a:lnTo>
                      <a:pt x="200" y="105"/>
                    </a:lnTo>
                    <a:lnTo>
                      <a:pt x="185" y="113"/>
                    </a:lnTo>
                    <a:lnTo>
                      <a:pt x="171" y="121"/>
                    </a:lnTo>
                    <a:lnTo>
                      <a:pt x="158" y="131"/>
                    </a:lnTo>
                    <a:lnTo>
                      <a:pt x="146" y="142"/>
                    </a:lnTo>
                    <a:lnTo>
                      <a:pt x="135" y="154"/>
                    </a:lnTo>
                    <a:lnTo>
                      <a:pt x="125" y="169"/>
                    </a:lnTo>
                    <a:lnTo>
                      <a:pt x="117" y="183"/>
                    </a:lnTo>
                    <a:lnTo>
                      <a:pt x="110" y="197"/>
                    </a:lnTo>
                    <a:lnTo>
                      <a:pt x="103" y="214"/>
                    </a:lnTo>
                    <a:lnTo>
                      <a:pt x="100" y="230"/>
                    </a:lnTo>
                    <a:lnTo>
                      <a:pt x="97" y="248"/>
                    </a:lnTo>
                    <a:lnTo>
                      <a:pt x="96" y="2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1549440" y="882720"/>
                <a:ext cx="144360" cy="98280"/>
              </a:xfrm>
              <a:custGeom>
                <a:avLst/>
                <a:gdLst/>
                <a:ahLst/>
                <a:rect l="l" t="t" r="r" b="b"/>
                <a:pathLst>
                  <a:path w="690" h="512">
                    <a:moveTo>
                      <a:pt x="96" y="77"/>
                    </a:moveTo>
                    <a:lnTo>
                      <a:pt x="98" y="77"/>
                    </a:lnTo>
                    <a:lnTo>
                      <a:pt x="109" y="62"/>
                    </a:lnTo>
                    <a:lnTo>
                      <a:pt x="122" y="47"/>
                    </a:lnTo>
                    <a:lnTo>
                      <a:pt x="137" y="34"/>
                    </a:lnTo>
                    <a:lnTo>
                      <a:pt x="154" y="23"/>
                    </a:lnTo>
                    <a:lnTo>
                      <a:pt x="171" y="13"/>
                    </a:lnTo>
                    <a:lnTo>
                      <a:pt x="190" y="6"/>
                    </a:lnTo>
                    <a:lnTo>
                      <a:pt x="210" y="2"/>
                    </a:lnTo>
                    <a:lnTo>
                      <a:pt x="229" y="0"/>
                    </a:lnTo>
                    <a:lnTo>
                      <a:pt x="253" y="2"/>
                    </a:lnTo>
                    <a:lnTo>
                      <a:pt x="274" y="6"/>
                    </a:lnTo>
                    <a:lnTo>
                      <a:pt x="295" y="13"/>
                    </a:lnTo>
                    <a:lnTo>
                      <a:pt x="314" y="24"/>
                    </a:lnTo>
                    <a:lnTo>
                      <a:pt x="330" y="36"/>
                    </a:lnTo>
                    <a:lnTo>
                      <a:pt x="346" y="51"/>
                    </a:lnTo>
                    <a:lnTo>
                      <a:pt x="360" y="69"/>
                    </a:lnTo>
                    <a:lnTo>
                      <a:pt x="373" y="88"/>
                    </a:lnTo>
                    <a:lnTo>
                      <a:pt x="385" y="69"/>
                    </a:lnTo>
                    <a:lnTo>
                      <a:pt x="401" y="52"/>
                    </a:lnTo>
                    <a:lnTo>
                      <a:pt x="418" y="37"/>
                    </a:lnTo>
                    <a:lnTo>
                      <a:pt x="438" y="24"/>
                    </a:lnTo>
                    <a:lnTo>
                      <a:pt x="458" y="14"/>
                    </a:lnTo>
                    <a:lnTo>
                      <a:pt x="480" y="6"/>
                    </a:lnTo>
                    <a:lnTo>
                      <a:pt x="503" y="2"/>
                    </a:lnTo>
                    <a:lnTo>
                      <a:pt x="526" y="0"/>
                    </a:lnTo>
                    <a:lnTo>
                      <a:pt x="550" y="1"/>
                    </a:lnTo>
                    <a:lnTo>
                      <a:pt x="571" y="5"/>
                    </a:lnTo>
                    <a:lnTo>
                      <a:pt x="589" y="11"/>
                    </a:lnTo>
                    <a:lnTo>
                      <a:pt x="607" y="17"/>
                    </a:lnTo>
                    <a:lnTo>
                      <a:pt x="622" y="27"/>
                    </a:lnTo>
                    <a:lnTo>
                      <a:pt x="635" y="38"/>
                    </a:lnTo>
                    <a:lnTo>
                      <a:pt x="647" y="51"/>
                    </a:lnTo>
                    <a:lnTo>
                      <a:pt x="657" y="65"/>
                    </a:lnTo>
                    <a:lnTo>
                      <a:pt x="666" y="81"/>
                    </a:lnTo>
                    <a:lnTo>
                      <a:pt x="673" y="97"/>
                    </a:lnTo>
                    <a:lnTo>
                      <a:pt x="678" y="115"/>
                    </a:lnTo>
                    <a:lnTo>
                      <a:pt x="684" y="133"/>
                    </a:lnTo>
                    <a:lnTo>
                      <a:pt x="689" y="173"/>
                    </a:lnTo>
                    <a:lnTo>
                      <a:pt x="690" y="215"/>
                    </a:lnTo>
                    <a:lnTo>
                      <a:pt x="690" y="512"/>
                    </a:lnTo>
                    <a:lnTo>
                      <a:pt x="595" y="512"/>
                    </a:lnTo>
                    <a:lnTo>
                      <a:pt x="595" y="230"/>
                    </a:lnTo>
                    <a:lnTo>
                      <a:pt x="595" y="206"/>
                    </a:lnTo>
                    <a:lnTo>
                      <a:pt x="593" y="181"/>
                    </a:lnTo>
                    <a:lnTo>
                      <a:pt x="588" y="157"/>
                    </a:lnTo>
                    <a:lnTo>
                      <a:pt x="580" y="133"/>
                    </a:lnTo>
                    <a:lnTo>
                      <a:pt x="568" y="114"/>
                    </a:lnTo>
                    <a:lnTo>
                      <a:pt x="561" y="106"/>
                    </a:lnTo>
                    <a:lnTo>
                      <a:pt x="552" y="98"/>
                    </a:lnTo>
                    <a:lnTo>
                      <a:pt x="542" y="93"/>
                    </a:lnTo>
                    <a:lnTo>
                      <a:pt x="531" y="88"/>
                    </a:lnTo>
                    <a:lnTo>
                      <a:pt x="517" y="86"/>
                    </a:lnTo>
                    <a:lnTo>
                      <a:pt x="503" y="85"/>
                    </a:lnTo>
                    <a:lnTo>
                      <a:pt x="484" y="86"/>
                    </a:lnTo>
                    <a:lnTo>
                      <a:pt x="469" y="90"/>
                    </a:lnTo>
                    <a:lnTo>
                      <a:pt x="454" y="95"/>
                    </a:lnTo>
                    <a:lnTo>
                      <a:pt x="442" y="103"/>
                    </a:lnTo>
                    <a:lnTo>
                      <a:pt x="432" y="112"/>
                    </a:lnTo>
                    <a:lnTo>
                      <a:pt x="423" y="123"/>
                    </a:lnTo>
                    <a:lnTo>
                      <a:pt x="416" y="135"/>
                    </a:lnTo>
                    <a:lnTo>
                      <a:pt x="409" y="148"/>
                    </a:lnTo>
                    <a:lnTo>
                      <a:pt x="401" y="176"/>
                    </a:lnTo>
                    <a:lnTo>
                      <a:pt x="396" y="207"/>
                    </a:lnTo>
                    <a:lnTo>
                      <a:pt x="394" y="238"/>
                    </a:lnTo>
                    <a:lnTo>
                      <a:pt x="393" y="267"/>
                    </a:lnTo>
                    <a:lnTo>
                      <a:pt x="393" y="512"/>
                    </a:lnTo>
                    <a:lnTo>
                      <a:pt x="297" y="512"/>
                    </a:lnTo>
                    <a:lnTo>
                      <a:pt x="297" y="249"/>
                    </a:lnTo>
                    <a:lnTo>
                      <a:pt x="297" y="224"/>
                    </a:lnTo>
                    <a:lnTo>
                      <a:pt x="295" y="196"/>
                    </a:lnTo>
                    <a:lnTo>
                      <a:pt x="292" y="169"/>
                    </a:lnTo>
                    <a:lnTo>
                      <a:pt x="285" y="142"/>
                    </a:lnTo>
                    <a:lnTo>
                      <a:pt x="280" y="130"/>
                    </a:lnTo>
                    <a:lnTo>
                      <a:pt x="273" y="119"/>
                    </a:lnTo>
                    <a:lnTo>
                      <a:pt x="267" y="110"/>
                    </a:lnTo>
                    <a:lnTo>
                      <a:pt x="258" y="102"/>
                    </a:lnTo>
                    <a:lnTo>
                      <a:pt x="247" y="95"/>
                    </a:lnTo>
                    <a:lnTo>
                      <a:pt x="235" y="90"/>
                    </a:lnTo>
                    <a:lnTo>
                      <a:pt x="222" y="86"/>
                    </a:lnTo>
                    <a:lnTo>
                      <a:pt x="206" y="85"/>
                    </a:lnTo>
                    <a:lnTo>
                      <a:pt x="188" y="86"/>
                    </a:lnTo>
                    <a:lnTo>
                      <a:pt x="172" y="90"/>
                    </a:lnTo>
                    <a:lnTo>
                      <a:pt x="158" y="95"/>
                    </a:lnTo>
                    <a:lnTo>
                      <a:pt x="146" y="103"/>
                    </a:lnTo>
                    <a:lnTo>
                      <a:pt x="135" y="112"/>
                    </a:lnTo>
                    <a:lnTo>
                      <a:pt x="126" y="123"/>
                    </a:lnTo>
                    <a:lnTo>
                      <a:pt x="119" y="135"/>
                    </a:lnTo>
                    <a:lnTo>
                      <a:pt x="113" y="148"/>
                    </a:lnTo>
                    <a:lnTo>
                      <a:pt x="103" y="176"/>
                    </a:lnTo>
                    <a:lnTo>
                      <a:pt x="99" y="207"/>
                    </a:lnTo>
                    <a:lnTo>
                      <a:pt x="97" y="238"/>
                    </a:lnTo>
                    <a:lnTo>
                      <a:pt x="96" y="267"/>
                    </a:lnTo>
                    <a:lnTo>
                      <a:pt x="96" y="512"/>
                    </a:lnTo>
                    <a:lnTo>
                      <a:pt x="0" y="512"/>
                    </a:lnTo>
                    <a:lnTo>
                      <a:pt x="0" y="15"/>
                    </a:lnTo>
                    <a:lnTo>
                      <a:pt x="96" y="15"/>
                    </a:lnTo>
                    <a:lnTo>
                      <a:pt x="96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908640" y="1022400"/>
                <a:ext cx="9082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a-DK" sz="600" spc="-1" strike="noStrike">
                    <a:solidFill>
                      <a:srgbClr val="ffffff"/>
                    </a:solidFill>
                    <a:latin typeface="Futura Bk BT"/>
                  </a:rPr>
                  <a:t>www.kirktelecom.dk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9" name=""/>
          <p:cNvSpPr/>
          <p:nvPr/>
        </p:nvSpPr>
        <p:spPr>
          <a:xfrm>
            <a:off x="2228760" y="0"/>
            <a:ext cx="76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CCFP Administration Program Ver.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0" name="" descr=""/>
          <p:cNvPicPr/>
          <p:nvPr/>
        </p:nvPicPr>
        <p:blipFill>
          <a:blip r:embed="rId2"/>
          <a:stretch/>
        </p:blipFill>
        <p:spPr>
          <a:xfrm>
            <a:off x="2724120" y="698400"/>
            <a:ext cx="6334200" cy="4457880"/>
          </a:xfrm>
          <a:prstGeom prst="rect">
            <a:avLst/>
          </a:prstGeom>
          <a:ln w="0">
            <a:noFill/>
          </a:ln>
        </p:spPr>
      </p:pic>
      <p:sp>
        <p:nvSpPr>
          <p:cNvPr id="1011" name=""/>
          <p:cNvSpPr/>
          <p:nvPr/>
        </p:nvSpPr>
        <p:spPr>
          <a:xfrm>
            <a:off x="2723760" y="5257800"/>
            <a:ext cx="63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 записной книжки, доступной через меню мобильн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ппарата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H="1" flipV="1">
            <a:off x="3924360" y="1447560"/>
            <a:ext cx="1874880" cy="38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EE5E-C5BA-4614-8901-A1A5A6208129}" type="slidenum">
              <a:t>30</a:t>
            </a:fld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"/>
          <p:cNvSpPr/>
          <p:nvPr/>
        </p:nvSpPr>
        <p:spPr>
          <a:xfrm>
            <a:off x="2889360" y="457200"/>
            <a:ext cx="6521400" cy="0"/>
          </a:xfrm>
          <a:prstGeom prst="line">
            <a:avLst/>
          </a:prstGeom>
          <a:ln cap="sq"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0" y="0"/>
            <a:ext cx="6129000" cy="6858000"/>
            <a:chOff x="0" y="0"/>
            <a:chExt cx="6129000" cy="6858000"/>
          </a:xfrm>
        </p:grpSpPr>
        <p:sp>
          <p:nvSpPr>
            <p:cNvPr id="1015" name=""/>
            <p:cNvSpPr/>
            <p:nvPr/>
          </p:nvSpPr>
          <p:spPr>
            <a:xfrm>
              <a:off x="0" y="0"/>
              <a:ext cx="2228760" cy="3429000"/>
            </a:xfrm>
            <a:prstGeom prst="rect">
              <a:avLst/>
            </a:prstGeom>
            <a:solidFill>
              <a:srgbClr val="000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0" y="3429000"/>
              <a:ext cx="2228760" cy="3429000"/>
            </a:xfrm>
            <a:prstGeom prst="rect">
              <a:avLst/>
            </a:pr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91836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79924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9" name="" descr=""/>
            <p:cNvPicPr/>
            <p:nvPr/>
          </p:nvPicPr>
          <p:blipFill>
            <a:blip r:embed="rId1"/>
            <a:stretch/>
          </p:blipFill>
          <p:spPr>
            <a:xfrm>
              <a:off x="201240" y="2055960"/>
              <a:ext cx="1705680" cy="271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0" name=""/>
            <p:cNvGrpSpPr/>
            <p:nvPr/>
          </p:nvGrpSpPr>
          <p:grpSpPr>
            <a:xfrm>
              <a:off x="211320" y="380880"/>
              <a:ext cx="1605600" cy="821880"/>
              <a:chOff x="211320" y="380880"/>
              <a:chExt cx="1605600" cy="821880"/>
            </a:xfrm>
          </p:grpSpPr>
          <p:sp>
            <p:nvSpPr>
              <p:cNvPr id="1021" name=""/>
              <p:cNvSpPr/>
              <p:nvPr/>
            </p:nvSpPr>
            <p:spPr>
              <a:xfrm>
                <a:off x="403920" y="38088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7">
                    <a:moveTo>
                      <a:pt x="29" y="1655"/>
                    </a:moveTo>
                    <a:lnTo>
                      <a:pt x="79" y="1682"/>
                    </a:lnTo>
                    <a:lnTo>
                      <a:pt x="623" y="1957"/>
                    </a:lnTo>
                    <a:lnTo>
                      <a:pt x="684" y="1987"/>
                    </a:lnTo>
                    <a:lnTo>
                      <a:pt x="687" y="1916"/>
                    </a:lnTo>
                    <a:lnTo>
                      <a:pt x="691" y="1864"/>
                    </a:lnTo>
                    <a:lnTo>
                      <a:pt x="697" y="1814"/>
                    </a:lnTo>
                    <a:lnTo>
                      <a:pt x="704" y="1763"/>
                    </a:lnTo>
                    <a:lnTo>
                      <a:pt x="713" y="1714"/>
                    </a:lnTo>
                    <a:lnTo>
                      <a:pt x="724" y="1665"/>
                    </a:lnTo>
                    <a:lnTo>
                      <a:pt x="737" y="1616"/>
                    </a:lnTo>
                    <a:lnTo>
                      <a:pt x="751" y="1569"/>
                    </a:lnTo>
                    <a:lnTo>
                      <a:pt x="767" y="1522"/>
                    </a:lnTo>
                    <a:lnTo>
                      <a:pt x="784" y="1476"/>
                    </a:lnTo>
                    <a:lnTo>
                      <a:pt x="803" y="1431"/>
                    </a:lnTo>
                    <a:lnTo>
                      <a:pt x="824" y="1386"/>
                    </a:lnTo>
                    <a:lnTo>
                      <a:pt x="846" y="1343"/>
                    </a:lnTo>
                    <a:lnTo>
                      <a:pt x="869" y="1300"/>
                    </a:lnTo>
                    <a:lnTo>
                      <a:pt x="894" y="1257"/>
                    </a:lnTo>
                    <a:lnTo>
                      <a:pt x="920" y="1217"/>
                    </a:lnTo>
                    <a:lnTo>
                      <a:pt x="948" y="1177"/>
                    </a:lnTo>
                    <a:lnTo>
                      <a:pt x="976" y="1137"/>
                    </a:lnTo>
                    <a:lnTo>
                      <a:pt x="1007" y="1100"/>
                    </a:lnTo>
                    <a:lnTo>
                      <a:pt x="1038" y="1063"/>
                    </a:lnTo>
                    <a:lnTo>
                      <a:pt x="1071" y="1027"/>
                    </a:lnTo>
                    <a:lnTo>
                      <a:pt x="1105" y="993"/>
                    </a:lnTo>
                    <a:lnTo>
                      <a:pt x="1140" y="959"/>
                    </a:lnTo>
                    <a:lnTo>
                      <a:pt x="1176" y="927"/>
                    </a:lnTo>
                    <a:lnTo>
                      <a:pt x="1213" y="896"/>
                    </a:lnTo>
                    <a:lnTo>
                      <a:pt x="1250" y="866"/>
                    </a:lnTo>
                    <a:lnTo>
                      <a:pt x="1290" y="838"/>
                    </a:lnTo>
                    <a:lnTo>
                      <a:pt x="1331" y="810"/>
                    </a:lnTo>
                    <a:lnTo>
                      <a:pt x="1372" y="785"/>
                    </a:lnTo>
                    <a:lnTo>
                      <a:pt x="1414" y="760"/>
                    </a:lnTo>
                    <a:lnTo>
                      <a:pt x="1457" y="737"/>
                    </a:lnTo>
                    <a:lnTo>
                      <a:pt x="1501" y="716"/>
                    </a:lnTo>
                    <a:lnTo>
                      <a:pt x="1546" y="696"/>
                    </a:lnTo>
                    <a:lnTo>
                      <a:pt x="1584" y="680"/>
                    </a:lnTo>
                    <a:lnTo>
                      <a:pt x="1594" y="673"/>
                    </a:lnTo>
                    <a:lnTo>
                      <a:pt x="1600" y="665"/>
                    </a:lnTo>
                    <a:lnTo>
                      <a:pt x="1604" y="658"/>
                    </a:lnTo>
                    <a:lnTo>
                      <a:pt x="1606" y="650"/>
                    </a:lnTo>
                    <a:lnTo>
                      <a:pt x="1605" y="638"/>
                    </a:lnTo>
                    <a:lnTo>
                      <a:pt x="1603" y="632"/>
                    </a:lnTo>
                    <a:lnTo>
                      <a:pt x="1586" y="586"/>
                    </a:lnTo>
                    <a:lnTo>
                      <a:pt x="1385" y="31"/>
                    </a:lnTo>
                    <a:lnTo>
                      <a:pt x="1381" y="18"/>
                    </a:lnTo>
                    <a:lnTo>
                      <a:pt x="1380" y="13"/>
                    </a:lnTo>
                    <a:lnTo>
                      <a:pt x="1372" y="5"/>
                    </a:lnTo>
                    <a:lnTo>
                      <a:pt x="1367" y="2"/>
                    </a:lnTo>
                    <a:lnTo>
                      <a:pt x="1359" y="0"/>
                    </a:lnTo>
                    <a:lnTo>
                      <a:pt x="1349" y="0"/>
                    </a:lnTo>
                    <a:lnTo>
                      <a:pt x="1337" y="3"/>
                    </a:lnTo>
                    <a:lnTo>
                      <a:pt x="1307" y="14"/>
                    </a:lnTo>
                    <a:lnTo>
                      <a:pt x="1248" y="37"/>
                    </a:lnTo>
                    <a:lnTo>
                      <a:pt x="1190" y="63"/>
                    </a:lnTo>
                    <a:lnTo>
                      <a:pt x="1133" y="89"/>
                    </a:lnTo>
                    <a:lnTo>
                      <a:pt x="1076" y="119"/>
                    </a:lnTo>
                    <a:lnTo>
                      <a:pt x="1021" y="149"/>
                    </a:lnTo>
                    <a:lnTo>
                      <a:pt x="966" y="181"/>
                    </a:lnTo>
                    <a:lnTo>
                      <a:pt x="913" y="215"/>
                    </a:lnTo>
                    <a:lnTo>
                      <a:pt x="861" y="251"/>
                    </a:lnTo>
                    <a:lnTo>
                      <a:pt x="810" y="289"/>
                    </a:lnTo>
                    <a:lnTo>
                      <a:pt x="759" y="328"/>
                    </a:lnTo>
                    <a:lnTo>
                      <a:pt x="711" y="369"/>
                    </a:lnTo>
                    <a:lnTo>
                      <a:pt x="663" y="411"/>
                    </a:lnTo>
                    <a:lnTo>
                      <a:pt x="616" y="455"/>
                    </a:lnTo>
                    <a:lnTo>
                      <a:pt x="572" y="501"/>
                    </a:lnTo>
                    <a:lnTo>
                      <a:pt x="528" y="547"/>
                    </a:lnTo>
                    <a:lnTo>
                      <a:pt x="485" y="595"/>
                    </a:lnTo>
                    <a:lnTo>
                      <a:pt x="443" y="645"/>
                    </a:lnTo>
                    <a:lnTo>
                      <a:pt x="404" y="695"/>
                    </a:lnTo>
                    <a:lnTo>
                      <a:pt x="365" y="747"/>
                    </a:lnTo>
                    <a:lnTo>
                      <a:pt x="329" y="800"/>
                    </a:lnTo>
                    <a:lnTo>
                      <a:pt x="294" y="854"/>
                    </a:lnTo>
                    <a:lnTo>
                      <a:pt x="260" y="910"/>
                    </a:lnTo>
                    <a:lnTo>
                      <a:pt x="228" y="967"/>
                    </a:lnTo>
                    <a:lnTo>
                      <a:pt x="197" y="1024"/>
                    </a:lnTo>
                    <a:lnTo>
                      <a:pt x="169" y="1084"/>
                    </a:lnTo>
                    <a:lnTo>
                      <a:pt x="142" y="1144"/>
                    </a:lnTo>
                    <a:lnTo>
                      <a:pt x="116" y="1204"/>
                    </a:lnTo>
                    <a:lnTo>
                      <a:pt x="93" y="1266"/>
                    </a:lnTo>
                    <a:lnTo>
                      <a:pt x="71" y="1329"/>
                    </a:lnTo>
                    <a:lnTo>
                      <a:pt x="52" y="1392"/>
                    </a:lnTo>
                    <a:lnTo>
                      <a:pt x="34" y="1457"/>
                    </a:lnTo>
                    <a:lnTo>
                      <a:pt x="18" y="1522"/>
                    </a:lnTo>
                    <a:lnTo>
                      <a:pt x="2" y="1593"/>
                    </a:lnTo>
                    <a:lnTo>
                      <a:pt x="0" y="1610"/>
                    </a:lnTo>
                    <a:lnTo>
                      <a:pt x="1" y="1623"/>
                    </a:lnTo>
                    <a:lnTo>
                      <a:pt x="6" y="1634"/>
                    </a:lnTo>
                    <a:lnTo>
                      <a:pt x="11" y="1643"/>
                    </a:lnTo>
                    <a:lnTo>
                      <a:pt x="17" y="1648"/>
                    </a:lnTo>
                    <a:lnTo>
                      <a:pt x="23" y="1652"/>
                    </a:lnTo>
                    <a:lnTo>
                      <a:pt x="29" y="1655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03920" y="77004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5">
                    <a:moveTo>
                      <a:pt x="29" y="333"/>
                    </a:moveTo>
                    <a:lnTo>
                      <a:pt x="79" y="306"/>
                    </a:lnTo>
                    <a:lnTo>
                      <a:pt x="623" y="31"/>
                    </a:lnTo>
                    <a:lnTo>
                      <a:pt x="684" y="0"/>
                    </a:lnTo>
                    <a:lnTo>
                      <a:pt x="687" y="72"/>
                    </a:lnTo>
                    <a:lnTo>
                      <a:pt x="691" y="123"/>
                    </a:lnTo>
                    <a:lnTo>
                      <a:pt x="697" y="174"/>
                    </a:lnTo>
                    <a:lnTo>
                      <a:pt x="704" y="224"/>
                    </a:lnTo>
                    <a:lnTo>
                      <a:pt x="713" y="273"/>
                    </a:lnTo>
                    <a:lnTo>
                      <a:pt x="724" y="323"/>
                    </a:lnTo>
                    <a:lnTo>
                      <a:pt x="737" y="371"/>
                    </a:lnTo>
                    <a:lnTo>
                      <a:pt x="751" y="418"/>
                    </a:lnTo>
                    <a:lnTo>
                      <a:pt x="767" y="465"/>
                    </a:lnTo>
                    <a:lnTo>
                      <a:pt x="784" y="512"/>
                    </a:lnTo>
                    <a:lnTo>
                      <a:pt x="803" y="557"/>
                    </a:lnTo>
                    <a:lnTo>
                      <a:pt x="824" y="602"/>
                    </a:lnTo>
                    <a:lnTo>
                      <a:pt x="846" y="645"/>
                    </a:lnTo>
                    <a:lnTo>
                      <a:pt x="869" y="688"/>
                    </a:lnTo>
                    <a:lnTo>
                      <a:pt x="894" y="730"/>
                    </a:lnTo>
                    <a:lnTo>
                      <a:pt x="920" y="771"/>
                    </a:lnTo>
                    <a:lnTo>
                      <a:pt x="948" y="811"/>
                    </a:lnTo>
                    <a:lnTo>
                      <a:pt x="976" y="850"/>
                    </a:lnTo>
                    <a:lnTo>
                      <a:pt x="1007" y="888"/>
                    </a:lnTo>
                    <a:lnTo>
                      <a:pt x="1038" y="924"/>
                    </a:lnTo>
                    <a:lnTo>
                      <a:pt x="1071" y="961"/>
                    </a:lnTo>
                    <a:lnTo>
                      <a:pt x="1105" y="995"/>
                    </a:lnTo>
                    <a:lnTo>
                      <a:pt x="1140" y="1029"/>
                    </a:lnTo>
                    <a:lnTo>
                      <a:pt x="1176" y="1061"/>
                    </a:lnTo>
                    <a:lnTo>
                      <a:pt x="1213" y="1092"/>
                    </a:lnTo>
                    <a:lnTo>
                      <a:pt x="1252" y="1122"/>
                    </a:lnTo>
                    <a:lnTo>
                      <a:pt x="1290" y="1151"/>
                    </a:lnTo>
                    <a:lnTo>
                      <a:pt x="1331" y="1177"/>
                    </a:lnTo>
                    <a:lnTo>
                      <a:pt x="1372" y="1203"/>
                    </a:lnTo>
                    <a:lnTo>
                      <a:pt x="1414" y="1227"/>
                    </a:lnTo>
                    <a:lnTo>
                      <a:pt x="1457" y="1250"/>
                    </a:lnTo>
                    <a:lnTo>
                      <a:pt x="1501" y="1271"/>
                    </a:lnTo>
                    <a:lnTo>
                      <a:pt x="1546" y="1292"/>
                    </a:lnTo>
                    <a:lnTo>
                      <a:pt x="1584" y="1308"/>
                    </a:lnTo>
                    <a:lnTo>
                      <a:pt x="1594" y="1315"/>
                    </a:lnTo>
                    <a:lnTo>
                      <a:pt x="1600" y="1323"/>
                    </a:lnTo>
                    <a:lnTo>
                      <a:pt x="1605" y="1331"/>
                    </a:lnTo>
                    <a:lnTo>
                      <a:pt x="1606" y="1337"/>
                    </a:lnTo>
                    <a:lnTo>
                      <a:pt x="1605" y="1349"/>
                    </a:lnTo>
                    <a:lnTo>
                      <a:pt x="1603" y="1355"/>
                    </a:lnTo>
                    <a:lnTo>
                      <a:pt x="1586" y="1401"/>
                    </a:lnTo>
                    <a:lnTo>
                      <a:pt x="1388" y="1950"/>
                    </a:lnTo>
                    <a:lnTo>
                      <a:pt x="1381" y="1965"/>
                    </a:lnTo>
                    <a:lnTo>
                      <a:pt x="1379" y="1970"/>
                    </a:lnTo>
                    <a:lnTo>
                      <a:pt x="1371" y="1978"/>
                    </a:lnTo>
                    <a:lnTo>
                      <a:pt x="1366" y="1983"/>
                    </a:lnTo>
                    <a:lnTo>
                      <a:pt x="1358" y="1985"/>
                    </a:lnTo>
                    <a:lnTo>
                      <a:pt x="1348" y="1985"/>
                    </a:lnTo>
                    <a:lnTo>
                      <a:pt x="1338" y="1983"/>
                    </a:lnTo>
                    <a:lnTo>
                      <a:pt x="1302" y="1969"/>
                    </a:lnTo>
                    <a:lnTo>
                      <a:pt x="1242" y="1942"/>
                    </a:lnTo>
                    <a:lnTo>
                      <a:pt x="1181" y="1915"/>
                    </a:lnTo>
                    <a:lnTo>
                      <a:pt x="1123" y="1886"/>
                    </a:lnTo>
                    <a:lnTo>
                      <a:pt x="1066" y="1857"/>
                    </a:lnTo>
                    <a:lnTo>
                      <a:pt x="1009" y="1824"/>
                    </a:lnTo>
                    <a:lnTo>
                      <a:pt x="954" y="1791"/>
                    </a:lnTo>
                    <a:lnTo>
                      <a:pt x="901" y="1756"/>
                    </a:lnTo>
                    <a:lnTo>
                      <a:pt x="848" y="1719"/>
                    </a:lnTo>
                    <a:lnTo>
                      <a:pt x="796" y="1682"/>
                    </a:lnTo>
                    <a:lnTo>
                      <a:pt x="747" y="1642"/>
                    </a:lnTo>
                    <a:lnTo>
                      <a:pt x="698" y="1602"/>
                    </a:lnTo>
                    <a:lnTo>
                      <a:pt x="650" y="1560"/>
                    </a:lnTo>
                    <a:lnTo>
                      <a:pt x="604" y="1517"/>
                    </a:lnTo>
                    <a:lnTo>
                      <a:pt x="559" y="1472"/>
                    </a:lnTo>
                    <a:lnTo>
                      <a:pt x="517" y="1426"/>
                    </a:lnTo>
                    <a:lnTo>
                      <a:pt x="475" y="1379"/>
                    </a:lnTo>
                    <a:lnTo>
                      <a:pt x="434" y="1331"/>
                    </a:lnTo>
                    <a:lnTo>
                      <a:pt x="395" y="1281"/>
                    </a:lnTo>
                    <a:lnTo>
                      <a:pt x="358" y="1230"/>
                    </a:lnTo>
                    <a:lnTo>
                      <a:pt x="323" y="1178"/>
                    </a:lnTo>
                    <a:lnTo>
                      <a:pt x="287" y="1124"/>
                    </a:lnTo>
                    <a:lnTo>
                      <a:pt x="255" y="1070"/>
                    </a:lnTo>
                    <a:lnTo>
                      <a:pt x="224" y="1014"/>
                    </a:lnTo>
                    <a:lnTo>
                      <a:pt x="194" y="957"/>
                    </a:lnTo>
                    <a:lnTo>
                      <a:pt x="166" y="900"/>
                    </a:lnTo>
                    <a:lnTo>
                      <a:pt x="139" y="841"/>
                    </a:lnTo>
                    <a:lnTo>
                      <a:pt x="115" y="781"/>
                    </a:lnTo>
                    <a:lnTo>
                      <a:pt x="92" y="720"/>
                    </a:lnTo>
                    <a:lnTo>
                      <a:pt x="71" y="658"/>
                    </a:lnTo>
                    <a:lnTo>
                      <a:pt x="52" y="595"/>
                    </a:lnTo>
                    <a:lnTo>
                      <a:pt x="34" y="530"/>
                    </a:lnTo>
                    <a:lnTo>
                      <a:pt x="18" y="465"/>
                    </a:lnTo>
                    <a:lnTo>
                      <a:pt x="3" y="394"/>
                    </a:lnTo>
                    <a:lnTo>
                      <a:pt x="0" y="378"/>
                    </a:lnTo>
                    <a:lnTo>
                      <a:pt x="1" y="364"/>
                    </a:lnTo>
                    <a:lnTo>
                      <a:pt x="6" y="353"/>
                    </a:lnTo>
                    <a:lnTo>
                      <a:pt x="11" y="346"/>
                    </a:lnTo>
                    <a:lnTo>
                      <a:pt x="17" y="339"/>
                    </a:lnTo>
                    <a:lnTo>
                      <a:pt x="23" y="336"/>
                    </a:lnTo>
                    <a:lnTo>
                      <a:pt x="29" y="333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667440" y="698400"/>
                <a:ext cx="149400" cy="147600"/>
              </a:xfrm>
              <a:custGeom>
                <a:avLst/>
                <a:gdLst/>
                <a:ahLst/>
                <a:rect l="l" t="t" r="r" b="b"/>
                <a:pathLst>
                  <a:path w="714" h="759">
                    <a:moveTo>
                      <a:pt x="699" y="379"/>
                    </a:moveTo>
                    <a:lnTo>
                      <a:pt x="706" y="375"/>
                    </a:lnTo>
                    <a:lnTo>
                      <a:pt x="710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09" y="351"/>
                    </a:lnTo>
                    <a:lnTo>
                      <a:pt x="705" y="346"/>
                    </a:lnTo>
                    <a:lnTo>
                      <a:pt x="699" y="342"/>
                    </a:lnTo>
                    <a:lnTo>
                      <a:pt x="35" y="4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3" y="11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735"/>
                    </a:lnTo>
                    <a:lnTo>
                      <a:pt x="1" y="743"/>
                    </a:lnTo>
                    <a:lnTo>
                      <a:pt x="3" y="748"/>
                    </a:lnTo>
                    <a:lnTo>
                      <a:pt x="5" y="753"/>
                    </a:lnTo>
                    <a:lnTo>
                      <a:pt x="10" y="757"/>
                    </a:lnTo>
                    <a:lnTo>
                      <a:pt x="15" y="759"/>
                    </a:lnTo>
                    <a:lnTo>
                      <a:pt x="21" y="759"/>
                    </a:lnTo>
                    <a:lnTo>
                      <a:pt x="27" y="758"/>
                    </a:lnTo>
                    <a:lnTo>
                      <a:pt x="34" y="755"/>
                    </a:lnTo>
                    <a:lnTo>
                      <a:pt x="699" y="379"/>
                    </a:lnTo>
                    <a:close/>
                  </a:path>
                </a:pathLst>
              </a:custGeom>
              <a:solidFill>
                <a:srgbClr val="00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11320" y="701640"/>
                <a:ext cx="149760" cy="146160"/>
              </a:xfrm>
              <a:custGeom>
                <a:avLst/>
                <a:gdLst/>
                <a:ahLst/>
                <a:rect l="l" t="t" r="r" b="b"/>
                <a:pathLst>
                  <a:path w="714" h="758">
                    <a:moveTo>
                      <a:pt x="701" y="379"/>
                    </a:moveTo>
                    <a:lnTo>
                      <a:pt x="706" y="374"/>
                    </a:lnTo>
                    <a:lnTo>
                      <a:pt x="711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11" y="350"/>
                    </a:lnTo>
                    <a:lnTo>
                      <a:pt x="706" y="346"/>
                    </a:lnTo>
                    <a:lnTo>
                      <a:pt x="700" y="342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0" y="734"/>
                    </a:lnTo>
                    <a:lnTo>
                      <a:pt x="1" y="742"/>
                    </a:lnTo>
                    <a:lnTo>
                      <a:pt x="3" y="749"/>
                    </a:lnTo>
                    <a:lnTo>
                      <a:pt x="7" y="753"/>
                    </a:lnTo>
                    <a:lnTo>
                      <a:pt x="10" y="756"/>
                    </a:lnTo>
                    <a:lnTo>
                      <a:pt x="15" y="758"/>
                    </a:lnTo>
                    <a:lnTo>
                      <a:pt x="21" y="758"/>
                    </a:lnTo>
                    <a:lnTo>
                      <a:pt x="27" y="757"/>
                    </a:lnTo>
                    <a:lnTo>
                      <a:pt x="34" y="754"/>
                    </a:lnTo>
                    <a:lnTo>
                      <a:pt x="701" y="379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011960" y="517680"/>
                <a:ext cx="195840" cy="250560"/>
              </a:xfrm>
              <a:custGeom>
                <a:avLst/>
                <a:gdLst/>
                <a:ahLst/>
                <a:rect l="l" t="t" r="r" b="b"/>
                <a:pathLst>
                  <a:path w="930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30" y="1293"/>
                    </a:lnTo>
                    <a:lnTo>
                      <a:pt x="713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230480" y="517680"/>
                <a:ext cx="34200" cy="25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316520" y="517680"/>
                <a:ext cx="168480" cy="250560"/>
              </a:xfrm>
              <a:custGeom>
                <a:avLst/>
                <a:gdLst/>
                <a:ahLst/>
                <a:rect l="l" t="t" r="r" b="b"/>
                <a:pathLst>
                  <a:path w="803" h="1293">
                    <a:moveTo>
                      <a:pt x="803" y="1293"/>
                    </a:moveTo>
                    <a:lnTo>
                      <a:pt x="607" y="1293"/>
                    </a:lnTo>
                    <a:lnTo>
                      <a:pt x="228" y="746"/>
                    </a:lnTo>
                    <a:lnTo>
                      <a:pt x="161" y="746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283" y="1"/>
                    </a:lnTo>
                    <a:lnTo>
                      <a:pt x="327" y="4"/>
                    </a:lnTo>
                    <a:lnTo>
                      <a:pt x="370" y="8"/>
                    </a:lnTo>
                    <a:lnTo>
                      <a:pt x="413" y="16"/>
                    </a:lnTo>
                    <a:lnTo>
                      <a:pt x="456" y="27"/>
                    </a:lnTo>
                    <a:lnTo>
                      <a:pt x="497" y="41"/>
                    </a:lnTo>
                    <a:lnTo>
                      <a:pt x="536" y="61"/>
                    </a:lnTo>
                    <a:lnTo>
                      <a:pt x="556" y="73"/>
                    </a:lnTo>
                    <a:lnTo>
                      <a:pt x="574" y="87"/>
                    </a:lnTo>
                    <a:lnTo>
                      <a:pt x="592" y="101"/>
                    </a:lnTo>
                    <a:lnTo>
                      <a:pt x="608" y="118"/>
                    </a:lnTo>
                    <a:lnTo>
                      <a:pt x="623" y="135"/>
                    </a:lnTo>
                    <a:lnTo>
                      <a:pt x="637" y="153"/>
                    </a:lnTo>
                    <a:lnTo>
                      <a:pt x="650" y="173"/>
                    </a:lnTo>
                    <a:lnTo>
                      <a:pt x="661" y="192"/>
                    </a:lnTo>
                    <a:lnTo>
                      <a:pt x="671" y="212"/>
                    </a:lnTo>
                    <a:lnTo>
                      <a:pt x="680" y="233"/>
                    </a:lnTo>
                    <a:lnTo>
                      <a:pt x="694" y="277"/>
                    </a:lnTo>
                    <a:lnTo>
                      <a:pt x="700" y="300"/>
                    </a:lnTo>
                    <a:lnTo>
                      <a:pt x="703" y="323"/>
                    </a:lnTo>
                    <a:lnTo>
                      <a:pt x="705" y="346"/>
                    </a:lnTo>
                    <a:lnTo>
                      <a:pt x="705" y="369"/>
                    </a:lnTo>
                    <a:lnTo>
                      <a:pt x="704" y="403"/>
                    </a:lnTo>
                    <a:lnTo>
                      <a:pt x="700" y="436"/>
                    </a:lnTo>
                    <a:lnTo>
                      <a:pt x="693" y="469"/>
                    </a:lnTo>
                    <a:lnTo>
                      <a:pt x="683" y="500"/>
                    </a:lnTo>
                    <a:lnTo>
                      <a:pt x="671" y="531"/>
                    </a:lnTo>
                    <a:lnTo>
                      <a:pt x="657" y="558"/>
                    </a:lnTo>
                    <a:lnTo>
                      <a:pt x="639" y="585"/>
                    </a:lnTo>
                    <a:lnTo>
                      <a:pt x="621" y="611"/>
                    </a:lnTo>
                    <a:lnTo>
                      <a:pt x="599" y="634"/>
                    </a:lnTo>
                    <a:lnTo>
                      <a:pt x="576" y="655"/>
                    </a:lnTo>
                    <a:lnTo>
                      <a:pt x="550" y="673"/>
                    </a:lnTo>
                    <a:lnTo>
                      <a:pt x="523" y="691"/>
                    </a:lnTo>
                    <a:lnTo>
                      <a:pt x="493" y="704"/>
                    </a:lnTo>
                    <a:lnTo>
                      <a:pt x="463" y="716"/>
                    </a:lnTo>
                    <a:lnTo>
                      <a:pt x="430" y="725"/>
                    </a:lnTo>
                    <a:lnTo>
                      <a:pt x="396" y="730"/>
                    </a:lnTo>
                    <a:lnTo>
                      <a:pt x="803" y="1293"/>
                    </a:lnTo>
                    <a:close/>
                    <a:moveTo>
                      <a:pt x="161" y="612"/>
                    </a:moveTo>
                    <a:lnTo>
                      <a:pt x="213" y="612"/>
                    </a:lnTo>
                    <a:lnTo>
                      <a:pt x="274" y="611"/>
                    </a:lnTo>
                    <a:lnTo>
                      <a:pt x="335" y="604"/>
                    </a:lnTo>
                    <a:lnTo>
                      <a:pt x="365" y="599"/>
                    </a:lnTo>
                    <a:lnTo>
                      <a:pt x="393" y="591"/>
                    </a:lnTo>
                    <a:lnTo>
                      <a:pt x="420" y="582"/>
                    </a:lnTo>
                    <a:lnTo>
                      <a:pt x="445" y="571"/>
                    </a:lnTo>
                    <a:lnTo>
                      <a:pt x="469" y="557"/>
                    </a:lnTo>
                    <a:lnTo>
                      <a:pt x="490" y="540"/>
                    </a:lnTo>
                    <a:lnTo>
                      <a:pt x="509" y="522"/>
                    </a:lnTo>
                    <a:lnTo>
                      <a:pt x="524" y="499"/>
                    </a:lnTo>
                    <a:lnTo>
                      <a:pt x="537" y="473"/>
                    </a:lnTo>
                    <a:lnTo>
                      <a:pt x="547" y="445"/>
                    </a:lnTo>
                    <a:lnTo>
                      <a:pt x="553" y="412"/>
                    </a:lnTo>
                    <a:lnTo>
                      <a:pt x="555" y="376"/>
                    </a:lnTo>
                    <a:lnTo>
                      <a:pt x="553" y="339"/>
                    </a:lnTo>
                    <a:lnTo>
                      <a:pt x="546" y="308"/>
                    </a:lnTo>
                    <a:lnTo>
                      <a:pt x="536" y="279"/>
                    </a:lnTo>
                    <a:lnTo>
                      <a:pt x="523" y="254"/>
                    </a:lnTo>
                    <a:lnTo>
                      <a:pt x="505" y="232"/>
                    </a:lnTo>
                    <a:lnTo>
                      <a:pt x="486" y="213"/>
                    </a:lnTo>
                    <a:lnTo>
                      <a:pt x="464" y="198"/>
                    </a:lnTo>
                    <a:lnTo>
                      <a:pt x="440" y="184"/>
                    </a:lnTo>
                    <a:lnTo>
                      <a:pt x="413" y="173"/>
                    </a:lnTo>
                    <a:lnTo>
                      <a:pt x="385" y="164"/>
                    </a:lnTo>
                    <a:lnTo>
                      <a:pt x="356" y="157"/>
                    </a:lnTo>
                    <a:lnTo>
                      <a:pt x="325" y="152"/>
                    </a:lnTo>
                    <a:lnTo>
                      <a:pt x="296" y="148"/>
                    </a:lnTo>
                    <a:lnTo>
                      <a:pt x="265" y="146"/>
                    </a:lnTo>
                    <a:lnTo>
                      <a:pt x="204" y="144"/>
                    </a:lnTo>
                    <a:lnTo>
                      <a:pt x="161" y="144"/>
                    </a:lnTo>
                    <a:lnTo>
                      <a:pt x="161" y="6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1502280" y="517680"/>
                <a:ext cx="196200" cy="250560"/>
              </a:xfrm>
              <a:custGeom>
                <a:avLst/>
                <a:gdLst/>
                <a:ahLst/>
                <a:rect l="l" t="t" r="r" b="b"/>
                <a:pathLst>
                  <a:path w="929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29" y="1293"/>
                    </a:lnTo>
                    <a:lnTo>
                      <a:pt x="712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999720" y="847800"/>
                <a:ext cx="54720" cy="133200"/>
              </a:xfrm>
              <a:custGeom>
                <a:avLst/>
                <a:gdLst/>
                <a:ahLst/>
                <a:rect l="l" t="t" r="r" b="b"/>
                <a:pathLst>
                  <a:path w="264" h="687">
                    <a:moveTo>
                      <a:pt x="169" y="687"/>
                    </a:moveTo>
                    <a:lnTo>
                      <a:pt x="74" y="687"/>
                    </a:lnTo>
                    <a:lnTo>
                      <a:pt x="74" y="279"/>
                    </a:lnTo>
                    <a:lnTo>
                      <a:pt x="0" y="279"/>
                    </a:lnTo>
                    <a:lnTo>
                      <a:pt x="0" y="190"/>
                    </a:lnTo>
                    <a:lnTo>
                      <a:pt x="74" y="190"/>
                    </a:lnTo>
                    <a:lnTo>
                      <a:pt x="74" y="0"/>
                    </a:lnTo>
                    <a:lnTo>
                      <a:pt x="169" y="0"/>
                    </a:lnTo>
                    <a:lnTo>
                      <a:pt x="169" y="190"/>
                    </a:lnTo>
                    <a:lnTo>
                      <a:pt x="264" y="190"/>
                    </a:lnTo>
                    <a:lnTo>
                      <a:pt x="264" y="279"/>
                    </a:lnTo>
                    <a:lnTo>
                      <a:pt x="169" y="279"/>
                    </a:lnTo>
                    <a:lnTo>
                      <a:pt x="169" y="6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058400" y="882720"/>
                <a:ext cx="9936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5" y="280"/>
                    </a:moveTo>
                    <a:lnTo>
                      <a:pt x="98" y="311"/>
                    </a:lnTo>
                    <a:lnTo>
                      <a:pt x="106" y="341"/>
                    </a:lnTo>
                    <a:lnTo>
                      <a:pt x="119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8" y="415"/>
                    </a:lnTo>
                    <a:lnTo>
                      <a:pt x="170" y="423"/>
                    </a:lnTo>
                    <a:lnTo>
                      <a:pt x="184" y="431"/>
                    </a:lnTo>
                    <a:lnTo>
                      <a:pt x="197" y="437"/>
                    </a:lnTo>
                    <a:lnTo>
                      <a:pt x="213" y="441"/>
                    </a:lnTo>
                    <a:lnTo>
                      <a:pt x="229" y="443"/>
                    </a:lnTo>
                    <a:lnTo>
                      <a:pt x="245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5" y="430"/>
                    </a:lnTo>
                    <a:lnTo>
                      <a:pt x="333" y="418"/>
                    </a:lnTo>
                    <a:lnTo>
                      <a:pt x="351" y="405"/>
                    </a:lnTo>
                    <a:lnTo>
                      <a:pt x="366" y="388"/>
                    </a:lnTo>
                    <a:lnTo>
                      <a:pt x="380" y="368"/>
                    </a:lnTo>
                    <a:lnTo>
                      <a:pt x="394" y="348"/>
                    </a:lnTo>
                    <a:lnTo>
                      <a:pt x="475" y="394"/>
                    </a:lnTo>
                    <a:lnTo>
                      <a:pt x="455" y="424"/>
                    </a:lnTo>
                    <a:lnTo>
                      <a:pt x="433" y="451"/>
                    </a:lnTo>
                    <a:lnTo>
                      <a:pt x="407" y="474"/>
                    </a:lnTo>
                    <a:lnTo>
                      <a:pt x="378" y="494"/>
                    </a:lnTo>
                    <a:lnTo>
                      <a:pt x="347" y="509"/>
                    </a:lnTo>
                    <a:lnTo>
                      <a:pt x="315" y="520"/>
                    </a:lnTo>
                    <a:lnTo>
                      <a:pt x="279" y="528"/>
                    </a:lnTo>
                    <a:lnTo>
                      <a:pt x="244" y="530"/>
                    </a:lnTo>
                    <a:lnTo>
                      <a:pt x="217" y="528"/>
                    </a:lnTo>
                    <a:lnTo>
                      <a:pt x="191" y="524"/>
                    </a:lnTo>
                    <a:lnTo>
                      <a:pt x="165" y="518"/>
                    </a:lnTo>
                    <a:lnTo>
                      <a:pt x="142" y="509"/>
                    </a:lnTo>
                    <a:lnTo>
                      <a:pt x="120" y="498"/>
                    </a:lnTo>
                    <a:lnTo>
                      <a:pt x="101" y="485"/>
                    </a:lnTo>
                    <a:lnTo>
                      <a:pt x="82" y="471"/>
                    </a:lnTo>
                    <a:lnTo>
                      <a:pt x="66" y="454"/>
                    </a:lnTo>
                    <a:lnTo>
                      <a:pt x="50" y="435"/>
                    </a:lnTo>
                    <a:lnTo>
                      <a:pt x="37" y="416"/>
                    </a:lnTo>
                    <a:lnTo>
                      <a:pt x="26" y="394"/>
                    </a:lnTo>
                    <a:lnTo>
                      <a:pt x="16" y="371"/>
                    </a:lnTo>
                    <a:lnTo>
                      <a:pt x="10" y="346"/>
                    </a:lnTo>
                    <a:lnTo>
                      <a:pt x="4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4" y="213"/>
                    </a:lnTo>
                    <a:lnTo>
                      <a:pt x="9" y="186"/>
                    </a:lnTo>
                    <a:lnTo>
                      <a:pt x="15" y="161"/>
                    </a:lnTo>
                    <a:lnTo>
                      <a:pt x="24" y="138"/>
                    </a:lnTo>
                    <a:lnTo>
                      <a:pt x="34" y="116"/>
                    </a:lnTo>
                    <a:lnTo>
                      <a:pt x="47" y="95"/>
                    </a:lnTo>
                    <a:lnTo>
                      <a:pt x="61" y="76"/>
                    </a:lnTo>
                    <a:lnTo>
                      <a:pt x="77" y="60"/>
                    </a:lnTo>
                    <a:lnTo>
                      <a:pt x="95" y="45"/>
                    </a:lnTo>
                    <a:lnTo>
                      <a:pt x="115" y="31"/>
                    </a:lnTo>
                    <a:lnTo>
                      <a:pt x="137" y="20"/>
                    </a:lnTo>
                    <a:lnTo>
                      <a:pt x="160" y="12"/>
                    </a:lnTo>
                    <a:lnTo>
                      <a:pt x="185" y="5"/>
                    </a:lnTo>
                    <a:lnTo>
                      <a:pt x="213" y="2"/>
                    </a:lnTo>
                    <a:lnTo>
                      <a:pt x="242" y="0"/>
                    </a:lnTo>
                    <a:lnTo>
                      <a:pt x="271" y="2"/>
                    </a:lnTo>
                    <a:lnTo>
                      <a:pt x="297" y="5"/>
                    </a:lnTo>
                    <a:lnTo>
                      <a:pt x="322" y="12"/>
                    </a:lnTo>
                    <a:lnTo>
                      <a:pt x="345" y="20"/>
                    </a:lnTo>
                    <a:lnTo>
                      <a:pt x="366" y="31"/>
                    </a:lnTo>
                    <a:lnTo>
                      <a:pt x="385" y="45"/>
                    </a:lnTo>
                    <a:lnTo>
                      <a:pt x="402" y="60"/>
                    </a:lnTo>
                    <a:lnTo>
                      <a:pt x="418" y="76"/>
                    </a:lnTo>
                    <a:lnTo>
                      <a:pt x="431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0" y="161"/>
                    </a:lnTo>
                    <a:lnTo>
                      <a:pt x="467" y="185"/>
                    </a:lnTo>
                    <a:lnTo>
                      <a:pt x="471" y="210"/>
                    </a:lnTo>
                    <a:lnTo>
                      <a:pt x="474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5" y="280"/>
                    </a:lnTo>
                    <a:close/>
                    <a:moveTo>
                      <a:pt x="379" y="207"/>
                    </a:moveTo>
                    <a:lnTo>
                      <a:pt x="373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5" y="117"/>
                    </a:lnTo>
                    <a:lnTo>
                      <a:pt x="316" y="103"/>
                    </a:lnTo>
                    <a:lnTo>
                      <a:pt x="294" y="92"/>
                    </a:lnTo>
                    <a:lnTo>
                      <a:pt x="270" y="85"/>
                    </a:lnTo>
                    <a:lnTo>
                      <a:pt x="242" y="83"/>
                    </a:lnTo>
                    <a:lnTo>
                      <a:pt x="215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1" y="137"/>
                    </a:lnTo>
                    <a:lnTo>
                      <a:pt x="117" y="158"/>
                    </a:lnTo>
                    <a:lnTo>
                      <a:pt x="107" y="182"/>
                    </a:lnTo>
                    <a:lnTo>
                      <a:pt x="101" y="207"/>
                    </a:lnTo>
                    <a:lnTo>
                      <a:pt x="379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177200" y="846000"/>
                <a:ext cx="2052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211400" y="882720"/>
                <a:ext cx="9972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7" y="280"/>
                    </a:moveTo>
                    <a:lnTo>
                      <a:pt x="99" y="311"/>
                    </a:lnTo>
                    <a:lnTo>
                      <a:pt x="108" y="341"/>
                    </a:lnTo>
                    <a:lnTo>
                      <a:pt x="120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9" y="415"/>
                    </a:lnTo>
                    <a:lnTo>
                      <a:pt x="171" y="423"/>
                    </a:lnTo>
                    <a:lnTo>
                      <a:pt x="185" y="431"/>
                    </a:lnTo>
                    <a:lnTo>
                      <a:pt x="199" y="437"/>
                    </a:lnTo>
                    <a:lnTo>
                      <a:pt x="213" y="441"/>
                    </a:lnTo>
                    <a:lnTo>
                      <a:pt x="230" y="443"/>
                    </a:lnTo>
                    <a:lnTo>
                      <a:pt x="246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6" y="430"/>
                    </a:lnTo>
                    <a:lnTo>
                      <a:pt x="335" y="418"/>
                    </a:lnTo>
                    <a:lnTo>
                      <a:pt x="351" y="405"/>
                    </a:lnTo>
                    <a:lnTo>
                      <a:pt x="367" y="388"/>
                    </a:lnTo>
                    <a:lnTo>
                      <a:pt x="381" y="368"/>
                    </a:lnTo>
                    <a:lnTo>
                      <a:pt x="395" y="348"/>
                    </a:lnTo>
                    <a:lnTo>
                      <a:pt x="475" y="394"/>
                    </a:lnTo>
                    <a:lnTo>
                      <a:pt x="457" y="424"/>
                    </a:lnTo>
                    <a:lnTo>
                      <a:pt x="434" y="451"/>
                    </a:lnTo>
                    <a:lnTo>
                      <a:pt x="407" y="474"/>
                    </a:lnTo>
                    <a:lnTo>
                      <a:pt x="379" y="494"/>
                    </a:lnTo>
                    <a:lnTo>
                      <a:pt x="348" y="509"/>
                    </a:lnTo>
                    <a:lnTo>
                      <a:pt x="315" y="520"/>
                    </a:lnTo>
                    <a:lnTo>
                      <a:pt x="281" y="528"/>
                    </a:lnTo>
                    <a:lnTo>
                      <a:pt x="245" y="530"/>
                    </a:lnTo>
                    <a:lnTo>
                      <a:pt x="218" y="528"/>
                    </a:lnTo>
                    <a:lnTo>
                      <a:pt x="191" y="524"/>
                    </a:lnTo>
                    <a:lnTo>
                      <a:pt x="166" y="518"/>
                    </a:lnTo>
                    <a:lnTo>
                      <a:pt x="143" y="509"/>
                    </a:lnTo>
                    <a:lnTo>
                      <a:pt x="121" y="498"/>
                    </a:lnTo>
                    <a:lnTo>
                      <a:pt x="101" y="485"/>
                    </a:lnTo>
                    <a:lnTo>
                      <a:pt x="83" y="471"/>
                    </a:lnTo>
                    <a:lnTo>
                      <a:pt x="66" y="454"/>
                    </a:lnTo>
                    <a:lnTo>
                      <a:pt x="51" y="435"/>
                    </a:lnTo>
                    <a:lnTo>
                      <a:pt x="38" y="416"/>
                    </a:lnTo>
                    <a:lnTo>
                      <a:pt x="27" y="394"/>
                    </a:lnTo>
                    <a:lnTo>
                      <a:pt x="18" y="371"/>
                    </a:lnTo>
                    <a:lnTo>
                      <a:pt x="10" y="346"/>
                    </a:lnTo>
                    <a:lnTo>
                      <a:pt x="5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5" y="213"/>
                    </a:lnTo>
                    <a:lnTo>
                      <a:pt x="9" y="186"/>
                    </a:lnTo>
                    <a:lnTo>
                      <a:pt x="16" y="161"/>
                    </a:lnTo>
                    <a:lnTo>
                      <a:pt x="24" y="138"/>
                    </a:lnTo>
                    <a:lnTo>
                      <a:pt x="35" y="116"/>
                    </a:lnTo>
                    <a:lnTo>
                      <a:pt x="48" y="95"/>
                    </a:lnTo>
                    <a:lnTo>
                      <a:pt x="62" y="76"/>
                    </a:lnTo>
                    <a:lnTo>
                      <a:pt x="78" y="60"/>
                    </a:lnTo>
                    <a:lnTo>
                      <a:pt x="96" y="45"/>
                    </a:lnTo>
                    <a:lnTo>
                      <a:pt x="116" y="31"/>
                    </a:lnTo>
                    <a:lnTo>
                      <a:pt x="137" y="20"/>
                    </a:lnTo>
                    <a:lnTo>
                      <a:pt x="162" y="12"/>
                    </a:lnTo>
                    <a:lnTo>
                      <a:pt x="187" y="5"/>
                    </a:lnTo>
                    <a:lnTo>
                      <a:pt x="214" y="2"/>
                    </a:lnTo>
                    <a:lnTo>
                      <a:pt x="243" y="0"/>
                    </a:lnTo>
                    <a:lnTo>
                      <a:pt x="271" y="2"/>
                    </a:lnTo>
                    <a:lnTo>
                      <a:pt x="299" y="5"/>
                    </a:lnTo>
                    <a:lnTo>
                      <a:pt x="323" y="12"/>
                    </a:lnTo>
                    <a:lnTo>
                      <a:pt x="346" y="20"/>
                    </a:lnTo>
                    <a:lnTo>
                      <a:pt x="367" y="31"/>
                    </a:lnTo>
                    <a:lnTo>
                      <a:pt x="386" y="45"/>
                    </a:lnTo>
                    <a:lnTo>
                      <a:pt x="403" y="60"/>
                    </a:lnTo>
                    <a:lnTo>
                      <a:pt x="418" y="76"/>
                    </a:lnTo>
                    <a:lnTo>
                      <a:pt x="432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1" y="161"/>
                    </a:lnTo>
                    <a:lnTo>
                      <a:pt x="468" y="185"/>
                    </a:lnTo>
                    <a:lnTo>
                      <a:pt x="472" y="210"/>
                    </a:lnTo>
                    <a:lnTo>
                      <a:pt x="475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7" y="280"/>
                    </a:lnTo>
                    <a:close/>
                    <a:moveTo>
                      <a:pt x="380" y="207"/>
                    </a:moveTo>
                    <a:lnTo>
                      <a:pt x="374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6" y="117"/>
                    </a:lnTo>
                    <a:lnTo>
                      <a:pt x="317" y="103"/>
                    </a:lnTo>
                    <a:lnTo>
                      <a:pt x="295" y="92"/>
                    </a:lnTo>
                    <a:lnTo>
                      <a:pt x="270" y="85"/>
                    </a:lnTo>
                    <a:lnTo>
                      <a:pt x="243" y="83"/>
                    </a:lnTo>
                    <a:lnTo>
                      <a:pt x="216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2" y="137"/>
                    </a:lnTo>
                    <a:lnTo>
                      <a:pt x="119" y="158"/>
                    </a:lnTo>
                    <a:lnTo>
                      <a:pt x="108" y="182"/>
                    </a:lnTo>
                    <a:lnTo>
                      <a:pt x="101" y="207"/>
                    </a:lnTo>
                    <a:lnTo>
                      <a:pt x="380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326960" y="882720"/>
                <a:ext cx="84240" cy="101520"/>
              </a:xfrm>
              <a:custGeom>
                <a:avLst/>
                <a:gdLst/>
                <a:ahLst/>
                <a:rect l="l" t="t" r="r" b="b"/>
                <a:pathLst>
                  <a:path w="404" h="530">
                    <a:moveTo>
                      <a:pt x="404" y="157"/>
                    </a:moveTo>
                    <a:lnTo>
                      <a:pt x="389" y="141"/>
                    </a:lnTo>
                    <a:lnTo>
                      <a:pt x="373" y="127"/>
                    </a:lnTo>
                    <a:lnTo>
                      <a:pt x="358" y="116"/>
                    </a:lnTo>
                    <a:lnTo>
                      <a:pt x="340" y="106"/>
                    </a:lnTo>
                    <a:lnTo>
                      <a:pt x="321" y="99"/>
                    </a:lnTo>
                    <a:lnTo>
                      <a:pt x="303" y="94"/>
                    </a:lnTo>
                    <a:lnTo>
                      <a:pt x="283" y="91"/>
                    </a:lnTo>
                    <a:lnTo>
                      <a:pt x="261" y="90"/>
                    </a:lnTo>
                    <a:lnTo>
                      <a:pt x="245" y="91"/>
                    </a:lnTo>
                    <a:lnTo>
                      <a:pt x="227" y="93"/>
                    </a:lnTo>
                    <a:lnTo>
                      <a:pt x="212" y="97"/>
                    </a:lnTo>
                    <a:lnTo>
                      <a:pt x="196" y="104"/>
                    </a:lnTo>
                    <a:lnTo>
                      <a:pt x="182" y="112"/>
                    </a:lnTo>
                    <a:lnTo>
                      <a:pt x="168" y="120"/>
                    </a:lnTo>
                    <a:lnTo>
                      <a:pt x="156" y="130"/>
                    </a:lnTo>
                    <a:lnTo>
                      <a:pt x="144" y="142"/>
                    </a:lnTo>
                    <a:lnTo>
                      <a:pt x="133" y="154"/>
                    </a:lnTo>
                    <a:lnTo>
                      <a:pt x="124" y="169"/>
                    </a:lnTo>
                    <a:lnTo>
                      <a:pt x="115" y="183"/>
                    </a:lnTo>
                    <a:lnTo>
                      <a:pt x="109" y="198"/>
                    </a:lnTo>
                    <a:lnTo>
                      <a:pt x="103" y="214"/>
                    </a:lnTo>
                    <a:lnTo>
                      <a:pt x="99" y="230"/>
                    </a:lnTo>
                    <a:lnTo>
                      <a:pt x="97" y="247"/>
                    </a:lnTo>
                    <a:lnTo>
                      <a:pt x="96" y="264"/>
                    </a:lnTo>
                    <a:lnTo>
                      <a:pt x="97" y="283"/>
                    </a:lnTo>
                    <a:lnTo>
                      <a:pt x="99" y="300"/>
                    </a:lnTo>
                    <a:lnTo>
                      <a:pt x="103" y="318"/>
                    </a:lnTo>
                    <a:lnTo>
                      <a:pt x="109" y="334"/>
                    </a:lnTo>
                    <a:lnTo>
                      <a:pt x="115" y="350"/>
                    </a:lnTo>
                    <a:lnTo>
                      <a:pt x="124" y="364"/>
                    </a:lnTo>
                    <a:lnTo>
                      <a:pt x="133" y="378"/>
                    </a:lnTo>
                    <a:lnTo>
                      <a:pt x="144" y="390"/>
                    </a:lnTo>
                    <a:lnTo>
                      <a:pt x="156" y="401"/>
                    </a:lnTo>
                    <a:lnTo>
                      <a:pt x="169" y="411"/>
                    </a:lnTo>
                    <a:lnTo>
                      <a:pt x="183" y="420"/>
                    </a:lnTo>
                    <a:lnTo>
                      <a:pt x="199" y="427"/>
                    </a:lnTo>
                    <a:lnTo>
                      <a:pt x="215" y="432"/>
                    </a:lnTo>
                    <a:lnTo>
                      <a:pt x="232" y="437"/>
                    </a:lnTo>
                    <a:lnTo>
                      <a:pt x="249" y="439"/>
                    </a:lnTo>
                    <a:lnTo>
                      <a:pt x="268" y="440"/>
                    </a:lnTo>
                    <a:lnTo>
                      <a:pt x="289" y="439"/>
                    </a:lnTo>
                    <a:lnTo>
                      <a:pt x="307" y="435"/>
                    </a:lnTo>
                    <a:lnTo>
                      <a:pt x="326" y="430"/>
                    </a:lnTo>
                    <a:lnTo>
                      <a:pt x="343" y="422"/>
                    </a:lnTo>
                    <a:lnTo>
                      <a:pt x="360" y="412"/>
                    </a:lnTo>
                    <a:lnTo>
                      <a:pt x="375" y="401"/>
                    </a:lnTo>
                    <a:lnTo>
                      <a:pt x="389" y="388"/>
                    </a:lnTo>
                    <a:lnTo>
                      <a:pt x="404" y="374"/>
                    </a:lnTo>
                    <a:lnTo>
                      <a:pt x="404" y="497"/>
                    </a:lnTo>
                    <a:lnTo>
                      <a:pt x="371" y="511"/>
                    </a:lnTo>
                    <a:lnTo>
                      <a:pt x="338" y="522"/>
                    </a:lnTo>
                    <a:lnTo>
                      <a:pt x="303" y="528"/>
                    </a:lnTo>
                    <a:lnTo>
                      <a:pt x="267" y="530"/>
                    </a:lnTo>
                    <a:lnTo>
                      <a:pt x="239" y="528"/>
                    </a:lnTo>
                    <a:lnTo>
                      <a:pt x="213" y="524"/>
                    </a:lnTo>
                    <a:lnTo>
                      <a:pt x="188" y="518"/>
                    </a:lnTo>
                    <a:lnTo>
                      <a:pt x="164" y="509"/>
                    </a:lnTo>
                    <a:lnTo>
                      <a:pt x="140" y="499"/>
                    </a:lnTo>
                    <a:lnTo>
                      <a:pt x="119" y="486"/>
                    </a:lnTo>
                    <a:lnTo>
                      <a:pt x="98" y="472"/>
                    </a:lnTo>
                    <a:lnTo>
                      <a:pt x="79" y="454"/>
                    </a:lnTo>
                    <a:lnTo>
                      <a:pt x="62" y="437"/>
                    </a:lnTo>
                    <a:lnTo>
                      <a:pt x="46" y="416"/>
                    </a:lnTo>
                    <a:lnTo>
                      <a:pt x="33" y="395"/>
                    </a:lnTo>
                    <a:lnTo>
                      <a:pt x="21" y="372"/>
                    </a:lnTo>
                    <a:lnTo>
                      <a:pt x="12" y="348"/>
                    </a:lnTo>
                    <a:lnTo>
                      <a:pt x="6" y="322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6" y="213"/>
                    </a:lnTo>
                    <a:lnTo>
                      <a:pt x="12" y="186"/>
                    </a:lnTo>
                    <a:lnTo>
                      <a:pt x="21" y="161"/>
                    </a:lnTo>
                    <a:lnTo>
                      <a:pt x="33" y="138"/>
                    </a:lnTo>
                    <a:lnTo>
                      <a:pt x="46" y="115"/>
                    </a:lnTo>
                    <a:lnTo>
                      <a:pt x="62" y="95"/>
                    </a:lnTo>
                    <a:lnTo>
                      <a:pt x="79" y="76"/>
                    </a:lnTo>
                    <a:lnTo>
                      <a:pt x="98" y="59"/>
                    </a:lnTo>
                    <a:lnTo>
                      <a:pt x="119" y="45"/>
                    </a:lnTo>
                    <a:lnTo>
                      <a:pt x="142" y="31"/>
                    </a:lnTo>
                    <a:lnTo>
                      <a:pt x="165" y="20"/>
                    </a:lnTo>
                    <a:lnTo>
                      <a:pt x="190" y="12"/>
                    </a:lnTo>
                    <a:lnTo>
                      <a:pt x="216" y="5"/>
                    </a:lnTo>
                    <a:lnTo>
                      <a:pt x="244" y="2"/>
                    </a:lnTo>
                    <a:lnTo>
                      <a:pt x="272" y="0"/>
                    </a:lnTo>
                    <a:lnTo>
                      <a:pt x="306" y="2"/>
                    </a:lnTo>
                    <a:lnTo>
                      <a:pt x="340" y="8"/>
                    </a:lnTo>
                    <a:lnTo>
                      <a:pt x="373" y="18"/>
                    </a:lnTo>
                    <a:lnTo>
                      <a:pt x="404" y="32"/>
                    </a:lnTo>
                    <a:lnTo>
                      <a:pt x="404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423440" y="882720"/>
                <a:ext cx="111600" cy="101520"/>
              </a:xfrm>
              <a:custGeom>
                <a:avLst/>
                <a:gdLst/>
                <a:ahLst/>
                <a:rect l="l" t="t" r="r" b="b"/>
                <a:pathLst>
                  <a:path w="532" h="530">
                    <a:moveTo>
                      <a:pt x="532" y="264"/>
                    </a:moveTo>
                    <a:lnTo>
                      <a:pt x="530" y="293"/>
                    </a:lnTo>
                    <a:lnTo>
                      <a:pt x="527" y="319"/>
                    </a:lnTo>
                    <a:lnTo>
                      <a:pt x="520" y="344"/>
                    </a:lnTo>
                    <a:lnTo>
                      <a:pt x="511" y="370"/>
                    </a:lnTo>
                    <a:lnTo>
                      <a:pt x="501" y="393"/>
                    </a:lnTo>
                    <a:lnTo>
                      <a:pt x="487" y="415"/>
                    </a:lnTo>
                    <a:lnTo>
                      <a:pt x="472" y="434"/>
                    </a:lnTo>
                    <a:lnTo>
                      <a:pt x="454" y="453"/>
                    </a:lnTo>
                    <a:lnTo>
                      <a:pt x="436" y="471"/>
                    </a:lnTo>
                    <a:lnTo>
                      <a:pt x="416" y="485"/>
                    </a:lnTo>
                    <a:lnTo>
                      <a:pt x="394" y="498"/>
                    </a:lnTo>
                    <a:lnTo>
                      <a:pt x="370" y="509"/>
                    </a:lnTo>
                    <a:lnTo>
                      <a:pt x="346" y="518"/>
                    </a:lnTo>
                    <a:lnTo>
                      <a:pt x="321" y="524"/>
                    </a:lnTo>
                    <a:lnTo>
                      <a:pt x="293" y="528"/>
                    </a:lnTo>
                    <a:lnTo>
                      <a:pt x="266" y="530"/>
                    </a:lnTo>
                    <a:lnTo>
                      <a:pt x="238" y="528"/>
                    </a:lnTo>
                    <a:lnTo>
                      <a:pt x="212" y="524"/>
                    </a:lnTo>
                    <a:lnTo>
                      <a:pt x="187" y="518"/>
                    </a:lnTo>
                    <a:lnTo>
                      <a:pt x="162" y="509"/>
                    </a:lnTo>
                    <a:lnTo>
                      <a:pt x="139" y="498"/>
                    </a:lnTo>
                    <a:lnTo>
                      <a:pt x="117" y="485"/>
                    </a:lnTo>
                    <a:lnTo>
                      <a:pt x="97" y="471"/>
                    </a:lnTo>
                    <a:lnTo>
                      <a:pt x="78" y="453"/>
                    </a:lnTo>
                    <a:lnTo>
                      <a:pt x="61" y="434"/>
                    </a:lnTo>
                    <a:lnTo>
                      <a:pt x="45" y="415"/>
                    </a:lnTo>
                    <a:lnTo>
                      <a:pt x="32" y="393"/>
                    </a:lnTo>
                    <a:lnTo>
                      <a:pt x="21" y="370"/>
                    </a:lnTo>
                    <a:lnTo>
                      <a:pt x="12" y="344"/>
                    </a:lnTo>
                    <a:lnTo>
                      <a:pt x="6" y="319"/>
                    </a:lnTo>
                    <a:lnTo>
                      <a:pt x="3" y="293"/>
                    </a:lnTo>
                    <a:lnTo>
                      <a:pt x="0" y="264"/>
                    </a:lnTo>
                    <a:lnTo>
                      <a:pt x="3" y="237"/>
                    </a:lnTo>
                    <a:lnTo>
                      <a:pt x="6" y="210"/>
                    </a:lnTo>
                    <a:lnTo>
                      <a:pt x="12" y="185"/>
                    </a:lnTo>
                    <a:lnTo>
                      <a:pt x="21" y="160"/>
                    </a:lnTo>
                    <a:lnTo>
                      <a:pt x="32" y="137"/>
                    </a:lnTo>
                    <a:lnTo>
                      <a:pt x="45" y="115"/>
                    </a:lnTo>
                    <a:lnTo>
                      <a:pt x="61" y="95"/>
                    </a:lnTo>
                    <a:lnTo>
                      <a:pt x="78" y="76"/>
                    </a:lnTo>
                    <a:lnTo>
                      <a:pt x="97" y="59"/>
                    </a:lnTo>
                    <a:lnTo>
                      <a:pt x="117" y="45"/>
                    </a:lnTo>
                    <a:lnTo>
                      <a:pt x="139" y="31"/>
                    </a:lnTo>
                    <a:lnTo>
                      <a:pt x="162" y="20"/>
                    </a:lnTo>
                    <a:lnTo>
                      <a:pt x="187" y="12"/>
                    </a:lnTo>
                    <a:lnTo>
                      <a:pt x="212" y="5"/>
                    </a:lnTo>
                    <a:lnTo>
                      <a:pt x="238" y="2"/>
                    </a:lnTo>
                    <a:lnTo>
                      <a:pt x="266" y="0"/>
                    </a:lnTo>
                    <a:lnTo>
                      <a:pt x="293" y="2"/>
                    </a:lnTo>
                    <a:lnTo>
                      <a:pt x="321" y="5"/>
                    </a:lnTo>
                    <a:lnTo>
                      <a:pt x="346" y="12"/>
                    </a:lnTo>
                    <a:lnTo>
                      <a:pt x="370" y="20"/>
                    </a:lnTo>
                    <a:lnTo>
                      <a:pt x="394" y="31"/>
                    </a:lnTo>
                    <a:lnTo>
                      <a:pt x="416" y="45"/>
                    </a:lnTo>
                    <a:lnTo>
                      <a:pt x="436" y="59"/>
                    </a:lnTo>
                    <a:lnTo>
                      <a:pt x="454" y="76"/>
                    </a:lnTo>
                    <a:lnTo>
                      <a:pt x="472" y="95"/>
                    </a:lnTo>
                    <a:lnTo>
                      <a:pt x="487" y="115"/>
                    </a:lnTo>
                    <a:lnTo>
                      <a:pt x="501" y="137"/>
                    </a:lnTo>
                    <a:lnTo>
                      <a:pt x="511" y="160"/>
                    </a:lnTo>
                    <a:lnTo>
                      <a:pt x="520" y="185"/>
                    </a:lnTo>
                    <a:lnTo>
                      <a:pt x="527" y="210"/>
                    </a:lnTo>
                    <a:lnTo>
                      <a:pt x="530" y="237"/>
                    </a:lnTo>
                    <a:lnTo>
                      <a:pt x="532" y="264"/>
                    </a:lnTo>
                    <a:close/>
                    <a:moveTo>
                      <a:pt x="96" y="264"/>
                    </a:moveTo>
                    <a:lnTo>
                      <a:pt x="97" y="282"/>
                    </a:lnTo>
                    <a:lnTo>
                      <a:pt x="100" y="299"/>
                    </a:lnTo>
                    <a:lnTo>
                      <a:pt x="103" y="316"/>
                    </a:lnTo>
                    <a:lnTo>
                      <a:pt x="110" y="331"/>
                    </a:lnTo>
                    <a:lnTo>
                      <a:pt x="117" y="346"/>
                    </a:lnTo>
                    <a:lnTo>
                      <a:pt x="125" y="361"/>
                    </a:lnTo>
                    <a:lnTo>
                      <a:pt x="135" y="374"/>
                    </a:lnTo>
                    <a:lnTo>
                      <a:pt x="146" y="386"/>
                    </a:lnTo>
                    <a:lnTo>
                      <a:pt x="158" y="398"/>
                    </a:lnTo>
                    <a:lnTo>
                      <a:pt x="171" y="408"/>
                    </a:lnTo>
                    <a:lnTo>
                      <a:pt x="185" y="417"/>
                    </a:lnTo>
                    <a:lnTo>
                      <a:pt x="200" y="424"/>
                    </a:lnTo>
                    <a:lnTo>
                      <a:pt x="215" y="430"/>
                    </a:lnTo>
                    <a:lnTo>
                      <a:pt x="232" y="434"/>
                    </a:lnTo>
                    <a:lnTo>
                      <a:pt x="248" y="437"/>
                    </a:lnTo>
                    <a:lnTo>
                      <a:pt x="266" y="438"/>
                    </a:lnTo>
                    <a:lnTo>
                      <a:pt x="283" y="437"/>
                    </a:lnTo>
                    <a:lnTo>
                      <a:pt x="301" y="434"/>
                    </a:lnTo>
                    <a:lnTo>
                      <a:pt x="317" y="430"/>
                    </a:lnTo>
                    <a:lnTo>
                      <a:pt x="333" y="424"/>
                    </a:lnTo>
                    <a:lnTo>
                      <a:pt x="348" y="417"/>
                    </a:lnTo>
                    <a:lnTo>
                      <a:pt x="361" y="408"/>
                    </a:lnTo>
                    <a:lnTo>
                      <a:pt x="374" y="398"/>
                    </a:lnTo>
                    <a:lnTo>
                      <a:pt x="386" y="386"/>
                    </a:lnTo>
                    <a:lnTo>
                      <a:pt x="397" y="374"/>
                    </a:lnTo>
                    <a:lnTo>
                      <a:pt x="407" y="361"/>
                    </a:lnTo>
                    <a:lnTo>
                      <a:pt x="416" y="346"/>
                    </a:lnTo>
                    <a:lnTo>
                      <a:pt x="423" y="331"/>
                    </a:lnTo>
                    <a:lnTo>
                      <a:pt x="428" y="316"/>
                    </a:lnTo>
                    <a:lnTo>
                      <a:pt x="433" y="299"/>
                    </a:lnTo>
                    <a:lnTo>
                      <a:pt x="436" y="282"/>
                    </a:lnTo>
                    <a:lnTo>
                      <a:pt x="436" y="264"/>
                    </a:lnTo>
                    <a:lnTo>
                      <a:pt x="436" y="248"/>
                    </a:lnTo>
                    <a:lnTo>
                      <a:pt x="433" y="230"/>
                    </a:lnTo>
                    <a:lnTo>
                      <a:pt x="428" y="214"/>
                    </a:lnTo>
                    <a:lnTo>
                      <a:pt x="423" y="197"/>
                    </a:lnTo>
                    <a:lnTo>
                      <a:pt x="416" y="183"/>
                    </a:lnTo>
                    <a:lnTo>
                      <a:pt x="407" y="169"/>
                    </a:lnTo>
                    <a:lnTo>
                      <a:pt x="397" y="154"/>
                    </a:lnTo>
                    <a:lnTo>
                      <a:pt x="386" y="142"/>
                    </a:lnTo>
                    <a:lnTo>
                      <a:pt x="374" y="131"/>
                    </a:lnTo>
                    <a:lnTo>
                      <a:pt x="361" y="121"/>
                    </a:lnTo>
                    <a:lnTo>
                      <a:pt x="348" y="113"/>
                    </a:lnTo>
                    <a:lnTo>
                      <a:pt x="333" y="105"/>
                    </a:lnTo>
                    <a:lnTo>
                      <a:pt x="317" y="99"/>
                    </a:lnTo>
                    <a:lnTo>
                      <a:pt x="301" y="95"/>
                    </a:lnTo>
                    <a:lnTo>
                      <a:pt x="283" y="92"/>
                    </a:lnTo>
                    <a:lnTo>
                      <a:pt x="266" y="92"/>
                    </a:lnTo>
                    <a:lnTo>
                      <a:pt x="248" y="92"/>
                    </a:lnTo>
                    <a:lnTo>
                      <a:pt x="232" y="95"/>
                    </a:lnTo>
                    <a:lnTo>
                      <a:pt x="215" y="99"/>
                    </a:lnTo>
                    <a:lnTo>
                      <a:pt x="200" y="105"/>
                    </a:lnTo>
                    <a:lnTo>
                      <a:pt x="185" y="113"/>
                    </a:lnTo>
                    <a:lnTo>
                      <a:pt x="171" y="121"/>
                    </a:lnTo>
                    <a:lnTo>
                      <a:pt x="158" y="131"/>
                    </a:lnTo>
                    <a:lnTo>
                      <a:pt x="146" y="142"/>
                    </a:lnTo>
                    <a:lnTo>
                      <a:pt x="135" y="154"/>
                    </a:lnTo>
                    <a:lnTo>
                      <a:pt x="125" y="169"/>
                    </a:lnTo>
                    <a:lnTo>
                      <a:pt x="117" y="183"/>
                    </a:lnTo>
                    <a:lnTo>
                      <a:pt x="110" y="197"/>
                    </a:lnTo>
                    <a:lnTo>
                      <a:pt x="103" y="214"/>
                    </a:lnTo>
                    <a:lnTo>
                      <a:pt x="100" y="230"/>
                    </a:lnTo>
                    <a:lnTo>
                      <a:pt x="97" y="248"/>
                    </a:lnTo>
                    <a:lnTo>
                      <a:pt x="96" y="2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549440" y="882720"/>
                <a:ext cx="144360" cy="98280"/>
              </a:xfrm>
              <a:custGeom>
                <a:avLst/>
                <a:gdLst/>
                <a:ahLst/>
                <a:rect l="l" t="t" r="r" b="b"/>
                <a:pathLst>
                  <a:path w="690" h="512">
                    <a:moveTo>
                      <a:pt x="96" y="77"/>
                    </a:moveTo>
                    <a:lnTo>
                      <a:pt x="98" y="77"/>
                    </a:lnTo>
                    <a:lnTo>
                      <a:pt x="109" y="62"/>
                    </a:lnTo>
                    <a:lnTo>
                      <a:pt x="122" y="47"/>
                    </a:lnTo>
                    <a:lnTo>
                      <a:pt x="137" y="34"/>
                    </a:lnTo>
                    <a:lnTo>
                      <a:pt x="154" y="23"/>
                    </a:lnTo>
                    <a:lnTo>
                      <a:pt x="171" y="13"/>
                    </a:lnTo>
                    <a:lnTo>
                      <a:pt x="190" y="6"/>
                    </a:lnTo>
                    <a:lnTo>
                      <a:pt x="210" y="2"/>
                    </a:lnTo>
                    <a:lnTo>
                      <a:pt x="229" y="0"/>
                    </a:lnTo>
                    <a:lnTo>
                      <a:pt x="253" y="2"/>
                    </a:lnTo>
                    <a:lnTo>
                      <a:pt x="274" y="6"/>
                    </a:lnTo>
                    <a:lnTo>
                      <a:pt x="295" y="13"/>
                    </a:lnTo>
                    <a:lnTo>
                      <a:pt x="314" y="24"/>
                    </a:lnTo>
                    <a:lnTo>
                      <a:pt x="330" y="36"/>
                    </a:lnTo>
                    <a:lnTo>
                      <a:pt x="346" y="51"/>
                    </a:lnTo>
                    <a:lnTo>
                      <a:pt x="360" y="69"/>
                    </a:lnTo>
                    <a:lnTo>
                      <a:pt x="373" y="88"/>
                    </a:lnTo>
                    <a:lnTo>
                      <a:pt x="385" y="69"/>
                    </a:lnTo>
                    <a:lnTo>
                      <a:pt x="401" y="52"/>
                    </a:lnTo>
                    <a:lnTo>
                      <a:pt x="418" y="37"/>
                    </a:lnTo>
                    <a:lnTo>
                      <a:pt x="438" y="24"/>
                    </a:lnTo>
                    <a:lnTo>
                      <a:pt x="458" y="14"/>
                    </a:lnTo>
                    <a:lnTo>
                      <a:pt x="480" y="6"/>
                    </a:lnTo>
                    <a:lnTo>
                      <a:pt x="503" y="2"/>
                    </a:lnTo>
                    <a:lnTo>
                      <a:pt x="526" y="0"/>
                    </a:lnTo>
                    <a:lnTo>
                      <a:pt x="550" y="1"/>
                    </a:lnTo>
                    <a:lnTo>
                      <a:pt x="571" y="5"/>
                    </a:lnTo>
                    <a:lnTo>
                      <a:pt x="589" y="11"/>
                    </a:lnTo>
                    <a:lnTo>
                      <a:pt x="607" y="17"/>
                    </a:lnTo>
                    <a:lnTo>
                      <a:pt x="622" y="27"/>
                    </a:lnTo>
                    <a:lnTo>
                      <a:pt x="635" y="38"/>
                    </a:lnTo>
                    <a:lnTo>
                      <a:pt x="647" y="51"/>
                    </a:lnTo>
                    <a:lnTo>
                      <a:pt x="657" y="65"/>
                    </a:lnTo>
                    <a:lnTo>
                      <a:pt x="666" y="81"/>
                    </a:lnTo>
                    <a:lnTo>
                      <a:pt x="673" y="97"/>
                    </a:lnTo>
                    <a:lnTo>
                      <a:pt x="678" y="115"/>
                    </a:lnTo>
                    <a:lnTo>
                      <a:pt x="684" y="133"/>
                    </a:lnTo>
                    <a:lnTo>
                      <a:pt x="689" y="173"/>
                    </a:lnTo>
                    <a:lnTo>
                      <a:pt x="690" y="215"/>
                    </a:lnTo>
                    <a:lnTo>
                      <a:pt x="690" y="512"/>
                    </a:lnTo>
                    <a:lnTo>
                      <a:pt x="595" y="512"/>
                    </a:lnTo>
                    <a:lnTo>
                      <a:pt x="595" y="230"/>
                    </a:lnTo>
                    <a:lnTo>
                      <a:pt x="595" y="206"/>
                    </a:lnTo>
                    <a:lnTo>
                      <a:pt x="593" y="181"/>
                    </a:lnTo>
                    <a:lnTo>
                      <a:pt x="588" y="157"/>
                    </a:lnTo>
                    <a:lnTo>
                      <a:pt x="580" y="133"/>
                    </a:lnTo>
                    <a:lnTo>
                      <a:pt x="568" y="114"/>
                    </a:lnTo>
                    <a:lnTo>
                      <a:pt x="561" y="106"/>
                    </a:lnTo>
                    <a:lnTo>
                      <a:pt x="552" y="98"/>
                    </a:lnTo>
                    <a:lnTo>
                      <a:pt x="542" y="93"/>
                    </a:lnTo>
                    <a:lnTo>
                      <a:pt x="531" y="88"/>
                    </a:lnTo>
                    <a:lnTo>
                      <a:pt x="517" y="86"/>
                    </a:lnTo>
                    <a:lnTo>
                      <a:pt x="503" y="85"/>
                    </a:lnTo>
                    <a:lnTo>
                      <a:pt x="484" y="86"/>
                    </a:lnTo>
                    <a:lnTo>
                      <a:pt x="469" y="90"/>
                    </a:lnTo>
                    <a:lnTo>
                      <a:pt x="454" y="95"/>
                    </a:lnTo>
                    <a:lnTo>
                      <a:pt x="442" y="103"/>
                    </a:lnTo>
                    <a:lnTo>
                      <a:pt x="432" y="112"/>
                    </a:lnTo>
                    <a:lnTo>
                      <a:pt x="423" y="123"/>
                    </a:lnTo>
                    <a:lnTo>
                      <a:pt x="416" y="135"/>
                    </a:lnTo>
                    <a:lnTo>
                      <a:pt x="409" y="148"/>
                    </a:lnTo>
                    <a:lnTo>
                      <a:pt x="401" y="176"/>
                    </a:lnTo>
                    <a:lnTo>
                      <a:pt x="396" y="207"/>
                    </a:lnTo>
                    <a:lnTo>
                      <a:pt x="394" y="238"/>
                    </a:lnTo>
                    <a:lnTo>
                      <a:pt x="393" y="267"/>
                    </a:lnTo>
                    <a:lnTo>
                      <a:pt x="393" y="512"/>
                    </a:lnTo>
                    <a:lnTo>
                      <a:pt x="297" y="512"/>
                    </a:lnTo>
                    <a:lnTo>
                      <a:pt x="297" y="249"/>
                    </a:lnTo>
                    <a:lnTo>
                      <a:pt x="297" y="224"/>
                    </a:lnTo>
                    <a:lnTo>
                      <a:pt x="295" y="196"/>
                    </a:lnTo>
                    <a:lnTo>
                      <a:pt x="292" y="169"/>
                    </a:lnTo>
                    <a:lnTo>
                      <a:pt x="285" y="142"/>
                    </a:lnTo>
                    <a:lnTo>
                      <a:pt x="280" y="130"/>
                    </a:lnTo>
                    <a:lnTo>
                      <a:pt x="273" y="119"/>
                    </a:lnTo>
                    <a:lnTo>
                      <a:pt x="267" y="110"/>
                    </a:lnTo>
                    <a:lnTo>
                      <a:pt x="258" y="102"/>
                    </a:lnTo>
                    <a:lnTo>
                      <a:pt x="247" y="95"/>
                    </a:lnTo>
                    <a:lnTo>
                      <a:pt x="235" y="90"/>
                    </a:lnTo>
                    <a:lnTo>
                      <a:pt x="222" y="86"/>
                    </a:lnTo>
                    <a:lnTo>
                      <a:pt x="206" y="85"/>
                    </a:lnTo>
                    <a:lnTo>
                      <a:pt x="188" y="86"/>
                    </a:lnTo>
                    <a:lnTo>
                      <a:pt x="172" y="90"/>
                    </a:lnTo>
                    <a:lnTo>
                      <a:pt x="158" y="95"/>
                    </a:lnTo>
                    <a:lnTo>
                      <a:pt x="146" y="103"/>
                    </a:lnTo>
                    <a:lnTo>
                      <a:pt x="135" y="112"/>
                    </a:lnTo>
                    <a:lnTo>
                      <a:pt x="126" y="123"/>
                    </a:lnTo>
                    <a:lnTo>
                      <a:pt x="119" y="135"/>
                    </a:lnTo>
                    <a:lnTo>
                      <a:pt x="113" y="148"/>
                    </a:lnTo>
                    <a:lnTo>
                      <a:pt x="103" y="176"/>
                    </a:lnTo>
                    <a:lnTo>
                      <a:pt x="99" y="207"/>
                    </a:lnTo>
                    <a:lnTo>
                      <a:pt x="97" y="238"/>
                    </a:lnTo>
                    <a:lnTo>
                      <a:pt x="96" y="267"/>
                    </a:lnTo>
                    <a:lnTo>
                      <a:pt x="96" y="512"/>
                    </a:lnTo>
                    <a:lnTo>
                      <a:pt x="0" y="512"/>
                    </a:lnTo>
                    <a:lnTo>
                      <a:pt x="0" y="15"/>
                    </a:lnTo>
                    <a:lnTo>
                      <a:pt x="96" y="15"/>
                    </a:lnTo>
                    <a:lnTo>
                      <a:pt x="96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908640" y="1022400"/>
                <a:ext cx="9082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a-DK" sz="600" spc="-1" strike="noStrike">
                    <a:solidFill>
                      <a:srgbClr val="ffffff"/>
                    </a:solidFill>
                    <a:latin typeface="Futura Bk BT"/>
                  </a:rPr>
                  <a:t>www.kirktelecom.dk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7" name=""/>
          <p:cNvSpPr/>
          <p:nvPr/>
        </p:nvSpPr>
        <p:spPr>
          <a:xfrm>
            <a:off x="2228760" y="0"/>
            <a:ext cx="76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CCFP Administration Program Ver.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8" name="" descr=""/>
          <p:cNvPicPr/>
          <p:nvPr/>
        </p:nvPicPr>
        <p:blipFill>
          <a:blip r:embed="rId2"/>
          <a:stretch/>
        </p:blipFill>
        <p:spPr>
          <a:xfrm>
            <a:off x="2797200" y="517680"/>
            <a:ext cx="6334200" cy="4457520"/>
          </a:xfrm>
          <a:prstGeom prst="rect">
            <a:avLst/>
          </a:prstGeom>
          <a:ln w="0">
            <a:noFill/>
          </a:ln>
        </p:spPr>
      </p:pic>
      <p:sp>
        <p:nvSpPr>
          <p:cNvPr id="1039" name=""/>
          <p:cNvSpPr/>
          <p:nvPr/>
        </p:nvSpPr>
        <p:spPr>
          <a:xfrm>
            <a:off x="2631960" y="5102280"/>
            <a:ext cx="633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 и отправка текстовых сообщений мобильным абонентам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4C88-3A36-43F6-94FD-7791058D8ED1}" type="slidenum">
              <a:t>31</a:t>
            </a:fld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/>
          <p:nvPr/>
        </p:nvSpPr>
        <p:spPr>
          <a:xfrm>
            <a:off x="2889360" y="457200"/>
            <a:ext cx="6521400" cy="0"/>
          </a:xfrm>
          <a:prstGeom prst="line">
            <a:avLst/>
          </a:prstGeom>
          <a:ln cap="sq"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0" y="0"/>
            <a:ext cx="6129000" cy="6858000"/>
            <a:chOff x="0" y="0"/>
            <a:chExt cx="6129000" cy="6858000"/>
          </a:xfrm>
        </p:grpSpPr>
        <p:sp>
          <p:nvSpPr>
            <p:cNvPr id="1042" name=""/>
            <p:cNvSpPr/>
            <p:nvPr/>
          </p:nvSpPr>
          <p:spPr>
            <a:xfrm>
              <a:off x="0" y="0"/>
              <a:ext cx="2228760" cy="3429000"/>
            </a:xfrm>
            <a:prstGeom prst="rect">
              <a:avLst/>
            </a:prstGeom>
            <a:solidFill>
              <a:srgbClr val="000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0" y="3429000"/>
              <a:ext cx="2228760" cy="3429000"/>
            </a:xfrm>
            <a:prstGeom prst="rect">
              <a:avLst/>
            </a:pr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91836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79924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6" name="" descr=""/>
            <p:cNvPicPr/>
            <p:nvPr/>
          </p:nvPicPr>
          <p:blipFill>
            <a:blip r:embed="rId1"/>
            <a:stretch/>
          </p:blipFill>
          <p:spPr>
            <a:xfrm>
              <a:off x="201240" y="2055960"/>
              <a:ext cx="1705680" cy="271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7" name=""/>
            <p:cNvGrpSpPr/>
            <p:nvPr/>
          </p:nvGrpSpPr>
          <p:grpSpPr>
            <a:xfrm>
              <a:off x="211320" y="380880"/>
              <a:ext cx="1605600" cy="821880"/>
              <a:chOff x="211320" y="380880"/>
              <a:chExt cx="1605600" cy="821880"/>
            </a:xfrm>
          </p:grpSpPr>
          <p:sp>
            <p:nvSpPr>
              <p:cNvPr id="1048" name=""/>
              <p:cNvSpPr/>
              <p:nvPr/>
            </p:nvSpPr>
            <p:spPr>
              <a:xfrm>
                <a:off x="403920" y="38088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7">
                    <a:moveTo>
                      <a:pt x="29" y="1655"/>
                    </a:moveTo>
                    <a:lnTo>
                      <a:pt x="79" y="1682"/>
                    </a:lnTo>
                    <a:lnTo>
                      <a:pt x="623" y="1957"/>
                    </a:lnTo>
                    <a:lnTo>
                      <a:pt x="684" y="1987"/>
                    </a:lnTo>
                    <a:lnTo>
                      <a:pt x="687" y="1916"/>
                    </a:lnTo>
                    <a:lnTo>
                      <a:pt x="691" y="1864"/>
                    </a:lnTo>
                    <a:lnTo>
                      <a:pt x="697" y="1814"/>
                    </a:lnTo>
                    <a:lnTo>
                      <a:pt x="704" y="1763"/>
                    </a:lnTo>
                    <a:lnTo>
                      <a:pt x="713" y="1714"/>
                    </a:lnTo>
                    <a:lnTo>
                      <a:pt x="724" y="1665"/>
                    </a:lnTo>
                    <a:lnTo>
                      <a:pt x="737" y="1616"/>
                    </a:lnTo>
                    <a:lnTo>
                      <a:pt x="751" y="1569"/>
                    </a:lnTo>
                    <a:lnTo>
                      <a:pt x="767" y="1522"/>
                    </a:lnTo>
                    <a:lnTo>
                      <a:pt x="784" y="1476"/>
                    </a:lnTo>
                    <a:lnTo>
                      <a:pt x="803" y="1431"/>
                    </a:lnTo>
                    <a:lnTo>
                      <a:pt x="824" y="1386"/>
                    </a:lnTo>
                    <a:lnTo>
                      <a:pt x="846" y="1343"/>
                    </a:lnTo>
                    <a:lnTo>
                      <a:pt x="869" y="1300"/>
                    </a:lnTo>
                    <a:lnTo>
                      <a:pt x="894" y="1257"/>
                    </a:lnTo>
                    <a:lnTo>
                      <a:pt x="920" y="1217"/>
                    </a:lnTo>
                    <a:lnTo>
                      <a:pt x="948" y="1177"/>
                    </a:lnTo>
                    <a:lnTo>
                      <a:pt x="976" y="1137"/>
                    </a:lnTo>
                    <a:lnTo>
                      <a:pt x="1007" y="1100"/>
                    </a:lnTo>
                    <a:lnTo>
                      <a:pt x="1038" y="1063"/>
                    </a:lnTo>
                    <a:lnTo>
                      <a:pt x="1071" y="1027"/>
                    </a:lnTo>
                    <a:lnTo>
                      <a:pt x="1105" y="993"/>
                    </a:lnTo>
                    <a:lnTo>
                      <a:pt x="1140" y="959"/>
                    </a:lnTo>
                    <a:lnTo>
                      <a:pt x="1176" y="927"/>
                    </a:lnTo>
                    <a:lnTo>
                      <a:pt x="1213" y="896"/>
                    </a:lnTo>
                    <a:lnTo>
                      <a:pt x="1250" y="866"/>
                    </a:lnTo>
                    <a:lnTo>
                      <a:pt x="1290" y="838"/>
                    </a:lnTo>
                    <a:lnTo>
                      <a:pt x="1331" y="810"/>
                    </a:lnTo>
                    <a:lnTo>
                      <a:pt x="1372" y="785"/>
                    </a:lnTo>
                    <a:lnTo>
                      <a:pt x="1414" y="760"/>
                    </a:lnTo>
                    <a:lnTo>
                      <a:pt x="1457" y="737"/>
                    </a:lnTo>
                    <a:lnTo>
                      <a:pt x="1501" y="716"/>
                    </a:lnTo>
                    <a:lnTo>
                      <a:pt x="1546" y="696"/>
                    </a:lnTo>
                    <a:lnTo>
                      <a:pt x="1584" y="680"/>
                    </a:lnTo>
                    <a:lnTo>
                      <a:pt x="1594" y="673"/>
                    </a:lnTo>
                    <a:lnTo>
                      <a:pt x="1600" y="665"/>
                    </a:lnTo>
                    <a:lnTo>
                      <a:pt x="1604" y="658"/>
                    </a:lnTo>
                    <a:lnTo>
                      <a:pt x="1606" y="650"/>
                    </a:lnTo>
                    <a:lnTo>
                      <a:pt x="1605" y="638"/>
                    </a:lnTo>
                    <a:lnTo>
                      <a:pt x="1603" y="632"/>
                    </a:lnTo>
                    <a:lnTo>
                      <a:pt x="1586" y="586"/>
                    </a:lnTo>
                    <a:lnTo>
                      <a:pt x="1385" y="31"/>
                    </a:lnTo>
                    <a:lnTo>
                      <a:pt x="1381" y="18"/>
                    </a:lnTo>
                    <a:lnTo>
                      <a:pt x="1380" y="13"/>
                    </a:lnTo>
                    <a:lnTo>
                      <a:pt x="1372" y="5"/>
                    </a:lnTo>
                    <a:lnTo>
                      <a:pt x="1367" y="2"/>
                    </a:lnTo>
                    <a:lnTo>
                      <a:pt x="1359" y="0"/>
                    </a:lnTo>
                    <a:lnTo>
                      <a:pt x="1349" y="0"/>
                    </a:lnTo>
                    <a:lnTo>
                      <a:pt x="1337" y="3"/>
                    </a:lnTo>
                    <a:lnTo>
                      <a:pt x="1307" y="14"/>
                    </a:lnTo>
                    <a:lnTo>
                      <a:pt x="1248" y="37"/>
                    </a:lnTo>
                    <a:lnTo>
                      <a:pt x="1190" y="63"/>
                    </a:lnTo>
                    <a:lnTo>
                      <a:pt x="1133" y="89"/>
                    </a:lnTo>
                    <a:lnTo>
                      <a:pt x="1076" y="119"/>
                    </a:lnTo>
                    <a:lnTo>
                      <a:pt x="1021" y="149"/>
                    </a:lnTo>
                    <a:lnTo>
                      <a:pt x="966" y="181"/>
                    </a:lnTo>
                    <a:lnTo>
                      <a:pt x="913" y="215"/>
                    </a:lnTo>
                    <a:lnTo>
                      <a:pt x="861" y="251"/>
                    </a:lnTo>
                    <a:lnTo>
                      <a:pt x="810" y="289"/>
                    </a:lnTo>
                    <a:lnTo>
                      <a:pt x="759" y="328"/>
                    </a:lnTo>
                    <a:lnTo>
                      <a:pt x="711" y="369"/>
                    </a:lnTo>
                    <a:lnTo>
                      <a:pt x="663" y="411"/>
                    </a:lnTo>
                    <a:lnTo>
                      <a:pt x="616" y="455"/>
                    </a:lnTo>
                    <a:lnTo>
                      <a:pt x="572" y="501"/>
                    </a:lnTo>
                    <a:lnTo>
                      <a:pt x="528" y="547"/>
                    </a:lnTo>
                    <a:lnTo>
                      <a:pt x="485" y="595"/>
                    </a:lnTo>
                    <a:lnTo>
                      <a:pt x="443" y="645"/>
                    </a:lnTo>
                    <a:lnTo>
                      <a:pt x="404" y="695"/>
                    </a:lnTo>
                    <a:lnTo>
                      <a:pt x="365" y="747"/>
                    </a:lnTo>
                    <a:lnTo>
                      <a:pt x="329" y="800"/>
                    </a:lnTo>
                    <a:lnTo>
                      <a:pt x="294" y="854"/>
                    </a:lnTo>
                    <a:lnTo>
                      <a:pt x="260" y="910"/>
                    </a:lnTo>
                    <a:lnTo>
                      <a:pt x="228" y="967"/>
                    </a:lnTo>
                    <a:lnTo>
                      <a:pt x="197" y="1024"/>
                    </a:lnTo>
                    <a:lnTo>
                      <a:pt x="169" y="1084"/>
                    </a:lnTo>
                    <a:lnTo>
                      <a:pt x="142" y="1144"/>
                    </a:lnTo>
                    <a:lnTo>
                      <a:pt x="116" y="1204"/>
                    </a:lnTo>
                    <a:lnTo>
                      <a:pt x="93" y="1266"/>
                    </a:lnTo>
                    <a:lnTo>
                      <a:pt x="71" y="1329"/>
                    </a:lnTo>
                    <a:lnTo>
                      <a:pt x="52" y="1392"/>
                    </a:lnTo>
                    <a:lnTo>
                      <a:pt x="34" y="1457"/>
                    </a:lnTo>
                    <a:lnTo>
                      <a:pt x="18" y="1522"/>
                    </a:lnTo>
                    <a:lnTo>
                      <a:pt x="2" y="1593"/>
                    </a:lnTo>
                    <a:lnTo>
                      <a:pt x="0" y="1610"/>
                    </a:lnTo>
                    <a:lnTo>
                      <a:pt x="1" y="1623"/>
                    </a:lnTo>
                    <a:lnTo>
                      <a:pt x="6" y="1634"/>
                    </a:lnTo>
                    <a:lnTo>
                      <a:pt x="11" y="1643"/>
                    </a:lnTo>
                    <a:lnTo>
                      <a:pt x="17" y="1648"/>
                    </a:lnTo>
                    <a:lnTo>
                      <a:pt x="23" y="1652"/>
                    </a:lnTo>
                    <a:lnTo>
                      <a:pt x="29" y="1655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403920" y="77004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5">
                    <a:moveTo>
                      <a:pt x="29" y="333"/>
                    </a:moveTo>
                    <a:lnTo>
                      <a:pt x="79" y="306"/>
                    </a:lnTo>
                    <a:lnTo>
                      <a:pt x="623" y="31"/>
                    </a:lnTo>
                    <a:lnTo>
                      <a:pt x="684" y="0"/>
                    </a:lnTo>
                    <a:lnTo>
                      <a:pt x="687" y="72"/>
                    </a:lnTo>
                    <a:lnTo>
                      <a:pt x="691" y="123"/>
                    </a:lnTo>
                    <a:lnTo>
                      <a:pt x="697" y="174"/>
                    </a:lnTo>
                    <a:lnTo>
                      <a:pt x="704" y="224"/>
                    </a:lnTo>
                    <a:lnTo>
                      <a:pt x="713" y="273"/>
                    </a:lnTo>
                    <a:lnTo>
                      <a:pt x="724" y="323"/>
                    </a:lnTo>
                    <a:lnTo>
                      <a:pt x="737" y="371"/>
                    </a:lnTo>
                    <a:lnTo>
                      <a:pt x="751" y="418"/>
                    </a:lnTo>
                    <a:lnTo>
                      <a:pt x="767" y="465"/>
                    </a:lnTo>
                    <a:lnTo>
                      <a:pt x="784" y="512"/>
                    </a:lnTo>
                    <a:lnTo>
                      <a:pt x="803" y="557"/>
                    </a:lnTo>
                    <a:lnTo>
                      <a:pt x="824" y="602"/>
                    </a:lnTo>
                    <a:lnTo>
                      <a:pt x="846" y="645"/>
                    </a:lnTo>
                    <a:lnTo>
                      <a:pt x="869" y="688"/>
                    </a:lnTo>
                    <a:lnTo>
                      <a:pt x="894" y="730"/>
                    </a:lnTo>
                    <a:lnTo>
                      <a:pt x="920" y="771"/>
                    </a:lnTo>
                    <a:lnTo>
                      <a:pt x="948" y="811"/>
                    </a:lnTo>
                    <a:lnTo>
                      <a:pt x="976" y="850"/>
                    </a:lnTo>
                    <a:lnTo>
                      <a:pt x="1007" y="888"/>
                    </a:lnTo>
                    <a:lnTo>
                      <a:pt x="1038" y="924"/>
                    </a:lnTo>
                    <a:lnTo>
                      <a:pt x="1071" y="961"/>
                    </a:lnTo>
                    <a:lnTo>
                      <a:pt x="1105" y="995"/>
                    </a:lnTo>
                    <a:lnTo>
                      <a:pt x="1140" y="1029"/>
                    </a:lnTo>
                    <a:lnTo>
                      <a:pt x="1176" y="1061"/>
                    </a:lnTo>
                    <a:lnTo>
                      <a:pt x="1213" y="1092"/>
                    </a:lnTo>
                    <a:lnTo>
                      <a:pt x="1252" y="1122"/>
                    </a:lnTo>
                    <a:lnTo>
                      <a:pt x="1290" y="1151"/>
                    </a:lnTo>
                    <a:lnTo>
                      <a:pt x="1331" y="1177"/>
                    </a:lnTo>
                    <a:lnTo>
                      <a:pt x="1372" y="1203"/>
                    </a:lnTo>
                    <a:lnTo>
                      <a:pt x="1414" y="1227"/>
                    </a:lnTo>
                    <a:lnTo>
                      <a:pt x="1457" y="1250"/>
                    </a:lnTo>
                    <a:lnTo>
                      <a:pt x="1501" y="1271"/>
                    </a:lnTo>
                    <a:lnTo>
                      <a:pt x="1546" y="1292"/>
                    </a:lnTo>
                    <a:lnTo>
                      <a:pt x="1584" y="1308"/>
                    </a:lnTo>
                    <a:lnTo>
                      <a:pt x="1594" y="1315"/>
                    </a:lnTo>
                    <a:lnTo>
                      <a:pt x="1600" y="1323"/>
                    </a:lnTo>
                    <a:lnTo>
                      <a:pt x="1605" y="1331"/>
                    </a:lnTo>
                    <a:lnTo>
                      <a:pt x="1606" y="1337"/>
                    </a:lnTo>
                    <a:lnTo>
                      <a:pt x="1605" y="1349"/>
                    </a:lnTo>
                    <a:lnTo>
                      <a:pt x="1603" y="1355"/>
                    </a:lnTo>
                    <a:lnTo>
                      <a:pt x="1586" y="1401"/>
                    </a:lnTo>
                    <a:lnTo>
                      <a:pt x="1388" y="1950"/>
                    </a:lnTo>
                    <a:lnTo>
                      <a:pt x="1381" y="1965"/>
                    </a:lnTo>
                    <a:lnTo>
                      <a:pt x="1379" y="1970"/>
                    </a:lnTo>
                    <a:lnTo>
                      <a:pt x="1371" y="1978"/>
                    </a:lnTo>
                    <a:lnTo>
                      <a:pt x="1366" y="1983"/>
                    </a:lnTo>
                    <a:lnTo>
                      <a:pt x="1358" y="1985"/>
                    </a:lnTo>
                    <a:lnTo>
                      <a:pt x="1348" y="1985"/>
                    </a:lnTo>
                    <a:lnTo>
                      <a:pt x="1338" y="1983"/>
                    </a:lnTo>
                    <a:lnTo>
                      <a:pt x="1302" y="1969"/>
                    </a:lnTo>
                    <a:lnTo>
                      <a:pt x="1242" y="1942"/>
                    </a:lnTo>
                    <a:lnTo>
                      <a:pt x="1181" y="1915"/>
                    </a:lnTo>
                    <a:lnTo>
                      <a:pt x="1123" y="1886"/>
                    </a:lnTo>
                    <a:lnTo>
                      <a:pt x="1066" y="1857"/>
                    </a:lnTo>
                    <a:lnTo>
                      <a:pt x="1009" y="1824"/>
                    </a:lnTo>
                    <a:lnTo>
                      <a:pt x="954" y="1791"/>
                    </a:lnTo>
                    <a:lnTo>
                      <a:pt x="901" y="1756"/>
                    </a:lnTo>
                    <a:lnTo>
                      <a:pt x="848" y="1719"/>
                    </a:lnTo>
                    <a:lnTo>
                      <a:pt x="796" y="1682"/>
                    </a:lnTo>
                    <a:lnTo>
                      <a:pt x="747" y="1642"/>
                    </a:lnTo>
                    <a:lnTo>
                      <a:pt x="698" y="1602"/>
                    </a:lnTo>
                    <a:lnTo>
                      <a:pt x="650" y="1560"/>
                    </a:lnTo>
                    <a:lnTo>
                      <a:pt x="604" y="1517"/>
                    </a:lnTo>
                    <a:lnTo>
                      <a:pt x="559" y="1472"/>
                    </a:lnTo>
                    <a:lnTo>
                      <a:pt x="517" y="1426"/>
                    </a:lnTo>
                    <a:lnTo>
                      <a:pt x="475" y="1379"/>
                    </a:lnTo>
                    <a:lnTo>
                      <a:pt x="434" y="1331"/>
                    </a:lnTo>
                    <a:lnTo>
                      <a:pt x="395" y="1281"/>
                    </a:lnTo>
                    <a:lnTo>
                      <a:pt x="358" y="1230"/>
                    </a:lnTo>
                    <a:lnTo>
                      <a:pt x="323" y="1178"/>
                    </a:lnTo>
                    <a:lnTo>
                      <a:pt x="287" y="1124"/>
                    </a:lnTo>
                    <a:lnTo>
                      <a:pt x="255" y="1070"/>
                    </a:lnTo>
                    <a:lnTo>
                      <a:pt x="224" y="1014"/>
                    </a:lnTo>
                    <a:lnTo>
                      <a:pt x="194" y="957"/>
                    </a:lnTo>
                    <a:lnTo>
                      <a:pt x="166" y="900"/>
                    </a:lnTo>
                    <a:lnTo>
                      <a:pt x="139" y="841"/>
                    </a:lnTo>
                    <a:lnTo>
                      <a:pt x="115" y="781"/>
                    </a:lnTo>
                    <a:lnTo>
                      <a:pt x="92" y="720"/>
                    </a:lnTo>
                    <a:lnTo>
                      <a:pt x="71" y="658"/>
                    </a:lnTo>
                    <a:lnTo>
                      <a:pt x="52" y="595"/>
                    </a:lnTo>
                    <a:lnTo>
                      <a:pt x="34" y="530"/>
                    </a:lnTo>
                    <a:lnTo>
                      <a:pt x="18" y="465"/>
                    </a:lnTo>
                    <a:lnTo>
                      <a:pt x="3" y="394"/>
                    </a:lnTo>
                    <a:lnTo>
                      <a:pt x="0" y="378"/>
                    </a:lnTo>
                    <a:lnTo>
                      <a:pt x="1" y="364"/>
                    </a:lnTo>
                    <a:lnTo>
                      <a:pt x="6" y="353"/>
                    </a:lnTo>
                    <a:lnTo>
                      <a:pt x="11" y="346"/>
                    </a:lnTo>
                    <a:lnTo>
                      <a:pt x="17" y="339"/>
                    </a:lnTo>
                    <a:lnTo>
                      <a:pt x="23" y="336"/>
                    </a:lnTo>
                    <a:lnTo>
                      <a:pt x="29" y="333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67440" y="698400"/>
                <a:ext cx="149400" cy="147600"/>
              </a:xfrm>
              <a:custGeom>
                <a:avLst/>
                <a:gdLst/>
                <a:ahLst/>
                <a:rect l="l" t="t" r="r" b="b"/>
                <a:pathLst>
                  <a:path w="714" h="759">
                    <a:moveTo>
                      <a:pt x="699" y="379"/>
                    </a:moveTo>
                    <a:lnTo>
                      <a:pt x="706" y="375"/>
                    </a:lnTo>
                    <a:lnTo>
                      <a:pt x="710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09" y="351"/>
                    </a:lnTo>
                    <a:lnTo>
                      <a:pt x="705" y="346"/>
                    </a:lnTo>
                    <a:lnTo>
                      <a:pt x="699" y="342"/>
                    </a:lnTo>
                    <a:lnTo>
                      <a:pt x="35" y="4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3" y="11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735"/>
                    </a:lnTo>
                    <a:lnTo>
                      <a:pt x="1" y="743"/>
                    </a:lnTo>
                    <a:lnTo>
                      <a:pt x="3" y="748"/>
                    </a:lnTo>
                    <a:lnTo>
                      <a:pt x="5" y="753"/>
                    </a:lnTo>
                    <a:lnTo>
                      <a:pt x="10" y="757"/>
                    </a:lnTo>
                    <a:lnTo>
                      <a:pt x="15" y="759"/>
                    </a:lnTo>
                    <a:lnTo>
                      <a:pt x="21" y="759"/>
                    </a:lnTo>
                    <a:lnTo>
                      <a:pt x="27" y="758"/>
                    </a:lnTo>
                    <a:lnTo>
                      <a:pt x="34" y="755"/>
                    </a:lnTo>
                    <a:lnTo>
                      <a:pt x="699" y="379"/>
                    </a:lnTo>
                    <a:close/>
                  </a:path>
                </a:pathLst>
              </a:custGeom>
              <a:solidFill>
                <a:srgbClr val="00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211320" y="701640"/>
                <a:ext cx="149760" cy="146160"/>
              </a:xfrm>
              <a:custGeom>
                <a:avLst/>
                <a:gdLst/>
                <a:ahLst/>
                <a:rect l="l" t="t" r="r" b="b"/>
                <a:pathLst>
                  <a:path w="714" h="758">
                    <a:moveTo>
                      <a:pt x="701" y="379"/>
                    </a:moveTo>
                    <a:lnTo>
                      <a:pt x="706" y="374"/>
                    </a:lnTo>
                    <a:lnTo>
                      <a:pt x="711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11" y="350"/>
                    </a:lnTo>
                    <a:lnTo>
                      <a:pt x="706" y="346"/>
                    </a:lnTo>
                    <a:lnTo>
                      <a:pt x="700" y="342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0" y="734"/>
                    </a:lnTo>
                    <a:lnTo>
                      <a:pt x="1" y="742"/>
                    </a:lnTo>
                    <a:lnTo>
                      <a:pt x="3" y="749"/>
                    </a:lnTo>
                    <a:lnTo>
                      <a:pt x="7" y="753"/>
                    </a:lnTo>
                    <a:lnTo>
                      <a:pt x="10" y="756"/>
                    </a:lnTo>
                    <a:lnTo>
                      <a:pt x="15" y="758"/>
                    </a:lnTo>
                    <a:lnTo>
                      <a:pt x="21" y="758"/>
                    </a:lnTo>
                    <a:lnTo>
                      <a:pt x="27" y="757"/>
                    </a:lnTo>
                    <a:lnTo>
                      <a:pt x="34" y="754"/>
                    </a:lnTo>
                    <a:lnTo>
                      <a:pt x="701" y="379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011960" y="517680"/>
                <a:ext cx="195840" cy="250560"/>
              </a:xfrm>
              <a:custGeom>
                <a:avLst/>
                <a:gdLst/>
                <a:ahLst/>
                <a:rect l="l" t="t" r="r" b="b"/>
                <a:pathLst>
                  <a:path w="930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30" y="1293"/>
                    </a:lnTo>
                    <a:lnTo>
                      <a:pt x="713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230480" y="517680"/>
                <a:ext cx="34200" cy="25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316520" y="517680"/>
                <a:ext cx="168480" cy="250560"/>
              </a:xfrm>
              <a:custGeom>
                <a:avLst/>
                <a:gdLst/>
                <a:ahLst/>
                <a:rect l="l" t="t" r="r" b="b"/>
                <a:pathLst>
                  <a:path w="803" h="1293">
                    <a:moveTo>
                      <a:pt x="803" y="1293"/>
                    </a:moveTo>
                    <a:lnTo>
                      <a:pt x="607" y="1293"/>
                    </a:lnTo>
                    <a:lnTo>
                      <a:pt x="228" y="746"/>
                    </a:lnTo>
                    <a:lnTo>
                      <a:pt x="161" y="746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283" y="1"/>
                    </a:lnTo>
                    <a:lnTo>
                      <a:pt x="327" y="4"/>
                    </a:lnTo>
                    <a:lnTo>
                      <a:pt x="370" y="8"/>
                    </a:lnTo>
                    <a:lnTo>
                      <a:pt x="413" y="16"/>
                    </a:lnTo>
                    <a:lnTo>
                      <a:pt x="456" y="27"/>
                    </a:lnTo>
                    <a:lnTo>
                      <a:pt x="497" y="41"/>
                    </a:lnTo>
                    <a:lnTo>
                      <a:pt x="536" y="61"/>
                    </a:lnTo>
                    <a:lnTo>
                      <a:pt x="556" y="73"/>
                    </a:lnTo>
                    <a:lnTo>
                      <a:pt x="574" y="87"/>
                    </a:lnTo>
                    <a:lnTo>
                      <a:pt x="592" y="101"/>
                    </a:lnTo>
                    <a:lnTo>
                      <a:pt x="608" y="118"/>
                    </a:lnTo>
                    <a:lnTo>
                      <a:pt x="623" y="135"/>
                    </a:lnTo>
                    <a:lnTo>
                      <a:pt x="637" y="153"/>
                    </a:lnTo>
                    <a:lnTo>
                      <a:pt x="650" y="173"/>
                    </a:lnTo>
                    <a:lnTo>
                      <a:pt x="661" y="192"/>
                    </a:lnTo>
                    <a:lnTo>
                      <a:pt x="671" y="212"/>
                    </a:lnTo>
                    <a:lnTo>
                      <a:pt x="680" y="233"/>
                    </a:lnTo>
                    <a:lnTo>
                      <a:pt x="694" y="277"/>
                    </a:lnTo>
                    <a:lnTo>
                      <a:pt x="700" y="300"/>
                    </a:lnTo>
                    <a:lnTo>
                      <a:pt x="703" y="323"/>
                    </a:lnTo>
                    <a:lnTo>
                      <a:pt x="705" y="346"/>
                    </a:lnTo>
                    <a:lnTo>
                      <a:pt x="705" y="369"/>
                    </a:lnTo>
                    <a:lnTo>
                      <a:pt x="704" y="403"/>
                    </a:lnTo>
                    <a:lnTo>
                      <a:pt x="700" y="436"/>
                    </a:lnTo>
                    <a:lnTo>
                      <a:pt x="693" y="469"/>
                    </a:lnTo>
                    <a:lnTo>
                      <a:pt x="683" y="500"/>
                    </a:lnTo>
                    <a:lnTo>
                      <a:pt x="671" y="531"/>
                    </a:lnTo>
                    <a:lnTo>
                      <a:pt x="657" y="558"/>
                    </a:lnTo>
                    <a:lnTo>
                      <a:pt x="639" y="585"/>
                    </a:lnTo>
                    <a:lnTo>
                      <a:pt x="621" y="611"/>
                    </a:lnTo>
                    <a:lnTo>
                      <a:pt x="599" y="634"/>
                    </a:lnTo>
                    <a:lnTo>
                      <a:pt x="576" y="655"/>
                    </a:lnTo>
                    <a:lnTo>
                      <a:pt x="550" y="673"/>
                    </a:lnTo>
                    <a:lnTo>
                      <a:pt x="523" y="691"/>
                    </a:lnTo>
                    <a:lnTo>
                      <a:pt x="493" y="704"/>
                    </a:lnTo>
                    <a:lnTo>
                      <a:pt x="463" y="716"/>
                    </a:lnTo>
                    <a:lnTo>
                      <a:pt x="430" y="725"/>
                    </a:lnTo>
                    <a:lnTo>
                      <a:pt x="396" y="730"/>
                    </a:lnTo>
                    <a:lnTo>
                      <a:pt x="803" y="1293"/>
                    </a:lnTo>
                    <a:close/>
                    <a:moveTo>
                      <a:pt x="161" y="612"/>
                    </a:moveTo>
                    <a:lnTo>
                      <a:pt x="213" y="612"/>
                    </a:lnTo>
                    <a:lnTo>
                      <a:pt x="274" y="611"/>
                    </a:lnTo>
                    <a:lnTo>
                      <a:pt x="335" y="604"/>
                    </a:lnTo>
                    <a:lnTo>
                      <a:pt x="365" y="599"/>
                    </a:lnTo>
                    <a:lnTo>
                      <a:pt x="393" y="591"/>
                    </a:lnTo>
                    <a:lnTo>
                      <a:pt x="420" y="582"/>
                    </a:lnTo>
                    <a:lnTo>
                      <a:pt x="445" y="571"/>
                    </a:lnTo>
                    <a:lnTo>
                      <a:pt x="469" y="557"/>
                    </a:lnTo>
                    <a:lnTo>
                      <a:pt x="490" y="540"/>
                    </a:lnTo>
                    <a:lnTo>
                      <a:pt x="509" y="522"/>
                    </a:lnTo>
                    <a:lnTo>
                      <a:pt x="524" y="499"/>
                    </a:lnTo>
                    <a:lnTo>
                      <a:pt x="537" y="473"/>
                    </a:lnTo>
                    <a:lnTo>
                      <a:pt x="547" y="445"/>
                    </a:lnTo>
                    <a:lnTo>
                      <a:pt x="553" y="412"/>
                    </a:lnTo>
                    <a:lnTo>
                      <a:pt x="555" y="376"/>
                    </a:lnTo>
                    <a:lnTo>
                      <a:pt x="553" y="339"/>
                    </a:lnTo>
                    <a:lnTo>
                      <a:pt x="546" y="308"/>
                    </a:lnTo>
                    <a:lnTo>
                      <a:pt x="536" y="279"/>
                    </a:lnTo>
                    <a:lnTo>
                      <a:pt x="523" y="254"/>
                    </a:lnTo>
                    <a:lnTo>
                      <a:pt x="505" y="232"/>
                    </a:lnTo>
                    <a:lnTo>
                      <a:pt x="486" y="213"/>
                    </a:lnTo>
                    <a:lnTo>
                      <a:pt x="464" y="198"/>
                    </a:lnTo>
                    <a:lnTo>
                      <a:pt x="440" y="184"/>
                    </a:lnTo>
                    <a:lnTo>
                      <a:pt x="413" y="173"/>
                    </a:lnTo>
                    <a:lnTo>
                      <a:pt x="385" y="164"/>
                    </a:lnTo>
                    <a:lnTo>
                      <a:pt x="356" y="157"/>
                    </a:lnTo>
                    <a:lnTo>
                      <a:pt x="325" y="152"/>
                    </a:lnTo>
                    <a:lnTo>
                      <a:pt x="296" y="148"/>
                    </a:lnTo>
                    <a:lnTo>
                      <a:pt x="265" y="146"/>
                    </a:lnTo>
                    <a:lnTo>
                      <a:pt x="204" y="144"/>
                    </a:lnTo>
                    <a:lnTo>
                      <a:pt x="161" y="144"/>
                    </a:lnTo>
                    <a:lnTo>
                      <a:pt x="161" y="6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502280" y="517680"/>
                <a:ext cx="196200" cy="250560"/>
              </a:xfrm>
              <a:custGeom>
                <a:avLst/>
                <a:gdLst/>
                <a:ahLst/>
                <a:rect l="l" t="t" r="r" b="b"/>
                <a:pathLst>
                  <a:path w="929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29" y="1293"/>
                    </a:lnTo>
                    <a:lnTo>
                      <a:pt x="712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999720" y="847800"/>
                <a:ext cx="54720" cy="133200"/>
              </a:xfrm>
              <a:custGeom>
                <a:avLst/>
                <a:gdLst/>
                <a:ahLst/>
                <a:rect l="l" t="t" r="r" b="b"/>
                <a:pathLst>
                  <a:path w="264" h="687">
                    <a:moveTo>
                      <a:pt x="169" y="687"/>
                    </a:moveTo>
                    <a:lnTo>
                      <a:pt x="74" y="687"/>
                    </a:lnTo>
                    <a:lnTo>
                      <a:pt x="74" y="279"/>
                    </a:lnTo>
                    <a:lnTo>
                      <a:pt x="0" y="279"/>
                    </a:lnTo>
                    <a:lnTo>
                      <a:pt x="0" y="190"/>
                    </a:lnTo>
                    <a:lnTo>
                      <a:pt x="74" y="190"/>
                    </a:lnTo>
                    <a:lnTo>
                      <a:pt x="74" y="0"/>
                    </a:lnTo>
                    <a:lnTo>
                      <a:pt x="169" y="0"/>
                    </a:lnTo>
                    <a:lnTo>
                      <a:pt x="169" y="190"/>
                    </a:lnTo>
                    <a:lnTo>
                      <a:pt x="264" y="190"/>
                    </a:lnTo>
                    <a:lnTo>
                      <a:pt x="264" y="279"/>
                    </a:lnTo>
                    <a:lnTo>
                      <a:pt x="169" y="279"/>
                    </a:lnTo>
                    <a:lnTo>
                      <a:pt x="169" y="6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058400" y="882720"/>
                <a:ext cx="9936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5" y="280"/>
                    </a:moveTo>
                    <a:lnTo>
                      <a:pt x="98" y="311"/>
                    </a:lnTo>
                    <a:lnTo>
                      <a:pt x="106" y="341"/>
                    </a:lnTo>
                    <a:lnTo>
                      <a:pt x="119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8" y="415"/>
                    </a:lnTo>
                    <a:lnTo>
                      <a:pt x="170" y="423"/>
                    </a:lnTo>
                    <a:lnTo>
                      <a:pt x="184" y="431"/>
                    </a:lnTo>
                    <a:lnTo>
                      <a:pt x="197" y="437"/>
                    </a:lnTo>
                    <a:lnTo>
                      <a:pt x="213" y="441"/>
                    </a:lnTo>
                    <a:lnTo>
                      <a:pt x="229" y="443"/>
                    </a:lnTo>
                    <a:lnTo>
                      <a:pt x="245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5" y="430"/>
                    </a:lnTo>
                    <a:lnTo>
                      <a:pt x="333" y="418"/>
                    </a:lnTo>
                    <a:lnTo>
                      <a:pt x="351" y="405"/>
                    </a:lnTo>
                    <a:lnTo>
                      <a:pt x="366" y="388"/>
                    </a:lnTo>
                    <a:lnTo>
                      <a:pt x="380" y="368"/>
                    </a:lnTo>
                    <a:lnTo>
                      <a:pt x="394" y="348"/>
                    </a:lnTo>
                    <a:lnTo>
                      <a:pt x="475" y="394"/>
                    </a:lnTo>
                    <a:lnTo>
                      <a:pt x="455" y="424"/>
                    </a:lnTo>
                    <a:lnTo>
                      <a:pt x="433" y="451"/>
                    </a:lnTo>
                    <a:lnTo>
                      <a:pt x="407" y="474"/>
                    </a:lnTo>
                    <a:lnTo>
                      <a:pt x="378" y="494"/>
                    </a:lnTo>
                    <a:lnTo>
                      <a:pt x="347" y="509"/>
                    </a:lnTo>
                    <a:lnTo>
                      <a:pt x="315" y="520"/>
                    </a:lnTo>
                    <a:lnTo>
                      <a:pt x="279" y="528"/>
                    </a:lnTo>
                    <a:lnTo>
                      <a:pt x="244" y="530"/>
                    </a:lnTo>
                    <a:lnTo>
                      <a:pt x="217" y="528"/>
                    </a:lnTo>
                    <a:lnTo>
                      <a:pt x="191" y="524"/>
                    </a:lnTo>
                    <a:lnTo>
                      <a:pt x="165" y="518"/>
                    </a:lnTo>
                    <a:lnTo>
                      <a:pt x="142" y="509"/>
                    </a:lnTo>
                    <a:lnTo>
                      <a:pt x="120" y="498"/>
                    </a:lnTo>
                    <a:lnTo>
                      <a:pt x="101" y="485"/>
                    </a:lnTo>
                    <a:lnTo>
                      <a:pt x="82" y="471"/>
                    </a:lnTo>
                    <a:lnTo>
                      <a:pt x="66" y="454"/>
                    </a:lnTo>
                    <a:lnTo>
                      <a:pt x="50" y="435"/>
                    </a:lnTo>
                    <a:lnTo>
                      <a:pt x="37" y="416"/>
                    </a:lnTo>
                    <a:lnTo>
                      <a:pt x="26" y="394"/>
                    </a:lnTo>
                    <a:lnTo>
                      <a:pt x="16" y="371"/>
                    </a:lnTo>
                    <a:lnTo>
                      <a:pt x="10" y="346"/>
                    </a:lnTo>
                    <a:lnTo>
                      <a:pt x="4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4" y="213"/>
                    </a:lnTo>
                    <a:lnTo>
                      <a:pt x="9" y="186"/>
                    </a:lnTo>
                    <a:lnTo>
                      <a:pt x="15" y="161"/>
                    </a:lnTo>
                    <a:lnTo>
                      <a:pt x="24" y="138"/>
                    </a:lnTo>
                    <a:lnTo>
                      <a:pt x="34" y="116"/>
                    </a:lnTo>
                    <a:lnTo>
                      <a:pt x="47" y="95"/>
                    </a:lnTo>
                    <a:lnTo>
                      <a:pt x="61" y="76"/>
                    </a:lnTo>
                    <a:lnTo>
                      <a:pt x="77" y="60"/>
                    </a:lnTo>
                    <a:lnTo>
                      <a:pt x="95" y="45"/>
                    </a:lnTo>
                    <a:lnTo>
                      <a:pt x="115" y="31"/>
                    </a:lnTo>
                    <a:lnTo>
                      <a:pt x="137" y="20"/>
                    </a:lnTo>
                    <a:lnTo>
                      <a:pt x="160" y="12"/>
                    </a:lnTo>
                    <a:lnTo>
                      <a:pt x="185" y="5"/>
                    </a:lnTo>
                    <a:lnTo>
                      <a:pt x="213" y="2"/>
                    </a:lnTo>
                    <a:lnTo>
                      <a:pt x="242" y="0"/>
                    </a:lnTo>
                    <a:lnTo>
                      <a:pt x="271" y="2"/>
                    </a:lnTo>
                    <a:lnTo>
                      <a:pt x="297" y="5"/>
                    </a:lnTo>
                    <a:lnTo>
                      <a:pt x="322" y="12"/>
                    </a:lnTo>
                    <a:lnTo>
                      <a:pt x="345" y="20"/>
                    </a:lnTo>
                    <a:lnTo>
                      <a:pt x="366" y="31"/>
                    </a:lnTo>
                    <a:lnTo>
                      <a:pt x="385" y="45"/>
                    </a:lnTo>
                    <a:lnTo>
                      <a:pt x="402" y="60"/>
                    </a:lnTo>
                    <a:lnTo>
                      <a:pt x="418" y="76"/>
                    </a:lnTo>
                    <a:lnTo>
                      <a:pt x="431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0" y="161"/>
                    </a:lnTo>
                    <a:lnTo>
                      <a:pt x="467" y="185"/>
                    </a:lnTo>
                    <a:lnTo>
                      <a:pt x="471" y="210"/>
                    </a:lnTo>
                    <a:lnTo>
                      <a:pt x="474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5" y="280"/>
                    </a:lnTo>
                    <a:close/>
                    <a:moveTo>
                      <a:pt x="379" y="207"/>
                    </a:moveTo>
                    <a:lnTo>
                      <a:pt x="373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5" y="117"/>
                    </a:lnTo>
                    <a:lnTo>
                      <a:pt x="316" y="103"/>
                    </a:lnTo>
                    <a:lnTo>
                      <a:pt x="294" y="92"/>
                    </a:lnTo>
                    <a:lnTo>
                      <a:pt x="270" y="85"/>
                    </a:lnTo>
                    <a:lnTo>
                      <a:pt x="242" y="83"/>
                    </a:lnTo>
                    <a:lnTo>
                      <a:pt x="215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1" y="137"/>
                    </a:lnTo>
                    <a:lnTo>
                      <a:pt x="117" y="158"/>
                    </a:lnTo>
                    <a:lnTo>
                      <a:pt x="107" y="182"/>
                    </a:lnTo>
                    <a:lnTo>
                      <a:pt x="101" y="207"/>
                    </a:lnTo>
                    <a:lnTo>
                      <a:pt x="379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177200" y="846000"/>
                <a:ext cx="2052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211400" y="882720"/>
                <a:ext cx="9972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7" y="280"/>
                    </a:moveTo>
                    <a:lnTo>
                      <a:pt x="99" y="311"/>
                    </a:lnTo>
                    <a:lnTo>
                      <a:pt x="108" y="341"/>
                    </a:lnTo>
                    <a:lnTo>
                      <a:pt x="120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9" y="415"/>
                    </a:lnTo>
                    <a:lnTo>
                      <a:pt x="171" y="423"/>
                    </a:lnTo>
                    <a:lnTo>
                      <a:pt x="185" y="431"/>
                    </a:lnTo>
                    <a:lnTo>
                      <a:pt x="199" y="437"/>
                    </a:lnTo>
                    <a:lnTo>
                      <a:pt x="213" y="441"/>
                    </a:lnTo>
                    <a:lnTo>
                      <a:pt x="230" y="443"/>
                    </a:lnTo>
                    <a:lnTo>
                      <a:pt x="246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6" y="430"/>
                    </a:lnTo>
                    <a:lnTo>
                      <a:pt x="335" y="418"/>
                    </a:lnTo>
                    <a:lnTo>
                      <a:pt x="351" y="405"/>
                    </a:lnTo>
                    <a:lnTo>
                      <a:pt x="367" y="388"/>
                    </a:lnTo>
                    <a:lnTo>
                      <a:pt x="381" y="368"/>
                    </a:lnTo>
                    <a:lnTo>
                      <a:pt x="395" y="348"/>
                    </a:lnTo>
                    <a:lnTo>
                      <a:pt x="475" y="394"/>
                    </a:lnTo>
                    <a:lnTo>
                      <a:pt x="457" y="424"/>
                    </a:lnTo>
                    <a:lnTo>
                      <a:pt x="434" y="451"/>
                    </a:lnTo>
                    <a:lnTo>
                      <a:pt x="407" y="474"/>
                    </a:lnTo>
                    <a:lnTo>
                      <a:pt x="379" y="494"/>
                    </a:lnTo>
                    <a:lnTo>
                      <a:pt x="348" y="509"/>
                    </a:lnTo>
                    <a:lnTo>
                      <a:pt x="315" y="520"/>
                    </a:lnTo>
                    <a:lnTo>
                      <a:pt x="281" y="528"/>
                    </a:lnTo>
                    <a:lnTo>
                      <a:pt x="245" y="530"/>
                    </a:lnTo>
                    <a:lnTo>
                      <a:pt x="218" y="528"/>
                    </a:lnTo>
                    <a:lnTo>
                      <a:pt x="191" y="524"/>
                    </a:lnTo>
                    <a:lnTo>
                      <a:pt x="166" y="518"/>
                    </a:lnTo>
                    <a:lnTo>
                      <a:pt x="143" y="509"/>
                    </a:lnTo>
                    <a:lnTo>
                      <a:pt x="121" y="498"/>
                    </a:lnTo>
                    <a:lnTo>
                      <a:pt x="101" y="485"/>
                    </a:lnTo>
                    <a:lnTo>
                      <a:pt x="83" y="471"/>
                    </a:lnTo>
                    <a:lnTo>
                      <a:pt x="66" y="454"/>
                    </a:lnTo>
                    <a:lnTo>
                      <a:pt x="51" y="435"/>
                    </a:lnTo>
                    <a:lnTo>
                      <a:pt x="38" y="416"/>
                    </a:lnTo>
                    <a:lnTo>
                      <a:pt x="27" y="394"/>
                    </a:lnTo>
                    <a:lnTo>
                      <a:pt x="18" y="371"/>
                    </a:lnTo>
                    <a:lnTo>
                      <a:pt x="10" y="346"/>
                    </a:lnTo>
                    <a:lnTo>
                      <a:pt x="5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5" y="213"/>
                    </a:lnTo>
                    <a:lnTo>
                      <a:pt x="9" y="186"/>
                    </a:lnTo>
                    <a:lnTo>
                      <a:pt x="16" y="161"/>
                    </a:lnTo>
                    <a:lnTo>
                      <a:pt x="24" y="138"/>
                    </a:lnTo>
                    <a:lnTo>
                      <a:pt x="35" y="116"/>
                    </a:lnTo>
                    <a:lnTo>
                      <a:pt x="48" y="95"/>
                    </a:lnTo>
                    <a:lnTo>
                      <a:pt x="62" y="76"/>
                    </a:lnTo>
                    <a:lnTo>
                      <a:pt x="78" y="60"/>
                    </a:lnTo>
                    <a:lnTo>
                      <a:pt x="96" y="45"/>
                    </a:lnTo>
                    <a:lnTo>
                      <a:pt x="116" y="31"/>
                    </a:lnTo>
                    <a:lnTo>
                      <a:pt x="137" y="20"/>
                    </a:lnTo>
                    <a:lnTo>
                      <a:pt x="162" y="12"/>
                    </a:lnTo>
                    <a:lnTo>
                      <a:pt x="187" y="5"/>
                    </a:lnTo>
                    <a:lnTo>
                      <a:pt x="214" y="2"/>
                    </a:lnTo>
                    <a:lnTo>
                      <a:pt x="243" y="0"/>
                    </a:lnTo>
                    <a:lnTo>
                      <a:pt x="271" y="2"/>
                    </a:lnTo>
                    <a:lnTo>
                      <a:pt x="299" y="5"/>
                    </a:lnTo>
                    <a:lnTo>
                      <a:pt x="323" y="12"/>
                    </a:lnTo>
                    <a:lnTo>
                      <a:pt x="346" y="20"/>
                    </a:lnTo>
                    <a:lnTo>
                      <a:pt x="367" y="31"/>
                    </a:lnTo>
                    <a:lnTo>
                      <a:pt x="386" y="45"/>
                    </a:lnTo>
                    <a:lnTo>
                      <a:pt x="403" y="60"/>
                    </a:lnTo>
                    <a:lnTo>
                      <a:pt x="418" y="76"/>
                    </a:lnTo>
                    <a:lnTo>
                      <a:pt x="432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1" y="161"/>
                    </a:lnTo>
                    <a:lnTo>
                      <a:pt x="468" y="185"/>
                    </a:lnTo>
                    <a:lnTo>
                      <a:pt x="472" y="210"/>
                    </a:lnTo>
                    <a:lnTo>
                      <a:pt x="475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7" y="280"/>
                    </a:lnTo>
                    <a:close/>
                    <a:moveTo>
                      <a:pt x="380" y="207"/>
                    </a:moveTo>
                    <a:lnTo>
                      <a:pt x="374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6" y="117"/>
                    </a:lnTo>
                    <a:lnTo>
                      <a:pt x="317" y="103"/>
                    </a:lnTo>
                    <a:lnTo>
                      <a:pt x="295" y="92"/>
                    </a:lnTo>
                    <a:lnTo>
                      <a:pt x="270" y="85"/>
                    </a:lnTo>
                    <a:lnTo>
                      <a:pt x="243" y="83"/>
                    </a:lnTo>
                    <a:lnTo>
                      <a:pt x="216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2" y="137"/>
                    </a:lnTo>
                    <a:lnTo>
                      <a:pt x="119" y="158"/>
                    </a:lnTo>
                    <a:lnTo>
                      <a:pt x="108" y="182"/>
                    </a:lnTo>
                    <a:lnTo>
                      <a:pt x="101" y="207"/>
                    </a:lnTo>
                    <a:lnTo>
                      <a:pt x="380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1326960" y="882720"/>
                <a:ext cx="84240" cy="101520"/>
              </a:xfrm>
              <a:custGeom>
                <a:avLst/>
                <a:gdLst/>
                <a:ahLst/>
                <a:rect l="l" t="t" r="r" b="b"/>
                <a:pathLst>
                  <a:path w="404" h="530">
                    <a:moveTo>
                      <a:pt x="404" y="157"/>
                    </a:moveTo>
                    <a:lnTo>
                      <a:pt x="389" y="141"/>
                    </a:lnTo>
                    <a:lnTo>
                      <a:pt x="373" y="127"/>
                    </a:lnTo>
                    <a:lnTo>
                      <a:pt x="358" y="116"/>
                    </a:lnTo>
                    <a:lnTo>
                      <a:pt x="340" y="106"/>
                    </a:lnTo>
                    <a:lnTo>
                      <a:pt x="321" y="99"/>
                    </a:lnTo>
                    <a:lnTo>
                      <a:pt x="303" y="94"/>
                    </a:lnTo>
                    <a:lnTo>
                      <a:pt x="283" y="91"/>
                    </a:lnTo>
                    <a:lnTo>
                      <a:pt x="261" y="90"/>
                    </a:lnTo>
                    <a:lnTo>
                      <a:pt x="245" y="91"/>
                    </a:lnTo>
                    <a:lnTo>
                      <a:pt x="227" y="93"/>
                    </a:lnTo>
                    <a:lnTo>
                      <a:pt x="212" y="97"/>
                    </a:lnTo>
                    <a:lnTo>
                      <a:pt x="196" y="104"/>
                    </a:lnTo>
                    <a:lnTo>
                      <a:pt x="182" y="112"/>
                    </a:lnTo>
                    <a:lnTo>
                      <a:pt x="168" y="120"/>
                    </a:lnTo>
                    <a:lnTo>
                      <a:pt x="156" y="130"/>
                    </a:lnTo>
                    <a:lnTo>
                      <a:pt x="144" y="142"/>
                    </a:lnTo>
                    <a:lnTo>
                      <a:pt x="133" y="154"/>
                    </a:lnTo>
                    <a:lnTo>
                      <a:pt x="124" y="169"/>
                    </a:lnTo>
                    <a:lnTo>
                      <a:pt x="115" y="183"/>
                    </a:lnTo>
                    <a:lnTo>
                      <a:pt x="109" y="198"/>
                    </a:lnTo>
                    <a:lnTo>
                      <a:pt x="103" y="214"/>
                    </a:lnTo>
                    <a:lnTo>
                      <a:pt x="99" y="230"/>
                    </a:lnTo>
                    <a:lnTo>
                      <a:pt x="97" y="247"/>
                    </a:lnTo>
                    <a:lnTo>
                      <a:pt x="96" y="264"/>
                    </a:lnTo>
                    <a:lnTo>
                      <a:pt x="97" y="283"/>
                    </a:lnTo>
                    <a:lnTo>
                      <a:pt x="99" y="300"/>
                    </a:lnTo>
                    <a:lnTo>
                      <a:pt x="103" y="318"/>
                    </a:lnTo>
                    <a:lnTo>
                      <a:pt x="109" y="334"/>
                    </a:lnTo>
                    <a:lnTo>
                      <a:pt x="115" y="350"/>
                    </a:lnTo>
                    <a:lnTo>
                      <a:pt x="124" y="364"/>
                    </a:lnTo>
                    <a:lnTo>
                      <a:pt x="133" y="378"/>
                    </a:lnTo>
                    <a:lnTo>
                      <a:pt x="144" y="390"/>
                    </a:lnTo>
                    <a:lnTo>
                      <a:pt x="156" y="401"/>
                    </a:lnTo>
                    <a:lnTo>
                      <a:pt x="169" y="411"/>
                    </a:lnTo>
                    <a:lnTo>
                      <a:pt x="183" y="420"/>
                    </a:lnTo>
                    <a:lnTo>
                      <a:pt x="199" y="427"/>
                    </a:lnTo>
                    <a:lnTo>
                      <a:pt x="215" y="432"/>
                    </a:lnTo>
                    <a:lnTo>
                      <a:pt x="232" y="437"/>
                    </a:lnTo>
                    <a:lnTo>
                      <a:pt x="249" y="439"/>
                    </a:lnTo>
                    <a:lnTo>
                      <a:pt x="268" y="440"/>
                    </a:lnTo>
                    <a:lnTo>
                      <a:pt x="289" y="439"/>
                    </a:lnTo>
                    <a:lnTo>
                      <a:pt x="307" y="435"/>
                    </a:lnTo>
                    <a:lnTo>
                      <a:pt x="326" y="430"/>
                    </a:lnTo>
                    <a:lnTo>
                      <a:pt x="343" y="422"/>
                    </a:lnTo>
                    <a:lnTo>
                      <a:pt x="360" y="412"/>
                    </a:lnTo>
                    <a:lnTo>
                      <a:pt x="375" y="401"/>
                    </a:lnTo>
                    <a:lnTo>
                      <a:pt x="389" y="388"/>
                    </a:lnTo>
                    <a:lnTo>
                      <a:pt x="404" y="374"/>
                    </a:lnTo>
                    <a:lnTo>
                      <a:pt x="404" y="497"/>
                    </a:lnTo>
                    <a:lnTo>
                      <a:pt x="371" y="511"/>
                    </a:lnTo>
                    <a:lnTo>
                      <a:pt x="338" y="522"/>
                    </a:lnTo>
                    <a:lnTo>
                      <a:pt x="303" y="528"/>
                    </a:lnTo>
                    <a:lnTo>
                      <a:pt x="267" y="530"/>
                    </a:lnTo>
                    <a:lnTo>
                      <a:pt x="239" y="528"/>
                    </a:lnTo>
                    <a:lnTo>
                      <a:pt x="213" y="524"/>
                    </a:lnTo>
                    <a:lnTo>
                      <a:pt x="188" y="518"/>
                    </a:lnTo>
                    <a:lnTo>
                      <a:pt x="164" y="509"/>
                    </a:lnTo>
                    <a:lnTo>
                      <a:pt x="140" y="499"/>
                    </a:lnTo>
                    <a:lnTo>
                      <a:pt x="119" y="486"/>
                    </a:lnTo>
                    <a:lnTo>
                      <a:pt x="98" y="472"/>
                    </a:lnTo>
                    <a:lnTo>
                      <a:pt x="79" y="454"/>
                    </a:lnTo>
                    <a:lnTo>
                      <a:pt x="62" y="437"/>
                    </a:lnTo>
                    <a:lnTo>
                      <a:pt x="46" y="416"/>
                    </a:lnTo>
                    <a:lnTo>
                      <a:pt x="33" y="395"/>
                    </a:lnTo>
                    <a:lnTo>
                      <a:pt x="21" y="372"/>
                    </a:lnTo>
                    <a:lnTo>
                      <a:pt x="12" y="348"/>
                    </a:lnTo>
                    <a:lnTo>
                      <a:pt x="6" y="322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6" y="213"/>
                    </a:lnTo>
                    <a:lnTo>
                      <a:pt x="12" y="186"/>
                    </a:lnTo>
                    <a:lnTo>
                      <a:pt x="21" y="161"/>
                    </a:lnTo>
                    <a:lnTo>
                      <a:pt x="33" y="138"/>
                    </a:lnTo>
                    <a:lnTo>
                      <a:pt x="46" y="115"/>
                    </a:lnTo>
                    <a:lnTo>
                      <a:pt x="62" y="95"/>
                    </a:lnTo>
                    <a:lnTo>
                      <a:pt x="79" y="76"/>
                    </a:lnTo>
                    <a:lnTo>
                      <a:pt x="98" y="59"/>
                    </a:lnTo>
                    <a:lnTo>
                      <a:pt x="119" y="45"/>
                    </a:lnTo>
                    <a:lnTo>
                      <a:pt x="142" y="31"/>
                    </a:lnTo>
                    <a:lnTo>
                      <a:pt x="165" y="20"/>
                    </a:lnTo>
                    <a:lnTo>
                      <a:pt x="190" y="12"/>
                    </a:lnTo>
                    <a:lnTo>
                      <a:pt x="216" y="5"/>
                    </a:lnTo>
                    <a:lnTo>
                      <a:pt x="244" y="2"/>
                    </a:lnTo>
                    <a:lnTo>
                      <a:pt x="272" y="0"/>
                    </a:lnTo>
                    <a:lnTo>
                      <a:pt x="306" y="2"/>
                    </a:lnTo>
                    <a:lnTo>
                      <a:pt x="340" y="8"/>
                    </a:lnTo>
                    <a:lnTo>
                      <a:pt x="373" y="18"/>
                    </a:lnTo>
                    <a:lnTo>
                      <a:pt x="404" y="32"/>
                    </a:lnTo>
                    <a:lnTo>
                      <a:pt x="404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423440" y="882720"/>
                <a:ext cx="111600" cy="101520"/>
              </a:xfrm>
              <a:custGeom>
                <a:avLst/>
                <a:gdLst/>
                <a:ahLst/>
                <a:rect l="l" t="t" r="r" b="b"/>
                <a:pathLst>
                  <a:path w="532" h="530">
                    <a:moveTo>
                      <a:pt x="532" y="264"/>
                    </a:moveTo>
                    <a:lnTo>
                      <a:pt x="530" y="293"/>
                    </a:lnTo>
                    <a:lnTo>
                      <a:pt x="527" y="319"/>
                    </a:lnTo>
                    <a:lnTo>
                      <a:pt x="520" y="344"/>
                    </a:lnTo>
                    <a:lnTo>
                      <a:pt x="511" y="370"/>
                    </a:lnTo>
                    <a:lnTo>
                      <a:pt x="501" y="393"/>
                    </a:lnTo>
                    <a:lnTo>
                      <a:pt x="487" y="415"/>
                    </a:lnTo>
                    <a:lnTo>
                      <a:pt x="472" y="434"/>
                    </a:lnTo>
                    <a:lnTo>
                      <a:pt x="454" y="453"/>
                    </a:lnTo>
                    <a:lnTo>
                      <a:pt x="436" y="471"/>
                    </a:lnTo>
                    <a:lnTo>
                      <a:pt x="416" y="485"/>
                    </a:lnTo>
                    <a:lnTo>
                      <a:pt x="394" y="498"/>
                    </a:lnTo>
                    <a:lnTo>
                      <a:pt x="370" y="509"/>
                    </a:lnTo>
                    <a:lnTo>
                      <a:pt x="346" y="518"/>
                    </a:lnTo>
                    <a:lnTo>
                      <a:pt x="321" y="524"/>
                    </a:lnTo>
                    <a:lnTo>
                      <a:pt x="293" y="528"/>
                    </a:lnTo>
                    <a:lnTo>
                      <a:pt x="266" y="530"/>
                    </a:lnTo>
                    <a:lnTo>
                      <a:pt x="238" y="528"/>
                    </a:lnTo>
                    <a:lnTo>
                      <a:pt x="212" y="524"/>
                    </a:lnTo>
                    <a:lnTo>
                      <a:pt x="187" y="518"/>
                    </a:lnTo>
                    <a:lnTo>
                      <a:pt x="162" y="509"/>
                    </a:lnTo>
                    <a:lnTo>
                      <a:pt x="139" y="498"/>
                    </a:lnTo>
                    <a:lnTo>
                      <a:pt x="117" y="485"/>
                    </a:lnTo>
                    <a:lnTo>
                      <a:pt x="97" y="471"/>
                    </a:lnTo>
                    <a:lnTo>
                      <a:pt x="78" y="453"/>
                    </a:lnTo>
                    <a:lnTo>
                      <a:pt x="61" y="434"/>
                    </a:lnTo>
                    <a:lnTo>
                      <a:pt x="45" y="415"/>
                    </a:lnTo>
                    <a:lnTo>
                      <a:pt x="32" y="393"/>
                    </a:lnTo>
                    <a:lnTo>
                      <a:pt x="21" y="370"/>
                    </a:lnTo>
                    <a:lnTo>
                      <a:pt x="12" y="344"/>
                    </a:lnTo>
                    <a:lnTo>
                      <a:pt x="6" y="319"/>
                    </a:lnTo>
                    <a:lnTo>
                      <a:pt x="3" y="293"/>
                    </a:lnTo>
                    <a:lnTo>
                      <a:pt x="0" y="264"/>
                    </a:lnTo>
                    <a:lnTo>
                      <a:pt x="3" y="237"/>
                    </a:lnTo>
                    <a:lnTo>
                      <a:pt x="6" y="210"/>
                    </a:lnTo>
                    <a:lnTo>
                      <a:pt x="12" y="185"/>
                    </a:lnTo>
                    <a:lnTo>
                      <a:pt x="21" y="160"/>
                    </a:lnTo>
                    <a:lnTo>
                      <a:pt x="32" y="137"/>
                    </a:lnTo>
                    <a:lnTo>
                      <a:pt x="45" y="115"/>
                    </a:lnTo>
                    <a:lnTo>
                      <a:pt x="61" y="95"/>
                    </a:lnTo>
                    <a:lnTo>
                      <a:pt x="78" y="76"/>
                    </a:lnTo>
                    <a:lnTo>
                      <a:pt x="97" y="59"/>
                    </a:lnTo>
                    <a:lnTo>
                      <a:pt x="117" y="45"/>
                    </a:lnTo>
                    <a:lnTo>
                      <a:pt x="139" y="31"/>
                    </a:lnTo>
                    <a:lnTo>
                      <a:pt x="162" y="20"/>
                    </a:lnTo>
                    <a:lnTo>
                      <a:pt x="187" y="12"/>
                    </a:lnTo>
                    <a:lnTo>
                      <a:pt x="212" y="5"/>
                    </a:lnTo>
                    <a:lnTo>
                      <a:pt x="238" y="2"/>
                    </a:lnTo>
                    <a:lnTo>
                      <a:pt x="266" y="0"/>
                    </a:lnTo>
                    <a:lnTo>
                      <a:pt x="293" y="2"/>
                    </a:lnTo>
                    <a:lnTo>
                      <a:pt x="321" y="5"/>
                    </a:lnTo>
                    <a:lnTo>
                      <a:pt x="346" y="12"/>
                    </a:lnTo>
                    <a:lnTo>
                      <a:pt x="370" y="20"/>
                    </a:lnTo>
                    <a:lnTo>
                      <a:pt x="394" y="31"/>
                    </a:lnTo>
                    <a:lnTo>
                      <a:pt x="416" y="45"/>
                    </a:lnTo>
                    <a:lnTo>
                      <a:pt x="436" y="59"/>
                    </a:lnTo>
                    <a:lnTo>
                      <a:pt x="454" y="76"/>
                    </a:lnTo>
                    <a:lnTo>
                      <a:pt x="472" y="95"/>
                    </a:lnTo>
                    <a:lnTo>
                      <a:pt x="487" y="115"/>
                    </a:lnTo>
                    <a:lnTo>
                      <a:pt x="501" y="137"/>
                    </a:lnTo>
                    <a:lnTo>
                      <a:pt x="511" y="160"/>
                    </a:lnTo>
                    <a:lnTo>
                      <a:pt x="520" y="185"/>
                    </a:lnTo>
                    <a:lnTo>
                      <a:pt x="527" y="210"/>
                    </a:lnTo>
                    <a:lnTo>
                      <a:pt x="530" y="237"/>
                    </a:lnTo>
                    <a:lnTo>
                      <a:pt x="532" y="264"/>
                    </a:lnTo>
                    <a:close/>
                    <a:moveTo>
                      <a:pt x="96" y="264"/>
                    </a:moveTo>
                    <a:lnTo>
                      <a:pt x="97" y="282"/>
                    </a:lnTo>
                    <a:lnTo>
                      <a:pt x="100" y="299"/>
                    </a:lnTo>
                    <a:lnTo>
                      <a:pt x="103" y="316"/>
                    </a:lnTo>
                    <a:lnTo>
                      <a:pt x="110" y="331"/>
                    </a:lnTo>
                    <a:lnTo>
                      <a:pt x="117" y="346"/>
                    </a:lnTo>
                    <a:lnTo>
                      <a:pt x="125" y="361"/>
                    </a:lnTo>
                    <a:lnTo>
                      <a:pt x="135" y="374"/>
                    </a:lnTo>
                    <a:lnTo>
                      <a:pt x="146" y="386"/>
                    </a:lnTo>
                    <a:lnTo>
                      <a:pt x="158" y="398"/>
                    </a:lnTo>
                    <a:lnTo>
                      <a:pt x="171" y="408"/>
                    </a:lnTo>
                    <a:lnTo>
                      <a:pt x="185" y="417"/>
                    </a:lnTo>
                    <a:lnTo>
                      <a:pt x="200" y="424"/>
                    </a:lnTo>
                    <a:lnTo>
                      <a:pt x="215" y="430"/>
                    </a:lnTo>
                    <a:lnTo>
                      <a:pt x="232" y="434"/>
                    </a:lnTo>
                    <a:lnTo>
                      <a:pt x="248" y="437"/>
                    </a:lnTo>
                    <a:lnTo>
                      <a:pt x="266" y="438"/>
                    </a:lnTo>
                    <a:lnTo>
                      <a:pt x="283" y="437"/>
                    </a:lnTo>
                    <a:lnTo>
                      <a:pt x="301" y="434"/>
                    </a:lnTo>
                    <a:lnTo>
                      <a:pt x="317" y="430"/>
                    </a:lnTo>
                    <a:lnTo>
                      <a:pt x="333" y="424"/>
                    </a:lnTo>
                    <a:lnTo>
                      <a:pt x="348" y="417"/>
                    </a:lnTo>
                    <a:lnTo>
                      <a:pt x="361" y="408"/>
                    </a:lnTo>
                    <a:lnTo>
                      <a:pt x="374" y="398"/>
                    </a:lnTo>
                    <a:lnTo>
                      <a:pt x="386" y="386"/>
                    </a:lnTo>
                    <a:lnTo>
                      <a:pt x="397" y="374"/>
                    </a:lnTo>
                    <a:lnTo>
                      <a:pt x="407" y="361"/>
                    </a:lnTo>
                    <a:lnTo>
                      <a:pt x="416" y="346"/>
                    </a:lnTo>
                    <a:lnTo>
                      <a:pt x="423" y="331"/>
                    </a:lnTo>
                    <a:lnTo>
                      <a:pt x="428" y="316"/>
                    </a:lnTo>
                    <a:lnTo>
                      <a:pt x="433" y="299"/>
                    </a:lnTo>
                    <a:lnTo>
                      <a:pt x="436" y="282"/>
                    </a:lnTo>
                    <a:lnTo>
                      <a:pt x="436" y="264"/>
                    </a:lnTo>
                    <a:lnTo>
                      <a:pt x="436" y="248"/>
                    </a:lnTo>
                    <a:lnTo>
                      <a:pt x="433" y="230"/>
                    </a:lnTo>
                    <a:lnTo>
                      <a:pt x="428" y="214"/>
                    </a:lnTo>
                    <a:lnTo>
                      <a:pt x="423" y="197"/>
                    </a:lnTo>
                    <a:lnTo>
                      <a:pt x="416" y="183"/>
                    </a:lnTo>
                    <a:lnTo>
                      <a:pt x="407" y="169"/>
                    </a:lnTo>
                    <a:lnTo>
                      <a:pt x="397" y="154"/>
                    </a:lnTo>
                    <a:lnTo>
                      <a:pt x="386" y="142"/>
                    </a:lnTo>
                    <a:lnTo>
                      <a:pt x="374" y="131"/>
                    </a:lnTo>
                    <a:lnTo>
                      <a:pt x="361" y="121"/>
                    </a:lnTo>
                    <a:lnTo>
                      <a:pt x="348" y="113"/>
                    </a:lnTo>
                    <a:lnTo>
                      <a:pt x="333" y="105"/>
                    </a:lnTo>
                    <a:lnTo>
                      <a:pt x="317" y="99"/>
                    </a:lnTo>
                    <a:lnTo>
                      <a:pt x="301" y="95"/>
                    </a:lnTo>
                    <a:lnTo>
                      <a:pt x="283" y="92"/>
                    </a:lnTo>
                    <a:lnTo>
                      <a:pt x="266" y="92"/>
                    </a:lnTo>
                    <a:lnTo>
                      <a:pt x="248" y="92"/>
                    </a:lnTo>
                    <a:lnTo>
                      <a:pt x="232" y="95"/>
                    </a:lnTo>
                    <a:lnTo>
                      <a:pt x="215" y="99"/>
                    </a:lnTo>
                    <a:lnTo>
                      <a:pt x="200" y="105"/>
                    </a:lnTo>
                    <a:lnTo>
                      <a:pt x="185" y="113"/>
                    </a:lnTo>
                    <a:lnTo>
                      <a:pt x="171" y="121"/>
                    </a:lnTo>
                    <a:lnTo>
                      <a:pt x="158" y="131"/>
                    </a:lnTo>
                    <a:lnTo>
                      <a:pt x="146" y="142"/>
                    </a:lnTo>
                    <a:lnTo>
                      <a:pt x="135" y="154"/>
                    </a:lnTo>
                    <a:lnTo>
                      <a:pt x="125" y="169"/>
                    </a:lnTo>
                    <a:lnTo>
                      <a:pt x="117" y="183"/>
                    </a:lnTo>
                    <a:lnTo>
                      <a:pt x="110" y="197"/>
                    </a:lnTo>
                    <a:lnTo>
                      <a:pt x="103" y="214"/>
                    </a:lnTo>
                    <a:lnTo>
                      <a:pt x="100" y="230"/>
                    </a:lnTo>
                    <a:lnTo>
                      <a:pt x="97" y="248"/>
                    </a:lnTo>
                    <a:lnTo>
                      <a:pt x="96" y="2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549440" y="882720"/>
                <a:ext cx="144360" cy="98280"/>
              </a:xfrm>
              <a:custGeom>
                <a:avLst/>
                <a:gdLst/>
                <a:ahLst/>
                <a:rect l="l" t="t" r="r" b="b"/>
                <a:pathLst>
                  <a:path w="690" h="512">
                    <a:moveTo>
                      <a:pt x="96" y="77"/>
                    </a:moveTo>
                    <a:lnTo>
                      <a:pt x="98" y="77"/>
                    </a:lnTo>
                    <a:lnTo>
                      <a:pt x="109" y="62"/>
                    </a:lnTo>
                    <a:lnTo>
                      <a:pt x="122" y="47"/>
                    </a:lnTo>
                    <a:lnTo>
                      <a:pt x="137" y="34"/>
                    </a:lnTo>
                    <a:lnTo>
                      <a:pt x="154" y="23"/>
                    </a:lnTo>
                    <a:lnTo>
                      <a:pt x="171" y="13"/>
                    </a:lnTo>
                    <a:lnTo>
                      <a:pt x="190" y="6"/>
                    </a:lnTo>
                    <a:lnTo>
                      <a:pt x="210" y="2"/>
                    </a:lnTo>
                    <a:lnTo>
                      <a:pt x="229" y="0"/>
                    </a:lnTo>
                    <a:lnTo>
                      <a:pt x="253" y="2"/>
                    </a:lnTo>
                    <a:lnTo>
                      <a:pt x="274" y="6"/>
                    </a:lnTo>
                    <a:lnTo>
                      <a:pt x="295" y="13"/>
                    </a:lnTo>
                    <a:lnTo>
                      <a:pt x="314" y="24"/>
                    </a:lnTo>
                    <a:lnTo>
                      <a:pt x="330" y="36"/>
                    </a:lnTo>
                    <a:lnTo>
                      <a:pt x="346" y="51"/>
                    </a:lnTo>
                    <a:lnTo>
                      <a:pt x="360" y="69"/>
                    </a:lnTo>
                    <a:lnTo>
                      <a:pt x="373" y="88"/>
                    </a:lnTo>
                    <a:lnTo>
                      <a:pt x="385" y="69"/>
                    </a:lnTo>
                    <a:lnTo>
                      <a:pt x="401" y="52"/>
                    </a:lnTo>
                    <a:lnTo>
                      <a:pt x="418" y="37"/>
                    </a:lnTo>
                    <a:lnTo>
                      <a:pt x="438" y="24"/>
                    </a:lnTo>
                    <a:lnTo>
                      <a:pt x="458" y="14"/>
                    </a:lnTo>
                    <a:lnTo>
                      <a:pt x="480" y="6"/>
                    </a:lnTo>
                    <a:lnTo>
                      <a:pt x="503" y="2"/>
                    </a:lnTo>
                    <a:lnTo>
                      <a:pt x="526" y="0"/>
                    </a:lnTo>
                    <a:lnTo>
                      <a:pt x="550" y="1"/>
                    </a:lnTo>
                    <a:lnTo>
                      <a:pt x="571" y="5"/>
                    </a:lnTo>
                    <a:lnTo>
                      <a:pt x="589" y="11"/>
                    </a:lnTo>
                    <a:lnTo>
                      <a:pt x="607" y="17"/>
                    </a:lnTo>
                    <a:lnTo>
                      <a:pt x="622" y="27"/>
                    </a:lnTo>
                    <a:lnTo>
                      <a:pt x="635" y="38"/>
                    </a:lnTo>
                    <a:lnTo>
                      <a:pt x="647" y="51"/>
                    </a:lnTo>
                    <a:lnTo>
                      <a:pt x="657" y="65"/>
                    </a:lnTo>
                    <a:lnTo>
                      <a:pt x="666" y="81"/>
                    </a:lnTo>
                    <a:lnTo>
                      <a:pt x="673" y="97"/>
                    </a:lnTo>
                    <a:lnTo>
                      <a:pt x="678" y="115"/>
                    </a:lnTo>
                    <a:lnTo>
                      <a:pt x="684" y="133"/>
                    </a:lnTo>
                    <a:lnTo>
                      <a:pt x="689" y="173"/>
                    </a:lnTo>
                    <a:lnTo>
                      <a:pt x="690" y="215"/>
                    </a:lnTo>
                    <a:lnTo>
                      <a:pt x="690" y="512"/>
                    </a:lnTo>
                    <a:lnTo>
                      <a:pt x="595" y="512"/>
                    </a:lnTo>
                    <a:lnTo>
                      <a:pt x="595" y="230"/>
                    </a:lnTo>
                    <a:lnTo>
                      <a:pt x="595" y="206"/>
                    </a:lnTo>
                    <a:lnTo>
                      <a:pt x="593" y="181"/>
                    </a:lnTo>
                    <a:lnTo>
                      <a:pt x="588" y="157"/>
                    </a:lnTo>
                    <a:lnTo>
                      <a:pt x="580" y="133"/>
                    </a:lnTo>
                    <a:lnTo>
                      <a:pt x="568" y="114"/>
                    </a:lnTo>
                    <a:lnTo>
                      <a:pt x="561" y="106"/>
                    </a:lnTo>
                    <a:lnTo>
                      <a:pt x="552" y="98"/>
                    </a:lnTo>
                    <a:lnTo>
                      <a:pt x="542" y="93"/>
                    </a:lnTo>
                    <a:lnTo>
                      <a:pt x="531" y="88"/>
                    </a:lnTo>
                    <a:lnTo>
                      <a:pt x="517" y="86"/>
                    </a:lnTo>
                    <a:lnTo>
                      <a:pt x="503" y="85"/>
                    </a:lnTo>
                    <a:lnTo>
                      <a:pt x="484" y="86"/>
                    </a:lnTo>
                    <a:lnTo>
                      <a:pt x="469" y="90"/>
                    </a:lnTo>
                    <a:lnTo>
                      <a:pt x="454" y="95"/>
                    </a:lnTo>
                    <a:lnTo>
                      <a:pt x="442" y="103"/>
                    </a:lnTo>
                    <a:lnTo>
                      <a:pt x="432" y="112"/>
                    </a:lnTo>
                    <a:lnTo>
                      <a:pt x="423" y="123"/>
                    </a:lnTo>
                    <a:lnTo>
                      <a:pt x="416" y="135"/>
                    </a:lnTo>
                    <a:lnTo>
                      <a:pt x="409" y="148"/>
                    </a:lnTo>
                    <a:lnTo>
                      <a:pt x="401" y="176"/>
                    </a:lnTo>
                    <a:lnTo>
                      <a:pt x="396" y="207"/>
                    </a:lnTo>
                    <a:lnTo>
                      <a:pt x="394" y="238"/>
                    </a:lnTo>
                    <a:lnTo>
                      <a:pt x="393" y="267"/>
                    </a:lnTo>
                    <a:lnTo>
                      <a:pt x="393" y="512"/>
                    </a:lnTo>
                    <a:lnTo>
                      <a:pt x="297" y="512"/>
                    </a:lnTo>
                    <a:lnTo>
                      <a:pt x="297" y="249"/>
                    </a:lnTo>
                    <a:lnTo>
                      <a:pt x="297" y="224"/>
                    </a:lnTo>
                    <a:lnTo>
                      <a:pt x="295" y="196"/>
                    </a:lnTo>
                    <a:lnTo>
                      <a:pt x="292" y="169"/>
                    </a:lnTo>
                    <a:lnTo>
                      <a:pt x="285" y="142"/>
                    </a:lnTo>
                    <a:lnTo>
                      <a:pt x="280" y="130"/>
                    </a:lnTo>
                    <a:lnTo>
                      <a:pt x="273" y="119"/>
                    </a:lnTo>
                    <a:lnTo>
                      <a:pt x="267" y="110"/>
                    </a:lnTo>
                    <a:lnTo>
                      <a:pt x="258" y="102"/>
                    </a:lnTo>
                    <a:lnTo>
                      <a:pt x="247" y="95"/>
                    </a:lnTo>
                    <a:lnTo>
                      <a:pt x="235" y="90"/>
                    </a:lnTo>
                    <a:lnTo>
                      <a:pt x="222" y="86"/>
                    </a:lnTo>
                    <a:lnTo>
                      <a:pt x="206" y="85"/>
                    </a:lnTo>
                    <a:lnTo>
                      <a:pt x="188" y="86"/>
                    </a:lnTo>
                    <a:lnTo>
                      <a:pt x="172" y="90"/>
                    </a:lnTo>
                    <a:lnTo>
                      <a:pt x="158" y="95"/>
                    </a:lnTo>
                    <a:lnTo>
                      <a:pt x="146" y="103"/>
                    </a:lnTo>
                    <a:lnTo>
                      <a:pt x="135" y="112"/>
                    </a:lnTo>
                    <a:lnTo>
                      <a:pt x="126" y="123"/>
                    </a:lnTo>
                    <a:lnTo>
                      <a:pt x="119" y="135"/>
                    </a:lnTo>
                    <a:lnTo>
                      <a:pt x="113" y="148"/>
                    </a:lnTo>
                    <a:lnTo>
                      <a:pt x="103" y="176"/>
                    </a:lnTo>
                    <a:lnTo>
                      <a:pt x="99" y="207"/>
                    </a:lnTo>
                    <a:lnTo>
                      <a:pt x="97" y="238"/>
                    </a:lnTo>
                    <a:lnTo>
                      <a:pt x="96" y="267"/>
                    </a:lnTo>
                    <a:lnTo>
                      <a:pt x="96" y="512"/>
                    </a:lnTo>
                    <a:lnTo>
                      <a:pt x="0" y="512"/>
                    </a:lnTo>
                    <a:lnTo>
                      <a:pt x="0" y="15"/>
                    </a:lnTo>
                    <a:lnTo>
                      <a:pt x="96" y="15"/>
                    </a:lnTo>
                    <a:lnTo>
                      <a:pt x="96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908640" y="1022400"/>
                <a:ext cx="9082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a-DK" sz="600" spc="-1" strike="noStrike">
                    <a:solidFill>
                      <a:srgbClr val="ffffff"/>
                    </a:solidFill>
                    <a:latin typeface="Futura Bk BT"/>
                  </a:rPr>
                  <a:t>www.kirktelecom.dk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4" name=""/>
          <p:cNvSpPr/>
          <p:nvPr/>
        </p:nvSpPr>
        <p:spPr>
          <a:xfrm>
            <a:off x="2228760" y="0"/>
            <a:ext cx="76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CCFP Administration Program Ver.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5" name="" descr=""/>
          <p:cNvPicPr/>
          <p:nvPr/>
        </p:nvPicPr>
        <p:blipFill>
          <a:blip r:embed="rId2"/>
          <a:stretch/>
        </p:blipFill>
        <p:spPr>
          <a:xfrm>
            <a:off x="2889360" y="517680"/>
            <a:ext cx="6333840" cy="4457520"/>
          </a:xfrm>
          <a:prstGeom prst="rect">
            <a:avLst/>
          </a:prstGeom>
          <a:ln w="0">
            <a:noFill/>
          </a:ln>
        </p:spPr>
      </p:pic>
      <p:sp>
        <p:nvSpPr>
          <p:cNvPr id="1066" name=""/>
          <p:cNvSpPr/>
          <p:nvPr/>
        </p:nvSpPr>
        <p:spPr>
          <a:xfrm>
            <a:off x="2795400" y="5086440"/>
            <a:ext cx="30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смотр статуса абонентов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E630-BEEF-4CDC-BCBF-5AD1CEE2F5FF}" type="slidenum">
              <a:t>32</a:t>
            </a:fld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/>
          <p:nvPr/>
        </p:nvSpPr>
        <p:spPr>
          <a:xfrm>
            <a:off x="2889360" y="457200"/>
            <a:ext cx="6521400" cy="0"/>
          </a:xfrm>
          <a:prstGeom prst="line">
            <a:avLst/>
          </a:prstGeom>
          <a:ln cap="sq"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0" y="0"/>
            <a:ext cx="6129000" cy="6858000"/>
            <a:chOff x="0" y="0"/>
            <a:chExt cx="6129000" cy="6858000"/>
          </a:xfrm>
        </p:grpSpPr>
        <p:sp>
          <p:nvSpPr>
            <p:cNvPr id="1069" name=""/>
            <p:cNvSpPr/>
            <p:nvPr/>
          </p:nvSpPr>
          <p:spPr>
            <a:xfrm>
              <a:off x="0" y="0"/>
              <a:ext cx="2228760" cy="3429000"/>
            </a:xfrm>
            <a:prstGeom prst="rect">
              <a:avLst/>
            </a:prstGeom>
            <a:solidFill>
              <a:srgbClr val="000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0" y="3429000"/>
              <a:ext cx="2228760" cy="3429000"/>
            </a:xfrm>
            <a:prstGeom prst="rect">
              <a:avLst/>
            </a:pr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91836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79924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3" name="" descr=""/>
            <p:cNvPicPr/>
            <p:nvPr/>
          </p:nvPicPr>
          <p:blipFill>
            <a:blip r:embed="rId1"/>
            <a:stretch/>
          </p:blipFill>
          <p:spPr>
            <a:xfrm>
              <a:off x="201240" y="2055960"/>
              <a:ext cx="1705680" cy="271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4" name=""/>
            <p:cNvGrpSpPr/>
            <p:nvPr/>
          </p:nvGrpSpPr>
          <p:grpSpPr>
            <a:xfrm>
              <a:off x="211320" y="380880"/>
              <a:ext cx="1605600" cy="821880"/>
              <a:chOff x="211320" y="380880"/>
              <a:chExt cx="1605600" cy="821880"/>
            </a:xfrm>
          </p:grpSpPr>
          <p:sp>
            <p:nvSpPr>
              <p:cNvPr id="1075" name=""/>
              <p:cNvSpPr/>
              <p:nvPr/>
            </p:nvSpPr>
            <p:spPr>
              <a:xfrm>
                <a:off x="403920" y="38088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7">
                    <a:moveTo>
                      <a:pt x="29" y="1655"/>
                    </a:moveTo>
                    <a:lnTo>
                      <a:pt x="79" y="1682"/>
                    </a:lnTo>
                    <a:lnTo>
                      <a:pt x="623" y="1957"/>
                    </a:lnTo>
                    <a:lnTo>
                      <a:pt x="684" y="1987"/>
                    </a:lnTo>
                    <a:lnTo>
                      <a:pt x="687" y="1916"/>
                    </a:lnTo>
                    <a:lnTo>
                      <a:pt x="691" y="1864"/>
                    </a:lnTo>
                    <a:lnTo>
                      <a:pt x="697" y="1814"/>
                    </a:lnTo>
                    <a:lnTo>
                      <a:pt x="704" y="1763"/>
                    </a:lnTo>
                    <a:lnTo>
                      <a:pt x="713" y="1714"/>
                    </a:lnTo>
                    <a:lnTo>
                      <a:pt x="724" y="1665"/>
                    </a:lnTo>
                    <a:lnTo>
                      <a:pt x="737" y="1616"/>
                    </a:lnTo>
                    <a:lnTo>
                      <a:pt x="751" y="1569"/>
                    </a:lnTo>
                    <a:lnTo>
                      <a:pt x="767" y="1522"/>
                    </a:lnTo>
                    <a:lnTo>
                      <a:pt x="784" y="1476"/>
                    </a:lnTo>
                    <a:lnTo>
                      <a:pt x="803" y="1431"/>
                    </a:lnTo>
                    <a:lnTo>
                      <a:pt x="824" y="1386"/>
                    </a:lnTo>
                    <a:lnTo>
                      <a:pt x="846" y="1343"/>
                    </a:lnTo>
                    <a:lnTo>
                      <a:pt x="869" y="1300"/>
                    </a:lnTo>
                    <a:lnTo>
                      <a:pt x="894" y="1257"/>
                    </a:lnTo>
                    <a:lnTo>
                      <a:pt x="920" y="1217"/>
                    </a:lnTo>
                    <a:lnTo>
                      <a:pt x="948" y="1177"/>
                    </a:lnTo>
                    <a:lnTo>
                      <a:pt x="976" y="1137"/>
                    </a:lnTo>
                    <a:lnTo>
                      <a:pt x="1007" y="1100"/>
                    </a:lnTo>
                    <a:lnTo>
                      <a:pt x="1038" y="1063"/>
                    </a:lnTo>
                    <a:lnTo>
                      <a:pt x="1071" y="1027"/>
                    </a:lnTo>
                    <a:lnTo>
                      <a:pt x="1105" y="993"/>
                    </a:lnTo>
                    <a:lnTo>
                      <a:pt x="1140" y="959"/>
                    </a:lnTo>
                    <a:lnTo>
                      <a:pt x="1176" y="927"/>
                    </a:lnTo>
                    <a:lnTo>
                      <a:pt x="1213" y="896"/>
                    </a:lnTo>
                    <a:lnTo>
                      <a:pt x="1250" y="866"/>
                    </a:lnTo>
                    <a:lnTo>
                      <a:pt x="1290" y="838"/>
                    </a:lnTo>
                    <a:lnTo>
                      <a:pt x="1331" y="810"/>
                    </a:lnTo>
                    <a:lnTo>
                      <a:pt x="1372" y="785"/>
                    </a:lnTo>
                    <a:lnTo>
                      <a:pt x="1414" y="760"/>
                    </a:lnTo>
                    <a:lnTo>
                      <a:pt x="1457" y="737"/>
                    </a:lnTo>
                    <a:lnTo>
                      <a:pt x="1501" y="716"/>
                    </a:lnTo>
                    <a:lnTo>
                      <a:pt x="1546" y="696"/>
                    </a:lnTo>
                    <a:lnTo>
                      <a:pt x="1584" y="680"/>
                    </a:lnTo>
                    <a:lnTo>
                      <a:pt x="1594" y="673"/>
                    </a:lnTo>
                    <a:lnTo>
                      <a:pt x="1600" y="665"/>
                    </a:lnTo>
                    <a:lnTo>
                      <a:pt x="1604" y="658"/>
                    </a:lnTo>
                    <a:lnTo>
                      <a:pt x="1606" y="650"/>
                    </a:lnTo>
                    <a:lnTo>
                      <a:pt x="1605" y="638"/>
                    </a:lnTo>
                    <a:lnTo>
                      <a:pt x="1603" y="632"/>
                    </a:lnTo>
                    <a:lnTo>
                      <a:pt x="1586" y="586"/>
                    </a:lnTo>
                    <a:lnTo>
                      <a:pt x="1385" y="31"/>
                    </a:lnTo>
                    <a:lnTo>
                      <a:pt x="1381" y="18"/>
                    </a:lnTo>
                    <a:lnTo>
                      <a:pt x="1380" y="13"/>
                    </a:lnTo>
                    <a:lnTo>
                      <a:pt x="1372" y="5"/>
                    </a:lnTo>
                    <a:lnTo>
                      <a:pt x="1367" y="2"/>
                    </a:lnTo>
                    <a:lnTo>
                      <a:pt x="1359" y="0"/>
                    </a:lnTo>
                    <a:lnTo>
                      <a:pt x="1349" y="0"/>
                    </a:lnTo>
                    <a:lnTo>
                      <a:pt x="1337" y="3"/>
                    </a:lnTo>
                    <a:lnTo>
                      <a:pt x="1307" y="14"/>
                    </a:lnTo>
                    <a:lnTo>
                      <a:pt x="1248" y="37"/>
                    </a:lnTo>
                    <a:lnTo>
                      <a:pt x="1190" y="63"/>
                    </a:lnTo>
                    <a:lnTo>
                      <a:pt x="1133" y="89"/>
                    </a:lnTo>
                    <a:lnTo>
                      <a:pt x="1076" y="119"/>
                    </a:lnTo>
                    <a:lnTo>
                      <a:pt x="1021" y="149"/>
                    </a:lnTo>
                    <a:lnTo>
                      <a:pt x="966" y="181"/>
                    </a:lnTo>
                    <a:lnTo>
                      <a:pt x="913" y="215"/>
                    </a:lnTo>
                    <a:lnTo>
                      <a:pt x="861" y="251"/>
                    </a:lnTo>
                    <a:lnTo>
                      <a:pt x="810" y="289"/>
                    </a:lnTo>
                    <a:lnTo>
                      <a:pt x="759" y="328"/>
                    </a:lnTo>
                    <a:lnTo>
                      <a:pt x="711" y="369"/>
                    </a:lnTo>
                    <a:lnTo>
                      <a:pt x="663" y="411"/>
                    </a:lnTo>
                    <a:lnTo>
                      <a:pt x="616" y="455"/>
                    </a:lnTo>
                    <a:lnTo>
                      <a:pt x="572" y="501"/>
                    </a:lnTo>
                    <a:lnTo>
                      <a:pt x="528" y="547"/>
                    </a:lnTo>
                    <a:lnTo>
                      <a:pt x="485" y="595"/>
                    </a:lnTo>
                    <a:lnTo>
                      <a:pt x="443" y="645"/>
                    </a:lnTo>
                    <a:lnTo>
                      <a:pt x="404" y="695"/>
                    </a:lnTo>
                    <a:lnTo>
                      <a:pt x="365" y="747"/>
                    </a:lnTo>
                    <a:lnTo>
                      <a:pt x="329" y="800"/>
                    </a:lnTo>
                    <a:lnTo>
                      <a:pt x="294" y="854"/>
                    </a:lnTo>
                    <a:lnTo>
                      <a:pt x="260" y="910"/>
                    </a:lnTo>
                    <a:lnTo>
                      <a:pt x="228" y="967"/>
                    </a:lnTo>
                    <a:lnTo>
                      <a:pt x="197" y="1024"/>
                    </a:lnTo>
                    <a:lnTo>
                      <a:pt x="169" y="1084"/>
                    </a:lnTo>
                    <a:lnTo>
                      <a:pt x="142" y="1144"/>
                    </a:lnTo>
                    <a:lnTo>
                      <a:pt x="116" y="1204"/>
                    </a:lnTo>
                    <a:lnTo>
                      <a:pt x="93" y="1266"/>
                    </a:lnTo>
                    <a:lnTo>
                      <a:pt x="71" y="1329"/>
                    </a:lnTo>
                    <a:lnTo>
                      <a:pt x="52" y="1392"/>
                    </a:lnTo>
                    <a:lnTo>
                      <a:pt x="34" y="1457"/>
                    </a:lnTo>
                    <a:lnTo>
                      <a:pt x="18" y="1522"/>
                    </a:lnTo>
                    <a:lnTo>
                      <a:pt x="2" y="1593"/>
                    </a:lnTo>
                    <a:lnTo>
                      <a:pt x="0" y="1610"/>
                    </a:lnTo>
                    <a:lnTo>
                      <a:pt x="1" y="1623"/>
                    </a:lnTo>
                    <a:lnTo>
                      <a:pt x="6" y="1634"/>
                    </a:lnTo>
                    <a:lnTo>
                      <a:pt x="11" y="1643"/>
                    </a:lnTo>
                    <a:lnTo>
                      <a:pt x="17" y="1648"/>
                    </a:lnTo>
                    <a:lnTo>
                      <a:pt x="23" y="1652"/>
                    </a:lnTo>
                    <a:lnTo>
                      <a:pt x="29" y="1655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403920" y="77004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5">
                    <a:moveTo>
                      <a:pt x="29" y="333"/>
                    </a:moveTo>
                    <a:lnTo>
                      <a:pt x="79" y="306"/>
                    </a:lnTo>
                    <a:lnTo>
                      <a:pt x="623" y="31"/>
                    </a:lnTo>
                    <a:lnTo>
                      <a:pt x="684" y="0"/>
                    </a:lnTo>
                    <a:lnTo>
                      <a:pt x="687" y="72"/>
                    </a:lnTo>
                    <a:lnTo>
                      <a:pt x="691" y="123"/>
                    </a:lnTo>
                    <a:lnTo>
                      <a:pt x="697" y="174"/>
                    </a:lnTo>
                    <a:lnTo>
                      <a:pt x="704" y="224"/>
                    </a:lnTo>
                    <a:lnTo>
                      <a:pt x="713" y="273"/>
                    </a:lnTo>
                    <a:lnTo>
                      <a:pt x="724" y="323"/>
                    </a:lnTo>
                    <a:lnTo>
                      <a:pt x="737" y="371"/>
                    </a:lnTo>
                    <a:lnTo>
                      <a:pt x="751" y="418"/>
                    </a:lnTo>
                    <a:lnTo>
                      <a:pt x="767" y="465"/>
                    </a:lnTo>
                    <a:lnTo>
                      <a:pt x="784" y="512"/>
                    </a:lnTo>
                    <a:lnTo>
                      <a:pt x="803" y="557"/>
                    </a:lnTo>
                    <a:lnTo>
                      <a:pt x="824" y="602"/>
                    </a:lnTo>
                    <a:lnTo>
                      <a:pt x="846" y="645"/>
                    </a:lnTo>
                    <a:lnTo>
                      <a:pt x="869" y="688"/>
                    </a:lnTo>
                    <a:lnTo>
                      <a:pt x="894" y="730"/>
                    </a:lnTo>
                    <a:lnTo>
                      <a:pt x="920" y="771"/>
                    </a:lnTo>
                    <a:lnTo>
                      <a:pt x="948" y="811"/>
                    </a:lnTo>
                    <a:lnTo>
                      <a:pt x="976" y="850"/>
                    </a:lnTo>
                    <a:lnTo>
                      <a:pt x="1007" y="888"/>
                    </a:lnTo>
                    <a:lnTo>
                      <a:pt x="1038" y="924"/>
                    </a:lnTo>
                    <a:lnTo>
                      <a:pt x="1071" y="961"/>
                    </a:lnTo>
                    <a:lnTo>
                      <a:pt x="1105" y="995"/>
                    </a:lnTo>
                    <a:lnTo>
                      <a:pt x="1140" y="1029"/>
                    </a:lnTo>
                    <a:lnTo>
                      <a:pt x="1176" y="1061"/>
                    </a:lnTo>
                    <a:lnTo>
                      <a:pt x="1213" y="1092"/>
                    </a:lnTo>
                    <a:lnTo>
                      <a:pt x="1252" y="1122"/>
                    </a:lnTo>
                    <a:lnTo>
                      <a:pt x="1290" y="1151"/>
                    </a:lnTo>
                    <a:lnTo>
                      <a:pt x="1331" y="1177"/>
                    </a:lnTo>
                    <a:lnTo>
                      <a:pt x="1372" y="1203"/>
                    </a:lnTo>
                    <a:lnTo>
                      <a:pt x="1414" y="1227"/>
                    </a:lnTo>
                    <a:lnTo>
                      <a:pt x="1457" y="1250"/>
                    </a:lnTo>
                    <a:lnTo>
                      <a:pt x="1501" y="1271"/>
                    </a:lnTo>
                    <a:lnTo>
                      <a:pt x="1546" y="1292"/>
                    </a:lnTo>
                    <a:lnTo>
                      <a:pt x="1584" y="1308"/>
                    </a:lnTo>
                    <a:lnTo>
                      <a:pt x="1594" y="1315"/>
                    </a:lnTo>
                    <a:lnTo>
                      <a:pt x="1600" y="1323"/>
                    </a:lnTo>
                    <a:lnTo>
                      <a:pt x="1605" y="1331"/>
                    </a:lnTo>
                    <a:lnTo>
                      <a:pt x="1606" y="1337"/>
                    </a:lnTo>
                    <a:lnTo>
                      <a:pt x="1605" y="1349"/>
                    </a:lnTo>
                    <a:lnTo>
                      <a:pt x="1603" y="1355"/>
                    </a:lnTo>
                    <a:lnTo>
                      <a:pt x="1586" y="1401"/>
                    </a:lnTo>
                    <a:lnTo>
                      <a:pt x="1388" y="1950"/>
                    </a:lnTo>
                    <a:lnTo>
                      <a:pt x="1381" y="1965"/>
                    </a:lnTo>
                    <a:lnTo>
                      <a:pt x="1379" y="1970"/>
                    </a:lnTo>
                    <a:lnTo>
                      <a:pt x="1371" y="1978"/>
                    </a:lnTo>
                    <a:lnTo>
                      <a:pt x="1366" y="1983"/>
                    </a:lnTo>
                    <a:lnTo>
                      <a:pt x="1358" y="1985"/>
                    </a:lnTo>
                    <a:lnTo>
                      <a:pt x="1348" y="1985"/>
                    </a:lnTo>
                    <a:lnTo>
                      <a:pt x="1338" y="1983"/>
                    </a:lnTo>
                    <a:lnTo>
                      <a:pt x="1302" y="1969"/>
                    </a:lnTo>
                    <a:lnTo>
                      <a:pt x="1242" y="1942"/>
                    </a:lnTo>
                    <a:lnTo>
                      <a:pt x="1181" y="1915"/>
                    </a:lnTo>
                    <a:lnTo>
                      <a:pt x="1123" y="1886"/>
                    </a:lnTo>
                    <a:lnTo>
                      <a:pt x="1066" y="1857"/>
                    </a:lnTo>
                    <a:lnTo>
                      <a:pt x="1009" y="1824"/>
                    </a:lnTo>
                    <a:lnTo>
                      <a:pt x="954" y="1791"/>
                    </a:lnTo>
                    <a:lnTo>
                      <a:pt x="901" y="1756"/>
                    </a:lnTo>
                    <a:lnTo>
                      <a:pt x="848" y="1719"/>
                    </a:lnTo>
                    <a:lnTo>
                      <a:pt x="796" y="1682"/>
                    </a:lnTo>
                    <a:lnTo>
                      <a:pt x="747" y="1642"/>
                    </a:lnTo>
                    <a:lnTo>
                      <a:pt x="698" y="1602"/>
                    </a:lnTo>
                    <a:lnTo>
                      <a:pt x="650" y="1560"/>
                    </a:lnTo>
                    <a:lnTo>
                      <a:pt x="604" y="1517"/>
                    </a:lnTo>
                    <a:lnTo>
                      <a:pt x="559" y="1472"/>
                    </a:lnTo>
                    <a:lnTo>
                      <a:pt x="517" y="1426"/>
                    </a:lnTo>
                    <a:lnTo>
                      <a:pt x="475" y="1379"/>
                    </a:lnTo>
                    <a:lnTo>
                      <a:pt x="434" y="1331"/>
                    </a:lnTo>
                    <a:lnTo>
                      <a:pt x="395" y="1281"/>
                    </a:lnTo>
                    <a:lnTo>
                      <a:pt x="358" y="1230"/>
                    </a:lnTo>
                    <a:lnTo>
                      <a:pt x="323" y="1178"/>
                    </a:lnTo>
                    <a:lnTo>
                      <a:pt x="287" y="1124"/>
                    </a:lnTo>
                    <a:lnTo>
                      <a:pt x="255" y="1070"/>
                    </a:lnTo>
                    <a:lnTo>
                      <a:pt x="224" y="1014"/>
                    </a:lnTo>
                    <a:lnTo>
                      <a:pt x="194" y="957"/>
                    </a:lnTo>
                    <a:lnTo>
                      <a:pt x="166" y="900"/>
                    </a:lnTo>
                    <a:lnTo>
                      <a:pt x="139" y="841"/>
                    </a:lnTo>
                    <a:lnTo>
                      <a:pt x="115" y="781"/>
                    </a:lnTo>
                    <a:lnTo>
                      <a:pt x="92" y="720"/>
                    </a:lnTo>
                    <a:lnTo>
                      <a:pt x="71" y="658"/>
                    </a:lnTo>
                    <a:lnTo>
                      <a:pt x="52" y="595"/>
                    </a:lnTo>
                    <a:lnTo>
                      <a:pt x="34" y="530"/>
                    </a:lnTo>
                    <a:lnTo>
                      <a:pt x="18" y="465"/>
                    </a:lnTo>
                    <a:lnTo>
                      <a:pt x="3" y="394"/>
                    </a:lnTo>
                    <a:lnTo>
                      <a:pt x="0" y="378"/>
                    </a:lnTo>
                    <a:lnTo>
                      <a:pt x="1" y="364"/>
                    </a:lnTo>
                    <a:lnTo>
                      <a:pt x="6" y="353"/>
                    </a:lnTo>
                    <a:lnTo>
                      <a:pt x="11" y="346"/>
                    </a:lnTo>
                    <a:lnTo>
                      <a:pt x="17" y="339"/>
                    </a:lnTo>
                    <a:lnTo>
                      <a:pt x="23" y="336"/>
                    </a:lnTo>
                    <a:lnTo>
                      <a:pt x="29" y="333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667440" y="698400"/>
                <a:ext cx="149400" cy="147600"/>
              </a:xfrm>
              <a:custGeom>
                <a:avLst/>
                <a:gdLst/>
                <a:ahLst/>
                <a:rect l="l" t="t" r="r" b="b"/>
                <a:pathLst>
                  <a:path w="714" h="759">
                    <a:moveTo>
                      <a:pt x="699" y="379"/>
                    </a:moveTo>
                    <a:lnTo>
                      <a:pt x="706" y="375"/>
                    </a:lnTo>
                    <a:lnTo>
                      <a:pt x="710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09" y="351"/>
                    </a:lnTo>
                    <a:lnTo>
                      <a:pt x="705" y="346"/>
                    </a:lnTo>
                    <a:lnTo>
                      <a:pt x="699" y="342"/>
                    </a:lnTo>
                    <a:lnTo>
                      <a:pt x="35" y="4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3" y="11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735"/>
                    </a:lnTo>
                    <a:lnTo>
                      <a:pt x="1" y="743"/>
                    </a:lnTo>
                    <a:lnTo>
                      <a:pt x="3" y="748"/>
                    </a:lnTo>
                    <a:lnTo>
                      <a:pt x="5" y="753"/>
                    </a:lnTo>
                    <a:lnTo>
                      <a:pt x="10" y="757"/>
                    </a:lnTo>
                    <a:lnTo>
                      <a:pt x="15" y="759"/>
                    </a:lnTo>
                    <a:lnTo>
                      <a:pt x="21" y="759"/>
                    </a:lnTo>
                    <a:lnTo>
                      <a:pt x="27" y="758"/>
                    </a:lnTo>
                    <a:lnTo>
                      <a:pt x="34" y="755"/>
                    </a:lnTo>
                    <a:lnTo>
                      <a:pt x="699" y="379"/>
                    </a:lnTo>
                    <a:close/>
                  </a:path>
                </a:pathLst>
              </a:custGeom>
              <a:solidFill>
                <a:srgbClr val="00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11320" y="701640"/>
                <a:ext cx="149760" cy="146160"/>
              </a:xfrm>
              <a:custGeom>
                <a:avLst/>
                <a:gdLst/>
                <a:ahLst/>
                <a:rect l="l" t="t" r="r" b="b"/>
                <a:pathLst>
                  <a:path w="714" h="758">
                    <a:moveTo>
                      <a:pt x="701" y="379"/>
                    </a:moveTo>
                    <a:lnTo>
                      <a:pt x="706" y="374"/>
                    </a:lnTo>
                    <a:lnTo>
                      <a:pt x="711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11" y="350"/>
                    </a:lnTo>
                    <a:lnTo>
                      <a:pt x="706" y="346"/>
                    </a:lnTo>
                    <a:lnTo>
                      <a:pt x="700" y="342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0" y="734"/>
                    </a:lnTo>
                    <a:lnTo>
                      <a:pt x="1" y="742"/>
                    </a:lnTo>
                    <a:lnTo>
                      <a:pt x="3" y="749"/>
                    </a:lnTo>
                    <a:lnTo>
                      <a:pt x="7" y="753"/>
                    </a:lnTo>
                    <a:lnTo>
                      <a:pt x="10" y="756"/>
                    </a:lnTo>
                    <a:lnTo>
                      <a:pt x="15" y="758"/>
                    </a:lnTo>
                    <a:lnTo>
                      <a:pt x="21" y="758"/>
                    </a:lnTo>
                    <a:lnTo>
                      <a:pt x="27" y="757"/>
                    </a:lnTo>
                    <a:lnTo>
                      <a:pt x="34" y="754"/>
                    </a:lnTo>
                    <a:lnTo>
                      <a:pt x="701" y="379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011960" y="517680"/>
                <a:ext cx="195840" cy="250560"/>
              </a:xfrm>
              <a:custGeom>
                <a:avLst/>
                <a:gdLst/>
                <a:ahLst/>
                <a:rect l="l" t="t" r="r" b="b"/>
                <a:pathLst>
                  <a:path w="930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30" y="1293"/>
                    </a:lnTo>
                    <a:lnTo>
                      <a:pt x="713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230480" y="517680"/>
                <a:ext cx="34200" cy="25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316520" y="517680"/>
                <a:ext cx="168480" cy="250560"/>
              </a:xfrm>
              <a:custGeom>
                <a:avLst/>
                <a:gdLst/>
                <a:ahLst/>
                <a:rect l="l" t="t" r="r" b="b"/>
                <a:pathLst>
                  <a:path w="803" h="1293">
                    <a:moveTo>
                      <a:pt x="803" y="1293"/>
                    </a:moveTo>
                    <a:lnTo>
                      <a:pt x="607" y="1293"/>
                    </a:lnTo>
                    <a:lnTo>
                      <a:pt x="228" y="746"/>
                    </a:lnTo>
                    <a:lnTo>
                      <a:pt x="161" y="746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283" y="1"/>
                    </a:lnTo>
                    <a:lnTo>
                      <a:pt x="327" y="4"/>
                    </a:lnTo>
                    <a:lnTo>
                      <a:pt x="370" y="8"/>
                    </a:lnTo>
                    <a:lnTo>
                      <a:pt x="413" y="16"/>
                    </a:lnTo>
                    <a:lnTo>
                      <a:pt x="456" y="27"/>
                    </a:lnTo>
                    <a:lnTo>
                      <a:pt x="497" y="41"/>
                    </a:lnTo>
                    <a:lnTo>
                      <a:pt x="536" y="61"/>
                    </a:lnTo>
                    <a:lnTo>
                      <a:pt x="556" y="73"/>
                    </a:lnTo>
                    <a:lnTo>
                      <a:pt x="574" y="87"/>
                    </a:lnTo>
                    <a:lnTo>
                      <a:pt x="592" y="101"/>
                    </a:lnTo>
                    <a:lnTo>
                      <a:pt x="608" y="118"/>
                    </a:lnTo>
                    <a:lnTo>
                      <a:pt x="623" y="135"/>
                    </a:lnTo>
                    <a:lnTo>
                      <a:pt x="637" y="153"/>
                    </a:lnTo>
                    <a:lnTo>
                      <a:pt x="650" y="173"/>
                    </a:lnTo>
                    <a:lnTo>
                      <a:pt x="661" y="192"/>
                    </a:lnTo>
                    <a:lnTo>
                      <a:pt x="671" y="212"/>
                    </a:lnTo>
                    <a:lnTo>
                      <a:pt x="680" y="233"/>
                    </a:lnTo>
                    <a:lnTo>
                      <a:pt x="694" y="277"/>
                    </a:lnTo>
                    <a:lnTo>
                      <a:pt x="700" y="300"/>
                    </a:lnTo>
                    <a:lnTo>
                      <a:pt x="703" y="323"/>
                    </a:lnTo>
                    <a:lnTo>
                      <a:pt x="705" y="346"/>
                    </a:lnTo>
                    <a:lnTo>
                      <a:pt x="705" y="369"/>
                    </a:lnTo>
                    <a:lnTo>
                      <a:pt x="704" y="403"/>
                    </a:lnTo>
                    <a:lnTo>
                      <a:pt x="700" y="436"/>
                    </a:lnTo>
                    <a:lnTo>
                      <a:pt x="693" y="469"/>
                    </a:lnTo>
                    <a:lnTo>
                      <a:pt x="683" y="500"/>
                    </a:lnTo>
                    <a:lnTo>
                      <a:pt x="671" y="531"/>
                    </a:lnTo>
                    <a:lnTo>
                      <a:pt x="657" y="558"/>
                    </a:lnTo>
                    <a:lnTo>
                      <a:pt x="639" y="585"/>
                    </a:lnTo>
                    <a:lnTo>
                      <a:pt x="621" y="611"/>
                    </a:lnTo>
                    <a:lnTo>
                      <a:pt x="599" y="634"/>
                    </a:lnTo>
                    <a:lnTo>
                      <a:pt x="576" y="655"/>
                    </a:lnTo>
                    <a:lnTo>
                      <a:pt x="550" y="673"/>
                    </a:lnTo>
                    <a:lnTo>
                      <a:pt x="523" y="691"/>
                    </a:lnTo>
                    <a:lnTo>
                      <a:pt x="493" y="704"/>
                    </a:lnTo>
                    <a:lnTo>
                      <a:pt x="463" y="716"/>
                    </a:lnTo>
                    <a:lnTo>
                      <a:pt x="430" y="725"/>
                    </a:lnTo>
                    <a:lnTo>
                      <a:pt x="396" y="730"/>
                    </a:lnTo>
                    <a:lnTo>
                      <a:pt x="803" y="1293"/>
                    </a:lnTo>
                    <a:close/>
                    <a:moveTo>
                      <a:pt x="161" y="612"/>
                    </a:moveTo>
                    <a:lnTo>
                      <a:pt x="213" y="612"/>
                    </a:lnTo>
                    <a:lnTo>
                      <a:pt x="274" y="611"/>
                    </a:lnTo>
                    <a:lnTo>
                      <a:pt x="335" y="604"/>
                    </a:lnTo>
                    <a:lnTo>
                      <a:pt x="365" y="599"/>
                    </a:lnTo>
                    <a:lnTo>
                      <a:pt x="393" y="591"/>
                    </a:lnTo>
                    <a:lnTo>
                      <a:pt x="420" y="582"/>
                    </a:lnTo>
                    <a:lnTo>
                      <a:pt x="445" y="571"/>
                    </a:lnTo>
                    <a:lnTo>
                      <a:pt x="469" y="557"/>
                    </a:lnTo>
                    <a:lnTo>
                      <a:pt x="490" y="540"/>
                    </a:lnTo>
                    <a:lnTo>
                      <a:pt x="509" y="522"/>
                    </a:lnTo>
                    <a:lnTo>
                      <a:pt x="524" y="499"/>
                    </a:lnTo>
                    <a:lnTo>
                      <a:pt x="537" y="473"/>
                    </a:lnTo>
                    <a:lnTo>
                      <a:pt x="547" y="445"/>
                    </a:lnTo>
                    <a:lnTo>
                      <a:pt x="553" y="412"/>
                    </a:lnTo>
                    <a:lnTo>
                      <a:pt x="555" y="376"/>
                    </a:lnTo>
                    <a:lnTo>
                      <a:pt x="553" y="339"/>
                    </a:lnTo>
                    <a:lnTo>
                      <a:pt x="546" y="308"/>
                    </a:lnTo>
                    <a:lnTo>
                      <a:pt x="536" y="279"/>
                    </a:lnTo>
                    <a:lnTo>
                      <a:pt x="523" y="254"/>
                    </a:lnTo>
                    <a:lnTo>
                      <a:pt x="505" y="232"/>
                    </a:lnTo>
                    <a:lnTo>
                      <a:pt x="486" y="213"/>
                    </a:lnTo>
                    <a:lnTo>
                      <a:pt x="464" y="198"/>
                    </a:lnTo>
                    <a:lnTo>
                      <a:pt x="440" y="184"/>
                    </a:lnTo>
                    <a:lnTo>
                      <a:pt x="413" y="173"/>
                    </a:lnTo>
                    <a:lnTo>
                      <a:pt x="385" y="164"/>
                    </a:lnTo>
                    <a:lnTo>
                      <a:pt x="356" y="157"/>
                    </a:lnTo>
                    <a:lnTo>
                      <a:pt x="325" y="152"/>
                    </a:lnTo>
                    <a:lnTo>
                      <a:pt x="296" y="148"/>
                    </a:lnTo>
                    <a:lnTo>
                      <a:pt x="265" y="146"/>
                    </a:lnTo>
                    <a:lnTo>
                      <a:pt x="204" y="144"/>
                    </a:lnTo>
                    <a:lnTo>
                      <a:pt x="161" y="144"/>
                    </a:lnTo>
                    <a:lnTo>
                      <a:pt x="161" y="6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502280" y="517680"/>
                <a:ext cx="196200" cy="250560"/>
              </a:xfrm>
              <a:custGeom>
                <a:avLst/>
                <a:gdLst/>
                <a:ahLst/>
                <a:rect l="l" t="t" r="r" b="b"/>
                <a:pathLst>
                  <a:path w="929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29" y="1293"/>
                    </a:lnTo>
                    <a:lnTo>
                      <a:pt x="712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999720" y="847800"/>
                <a:ext cx="54720" cy="133200"/>
              </a:xfrm>
              <a:custGeom>
                <a:avLst/>
                <a:gdLst/>
                <a:ahLst/>
                <a:rect l="l" t="t" r="r" b="b"/>
                <a:pathLst>
                  <a:path w="264" h="687">
                    <a:moveTo>
                      <a:pt x="169" y="687"/>
                    </a:moveTo>
                    <a:lnTo>
                      <a:pt x="74" y="687"/>
                    </a:lnTo>
                    <a:lnTo>
                      <a:pt x="74" y="279"/>
                    </a:lnTo>
                    <a:lnTo>
                      <a:pt x="0" y="279"/>
                    </a:lnTo>
                    <a:lnTo>
                      <a:pt x="0" y="190"/>
                    </a:lnTo>
                    <a:lnTo>
                      <a:pt x="74" y="190"/>
                    </a:lnTo>
                    <a:lnTo>
                      <a:pt x="74" y="0"/>
                    </a:lnTo>
                    <a:lnTo>
                      <a:pt x="169" y="0"/>
                    </a:lnTo>
                    <a:lnTo>
                      <a:pt x="169" y="190"/>
                    </a:lnTo>
                    <a:lnTo>
                      <a:pt x="264" y="190"/>
                    </a:lnTo>
                    <a:lnTo>
                      <a:pt x="264" y="279"/>
                    </a:lnTo>
                    <a:lnTo>
                      <a:pt x="169" y="279"/>
                    </a:lnTo>
                    <a:lnTo>
                      <a:pt x="169" y="6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058400" y="882720"/>
                <a:ext cx="9936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5" y="280"/>
                    </a:moveTo>
                    <a:lnTo>
                      <a:pt x="98" y="311"/>
                    </a:lnTo>
                    <a:lnTo>
                      <a:pt x="106" y="341"/>
                    </a:lnTo>
                    <a:lnTo>
                      <a:pt x="119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8" y="415"/>
                    </a:lnTo>
                    <a:lnTo>
                      <a:pt x="170" y="423"/>
                    </a:lnTo>
                    <a:lnTo>
                      <a:pt x="184" y="431"/>
                    </a:lnTo>
                    <a:lnTo>
                      <a:pt x="197" y="437"/>
                    </a:lnTo>
                    <a:lnTo>
                      <a:pt x="213" y="441"/>
                    </a:lnTo>
                    <a:lnTo>
                      <a:pt x="229" y="443"/>
                    </a:lnTo>
                    <a:lnTo>
                      <a:pt x="245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5" y="430"/>
                    </a:lnTo>
                    <a:lnTo>
                      <a:pt x="333" y="418"/>
                    </a:lnTo>
                    <a:lnTo>
                      <a:pt x="351" y="405"/>
                    </a:lnTo>
                    <a:lnTo>
                      <a:pt x="366" y="388"/>
                    </a:lnTo>
                    <a:lnTo>
                      <a:pt x="380" y="368"/>
                    </a:lnTo>
                    <a:lnTo>
                      <a:pt x="394" y="348"/>
                    </a:lnTo>
                    <a:lnTo>
                      <a:pt x="475" y="394"/>
                    </a:lnTo>
                    <a:lnTo>
                      <a:pt x="455" y="424"/>
                    </a:lnTo>
                    <a:lnTo>
                      <a:pt x="433" y="451"/>
                    </a:lnTo>
                    <a:lnTo>
                      <a:pt x="407" y="474"/>
                    </a:lnTo>
                    <a:lnTo>
                      <a:pt x="378" y="494"/>
                    </a:lnTo>
                    <a:lnTo>
                      <a:pt x="347" y="509"/>
                    </a:lnTo>
                    <a:lnTo>
                      <a:pt x="315" y="520"/>
                    </a:lnTo>
                    <a:lnTo>
                      <a:pt x="279" y="528"/>
                    </a:lnTo>
                    <a:lnTo>
                      <a:pt x="244" y="530"/>
                    </a:lnTo>
                    <a:lnTo>
                      <a:pt x="217" y="528"/>
                    </a:lnTo>
                    <a:lnTo>
                      <a:pt x="191" y="524"/>
                    </a:lnTo>
                    <a:lnTo>
                      <a:pt x="165" y="518"/>
                    </a:lnTo>
                    <a:lnTo>
                      <a:pt x="142" y="509"/>
                    </a:lnTo>
                    <a:lnTo>
                      <a:pt x="120" y="498"/>
                    </a:lnTo>
                    <a:lnTo>
                      <a:pt x="101" y="485"/>
                    </a:lnTo>
                    <a:lnTo>
                      <a:pt x="82" y="471"/>
                    </a:lnTo>
                    <a:lnTo>
                      <a:pt x="66" y="454"/>
                    </a:lnTo>
                    <a:lnTo>
                      <a:pt x="50" y="435"/>
                    </a:lnTo>
                    <a:lnTo>
                      <a:pt x="37" y="416"/>
                    </a:lnTo>
                    <a:lnTo>
                      <a:pt x="26" y="394"/>
                    </a:lnTo>
                    <a:lnTo>
                      <a:pt x="16" y="371"/>
                    </a:lnTo>
                    <a:lnTo>
                      <a:pt x="10" y="346"/>
                    </a:lnTo>
                    <a:lnTo>
                      <a:pt x="4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4" y="213"/>
                    </a:lnTo>
                    <a:lnTo>
                      <a:pt x="9" y="186"/>
                    </a:lnTo>
                    <a:lnTo>
                      <a:pt x="15" y="161"/>
                    </a:lnTo>
                    <a:lnTo>
                      <a:pt x="24" y="138"/>
                    </a:lnTo>
                    <a:lnTo>
                      <a:pt x="34" y="116"/>
                    </a:lnTo>
                    <a:lnTo>
                      <a:pt x="47" y="95"/>
                    </a:lnTo>
                    <a:lnTo>
                      <a:pt x="61" y="76"/>
                    </a:lnTo>
                    <a:lnTo>
                      <a:pt x="77" y="60"/>
                    </a:lnTo>
                    <a:lnTo>
                      <a:pt x="95" y="45"/>
                    </a:lnTo>
                    <a:lnTo>
                      <a:pt x="115" y="31"/>
                    </a:lnTo>
                    <a:lnTo>
                      <a:pt x="137" y="20"/>
                    </a:lnTo>
                    <a:lnTo>
                      <a:pt x="160" y="12"/>
                    </a:lnTo>
                    <a:lnTo>
                      <a:pt x="185" y="5"/>
                    </a:lnTo>
                    <a:lnTo>
                      <a:pt x="213" y="2"/>
                    </a:lnTo>
                    <a:lnTo>
                      <a:pt x="242" y="0"/>
                    </a:lnTo>
                    <a:lnTo>
                      <a:pt x="271" y="2"/>
                    </a:lnTo>
                    <a:lnTo>
                      <a:pt x="297" y="5"/>
                    </a:lnTo>
                    <a:lnTo>
                      <a:pt x="322" y="12"/>
                    </a:lnTo>
                    <a:lnTo>
                      <a:pt x="345" y="20"/>
                    </a:lnTo>
                    <a:lnTo>
                      <a:pt x="366" y="31"/>
                    </a:lnTo>
                    <a:lnTo>
                      <a:pt x="385" y="45"/>
                    </a:lnTo>
                    <a:lnTo>
                      <a:pt x="402" y="60"/>
                    </a:lnTo>
                    <a:lnTo>
                      <a:pt x="418" y="76"/>
                    </a:lnTo>
                    <a:lnTo>
                      <a:pt x="431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0" y="161"/>
                    </a:lnTo>
                    <a:lnTo>
                      <a:pt x="467" y="185"/>
                    </a:lnTo>
                    <a:lnTo>
                      <a:pt x="471" y="210"/>
                    </a:lnTo>
                    <a:lnTo>
                      <a:pt x="474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5" y="280"/>
                    </a:lnTo>
                    <a:close/>
                    <a:moveTo>
                      <a:pt x="379" y="207"/>
                    </a:moveTo>
                    <a:lnTo>
                      <a:pt x="373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5" y="117"/>
                    </a:lnTo>
                    <a:lnTo>
                      <a:pt x="316" y="103"/>
                    </a:lnTo>
                    <a:lnTo>
                      <a:pt x="294" y="92"/>
                    </a:lnTo>
                    <a:lnTo>
                      <a:pt x="270" y="85"/>
                    </a:lnTo>
                    <a:lnTo>
                      <a:pt x="242" y="83"/>
                    </a:lnTo>
                    <a:lnTo>
                      <a:pt x="215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1" y="137"/>
                    </a:lnTo>
                    <a:lnTo>
                      <a:pt x="117" y="158"/>
                    </a:lnTo>
                    <a:lnTo>
                      <a:pt x="107" y="182"/>
                    </a:lnTo>
                    <a:lnTo>
                      <a:pt x="101" y="207"/>
                    </a:lnTo>
                    <a:lnTo>
                      <a:pt x="379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177200" y="846000"/>
                <a:ext cx="2052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211400" y="882720"/>
                <a:ext cx="9972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7" y="280"/>
                    </a:moveTo>
                    <a:lnTo>
                      <a:pt x="99" y="311"/>
                    </a:lnTo>
                    <a:lnTo>
                      <a:pt x="108" y="341"/>
                    </a:lnTo>
                    <a:lnTo>
                      <a:pt x="120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9" y="415"/>
                    </a:lnTo>
                    <a:lnTo>
                      <a:pt x="171" y="423"/>
                    </a:lnTo>
                    <a:lnTo>
                      <a:pt x="185" y="431"/>
                    </a:lnTo>
                    <a:lnTo>
                      <a:pt x="199" y="437"/>
                    </a:lnTo>
                    <a:lnTo>
                      <a:pt x="213" y="441"/>
                    </a:lnTo>
                    <a:lnTo>
                      <a:pt x="230" y="443"/>
                    </a:lnTo>
                    <a:lnTo>
                      <a:pt x="246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6" y="430"/>
                    </a:lnTo>
                    <a:lnTo>
                      <a:pt x="335" y="418"/>
                    </a:lnTo>
                    <a:lnTo>
                      <a:pt x="351" y="405"/>
                    </a:lnTo>
                    <a:lnTo>
                      <a:pt x="367" y="388"/>
                    </a:lnTo>
                    <a:lnTo>
                      <a:pt x="381" y="368"/>
                    </a:lnTo>
                    <a:lnTo>
                      <a:pt x="395" y="348"/>
                    </a:lnTo>
                    <a:lnTo>
                      <a:pt x="475" y="394"/>
                    </a:lnTo>
                    <a:lnTo>
                      <a:pt x="457" y="424"/>
                    </a:lnTo>
                    <a:lnTo>
                      <a:pt x="434" y="451"/>
                    </a:lnTo>
                    <a:lnTo>
                      <a:pt x="407" y="474"/>
                    </a:lnTo>
                    <a:lnTo>
                      <a:pt x="379" y="494"/>
                    </a:lnTo>
                    <a:lnTo>
                      <a:pt x="348" y="509"/>
                    </a:lnTo>
                    <a:lnTo>
                      <a:pt x="315" y="520"/>
                    </a:lnTo>
                    <a:lnTo>
                      <a:pt x="281" y="528"/>
                    </a:lnTo>
                    <a:lnTo>
                      <a:pt x="245" y="530"/>
                    </a:lnTo>
                    <a:lnTo>
                      <a:pt x="218" y="528"/>
                    </a:lnTo>
                    <a:lnTo>
                      <a:pt x="191" y="524"/>
                    </a:lnTo>
                    <a:lnTo>
                      <a:pt x="166" y="518"/>
                    </a:lnTo>
                    <a:lnTo>
                      <a:pt x="143" y="509"/>
                    </a:lnTo>
                    <a:lnTo>
                      <a:pt x="121" y="498"/>
                    </a:lnTo>
                    <a:lnTo>
                      <a:pt x="101" y="485"/>
                    </a:lnTo>
                    <a:lnTo>
                      <a:pt x="83" y="471"/>
                    </a:lnTo>
                    <a:lnTo>
                      <a:pt x="66" y="454"/>
                    </a:lnTo>
                    <a:lnTo>
                      <a:pt x="51" y="435"/>
                    </a:lnTo>
                    <a:lnTo>
                      <a:pt x="38" y="416"/>
                    </a:lnTo>
                    <a:lnTo>
                      <a:pt x="27" y="394"/>
                    </a:lnTo>
                    <a:lnTo>
                      <a:pt x="18" y="371"/>
                    </a:lnTo>
                    <a:lnTo>
                      <a:pt x="10" y="346"/>
                    </a:lnTo>
                    <a:lnTo>
                      <a:pt x="5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5" y="213"/>
                    </a:lnTo>
                    <a:lnTo>
                      <a:pt x="9" y="186"/>
                    </a:lnTo>
                    <a:lnTo>
                      <a:pt x="16" y="161"/>
                    </a:lnTo>
                    <a:lnTo>
                      <a:pt x="24" y="138"/>
                    </a:lnTo>
                    <a:lnTo>
                      <a:pt x="35" y="116"/>
                    </a:lnTo>
                    <a:lnTo>
                      <a:pt x="48" y="95"/>
                    </a:lnTo>
                    <a:lnTo>
                      <a:pt x="62" y="76"/>
                    </a:lnTo>
                    <a:lnTo>
                      <a:pt x="78" y="60"/>
                    </a:lnTo>
                    <a:lnTo>
                      <a:pt x="96" y="45"/>
                    </a:lnTo>
                    <a:lnTo>
                      <a:pt x="116" y="31"/>
                    </a:lnTo>
                    <a:lnTo>
                      <a:pt x="137" y="20"/>
                    </a:lnTo>
                    <a:lnTo>
                      <a:pt x="162" y="12"/>
                    </a:lnTo>
                    <a:lnTo>
                      <a:pt x="187" y="5"/>
                    </a:lnTo>
                    <a:lnTo>
                      <a:pt x="214" y="2"/>
                    </a:lnTo>
                    <a:lnTo>
                      <a:pt x="243" y="0"/>
                    </a:lnTo>
                    <a:lnTo>
                      <a:pt x="271" y="2"/>
                    </a:lnTo>
                    <a:lnTo>
                      <a:pt x="299" y="5"/>
                    </a:lnTo>
                    <a:lnTo>
                      <a:pt x="323" y="12"/>
                    </a:lnTo>
                    <a:lnTo>
                      <a:pt x="346" y="20"/>
                    </a:lnTo>
                    <a:lnTo>
                      <a:pt x="367" y="31"/>
                    </a:lnTo>
                    <a:lnTo>
                      <a:pt x="386" y="45"/>
                    </a:lnTo>
                    <a:lnTo>
                      <a:pt x="403" y="60"/>
                    </a:lnTo>
                    <a:lnTo>
                      <a:pt x="418" y="76"/>
                    </a:lnTo>
                    <a:lnTo>
                      <a:pt x="432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1" y="161"/>
                    </a:lnTo>
                    <a:lnTo>
                      <a:pt x="468" y="185"/>
                    </a:lnTo>
                    <a:lnTo>
                      <a:pt x="472" y="210"/>
                    </a:lnTo>
                    <a:lnTo>
                      <a:pt x="475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7" y="280"/>
                    </a:lnTo>
                    <a:close/>
                    <a:moveTo>
                      <a:pt x="380" y="207"/>
                    </a:moveTo>
                    <a:lnTo>
                      <a:pt x="374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6" y="117"/>
                    </a:lnTo>
                    <a:lnTo>
                      <a:pt x="317" y="103"/>
                    </a:lnTo>
                    <a:lnTo>
                      <a:pt x="295" y="92"/>
                    </a:lnTo>
                    <a:lnTo>
                      <a:pt x="270" y="85"/>
                    </a:lnTo>
                    <a:lnTo>
                      <a:pt x="243" y="83"/>
                    </a:lnTo>
                    <a:lnTo>
                      <a:pt x="216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2" y="137"/>
                    </a:lnTo>
                    <a:lnTo>
                      <a:pt x="119" y="158"/>
                    </a:lnTo>
                    <a:lnTo>
                      <a:pt x="108" y="182"/>
                    </a:lnTo>
                    <a:lnTo>
                      <a:pt x="101" y="207"/>
                    </a:lnTo>
                    <a:lnTo>
                      <a:pt x="380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326960" y="882720"/>
                <a:ext cx="84240" cy="101520"/>
              </a:xfrm>
              <a:custGeom>
                <a:avLst/>
                <a:gdLst/>
                <a:ahLst/>
                <a:rect l="l" t="t" r="r" b="b"/>
                <a:pathLst>
                  <a:path w="404" h="530">
                    <a:moveTo>
                      <a:pt x="404" y="157"/>
                    </a:moveTo>
                    <a:lnTo>
                      <a:pt x="389" y="141"/>
                    </a:lnTo>
                    <a:lnTo>
                      <a:pt x="373" y="127"/>
                    </a:lnTo>
                    <a:lnTo>
                      <a:pt x="358" y="116"/>
                    </a:lnTo>
                    <a:lnTo>
                      <a:pt x="340" y="106"/>
                    </a:lnTo>
                    <a:lnTo>
                      <a:pt x="321" y="99"/>
                    </a:lnTo>
                    <a:lnTo>
                      <a:pt x="303" y="94"/>
                    </a:lnTo>
                    <a:lnTo>
                      <a:pt x="283" y="91"/>
                    </a:lnTo>
                    <a:lnTo>
                      <a:pt x="261" y="90"/>
                    </a:lnTo>
                    <a:lnTo>
                      <a:pt x="245" y="91"/>
                    </a:lnTo>
                    <a:lnTo>
                      <a:pt x="227" y="93"/>
                    </a:lnTo>
                    <a:lnTo>
                      <a:pt x="212" y="97"/>
                    </a:lnTo>
                    <a:lnTo>
                      <a:pt x="196" y="104"/>
                    </a:lnTo>
                    <a:lnTo>
                      <a:pt x="182" y="112"/>
                    </a:lnTo>
                    <a:lnTo>
                      <a:pt x="168" y="120"/>
                    </a:lnTo>
                    <a:lnTo>
                      <a:pt x="156" y="130"/>
                    </a:lnTo>
                    <a:lnTo>
                      <a:pt x="144" y="142"/>
                    </a:lnTo>
                    <a:lnTo>
                      <a:pt x="133" y="154"/>
                    </a:lnTo>
                    <a:lnTo>
                      <a:pt x="124" y="169"/>
                    </a:lnTo>
                    <a:lnTo>
                      <a:pt x="115" y="183"/>
                    </a:lnTo>
                    <a:lnTo>
                      <a:pt x="109" y="198"/>
                    </a:lnTo>
                    <a:lnTo>
                      <a:pt x="103" y="214"/>
                    </a:lnTo>
                    <a:lnTo>
                      <a:pt x="99" y="230"/>
                    </a:lnTo>
                    <a:lnTo>
                      <a:pt x="97" y="247"/>
                    </a:lnTo>
                    <a:lnTo>
                      <a:pt x="96" y="264"/>
                    </a:lnTo>
                    <a:lnTo>
                      <a:pt x="97" y="283"/>
                    </a:lnTo>
                    <a:lnTo>
                      <a:pt x="99" y="300"/>
                    </a:lnTo>
                    <a:lnTo>
                      <a:pt x="103" y="318"/>
                    </a:lnTo>
                    <a:lnTo>
                      <a:pt x="109" y="334"/>
                    </a:lnTo>
                    <a:lnTo>
                      <a:pt x="115" y="350"/>
                    </a:lnTo>
                    <a:lnTo>
                      <a:pt x="124" y="364"/>
                    </a:lnTo>
                    <a:lnTo>
                      <a:pt x="133" y="378"/>
                    </a:lnTo>
                    <a:lnTo>
                      <a:pt x="144" y="390"/>
                    </a:lnTo>
                    <a:lnTo>
                      <a:pt x="156" y="401"/>
                    </a:lnTo>
                    <a:lnTo>
                      <a:pt x="169" y="411"/>
                    </a:lnTo>
                    <a:lnTo>
                      <a:pt x="183" y="420"/>
                    </a:lnTo>
                    <a:lnTo>
                      <a:pt x="199" y="427"/>
                    </a:lnTo>
                    <a:lnTo>
                      <a:pt x="215" y="432"/>
                    </a:lnTo>
                    <a:lnTo>
                      <a:pt x="232" y="437"/>
                    </a:lnTo>
                    <a:lnTo>
                      <a:pt x="249" y="439"/>
                    </a:lnTo>
                    <a:lnTo>
                      <a:pt x="268" y="440"/>
                    </a:lnTo>
                    <a:lnTo>
                      <a:pt x="289" y="439"/>
                    </a:lnTo>
                    <a:lnTo>
                      <a:pt x="307" y="435"/>
                    </a:lnTo>
                    <a:lnTo>
                      <a:pt x="326" y="430"/>
                    </a:lnTo>
                    <a:lnTo>
                      <a:pt x="343" y="422"/>
                    </a:lnTo>
                    <a:lnTo>
                      <a:pt x="360" y="412"/>
                    </a:lnTo>
                    <a:lnTo>
                      <a:pt x="375" y="401"/>
                    </a:lnTo>
                    <a:lnTo>
                      <a:pt x="389" y="388"/>
                    </a:lnTo>
                    <a:lnTo>
                      <a:pt x="404" y="374"/>
                    </a:lnTo>
                    <a:lnTo>
                      <a:pt x="404" y="497"/>
                    </a:lnTo>
                    <a:lnTo>
                      <a:pt x="371" y="511"/>
                    </a:lnTo>
                    <a:lnTo>
                      <a:pt x="338" y="522"/>
                    </a:lnTo>
                    <a:lnTo>
                      <a:pt x="303" y="528"/>
                    </a:lnTo>
                    <a:lnTo>
                      <a:pt x="267" y="530"/>
                    </a:lnTo>
                    <a:lnTo>
                      <a:pt x="239" y="528"/>
                    </a:lnTo>
                    <a:lnTo>
                      <a:pt x="213" y="524"/>
                    </a:lnTo>
                    <a:lnTo>
                      <a:pt x="188" y="518"/>
                    </a:lnTo>
                    <a:lnTo>
                      <a:pt x="164" y="509"/>
                    </a:lnTo>
                    <a:lnTo>
                      <a:pt x="140" y="499"/>
                    </a:lnTo>
                    <a:lnTo>
                      <a:pt x="119" y="486"/>
                    </a:lnTo>
                    <a:lnTo>
                      <a:pt x="98" y="472"/>
                    </a:lnTo>
                    <a:lnTo>
                      <a:pt x="79" y="454"/>
                    </a:lnTo>
                    <a:lnTo>
                      <a:pt x="62" y="437"/>
                    </a:lnTo>
                    <a:lnTo>
                      <a:pt x="46" y="416"/>
                    </a:lnTo>
                    <a:lnTo>
                      <a:pt x="33" y="395"/>
                    </a:lnTo>
                    <a:lnTo>
                      <a:pt x="21" y="372"/>
                    </a:lnTo>
                    <a:lnTo>
                      <a:pt x="12" y="348"/>
                    </a:lnTo>
                    <a:lnTo>
                      <a:pt x="6" y="322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6" y="213"/>
                    </a:lnTo>
                    <a:lnTo>
                      <a:pt x="12" y="186"/>
                    </a:lnTo>
                    <a:lnTo>
                      <a:pt x="21" y="161"/>
                    </a:lnTo>
                    <a:lnTo>
                      <a:pt x="33" y="138"/>
                    </a:lnTo>
                    <a:lnTo>
                      <a:pt x="46" y="115"/>
                    </a:lnTo>
                    <a:lnTo>
                      <a:pt x="62" y="95"/>
                    </a:lnTo>
                    <a:lnTo>
                      <a:pt x="79" y="76"/>
                    </a:lnTo>
                    <a:lnTo>
                      <a:pt x="98" y="59"/>
                    </a:lnTo>
                    <a:lnTo>
                      <a:pt x="119" y="45"/>
                    </a:lnTo>
                    <a:lnTo>
                      <a:pt x="142" y="31"/>
                    </a:lnTo>
                    <a:lnTo>
                      <a:pt x="165" y="20"/>
                    </a:lnTo>
                    <a:lnTo>
                      <a:pt x="190" y="12"/>
                    </a:lnTo>
                    <a:lnTo>
                      <a:pt x="216" y="5"/>
                    </a:lnTo>
                    <a:lnTo>
                      <a:pt x="244" y="2"/>
                    </a:lnTo>
                    <a:lnTo>
                      <a:pt x="272" y="0"/>
                    </a:lnTo>
                    <a:lnTo>
                      <a:pt x="306" y="2"/>
                    </a:lnTo>
                    <a:lnTo>
                      <a:pt x="340" y="8"/>
                    </a:lnTo>
                    <a:lnTo>
                      <a:pt x="373" y="18"/>
                    </a:lnTo>
                    <a:lnTo>
                      <a:pt x="404" y="32"/>
                    </a:lnTo>
                    <a:lnTo>
                      <a:pt x="404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423440" y="882720"/>
                <a:ext cx="111600" cy="101520"/>
              </a:xfrm>
              <a:custGeom>
                <a:avLst/>
                <a:gdLst/>
                <a:ahLst/>
                <a:rect l="l" t="t" r="r" b="b"/>
                <a:pathLst>
                  <a:path w="532" h="530">
                    <a:moveTo>
                      <a:pt x="532" y="264"/>
                    </a:moveTo>
                    <a:lnTo>
                      <a:pt x="530" y="293"/>
                    </a:lnTo>
                    <a:lnTo>
                      <a:pt x="527" y="319"/>
                    </a:lnTo>
                    <a:lnTo>
                      <a:pt x="520" y="344"/>
                    </a:lnTo>
                    <a:lnTo>
                      <a:pt x="511" y="370"/>
                    </a:lnTo>
                    <a:lnTo>
                      <a:pt x="501" y="393"/>
                    </a:lnTo>
                    <a:lnTo>
                      <a:pt x="487" y="415"/>
                    </a:lnTo>
                    <a:lnTo>
                      <a:pt x="472" y="434"/>
                    </a:lnTo>
                    <a:lnTo>
                      <a:pt x="454" y="453"/>
                    </a:lnTo>
                    <a:lnTo>
                      <a:pt x="436" y="471"/>
                    </a:lnTo>
                    <a:lnTo>
                      <a:pt x="416" y="485"/>
                    </a:lnTo>
                    <a:lnTo>
                      <a:pt x="394" y="498"/>
                    </a:lnTo>
                    <a:lnTo>
                      <a:pt x="370" y="509"/>
                    </a:lnTo>
                    <a:lnTo>
                      <a:pt x="346" y="518"/>
                    </a:lnTo>
                    <a:lnTo>
                      <a:pt x="321" y="524"/>
                    </a:lnTo>
                    <a:lnTo>
                      <a:pt x="293" y="528"/>
                    </a:lnTo>
                    <a:lnTo>
                      <a:pt x="266" y="530"/>
                    </a:lnTo>
                    <a:lnTo>
                      <a:pt x="238" y="528"/>
                    </a:lnTo>
                    <a:lnTo>
                      <a:pt x="212" y="524"/>
                    </a:lnTo>
                    <a:lnTo>
                      <a:pt x="187" y="518"/>
                    </a:lnTo>
                    <a:lnTo>
                      <a:pt x="162" y="509"/>
                    </a:lnTo>
                    <a:lnTo>
                      <a:pt x="139" y="498"/>
                    </a:lnTo>
                    <a:lnTo>
                      <a:pt x="117" y="485"/>
                    </a:lnTo>
                    <a:lnTo>
                      <a:pt x="97" y="471"/>
                    </a:lnTo>
                    <a:lnTo>
                      <a:pt x="78" y="453"/>
                    </a:lnTo>
                    <a:lnTo>
                      <a:pt x="61" y="434"/>
                    </a:lnTo>
                    <a:lnTo>
                      <a:pt x="45" y="415"/>
                    </a:lnTo>
                    <a:lnTo>
                      <a:pt x="32" y="393"/>
                    </a:lnTo>
                    <a:lnTo>
                      <a:pt x="21" y="370"/>
                    </a:lnTo>
                    <a:lnTo>
                      <a:pt x="12" y="344"/>
                    </a:lnTo>
                    <a:lnTo>
                      <a:pt x="6" y="319"/>
                    </a:lnTo>
                    <a:lnTo>
                      <a:pt x="3" y="293"/>
                    </a:lnTo>
                    <a:lnTo>
                      <a:pt x="0" y="264"/>
                    </a:lnTo>
                    <a:lnTo>
                      <a:pt x="3" y="237"/>
                    </a:lnTo>
                    <a:lnTo>
                      <a:pt x="6" y="210"/>
                    </a:lnTo>
                    <a:lnTo>
                      <a:pt x="12" y="185"/>
                    </a:lnTo>
                    <a:lnTo>
                      <a:pt x="21" y="160"/>
                    </a:lnTo>
                    <a:lnTo>
                      <a:pt x="32" y="137"/>
                    </a:lnTo>
                    <a:lnTo>
                      <a:pt x="45" y="115"/>
                    </a:lnTo>
                    <a:lnTo>
                      <a:pt x="61" y="95"/>
                    </a:lnTo>
                    <a:lnTo>
                      <a:pt x="78" y="76"/>
                    </a:lnTo>
                    <a:lnTo>
                      <a:pt x="97" y="59"/>
                    </a:lnTo>
                    <a:lnTo>
                      <a:pt x="117" y="45"/>
                    </a:lnTo>
                    <a:lnTo>
                      <a:pt x="139" y="31"/>
                    </a:lnTo>
                    <a:lnTo>
                      <a:pt x="162" y="20"/>
                    </a:lnTo>
                    <a:lnTo>
                      <a:pt x="187" y="12"/>
                    </a:lnTo>
                    <a:lnTo>
                      <a:pt x="212" y="5"/>
                    </a:lnTo>
                    <a:lnTo>
                      <a:pt x="238" y="2"/>
                    </a:lnTo>
                    <a:lnTo>
                      <a:pt x="266" y="0"/>
                    </a:lnTo>
                    <a:lnTo>
                      <a:pt x="293" y="2"/>
                    </a:lnTo>
                    <a:lnTo>
                      <a:pt x="321" y="5"/>
                    </a:lnTo>
                    <a:lnTo>
                      <a:pt x="346" y="12"/>
                    </a:lnTo>
                    <a:lnTo>
                      <a:pt x="370" y="20"/>
                    </a:lnTo>
                    <a:lnTo>
                      <a:pt x="394" y="31"/>
                    </a:lnTo>
                    <a:lnTo>
                      <a:pt x="416" y="45"/>
                    </a:lnTo>
                    <a:lnTo>
                      <a:pt x="436" y="59"/>
                    </a:lnTo>
                    <a:lnTo>
                      <a:pt x="454" y="76"/>
                    </a:lnTo>
                    <a:lnTo>
                      <a:pt x="472" y="95"/>
                    </a:lnTo>
                    <a:lnTo>
                      <a:pt x="487" y="115"/>
                    </a:lnTo>
                    <a:lnTo>
                      <a:pt x="501" y="137"/>
                    </a:lnTo>
                    <a:lnTo>
                      <a:pt x="511" y="160"/>
                    </a:lnTo>
                    <a:lnTo>
                      <a:pt x="520" y="185"/>
                    </a:lnTo>
                    <a:lnTo>
                      <a:pt x="527" y="210"/>
                    </a:lnTo>
                    <a:lnTo>
                      <a:pt x="530" y="237"/>
                    </a:lnTo>
                    <a:lnTo>
                      <a:pt x="532" y="264"/>
                    </a:lnTo>
                    <a:close/>
                    <a:moveTo>
                      <a:pt x="96" y="264"/>
                    </a:moveTo>
                    <a:lnTo>
                      <a:pt x="97" y="282"/>
                    </a:lnTo>
                    <a:lnTo>
                      <a:pt x="100" y="299"/>
                    </a:lnTo>
                    <a:lnTo>
                      <a:pt x="103" y="316"/>
                    </a:lnTo>
                    <a:lnTo>
                      <a:pt x="110" y="331"/>
                    </a:lnTo>
                    <a:lnTo>
                      <a:pt x="117" y="346"/>
                    </a:lnTo>
                    <a:lnTo>
                      <a:pt x="125" y="361"/>
                    </a:lnTo>
                    <a:lnTo>
                      <a:pt x="135" y="374"/>
                    </a:lnTo>
                    <a:lnTo>
                      <a:pt x="146" y="386"/>
                    </a:lnTo>
                    <a:lnTo>
                      <a:pt x="158" y="398"/>
                    </a:lnTo>
                    <a:lnTo>
                      <a:pt x="171" y="408"/>
                    </a:lnTo>
                    <a:lnTo>
                      <a:pt x="185" y="417"/>
                    </a:lnTo>
                    <a:lnTo>
                      <a:pt x="200" y="424"/>
                    </a:lnTo>
                    <a:lnTo>
                      <a:pt x="215" y="430"/>
                    </a:lnTo>
                    <a:lnTo>
                      <a:pt x="232" y="434"/>
                    </a:lnTo>
                    <a:lnTo>
                      <a:pt x="248" y="437"/>
                    </a:lnTo>
                    <a:lnTo>
                      <a:pt x="266" y="438"/>
                    </a:lnTo>
                    <a:lnTo>
                      <a:pt x="283" y="437"/>
                    </a:lnTo>
                    <a:lnTo>
                      <a:pt x="301" y="434"/>
                    </a:lnTo>
                    <a:lnTo>
                      <a:pt x="317" y="430"/>
                    </a:lnTo>
                    <a:lnTo>
                      <a:pt x="333" y="424"/>
                    </a:lnTo>
                    <a:lnTo>
                      <a:pt x="348" y="417"/>
                    </a:lnTo>
                    <a:lnTo>
                      <a:pt x="361" y="408"/>
                    </a:lnTo>
                    <a:lnTo>
                      <a:pt x="374" y="398"/>
                    </a:lnTo>
                    <a:lnTo>
                      <a:pt x="386" y="386"/>
                    </a:lnTo>
                    <a:lnTo>
                      <a:pt x="397" y="374"/>
                    </a:lnTo>
                    <a:lnTo>
                      <a:pt x="407" y="361"/>
                    </a:lnTo>
                    <a:lnTo>
                      <a:pt x="416" y="346"/>
                    </a:lnTo>
                    <a:lnTo>
                      <a:pt x="423" y="331"/>
                    </a:lnTo>
                    <a:lnTo>
                      <a:pt x="428" y="316"/>
                    </a:lnTo>
                    <a:lnTo>
                      <a:pt x="433" y="299"/>
                    </a:lnTo>
                    <a:lnTo>
                      <a:pt x="436" y="282"/>
                    </a:lnTo>
                    <a:lnTo>
                      <a:pt x="436" y="264"/>
                    </a:lnTo>
                    <a:lnTo>
                      <a:pt x="436" y="248"/>
                    </a:lnTo>
                    <a:lnTo>
                      <a:pt x="433" y="230"/>
                    </a:lnTo>
                    <a:lnTo>
                      <a:pt x="428" y="214"/>
                    </a:lnTo>
                    <a:lnTo>
                      <a:pt x="423" y="197"/>
                    </a:lnTo>
                    <a:lnTo>
                      <a:pt x="416" y="183"/>
                    </a:lnTo>
                    <a:lnTo>
                      <a:pt x="407" y="169"/>
                    </a:lnTo>
                    <a:lnTo>
                      <a:pt x="397" y="154"/>
                    </a:lnTo>
                    <a:lnTo>
                      <a:pt x="386" y="142"/>
                    </a:lnTo>
                    <a:lnTo>
                      <a:pt x="374" y="131"/>
                    </a:lnTo>
                    <a:lnTo>
                      <a:pt x="361" y="121"/>
                    </a:lnTo>
                    <a:lnTo>
                      <a:pt x="348" y="113"/>
                    </a:lnTo>
                    <a:lnTo>
                      <a:pt x="333" y="105"/>
                    </a:lnTo>
                    <a:lnTo>
                      <a:pt x="317" y="99"/>
                    </a:lnTo>
                    <a:lnTo>
                      <a:pt x="301" y="95"/>
                    </a:lnTo>
                    <a:lnTo>
                      <a:pt x="283" y="92"/>
                    </a:lnTo>
                    <a:lnTo>
                      <a:pt x="266" y="92"/>
                    </a:lnTo>
                    <a:lnTo>
                      <a:pt x="248" y="92"/>
                    </a:lnTo>
                    <a:lnTo>
                      <a:pt x="232" y="95"/>
                    </a:lnTo>
                    <a:lnTo>
                      <a:pt x="215" y="99"/>
                    </a:lnTo>
                    <a:lnTo>
                      <a:pt x="200" y="105"/>
                    </a:lnTo>
                    <a:lnTo>
                      <a:pt x="185" y="113"/>
                    </a:lnTo>
                    <a:lnTo>
                      <a:pt x="171" y="121"/>
                    </a:lnTo>
                    <a:lnTo>
                      <a:pt x="158" y="131"/>
                    </a:lnTo>
                    <a:lnTo>
                      <a:pt x="146" y="142"/>
                    </a:lnTo>
                    <a:lnTo>
                      <a:pt x="135" y="154"/>
                    </a:lnTo>
                    <a:lnTo>
                      <a:pt x="125" y="169"/>
                    </a:lnTo>
                    <a:lnTo>
                      <a:pt x="117" y="183"/>
                    </a:lnTo>
                    <a:lnTo>
                      <a:pt x="110" y="197"/>
                    </a:lnTo>
                    <a:lnTo>
                      <a:pt x="103" y="214"/>
                    </a:lnTo>
                    <a:lnTo>
                      <a:pt x="100" y="230"/>
                    </a:lnTo>
                    <a:lnTo>
                      <a:pt x="97" y="248"/>
                    </a:lnTo>
                    <a:lnTo>
                      <a:pt x="96" y="2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549440" y="882720"/>
                <a:ext cx="144360" cy="98280"/>
              </a:xfrm>
              <a:custGeom>
                <a:avLst/>
                <a:gdLst/>
                <a:ahLst/>
                <a:rect l="l" t="t" r="r" b="b"/>
                <a:pathLst>
                  <a:path w="690" h="512">
                    <a:moveTo>
                      <a:pt x="96" y="77"/>
                    </a:moveTo>
                    <a:lnTo>
                      <a:pt x="98" y="77"/>
                    </a:lnTo>
                    <a:lnTo>
                      <a:pt x="109" y="62"/>
                    </a:lnTo>
                    <a:lnTo>
                      <a:pt x="122" y="47"/>
                    </a:lnTo>
                    <a:lnTo>
                      <a:pt x="137" y="34"/>
                    </a:lnTo>
                    <a:lnTo>
                      <a:pt x="154" y="23"/>
                    </a:lnTo>
                    <a:lnTo>
                      <a:pt x="171" y="13"/>
                    </a:lnTo>
                    <a:lnTo>
                      <a:pt x="190" y="6"/>
                    </a:lnTo>
                    <a:lnTo>
                      <a:pt x="210" y="2"/>
                    </a:lnTo>
                    <a:lnTo>
                      <a:pt x="229" y="0"/>
                    </a:lnTo>
                    <a:lnTo>
                      <a:pt x="253" y="2"/>
                    </a:lnTo>
                    <a:lnTo>
                      <a:pt x="274" y="6"/>
                    </a:lnTo>
                    <a:lnTo>
                      <a:pt x="295" y="13"/>
                    </a:lnTo>
                    <a:lnTo>
                      <a:pt x="314" y="24"/>
                    </a:lnTo>
                    <a:lnTo>
                      <a:pt x="330" y="36"/>
                    </a:lnTo>
                    <a:lnTo>
                      <a:pt x="346" y="51"/>
                    </a:lnTo>
                    <a:lnTo>
                      <a:pt x="360" y="69"/>
                    </a:lnTo>
                    <a:lnTo>
                      <a:pt x="373" y="88"/>
                    </a:lnTo>
                    <a:lnTo>
                      <a:pt x="385" y="69"/>
                    </a:lnTo>
                    <a:lnTo>
                      <a:pt x="401" y="52"/>
                    </a:lnTo>
                    <a:lnTo>
                      <a:pt x="418" y="37"/>
                    </a:lnTo>
                    <a:lnTo>
                      <a:pt x="438" y="24"/>
                    </a:lnTo>
                    <a:lnTo>
                      <a:pt x="458" y="14"/>
                    </a:lnTo>
                    <a:lnTo>
                      <a:pt x="480" y="6"/>
                    </a:lnTo>
                    <a:lnTo>
                      <a:pt x="503" y="2"/>
                    </a:lnTo>
                    <a:lnTo>
                      <a:pt x="526" y="0"/>
                    </a:lnTo>
                    <a:lnTo>
                      <a:pt x="550" y="1"/>
                    </a:lnTo>
                    <a:lnTo>
                      <a:pt x="571" y="5"/>
                    </a:lnTo>
                    <a:lnTo>
                      <a:pt x="589" y="11"/>
                    </a:lnTo>
                    <a:lnTo>
                      <a:pt x="607" y="17"/>
                    </a:lnTo>
                    <a:lnTo>
                      <a:pt x="622" y="27"/>
                    </a:lnTo>
                    <a:lnTo>
                      <a:pt x="635" y="38"/>
                    </a:lnTo>
                    <a:lnTo>
                      <a:pt x="647" y="51"/>
                    </a:lnTo>
                    <a:lnTo>
                      <a:pt x="657" y="65"/>
                    </a:lnTo>
                    <a:lnTo>
                      <a:pt x="666" y="81"/>
                    </a:lnTo>
                    <a:lnTo>
                      <a:pt x="673" y="97"/>
                    </a:lnTo>
                    <a:lnTo>
                      <a:pt x="678" y="115"/>
                    </a:lnTo>
                    <a:lnTo>
                      <a:pt x="684" y="133"/>
                    </a:lnTo>
                    <a:lnTo>
                      <a:pt x="689" y="173"/>
                    </a:lnTo>
                    <a:lnTo>
                      <a:pt x="690" y="215"/>
                    </a:lnTo>
                    <a:lnTo>
                      <a:pt x="690" y="512"/>
                    </a:lnTo>
                    <a:lnTo>
                      <a:pt x="595" y="512"/>
                    </a:lnTo>
                    <a:lnTo>
                      <a:pt x="595" y="230"/>
                    </a:lnTo>
                    <a:lnTo>
                      <a:pt x="595" y="206"/>
                    </a:lnTo>
                    <a:lnTo>
                      <a:pt x="593" y="181"/>
                    </a:lnTo>
                    <a:lnTo>
                      <a:pt x="588" y="157"/>
                    </a:lnTo>
                    <a:lnTo>
                      <a:pt x="580" y="133"/>
                    </a:lnTo>
                    <a:lnTo>
                      <a:pt x="568" y="114"/>
                    </a:lnTo>
                    <a:lnTo>
                      <a:pt x="561" y="106"/>
                    </a:lnTo>
                    <a:lnTo>
                      <a:pt x="552" y="98"/>
                    </a:lnTo>
                    <a:lnTo>
                      <a:pt x="542" y="93"/>
                    </a:lnTo>
                    <a:lnTo>
                      <a:pt x="531" y="88"/>
                    </a:lnTo>
                    <a:lnTo>
                      <a:pt x="517" y="86"/>
                    </a:lnTo>
                    <a:lnTo>
                      <a:pt x="503" y="85"/>
                    </a:lnTo>
                    <a:lnTo>
                      <a:pt x="484" y="86"/>
                    </a:lnTo>
                    <a:lnTo>
                      <a:pt x="469" y="90"/>
                    </a:lnTo>
                    <a:lnTo>
                      <a:pt x="454" y="95"/>
                    </a:lnTo>
                    <a:lnTo>
                      <a:pt x="442" y="103"/>
                    </a:lnTo>
                    <a:lnTo>
                      <a:pt x="432" y="112"/>
                    </a:lnTo>
                    <a:lnTo>
                      <a:pt x="423" y="123"/>
                    </a:lnTo>
                    <a:lnTo>
                      <a:pt x="416" y="135"/>
                    </a:lnTo>
                    <a:lnTo>
                      <a:pt x="409" y="148"/>
                    </a:lnTo>
                    <a:lnTo>
                      <a:pt x="401" y="176"/>
                    </a:lnTo>
                    <a:lnTo>
                      <a:pt x="396" y="207"/>
                    </a:lnTo>
                    <a:lnTo>
                      <a:pt x="394" y="238"/>
                    </a:lnTo>
                    <a:lnTo>
                      <a:pt x="393" y="267"/>
                    </a:lnTo>
                    <a:lnTo>
                      <a:pt x="393" y="512"/>
                    </a:lnTo>
                    <a:lnTo>
                      <a:pt x="297" y="512"/>
                    </a:lnTo>
                    <a:lnTo>
                      <a:pt x="297" y="249"/>
                    </a:lnTo>
                    <a:lnTo>
                      <a:pt x="297" y="224"/>
                    </a:lnTo>
                    <a:lnTo>
                      <a:pt x="295" y="196"/>
                    </a:lnTo>
                    <a:lnTo>
                      <a:pt x="292" y="169"/>
                    </a:lnTo>
                    <a:lnTo>
                      <a:pt x="285" y="142"/>
                    </a:lnTo>
                    <a:lnTo>
                      <a:pt x="280" y="130"/>
                    </a:lnTo>
                    <a:lnTo>
                      <a:pt x="273" y="119"/>
                    </a:lnTo>
                    <a:lnTo>
                      <a:pt x="267" y="110"/>
                    </a:lnTo>
                    <a:lnTo>
                      <a:pt x="258" y="102"/>
                    </a:lnTo>
                    <a:lnTo>
                      <a:pt x="247" y="95"/>
                    </a:lnTo>
                    <a:lnTo>
                      <a:pt x="235" y="90"/>
                    </a:lnTo>
                    <a:lnTo>
                      <a:pt x="222" y="86"/>
                    </a:lnTo>
                    <a:lnTo>
                      <a:pt x="206" y="85"/>
                    </a:lnTo>
                    <a:lnTo>
                      <a:pt x="188" y="86"/>
                    </a:lnTo>
                    <a:lnTo>
                      <a:pt x="172" y="90"/>
                    </a:lnTo>
                    <a:lnTo>
                      <a:pt x="158" y="95"/>
                    </a:lnTo>
                    <a:lnTo>
                      <a:pt x="146" y="103"/>
                    </a:lnTo>
                    <a:lnTo>
                      <a:pt x="135" y="112"/>
                    </a:lnTo>
                    <a:lnTo>
                      <a:pt x="126" y="123"/>
                    </a:lnTo>
                    <a:lnTo>
                      <a:pt x="119" y="135"/>
                    </a:lnTo>
                    <a:lnTo>
                      <a:pt x="113" y="148"/>
                    </a:lnTo>
                    <a:lnTo>
                      <a:pt x="103" y="176"/>
                    </a:lnTo>
                    <a:lnTo>
                      <a:pt x="99" y="207"/>
                    </a:lnTo>
                    <a:lnTo>
                      <a:pt x="97" y="238"/>
                    </a:lnTo>
                    <a:lnTo>
                      <a:pt x="96" y="267"/>
                    </a:lnTo>
                    <a:lnTo>
                      <a:pt x="96" y="512"/>
                    </a:lnTo>
                    <a:lnTo>
                      <a:pt x="0" y="512"/>
                    </a:lnTo>
                    <a:lnTo>
                      <a:pt x="0" y="15"/>
                    </a:lnTo>
                    <a:lnTo>
                      <a:pt x="96" y="15"/>
                    </a:lnTo>
                    <a:lnTo>
                      <a:pt x="96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908640" y="1022400"/>
                <a:ext cx="9082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a-DK" sz="600" spc="-1" strike="noStrike">
                    <a:solidFill>
                      <a:srgbClr val="ffffff"/>
                    </a:solidFill>
                    <a:latin typeface="Futura Bk BT"/>
                  </a:rPr>
                  <a:t>www.kirktelecom.dk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1" name=""/>
          <p:cNvSpPr/>
          <p:nvPr/>
        </p:nvSpPr>
        <p:spPr>
          <a:xfrm>
            <a:off x="2228760" y="0"/>
            <a:ext cx="76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CCFP Administration Program Ver.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2" name="" descr=""/>
          <p:cNvPicPr/>
          <p:nvPr/>
        </p:nvPicPr>
        <p:blipFill>
          <a:blip r:embed="rId2"/>
          <a:stretch/>
        </p:blipFill>
        <p:spPr>
          <a:xfrm>
            <a:off x="2797200" y="517680"/>
            <a:ext cx="6334200" cy="4457520"/>
          </a:xfrm>
          <a:prstGeom prst="rect">
            <a:avLst/>
          </a:prstGeom>
          <a:ln w="0">
            <a:noFill/>
          </a:ln>
        </p:spPr>
      </p:pic>
      <p:sp>
        <p:nvSpPr>
          <p:cNvPr id="1093" name=""/>
          <p:cNvSpPr/>
          <p:nvPr/>
        </p:nvSpPr>
        <p:spPr>
          <a:xfrm>
            <a:off x="2793600" y="4975200"/>
            <a:ext cx="644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хранение/загрузка данных абонентов и параметров кар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W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файле/из файла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681280" y="5616720"/>
            <a:ext cx="655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!!! Открытие файла, даже уже загруженного в систему потребу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торной прописки всех абонент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94D9-2B9B-47A8-932B-538D0F776071}" type="slidenum">
              <a:t>33</a:t>
            </a:fld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2889360" y="457200"/>
            <a:ext cx="6521400" cy="0"/>
          </a:xfrm>
          <a:prstGeom prst="line">
            <a:avLst/>
          </a:prstGeom>
          <a:ln cap="sq"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0" y="0"/>
            <a:ext cx="6129000" cy="6858000"/>
            <a:chOff x="0" y="0"/>
            <a:chExt cx="6129000" cy="6858000"/>
          </a:xfrm>
        </p:grpSpPr>
        <p:sp>
          <p:nvSpPr>
            <p:cNvPr id="1097" name=""/>
            <p:cNvSpPr/>
            <p:nvPr/>
          </p:nvSpPr>
          <p:spPr>
            <a:xfrm>
              <a:off x="0" y="0"/>
              <a:ext cx="2228760" cy="3429000"/>
            </a:xfrm>
            <a:prstGeom prst="rect">
              <a:avLst/>
            </a:prstGeom>
            <a:solidFill>
              <a:srgbClr val="000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0" y="3429000"/>
              <a:ext cx="2228760" cy="3429000"/>
            </a:xfrm>
            <a:prstGeom prst="rect">
              <a:avLst/>
            </a:pr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91836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79924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1" name="" descr=""/>
            <p:cNvPicPr/>
            <p:nvPr/>
          </p:nvPicPr>
          <p:blipFill>
            <a:blip r:embed="rId1"/>
            <a:stretch/>
          </p:blipFill>
          <p:spPr>
            <a:xfrm>
              <a:off x="201240" y="2055960"/>
              <a:ext cx="1705680" cy="271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2" name=""/>
            <p:cNvGrpSpPr/>
            <p:nvPr/>
          </p:nvGrpSpPr>
          <p:grpSpPr>
            <a:xfrm>
              <a:off x="211320" y="380880"/>
              <a:ext cx="1605600" cy="821880"/>
              <a:chOff x="211320" y="380880"/>
              <a:chExt cx="1605600" cy="821880"/>
            </a:xfrm>
          </p:grpSpPr>
          <p:sp>
            <p:nvSpPr>
              <p:cNvPr id="1103" name=""/>
              <p:cNvSpPr/>
              <p:nvPr/>
            </p:nvSpPr>
            <p:spPr>
              <a:xfrm>
                <a:off x="403920" y="38088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7">
                    <a:moveTo>
                      <a:pt x="29" y="1655"/>
                    </a:moveTo>
                    <a:lnTo>
                      <a:pt x="79" y="1682"/>
                    </a:lnTo>
                    <a:lnTo>
                      <a:pt x="623" y="1957"/>
                    </a:lnTo>
                    <a:lnTo>
                      <a:pt x="684" y="1987"/>
                    </a:lnTo>
                    <a:lnTo>
                      <a:pt x="687" y="1916"/>
                    </a:lnTo>
                    <a:lnTo>
                      <a:pt x="691" y="1864"/>
                    </a:lnTo>
                    <a:lnTo>
                      <a:pt x="697" y="1814"/>
                    </a:lnTo>
                    <a:lnTo>
                      <a:pt x="704" y="1763"/>
                    </a:lnTo>
                    <a:lnTo>
                      <a:pt x="713" y="1714"/>
                    </a:lnTo>
                    <a:lnTo>
                      <a:pt x="724" y="1665"/>
                    </a:lnTo>
                    <a:lnTo>
                      <a:pt x="737" y="1616"/>
                    </a:lnTo>
                    <a:lnTo>
                      <a:pt x="751" y="1569"/>
                    </a:lnTo>
                    <a:lnTo>
                      <a:pt x="767" y="1522"/>
                    </a:lnTo>
                    <a:lnTo>
                      <a:pt x="784" y="1476"/>
                    </a:lnTo>
                    <a:lnTo>
                      <a:pt x="803" y="1431"/>
                    </a:lnTo>
                    <a:lnTo>
                      <a:pt x="824" y="1386"/>
                    </a:lnTo>
                    <a:lnTo>
                      <a:pt x="846" y="1343"/>
                    </a:lnTo>
                    <a:lnTo>
                      <a:pt x="869" y="1300"/>
                    </a:lnTo>
                    <a:lnTo>
                      <a:pt x="894" y="1257"/>
                    </a:lnTo>
                    <a:lnTo>
                      <a:pt x="920" y="1217"/>
                    </a:lnTo>
                    <a:lnTo>
                      <a:pt x="948" y="1177"/>
                    </a:lnTo>
                    <a:lnTo>
                      <a:pt x="976" y="1137"/>
                    </a:lnTo>
                    <a:lnTo>
                      <a:pt x="1007" y="1100"/>
                    </a:lnTo>
                    <a:lnTo>
                      <a:pt x="1038" y="1063"/>
                    </a:lnTo>
                    <a:lnTo>
                      <a:pt x="1071" y="1027"/>
                    </a:lnTo>
                    <a:lnTo>
                      <a:pt x="1105" y="993"/>
                    </a:lnTo>
                    <a:lnTo>
                      <a:pt x="1140" y="959"/>
                    </a:lnTo>
                    <a:lnTo>
                      <a:pt x="1176" y="927"/>
                    </a:lnTo>
                    <a:lnTo>
                      <a:pt x="1213" y="896"/>
                    </a:lnTo>
                    <a:lnTo>
                      <a:pt x="1250" y="866"/>
                    </a:lnTo>
                    <a:lnTo>
                      <a:pt x="1290" y="838"/>
                    </a:lnTo>
                    <a:lnTo>
                      <a:pt x="1331" y="810"/>
                    </a:lnTo>
                    <a:lnTo>
                      <a:pt x="1372" y="785"/>
                    </a:lnTo>
                    <a:lnTo>
                      <a:pt x="1414" y="760"/>
                    </a:lnTo>
                    <a:lnTo>
                      <a:pt x="1457" y="737"/>
                    </a:lnTo>
                    <a:lnTo>
                      <a:pt x="1501" y="716"/>
                    </a:lnTo>
                    <a:lnTo>
                      <a:pt x="1546" y="696"/>
                    </a:lnTo>
                    <a:lnTo>
                      <a:pt x="1584" y="680"/>
                    </a:lnTo>
                    <a:lnTo>
                      <a:pt x="1594" y="673"/>
                    </a:lnTo>
                    <a:lnTo>
                      <a:pt x="1600" y="665"/>
                    </a:lnTo>
                    <a:lnTo>
                      <a:pt x="1604" y="658"/>
                    </a:lnTo>
                    <a:lnTo>
                      <a:pt x="1606" y="650"/>
                    </a:lnTo>
                    <a:lnTo>
                      <a:pt x="1605" y="638"/>
                    </a:lnTo>
                    <a:lnTo>
                      <a:pt x="1603" y="632"/>
                    </a:lnTo>
                    <a:lnTo>
                      <a:pt x="1586" y="586"/>
                    </a:lnTo>
                    <a:lnTo>
                      <a:pt x="1385" y="31"/>
                    </a:lnTo>
                    <a:lnTo>
                      <a:pt x="1381" y="18"/>
                    </a:lnTo>
                    <a:lnTo>
                      <a:pt x="1380" y="13"/>
                    </a:lnTo>
                    <a:lnTo>
                      <a:pt x="1372" y="5"/>
                    </a:lnTo>
                    <a:lnTo>
                      <a:pt x="1367" y="2"/>
                    </a:lnTo>
                    <a:lnTo>
                      <a:pt x="1359" y="0"/>
                    </a:lnTo>
                    <a:lnTo>
                      <a:pt x="1349" y="0"/>
                    </a:lnTo>
                    <a:lnTo>
                      <a:pt x="1337" y="3"/>
                    </a:lnTo>
                    <a:lnTo>
                      <a:pt x="1307" y="14"/>
                    </a:lnTo>
                    <a:lnTo>
                      <a:pt x="1248" y="37"/>
                    </a:lnTo>
                    <a:lnTo>
                      <a:pt x="1190" y="63"/>
                    </a:lnTo>
                    <a:lnTo>
                      <a:pt x="1133" y="89"/>
                    </a:lnTo>
                    <a:lnTo>
                      <a:pt x="1076" y="119"/>
                    </a:lnTo>
                    <a:lnTo>
                      <a:pt x="1021" y="149"/>
                    </a:lnTo>
                    <a:lnTo>
                      <a:pt x="966" y="181"/>
                    </a:lnTo>
                    <a:lnTo>
                      <a:pt x="913" y="215"/>
                    </a:lnTo>
                    <a:lnTo>
                      <a:pt x="861" y="251"/>
                    </a:lnTo>
                    <a:lnTo>
                      <a:pt x="810" y="289"/>
                    </a:lnTo>
                    <a:lnTo>
                      <a:pt x="759" y="328"/>
                    </a:lnTo>
                    <a:lnTo>
                      <a:pt x="711" y="369"/>
                    </a:lnTo>
                    <a:lnTo>
                      <a:pt x="663" y="411"/>
                    </a:lnTo>
                    <a:lnTo>
                      <a:pt x="616" y="455"/>
                    </a:lnTo>
                    <a:lnTo>
                      <a:pt x="572" y="501"/>
                    </a:lnTo>
                    <a:lnTo>
                      <a:pt x="528" y="547"/>
                    </a:lnTo>
                    <a:lnTo>
                      <a:pt x="485" y="595"/>
                    </a:lnTo>
                    <a:lnTo>
                      <a:pt x="443" y="645"/>
                    </a:lnTo>
                    <a:lnTo>
                      <a:pt x="404" y="695"/>
                    </a:lnTo>
                    <a:lnTo>
                      <a:pt x="365" y="747"/>
                    </a:lnTo>
                    <a:lnTo>
                      <a:pt x="329" y="800"/>
                    </a:lnTo>
                    <a:lnTo>
                      <a:pt x="294" y="854"/>
                    </a:lnTo>
                    <a:lnTo>
                      <a:pt x="260" y="910"/>
                    </a:lnTo>
                    <a:lnTo>
                      <a:pt x="228" y="967"/>
                    </a:lnTo>
                    <a:lnTo>
                      <a:pt x="197" y="1024"/>
                    </a:lnTo>
                    <a:lnTo>
                      <a:pt x="169" y="1084"/>
                    </a:lnTo>
                    <a:lnTo>
                      <a:pt x="142" y="1144"/>
                    </a:lnTo>
                    <a:lnTo>
                      <a:pt x="116" y="1204"/>
                    </a:lnTo>
                    <a:lnTo>
                      <a:pt x="93" y="1266"/>
                    </a:lnTo>
                    <a:lnTo>
                      <a:pt x="71" y="1329"/>
                    </a:lnTo>
                    <a:lnTo>
                      <a:pt x="52" y="1392"/>
                    </a:lnTo>
                    <a:lnTo>
                      <a:pt x="34" y="1457"/>
                    </a:lnTo>
                    <a:lnTo>
                      <a:pt x="18" y="1522"/>
                    </a:lnTo>
                    <a:lnTo>
                      <a:pt x="2" y="1593"/>
                    </a:lnTo>
                    <a:lnTo>
                      <a:pt x="0" y="1610"/>
                    </a:lnTo>
                    <a:lnTo>
                      <a:pt x="1" y="1623"/>
                    </a:lnTo>
                    <a:lnTo>
                      <a:pt x="6" y="1634"/>
                    </a:lnTo>
                    <a:lnTo>
                      <a:pt x="11" y="1643"/>
                    </a:lnTo>
                    <a:lnTo>
                      <a:pt x="17" y="1648"/>
                    </a:lnTo>
                    <a:lnTo>
                      <a:pt x="23" y="1652"/>
                    </a:lnTo>
                    <a:lnTo>
                      <a:pt x="29" y="1655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03920" y="77004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5">
                    <a:moveTo>
                      <a:pt x="29" y="333"/>
                    </a:moveTo>
                    <a:lnTo>
                      <a:pt x="79" y="306"/>
                    </a:lnTo>
                    <a:lnTo>
                      <a:pt x="623" y="31"/>
                    </a:lnTo>
                    <a:lnTo>
                      <a:pt x="684" y="0"/>
                    </a:lnTo>
                    <a:lnTo>
                      <a:pt x="687" y="72"/>
                    </a:lnTo>
                    <a:lnTo>
                      <a:pt x="691" y="123"/>
                    </a:lnTo>
                    <a:lnTo>
                      <a:pt x="697" y="174"/>
                    </a:lnTo>
                    <a:lnTo>
                      <a:pt x="704" y="224"/>
                    </a:lnTo>
                    <a:lnTo>
                      <a:pt x="713" y="273"/>
                    </a:lnTo>
                    <a:lnTo>
                      <a:pt x="724" y="323"/>
                    </a:lnTo>
                    <a:lnTo>
                      <a:pt x="737" y="371"/>
                    </a:lnTo>
                    <a:lnTo>
                      <a:pt x="751" y="418"/>
                    </a:lnTo>
                    <a:lnTo>
                      <a:pt x="767" y="465"/>
                    </a:lnTo>
                    <a:lnTo>
                      <a:pt x="784" y="512"/>
                    </a:lnTo>
                    <a:lnTo>
                      <a:pt x="803" y="557"/>
                    </a:lnTo>
                    <a:lnTo>
                      <a:pt x="824" y="602"/>
                    </a:lnTo>
                    <a:lnTo>
                      <a:pt x="846" y="645"/>
                    </a:lnTo>
                    <a:lnTo>
                      <a:pt x="869" y="688"/>
                    </a:lnTo>
                    <a:lnTo>
                      <a:pt x="894" y="730"/>
                    </a:lnTo>
                    <a:lnTo>
                      <a:pt x="920" y="771"/>
                    </a:lnTo>
                    <a:lnTo>
                      <a:pt x="948" y="811"/>
                    </a:lnTo>
                    <a:lnTo>
                      <a:pt x="976" y="850"/>
                    </a:lnTo>
                    <a:lnTo>
                      <a:pt x="1007" y="888"/>
                    </a:lnTo>
                    <a:lnTo>
                      <a:pt x="1038" y="924"/>
                    </a:lnTo>
                    <a:lnTo>
                      <a:pt x="1071" y="961"/>
                    </a:lnTo>
                    <a:lnTo>
                      <a:pt x="1105" y="995"/>
                    </a:lnTo>
                    <a:lnTo>
                      <a:pt x="1140" y="1029"/>
                    </a:lnTo>
                    <a:lnTo>
                      <a:pt x="1176" y="1061"/>
                    </a:lnTo>
                    <a:lnTo>
                      <a:pt x="1213" y="1092"/>
                    </a:lnTo>
                    <a:lnTo>
                      <a:pt x="1252" y="1122"/>
                    </a:lnTo>
                    <a:lnTo>
                      <a:pt x="1290" y="1151"/>
                    </a:lnTo>
                    <a:lnTo>
                      <a:pt x="1331" y="1177"/>
                    </a:lnTo>
                    <a:lnTo>
                      <a:pt x="1372" y="1203"/>
                    </a:lnTo>
                    <a:lnTo>
                      <a:pt x="1414" y="1227"/>
                    </a:lnTo>
                    <a:lnTo>
                      <a:pt x="1457" y="1250"/>
                    </a:lnTo>
                    <a:lnTo>
                      <a:pt x="1501" y="1271"/>
                    </a:lnTo>
                    <a:lnTo>
                      <a:pt x="1546" y="1292"/>
                    </a:lnTo>
                    <a:lnTo>
                      <a:pt x="1584" y="1308"/>
                    </a:lnTo>
                    <a:lnTo>
                      <a:pt x="1594" y="1315"/>
                    </a:lnTo>
                    <a:lnTo>
                      <a:pt x="1600" y="1323"/>
                    </a:lnTo>
                    <a:lnTo>
                      <a:pt x="1605" y="1331"/>
                    </a:lnTo>
                    <a:lnTo>
                      <a:pt x="1606" y="1337"/>
                    </a:lnTo>
                    <a:lnTo>
                      <a:pt x="1605" y="1349"/>
                    </a:lnTo>
                    <a:lnTo>
                      <a:pt x="1603" y="1355"/>
                    </a:lnTo>
                    <a:lnTo>
                      <a:pt x="1586" y="1401"/>
                    </a:lnTo>
                    <a:lnTo>
                      <a:pt x="1388" y="1950"/>
                    </a:lnTo>
                    <a:lnTo>
                      <a:pt x="1381" y="1965"/>
                    </a:lnTo>
                    <a:lnTo>
                      <a:pt x="1379" y="1970"/>
                    </a:lnTo>
                    <a:lnTo>
                      <a:pt x="1371" y="1978"/>
                    </a:lnTo>
                    <a:lnTo>
                      <a:pt x="1366" y="1983"/>
                    </a:lnTo>
                    <a:lnTo>
                      <a:pt x="1358" y="1985"/>
                    </a:lnTo>
                    <a:lnTo>
                      <a:pt x="1348" y="1985"/>
                    </a:lnTo>
                    <a:lnTo>
                      <a:pt x="1338" y="1983"/>
                    </a:lnTo>
                    <a:lnTo>
                      <a:pt x="1302" y="1969"/>
                    </a:lnTo>
                    <a:lnTo>
                      <a:pt x="1242" y="1942"/>
                    </a:lnTo>
                    <a:lnTo>
                      <a:pt x="1181" y="1915"/>
                    </a:lnTo>
                    <a:lnTo>
                      <a:pt x="1123" y="1886"/>
                    </a:lnTo>
                    <a:lnTo>
                      <a:pt x="1066" y="1857"/>
                    </a:lnTo>
                    <a:lnTo>
                      <a:pt x="1009" y="1824"/>
                    </a:lnTo>
                    <a:lnTo>
                      <a:pt x="954" y="1791"/>
                    </a:lnTo>
                    <a:lnTo>
                      <a:pt x="901" y="1756"/>
                    </a:lnTo>
                    <a:lnTo>
                      <a:pt x="848" y="1719"/>
                    </a:lnTo>
                    <a:lnTo>
                      <a:pt x="796" y="1682"/>
                    </a:lnTo>
                    <a:lnTo>
                      <a:pt x="747" y="1642"/>
                    </a:lnTo>
                    <a:lnTo>
                      <a:pt x="698" y="1602"/>
                    </a:lnTo>
                    <a:lnTo>
                      <a:pt x="650" y="1560"/>
                    </a:lnTo>
                    <a:lnTo>
                      <a:pt x="604" y="1517"/>
                    </a:lnTo>
                    <a:lnTo>
                      <a:pt x="559" y="1472"/>
                    </a:lnTo>
                    <a:lnTo>
                      <a:pt x="517" y="1426"/>
                    </a:lnTo>
                    <a:lnTo>
                      <a:pt x="475" y="1379"/>
                    </a:lnTo>
                    <a:lnTo>
                      <a:pt x="434" y="1331"/>
                    </a:lnTo>
                    <a:lnTo>
                      <a:pt x="395" y="1281"/>
                    </a:lnTo>
                    <a:lnTo>
                      <a:pt x="358" y="1230"/>
                    </a:lnTo>
                    <a:lnTo>
                      <a:pt x="323" y="1178"/>
                    </a:lnTo>
                    <a:lnTo>
                      <a:pt x="287" y="1124"/>
                    </a:lnTo>
                    <a:lnTo>
                      <a:pt x="255" y="1070"/>
                    </a:lnTo>
                    <a:lnTo>
                      <a:pt x="224" y="1014"/>
                    </a:lnTo>
                    <a:lnTo>
                      <a:pt x="194" y="957"/>
                    </a:lnTo>
                    <a:lnTo>
                      <a:pt x="166" y="900"/>
                    </a:lnTo>
                    <a:lnTo>
                      <a:pt x="139" y="841"/>
                    </a:lnTo>
                    <a:lnTo>
                      <a:pt x="115" y="781"/>
                    </a:lnTo>
                    <a:lnTo>
                      <a:pt x="92" y="720"/>
                    </a:lnTo>
                    <a:lnTo>
                      <a:pt x="71" y="658"/>
                    </a:lnTo>
                    <a:lnTo>
                      <a:pt x="52" y="595"/>
                    </a:lnTo>
                    <a:lnTo>
                      <a:pt x="34" y="530"/>
                    </a:lnTo>
                    <a:lnTo>
                      <a:pt x="18" y="465"/>
                    </a:lnTo>
                    <a:lnTo>
                      <a:pt x="3" y="394"/>
                    </a:lnTo>
                    <a:lnTo>
                      <a:pt x="0" y="378"/>
                    </a:lnTo>
                    <a:lnTo>
                      <a:pt x="1" y="364"/>
                    </a:lnTo>
                    <a:lnTo>
                      <a:pt x="6" y="353"/>
                    </a:lnTo>
                    <a:lnTo>
                      <a:pt x="11" y="346"/>
                    </a:lnTo>
                    <a:lnTo>
                      <a:pt x="17" y="339"/>
                    </a:lnTo>
                    <a:lnTo>
                      <a:pt x="23" y="336"/>
                    </a:lnTo>
                    <a:lnTo>
                      <a:pt x="29" y="333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667440" y="698400"/>
                <a:ext cx="149400" cy="147600"/>
              </a:xfrm>
              <a:custGeom>
                <a:avLst/>
                <a:gdLst/>
                <a:ahLst/>
                <a:rect l="l" t="t" r="r" b="b"/>
                <a:pathLst>
                  <a:path w="714" h="759">
                    <a:moveTo>
                      <a:pt x="699" y="379"/>
                    </a:moveTo>
                    <a:lnTo>
                      <a:pt x="706" y="375"/>
                    </a:lnTo>
                    <a:lnTo>
                      <a:pt x="710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09" y="351"/>
                    </a:lnTo>
                    <a:lnTo>
                      <a:pt x="705" y="346"/>
                    </a:lnTo>
                    <a:lnTo>
                      <a:pt x="699" y="342"/>
                    </a:lnTo>
                    <a:lnTo>
                      <a:pt x="35" y="4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3" y="11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735"/>
                    </a:lnTo>
                    <a:lnTo>
                      <a:pt x="1" y="743"/>
                    </a:lnTo>
                    <a:lnTo>
                      <a:pt x="3" y="748"/>
                    </a:lnTo>
                    <a:lnTo>
                      <a:pt x="5" y="753"/>
                    </a:lnTo>
                    <a:lnTo>
                      <a:pt x="10" y="757"/>
                    </a:lnTo>
                    <a:lnTo>
                      <a:pt x="15" y="759"/>
                    </a:lnTo>
                    <a:lnTo>
                      <a:pt x="21" y="759"/>
                    </a:lnTo>
                    <a:lnTo>
                      <a:pt x="27" y="758"/>
                    </a:lnTo>
                    <a:lnTo>
                      <a:pt x="34" y="755"/>
                    </a:lnTo>
                    <a:lnTo>
                      <a:pt x="699" y="379"/>
                    </a:lnTo>
                    <a:close/>
                  </a:path>
                </a:pathLst>
              </a:custGeom>
              <a:solidFill>
                <a:srgbClr val="00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211320" y="701640"/>
                <a:ext cx="149760" cy="146160"/>
              </a:xfrm>
              <a:custGeom>
                <a:avLst/>
                <a:gdLst/>
                <a:ahLst/>
                <a:rect l="l" t="t" r="r" b="b"/>
                <a:pathLst>
                  <a:path w="714" h="758">
                    <a:moveTo>
                      <a:pt x="701" y="379"/>
                    </a:moveTo>
                    <a:lnTo>
                      <a:pt x="706" y="374"/>
                    </a:lnTo>
                    <a:lnTo>
                      <a:pt x="711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11" y="350"/>
                    </a:lnTo>
                    <a:lnTo>
                      <a:pt x="706" y="346"/>
                    </a:lnTo>
                    <a:lnTo>
                      <a:pt x="700" y="342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0" y="734"/>
                    </a:lnTo>
                    <a:lnTo>
                      <a:pt x="1" y="742"/>
                    </a:lnTo>
                    <a:lnTo>
                      <a:pt x="3" y="749"/>
                    </a:lnTo>
                    <a:lnTo>
                      <a:pt x="7" y="753"/>
                    </a:lnTo>
                    <a:lnTo>
                      <a:pt x="10" y="756"/>
                    </a:lnTo>
                    <a:lnTo>
                      <a:pt x="15" y="758"/>
                    </a:lnTo>
                    <a:lnTo>
                      <a:pt x="21" y="758"/>
                    </a:lnTo>
                    <a:lnTo>
                      <a:pt x="27" y="757"/>
                    </a:lnTo>
                    <a:lnTo>
                      <a:pt x="34" y="754"/>
                    </a:lnTo>
                    <a:lnTo>
                      <a:pt x="701" y="379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011960" y="517680"/>
                <a:ext cx="195840" cy="250560"/>
              </a:xfrm>
              <a:custGeom>
                <a:avLst/>
                <a:gdLst/>
                <a:ahLst/>
                <a:rect l="l" t="t" r="r" b="b"/>
                <a:pathLst>
                  <a:path w="930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30" y="1293"/>
                    </a:lnTo>
                    <a:lnTo>
                      <a:pt x="713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230480" y="517680"/>
                <a:ext cx="34200" cy="25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316520" y="517680"/>
                <a:ext cx="168480" cy="250560"/>
              </a:xfrm>
              <a:custGeom>
                <a:avLst/>
                <a:gdLst/>
                <a:ahLst/>
                <a:rect l="l" t="t" r="r" b="b"/>
                <a:pathLst>
                  <a:path w="803" h="1293">
                    <a:moveTo>
                      <a:pt x="803" y="1293"/>
                    </a:moveTo>
                    <a:lnTo>
                      <a:pt x="607" y="1293"/>
                    </a:lnTo>
                    <a:lnTo>
                      <a:pt x="228" y="746"/>
                    </a:lnTo>
                    <a:lnTo>
                      <a:pt x="161" y="746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283" y="1"/>
                    </a:lnTo>
                    <a:lnTo>
                      <a:pt x="327" y="4"/>
                    </a:lnTo>
                    <a:lnTo>
                      <a:pt x="370" y="8"/>
                    </a:lnTo>
                    <a:lnTo>
                      <a:pt x="413" y="16"/>
                    </a:lnTo>
                    <a:lnTo>
                      <a:pt x="456" y="27"/>
                    </a:lnTo>
                    <a:lnTo>
                      <a:pt x="497" y="41"/>
                    </a:lnTo>
                    <a:lnTo>
                      <a:pt x="536" y="61"/>
                    </a:lnTo>
                    <a:lnTo>
                      <a:pt x="556" y="73"/>
                    </a:lnTo>
                    <a:lnTo>
                      <a:pt x="574" y="87"/>
                    </a:lnTo>
                    <a:lnTo>
                      <a:pt x="592" y="101"/>
                    </a:lnTo>
                    <a:lnTo>
                      <a:pt x="608" y="118"/>
                    </a:lnTo>
                    <a:lnTo>
                      <a:pt x="623" y="135"/>
                    </a:lnTo>
                    <a:lnTo>
                      <a:pt x="637" y="153"/>
                    </a:lnTo>
                    <a:lnTo>
                      <a:pt x="650" y="173"/>
                    </a:lnTo>
                    <a:lnTo>
                      <a:pt x="661" y="192"/>
                    </a:lnTo>
                    <a:lnTo>
                      <a:pt x="671" y="212"/>
                    </a:lnTo>
                    <a:lnTo>
                      <a:pt x="680" y="233"/>
                    </a:lnTo>
                    <a:lnTo>
                      <a:pt x="694" y="277"/>
                    </a:lnTo>
                    <a:lnTo>
                      <a:pt x="700" y="300"/>
                    </a:lnTo>
                    <a:lnTo>
                      <a:pt x="703" y="323"/>
                    </a:lnTo>
                    <a:lnTo>
                      <a:pt x="705" y="346"/>
                    </a:lnTo>
                    <a:lnTo>
                      <a:pt x="705" y="369"/>
                    </a:lnTo>
                    <a:lnTo>
                      <a:pt x="704" y="403"/>
                    </a:lnTo>
                    <a:lnTo>
                      <a:pt x="700" y="436"/>
                    </a:lnTo>
                    <a:lnTo>
                      <a:pt x="693" y="469"/>
                    </a:lnTo>
                    <a:lnTo>
                      <a:pt x="683" y="500"/>
                    </a:lnTo>
                    <a:lnTo>
                      <a:pt x="671" y="531"/>
                    </a:lnTo>
                    <a:lnTo>
                      <a:pt x="657" y="558"/>
                    </a:lnTo>
                    <a:lnTo>
                      <a:pt x="639" y="585"/>
                    </a:lnTo>
                    <a:lnTo>
                      <a:pt x="621" y="611"/>
                    </a:lnTo>
                    <a:lnTo>
                      <a:pt x="599" y="634"/>
                    </a:lnTo>
                    <a:lnTo>
                      <a:pt x="576" y="655"/>
                    </a:lnTo>
                    <a:lnTo>
                      <a:pt x="550" y="673"/>
                    </a:lnTo>
                    <a:lnTo>
                      <a:pt x="523" y="691"/>
                    </a:lnTo>
                    <a:lnTo>
                      <a:pt x="493" y="704"/>
                    </a:lnTo>
                    <a:lnTo>
                      <a:pt x="463" y="716"/>
                    </a:lnTo>
                    <a:lnTo>
                      <a:pt x="430" y="725"/>
                    </a:lnTo>
                    <a:lnTo>
                      <a:pt x="396" y="730"/>
                    </a:lnTo>
                    <a:lnTo>
                      <a:pt x="803" y="1293"/>
                    </a:lnTo>
                    <a:close/>
                    <a:moveTo>
                      <a:pt x="161" y="612"/>
                    </a:moveTo>
                    <a:lnTo>
                      <a:pt x="213" y="612"/>
                    </a:lnTo>
                    <a:lnTo>
                      <a:pt x="274" y="611"/>
                    </a:lnTo>
                    <a:lnTo>
                      <a:pt x="335" y="604"/>
                    </a:lnTo>
                    <a:lnTo>
                      <a:pt x="365" y="599"/>
                    </a:lnTo>
                    <a:lnTo>
                      <a:pt x="393" y="591"/>
                    </a:lnTo>
                    <a:lnTo>
                      <a:pt x="420" y="582"/>
                    </a:lnTo>
                    <a:lnTo>
                      <a:pt x="445" y="571"/>
                    </a:lnTo>
                    <a:lnTo>
                      <a:pt x="469" y="557"/>
                    </a:lnTo>
                    <a:lnTo>
                      <a:pt x="490" y="540"/>
                    </a:lnTo>
                    <a:lnTo>
                      <a:pt x="509" y="522"/>
                    </a:lnTo>
                    <a:lnTo>
                      <a:pt x="524" y="499"/>
                    </a:lnTo>
                    <a:lnTo>
                      <a:pt x="537" y="473"/>
                    </a:lnTo>
                    <a:lnTo>
                      <a:pt x="547" y="445"/>
                    </a:lnTo>
                    <a:lnTo>
                      <a:pt x="553" y="412"/>
                    </a:lnTo>
                    <a:lnTo>
                      <a:pt x="555" y="376"/>
                    </a:lnTo>
                    <a:lnTo>
                      <a:pt x="553" y="339"/>
                    </a:lnTo>
                    <a:lnTo>
                      <a:pt x="546" y="308"/>
                    </a:lnTo>
                    <a:lnTo>
                      <a:pt x="536" y="279"/>
                    </a:lnTo>
                    <a:lnTo>
                      <a:pt x="523" y="254"/>
                    </a:lnTo>
                    <a:lnTo>
                      <a:pt x="505" y="232"/>
                    </a:lnTo>
                    <a:lnTo>
                      <a:pt x="486" y="213"/>
                    </a:lnTo>
                    <a:lnTo>
                      <a:pt x="464" y="198"/>
                    </a:lnTo>
                    <a:lnTo>
                      <a:pt x="440" y="184"/>
                    </a:lnTo>
                    <a:lnTo>
                      <a:pt x="413" y="173"/>
                    </a:lnTo>
                    <a:lnTo>
                      <a:pt x="385" y="164"/>
                    </a:lnTo>
                    <a:lnTo>
                      <a:pt x="356" y="157"/>
                    </a:lnTo>
                    <a:lnTo>
                      <a:pt x="325" y="152"/>
                    </a:lnTo>
                    <a:lnTo>
                      <a:pt x="296" y="148"/>
                    </a:lnTo>
                    <a:lnTo>
                      <a:pt x="265" y="146"/>
                    </a:lnTo>
                    <a:lnTo>
                      <a:pt x="204" y="144"/>
                    </a:lnTo>
                    <a:lnTo>
                      <a:pt x="161" y="144"/>
                    </a:lnTo>
                    <a:lnTo>
                      <a:pt x="161" y="6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502280" y="517680"/>
                <a:ext cx="196200" cy="250560"/>
              </a:xfrm>
              <a:custGeom>
                <a:avLst/>
                <a:gdLst/>
                <a:ahLst/>
                <a:rect l="l" t="t" r="r" b="b"/>
                <a:pathLst>
                  <a:path w="929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29" y="1293"/>
                    </a:lnTo>
                    <a:lnTo>
                      <a:pt x="712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999720" y="847800"/>
                <a:ext cx="54720" cy="133200"/>
              </a:xfrm>
              <a:custGeom>
                <a:avLst/>
                <a:gdLst/>
                <a:ahLst/>
                <a:rect l="l" t="t" r="r" b="b"/>
                <a:pathLst>
                  <a:path w="264" h="687">
                    <a:moveTo>
                      <a:pt x="169" y="687"/>
                    </a:moveTo>
                    <a:lnTo>
                      <a:pt x="74" y="687"/>
                    </a:lnTo>
                    <a:lnTo>
                      <a:pt x="74" y="279"/>
                    </a:lnTo>
                    <a:lnTo>
                      <a:pt x="0" y="279"/>
                    </a:lnTo>
                    <a:lnTo>
                      <a:pt x="0" y="190"/>
                    </a:lnTo>
                    <a:lnTo>
                      <a:pt x="74" y="190"/>
                    </a:lnTo>
                    <a:lnTo>
                      <a:pt x="74" y="0"/>
                    </a:lnTo>
                    <a:lnTo>
                      <a:pt x="169" y="0"/>
                    </a:lnTo>
                    <a:lnTo>
                      <a:pt x="169" y="190"/>
                    </a:lnTo>
                    <a:lnTo>
                      <a:pt x="264" y="190"/>
                    </a:lnTo>
                    <a:lnTo>
                      <a:pt x="264" y="279"/>
                    </a:lnTo>
                    <a:lnTo>
                      <a:pt x="169" y="279"/>
                    </a:lnTo>
                    <a:lnTo>
                      <a:pt x="169" y="6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058400" y="882720"/>
                <a:ext cx="9936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5" y="280"/>
                    </a:moveTo>
                    <a:lnTo>
                      <a:pt x="98" y="311"/>
                    </a:lnTo>
                    <a:lnTo>
                      <a:pt x="106" y="341"/>
                    </a:lnTo>
                    <a:lnTo>
                      <a:pt x="119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8" y="415"/>
                    </a:lnTo>
                    <a:lnTo>
                      <a:pt x="170" y="423"/>
                    </a:lnTo>
                    <a:lnTo>
                      <a:pt x="184" y="431"/>
                    </a:lnTo>
                    <a:lnTo>
                      <a:pt x="197" y="437"/>
                    </a:lnTo>
                    <a:lnTo>
                      <a:pt x="213" y="441"/>
                    </a:lnTo>
                    <a:lnTo>
                      <a:pt x="229" y="443"/>
                    </a:lnTo>
                    <a:lnTo>
                      <a:pt x="245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5" y="430"/>
                    </a:lnTo>
                    <a:lnTo>
                      <a:pt x="333" y="418"/>
                    </a:lnTo>
                    <a:lnTo>
                      <a:pt x="351" y="405"/>
                    </a:lnTo>
                    <a:lnTo>
                      <a:pt x="366" y="388"/>
                    </a:lnTo>
                    <a:lnTo>
                      <a:pt x="380" y="368"/>
                    </a:lnTo>
                    <a:lnTo>
                      <a:pt x="394" y="348"/>
                    </a:lnTo>
                    <a:lnTo>
                      <a:pt x="475" y="394"/>
                    </a:lnTo>
                    <a:lnTo>
                      <a:pt x="455" y="424"/>
                    </a:lnTo>
                    <a:lnTo>
                      <a:pt x="433" y="451"/>
                    </a:lnTo>
                    <a:lnTo>
                      <a:pt x="407" y="474"/>
                    </a:lnTo>
                    <a:lnTo>
                      <a:pt x="378" y="494"/>
                    </a:lnTo>
                    <a:lnTo>
                      <a:pt x="347" y="509"/>
                    </a:lnTo>
                    <a:lnTo>
                      <a:pt x="315" y="520"/>
                    </a:lnTo>
                    <a:lnTo>
                      <a:pt x="279" y="528"/>
                    </a:lnTo>
                    <a:lnTo>
                      <a:pt x="244" y="530"/>
                    </a:lnTo>
                    <a:lnTo>
                      <a:pt x="217" y="528"/>
                    </a:lnTo>
                    <a:lnTo>
                      <a:pt x="191" y="524"/>
                    </a:lnTo>
                    <a:lnTo>
                      <a:pt x="165" y="518"/>
                    </a:lnTo>
                    <a:lnTo>
                      <a:pt x="142" y="509"/>
                    </a:lnTo>
                    <a:lnTo>
                      <a:pt x="120" y="498"/>
                    </a:lnTo>
                    <a:lnTo>
                      <a:pt x="101" y="485"/>
                    </a:lnTo>
                    <a:lnTo>
                      <a:pt x="82" y="471"/>
                    </a:lnTo>
                    <a:lnTo>
                      <a:pt x="66" y="454"/>
                    </a:lnTo>
                    <a:lnTo>
                      <a:pt x="50" y="435"/>
                    </a:lnTo>
                    <a:lnTo>
                      <a:pt x="37" y="416"/>
                    </a:lnTo>
                    <a:lnTo>
                      <a:pt x="26" y="394"/>
                    </a:lnTo>
                    <a:lnTo>
                      <a:pt x="16" y="371"/>
                    </a:lnTo>
                    <a:lnTo>
                      <a:pt x="10" y="346"/>
                    </a:lnTo>
                    <a:lnTo>
                      <a:pt x="4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4" y="213"/>
                    </a:lnTo>
                    <a:lnTo>
                      <a:pt x="9" y="186"/>
                    </a:lnTo>
                    <a:lnTo>
                      <a:pt x="15" y="161"/>
                    </a:lnTo>
                    <a:lnTo>
                      <a:pt x="24" y="138"/>
                    </a:lnTo>
                    <a:lnTo>
                      <a:pt x="34" y="116"/>
                    </a:lnTo>
                    <a:lnTo>
                      <a:pt x="47" y="95"/>
                    </a:lnTo>
                    <a:lnTo>
                      <a:pt x="61" y="76"/>
                    </a:lnTo>
                    <a:lnTo>
                      <a:pt x="77" y="60"/>
                    </a:lnTo>
                    <a:lnTo>
                      <a:pt x="95" y="45"/>
                    </a:lnTo>
                    <a:lnTo>
                      <a:pt x="115" y="31"/>
                    </a:lnTo>
                    <a:lnTo>
                      <a:pt x="137" y="20"/>
                    </a:lnTo>
                    <a:lnTo>
                      <a:pt x="160" y="12"/>
                    </a:lnTo>
                    <a:lnTo>
                      <a:pt x="185" y="5"/>
                    </a:lnTo>
                    <a:lnTo>
                      <a:pt x="213" y="2"/>
                    </a:lnTo>
                    <a:lnTo>
                      <a:pt x="242" y="0"/>
                    </a:lnTo>
                    <a:lnTo>
                      <a:pt x="271" y="2"/>
                    </a:lnTo>
                    <a:lnTo>
                      <a:pt x="297" y="5"/>
                    </a:lnTo>
                    <a:lnTo>
                      <a:pt x="322" y="12"/>
                    </a:lnTo>
                    <a:lnTo>
                      <a:pt x="345" y="20"/>
                    </a:lnTo>
                    <a:lnTo>
                      <a:pt x="366" y="31"/>
                    </a:lnTo>
                    <a:lnTo>
                      <a:pt x="385" y="45"/>
                    </a:lnTo>
                    <a:lnTo>
                      <a:pt x="402" y="60"/>
                    </a:lnTo>
                    <a:lnTo>
                      <a:pt x="418" y="76"/>
                    </a:lnTo>
                    <a:lnTo>
                      <a:pt x="431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0" y="161"/>
                    </a:lnTo>
                    <a:lnTo>
                      <a:pt x="467" y="185"/>
                    </a:lnTo>
                    <a:lnTo>
                      <a:pt x="471" y="210"/>
                    </a:lnTo>
                    <a:lnTo>
                      <a:pt x="474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5" y="280"/>
                    </a:lnTo>
                    <a:close/>
                    <a:moveTo>
                      <a:pt x="379" y="207"/>
                    </a:moveTo>
                    <a:lnTo>
                      <a:pt x="373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5" y="117"/>
                    </a:lnTo>
                    <a:lnTo>
                      <a:pt x="316" y="103"/>
                    </a:lnTo>
                    <a:lnTo>
                      <a:pt x="294" y="92"/>
                    </a:lnTo>
                    <a:lnTo>
                      <a:pt x="270" y="85"/>
                    </a:lnTo>
                    <a:lnTo>
                      <a:pt x="242" y="83"/>
                    </a:lnTo>
                    <a:lnTo>
                      <a:pt x="215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1" y="137"/>
                    </a:lnTo>
                    <a:lnTo>
                      <a:pt x="117" y="158"/>
                    </a:lnTo>
                    <a:lnTo>
                      <a:pt x="107" y="182"/>
                    </a:lnTo>
                    <a:lnTo>
                      <a:pt x="101" y="207"/>
                    </a:lnTo>
                    <a:lnTo>
                      <a:pt x="379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177200" y="846000"/>
                <a:ext cx="2052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211400" y="882720"/>
                <a:ext cx="9972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7" y="280"/>
                    </a:moveTo>
                    <a:lnTo>
                      <a:pt x="99" y="311"/>
                    </a:lnTo>
                    <a:lnTo>
                      <a:pt x="108" y="341"/>
                    </a:lnTo>
                    <a:lnTo>
                      <a:pt x="120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9" y="415"/>
                    </a:lnTo>
                    <a:lnTo>
                      <a:pt x="171" y="423"/>
                    </a:lnTo>
                    <a:lnTo>
                      <a:pt x="185" y="431"/>
                    </a:lnTo>
                    <a:lnTo>
                      <a:pt x="199" y="437"/>
                    </a:lnTo>
                    <a:lnTo>
                      <a:pt x="213" y="441"/>
                    </a:lnTo>
                    <a:lnTo>
                      <a:pt x="230" y="443"/>
                    </a:lnTo>
                    <a:lnTo>
                      <a:pt x="246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6" y="430"/>
                    </a:lnTo>
                    <a:lnTo>
                      <a:pt x="335" y="418"/>
                    </a:lnTo>
                    <a:lnTo>
                      <a:pt x="351" y="405"/>
                    </a:lnTo>
                    <a:lnTo>
                      <a:pt x="367" y="388"/>
                    </a:lnTo>
                    <a:lnTo>
                      <a:pt x="381" y="368"/>
                    </a:lnTo>
                    <a:lnTo>
                      <a:pt x="395" y="348"/>
                    </a:lnTo>
                    <a:lnTo>
                      <a:pt x="475" y="394"/>
                    </a:lnTo>
                    <a:lnTo>
                      <a:pt x="457" y="424"/>
                    </a:lnTo>
                    <a:lnTo>
                      <a:pt x="434" y="451"/>
                    </a:lnTo>
                    <a:lnTo>
                      <a:pt x="407" y="474"/>
                    </a:lnTo>
                    <a:lnTo>
                      <a:pt x="379" y="494"/>
                    </a:lnTo>
                    <a:lnTo>
                      <a:pt x="348" y="509"/>
                    </a:lnTo>
                    <a:lnTo>
                      <a:pt x="315" y="520"/>
                    </a:lnTo>
                    <a:lnTo>
                      <a:pt x="281" y="528"/>
                    </a:lnTo>
                    <a:lnTo>
                      <a:pt x="245" y="530"/>
                    </a:lnTo>
                    <a:lnTo>
                      <a:pt x="218" y="528"/>
                    </a:lnTo>
                    <a:lnTo>
                      <a:pt x="191" y="524"/>
                    </a:lnTo>
                    <a:lnTo>
                      <a:pt x="166" y="518"/>
                    </a:lnTo>
                    <a:lnTo>
                      <a:pt x="143" y="509"/>
                    </a:lnTo>
                    <a:lnTo>
                      <a:pt x="121" y="498"/>
                    </a:lnTo>
                    <a:lnTo>
                      <a:pt x="101" y="485"/>
                    </a:lnTo>
                    <a:lnTo>
                      <a:pt x="83" y="471"/>
                    </a:lnTo>
                    <a:lnTo>
                      <a:pt x="66" y="454"/>
                    </a:lnTo>
                    <a:lnTo>
                      <a:pt x="51" y="435"/>
                    </a:lnTo>
                    <a:lnTo>
                      <a:pt x="38" y="416"/>
                    </a:lnTo>
                    <a:lnTo>
                      <a:pt x="27" y="394"/>
                    </a:lnTo>
                    <a:lnTo>
                      <a:pt x="18" y="371"/>
                    </a:lnTo>
                    <a:lnTo>
                      <a:pt x="10" y="346"/>
                    </a:lnTo>
                    <a:lnTo>
                      <a:pt x="5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5" y="213"/>
                    </a:lnTo>
                    <a:lnTo>
                      <a:pt x="9" y="186"/>
                    </a:lnTo>
                    <a:lnTo>
                      <a:pt x="16" y="161"/>
                    </a:lnTo>
                    <a:lnTo>
                      <a:pt x="24" y="138"/>
                    </a:lnTo>
                    <a:lnTo>
                      <a:pt x="35" y="116"/>
                    </a:lnTo>
                    <a:lnTo>
                      <a:pt x="48" y="95"/>
                    </a:lnTo>
                    <a:lnTo>
                      <a:pt x="62" y="76"/>
                    </a:lnTo>
                    <a:lnTo>
                      <a:pt x="78" y="60"/>
                    </a:lnTo>
                    <a:lnTo>
                      <a:pt x="96" y="45"/>
                    </a:lnTo>
                    <a:lnTo>
                      <a:pt x="116" y="31"/>
                    </a:lnTo>
                    <a:lnTo>
                      <a:pt x="137" y="20"/>
                    </a:lnTo>
                    <a:lnTo>
                      <a:pt x="162" y="12"/>
                    </a:lnTo>
                    <a:lnTo>
                      <a:pt x="187" y="5"/>
                    </a:lnTo>
                    <a:lnTo>
                      <a:pt x="214" y="2"/>
                    </a:lnTo>
                    <a:lnTo>
                      <a:pt x="243" y="0"/>
                    </a:lnTo>
                    <a:lnTo>
                      <a:pt x="271" y="2"/>
                    </a:lnTo>
                    <a:lnTo>
                      <a:pt x="299" y="5"/>
                    </a:lnTo>
                    <a:lnTo>
                      <a:pt x="323" y="12"/>
                    </a:lnTo>
                    <a:lnTo>
                      <a:pt x="346" y="20"/>
                    </a:lnTo>
                    <a:lnTo>
                      <a:pt x="367" y="31"/>
                    </a:lnTo>
                    <a:lnTo>
                      <a:pt x="386" y="45"/>
                    </a:lnTo>
                    <a:lnTo>
                      <a:pt x="403" y="60"/>
                    </a:lnTo>
                    <a:lnTo>
                      <a:pt x="418" y="76"/>
                    </a:lnTo>
                    <a:lnTo>
                      <a:pt x="432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1" y="161"/>
                    </a:lnTo>
                    <a:lnTo>
                      <a:pt x="468" y="185"/>
                    </a:lnTo>
                    <a:lnTo>
                      <a:pt x="472" y="210"/>
                    </a:lnTo>
                    <a:lnTo>
                      <a:pt x="475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7" y="280"/>
                    </a:lnTo>
                    <a:close/>
                    <a:moveTo>
                      <a:pt x="380" y="207"/>
                    </a:moveTo>
                    <a:lnTo>
                      <a:pt x="374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6" y="117"/>
                    </a:lnTo>
                    <a:lnTo>
                      <a:pt x="317" y="103"/>
                    </a:lnTo>
                    <a:lnTo>
                      <a:pt x="295" y="92"/>
                    </a:lnTo>
                    <a:lnTo>
                      <a:pt x="270" y="85"/>
                    </a:lnTo>
                    <a:lnTo>
                      <a:pt x="243" y="83"/>
                    </a:lnTo>
                    <a:lnTo>
                      <a:pt x="216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2" y="137"/>
                    </a:lnTo>
                    <a:lnTo>
                      <a:pt x="119" y="158"/>
                    </a:lnTo>
                    <a:lnTo>
                      <a:pt x="108" y="182"/>
                    </a:lnTo>
                    <a:lnTo>
                      <a:pt x="101" y="207"/>
                    </a:lnTo>
                    <a:lnTo>
                      <a:pt x="380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326960" y="882720"/>
                <a:ext cx="84240" cy="101520"/>
              </a:xfrm>
              <a:custGeom>
                <a:avLst/>
                <a:gdLst/>
                <a:ahLst/>
                <a:rect l="l" t="t" r="r" b="b"/>
                <a:pathLst>
                  <a:path w="404" h="530">
                    <a:moveTo>
                      <a:pt x="404" y="157"/>
                    </a:moveTo>
                    <a:lnTo>
                      <a:pt x="389" y="141"/>
                    </a:lnTo>
                    <a:lnTo>
                      <a:pt x="373" y="127"/>
                    </a:lnTo>
                    <a:lnTo>
                      <a:pt x="358" y="116"/>
                    </a:lnTo>
                    <a:lnTo>
                      <a:pt x="340" y="106"/>
                    </a:lnTo>
                    <a:lnTo>
                      <a:pt x="321" y="99"/>
                    </a:lnTo>
                    <a:lnTo>
                      <a:pt x="303" y="94"/>
                    </a:lnTo>
                    <a:lnTo>
                      <a:pt x="283" y="91"/>
                    </a:lnTo>
                    <a:lnTo>
                      <a:pt x="261" y="90"/>
                    </a:lnTo>
                    <a:lnTo>
                      <a:pt x="245" y="91"/>
                    </a:lnTo>
                    <a:lnTo>
                      <a:pt x="227" y="93"/>
                    </a:lnTo>
                    <a:lnTo>
                      <a:pt x="212" y="97"/>
                    </a:lnTo>
                    <a:lnTo>
                      <a:pt x="196" y="104"/>
                    </a:lnTo>
                    <a:lnTo>
                      <a:pt x="182" y="112"/>
                    </a:lnTo>
                    <a:lnTo>
                      <a:pt x="168" y="120"/>
                    </a:lnTo>
                    <a:lnTo>
                      <a:pt x="156" y="130"/>
                    </a:lnTo>
                    <a:lnTo>
                      <a:pt x="144" y="142"/>
                    </a:lnTo>
                    <a:lnTo>
                      <a:pt x="133" y="154"/>
                    </a:lnTo>
                    <a:lnTo>
                      <a:pt x="124" y="169"/>
                    </a:lnTo>
                    <a:lnTo>
                      <a:pt x="115" y="183"/>
                    </a:lnTo>
                    <a:lnTo>
                      <a:pt x="109" y="198"/>
                    </a:lnTo>
                    <a:lnTo>
                      <a:pt x="103" y="214"/>
                    </a:lnTo>
                    <a:lnTo>
                      <a:pt x="99" y="230"/>
                    </a:lnTo>
                    <a:lnTo>
                      <a:pt x="97" y="247"/>
                    </a:lnTo>
                    <a:lnTo>
                      <a:pt x="96" y="264"/>
                    </a:lnTo>
                    <a:lnTo>
                      <a:pt x="97" y="283"/>
                    </a:lnTo>
                    <a:lnTo>
                      <a:pt x="99" y="300"/>
                    </a:lnTo>
                    <a:lnTo>
                      <a:pt x="103" y="318"/>
                    </a:lnTo>
                    <a:lnTo>
                      <a:pt x="109" y="334"/>
                    </a:lnTo>
                    <a:lnTo>
                      <a:pt x="115" y="350"/>
                    </a:lnTo>
                    <a:lnTo>
                      <a:pt x="124" y="364"/>
                    </a:lnTo>
                    <a:lnTo>
                      <a:pt x="133" y="378"/>
                    </a:lnTo>
                    <a:lnTo>
                      <a:pt x="144" y="390"/>
                    </a:lnTo>
                    <a:lnTo>
                      <a:pt x="156" y="401"/>
                    </a:lnTo>
                    <a:lnTo>
                      <a:pt x="169" y="411"/>
                    </a:lnTo>
                    <a:lnTo>
                      <a:pt x="183" y="420"/>
                    </a:lnTo>
                    <a:lnTo>
                      <a:pt x="199" y="427"/>
                    </a:lnTo>
                    <a:lnTo>
                      <a:pt x="215" y="432"/>
                    </a:lnTo>
                    <a:lnTo>
                      <a:pt x="232" y="437"/>
                    </a:lnTo>
                    <a:lnTo>
                      <a:pt x="249" y="439"/>
                    </a:lnTo>
                    <a:lnTo>
                      <a:pt x="268" y="440"/>
                    </a:lnTo>
                    <a:lnTo>
                      <a:pt x="289" y="439"/>
                    </a:lnTo>
                    <a:lnTo>
                      <a:pt x="307" y="435"/>
                    </a:lnTo>
                    <a:lnTo>
                      <a:pt x="326" y="430"/>
                    </a:lnTo>
                    <a:lnTo>
                      <a:pt x="343" y="422"/>
                    </a:lnTo>
                    <a:lnTo>
                      <a:pt x="360" y="412"/>
                    </a:lnTo>
                    <a:lnTo>
                      <a:pt x="375" y="401"/>
                    </a:lnTo>
                    <a:lnTo>
                      <a:pt x="389" y="388"/>
                    </a:lnTo>
                    <a:lnTo>
                      <a:pt x="404" y="374"/>
                    </a:lnTo>
                    <a:lnTo>
                      <a:pt x="404" y="497"/>
                    </a:lnTo>
                    <a:lnTo>
                      <a:pt x="371" y="511"/>
                    </a:lnTo>
                    <a:lnTo>
                      <a:pt x="338" y="522"/>
                    </a:lnTo>
                    <a:lnTo>
                      <a:pt x="303" y="528"/>
                    </a:lnTo>
                    <a:lnTo>
                      <a:pt x="267" y="530"/>
                    </a:lnTo>
                    <a:lnTo>
                      <a:pt x="239" y="528"/>
                    </a:lnTo>
                    <a:lnTo>
                      <a:pt x="213" y="524"/>
                    </a:lnTo>
                    <a:lnTo>
                      <a:pt x="188" y="518"/>
                    </a:lnTo>
                    <a:lnTo>
                      <a:pt x="164" y="509"/>
                    </a:lnTo>
                    <a:lnTo>
                      <a:pt x="140" y="499"/>
                    </a:lnTo>
                    <a:lnTo>
                      <a:pt x="119" y="486"/>
                    </a:lnTo>
                    <a:lnTo>
                      <a:pt x="98" y="472"/>
                    </a:lnTo>
                    <a:lnTo>
                      <a:pt x="79" y="454"/>
                    </a:lnTo>
                    <a:lnTo>
                      <a:pt x="62" y="437"/>
                    </a:lnTo>
                    <a:lnTo>
                      <a:pt x="46" y="416"/>
                    </a:lnTo>
                    <a:lnTo>
                      <a:pt x="33" y="395"/>
                    </a:lnTo>
                    <a:lnTo>
                      <a:pt x="21" y="372"/>
                    </a:lnTo>
                    <a:lnTo>
                      <a:pt x="12" y="348"/>
                    </a:lnTo>
                    <a:lnTo>
                      <a:pt x="6" y="322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6" y="213"/>
                    </a:lnTo>
                    <a:lnTo>
                      <a:pt x="12" y="186"/>
                    </a:lnTo>
                    <a:lnTo>
                      <a:pt x="21" y="161"/>
                    </a:lnTo>
                    <a:lnTo>
                      <a:pt x="33" y="138"/>
                    </a:lnTo>
                    <a:lnTo>
                      <a:pt x="46" y="115"/>
                    </a:lnTo>
                    <a:lnTo>
                      <a:pt x="62" y="95"/>
                    </a:lnTo>
                    <a:lnTo>
                      <a:pt x="79" y="76"/>
                    </a:lnTo>
                    <a:lnTo>
                      <a:pt x="98" y="59"/>
                    </a:lnTo>
                    <a:lnTo>
                      <a:pt x="119" y="45"/>
                    </a:lnTo>
                    <a:lnTo>
                      <a:pt x="142" y="31"/>
                    </a:lnTo>
                    <a:lnTo>
                      <a:pt x="165" y="20"/>
                    </a:lnTo>
                    <a:lnTo>
                      <a:pt x="190" y="12"/>
                    </a:lnTo>
                    <a:lnTo>
                      <a:pt x="216" y="5"/>
                    </a:lnTo>
                    <a:lnTo>
                      <a:pt x="244" y="2"/>
                    </a:lnTo>
                    <a:lnTo>
                      <a:pt x="272" y="0"/>
                    </a:lnTo>
                    <a:lnTo>
                      <a:pt x="306" y="2"/>
                    </a:lnTo>
                    <a:lnTo>
                      <a:pt x="340" y="8"/>
                    </a:lnTo>
                    <a:lnTo>
                      <a:pt x="373" y="18"/>
                    </a:lnTo>
                    <a:lnTo>
                      <a:pt x="404" y="32"/>
                    </a:lnTo>
                    <a:lnTo>
                      <a:pt x="404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1423440" y="882720"/>
                <a:ext cx="111600" cy="101520"/>
              </a:xfrm>
              <a:custGeom>
                <a:avLst/>
                <a:gdLst/>
                <a:ahLst/>
                <a:rect l="l" t="t" r="r" b="b"/>
                <a:pathLst>
                  <a:path w="532" h="530">
                    <a:moveTo>
                      <a:pt x="532" y="264"/>
                    </a:moveTo>
                    <a:lnTo>
                      <a:pt x="530" y="293"/>
                    </a:lnTo>
                    <a:lnTo>
                      <a:pt x="527" y="319"/>
                    </a:lnTo>
                    <a:lnTo>
                      <a:pt x="520" y="344"/>
                    </a:lnTo>
                    <a:lnTo>
                      <a:pt x="511" y="370"/>
                    </a:lnTo>
                    <a:lnTo>
                      <a:pt x="501" y="393"/>
                    </a:lnTo>
                    <a:lnTo>
                      <a:pt x="487" y="415"/>
                    </a:lnTo>
                    <a:lnTo>
                      <a:pt x="472" y="434"/>
                    </a:lnTo>
                    <a:lnTo>
                      <a:pt x="454" y="453"/>
                    </a:lnTo>
                    <a:lnTo>
                      <a:pt x="436" y="471"/>
                    </a:lnTo>
                    <a:lnTo>
                      <a:pt x="416" y="485"/>
                    </a:lnTo>
                    <a:lnTo>
                      <a:pt x="394" y="498"/>
                    </a:lnTo>
                    <a:lnTo>
                      <a:pt x="370" y="509"/>
                    </a:lnTo>
                    <a:lnTo>
                      <a:pt x="346" y="518"/>
                    </a:lnTo>
                    <a:lnTo>
                      <a:pt x="321" y="524"/>
                    </a:lnTo>
                    <a:lnTo>
                      <a:pt x="293" y="528"/>
                    </a:lnTo>
                    <a:lnTo>
                      <a:pt x="266" y="530"/>
                    </a:lnTo>
                    <a:lnTo>
                      <a:pt x="238" y="528"/>
                    </a:lnTo>
                    <a:lnTo>
                      <a:pt x="212" y="524"/>
                    </a:lnTo>
                    <a:lnTo>
                      <a:pt x="187" y="518"/>
                    </a:lnTo>
                    <a:lnTo>
                      <a:pt x="162" y="509"/>
                    </a:lnTo>
                    <a:lnTo>
                      <a:pt x="139" y="498"/>
                    </a:lnTo>
                    <a:lnTo>
                      <a:pt x="117" y="485"/>
                    </a:lnTo>
                    <a:lnTo>
                      <a:pt x="97" y="471"/>
                    </a:lnTo>
                    <a:lnTo>
                      <a:pt x="78" y="453"/>
                    </a:lnTo>
                    <a:lnTo>
                      <a:pt x="61" y="434"/>
                    </a:lnTo>
                    <a:lnTo>
                      <a:pt x="45" y="415"/>
                    </a:lnTo>
                    <a:lnTo>
                      <a:pt x="32" y="393"/>
                    </a:lnTo>
                    <a:lnTo>
                      <a:pt x="21" y="370"/>
                    </a:lnTo>
                    <a:lnTo>
                      <a:pt x="12" y="344"/>
                    </a:lnTo>
                    <a:lnTo>
                      <a:pt x="6" y="319"/>
                    </a:lnTo>
                    <a:lnTo>
                      <a:pt x="3" y="293"/>
                    </a:lnTo>
                    <a:lnTo>
                      <a:pt x="0" y="264"/>
                    </a:lnTo>
                    <a:lnTo>
                      <a:pt x="3" y="237"/>
                    </a:lnTo>
                    <a:lnTo>
                      <a:pt x="6" y="210"/>
                    </a:lnTo>
                    <a:lnTo>
                      <a:pt x="12" y="185"/>
                    </a:lnTo>
                    <a:lnTo>
                      <a:pt x="21" y="160"/>
                    </a:lnTo>
                    <a:lnTo>
                      <a:pt x="32" y="137"/>
                    </a:lnTo>
                    <a:lnTo>
                      <a:pt x="45" y="115"/>
                    </a:lnTo>
                    <a:lnTo>
                      <a:pt x="61" y="95"/>
                    </a:lnTo>
                    <a:lnTo>
                      <a:pt x="78" y="76"/>
                    </a:lnTo>
                    <a:lnTo>
                      <a:pt x="97" y="59"/>
                    </a:lnTo>
                    <a:lnTo>
                      <a:pt x="117" y="45"/>
                    </a:lnTo>
                    <a:lnTo>
                      <a:pt x="139" y="31"/>
                    </a:lnTo>
                    <a:lnTo>
                      <a:pt x="162" y="20"/>
                    </a:lnTo>
                    <a:lnTo>
                      <a:pt x="187" y="12"/>
                    </a:lnTo>
                    <a:lnTo>
                      <a:pt x="212" y="5"/>
                    </a:lnTo>
                    <a:lnTo>
                      <a:pt x="238" y="2"/>
                    </a:lnTo>
                    <a:lnTo>
                      <a:pt x="266" y="0"/>
                    </a:lnTo>
                    <a:lnTo>
                      <a:pt x="293" y="2"/>
                    </a:lnTo>
                    <a:lnTo>
                      <a:pt x="321" y="5"/>
                    </a:lnTo>
                    <a:lnTo>
                      <a:pt x="346" y="12"/>
                    </a:lnTo>
                    <a:lnTo>
                      <a:pt x="370" y="20"/>
                    </a:lnTo>
                    <a:lnTo>
                      <a:pt x="394" y="31"/>
                    </a:lnTo>
                    <a:lnTo>
                      <a:pt x="416" y="45"/>
                    </a:lnTo>
                    <a:lnTo>
                      <a:pt x="436" y="59"/>
                    </a:lnTo>
                    <a:lnTo>
                      <a:pt x="454" y="76"/>
                    </a:lnTo>
                    <a:lnTo>
                      <a:pt x="472" y="95"/>
                    </a:lnTo>
                    <a:lnTo>
                      <a:pt x="487" y="115"/>
                    </a:lnTo>
                    <a:lnTo>
                      <a:pt x="501" y="137"/>
                    </a:lnTo>
                    <a:lnTo>
                      <a:pt x="511" y="160"/>
                    </a:lnTo>
                    <a:lnTo>
                      <a:pt x="520" y="185"/>
                    </a:lnTo>
                    <a:lnTo>
                      <a:pt x="527" y="210"/>
                    </a:lnTo>
                    <a:lnTo>
                      <a:pt x="530" y="237"/>
                    </a:lnTo>
                    <a:lnTo>
                      <a:pt x="532" y="264"/>
                    </a:lnTo>
                    <a:close/>
                    <a:moveTo>
                      <a:pt x="96" y="264"/>
                    </a:moveTo>
                    <a:lnTo>
                      <a:pt x="97" y="282"/>
                    </a:lnTo>
                    <a:lnTo>
                      <a:pt x="100" y="299"/>
                    </a:lnTo>
                    <a:lnTo>
                      <a:pt x="103" y="316"/>
                    </a:lnTo>
                    <a:lnTo>
                      <a:pt x="110" y="331"/>
                    </a:lnTo>
                    <a:lnTo>
                      <a:pt x="117" y="346"/>
                    </a:lnTo>
                    <a:lnTo>
                      <a:pt x="125" y="361"/>
                    </a:lnTo>
                    <a:lnTo>
                      <a:pt x="135" y="374"/>
                    </a:lnTo>
                    <a:lnTo>
                      <a:pt x="146" y="386"/>
                    </a:lnTo>
                    <a:lnTo>
                      <a:pt x="158" y="398"/>
                    </a:lnTo>
                    <a:lnTo>
                      <a:pt x="171" y="408"/>
                    </a:lnTo>
                    <a:lnTo>
                      <a:pt x="185" y="417"/>
                    </a:lnTo>
                    <a:lnTo>
                      <a:pt x="200" y="424"/>
                    </a:lnTo>
                    <a:lnTo>
                      <a:pt x="215" y="430"/>
                    </a:lnTo>
                    <a:lnTo>
                      <a:pt x="232" y="434"/>
                    </a:lnTo>
                    <a:lnTo>
                      <a:pt x="248" y="437"/>
                    </a:lnTo>
                    <a:lnTo>
                      <a:pt x="266" y="438"/>
                    </a:lnTo>
                    <a:lnTo>
                      <a:pt x="283" y="437"/>
                    </a:lnTo>
                    <a:lnTo>
                      <a:pt x="301" y="434"/>
                    </a:lnTo>
                    <a:lnTo>
                      <a:pt x="317" y="430"/>
                    </a:lnTo>
                    <a:lnTo>
                      <a:pt x="333" y="424"/>
                    </a:lnTo>
                    <a:lnTo>
                      <a:pt x="348" y="417"/>
                    </a:lnTo>
                    <a:lnTo>
                      <a:pt x="361" y="408"/>
                    </a:lnTo>
                    <a:lnTo>
                      <a:pt x="374" y="398"/>
                    </a:lnTo>
                    <a:lnTo>
                      <a:pt x="386" y="386"/>
                    </a:lnTo>
                    <a:lnTo>
                      <a:pt x="397" y="374"/>
                    </a:lnTo>
                    <a:lnTo>
                      <a:pt x="407" y="361"/>
                    </a:lnTo>
                    <a:lnTo>
                      <a:pt x="416" y="346"/>
                    </a:lnTo>
                    <a:lnTo>
                      <a:pt x="423" y="331"/>
                    </a:lnTo>
                    <a:lnTo>
                      <a:pt x="428" y="316"/>
                    </a:lnTo>
                    <a:lnTo>
                      <a:pt x="433" y="299"/>
                    </a:lnTo>
                    <a:lnTo>
                      <a:pt x="436" y="282"/>
                    </a:lnTo>
                    <a:lnTo>
                      <a:pt x="436" y="264"/>
                    </a:lnTo>
                    <a:lnTo>
                      <a:pt x="436" y="248"/>
                    </a:lnTo>
                    <a:lnTo>
                      <a:pt x="433" y="230"/>
                    </a:lnTo>
                    <a:lnTo>
                      <a:pt x="428" y="214"/>
                    </a:lnTo>
                    <a:lnTo>
                      <a:pt x="423" y="197"/>
                    </a:lnTo>
                    <a:lnTo>
                      <a:pt x="416" y="183"/>
                    </a:lnTo>
                    <a:lnTo>
                      <a:pt x="407" y="169"/>
                    </a:lnTo>
                    <a:lnTo>
                      <a:pt x="397" y="154"/>
                    </a:lnTo>
                    <a:lnTo>
                      <a:pt x="386" y="142"/>
                    </a:lnTo>
                    <a:lnTo>
                      <a:pt x="374" y="131"/>
                    </a:lnTo>
                    <a:lnTo>
                      <a:pt x="361" y="121"/>
                    </a:lnTo>
                    <a:lnTo>
                      <a:pt x="348" y="113"/>
                    </a:lnTo>
                    <a:lnTo>
                      <a:pt x="333" y="105"/>
                    </a:lnTo>
                    <a:lnTo>
                      <a:pt x="317" y="99"/>
                    </a:lnTo>
                    <a:lnTo>
                      <a:pt x="301" y="95"/>
                    </a:lnTo>
                    <a:lnTo>
                      <a:pt x="283" y="92"/>
                    </a:lnTo>
                    <a:lnTo>
                      <a:pt x="266" y="92"/>
                    </a:lnTo>
                    <a:lnTo>
                      <a:pt x="248" y="92"/>
                    </a:lnTo>
                    <a:lnTo>
                      <a:pt x="232" y="95"/>
                    </a:lnTo>
                    <a:lnTo>
                      <a:pt x="215" y="99"/>
                    </a:lnTo>
                    <a:lnTo>
                      <a:pt x="200" y="105"/>
                    </a:lnTo>
                    <a:lnTo>
                      <a:pt x="185" y="113"/>
                    </a:lnTo>
                    <a:lnTo>
                      <a:pt x="171" y="121"/>
                    </a:lnTo>
                    <a:lnTo>
                      <a:pt x="158" y="131"/>
                    </a:lnTo>
                    <a:lnTo>
                      <a:pt x="146" y="142"/>
                    </a:lnTo>
                    <a:lnTo>
                      <a:pt x="135" y="154"/>
                    </a:lnTo>
                    <a:lnTo>
                      <a:pt x="125" y="169"/>
                    </a:lnTo>
                    <a:lnTo>
                      <a:pt x="117" y="183"/>
                    </a:lnTo>
                    <a:lnTo>
                      <a:pt x="110" y="197"/>
                    </a:lnTo>
                    <a:lnTo>
                      <a:pt x="103" y="214"/>
                    </a:lnTo>
                    <a:lnTo>
                      <a:pt x="100" y="230"/>
                    </a:lnTo>
                    <a:lnTo>
                      <a:pt x="97" y="248"/>
                    </a:lnTo>
                    <a:lnTo>
                      <a:pt x="96" y="2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1549440" y="882720"/>
                <a:ext cx="144360" cy="98280"/>
              </a:xfrm>
              <a:custGeom>
                <a:avLst/>
                <a:gdLst/>
                <a:ahLst/>
                <a:rect l="l" t="t" r="r" b="b"/>
                <a:pathLst>
                  <a:path w="690" h="512">
                    <a:moveTo>
                      <a:pt x="96" y="77"/>
                    </a:moveTo>
                    <a:lnTo>
                      <a:pt x="98" y="77"/>
                    </a:lnTo>
                    <a:lnTo>
                      <a:pt x="109" y="62"/>
                    </a:lnTo>
                    <a:lnTo>
                      <a:pt x="122" y="47"/>
                    </a:lnTo>
                    <a:lnTo>
                      <a:pt x="137" y="34"/>
                    </a:lnTo>
                    <a:lnTo>
                      <a:pt x="154" y="23"/>
                    </a:lnTo>
                    <a:lnTo>
                      <a:pt x="171" y="13"/>
                    </a:lnTo>
                    <a:lnTo>
                      <a:pt x="190" y="6"/>
                    </a:lnTo>
                    <a:lnTo>
                      <a:pt x="210" y="2"/>
                    </a:lnTo>
                    <a:lnTo>
                      <a:pt x="229" y="0"/>
                    </a:lnTo>
                    <a:lnTo>
                      <a:pt x="253" y="2"/>
                    </a:lnTo>
                    <a:lnTo>
                      <a:pt x="274" y="6"/>
                    </a:lnTo>
                    <a:lnTo>
                      <a:pt x="295" y="13"/>
                    </a:lnTo>
                    <a:lnTo>
                      <a:pt x="314" y="24"/>
                    </a:lnTo>
                    <a:lnTo>
                      <a:pt x="330" y="36"/>
                    </a:lnTo>
                    <a:lnTo>
                      <a:pt x="346" y="51"/>
                    </a:lnTo>
                    <a:lnTo>
                      <a:pt x="360" y="69"/>
                    </a:lnTo>
                    <a:lnTo>
                      <a:pt x="373" y="88"/>
                    </a:lnTo>
                    <a:lnTo>
                      <a:pt x="385" y="69"/>
                    </a:lnTo>
                    <a:lnTo>
                      <a:pt x="401" y="52"/>
                    </a:lnTo>
                    <a:lnTo>
                      <a:pt x="418" y="37"/>
                    </a:lnTo>
                    <a:lnTo>
                      <a:pt x="438" y="24"/>
                    </a:lnTo>
                    <a:lnTo>
                      <a:pt x="458" y="14"/>
                    </a:lnTo>
                    <a:lnTo>
                      <a:pt x="480" y="6"/>
                    </a:lnTo>
                    <a:lnTo>
                      <a:pt x="503" y="2"/>
                    </a:lnTo>
                    <a:lnTo>
                      <a:pt x="526" y="0"/>
                    </a:lnTo>
                    <a:lnTo>
                      <a:pt x="550" y="1"/>
                    </a:lnTo>
                    <a:lnTo>
                      <a:pt x="571" y="5"/>
                    </a:lnTo>
                    <a:lnTo>
                      <a:pt x="589" y="11"/>
                    </a:lnTo>
                    <a:lnTo>
                      <a:pt x="607" y="17"/>
                    </a:lnTo>
                    <a:lnTo>
                      <a:pt x="622" y="27"/>
                    </a:lnTo>
                    <a:lnTo>
                      <a:pt x="635" y="38"/>
                    </a:lnTo>
                    <a:lnTo>
                      <a:pt x="647" y="51"/>
                    </a:lnTo>
                    <a:lnTo>
                      <a:pt x="657" y="65"/>
                    </a:lnTo>
                    <a:lnTo>
                      <a:pt x="666" y="81"/>
                    </a:lnTo>
                    <a:lnTo>
                      <a:pt x="673" y="97"/>
                    </a:lnTo>
                    <a:lnTo>
                      <a:pt x="678" y="115"/>
                    </a:lnTo>
                    <a:lnTo>
                      <a:pt x="684" y="133"/>
                    </a:lnTo>
                    <a:lnTo>
                      <a:pt x="689" y="173"/>
                    </a:lnTo>
                    <a:lnTo>
                      <a:pt x="690" y="215"/>
                    </a:lnTo>
                    <a:lnTo>
                      <a:pt x="690" y="512"/>
                    </a:lnTo>
                    <a:lnTo>
                      <a:pt x="595" y="512"/>
                    </a:lnTo>
                    <a:lnTo>
                      <a:pt x="595" y="230"/>
                    </a:lnTo>
                    <a:lnTo>
                      <a:pt x="595" y="206"/>
                    </a:lnTo>
                    <a:lnTo>
                      <a:pt x="593" y="181"/>
                    </a:lnTo>
                    <a:lnTo>
                      <a:pt x="588" y="157"/>
                    </a:lnTo>
                    <a:lnTo>
                      <a:pt x="580" y="133"/>
                    </a:lnTo>
                    <a:lnTo>
                      <a:pt x="568" y="114"/>
                    </a:lnTo>
                    <a:lnTo>
                      <a:pt x="561" y="106"/>
                    </a:lnTo>
                    <a:lnTo>
                      <a:pt x="552" y="98"/>
                    </a:lnTo>
                    <a:lnTo>
                      <a:pt x="542" y="93"/>
                    </a:lnTo>
                    <a:lnTo>
                      <a:pt x="531" y="88"/>
                    </a:lnTo>
                    <a:lnTo>
                      <a:pt x="517" y="86"/>
                    </a:lnTo>
                    <a:lnTo>
                      <a:pt x="503" y="85"/>
                    </a:lnTo>
                    <a:lnTo>
                      <a:pt x="484" y="86"/>
                    </a:lnTo>
                    <a:lnTo>
                      <a:pt x="469" y="90"/>
                    </a:lnTo>
                    <a:lnTo>
                      <a:pt x="454" y="95"/>
                    </a:lnTo>
                    <a:lnTo>
                      <a:pt x="442" y="103"/>
                    </a:lnTo>
                    <a:lnTo>
                      <a:pt x="432" y="112"/>
                    </a:lnTo>
                    <a:lnTo>
                      <a:pt x="423" y="123"/>
                    </a:lnTo>
                    <a:lnTo>
                      <a:pt x="416" y="135"/>
                    </a:lnTo>
                    <a:lnTo>
                      <a:pt x="409" y="148"/>
                    </a:lnTo>
                    <a:lnTo>
                      <a:pt x="401" y="176"/>
                    </a:lnTo>
                    <a:lnTo>
                      <a:pt x="396" y="207"/>
                    </a:lnTo>
                    <a:lnTo>
                      <a:pt x="394" y="238"/>
                    </a:lnTo>
                    <a:lnTo>
                      <a:pt x="393" y="267"/>
                    </a:lnTo>
                    <a:lnTo>
                      <a:pt x="393" y="512"/>
                    </a:lnTo>
                    <a:lnTo>
                      <a:pt x="297" y="512"/>
                    </a:lnTo>
                    <a:lnTo>
                      <a:pt x="297" y="249"/>
                    </a:lnTo>
                    <a:lnTo>
                      <a:pt x="297" y="224"/>
                    </a:lnTo>
                    <a:lnTo>
                      <a:pt x="295" y="196"/>
                    </a:lnTo>
                    <a:lnTo>
                      <a:pt x="292" y="169"/>
                    </a:lnTo>
                    <a:lnTo>
                      <a:pt x="285" y="142"/>
                    </a:lnTo>
                    <a:lnTo>
                      <a:pt x="280" y="130"/>
                    </a:lnTo>
                    <a:lnTo>
                      <a:pt x="273" y="119"/>
                    </a:lnTo>
                    <a:lnTo>
                      <a:pt x="267" y="110"/>
                    </a:lnTo>
                    <a:lnTo>
                      <a:pt x="258" y="102"/>
                    </a:lnTo>
                    <a:lnTo>
                      <a:pt x="247" y="95"/>
                    </a:lnTo>
                    <a:lnTo>
                      <a:pt x="235" y="90"/>
                    </a:lnTo>
                    <a:lnTo>
                      <a:pt x="222" y="86"/>
                    </a:lnTo>
                    <a:lnTo>
                      <a:pt x="206" y="85"/>
                    </a:lnTo>
                    <a:lnTo>
                      <a:pt x="188" y="86"/>
                    </a:lnTo>
                    <a:lnTo>
                      <a:pt x="172" y="90"/>
                    </a:lnTo>
                    <a:lnTo>
                      <a:pt x="158" y="95"/>
                    </a:lnTo>
                    <a:lnTo>
                      <a:pt x="146" y="103"/>
                    </a:lnTo>
                    <a:lnTo>
                      <a:pt x="135" y="112"/>
                    </a:lnTo>
                    <a:lnTo>
                      <a:pt x="126" y="123"/>
                    </a:lnTo>
                    <a:lnTo>
                      <a:pt x="119" y="135"/>
                    </a:lnTo>
                    <a:lnTo>
                      <a:pt x="113" y="148"/>
                    </a:lnTo>
                    <a:lnTo>
                      <a:pt x="103" y="176"/>
                    </a:lnTo>
                    <a:lnTo>
                      <a:pt x="99" y="207"/>
                    </a:lnTo>
                    <a:lnTo>
                      <a:pt x="97" y="238"/>
                    </a:lnTo>
                    <a:lnTo>
                      <a:pt x="96" y="267"/>
                    </a:lnTo>
                    <a:lnTo>
                      <a:pt x="96" y="512"/>
                    </a:lnTo>
                    <a:lnTo>
                      <a:pt x="0" y="512"/>
                    </a:lnTo>
                    <a:lnTo>
                      <a:pt x="0" y="15"/>
                    </a:lnTo>
                    <a:lnTo>
                      <a:pt x="96" y="15"/>
                    </a:lnTo>
                    <a:lnTo>
                      <a:pt x="96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908640" y="1022400"/>
                <a:ext cx="9082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a-DK" sz="600" spc="-1" strike="noStrike">
                    <a:solidFill>
                      <a:srgbClr val="ffffff"/>
                    </a:solidFill>
                    <a:latin typeface="Futura Bk BT"/>
                  </a:rPr>
                  <a:t>www.kirktelecom.dk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9" name=""/>
          <p:cNvSpPr/>
          <p:nvPr/>
        </p:nvSpPr>
        <p:spPr>
          <a:xfrm>
            <a:off x="2228760" y="0"/>
            <a:ext cx="76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CCFP Administration Program Ver.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0" name="" descr=""/>
          <p:cNvPicPr/>
          <p:nvPr/>
        </p:nvPicPr>
        <p:blipFill>
          <a:blip r:embed="rId2"/>
          <a:stretch/>
        </p:blipFill>
        <p:spPr>
          <a:xfrm>
            <a:off x="2889360" y="770040"/>
            <a:ext cx="6333840" cy="4457520"/>
          </a:xfrm>
          <a:prstGeom prst="rect">
            <a:avLst/>
          </a:prstGeom>
          <a:ln w="0">
            <a:noFill/>
          </a:ln>
        </p:spPr>
      </p:pic>
      <p:sp>
        <p:nvSpPr>
          <p:cNvPr id="1121" name=""/>
          <p:cNvSpPr/>
          <p:nvPr/>
        </p:nvSpPr>
        <p:spPr>
          <a:xfrm>
            <a:off x="2857680" y="5378400"/>
            <a:ext cx="46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кументация по использованию программы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5048280" y="1203120"/>
            <a:ext cx="304920" cy="41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5BCF-9F60-41A7-8F62-FBA5B2DF7003}" type="slidenum">
              <a:t>34</a:t>
            </a:fld>
          </a:p>
        </p:txBody>
      </p:sp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/>
          <p:nvPr/>
        </p:nvSpPr>
        <p:spPr>
          <a:xfrm>
            <a:off x="2889360" y="457200"/>
            <a:ext cx="6521400" cy="0"/>
          </a:xfrm>
          <a:prstGeom prst="line">
            <a:avLst/>
          </a:prstGeom>
          <a:ln cap="sq"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0" y="0"/>
            <a:ext cx="6129000" cy="6858000"/>
            <a:chOff x="0" y="0"/>
            <a:chExt cx="6129000" cy="6858000"/>
          </a:xfrm>
        </p:grpSpPr>
        <p:sp>
          <p:nvSpPr>
            <p:cNvPr id="1125" name=""/>
            <p:cNvSpPr/>
            <p:nvPr/>
          </p:nvSpPr>
          <p:spPr>
            <a:xfrm>
              <a:off x="0" y="0"/>
              <a:ext cx="2228760" cy="3429000"/>
            </a:xfrm>
            <a:prstGeom prst="rect">
              <a:avLst/>
            </a:prstGeom>
            <a:solidFill>
              <a:srgbClr val="000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0" y="3429000"/>
              <a:ext cx="2228760" cy="3429000"/>
            </a:xfrm>
            <a:prstGeom prst="rect">
              <a:avLst/>
            </a:pr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91836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79924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9" name="" descr=""/>
            <p:cNvPicPr/>
            <p:nvPr/>
          </p:nvPicPr>
          <p:blipFill>
            <a:blip r:embed="rId1"/>
            <a:stretch/>
          </p:blipFill>
          <p:spPr>
            <a:xfrm>
              <a:off x="201240" y="2055960"/>
              <a:ext cx="1705680" cy="271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0" name=""/>
            <p:cNvGrpSpPr/>
            <p:nvPr/>
          </p:nvGrpSpPr>
          <p:grpSpPr>
            <a:xfrm>
              <a:off x="211320" y="380880"/>
              <a:ext cx="1605600" cy="821880"/>
              <a:chOff x="211320" y="380880"/>
              <a:chExt cx="1605600" cy="821880"/>
            </a:xfrm>
          </p:grpSpPr>
          <p:sp>
            <p:nvSpPr>
              <p:cNvPr id="1131" name=""/>
              <p:cNvSpPr/>
              <p:nvPr/>
            </p:nvSpPr>
            <p:spPr>
              <a:xfrm>
                <a:off x="403920" y="38088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7">
                    <a:moveTo>
                      <a:pt x="29" y="1655"/>
                    </a:moveTo>
                    <a:lnTo>
                      <a:pt x="79" y="1682"/>
                    </a:lnTo>
                    <a:lnTo>
                      <a:pt x="623" y="1957"/>
                    </a:lnTo>
                    <a:lnTo>
                      <a:pt x="684" y="1987"/>
                    </a:lnTo>
                    <a:lnTo>
                      <a:pt x="687" y="1916"/>
                    </a:lnTo>
                    <a:lnTo>
                      <a:pt x="691" y="1864"/>
                    </a:lnTo>
                    <a:lnTo>
                      <a:pt x="697" y="1814"/>
                    </a:lnTo>
                    <a:lnTo>
                      <a:pt x="704" y="1763"/>
                    </a:lnTo>
                    <a:lnTo>
                      <a:pt x="713" y="1714"/>
                    </a:lnTo>
                    <a:lnTo>
                      <a:pt x="724" y="1665"/>
                    </a:lnTo>
                    <a:lnTo>
                      <a:pt x="737" y="1616"/>
                    </a:lnTo>
                    <a:lnTo>
                      <a:pt x="751" y="1569"/>
                    </a:lnTo>
                    <a:lnTo>
                      <a:pt x="767" y="1522"/>
                    </a:lnTo>
                    <a:lnTo>
                      <a:pt x="784" y="1476"/>
                    </a:lnTo>
                    <a:lnTo>
                      <a:pt x="803" y="1431"/>
                    </a:lnTo>
                    <a:lnTo>
                      <a:pt x="824" y="1386"/>
                    </a:lnTo>
                    <a:lnTo>
                      <a:pt x="846" y="1343"/>
                    </a:lnTo>
                    <a:lnTo>
                      <a:pt x="869" y="1300"/>
                    </a:lnTo>
                    <a:lnTo>
                      <a:pt x="894" y="1257"/>
                    </a:lnTo>
                    <a:lnTo>
                      <a:pt x="920" y="1217"/>
                    </a:lnTo>
                    <a:lnTo>
                      <a:pt x="948" y="1177"/>
                    </a:lnTo>
                    <a:lnTo>
                      <a:pt x="976" y="1137"/>
                    </a:lnTo>
                    <a:lnTo>
                      <a:pt x="1007" y="1100"/>
                    </a:lnTo>
                    <a:lnTo>
                      <a:pt x="1038" y="1063"/>
                    </a:lnTo>
                    <a:lnTo>
                      <a:pt x="1071" y="1027"/>
                    </a:lnTo>
                    <a:lnTo>
                      <a:pt x="1105" y="993"/>
                    </a:lnTo>
                    <a:lnTo>
                      <a:pt x="1140" y="959"/>
                    </a:lnTo>
                    <a:lnTo>
                      <a:pt x="1176" y="927"/>
                    </a:lnTo>
                    <a:lnTo>
                      <a:pt x="1213" y="896"/>
                    </a:lnTo>
                    <a:lnTo>
                      <a:pt x="1250" y="866"/>
                    </a:lnTo>
                    <a:lnTo>
                      <a:pt x="1290" y="838"/>
                    </a:lnTo>
                    <a:lnTo>
                      <a:pt x="1331" y="810"/>
                    </a:lnTo>
                    <a:lnTo>
                      <a:pt x="1372" y="785"/>
                    </a:lnTo>
                    <a:lnTo>
                      <a:pt x="1414" y="760"/>
                    </a:lnTo>
                    <a:lnTo>
                      <a:pt x="1457" y="737"/>
                    </a:lnTo>
                    <a:lnTo>
                      <a:pt x="1501" y="716"/>
                    </a:lnTo>
                    <a:lnTo>
                      <a:pt x="1546" y="696"/>
                    </a:lnTo>
                    <a:lnTo>
                      <a:pt x="1584" y="680"/>
                    </a:lnTo>
                    <a:lnTo>
                      <a:pt x="1594" y="673"/>
                    </a:lnTo>
                    <a:lnTo>
                      <a:pt x="1600" y="665"/>
                    </a:lnTo>
                    <a:lnTo>
                      <a:pt x="1604" y="658"/>
                    </a:lnTo>
                    <a:lnTo>
                      <a:pt x="1606" y="650"/>
                    </a:lnTo>
                    <a:lnTo>
                      <a:pt x="1605" y="638"/>
                    </a:lnTo>
                    <a:lnTo>
                      <a:pt x="1603" y="632"/>
                    </a:lnTo>
                    <a:lnTo>
                      <a:pt x="1586" y="586"/>
                    </a:lnTo>
                    <a:lnTo>
                      <a:pt x="1385" y="31"/>
                    </a:lnTo>
                    <a:lnTo>
                      <a:pt x="1381" y="18"/>
                    </a:lnTo>
                    <a:lnTo>
                      <a:pt x="1380" y="13"/>
                    </a:lnTo>
                    <a:lnTo>
                      <a:pt x="1372" y="5"/>
                    </a:lnTo>
                    <a:lnTo>
                      <a:pt x="1367" y="2"/>
                    </a:lnTo>
                    <a:lnTo>
                      <a:pt x="1359" y="0"/>
                    </a:lnTo>
                    <a:lnTo>
                      <a:pt x="1349" y="0"/>
                    </a:lnTo>
                    <a:lnTo>
                      <a:pt x="1337" y="3"/>
                    </a:lnTo>
                    <a:lnTo>
                      <a:pt x="1307" y="14"/>
                    </a:lnTo>
                    <a:lnTo>
                      <a:pt x="1248" y="37"/>
                    </a:lnTo>
                    <a:lnTo>
                      <a:pt x="1190" y="63"/>
                    </a:lnTo>
                    <a:lnTo>
                      <a:pt x="1133" y="89"/>
                    </a:lnTo>
                    <a:lnTo>
                      <a:pt x="1076" y="119"/>
                    </a:lnTo>
                    <a:lnTo>
                      <a:pt x="1021" y="149"/>
                    </a:lnTo>
                    <a:lnTo>
                      <a:pt x="966" y="181"/>
                    </a:lnTo>
                    <a:lnTo>
                      <a:pt x="913" y="215"/>
                    </a:lnTo>
                    <a:lnTo>
                      <a:pt x="861" y="251"/>
                    </a:lnTo>
                    <a:lnTo>
                      <a:pt x="810" y="289"/>
                    </a:lnTo>
                    <a:lnTo>
                      <a:pt x="759" y="328"/>
                    </a:lnTo>
                    <a:lnTo>
                      <a:pt x="711" y="369"/>
                    </a:lnTo>
                    <a:lnTo>
                      <a:pt x="663" y="411"/>
                    </a:lnTo>
                    <a:lnTo>
                      <a:pt x="616" y="455"/>
                    </a:lnTo>
                    <a:lnTo>
                      <a:pt x="572" y="501"/>
                    </a:lnTo>
                    <a:lnTo>
                      <a:pt x="528" y="547"/>
                    </a:lnTo>
                    <a:lnTo>
                      <a:pt x="485" y="595"/>
                    </a:lnTo>
                    <a:lnTo>
                      <a:pt x="443" y="645"/>
                    </a:lnTo>
                    <a:lnTo>
                      <a:pt x="404" y="695"/>
                    </a:lnTo>
                    <a:lnTo>
                      <a:pt x="365" y="747"/>
                    </a:lnTo>
                    <a:lnTo>
                      <a:pt x="329" y="800"/>
                    </a:lnTo>
                    <a:lnTo>
                      <a:pt x="294" y="854"/>
                    </a:lnTo>
                    <a:lnTo>
                      <a:pt x="260" y="910"/>
                    </a:lnTo>
                    <a:lnTo>
                      <a:pt x="228" y="967"/>
                    </a:lnTo>
                    <a:lnTo>
                      <a:pt x="197" y="1024"/>
                    </a:lnTo>
                    <a:lnTo>
                      <a:pt x="169" y="1084"/>
                    </a:lnTo>
                    <a:lnTo>
                      <a:pt x="142" y="1144"/>
                    </a:lnTo>
                    <a:lnTo>
                      <a:pt x="116" y="1204"/>
                    </a:lnTo>
                    <a:lnTo>
                      <a:pt x="93" y="1266"/>
                    </a:lnTo>
                    <a:lnTo>
                      <a:pt x="71" y="1329"/>
                    </a:lnTo>
                    <a:lnTo>
                      <a:pt x="52" y="1392"/>
                    </a:lnTo>
                    <a:lnTo>
                      <a:pt x="34" y="1457"/>
                    </a:lnTo>
                    <a:lnTo>
                      <a:pt x="18" y="1522"/>
                    </a:lnTo>
                    <a:lnTo>
                      <a:pt x="2" y="1593"/>
                    </a:lnTo>
                    <a:lnTo>
                      <a:pt x="0" y="1610"/>
                    </a:lnTo>
                    <a:lnTo>
                      <a:pt x="1" y="1623"/>
                    </a:lnTo>
                    <a:lnTo>
                      <a:pt x="6" y="1634"/>
                    </a:lnTo>
                    <a:lnTo>
                      <a:pt x="11" y="1643"/>
                    </a:lnTo>
                    <a:lnTo>
                      <a:pt x="17" y="1648"/>
                    </a:lnTo>
                    <a:lnTo>
                      <a:pt x="23" y="1652"/>
                    </a:lnTo>
                    <a:lnTo>
                      <a:pt x="29" y="1655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03920" y="77004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5">
                    <a:moveTo>
                      <a:pt x="29" y="333"/>
                    </a:moveTo>
                    <a:lnTo>
                      <a:pt x="79" y="306"/>
                    </a:lnTo>
                    <a:lnTo>
                      <a:pt x="623" y="31"/>
                    </a:lnTo>
                    <a:lnTo>
                      <a:pt x="684" y="0"/>
                    </a:lnTo>
                    <a:lnTo>
                      <a:pt x="687" y="72"/>
                    </a:lnTo>
                    <a:lnTo>
                      <a:pt x="691" y="123"/>
                    </a:lnTo>
                    <a:lnTo>
                      <a:pt x="697" y="174"/>
                    </a:lnTo>
                    <a:lnTo>
                      <a:pt x="704" y="224"/>
                    </a:lnTo>
                    <a:lnTo>
                      <a:pt x="713" y="273"/>
                    </a:lnTo>
                    <a:lnTo>
                      <a:pt x="724" y="323"/>
                    </a:lnTo>
                    <a:lnTo>
                      <a:pt x="737" y="371"/>
                    </a:lnTo>
                    <a:lnTo>
                      <a:pt x="751" y="418"/>
                    </a:lnTo>
                    <a:lnTo>
                      <a:pt x="767" y="465"/>
                    </a:lnTo>
                    <a:lnTo>
                      <a:pt x="784" y="512"/>
                    </a:lnTo>
                    <a:lnTo>
                      <a:pt x="803" y="557"/>
                    </a:lnTo>
                    <a:lnTo>
                      <a:pt x="824" y="602"/>
                    </a:lnTo>
                    <a:lnTo>
                      <a:pt x="846" y="645"/>
                    </a:lnTo>
                    <a:lnTo>
                      <a:pt x="869" y="688"/>
                    </a:lnTo>
                    <a:lnTo>
                      <a:pt x="894" y="730"/>
                    </a:lnTo>
                    <a:lnTo>
                      <a:pt x="920" y="771"/>
                    </a:lnTo>
                    <a:lnTo>
                      <a:pt x="948" y="811"/>
                    </a:lnTo>
                    <a:lnTo>
                      <a:pt x="976" y="850"/>
                    </a:lnTo>
                    <a:lnTo>
                      <a:pt x="1007" y="888"/>
                    </a:lnTo>
                    <a:lnTo>
                      <a:pt x="1038" y="924"/>
                    </a:lnTo>
                    <a:lnTo>
                      <a:pt x="1071" y="961"/>
                    </a:lnTo>
                    <a:lnTo>
                      <a:pt x="1105" y="995"/>
                    </a:lnTo>
                    <a:lnTo>
                      <a:pt x="1140" y="1029"/>
                    </a:lnTo>
                    <a:lnTo>
                      <a:pt x="1176" y="1061"/>
                    </a:lnTo>
                    <a:lnTo>
                      <a:pt x="1213" y="1092"/>
                    </a:lnTo>
                    <a:lnTo>
                      <a:pt x="1252" y="1122"/>
                    </a:lnTo>
                    <a:lnTo>
                      <a:pt x="1290" y="1151"/>
                    </a:lnTo>
                    <a:lnTo>
                      <a:pt x="1331" y="1177"/>
                    </a:lnTo>
                    <a:lnTo>
                      <a:pt x="1372" y="1203"/>
                    </a:lnTo>
                    <a:lnTo>
                      <a:pt x="1414" y="1227"/>
                    </a:lnTo>
                    <a:lnTo>
                      <a:pt x="1457" y="1250"/>
                    </a:lnTo>
                    <a:lnTo>
                      <a:pt x="1501" y="1271"/>
                    </a:lnTo>
                    <a:lnTo>
                      <a:pt x="1546" y="1292"/>
                    </a:lnTo>
                    <a:lnTo>
                      <a:pt x="1584" y="1308"/>
                    </a:lnTo>
                    <a:lnTo>
                      <a:pt x="1594" y="1315"/>
                    </a:lnTo>
                    <a:lnTo>
                      <a:pt x="1600" y="1323"/>
                    </a:lnTo>
                    <a:lnTo>
                      <a:pt x="1605" y="1331"/>
                    </a:lnTo>
                    <a:lnTo>
                      <a:pt x="1606" y="1337"/>
                    </a:lnTo>
                    <a:lnTo>
                      <a:pt x="1605" y="1349"/>
                    </a:lnTo>
                    <a:lnTo>
                      <a:pt x="1603" y="1355"/>
                    </a:lnTo>
                    <a:lnTo>
                      <a:pt x="1586" y="1401"/>
                    </a:lnTo>
                    <a:lnTo>
                      <a:pt x="1388" y="1950"/>
                    </a:lnTo>
                    <a:lnTo>
                      <a:pt x="1381" y="1965"/>
                    </a:lnTo>
                    <a:lnTo>
                      <a:pt x="1379" y="1970"/>
                    </a:lnTo>
                    <a:lnTo>
                      <a:pt x="1371" y="1978"/>
                    </a:lnTo>
                    <a:lnTo>
                      <a:pt x="1366" y="1983"/>
                    </a:lnTo>
                    <a:lnTo>
                      <a:pt x="1358" y="1985"/>
                    </a:lnTo>
                    <a:lnTo>
                      <a:pt x="1348" y="1985"/>
                    </a:lnTo>
                    <a:lnTo>
                      <a:pt x="1338" y="1983"/>
                    </a:lnTo>
                    <a:lnTo>
                      <a:pt x="1302" y="1969"/>
                    </a:lnTo>
                    <a:lnTo>
                      <a:pt x="1242" y="1942"/>
                    </a:lnTo>
                    <a:lnTo>
                      <a:pt x="1181" y="1915"/>
                    </a:lnTo>
                    <a:lnTo>
                      <a:pt x="1123" y="1886"/>
                    </a:lnTo>
                    <a:lnTo>
                      <a:pt x="1066" y="1857"/>
                    </a:lnTo>
                    <a:lnTo>
                      <a:pt x="1009" y="1824"/>
                    </a:lnTo>
                    <a:lnTo>
                      <a:pt x="954" y="1791"/>
                    </a:lnTo>
                    <a:lnTo>
                      <a:pt x="901" y="1756"/>
                    </a:lnTo>
                    <a:lnTo>
                      <a:pt x="848" y="1719"/>
                    </a:lnTo>
                    <a:lnTo>
                      <a:pt x="796" y="1682"/>
                    </a:lnTo>
                    <a:lnTo>
                      <a:pt x="747" y="1642"/>
                    </a:lnTo>
                    <a:lnTo>
                      <a:pt x="698" y="1602"/>
                    </a:lnTo>
                    <a:lnTo>
                      <a:pt x="650" y="1560"/>
                    </a:lnTo>
                    <a:lnTo>
                      <a:pt x="604" y="1517"/>
                    </a:lnTo>
                    <a:lnTo>
                      <a:pt x="559" y="1472"/>
                    </a:lnTo>
                    <a:lnTo>
                      <a:pt x="517" y="1426"/>
                    </a:lnTo>
                    <a:lnTo>
                      <a:pt x="475" y="1379"/>
                    </a:lnTo>
                    <a:lnTo>
                      <a:pt x="434" y="1331"/>
                    </a:lnTo>
                    <a:lnTo>
                      <a:pt x="395" y="1281"/>
                    </a:lnTo>
                    <a:lnTo>
                      <a:pt x="358" y="1230"/>
                    </a:lnTo>
                    <a:lnTo>
                      <a:pt x="323" y="1178"/>
                    </a:lnTo>
                    <a:lnTo>
                      <a:pt x="287" y="1124"/>
                    </a:lnTo>
                    <a:lnTo>
                      <a:pt x="255" y="1070"/>
                    </a:lnTo>
                    <a:lnTo>
                      <a:pt x="224" y="1014"/>
                    </a:lnTo>
                    <a:lnTo>
                      <a:pt x="194" y="957"/>
                    </a:lnTo>
                    <a:lnTo>
                      <a:pt x="166" y="900"/>
                    </a:lnTo>
                    <a:lnTo>
                      <a:pt x="139" y="841"/>
                    </a:lnTo>
                    <a:lnTo>
                      <a:pt x="115" y="781"/>
                    </a:lnTo>
                    <a:lnTo>
                      <a:pt x="92" y="720"/>
                    </a:lnTo>
                    <a:lnTo>
                      <a:pt x="71" y="658"/>
                    </a:lnTo>
                    <a:lnTo>
                      <a:pt x="52" y="595"/>
                    </a:lnTo>
                    <a:lnTo>
                      <a:pt x="34" y="530"/>
                    </a:lnTo>
                    <a:lnTo>
                      <a:pt x="18" y="465"/>
                    </a:lnTo>
                    <a:lnTo>
                      <a:pt x="3" y="394"/>
                    </a:lnTo>
                    <a:lnTo>
                      <a:pt x="0" y="378"/>
                    </a:lnTo>
                    <a:lnTo>
                      <a:pt x="1" y="364"/>
                    </a:lnTo>
                    <a:lnTo>
                      <a:pt x="6" y="353"/>
                    </a:lnTo>
                    <a:lnTo>
                      <a:pt x="11" y="346"/>
                    </a:lnTo>
                    <a:lnTo>
                      <a:pt x="17" y="339"/>
                    </a:lnTo>
                    <a:lnTo>
                      <a:pt x="23" y="336"/>
                    </a:lnTo>
                    <a:lnTo>
                      <a:pt x="29" y="333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67440" y="698400"/>
                <a:ext cx="149400" cy="147600"/>
              </a:xfrm>
              <a:custGeom>
                <a:avLst/>
                <a:gdLst/>
                <a:ahLst/>
                <a:rect l="l" t="t" r="r" b="b"/>
                <a:pathLst>
                  <a:path w="714" h="759">
                    <a:moveTo>
                      <a:pt x="699" y="379"/>
                    </a:moveTo>
                    <a:lnTo>
                      <a:pt x="706" y="375"/>
                    </a:lnTo>
                    <a:lnTo>
                      <a:pt x="710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09" y="351"/>
                    </a:lnTo>
                    <a:lnTo>
                      <a:pt x="705" y="346"/>
                    </a:lnTo>
                    <a:lnTo>
                      <a:pt x="699" y="342"/>
                    </a:lnTo>
                    <a:lnTo>
                      <a:pt x="35" y="4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3" y="11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735"/>
                    </a:lnTo>
                    <a:lnTo>
                      <a:pt x="1" y="743"/>
                    </a:lnTo>
                    <a:lnTo>
                      <a:pt x="3" y="748"/>
                    </a:lnTo>
                    <a:lnTo>
                      <a:pt x="5" y="753"/>
                    </a:lnTo>
                    <a:lnTo>
                      <a:pt x="10" y="757"/>
                    </a:lnTo>
                    <a:lnTo>
                      <a:pt x="15" y="759"/>
                    </a:lnTo>
                    <a:lnTo>
                      <a:pt x="21" y="759"/>
                    </a:lnTo>
                    <a:lnTo>
                      <a:pt x="27" y="758"/>
                    </a:lnTo>
                    <a:lnTo>
                      <a:pt x="34" y="755"/>
                    </a:lnTo>
                    <a:lnTo>
                      <a:pt x="699" y="379"/>
                    </a:lnTo>
                    <a:close/>
                  </a:path>
                </a:pathLst>
              </a:custGeom>
              <a:solidFill>
                <a:srgbClr val="00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211320" y="701640"/>
                <a:ext cx="149760" cy="146160"/>
              </a:xfrm>
              <a:custGeom>
                <a:avLst/>
                <a:gdLst/>
                <a:ahLst/>
                <a:rect l="l" t="t" r="r" b="b"/>
                <a:pathLst>
                  <a:path w="714" h="758">
                    <a:moveTo>
                      <a:pt x="701" y="379"/>
                    </a:moveTo>
                    <a:lnTo>
                      <a:pt x="706" y="374"/>
                    </a:lnTo>
                    <a:lnTo>
                      <a:pt x="711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11" y="350"/>
                    </a:lnTo>
                    <a:lnTo>
                      <a:pt x="706" y="346"/>
                    </a:lnTo>
                    <a:lnTo>
                      <a:pt x="700" y="342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0" y="734"/>
                    </a:lnTo>
                    <a:lnTo>
                      <a:pt x="1" y="742"/>
                    </a:lnTo>
                    <a:lnTo>
                      <a:pt x="3" y="749"/>
                    </a:lnTo>
                    <a:lnTo>
                      <a:pt x="7" y="753"/>
                    </a:lnTo>
                    <a:lnTo>
                      <a:pt x="10" y="756"/>
                    </a:lnTo>
                    <a:lnTo>
                      <a:pt x="15" y="758"/>
                    </a:lnTo>
                    <a:lnTo>
                      <a:pt x="21" y="758"/>
                    </a:lnTo>
                    <a:lnTo>
                      <a:pt x="27" y="757"/>
                    </a:lnTo>
                    <a:lnTo>
                      <a:pt x="34" y="754"/>
                    </a:lnTo>
                    <a:lnTo>
                      <a:pt x="701" y="379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1011960" y="517680"/>
                <a:ext cx="195840" cy="250560"/>
              </a:xfrm>
              <a:custGeom>
                <a:avLst/>
                <a:gdLst/>
                <a:ahLst/>
                <a:rect l="l" t="t" r="r" b="b"/>
                <a:pathLst>
                  <a:path w="930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30" y="1293"/>
                    </a:lnTo>
                    <a:lnTo>
                      <a:pt x="713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1230480" y="517680"/>
                <a:ext cx="34200" cy="25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1316520" y="517680"/>
                <a:ext cx="168480" cy="250560"/>
              </a:xfrm>
              <a:custGeom>
                <a:avLst/>
                <a:gdLst/>
                <a:ahLst/>
                <a:rect l="l" t="t" r="r" b="b"/>
                <a:pathLst>
                  <a:path w="803" h="1293">
                    <a:moveTo>
                      <a:pt x="803" y="1293"/>
                    </a:moveTo>
                    <a:lnTo>
                      <a:pt x="607" y="1293"/>
                    </a:lnTo>
                    <a:lnTo>
                      <a:pt x="228" y="746"/>
                    </a:lnTo>
                    <a:lnTo>
                      <a:pt x="161" y="746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283" y="1"/>
                    </a:lnTo>
                    <a:lnTo>
                      <a:pt x="327" y="4"/>
                    </a:lnTo>
                    <a:lnTo>
                      <a:pt x="370" y="8"/>
                    </a:lnTo>
                    <a:lnTo>
                      <a:pt x="413" y="16"/>
                    </a:lnTo>
                    <a:lnTo>
                      <a:pt x="456" y="27"/>
                    </a:lnTo>
                    <a:lnTo>
                      <a:pt x="497" y="41"/>
                    </a:lnTo>
                    <a:lnTo>
                      <a:pt x="536" y="61"/>
                    </a:lnTo>
                    <a:lnTo>
                      <a:pt x="556" y="73"/>
                    </a:lnTo>
                    <a:lnTo>
                      <a:pt x="574" y="87"/>
                    </a:lnTo>
                    <a:lnTo>
                      <a:pt x="592" y="101"/>
                    </a:lnTo>
                    <a:lnTo>
                      <a:pt x="608" y="118"/>
                    </a:lnTo>
                    <a:lnTo>
                      <a:pt x="623" y="135"/>
                    </a:lnTo>
                    <a:lnTo>
                      <a:pt x="637" y="153"/>
                    </a:lnTo>
                    <a:lnTo>
                      <a:pt x="650" y="173"/>
                    </a:lnTo>
                    <a:lnTo>
                      <a:pt x="661" y="192"/>
                    </a:lnTo>
                    <a:lnTo>
                      <a:pt x="671" y="212"/>
                    </a:lnTo>
                    <a:lnTo>
                      <a:pt x="680" y="233"/>
                    </a:lnTo>
                    <a:lnTo>
                      <a:pt x="694" y="277"/>
                    </a:lnTo>
                    <a:lnTo>
                      <a:pt x="700" y="300"/>
                    </a:lnTo>
                    <a:lnTo>
                      <a:pt x="703" y="323"/>
                    </a:lnTo>
                    <a:lnTo>
                      <a:pt x="705" y="346"/>
                    </a:lnTo>
                    <a:lnTo>
                      <a:pt x="705" y="369"/>
                    </a:lnTo>
                    <a:lnTo>
                      <a:pt x="704" y="403"/>
                    </a:lnTo>
                    <a:lnTo>
                      <a:pt x="700" y="436"/>
                    </a:lnTo>
                    <a:lnTo>
                      <a:pt x="693" y="469"/>
                    </a:lnTo>
                    <a:lnTo>
                      <a:pt x="683" y="500"/>
                    </a:lnTo>
                    <a:lnTo>
                      <a:pt x="671" y="531"/>
                    </a:lnTo>
                    <a:lnTo>
                      <a:pt x="657" y="558"/>
                    </a:lnTo>
                    <a:lnTo>
                      <a:pt x="639" y="585"/>
                    </a:lnTo>
                    <a:lnTo>
                      <a:pt x="621" y="611"/>
                    </a:lnTo>
                    <a:lnTo>
                      <a:pt x="599" y="634"/>
                    </a:lnTo>
                    <a:lnTo>
                      <a:pt x="576" y="655"/>
                    </a:lnTo>
                    <a:lnTo>
                      <a:pt x="550" y="673"/>
                    </a:lnTo>
                    <a:lnTo>
                      <a:pt x="523" y="691"/>
                    </a:lnTo>
                    <a:lnTo>
                      <a:pt x="493" y="704"/>
                    </a:lnTo>
                    <a:lnTo>
                      <a:pt x="463" y="716"/>
                    </a:lnTo>
                    <a:lnTo>
                      <a:pt x="430" y="725"/>
                    </a:lnTo>
                    <a:lnTo>
                      <a:pt x="396" y="730"/>
                    </a:lnTo>
                    <a:lnTo>
                      <a:pt x="803" y="1293"/>
                    </a:lnTo>
                    <a:close/>
                    <a:moveTo>
                      <a:pt x="161" y="612"/>
                    </a:moveTo>
                    <a:lnTo>
                      <a:pt x="213" y="612"/>
                    </a:lnTo>
                    <a:lnTo>
                      <a:pt x="274" y="611"/>
                    </a:lnTo>
                    <a:lnTo>
                      <a:pt x="335" y="604"/>
                    </a:lnTo>
                    <a:lnTo>
                      <a:pt x="365" y="599"/>
                    </a:lnTo>
                    <a:lnTo>
                      <a:pt x="393" y="591"/>
                    </a:lnTo>
                    <a:lnTo>
                      <a:pt x="420" y="582"/>
                    </a:lnTo>
                    <a:lnTo>
                      <a:pt x="445" y="571"/>
                    </a:lnTo>
                    <a:lnTo>
                      <a:pt x="469" y="557"/>
                    </a:lnTo>
                    <a:lnTo>
                      <a:pt x="490" y="540"/>
                    </a:lnTo>
                    <a:lnTo>
                      <a:pt x="509" y="522"/>
                    </a:lnTo>
                    <a:lnTo>
                      <a:pt x="524" y="499"/>
                    </a:lnTo>
                    <a:lnTo>
                      <a:pt x="537" y="473"/>
                    </a:lnTo>
                    <a:lnTo>
                      <a:pt x="547" y="445"/>
                    </a:lnTo>
                    <a:lnTo>
                      <a:pt x="553" y="412"/>
                    </a:lnTo>
                    <a:lnTo>
                      <a:pt x="555" y="376"/>
                    </a:lnTo>
                    <a:lnTo>
                      <a:pt x="553" y="339"/>
                    </a:lnTo>
                    <a:lnTo>
                      <a:pt x="546" y="308"/>
                    </a:lnTo>
                    <a:lnTo>
                      <a:pt x="536" y="279"/>
                    </a:lnTo>
                    <a:lnTo>
                      <a:pt x="523" y="254"/>
                    </a:lnTo>
                    <a:lnTo>
                      <a:pt x="505" y="232"/>
                    </a:lnTo>
                    <a:lnTo>
                      <a:pt x="486" y="213"/>
                    </a:lnTo>
                    <a:lnTo>
                      <a:pt x="464" y="198"/>
                    </a:lnTo>
                    <a:lnTo>
                      <a:pt x="440" y="184"/>
                    </a:lnTo>
                    <a:lnTo>
                      <a:pt x="413" y="173"/>
                    </a:lnTo>
                    <a:lnTo>
                      <a:pt x="385" y="164"/>
                    </a:lnTo>
                    <a:lnTo>
                      <a:pt x="356" y="157"/>
                    </a:lnTo>
                    <a:lnTo>
                      <a:pt x="325" y="152"/>
                    </a:lnTo>
                    <a:lnTo>
                      <a:pt x="296" y="148"/>
                    </a:lnTo>
                    <a:lnTo>
                      <a:pt x="265" y="146"/>
                    </a:lnTo>
                    <a:lnTo>
                      <a:pt x="204" y="144"/>
                    </a:lnTo>
                    <a:lnTo>
                      <a:pt x="161" y="144"/>
                    </a:lnTo>
                    <a:lnTo>
                      <a:pt x="161" y="6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1502280" y="517680"/>
                <a:ext cx="196200" cy="250560"/>
              </a:xfrm>
              <a:custGeom>
                <a:avLst/>
                <a:gdLst/>
                <a:ahLst/>
                <a:rect l="l" t="t" r="r" b="b"/>
                <a:pathLst>
                  <a:path w="929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29" y="1293"/>
                    </a:lnTo>
                    <a:lnTo>
                      <a:pt x="712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999720" y="847800"/>
                <a:ext cx="54720" cy="133200"/>
              </a:xfrm>
              <a:custGeom>
                <a:avLst/>
                <a:gdLst/>
                <a:ahLst/>
                <a:rect l="l" t="t" r="r" b="b"/>
                <a:pathLst>
                  <a:path w="264" h="687">
                    <a:moveTo>
                      <a:pt x="169" y="687"/>
                    </a:moveTo>
                    <a:lnTo>
                      <a:pt x="74" y="687"/>
                    </a:lnTo>
                    <a:lnTo>
                      <a:pt x="74" y="279"/>
                    </a:lnTo>
                    <a:lnTo>
                      <a:pt x="0" y="279"/>
                    </a:lnTo>
                    <a:lnTo>
                      <a:pt x="0" y="190"/>
                    </a:lnTo>
                    <a:lnTo>
                      <a:pt x="74" y="190"/>
                    </a:lnTo>
                    <a:lnTo>
                      <a:pt x="74" y="0"/>
                    </a:lnTo>
                    <a:lnTo>
                      <a:pt x="169" y="0"/>
                    </a:lnTo>
                    <a:lnTo>
                      <a:pt x="169" y="190"/>
                    </a:lnTo>
                    <a:lnTo>
                      <a:pt x="264" y="190"/>
                    </a:lnTo>
                    <a:lnTo>
                      <a:pt x="264" y="279"/>
                    </a:lnTo>
                    <a:lnTo>
                      <a:pt x="169" y="279"/>
                    </a:lnTo>
                    <a:lnTo>
                      <a:pt x="169" y="6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1058400" y="882720"/>
                <a:ext cx="9936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5" y="280"/>
                    </a:moveTo>
                    <a:lnTo>
                      <a:pt x="98" y="311"/>
                    </a:lnTo>
                    <a:lnTo>
                      <a:pt x="106" y="341"/>
                    </a:lnTo>
                    <a:lnTo>
                      <a:pt x="119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8" y="415"/>
                    </a:lnTo>
                    <a:lnTo>
                      <a:pt x="170" y="423"/>
                    </a:lnTo>
                    <a:lnTo>
                      <a:pt x="184" y="431"/>
                    </a:lnTo>
                    <a:lnTo>
                      <a:pt x="197" y="437"/>
                    </a:lnTo>
                    <a:lnTo>
                      <a:pt x="213" y="441"/>
                    </a:lnTo>
                    <a:lnTo>
                      <a:pt x="229" y="443"/>
                    </a:lnTo>
                    <a:lnTo>
                      <a:pt x="245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5" y="430"/>
                    </a:lnTo>
                    <a:lnTo>
                      <a:pt x="333" y="418"/>
                    </a:lnTo>
                    <a:lnTo>
                      <a:pt x="351" y="405"/>
                    </a:lnTo>
                    <a:lnTo>
                      <a:pt x="366" y="388"/>
                    </a:lnTo>
                    <a:lnTo>
                      <a:pt x="380" y="368"/>
                    </a:lnTo>
                    <a:lnTo>
                      <a:pt x="394" y="348"/>
                    </a:lnTo>
                    <a:lnTo>
                      <a:pt x="475" y="394"/>
                    </a:lnTo>
                    <a:lnTo>
                      <a:pt x="455" y="424"/>
                    </a:lnTo>
                    <a:lnTo>
                      <a:pt x="433" y="451"/>
                    </a:lnTo>
                    <a:lnTo>
                      <a:pt x="407" y="474"/>
                    </a:lnTo>
                    <a:lnTo>
                      <a:pt x="378" y="494"/>
                    </a:lnTo>
                    <a:lnTo>
                      <a:pt x="347" y="509"/>
                    </a:lnTo>
                    <a:lnTo>
                      <a:pt x="315" y="520"/>
                    </a:lnTo>
                    <a:lnTo>
                      <a:pt x="279" y="528"/>
                    </a:lnTo>
                    <a:lnTo>
                      <a:pt x="244" y="530"/>
                    </a:lnTo>
                    <a:lnTo>
                      <a:pt x="217" y="528"/>
                    </a:lnTo>
                    <a:lnTo>
                      <a:pt x="191" y="524"/>
                    </a:lnTo>
                    <a:lnTo>
                      <a:pt x="165" y="518"/>
                    </a:lnTo>
                    <a:lnTo>
                      <a:pt x="142" y="509"/>
                    </a:lnTo>
                    <a:lnTo>
                      <a:pt x="120" y="498"/>
                    </a:lnTo>
                    <a:lnTo>
                      <a:pt x="101" y="485"/>
                    </a:lnTo>
                    <a:lnTo>
                      <a:pt x="82" y="471"/>
                    </a:lnTo>
                    <a:lnTo>
                      <a:pt x="66" y="454"/>
                    </a:lnTo>
                    <a:lnTo>
                      <a:pt x="50" y="435"/>
                    </a:lnTo>
                    <a:lnTo>
                      <a:pt x="37" y="416"/>
                    </a:lnTo>
                    <a:lnTo>
                      <a:pt x="26" y="394"/>
                    </a:lnTo>
                    <a:lnTo>
                      <a:pt x="16" y="371"/>
                    </a:lnTo>
                    <a:lnTo>
                      <a:pt x="10" y="346"/>
                    </a:lnTo>
                    <a:lnTo>
                      <a:pt x="4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4" y="213"/>
                    </a:lnTo>
                    <a:lnTo>
                      <a:pt x="9" y="186"/>
                    </a:lnTo>
                    <a:lnTo>
                      <a:pt x="15" y="161"/>
                    </a:lnTo>
                    <a:lnTo>
                      <a:pt x="24" y="138"/>
                    </a:lnTo>
                    <a:lnTo>
                      <a:pt x="34" y="116"/>
                    </a:lnTo>
                    <a:lnTo>
                      <a:pt x="47" y="95"/>
                    </a:lnTo>
                    <a:lnTo>
                      <a:pt x="61" y="76"/>
                    </a:lnTo>
                    <a:lnTo>
                      <a:pt x="77" y="60"/>
                    </a:lnTo>
                    <a:lnTo>
                      <a:pt x="95" y="45"/>
                    </a:lnTo>
                    <a:lnTo>
                      <a:pt x="115" y="31"/>
                    </a:lnTo>
                    <a:lnTo>
                      <a:pt x="137" y="20"/>
                    </a:lnTo>
                    <a:lnTo>
                      <a:pt x="160" y="12"/>
                    </a:lnTo>
                    <a:lnTo>
                      <a:pt x="185" y="5"/>
                    </a:lnTo>
                    <a:lnTo>
                      <a:pt x="213" y="2"/>
                    </a:lnTo>
                    <a:lnTo>
                      <a:pt x="242" y="0"/>
                    </a:lnTo>
                    <a:lnTo>
                      <a:pt x="271" y="2"/>
                    </a:lnTo>
                    <a:lnTo>
                      <a:pt x="297" y="5"/>
                    </a:lnTo>
                    <a:lnTo>
                      <a:pt x="322" y="12"/>
                    </a:lnTo>
                    <a:lnTo>
                      <a:pt x="345" y="20"/>
                    </a:lnTo>
                    <a:lnTo>
                      <a:pt x="366" y="31"/>
                    </a:lnTo>
                    <a:lnTo>
                      <a:pt x="385" y="45"/>
                    </a:lnTo>
                    <a:lnTo>
                      <a:pt x="402" y="60"/>
                    </a:lnTo>
                    <a:lnTo>
                      <a:pt x="418" y="76"/>
                    </a:lnTo>
                    <a:lnTo>
                      <a:pt x="431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0" y="161"/>
                    </a:lnTo>
                    <a:lnTo>
                      <a:pt x="467" y="185"/>
                    </a:lnTo>
                    <a:lnTo>
                      <a:pt x="471" y="210"/>
                    </a:lnTo>
                    <a:lnTo>
                      <a:pt x="474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5" y="280"/>
                    </a:lnTo>
                    <a:close/>
                    <a:moveTo>
                      <a:pt x="379" y="207"/>
                    </a:moveTo>
                    <a:lnTo>
                      <a:pt x="373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5" y="117"/>
                    </a:lnTo>
                    <a:lnTo>
                      <a:pt x="316" y="103"/>
                    </a:lnTo>
                    <a:lnTo>
                      <a:pt x="294" y="92"/>
                    </a:lnTo>
                    <a:lnTo>
                      <a:pt x="270" y="85"/>
                    </a:lnTo>
                    <a:lnTo>
                      <a:pt x="242" y="83"/>
                    </a:lnTo>
                    <a:lnTo>
                      <a:pt x="215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1" y="137"/>
                    </a:lnTo>
                    <a:lnTo>
                      <a:pt x="117" y="158"/>
                    </a:lnTo>
                    <a:lnTo>
                      <a:pt x="107" y="182"/>
                    </a:lnTo>
                    <a:lnTo>
                      <a:pt x="101" y="207"/>
                    </a:lnTo>
                    <a:lnTo>
                      <a:pt x="379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1177200" y="846000"/>
                <a:ext cx="2052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1211400" y="882720"/>
                <a:ext cx="9972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7" y="280"/>
                    </a:moveTo>
                    <a:lnTo>
                      <a:pt x="99" y="311"/>
                    </a:lnTo>
                    <a:lnTo>
                      <a:pt x="108" y="341"/>
                    </a:lnTo>
                    <a:lnTo>
                      <a:pt x="120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9" y="415"/>
                    </a:lnTo>
                    <a:lnTo>
                      <a:pt x="171" y="423"/>
                    </a:lnTo>
                    <a:lnTo>
                      <a:pt x="185" y="431"/>
                    </a:lnTo>
                    <a:lnTo>
                      <a:pt x="199" y="437"/>
                    </a:lnTo>
                    <a:lnTo>
                      <a:pt x="213" y="441"/>
                    </a:lnTo>
                    <a:lnTo>
                      <a:pt x="230" y="443"/>
                    </a:lnTo>
                    <a:lnTo>
                      <a:pt x="246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6" y="430"/>
                    </a:lnTo>
                    <a:lnTo>
                      <a:pt x="335" y="418"/>
                    </a:lnTo>
                    <a:lnTo>
                      <a:pt x="351" y="405"/>
                    </a:lnTo>
                    <a:lnTo>
                      <a:pt x="367" y="388"/>
                    </a:lnTo>
                    <a:lnTo>
                      <a:pt x="381" y="368"/>
                    </a:lnTo>
                    <a:lnTo>
                      <a:pt x="395" y="348"/>
                    </a:lnTo>
                    <a:lnTo>
                      <a:pt x="475" y="394"/>
                    </a:lnTo>
                    <a:lnTo>
                      <a:pt x="457" y="424"/>
                    </a:lnTo>
                    <a:lnTo>
                      <a:pt x="434" y="451"/>
                    </a:lnTo>
                    <a:lnTo>
                      <a:pt x="407" y="474"/>
                    </a:lnTo>
                    <a:lnTo>
                      <a:pt x="379" y="494"/>
                    </a:lnTo>
                    <a:lnTo>
                      <a:pt x="348" y="509"/>
                    </a:lnTo>
                    <a:lnTo>
                      <a:pt x="315" y="520"/>
                    </a:lnTo>
                    <a:lnTo>
                      <a:pt x="281" y="528"/>
                    </a:lnTo>
                    <a:lnTo>
                      <a:pt x="245" y="530"/>
                    </a:lnTo>
                    <a:lnTo>
                      <a:pt x="218" y="528"/>
                    </a:lnTo>
                    <a:lnTo>
                      <a:pt x="191" y="524"/>
                    </a:lnTo>
                    <a:lnTo>
                      <a:pt x="166" y="518"/>
                    </a:lnTo>
                    <a:lnTo>
                      <a:pt x="143" y="509"/>
                    </a:lnTo>
                    <a:lnTo>
                      <a:pt x="121" y="498"/>
                    </a:lnTo>
                    <a:lnTo>
                      <a:pt x="101" y="485"/>
                    </a:lnTo>
                    <a:lnTo>
                      <a:pt x="83" y="471"/>
                    </a:lnTo>
                    <a:lnTo>
                      <a:pt x="66" y="454"/>
                    </a:lnTo>
                    <a:lnTo>
                      <a:pt x="51" y="435"/>
                    </a:lnTo>
                    <a:lnTo>
                      <a:pt x="38" y="416"/>
                    </a:lnTo>
                    <a:lnTo>
                      <a:pt x="27" y="394"/>
                    </a:lnTo>
                    <a:lnTo>
                      <a:pt x="18" y="371"/>
                    </a:lnTo>
                    <a:lnTo>
                      <a:pt x="10" y="346"/>
                    </a:lnTo>
                    <a:lnTo>
                      <a:pt x="5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5" y="213"/>
                    </a:lnTo>
                    <a:lnTo>
                      <a:pt x="9" y="186"/>
                    </a:lnTo>
                    <a:lnTo>
                      <a:pt x="16" y="161"/>
                    </a:lnTo>
                    <a:lnTo>
                      <a:pt x="24" y="138"/>
                    </a:lnTo>
                    <a:lnTo>
                      <a:pt x="35" y="116"/>
                    </a:lnTo>
                    <a:lnTo>
                      <a:pt x="48" y="95"/>
                    </a:lnTo>
                    <a:lnTo>
                      <a:pt x="62" y="76"/>
                    </a:lnTo>
                    <a:lnTo>
                      <a:pt x="78" y="60"/>
                    </a:lnTo>
                    <a:lnTo>
                      <a:pt x="96" y="45"/>
                    </a:lnTo>
                    <a:lnTo>
                      <a:pt x="116" y="31"/>
                    </a:lnTo>
                    <a:lnTo>
                      <a:pt x="137" y="20"/>
                    </a:lnTo>
                    <a:lnTo>
                      <a:pt x="162" y="12"/>
                    </a:lnTo>
                    <a:lnTo>
                      <a:pt x="187" y="5"/>
                    </a:lnTo>
                    <a:lnTo>
                      <a:pt x="214" y="2"/>
                    </a:lnTo>
                    <a:lnTo>
                      <a:pt x="243" y="0"/>
                    </a:lnTo>
                    <a:lnTo>
                      <a:pt x="271" y="2"/>
                    </a:lnTo>
                    <a:lnTo>
                      <a:pt x="299" y="5"/>
                    </a:lnTo>
                    <a:lnTo>
                      <a:pt x="323" y="12"/>
                    </a:lnTo>
                    <a:lnTo>
                      <a:pt x="346" y="20"/>
                    </a:lnTo>
                    <a:lnTo>
                      <a:pt x="367" y="31"/>
                    </a:lnTo>
                    <a:lnTo>
                      <a:pt x="386" y="45"/>
                    </a:lnTo>
                    <a:lnTo>
                      <a:pt x="403" y="60"/>
                    </a:lnTo>
                    <a:lnTo>
                      <a:pt x="418" y="76"/>
                    </a:lnTo>
                    <a:lnTo>
                      <a:pt x="432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1" y="161"/>
                    </a:lnTo>
                    <a:lnTo>
                      <a:pt x="468" y="185"/>
                    </a:lnTo>
                    <a:lnTo>
                      <a:pt x="472" y="210"/>
                    </a:lnTo>
                    <a:lnTo>
                      <a:pt x="475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7" y="280"/>
                    </a:lnTo>
                    <a:close/>
                    <a:moveTo>
                      <a:pt x="380" y="207"/>
                    </a:moveTo>
                    <a:lnTo>
                      <a:pt x="374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6" y="117"/>
                    </a:lnTo>
                    <a:lnTo>
                      <a:pt x="317" y="103"/>
                    </a:lnTo>
                    <a:lnTo>
                      <a:pt x="295" y="92"/>
                    </a:lnTo>
                    <a:lnTo>
                      <a:pt x="270" y="85"/>
                    </a:lnTo>
                    <a:lnTo>
                      <a:pt x="243" y="83"/>
                    </a:lnTo>
                    <a:lnTo>
                      <a:pt x="216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2" y="137"/>
                    </a:lnTo>
                    <a:lnTo>
                      <a:pt x="119" y="158"/>
                    </a:lnTo>
                    <a:lnTo>
                      <a:pt x="108" y="182"/>
                    </a:lnTo>
                    <a:lnTo>
                      <a:pt x="101" y="207"/>
                    </a:lnTo>
                    <a:lnTo>
                      <a:pt x="380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1326960" y="882720"/>
                <a:ext cx="84240" cy="101520"/>
              </a:xfrm>
              <a:custGeom>
                <a:avLst/>
                <a:gdLst/>
                <a:ahLst/>
                <a:rect l="l" t="t" r="r" b="b"/>
                <a:pathLst>
                  <a:path w="404" h="530">
                    <a:moveTo>
                      <a:pt x="404" y="157"/>
                    </a:moveTo>
                    <a:lnTo>
                      <a:pt x="389" y="141"/>
                    </a:lnTo>
                    <a:lnTo>
                      <a:pt x="373" y="127"/>
                    </a:lnTo>
                    <a:lnTo>
                      <a:pt x="358" y="116"/>
                    </a:lnTo>
                    <a:lnTo>
                      <a:pt x="340" y="106"/>
                    </a:lnTo>
                    <a:lnTo>
                      <a:pt x="321" y="99"/>
                    </a:lnTo>
                    <a:lnTo>
                      <a:pt x="303" y="94"/>
                    </a:lnTo>
                    <a:lnTo>
                      <a:pt x="283" y="91"/>
                    </a:lnTo>
                    <a:lnTo>
                      <a:pt x="261" y="90"/>
                    </a:lnTo>
                    <a:lnTo>
                      <a:pt x="245" y="91"/>
                    </a:lnTo>
                    <a:lnTo>
                      <a:pt x="227" y="93"/>
                    </a:lnTo>
                    <a:lnTo>
                      <a:pt x="212" y="97"/>
                    </a:lnTo>
                    <a:lnTo>
                      <a:pt x="196" y="104"/>
                    </a:lnTo>
                    <a:lnTo>
                      <a:pt x="182" y="112"/>
                    </a:lnTo>
                    <a:lnTo>
                      <a:pt x="168" y="120"/>
                    </a:lnTo>
                    <a:lnTo>
                      <a:pt x="156" y="130"/>
                    </a:lnTo>
                    <a:lnTo>
                      <a:pt x="144" y="142"/>
                    </a:lnTo>
                    <a:lnTo>
                      <a:pt x="133" y="154"/>
                    </a:lnTo>
                    <a:lnTo>
                      <a:pt x="124" y="169"/>
                    </a:lnTo>
                    <a:lnTo>
                      <a:pt x="115" y="183"/>
                    </a:lnTo>
                    <a:lnTo>
                      <a:pt x="109" y="198"/>
                    </a:lnTo>
                    <a:lnTo>
                      <a:pt x="103" y="214"/>
                    </a:lnTo>
                    <a:lnTo>
                      <a:pt x="99" y="230"/>
                    </a:lnTo>
                    <a:lnTo>
                      <a:pt x="97" y="247"/>
                    </a:lnTo>
                    <a:lnTo>
                      <a:pt x="96" y="264"/>
                    </a:lnTo>
                    <a:lnTo>
                      <a:pt x="97" y="283"/>
                    </a:lnTo>
                    <a:lnTo>
                      <a:pt x="99" y="300"/>
                    </a:lnTo>
                    <a:lnTo>
                      <a:pt x="103" y="318"/>
                    </a:lnTo>
                    <a:lnTo>
                      <a:pt x="109" y="334"/>
                    </a:lnTo>
                    <a:lnTo>
                      <a:pt x="115" y="350"/>
                    </a:lnTo>
                    <a:lnTo>
                      <a:pt x="124" y="364"/>
                    </a:lnTo>
                    <a:lnTo>
                      <a:pt x="133" y="378"/>
                    </a:lnTo>
                    <a:lnTo>
                      <a:pt x="144" y="390"/>
                    </a:lnTo>
                    <a:lnTo>
                      <a:pt x="156" y="401"/>
                    </a:lnTo>
                    <a:lnTo>
                      <a:pt x="169" y="411"/>
                    </a:lnTo>
                    <a:lnTo>
                      <a:pt x="183" y="420"/>
                    </a:lnTo>
                    <a:lnTo>
                      <a:pt x="199" y="427"/>
                    </a:lnTo>
                    <a:lnTo>
                      <a:pt x="215" y="432"/>
                    </a:lnTo>
                    <a:lnTo>
                      <a:pt x="232" y="437"/>
                    </a:lnTo>
                    <a:lnTo>
                      <a:pt x="249" y="439"/>
                    </a:lnTo>
                    <a:lnTo>
                      <a:pt x="268" y="440"/>
                    </a:lnTo>
                    <a:lnTo>
                      <a:pt x="289" y="439"/>
                    </a:lnTo>
                    <a:lnTo>
                      <a:pt x="307" y="435"/>
                    </a:lnTo>
                    <a:lnTo>
                      <a:pt x="326" y="430"/>
                    </a:lnTo>
                    <a:lnTo>
                      <a:pt x="343" y="422"/>
                    </a:lnTo>
                    <a:lnTo>
                      <a:pt x="360" y="412"/>
                    </a:lnTo>
                    <a:lnTo>
                      <a:pt x="375" y="401"/>
                    </a:lnTo>
                    <a:lnTo>
                      <a:pt x="389" y="388"/>
                    </a:lnTo>
                    <a:lnTo>
                      <a:pt x="404" y="374"/>
                    </a:lnTo>
                    <a:lnTo>
                      <a:pt x="404" y="497"/>
                    </a:lnTo>
                    <a:lnTo>
                      <a:pt x="371" y="511"/>
                    </a:lnTo>
                    <a:lnTo>
                      <a:pt x="338" y="522"/>
                    </a:lnTo>
                    <a:lnTo>
                      <a:pt x="303" y="528"/>
                    </a:lnTo>
                    <a:lnTo>
                      <a:pt x="267" y="530"/>
                    </a:lnTo>
                    <a:lnTo>
                      <a:pt x="239" y="528"/>
                    </a:lnTo>
                    <a:lnTo>
                      <a:pt x="213" y="524"/>
                    </a:lnTo>
                    <a:lnTo>
                      <a:pt x="188" y="518"/>
                    </a:lnTo>
                    <a:lnTo>
                      <a:pt x="164" y="509"/>
                    </a:lnTo>
                    <a:lnTo>
                      <a:pt x="140" y="499"/>
                    </a:lnTo>
                    <a:lnTo>
                      <a:pt x="119" y="486"/>
                    </a:lnTo>
                    <a:lnTo>
                      <a:pt x="98" y="472"/>
                    </a:lnTo>
                    <a:lnTo>
                      <a:pt x="79" y="454"/>
                    </a:lnTo>
                    <a:lnTo>
                      <a:pt x="62" y="437"/>
                    </a:lnTo>
                    <a:lnTo>
                      <a:pt x="46" y="416"/>
                    </a:lnTo>
                    <a:lnTo>
                      <a:pt x="33" y="395"/>
                    </a:lnTo>
                    <a:lnTo>
                      <a:pt x="21" y="372"/>
                    </a:lnTo>
                    <a:lnTo>
                      <a:pt x="12" y="348"/>
                    </a:lnTo>
                    <a:lnTo>
                      <a:pt x="6" y="322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6" y="213"/>
                    </a:lnTo>
                    <a:lnTo>
                      <a:pt x="12" y="186"/>
                    </a:lnTo>
                    <a:lnTo>
                      <a:pt x="21" y="161"/>
                    </a:lnTo>
                    <a:lnTo>
                      <a:pt x="33" y="138"/>
                    </a:lnTo>
                    <a:lnTo>
                      <a:pt x="46" y="115"/>
                    </a:lnTo>
                    <a:lnTo>
                      <a:pt x="62" y="95"/>
                    </a:lnTo>
                    <a:lnTo>
                      <a:pt x="79" y="76"/>
                    </a:lnTo>
                    <a:lnTo>
                      <a:pt x="98" y="59"/>
                    </a:lnTo>
                    <a:lnTo>
                      <a:pt x="119" y="45"/>
                    </a:lnTo>
                    <a:lnTo>
                      <a:pt x="142" y="31"/>
                    </a:lnTo>
                    <a:lnTo>
                      <a:pt x="165" y="20"/>
                    </a:lnTo>
                    <a:lnTo>
                      <a:pt x="190" y="12"/>
                    </a:lnTo>
                    <a:lnTo>
                      <a:pt x="216" y="5"/>
                    </a:lnTo>
                    <a:lnTo>
                      <a:pt x="244" y="2"/>
                    </a:lnTo>
                    <a:lnTo>
                      <a:pt x="272" y="0"/>
                    </a:lnTo>
                    <a:lnTo>
                      <a:pt x="306" y="2"/>
                    </a:lnTo>
                    <a:lnTo>
                      <a:pt x="340" y="8"/>
                    </a:lnTo>
                    <a:lnTo>
                      <a:pt x="373" y="18"/>
                    </a:lnTo>
                    <a:lnTo>
                      <a:pt x="404" y="32"/>
                    </a:lnTo>
                    <a:lnTo>
                      <a:pt x="404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1423440" y="882720"/>
                <a:ext cx="111600" cy="101520"/>
              </a:xfrm>
              <a:custGeom>
                <a:avLst/>
                <a:gdLst/>
                <a:ahLst/>
                <a:rect l="l" t="t" r="r" b="b"/>
                <a:pathLst>
                  <a:path w="532" h="530">
                    <a:moveTo>
                      <a:pt x="532" y="264"/>
                    </a:moveTo>
                    <a:lnTo>
                      <a:pt x="530" y="293"/>
                    </a:lnTo>
                    <a:lnTo>
                      <a:pt x="527" y="319"/>
                    </a:lnTo>
                    <a:lnTo>
                      <a:pt x="520" y="344"/>
                    </a:lnTo>
                    <a:lnTo>
                      <a:pt x="511" y="370"/>
                    </a:lnTo>
                    <a:lnTo>
                      <a:pt x="501" y="393"/>
                    </a:lnTo>
                    <a:lnTo>
                      <a:pt x="487" y="415"/>
                    </a:lnTo>
                    <a:lnTo>
                      <a:pt x="472" y="434"/>
                    </a:lnTo>
                    <a:lnTo>
                      <a:pt x="454" y="453"/>
                    </a:lnTo>
                    <a:lnTo>
                      <a:pt x="436" y="471"/>
                    </a:lnTo>
                    <a:lnTo>
                      <a:pt x="416" y="485"/>
                    </a:lnTo>
                    <a:lnTo>
                      <a:pt x="394" y="498"/>
                    </a:lnTo>
                    <a:lnTo>
                      <a:pt x="370" y="509"/>
                    </a:lnTo>
                    <a:lnTo>
                      <a:pt x="346" y="518"/>
                    </a:lnTo>
                    <a:lnTo>
                      <a:pt x="321" y="524"/>
                    </a:lnTo>
                    <a:lnTo>
                      <a:pt x="293" y="528"/>
                    </a:lnTo>
                    <a:lnTo>
                      <a:pt x="266" y="530"/>
                    </a:lnTo>
                    <a:lnTo>
                      <a:pt x="238" y="528"/>
                    </a:lnTo>
                    <a:lnTo>
                      <a:pt x="212" y="524"/>
                    </a:lnTo>
                    <a:lnTo>
                      <a:pt x="187" y="518"/>
                    </a:lnTo>
                    <a:lnTo>
                      <a:pt x="162" y="509"/>
                    </a:lnTo>
                    <a:lnTo>
                      <a:pt x="139" y="498"/>
                    </a:lnTo>
                    <a:lnTo>
                      <a:pt x="117" y="485"/>
                    </a:lnTo>
                    <a:lnTo>
                      <a:pt x="97" y="471"/>
                    </a:lnTo>
                    <a:lnTo>
                      <a:pt x="78" y="453"/>
                    </a:lnTo>
                    <a:lnTo>
                      <a:pt x="61" y="434"/>
                    </a:lnTo>
                    <a:lnTo>
                      <a:pt x="45" y="415"/>
                    </a:lnTo>
                    <a:lnTo>
                      <a:pt x="32" y="393"/>
                    </a:lnTo>
                    <a:lnTo>
                      <a:pt x="21" y="370"/>
                    </a:lnTo>
                    <a:lnTo>
                      <a:pt x="12" y="344"/>
                    </a:lnTo>
                    <a:lnTo>
                      <a:pt x="6" y="319"/>
                    </a:lnTo>
                    <a:lnTo>
                      <a:pt x="3" y="293"/>
                    </a:lnTo>
                    <a:lnTo>
                      <a:pt x="0" y="264"/>
                    </a:lnTo>
                    <a:lnTo>
                      <a:pt x="3" y="237"/>
                    </a:lnTo>
                    <a:lnTo>
                      <a:pt x="6" y="210"/>
                    </a:lnTo>
                    <a:lnTo>
                      <a:pt x="12" y="185"/>
                    </a:lnTo>
                    <a:lnTo>
                      <a:pt x="21" y="160"/>
                    </a:lnTo>
                    <a:lnTo>
                      <a:pt x="32" y="137"/>
                    </a:lnTo>
                    <a:lnTo>
                      <a:pt x="45" y="115"/>
                    </a:lnTo>
                    <a:lnTo>
                      <a:pt x="61" y="95"/>
                    </a:lnTo>
                    <a:lnTo>
                      <a:pt x="78" y="76"/>
                    </a:lnTo>
                    <a:lnTo>
                      <a:pt x="97" y="59"/>
                    </a:lnTo>
                    <a:lnTo>
                      <a:pt x="117" y="45"/>
                    </a:lnTo>
                    <a:lnTo>
                      <a:pt x="139" y="31"/>
                    </a:lnTo>
                    <a:lnTo>
                      <a:pt x="162" y="20"/>
                    </a:lnTo>
                    <a:lnTo>
                      <a:pt x="187" y="12"/>
                    </a:lnTo>
                    <a:lnTo>
                      <a:pt x="212" y="5"/>
                    </a:lnTo>
                    <a:lnTo>
                      <a:pt x="238" y="2"/>
                    </a:lnTo>
                    <a:lnTo>
                      <a:pt x="266" y="0"/>
                    </a:lnTo>
                    <a:lnTo>
                      <a:pt x="293" y="2"/>
                    </a:lnTo>
                    <a:lnTo>
                      <a:pt x="321" y="5"/>
                    </a:lnTo>
                    <a:lnTo>
                      <a:pt x="346" y="12"/>
                    </a:lnTo>
                    <a:lnTo>
                      <a:pt x="370" y="20"/>
                    </a:lnTo>
                    <a:lnTo>
                      <a:pt x="394" y="31"/>
                    </a:lnTo>
                    <a:lnTo>
                      <a:pt x="416" y="45"/>
                    </a:lnTo>
                    <a:lnTo>
                      <a:pt x="436" y="59"/>
                    </a:lnTo>
                    <a:lnTo>
                      <a:pt x="454" y="76"/>
                    </a:lnTo>
                    <a:lnTo>
                      <a:pt x="472" y="95"/>
                    </a:lnTo>
                    <a:lnTo>
                      <a:pt x="487" y="115"/>
                    </a:lnTo>
                    <a:lnTo>
                      <a:pt x="501" y="137"/>
                    </a:lnTo>
                    <a:lnTo>
                      <a:pt x="511" y="160"/>
                    </a:lnTo>
                    <a:lnTo>
                      <a:pt x="520" y="185"/>
                    </a:lnTo>
                    <a:lnTo>
                      <a:pt x="527" y="210"/>
                    </a:lnTo>
                    <a:lnTo>
                      <a:pt x="530" y="237"/>
                    </a:lnTo>
                    <a:lnTo>
                      <a:pt x="532" y="264"/>
                    </a:lnTo>
                    <a:close/>
                    <a:moveTo>
                      <a:pt x="96" y="264"/>
                    </a:moveTo>
                    <a:lnTo>
                      <a:pt x="97" y="282"/>
                    </a:lnTo>
                    <a:lnTo>
                      <a:pt x="100" y="299"/>
                    </a:lnTo>
                    <a:lnTo>
                      <a:pt x="103" y="316"/>
                    </a:lnTo>
                    <a:lnTo>
                      <a:pt x="110" y="331"/>
                    </a:lnTo>
                    <a:lnTo>
                      <a:pt x="117" y="346"/>
                    </a:lnTo>
                    <a:lnTo>
                      <a:pt x="125" y="361"/>
                    </a:lnTo>
                    <a:lnTo>
                      <a:pt x="135" y="374"/>
                    </a:lnTo>
                    <a:lnTo>
                      <a:pt x="146" y="386"/>
                    </a:lnTo>
                    <a:lnTo>
                      <a:pt x="158" y="398"/>
                    </a:lnTo>
                    <a:lnTo>
                      <a:pt x="171" y="408"/>
                    </a:lnTo>
                    <a:lnTo>
                      <a:pt x="185" y="417"/>
                    </a:lnTo>
                    <a:lnTo>
                      <a:pt x="200" y="424"/>
                    </a:lnTo>
                    <a:lnTo>
                      <a:pt x="215" y="430"/>
                    </a:lnTo>
                    <a:lnTo>
                      <a:pt x="232" y="434"/>
                    </a:lnTo>
                    <a:lnTo>
                      <a:pt x="248" y="437"/>
                    </a:lnTo>
                    <a:lnTo>
                      <a:pt x="266" y="438"/>
                    </a:lnTo>
                    <a:lnTo>
                      <a:pt x="283" y="437"/>
                    </a:lnTo>
                    <a:lnTo>
                      <a:pt x="301" y="434"/>
                    </a:lnTo>
                    <a:lnTo>
                      <a:pt x="317" y="430"/>
                    </a:lnTo>
                    <a:lnTo>
                      <a:pt x="333" y="424"/>
                    </a:lnTo>
                    <a:lnTo>
                      <a:pt x="348" y="417"/>
                    </a:lnTo>
                    <a:lnTo>
                      <a:pt x="361" y="408"/>
                    </a:lnTo>
                    <a:lnTo>
                      <a:pt x="374" y="398"/>
                    </a:lnTo>
                    <a:lnTo>
                      <a:pt x="386" y="386"/>
                    </a:lnTo>
                    <a:lnTo>
                      <a:pt x="397" y="374"/>
                    </a:lnTo>
                    <a:lnTo>
                      <a:pt x="407" y="361"/>
                    </a:lnTo>
                    <a:lnTo>
                      <a:pt x="416" y="346"/>
                    </a:lnTo>
                    <a:lnTo>
                      <a:pt x="423" y="331"/>
                    </a:lnTo>
                    <a:lnTo>
                      <a:pt x="428" y="316"/>
                    </a:lnTo>
                    <a:lnTo>
                      <a:pt x="433" y="299"/>
                    </a:lnTo>
                    <a:lnTo>
                      <a:pt x="436" y="282"/>
                    </a:lnTo>
                    <a:lnTo>
                      <a:pt x="436" y="264"/>
                    </a:lnTo>
                    <a:lnTo>
                      <a:pt x="436" y="248"/>
                    </a:lnTo>
                    <a:lnTo>
                      <a:pt x="433" y="230"/>
                    </a:lnTo>
                    <a:lnTo>
                      <a:pt x="428" y="214"/>
                    </a:lnTo>
                    <a:lnTo>
                      <a:pt x="423" y="197"/>
                    </a:lnTo>
                    <a:lnTo>
                      <a:pt x="416" y="183"/>
                    </a:lnTo>
                    <a:lnTo>
                      <a:pt x="407" y="169"/>
                    </a:lnTo>
                    <a:lnTo>
                      <a:pt x="397" y="154"/>
                    </a:lnTo>
                    <a:lnTo>
                      <a:pt x="386" y="142"/>
                    </a:lnTo>
                    <a:lnTo>
                      <a:pt x="374" y="131"/>
                    </a:lnTo>
                    <a:lnTo>
                      <a:pt x="361" y="121"/>
                    </a:lnTo>
                    <a:lnTo>
                      <a:pt x="348" y="113"/>
                    </a:lnTo>
                    <a:lnTo>
                      <a:pt x="333" y="105"/>
                    </a:lnTo>
                    <a:lnTo>
                      <a:pt x="317" y="99"/>
                    </a:lnTo>
                    <a:lnTo>
                      <a:pt x="301" y="95"/>
                    </a:lnTo>
                    <a:lnTo>
                      <a:pt x="283" y="92"/>
                    </a:lnTo>
                    <a:lnTo>
                      <a:pt x="266" y="92"/>
                    </a:lnTo>
                    <a:lnTo>
                      <a:pt x="248" y="92"/>
                    </a:lnTo>
                    <a:lnTo>
                      <a:pt x="232" y="95"/>
                    </a:lnTo>
                    <a:lnTo>
                      <a:pt x="215" y="99"/>
                    </a:lnTo>
                    <a:lnTo>
                      <a:pt x="200" y="105"/>
                    </a:lnTo>
                    <a:lnTo>
                      <a:pt x="185" y="113"/>
                    </a:lnTo>
                    <a:lnTo>
                      <a:pt x="171" y="121"/>
                    </a:lnTo>
                    <a:lnTo>
                      <a:pt x="158" y="131"/>
                    </a:lnTo>
                    <a:lnTo>
                      <a:pt x="146" y="142"/>
                    </a:lnTo>
                    <a:lnTo>
                      <a:pt x="135" y="154"/>
                    </a:lnTo>
                    <a:lnTo>
                      <a:pt x="125" y="169"/>
                    </a:lnTo>
                    <a:lnTo>
                      <a:pt x="117" y="183"/>
                    </a:lnTo>
                    <a:lnTo>
                      <a:pt x="110" y="197"/>
                    </a:lnTo>
                    <a:lnTo>
                      <a:pt x="103" y="214"/>
                    </a:lnTo>
                    <a:lnTo>
                      <a:pt x="100" y="230"/>
                    </a:lnTo>
                    <a:lnTo>
                      <a:pt x="97" y="248"/>
                    </a:lnTo>
                    <a:lnTo>
                      <a:pt x="96" y="2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1549440" y="882720"/>
                <a:ext cx="144360" cy="98280"/>
              </a:xfrm>
              <a:custGeom>
                <a:avLst/>
                <a:gdLst/>
                <a:ahLst/>
                <a:rect l="l" t="t" r="r" b="b"/>
                <a:pathLst>
                  <a:path w="690" h="512">
                    <a:moveTo>
                      <a:pt x="96" y="77"/>
                    </a:moveTo>
                    <a:lnTo>
                      <a:pt x="98" y="77"/>
                    </a:lnTo>
                    <a:lnTo>
                      <a:pt x="109" y="62"/>
                    </a:lnTo>
                    <a:lnTo>
                      <a:pt x="122" y="47"/>
                    </a:lnTo>
                    <a:lnTo>
                      <a:pt x="137" y="34"/>
                    </a:lnTo>
                    <a:lnTo>
                      <a:pt x="154" y="23"/>
                    </a:lnTo>
                    <a:lnTo>
                      <a:pt x="171" y="13"/>
                    </a:lnTo>
                    <a:lnTo>
                      <a:pt x="190" y="6"/>
                    </a:lnTo>
                    <a:lnTo>
                      <a:pt x="210" y="2"/>
                    </a:lnTo>
                    <a:lnTo>
                      <a:pt x="229" y="0"/>
                    </a:lnTo>
                    <a:lnTo>
                      <a:pt x="253" y="2"/>
                    </a:lnTo>
                    <a:lnTo>
                      <a:pt x="274" y="6"/>
                    </a:lnTo>
                    <a:lnTo>
                      <a:pt x="295" y="13"/>
                    </a:lnTo>
                    <a:lnTo>
                      <a:pt x="314" y="24"/>
                    </a:lnTo>
                    <a:lnTo>
                      <a:pt x="330" y="36"/>
                    </a:lnTo>
                    <a:lnTo>
                      <a:pt x="346" y="51"/>
                    </a:lnTo>
                    <a:lnTo>
                      <a:pt x="360" y="69"/>
                    </a:lnTo>
                    <a:lnTo>
                      <a:pt x="373" y="88"/>
                    </a:lnTo>
                    <a:lnTo>
                      <a:pt x="385" y="69"/>
                    </a:lnTo>
                    <a:lnTo>
                      <a:pt x="401" y="52"/>
                    </a:lnTo>
                    <a:lnTo>
                      <a:pt x="418" y="37"/>
                    </a:lnTo>
                    <a:lnTo>
                      <a:pt x="438" y="24"/>
                    </a:lnTo>
                    <a:lnTo>
                      <a:pt x="458" y="14"/>
                    </a:lnTo>
                    <a:lnTo>
                      <a:pt x="480" y="6"/>
                    </a:lnTo>
                    <a:lnTo>
                      <a:pt x="503" y="2"/>
                    </a:lnTo>
                    <a:lnTo>
                      <a:pt x="526" y="0"/>
                    </a:lnTo>
                    <a:lnTo>
                      <a:pt x="550" y="1"/>
                    </a:lnTo>
                    <a:lnTo>
                      <a:pt x="571" y="5"/>
                    </a:lnTo>
                    <a:lnTo>
                      <a:pt x="589" y="11"/>
                    </a:lnTo>
                    <a:lnTo>
                      <a:pt x="607" y="17"/>
                    </a:lnTo>
                    <a:lnTo>
                      <a:pt x="622" y="27"/>
                    </a:lnTo>
                    <a:lnTo>
                      <a:pt x="635" y="38"/>
                    </a:lnTo>
                    <a:lnTo>
                      <a:pt x="647" y="51"/>
                    </a:lnTo>
                    <a:lnTo>
                      <a:pt x="657" y="65"/>
                    </a:lnTo>
                    <a:lnTo>
                      <a:pt x="666" y="81"/>
                    </a:lnTo>
                    <a:lnTo>
                      <a:pt x="673" y="97"/>
                    </a:lnTo>
                    <a:lnTo>
                      <a:pt x="678" y="115"/>
                    </a:lnTo>
                    <a:lnTo>
                      <a:pt x="684" y="133"/>
                    </a:lnTo>
                    <a:lnTo>
                      <a:pt x="689" y="173"/>
                    </a:lnTo>
                    <a:lnTo>
                      <a:pt x="690" y="215"/>
                    </a:lnTo>
                    <a:lnTo>
                      <a:pt x="690" y="512"/>
                    </a:lnTo>
                    <a:lnTo>
                      <a:pt x="595" y="512"/>
                    </a:lnTo>
                    <a:lnTo>
                      <a:pt x="595" y="230"/>
                    </a:lnTo>
                    <a:lnTo>
                      <a:pt x="595" y="206"/>
                    </a:lnTo>
                    <a:lnTo>
                      <a:pt x="593" y="181"/>
                    </a:lnTo>
                    <a:lnTo>
                      <a:pt x="588" y="157"/>
                    </a:lnTo>
                    <a:lnTo>
                      <a:pt x="580" y="133"/>
                    </a:lnTo>
                    <a:lnTo>
                      <a:pt x="568" y="114"/>
                    </a:lnTo>
                    <a:lnTo>
                      <a:pt x="561" y="106"/>
                    </a:lnTo>
                    <a:lnTo>
                      <a:pt x="552" y="98"/>
                    </a:lnTo>
                    <a:lnTo>
                      <a:pt x="542" y="93"/>
                    </a:lnTo>
                    <a:lnTo>
                      <a:pt x="531" y="88"/>
                    </a:lnTo>
                    <a:lnTo>
                      <a:pt x="517" y="86"/>
                    </a:lnTo>
                    <a:lnTo>
                      <a:pt x="503" y="85"/>
                    </a:lnTo>
                    <a:lnTo>
                      <a:pt x="484" y="86"/>
                    </a:lnTo>
                    <a:lnTo>
                      <a:pt x="469" y="90"/>
                    </a:lnTo>
                    <a:lnTo>
                      <a:pt x="454" y="95"/>
                    </a:lnTo>
                    <a:lnTo>
                      <a:pt x="442" y="103"/>
                    </a:lnTo>
                    <a:lnTo>
                      <a:pt x="432" y="112"/>
                    </a:lnTo>
                    <a:lnTo>
                      <a:pt x="423" y="123"/>
                    </a:lnTo>
                    <a:lnTo>
                      <a:pt x="416" y="135"/>
                    </a:lnTo>
                    <a:lnTo>
                      <a:pt x="409" y="148"/>
                    </a:lnTo>
                    <a:lnTo>
                      <a:pt x="401" y="176"/>
                    </a:lnTo>
                    <a:lnTo>
                      <a:pt x="396" y="207"/>
                    </a:lnTo>
                    <a:lnTo>
                      <a:pt x="394" y="238"/>
                    </a:lnTo>
                    <a:lnTo>
                      <a:pt x="393" y="267"/>
                    </a:lnTo>
                    <a:lnTo>
                      <a:pt x="393" y="512"/>
                    </a:lnTo>
                    <a:lnTo>
                      <a:pt x="297" y="512"/>
                    </a:lnTo>
                    <a:lnTo>
                      <a:pt x="297" y="249"/>
                    </a:lnTo>
                    <a:lnTo>
                      <a:pt x="297" y="224"/>
                    </a:lnTo>
                    <a:lnTo>
                      <a:pt x="295" y="196"/>
                    </a:lnTo>
                    <a:lnTo>
                      <a:pt x="292" y="169"/>
                    </a:lnTo>
                    <a:lnTo>
                      <a:pt x="285" y="142"/>
                    </a:lnTo>
                    <a:lnTo>
                      <a:pt x="280" y="130"/>
                    </a:lnTo>
                    <a:lnTo>
                      <a:pt x="273" y="119"/>
                    </a:lnTo>
                    <a:lnTo>
                      <a:pt x="267" y="110"/>
                    </a:lnTo>
                    <a:lnTo>
                      <a:pt x="258" y="102"/>
                    </a:lnTo>
                    <a:lnTo>
                      <a:pt x="247" y="95"/>
                    </a:lnTo>
                    <a:lnTo>
                      <a:pt x="235" y="90"/>
                    </a:lnTo>
                    <a:lnTo>
                      <a:pt x="222" y="86"/>
                    </a:lnTo>
                    <a:lnTo>
                      <a:pt x="206" y="85"/>
                    </a:lnTo>
                    <a:lnTo>
                      <a:pt x="188" y="86"/>
                    </a:lnTo>
                    <a:lnTo>
                      <a:pt x="172" y="90"/>
                    </a:lnTo>
                    <a:lnTo>
                      <a:pt x="158" y="95"/>
                    </a:lnTo>
                    <a:lnTo>
                      <a:pt x="146" y="103"/>
                    </a:lnTo>
                    <a:lnTo>
                      <a:pt x="135" y="112"/>
                    </a:lnTo>
                    <a:lnTo>
                      <a:pt x="126" y="123"/>
                    </a:lnTo>
                    <a:lnTo>
                      <a:pt x="119" y="135"/>
                    </a:lnTo>
                    <a:lnTo>
                      <a:pt x="113" y="148"/>
                    </a:lnTo>
                    <a:lnTo>
                      <a:pt x="103" y="176"/>
                    </a:lnTo>
                    <a:lnTo>
                      <a:pt x="99" y="207"/>
                    </a:lnTo>
                    <a:lnTo>
                      <a:pt x="97" y="238"/>
                    </a:lnTo>
                    <a:lnTo>
                      <a:pt x="96" y="267"/>
                    </a:lnTo>
                    <a:lnTo>
                      <a:pt x="96" y="512"/>
                    </a:lnTo>
                    <a:lnTo>
                      <a:pt x="0" y="512"/>
                    </a:lnTo>
                    <a:lnTo>
                      <a:pt x="0" y="15"/>
                    </a:lnTo>
                    <a:lnTo>
                      <a:pt x="96" y="15"/>
                    </a:lnTo>
                    <a:lnTo>
                      <a:pt x="96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908640" y="1022400"/>
                <a:ext cx="9082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a-DK" sz="600" spc="-1" strike="noStrike">
                    <a:solidFill>
                      <a:srgbClr val="ffffff"/>
                    </a:solidFill>
                    <a:latin typeface="Futura Bk BT"/>
                  </a:rPr>
                  <a:t>www.kirktelecom.dk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7" name=""/>
          <p:cNvSpPr/>
          <p:nvPr/>
        </p:nvSpPr>
        <p:spPr>
          <a:xfrm>
            <a:off x="2228760" y="0"/>
            <a:ext cx="76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бильная труб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-30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541600" y="1157400"/>
            <a:ext cx="562284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бровыз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ная книжка на 80 номер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оминание 10-ти последних набранных номер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различных мелодий звон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лючение микрофо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ое отключ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ирование 2-х различных профи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плей с подсветк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ключение гарниту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я разговора/ожидания</a:t>
            </a: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 &gt;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/12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ов</a:t>
            </a: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дача коротких текстовых сообщений</a:t>
            </a:r>
            <a:br>
              <a:rPr sz="1800"/>
            </a:b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9" name="Z-3040" descr=""/>
          <p:cNvPicPr/>
          <p:nvPr/>
        </p:nvPicPr>
        <p:blipFill>
          <a:blip r:embed="rId2"/>
          <a:stretch/>
        </p:blipFill>
        <p:spPr>
          <a:xfrm>
            <a:off x="8099280" y="1273320"/>
            <a:ext cx="1622520" cy="453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E2FB-8372-48A3-B8FF-A86AAF33AFE2}" type="slidenum">
              <a:t>35</a:t>
            </a:fld>
          </a:p>
        </p:txBody>
      </p:sp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0" name=""/>
          <p:cNvGrpSpPr/>
          <p:nvPr/>
        </p:nvGrpSpPr>
        <p:grpSpPr>
          <a:xfrm>
            <a:off x="0" y="0"/>
            <a:ext cx="6129000" cy="6858000"/>
            <a:chOff x="0" y="0"/>
            <a:chExt cx="6129000" cy="6858000"/>
          </a:xfrm>
        </p:grpSpPr>
        <p:sp>
          <p:nvSpPr>
            <p:cNvPr id="1151" name=""/>
            <p:cNvSpPr/>
            <p:nvPr/>
          </p:nvSpPr>
          <p:spPr>
            <a:xfrm>
              <a:off x="0" y="0"/>
              <a:ext cx="2228760" cy="3429000"/>
            </a:xfrm>
            <a:prstGeom prst="rect">
              <a:avLst/>
            </a:prstGeom>
            <a:solidFill>
              <a:srgbClr val="000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0" y="3429000"/>
              <a:ext cx="2228760" cy="3429000"/>
            </a:xfrm>
            <a:prstGeom prst="rect">
              <a:avLst/>
            </a:pr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91836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799240" y="6324480"/>
              <a:ext cx="3297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5" name="" descr=""/>
            <p:cNvPicPr/>
            <p:nvPr/>
          </p:nvPicPr>
          <p:blipFill>
            <a:blip r:embed="rId1"/>
            <a:stretch/>
          </p:blipFill>
          <p:spPr>
            <a:xfrm>
              <a:off x="201240" y="2055960"/>
              <a:ext cx="1705680" cy="271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6" name=""/>
            <p:cNvGrpSpPr/>
            <p:nvPr/>
          </p:nvGrpSpPr>
          <p:grpSpPr>
            <a:xfrm>
              <a:off x="211320" y="380880"/>
              <a:ext cx="1605600" cy="821880"/>
              <a:chOff x="211320" y="380880"/>
              <a:chExt cx="1605600" cy="821880"/>
            </a:xfrm>
          </p:grpSpPr>
          <p:sp>
            <p:nvSpPr>
              <p:cNvPr id="1157" name=""/>
              <p:cNvSpPr/>
              <p:nvPr/>
            </p:nvSpPr>
            <p:spPr>
              <a:xfrm>
                <a:off x="403920" y="38088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7">
                    <a:moveTo>
                      <a:pt x="29" y="1655"/>
                    </a:moveTo>
                    <a:lnTo>
                      <a:pt x="79" y="1682"/>
                    </a:lnTo>
                    <a:lnTo>
                      <a:pt x="623" y="1957"/>
                    </a:lnTo>
                    <a:lnTo>
                      <a:pt x="684" y="1987"/>
                    </a:lnTo>
                    <a:lnTo>
                      <a:pt x="687" y="1916"/>
                    </a:lnTo>
                    <a:lnTo>
                      <a:pt x="691" y="1864"/>
                    </a:lnTo>
                    <a:lnTo>
                      <a:pt x="697" y="1814"/>
                    </a:lnTo>
                    <a:lnTo>
                      <a:pt x="704" y="1763"/>
                    </a:lnTo>
                    <a:lnTo>
                      <a:pt x="713" y="1714"/>
                    </a:lnTo>
                    <a:lnTo>
                      <a:pt x="724" y="1665"/>
                    </a:lnTo>
                    <a:lnTo>
                      <a:pt x="737" y="1616"/>
                    </a:lnTo>
                    <a:lnTo>
                      <a:pt x="751" y="1569"/>
                    </a:lnTo>
                    <a:lnTo>
                      <a:pt x="767" y="1522"/>
                    </a:lnTo>
                    <a:lnTo>
                      <a:pt x="784" y="1476"/>
                    </a:lnTo>
                    <a:lnTo>
                      <a:pt x="803" y="1431"/>
                    </a:lnTo>
                    <a:lnTo>
                      <a:pt x="824" y="1386"/>
                    </a:lnTo>
                    <a:lnTo>
                      <a:pt x="846" y="1343"/>
                    </a:lnTo>
                    <a:lnTo>
                      <a:pt x="869" y="1300"/>
                    </a:lnTo>
                    <a:lnTo>
                      <a:pt x="894" y="1257"/>
                    </a:lnTo>
                    <a:lnTo>
                      <a:pt x="920" y="1217"/>
                    </a:lnTo>
                    <a:lnTo>
                      <a:pt x="948" y="1177"/>
                    </a:lnTo>
                    <a:lnTo>
                      <a:pt x="976" y="1137"/>
                    </a:lnTo>
                    <a:lnTo>
                      <a:pt x="1007" y="1100"/>
                    </a:lnTo>
                    <a:lnTo>
                      <a:pt x="1038" y="1063"/>
                    </a:lnTo>
                    <a:lnTo>
                      <a:pt x="1071" y="1027"/>
                    </a:lnTo>
                    <a:lnTo>
                      <a:pt x="1105" y="993"/>
                    </a:lnTo>
                    <a:lnTo>
                      <a:pt x="1140" y="959"/>
                    </a:lnTo>
                    <a:lnTo>
                      <a:pt x="1176" y="927"/>
                    </a:lnTo>
                    <a:lnTo>
                      <a:pt x="1213" y="896"/>
                    </a:lnTo>
                    <a:lnTo>
                      <a:pt x="1250" y="866"/>
                    </a:lnTo>
                    <a:lnTo>
                      <a:pt x="1290" y="838"/>
                    </a:lnTo>
                    <a:lnTo>
                      <a:pt x="1331" y="810"/>
                    </a:lnTo>
                    <a:lnTo>
                      <a:pt x="1372" y="785"/>
                    </a:lnTo>
                    <a:lnTo>
                      <a:pt x="1414" y="760"/>
                    </a:lnTo>
                    <a:lnTo>
                      <a:pt x="1457" y="737"/>
                    </a:lnTo>
                    <a:lnTo>
                      <a:pt x="1501" y="716"/>
                    </a:lnTo>
                    <a:lnTo>
                      <a:pt x="1546" y="696"/>
                    </a:lnTo>
                    <a:lnTo>
                      <a:pt x="1584" y="680"/>
                    </a:lnTo>
                    <a:lnTo>
                      <a:pt x="1594" y="673"/>
                    </a:lnTo>
                    <a:lnTo>
                      <a:pt x="1600" y="665"/>
                    </a:lnTo>
                    <a:lnTo>
                      <a:pt x="1604" y="658"/>
                    </a:lnTo>
                    <a:lnTo>
                      <a:pt x="1606" y="650"/>
                    </a:lnTo>
                    <a:lnTo>
                      <a:pt x="1605" y="638"/>
                    </a:lnTo>
                    <a:lnTo>
                      <a:pt x="1603" y="632"/>
                    </a:lnTo>
                    <a:lnTo>
                      <a:pt x="1586" y="586"/>
                    </a:lnTo>
                    <a:lnTo>
                      <a:pt x="1385" y="31"/>
                    </a:lnTo>
                    <a:lnTo>
                      <a:pt x="1381" y="18"/>
                    </a:lnTo>
                    <a:lnTo>
                      <a:pt x="1380" y="13"/>
                    </a:lnTo>
                    <a:lnTo>
                      <a:pt x="1372" y="5"/>
                    </a:lnTo>
                    <a:lnTo>
                      <a:pt x="1367" y="2"/>
                    </a:lnTo>
                    <a:lnTo>
                      <a:pt x="1359" y="0"/>
                    </a:lnTo>
                    <a:lnTo>
                      <a:pt x="1349" y="0"/>
                    </a:lnTo>
                    <a:lnTo>
                      <a:pt x="1337" y="3"/>
                    </a:lnTo>
                    <a:lnTo>
                      <a:pt x="1307" y="14"/>
                    </a:lnTo>
                    <a:lnTo>
                      <a:pt x="1248" y="37"/>
                    </a:lnTo>
                    <a:lnTo>
                      <a:pt x="1190" y="63"/>
                    </a:lnTo>
                    <a:lnTo>
                      <a:pt x="1133" y="89"/>
                    </a:lnTo>
                    <a:lnTo>
                      <a:pt x="1076" y="119"/>
                    </a:lnTo>
                    <a:lnTo>
                      <a:pt x="1021" y="149"/>
                    </a:lnTo>
                    <a:lnTo>
                      <a:pt x="966" y="181"/>
                    </a:lnTo>
                    <a:lnTo>
                      <a:pt x="913" y="215"/>
                    </a:lnTo>
                    <a:lnTo>
                      <a:pt x="861" y="251"/>
                    </a:lnTo>
                    <a:lnTo>
                      <a:pt x="810" y="289"/>
                    </a:lnTo>
                    <a:lnTo>
                      <a:pt x="759" y="328"/>
                    </a:lnTo>
                    <a:lnTo>
                      <a:pt x="711" y="369"/>
                    </a:lnTo>
                    <a:lnTo>
                      <a:pt x="663" y="411"/>
                    </a:lnTo>
                    <a:lnTo>
                      <a:pt x="616" y="455"/>
                    </a:lnTo>
                    <a:lnTo>
                      <a:pt x="572" y="501"/>
                    </a:lnTo>
                    <a:lnTo>
                      <a:pt x="528" y="547"/>
                    </a:lnTo>
                    <a:lnTo>
                      <a:pt x="485" y="595"/>
                    </a:lnTo>
                    <a:lnTo>
                      <a:pt x="443" y="645"/>
                    </a:lnTo>
                    <a:lnTo>
                      <a:pt x="404" y="695"/>
                    </a:lnTo>
                    <a:lnTo>
                      <a:pt x="365" y="747"/>
                    </a:lnTo>
                    <a:lnTo>
                      <a:pt x="329" y="800"/>
                    </a:lnTo>
                    <a:lnTo>
                      <a:pt x="294" y="854"/>
                    </a:lnTo>
                    <a:lnTo>
                      <a:pt x="260" y="910"/>
                    </a:lnTo>
                    <a:lnTo>
                      <a:pt x="228" y="967"/>
                    </a:lnTo>
                    <a:lnTo>
                      <a:pt x="197" y="1024"/>
                    </a:lnTo>
                    <a:lnTo>
                      <a:pt x="169" y="1084"/>
                    </a:lnTo>
                    <a:lnTo>
                      <a:pt x="142" y="1144"/>
                    </a:lnTo>
                    <a:lnTo>
                      <a:pt x="116" y="1204"/>
                    </a:lnTo>
                    <a:lnTo>
                      <a:pt x="93" y="1266"/>
                    </a:lnTo>
                    <a:lnTo>
                      <a:pt x="71" y="1329"/>
                    </a:lnTo>
                    <a:lnTo>
                      <a:pt x="52" y="1392"/>
                    </a:lnTo>
                    <a:lnTo>
                      <a:pt x="34" y="1457"/>
                    </a:lnTo>
                    <a:lnTo>
                      <a:pt x="18" y="1522"/>
                    </a:lnTo>
                    <a:lnTo>
                      <a:pt x="2" y="1593"/>
                    </a:lnTo>
                    <a:lnTo>
                      <a:pt x="0" y="1610"/>
                    </a:lnTo>
                    <a:lnTo>
                      <a:pt x="1" y="1623"/>
                    </a:lnTo>
                    <a:lnTo>
                      <a:pt x="6" y="1634"/>
                    </a:lnTo>
                    <a:lnTo>
                      <a:pt x="11" y="1643"/>
                    </a:lnTo>
                    <a:lnTo>
                      <a:pt x="17" y="1648"/>
                    </a:lnTo>
                    <a:lnTo>
                      <a:pt x="23" y="1652"/>
                    </a:lnTo>
                    <a:lnTo>
                      <a:pt x="29" y="1655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03920" y="770040"/>
                <a:ext cx="339120" cy="387360"/>
              </a:xfrm>
              <a:custGeom>
                <a:avLst/>
                <a:gdLst/>
                <a:ahLst/>
                <a:rect l="l" t="t" r="r" b="b"/>
                <a:pathLst>
                  <a:path w="1606" h="1985">
                    <a:moveTo>
                      <a:pt x="29" y="333"/>
                    </a:moveTo>
                    <a:lnTo>
                      <a:pt x="79" y="306"/>
                    </a:lnTo>
                    <a:lnTo>
                      <a:pt x="623" y="31"/>
                    </a:lnTo>
                    <a:lnTo>
                      <a:pt x="684" y="0"/>
                    </a:lnTo>
                    <a:lnTo>
                      <a:pt x="687" y="72"/>
                    </a:lnTo>
                    <a:lnTo>
                      <a:pt x="691" y="123"/>
                    </a:lnTo>
                    <a:lnTo>
                      <a:pt x="697" y="174"/>
                    </a:lnTo>
                    <a:lnTo>
                      <a:pt x="704" y="224"/>
                    </a:lnTo>
                    <a:lnTo>
                      <a:pt x="713" y="273"/>
                    </a:lnTo>
                    <a:lnTo>
                      <a:pt x="724" y="323"/>
                    </a:lnTo>
                    <a:lnTo>
                      <a:pt x="737" y="371"/>
                    </a:lnTo>
                    <a:lnTo>
                      <a:pt x="751" y="418"/>
                    </a:lnTo>
                    <a:lnTo>
                      <a:pt x="767" y="465"/>
                    </a:lnTo>
                    <a:lnTo>
                      <a:pt x="784" y="512"/>
                    </a:lnTo>
                    <a:lnTo>
                      <a:pt x="803" y="557"/>
                    </a:lnTo>
                    <a:lnTo>
                      <a:pt x="824" y="602"/>
                    </a:lnTo>
                    <a:lnTo>
                      <a:pt x="846" y="645"/>
                    </a:lnTo>
                    <a:lnTo>
                      <a:pt x="869" y="688"/>
                    </a:lnTo>
                    <a:lnTo>
                      <a:pt x="894" y="730"/>
                    </a:lnTo>
                    <a:lnTo>
                      <a:pt x="920" y="771"/>
                    </a:lnTo>
                    <a:lnTo>
                      <a:pt x="948" y="811"/>
                    </a:lnTo>
                    <a:lnTo>
                      <a:pt x="976" y="850"/>
                    </a:lnTo>
                    <a:lnTo>
                      <a:pt x="1007" y="888"/>
                    </a:lnTo>
                    <a:lnTo>
                      <a:pt x="1038" y="924"/>
                    </a:lnTo>
                    <a:lnTo>
                      <a:pt x="1071" y="961"/>
                    </a:lnTo>
                    <a:lnTo>
                      <a:pt x="1105" y="995"/>
                    </a:lnTo>
                    <a:lnTo>
                      <a:pt x="1140" y="1029"/>
                    </a:lnTo>
                    <a:lnTo>
                      <a:pt x="1176" y="1061"/>
                    </a:lnTo>
                    <a:lnTo>
                      <a:pt x="1213" y="1092"/>
                    </a:lnTo>
                    <a:lnTo>
                      <a:pt x="1252" y="1122"/>
                    </a:lnTo>
                    <a:lnTo>
                      <a:pt x="1290" y="1151"/>
                    </a:lnTo>
                    <a:lnTo>
                      <a:pt x="1331" y="1177"/>
                    </a:lnTo>
                    <a:lnTo>
                      <a:pt x="1372" y="1203"/>
                    </a:lnTo>
                    <a:lnTo>
                      <a:pt x="1414" y="1227"/>
                    </a:lnTo>
                    <a:lnTo>
                      <a:pt x="1457" y="1250"/>
                    </a:lnTo>
                    <a:lnTo>
                      <a:pt x="1501" y="1271"/>
                    </a:lnTo>
                    <a:lnTo>
                      <a:pt x="1546" y="1292"/>
                    </a:lnTo>
                    <a:lnTo>
                      <a:pt x="1584" y="1308"/>
                    </a:lnTo>
                    <a:lnTo>
                      <a:pt x="1594" y="1315"/>
                    </a:lnTo>
                    <a:lnTo>
                      <a:pt x="1600" y="1323"/>
                    </a:lnTo>
                    <a:lnTo>
                      <a:pt x="1605" y="1331"/>
                    </a:lnTo>
                    <a:lnTo>
                      <a:pt x="1606" y="1337"/>
                    </a:lnTo>
                    <a:lnTo>
                      <a:pt x="1605" y="1349"/>
                    </a:lnTo>
                    <a:lnTo>
                      <a:pt x="1603" y="1355"/>
                    </a:lnTo>
                    <a:lnTo>
                      <a:pt x="1586" y="1401"/>
                    </a:lnTo>
                    <a:lnTo>
                      <a:pt x="1388" y="1950"/>
                    </a:lnTo>
                    <a:lnTo>
                      <a:pt x="1381" y="1965"/>
                    </a:lnTo>
                    <a:lnTo>
                      <a:pt x="1379" y="1970"/>
                    </a:lnTo>
                    <a:lnTo>
                      <a:pt x="1371" y="1978"/>
                    </a:lnTo>
                    <a:lnTo>
                      <a:pt x="1366" y="1983"/>
                    </a:lnTo>
                    <a:lnTo>
                      <a:pt x="1358" y="1985"/>
                    </a:lnTo>
                    <a:lnTo>
                      <a:pt x="1348" y="1985"/>
                    </a:lnTo>
                    <a:lnTo>
                      <a:pt x="1338" y="1983"/>
                    </a:lnTo>
                    <a:lnTo>
                      <a:pt x="1302" y="1969"/>
                    </a:lnTo>
                    <a:lnTo>
                      <a:pt x="1242" y="1942"/>
                    </a:lnTo>
                    <a:lnTo>
                      <a:pt x="1181" y="1915"/>
                    </a:lnTo>
                    <a:lnTo>
                      <a:pt x="1123" y="1886"/>
                    </a:lnTo>
                    <a:lnTo>
                      <a:pt x="1066" y="1857"/>
                    </a:lnTo>
                    <a:lnTo>
                      <a:pt x="1009" y="1824"/>
                    </a:lnTo>
                    <a:lnTo>
                      <a:pt x="954" y="1791"/>
                    </a:lnTo>
                    <a:lnTo>
                      <a:pt x="901" y="1756"/>
                    </a:lnTo>
                    <a:lnTo>
                      <a:pt x="848" y="1719"/>
                    </a:lnTo>
                    <a:lnTo>
                      <a:pt x="796" y="1682"/>
                    </a:lnTo>
                    <a:lnTo>
                      <a:pt x="747" y="1642"/>
                    </a:lnTo>
                    <a:lnTo>
                      <a:pt x="698" y="1602"/>
                    </a:lnTo>
                    <a:lnTo>
                      <a:pt x="650" y="1560"/>
                    </a:lnTo>
                    <a:lnTo>
                      <a:pt x="604" y="1517"/>
                    </a:lnTo>
                    <a:lnTo>
                      <a:pt x="559" y="1472"/>
                    </a:lnTo>
                    <a:lnTo>
                      <a:pt x="517" y="1426"/>
                    </a:lnTo>
                    <a:lnTo>
                      <a:pt x="475" y="1379"/>
                    </a:lnTo>
                    <a:lnTo>
                      <a:pt x="434" y="1331"/>
                    </a:lnTo>
                    <a:lnTo>
                      <a:pt x="395" y="1281"/>
                    </a:lnTo>
                    <a:lnTo>
                      <a:pt x="358" y="1230"/>
                    </a:lnTo>
                    <a:lnTo>
                      <a:pt x="323" y="1178"/>
                    </a:lnTo>
                    <a:lnTo>
                      <a:pt x="287" y="1124"/>
                    </a:lnTo>
                    <a:lnTo>
                      <a:pt x="255" y="1070"/>
                    </a:lnTo>
                    <a:lnTo>
                      <a:pt x="224" y="1014"/>
                    </a:lnTo>
                    <a:lnTo>
                      <a:pt x="194" y="957"/>
                    </a:lnTo>
                    <a:lnTo>
                      <a:pt x="166" y="900"/>
                    </a:lnTo>
                    <a:lnTo>
                      <a:pt x="139" y="841"/>
                    </a:lnTo>
                    <a:lnTo>
                      <a:pt x="115" y="781"/>
                    </a:lnTo>
                    <a:lnTo>
                      <a:pt x="92" y="720"/>
                    </a:lnTo>
                    <a:lnTo>
                      <a:pt x="71" y="658"/>
                    </a:lnTo>
                    <a:lnTo>
                      <a:pt x="52" y="595"/>
                    </a:lnTo>
                    <a:lnTo>
                      <a:pt x="34" y="530"/>
                    </a:lnTo>
                    <a:lnTo>
                      <a:pt x="18" y="465"/>
                    </a:lnTo>
                    <a:lnTo>
                      <a:pt x="3" y="394"/>
                    </a:lnTo>
                    <a:lnTo>
                      <a:pt x="0" y="378"/>
                    </a:lnTo>
                    <a:lnTo>
                      <a:pt x="1" y="364"/>
                    </a:lnTo>
                    <a:lnTo>
                      <a:pt x="6" y="353"/>
                    </a:lnTo>
                    <a:lnTo>
                      <a:pt x="11" y="346"/>
                    </a:lnTo>
                    <a:lnTo>
                      <a:pt x="17" y="339"/>
                    </a:lnTo>
                    <a:lnTo>
                      <a:pt x="23" y="336"/>
                    </a:lnTo>
                    <a:lnTo>
                      <a:pt x="29" y="333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667440" y="698400"/>
                <a:ext cx="149400" cy="147600"/>
              </a:xfrm>
              <a:custGeom>
                <a:avLst/>
                <a:gdLst/>
                <a:ahLst/>
                <a:rect l="l" t="t" r="r" b="b"/>
                <a:pathLst>
                  <a:path w="714" h="759">
                    <a:moveTo>
                      <a:pt x="699" y="379"/>
                    </a:moveTo>
                    <a:lnTo>
                      <a:pt x="706" y="375"/>
                    </a:lnTo>
                    <a:lnTo>
                      <a:pt x="710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09" y="351"/>
                    </a:lnTo>
                    <a:lnTo>
                      <a:pt x="705" y="346"/>
                    </a:lnTo>
                    <a:lnTo>
                      <a:pt x="699" y="342"/>
                    </a:lnTo>
                    <a:lnTo>
                      <a:pt x="35" y="4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3" y="11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735"/>
                    </a:lnTo>
                    <a:lnTo>
                      <a:pt x="1" y="743"/>
                    </a:lnTo>
                    <a:lnTo>
                      <a:pt x="3" y="748"/>
                    </a:lnTo>
                    <a:lnTo>
                      <a:pt x="5" y="753"/>
                    </a:lnTo>
                    <a:lnTo>
                      <a:pt x="10" y="757"/>
                    </a:lnTo>
                    <a:lnTo>
                      <a:pt x="15" y="759"/>
                    </a:lnTo>
                    <a:lnTo>
                      <a:pt x="21" y="759"/>
                    </a:lnTo>
                    <a:lnTo>
                      <a:pt x="27" y="758"/>
                    </a:lnTo>
                    <a:lnTo>
                      <a:pt x="34" y="755"/>
                    </a:lnTo>
                    <a:lnTo>
                      <a:pt x="699" y="379"/>
                    </a:lnTo>
                    <a:close/>
                  </a:path>
                </a:pathLst>
              </a:custGeom>
              <a:solidFill>
                <a:srgbClr val="00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11320" y="701640"/>
                <a:ext cx="149760" cy="146160"/>
              </a:xfrm>
              <a:custGeom>
                <a:avLst/>
                <a:gdLst/>
                <a:ahLst/>
                <a:rect l="l" t="t" r="r" b="b"/>
                <a:pathLst>
                  <a:path w="714" h="758">
                    <a:moveTo>
                      <a:pt x="701" y="379"/>
                    </a:moveTo>
                    <a:lnTo>
                      <a:pt x="706" y="374"/>
                    </a:lnTo>
                    <a:lnTo>
                      <a:pt x="711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11" y="350"/>
                    </a:lnTo>
                    <a:lnTo>
                      <a:pt x="706" y="346"/>
                    </a:lnTo>
                    <a:lnTo>
                      <a:pt x="700" y="342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0" y="734"/>
                    </a:lnTo>
                    <a:lnTo>
                      <a:pt x="1" y="742"/>
                    </a:lnTo>
                    <a:lnTo>
                      <a:pt x="3" y="749"/>
                    </a:lnTo>
                    <a:lnTo>
                      <a:pt x="7" y="753"/>
                    </a:lnTo>
                    <a:lnTo>
                      <a:pt x="10" y="756"/>
                    </a:lnTo>
                    <a:lnTo>
                      <a:pt x="15" y="758"/>
                    </a:lnTo>
                    <a:lnTo>
                      <a:pt x="21" y="758"/>
                    </a:lnTo>
                    <a:lnTo>
                      <a:pt x="27" y="757"/>
                    </a:lnTo>
                    <a:lnTo>
                      <a:pt x="34" y="754"/>
                    </a:lnTo>
                    <a:lnTo>
                      <a:pt x="701" y="379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1011960" y="517680"/>
                <a:ext cx="195840" cy="250560"/>
              </a:xfrm>
              <a:custGeom>
                <a:avLst/>
                <a:gdLst/>
                <a:ahLst/>
                <a:rect l="l" t="t" r="r" b="b"/>
                <a:pathLst>
                  <a:path w="930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30" y="1293"/>
                    </a:lnTo>
                    <a:lnTo>
                      <a:pt x="713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1230480" y="517680"/>
                <a:ext cx="34200" cy="25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316520" y="517680"/>
                <a:ext cx="168480" cy="250560"/>
              </a:xfrm>
              <a:custGeom>
                <a:avLst/>
                <a:gdLst/>
                <a:ahLst/>
                <a:rect l="l" t="t" r="r" b="b"/>
                <a:pathLst>
                  <a:path w="803" h="1293">
                    <a:moveTo>
                      <a:pt x="803" y="1293"/>
                    </a:moveTo>
                    <a:lnTo>
                      <a:pt x="607" y="1293"/>
                    </a:lnTo>
                    <a:lnTo>
                      <a:pt x="228" y="746"/>
                    </a:lnTo>
                    <a:lnTo>
                      <a:pt x="161" y="746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283" y="1"/>
                    </a:lnTo>
                    <a:lnTo>
                      <a:pt x="327" y="4"/>
                    </a:lnTo>
                    <a:lnTo>
                      <a:pt x="370" y="8"/>
                    </a:lnTo>
                    <a:lnTo>
                      <a:pt x="413" y="16"/>
                    </a:lnTo>
                    <a:lnTo>
                      <a:pt x="456" y="27"/>
                    </a:lnTo>
                    <a:lnTo>
                      <a:pt x="497" y="41"/>
                    </a:lnTo>
                    <a:lnTo>
                      <a:pt x="536" y="61"/>
                    </a:lnTo>
                    <a:lnTo>
                      <a:pt x="556" y="73"/>
                    </a:lnTo>
                    <a:lnTo>
                      <a:pt x="574" y="87"/>
                    </a:lnTo>
                    <a:lnTo>
                      <a:pt x="592" y="101"/>
                    </a:lnTo>
                    <a:lnTo>
                      <a:pt x="608" y="118"/>
                    </a:lnTo>
                    <a:lnTo>
                      <a:pt x="623" y="135"/>
                    </a:lnTo>
                    <a:lnTo>
                      <a:pt x="637" y="153"/>
                    </a:lnTo>
                    <a:lnTo>
                      <a:pt x="650" y="173"/>
                    </a:lnTo>
                    <a:lnTo>
                      <a:pt x="661" y="192"/>
                    </a:lnTo>
                    <a:lnTo>
                      <a:pt x="671" y="212"/>
                    </a:lnTo>
                    <a:lnTo>
                      <a:pt x="680" y="233"/>
                    </a:lnTo>
                    <a:lnTo>
                      <a:pt x="694" y="277"/>
                    </a:lnTo>
                    <a:lnTo>
                      <a:pt x="700" y="300"/>
                    </a:lnTo>
                    <a:lnTo>
                      <a:pt x="703" y="323"/>
                    </a:lnTo>
                    <a:lnTo>
                      <a:pt x="705" y="346"/>
                    </a:lnTo>
                    <a:lnTo>
                      <a:pt x="705" y="369"/>
                    </a:lnTo>
                    <a:lnTo>
                      <a:pt x="704" y="403"/>
                    </a:lnTo>
                    <a:lnTo>
                      <a:pt x="700" y="436"/>
                    </a:lnTo>
                    <a:lnTo>
                      <a:pt x="693" y="469"/>
                    </a:lnTo>
                    <a:lnTo>
                      <a:pt x="683" y="500"/>
                    </a:lnTo>
                    <a:lnTo>
                      <a:pt x="671" y="531"/>
                    </a:lnTo>
                    <a:lnTo>
                      <a:pt x="657" y="558"/>
                    </a:lnTo>
                    <a:lnTo>
                      <a:pt x="639" y="585"/>
                    </a:lnTo>
                    <a:lnTo>
                      <a:pt x="621" y="611"/>
                    </a:lnTo>
                    <a:lnTo>
                      <a:pt x="599" y="634"/>
                    </a:lnTo>
                    <a:lnTo>
                      <a:pt x="576" y="655"/>
                    </a:lnTo>
                    <a:lnTo>
                      <a:pt x="550" y="673"/>
                    </a:lnTo>
                    <a:lnTo>
                      <a:pt x="523" y="691"/>
                    </a:lnTo>
                    <a:lnTo>
                      <a:pt x="493" y="704"/>
                    </a:lnTo>
                    <a:lnTo>
                      <a:pt x="463" y="716"/>
                    </a:lnTo>
                    <a:lnTo>
                      <a:pt x="430" y="725"/>
                    </a:lnTo>
                    <a:lnTo>
                      <a:pt x="396" y="730"/>
                    </a:lnTo>
                    <a:lnTo>
                      <a:pt x="803" y="1293"/>
                    </a:lnTo>
                    <a:close/>
                    <a:moveTo>
                      <a:pt x="161" y="612"/>
                    </a:moveTo>
                    <a:lnTo>
                      <a:pt x="213" y="612"/>
                    </a:lnTo>
                    <a:lnTo>
                      <a:pt x="274" y="611"/>
                    </a:lnTo>
                    <a:lnTo>
                      <a:pt x="335" y="604"/>
                    </a:lnTo>
                    <a:lnTo>
                      <a:pt x="365" y="599"/>
                    </a:lnTo>
                    <a:lnTo>
                      <a:pt x="393" y="591"/>
                    </a:lnTo>
                    <a:lnTo>
                      <a:pt x="420" y="582"/>
                    </a:lnTo>
                    <a:lnTo>
                      <a:pt x="445" y="571"/>
                    </a:lnTo>
                    <a:lnTo>
                      <a:pt x="469" y="557"/>
                    </a:lnTo>
                    <a:lnTo>
                      <a:pt x="490" y="540"/>
                    </a:lnTo>
                    <a:lnTo>
                      <a:pt x="509" y="522"/>
                    </a:lnTo>
                    <a:lnTo>
                      <a:pt x="524" y="499"/>
                    </a:lnTo>
                    <a:lnTo>
                      <a:pt x="537" y="473"/>
                    </a:lnTo>
                    <a:lnTo>
                      <a:pt x="547" y="445"/>
                    </a:lnTo>
                    <a:lnTo>
                      <a:pt x="553" y="412"/>
                    </a:lnTo>
                    <a:lnTo>
                      <a:pt x="555" y="376"/>
                    </a:lnTo>
                    <a:lnTo>
                      <a:pt x="553" y="339"/>
                    </a:lnTo>
                    <a:lnTo>
                      <a:pt x="546" y="308"/>
                    </a:lnTo>
                    <a:lnTo>
                      <a:pt x="536" y="279"/>
                    </a:lnTo>
                    <a:lnTo>
                      <a:pt x="523" y="254"/>
                    </a:lnTo>
                    <a:lnTo>
                      <a:pt x="505" y="232"/>
                    </a:lnTo>
                    <a:lnTo>
                      <a:pt x="486" y="213"/>
                    </a:lnTo>
                    <a:lnTo>
                      <a:pt x="464" y="198"/>
                    </a:lnTo>
                    <a:lnTo>
                      <a:pt x="440" y="184"/>
                    </a:lnTo>
                    <a:lnTo>
                      <a:pt x="413" y="173"/>
                    </a:lnTo>
                    <a:lnTo>
                      <a:pt x="385" y="164"/>
                    </a:lnTo>
                    <a:lnTo>
                      <a:pt x="356" y="157"/>
                    </a:lnTo>
                    <a:lnTo>
                      <a:pt x="325" y="152"/>
                    </a:lnTo>
                    <a:lnTo>
                      <a:pt x="296" y="148"/>
                    </a:lnTo>
                    <a:lnTo>
                      <a:pt x="265" y="146"/>
                    </a:lnTo>
                    <a:lnTo>
                      <a:pt x="204" y="144"/>
                    </a:lnTo>
                    <a:lnTo>
                      <a:pt x="161" y="144"/>
                    </a:lnTo>
                    <a:lnTo>
                      <a:pt x="161" y="6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1502280" y="517680"/>
                <a:ext cx="196200" cy="250560"/>
              </a:xfrm>
              <a:custGeom>
                <a:avLst/>
                <a:gdLst/>
                <a:ahLst/>
                <a:rect l="l" t="t" r="r" b="b"/>
                <a:pathLst>
                  <a:path w="929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29" y="1293"/>
                    </a:lnTo>
                    <a:lnTo>
                      <a:pt x="712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999720" y="847800"/>
                <a:ext cx="54720" cy="133200"/>
              </a:xfrm>
              <a:custGeom>
                <a:avLst/>
                <a:gdLst/>
                <a:ahLst/>
                <a:rect l="l" t="t" r="r" b="b"/>
                <a:pathLst>
                  <a:path w="264" h="687">
                    <a:moveTo>
                      <a:pt x="169" y="687"/>
                    </a:moveTo>
                    <a:lnTo>
                      <a:pt x="74" y="687"/>
                    </a:lnTo>
                    <a:lnTo>
                      <a:pt x="74" y="279"/>
                    </a:lnTo>
                    <a:lnTo>
                      <a:pt x="0" y="279"/>
                    </a:lnTo>
                    <a:lnTo>
                      <a:pt x="0" y="190"/>
                    </a:lnTo>
                    <a:lnTo>
                      <a:pt x="74" y="190"/>
                    </a:lnTo>
                    <a:lnTo>
                      <a:pt x="74" y="0"/>
                    </a:lnTo>
                    <a:lnTo>
                      <a:pt x="169" y="0"/>
                    </a:lnTo>
                    <a:lnTo>
                      <a:pt x="169" y="190"/>
                    </a:lnTo>
                    <a:lnTo>
                      <a:pt x="264" y="190"/>
                    </a:lnTo>
                    <a:lnTo>
                      <a:pt x="264" y="279"/>
                    </a:lnTo>
                    <a:lnTo>
                      <a:pt x="169" y="279"/>
                    </a:lnTo>
                    <a:lnTo>
                      <a:pt x="169" y="6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058400" y="882720"/>
                <a:ext cx="9936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5" y="280"/>
                    </a:moveTo>
                    <a:lnTo>
                      <a:pt x="98" y="311"/>
                    </a:lnTo>
                    <a:lnTo>
                      <a:pt x="106" y="341"/>
                    </a:lnTo>
                    <a:lnTo>
                      <a:pt x="119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8" y="415"/>
                    </a:lnTo>
                    <a:lnTo>
                      <a:pt x="170" y="423"/>
                    </a:lnTo>
                    <a:lnTo>
                      <a:pt x="184" y="431"/>
                    </a:lnTo>
                    <a:lnTo>
                      <a:pt x="197" y="437"/>
                    </a:lnTo>
                    <a:lnTo>
                      <a:pt x="213" y="441"/>
                    </a:lnTo>
                    <a:lnTo>
                      <a:pt x="229" y="443"/>
                    </a:lnTo>
                    <a:lnTo>
                      <a:pt x="245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5" y="430"/>
                    </a:lnTo>
                    <a:lnTo>
                      <a:pt x="333" y="418"/>
                    </a:lnTo>
                    <a:lnTo>
                      <a:pt x="351" y="405"/>
                    </a:lnTo>
                    <a:lnTo>
                      <a:pt x="366" y="388"/>
                    </a:lnTo>
                    <a:lnTo>
                      <a:pt x="380" y="368"/>
                    </a:lnTo>
                    <a:lnTo>
                      <a:pt x="394" y="348"/>
                    </a:lnTo>
                    <a:lnTo>
                      <a:pt x="475" y="394"/>
                    </a:lnTo>
                    <a:lnTo>
                      <a:pt x="455" y="424"/>
                    </a:lnTo>
                    <a:lnTo>
                      <a:pt x="433" y="451"/>
                    </a:lnTo>
                    <a:lnTo>
                      <a:pt x="407" y="474"/>
                    </a:lnTo>
                    <a:lnTo>
                      <a:pt x="378" y="494"/>
                    </a:lnTo>
                    <a:lnTo>
                      <a:pt x="347" y="509"/>
                    </a:lnTo>
                    <a:lnTo>
                      <a:pt x="315" y="520"/>
                    </a:lnTo>
                    <a:lnTo>
                      <a:pt x="279" y="528"/>
                    </a:lnTo>
                    <a:lnTo>
                      <a:pt x="244" y="530"/>
                    </a:lnTo>
                    <a:lnTo>
                      <a:pt x="217" y="528"/>
                    </a:lnTo>
                    <a:lnTo>
                      <a:pt x="191" y="524"/>
                    </a:lnTo>
                    <a:lnTo>
                      <a:pt x="165" y="518"/>
                    </a:lnTo>
                    <a:lnTo>
                      <a:pt x="142" y="509"/>
                    </a:lnTo>
                    <a:lnTo>
                      <a:pt x="120" y="498"/>
                    </a:lnTo>
                    <a:lnTo>
                      <a:pt x="101" y="485"/>
                    </a:lnTo>
                    <a:lnTo>
                      <a:pt x="82" y="471"/>
                    </a:lnTo>
                    <a:lnTo>
                      <a:pt x="66" y="454"/>
                    </a:lnTo>
                    <a:lnTo>
                      <a:pt x="50" y="435"/>
                    </a:lnTo>
                    <a:lnTo>
                      <a:pt x="37" y="416"/>
                    </a:lnTo>
                    <a:lnTo>
                      <a:pt x="26" y="394"/>
                    </a:lnTo>
                    <a:lnTo>
                      <a:pt x="16" y="371"/>
                    </a:lnTo>
                    <a:lnTo>
                      <a:pt x="10" y="346"/>
                    </a:lnTo>
                    <a:lnTo>
                      <a:pt x="4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4" y="213"/>
                    </a:lnTo>
                    <a:lnTo>
                      <a:pt x="9" y="186"/>
                    </a:lnTo>
                    <a:lnTo>
                      <a:pt x="15" y="161"/>
                    </a:lnTo>
                    <a:lnTo>
                      <a:pt x="24" y="138"/>
                    </a:lnTo>
                    <a:lnTo>
                      <a:pt x="34" y="116"/>
                    </a:lnTo>
                    <a:lnTo>
                      <a:pt x="47" y="95"/>
                    </a:lnTo>
                    <a:lnTo>
                      <a:pt x="61" y="76"/>
                    </a:lnTo>
                    <a:lnTo>
                      <a:pt x="77" y="60"/>
                    </a:lnTo>
                    <a:lnTo>
                      <a:pt x="95" y="45"/>
                    </a:lnTo>
                    <a:lnTo>
                      <a:pt x="115" y="31"/>
                    </a:lnTo>
                    <a:lnTo>
                      <a:pt x="137" y="20"/>
                    </a:lnTo>
                    <a:lnTo>
                      <a:pt x="160" y="12"/>
                    </a:lnTo>
                    <a:lnTo>
                      <a:pt x="185" y="5"/>
                    </a:lnTo>
                    <a:lnTo>
                      <a:pt x="213" y="2"/>
                    </a:lnTo>
                    <a:lnTo>
                      <a:pt x="242" y="0"/>
                    </a:lnTo>
                    <a:lnTo>
                      <a:pt x="271" y="2"/>
                    </a:lnTo>
                    <a:lnTo>
                      <a:pt x="297" y="5"/>
                    </a:lnTo>
                    <a:lnTo>
                      <a:pt x="322" y="12"/>
                    </a:lnTo>
                    <a:lnTo>
                      <a:pt x="345" y="20"/>
                    </a:lnTo>
                    <a:lnTo>
                      <a:pt x="366" y="31"/>
                    </a:lnTo>
                    <a:lnTo>
                      <a:pt x="385" y="45"/>
                    </a:lnTo>
                    <a:lnTo>
                      <a:pt x="402" y="60"/>
                    </a:lnTo>
                    <a:lnTo>
                      <a:pt x="418" y="76"/>
                    </a:lnTo>
                    <a:lnTo>
                      <a:pt x="431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0" y="161"/>
                    </a:lnTo>
                    <a:lnTo>
                      <a:pt x="467" y="185"/>
                    </a:lnTo>
                    <a:lnTo>
                      <a:pt x="471" y="210"/>
                    </a:lnTo>
                    <a:lnTo>
                      <a:pt x="474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5" y="280"/>
                    </a:lnTo>
                    <a:close/>
                    <a:moveTo>
                      <a:pt x="379" y="207"/>
                    </a:moveTo>
                    <a:lnTo>
                      <a:pt x="373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5" y="117"/>
                    </a:lnTo>
                    <a:lnTo>
                      <a:pt x="316" y="103"/>
                    </a:lnTo>
                    <a:lnTo>
                      <a:pt x="294" y="92"/>
                    </a:lnTo>
                    <a:lnTo>
                      <a:pt x="270" y="85"/>
                    </a:lnTo>
                    <a:lnTo>
                      <a:pt x="242" y="83"/>
                    </a:lnTo>
                    <a:lnTo>
                      <a:pt x="215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1" y="137"/>
                    </a:lnTo>
                    <a:lnTo>
                      <a:pt x="117" y="158"/>
                    </a:lnTo>
                    <a:lnTo>
                      <a:pt x="107" y="182"/>
                    </a:lnTo>
                    <a:lnTo>
                      <a:pt x="101" y="207"/>
                    </a:lnTo>
                    <a:lnTo>
                      <a:pt x="379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177200" y="846000"/>
                <a:ext cx="2052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1211400" y="882720"/>
                <a:ext cx="9972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7" y="280"/>
                    </a:moveTo>
                    <a:lnTo>
                      <a:pt x="99" y="311"/>
                    </a:lnTo>
                    <a:lnTo>
                      <a:pt x="108" y="341"/>
                    </a:lnTo>
                    <a:lnTo>
                      <a:pt x="120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9" y="415"/>
                    </a:lnTo>
                    <a:lnTo>
                      <a:pt x="171" y="423"/>
                    </a:lnTo>
                    <a:lnTo>
                      <a:pt x="185" y="431"/>
                    </a:lnTo>
                    <a:lnTo>
                      <a:pt x="199" y="437"/>
                    </a:lnTo>
                    <a:lnTo>
                      <a:pt x="213" y="441"/>
                    </a:lnTo>
                    <a:lnTo>
                      <a:pt x="230" y="443"/>
                    </a:lnTo>
                    <a:lnTo>
                      <a:pt x="246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6" y="430"/>
                    </a:lnTo>
                    <a:lnTo>
                      <a:pt x="335" y="418"/>
                    </a:lnTo>
                    <a:lnTo>
                      <a:pt x="351" y="405"/>
                    </a:lnTo>
                    <a:lnTo>
                      <a:pt x="367" y="388"/>
                    </a:lnTo>
                    <a:lnTo>
                      <a:pt x="381" y="368"/>
                    </a:lnTo>
                    <a:lnTo>
                      <a:pt x="395" y="348"/>
                    </a:lnTo>
                    <a:lnTo>
                      <a:pt x="475" y="394"/>
                    </a:lnTo>
                    <a:lnTo>
                      <a:pt x="457" y="424"/>
                    </a:lnTo>
                    <a:lnTo>
                      <a:pt x="434" y="451"/>
                    </a:lnTo>
                    <a:lnTo>
                      <a:pt x="407" y="474"/>
                    </a:lnTo>
                    <a:lnTo>
                      <a:pt x="379" y="494"/>
                    </a:lnTo>
                    <a:lnTo>
                      <a:pt x="348" y="509"/>
                    </a:lnTo>
                    <a:lnTo>
                      <a:pt x="315" y="520"/>
                    </a:lnTo>
                    <a:lnTo>
                      <a:pt x="281" y="528"/>
                    </a:lnTo>
                    <a:lnTo>
                      <a:pt x="245" y="530"/>
                    </a:lnTo>
                    <a:lnTo>
                      <a:pt x="218" y="528"/>
                    </a:lnTo>
                    <a:lnTo>
                      <a:pt x="191" y="524"/>
                    </a:lnTo>
                    <a:lnTo>
                      <a:pt x="166" y="518"/>
                    </a:lnTo>
                    <a:lnTo>
                      <a:pt x="143" y="509"/>
                    </a:lnTo>
                    <a:lnTo>
                      <a:pt x="121" y="498"/>
                    </a:lnTo>
                    <a:lnTo>
                      <a:pt x="101" y="485"/>
                    </a:lnTo>
                    <a:lnTo>
                      <a:pt x="83" y="471"/>
                    </a:lnTo>
                    <a:lnTo>
                      <a:pt x="66" y="454"/>
                    </a:lnTo>
                    <a:lnTo>
                      <a:pt x="51" y="435"/>
                    </a:lnTo>
                    <a:lnTo>
                      <a:pt x="38" y="416"/>
                    </a:lnTo>
                    <a:lnTo>
                      <a:pt x="27" y="394"/>
                    </a:lnTo>
                    <a:lnTo>
                      <a:pt x="18" y="371"/>
                    </a:lnTo>
                    <a:lnTo>
                      <a:pt x="10" y="346"/>
                    </a:lnTo>
                    <a:lnTo>
                      <a:pt x="5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5" y="213"/>
                    </a:lnTo>
                    <a:lnTo>
                      <a:pt x="9" y="186"/>
                    </a:lnTo>
                    <a:lnTo>
                      <a:pt x="16" y="161"/>
                    </a:lnTo>
                    <a:lnTo>
                      <a:pt x="24" y="138"/>
                    </a:lnTo>
                    <a:lnTo>
                      <a:pt x="35" y="116"/>
                    </a:lnTo>
                    <a:lnTo>
                      <a:pt x="48" y="95"/>
                    </a:lnTo>
                    <a:lnTo>
                      <a:pt x="62" y="76"/>
                    </a:lnTo>
                    <a:lnTo>
                      <a:pt x="78" y="60"/>
                    </a:lnTo>
                    <a:lnTo>
                      <a:pt x="96" y="45"/>
                    </a:lnTo>
                    <a:lnTo>
                      <a:pt x="116" y="31"/>
                    </a:lnTo>
                    <a:lnTo>
                      <a:pt x="137" y="20"/>
                    </a:lnTo>
                    <a:lnTo>
                      <a:pt x="162" y="12"/>
                    </a:lnTo>
                    <a:lnTo>
                      <a:pt x="187" y="5"/>
                    </a:lnTo>
                    <a:lnTo>
                      <a:pt x="214" y="2"/>
                    </a:lnTo>
                    <a:lnTo>
                      <a:pt x="243" y="0"/>
                    </a:lnTo>
                    <a:lnTo>
                      <a:pt x="271" y="2"/>
                    </a:lnTo>
                    <a:lnTo>
                      <a:pt x="299" y="5"/>
                    </a:lnTo>
                    <a:lnTo>
                      <a:pt x="323" y="12"/>
                    </a:lnTo>
                    <a:lnTo>
                      <a:pt x="346" y="20"/>
                    </a:lnTo>
                    <a:lnTo>
                      <a:pt x="367" y="31"/>
                    </a:lnTo>
                    <a:lnTo>
                      <a:pt x="386" y="45"/>
                    </a:lnTo>
                    <a:lnTo>
                      <a:pt x="403" y="60"/>
                    </a:lnTo>
                    <a:lnTo>
                      <a:pt x="418" y="76"/>
                    </a:lnTo>
                    <a:lnTo>
                      <a:pt x="432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1" y="161"/>
                    </a:lnTo>
                    <a:lnTo>
                      <a:pt x="468" y="185"/>
                    </a:lnTo>
                    <a:lnTo>
                      <a:pt x="472" y="210"/>
                    </a:lnTo>
                    <a:lnTo>
                      <a:pt x="475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7" y="280"/>
                    </a:lnTo>
                    <a:close/>
                    <a:moveTo>
                      <a:pt x="380" y="207"/>
                    </a:moveTo>
                    <a:lnTo>
                      <a:pt x="374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6" y="117"/>
                    </a:lnTo>
                    <a:lnTo>
                      <a:pt x="317" y="103"/>
                    </a:lnTo>
                    <a:lnTo>
                      <a:pt x="295" y="92"/>
                    </a:lnTo>
                    <a:lnTo>
                      <a:pt x="270" y="85"/>
                    </a:lnTo>
                    <a:lnTo>
                      <a:pt x="243" y="83"/>
                    </a:lnTo>
                    <a:lnTo>
                      <a:pt x="216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2" y="137"/>
                    </a:lnTo>
                    <a:lnTo>
                      <a:pt x="119" y="158"/>
                    </a:lnTo>
                    <a:lnTo>
                      <a:pt x="108" y="182"/>
                    </a:lnTo>
                    <a:lnTo>
                      <a:pt x="101" y="207"/>
                    </a:lnTo>
                    <a:lnTo>
                      <a:pt x="380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326960" y="882720"/>
                <a:ext cx="84240" cy="101520"/>
              </a:xfrm>
              <a:custGeom>
                <a:avLst/>
                <a:gdLst/>
                <a:ahLst/>
                <a:rect l="l" t="t" r="r" b="b"/>
                <a:pathLst>
                  <a:path w="404" h="530">
                    <a:moveTo>
                      <a:pt x="404" y="157"/>
                    </a:moveTo>
                    <a:lnTo>
                      <a:pt x="389" y="141"/>
                    </a:lnTo>
                    <a:lnTo>
                      <a:pt x="373" y="127"/>
                    </a:lnTo>
                    <a:lnTo>
                      <a:pt x="358" y="116"/>
                    </a:lnTo>
                    <a:lnTo>
                      <a:pt x="340" y="106"/>
                    </a:lnTo>
                    <a:lnTo>
                      <a:pt x="321" y="99"/>
                    </a:lnTo>
                    <a:lnTo>
                      <a:pt x="303" y="94"/>
                    </a:lnTo>
                    <a:lnTo>
                      <a:pt x="283" y="91"/>
                    </a:lnTo>
                    <a:lnTo>
                      <a:pt x="261" y="90"/>
                    </a:lnTo>
                    <a:lnTo>
                      <a:pt x="245" y="91"/>
                    </a:lnTo>
                    <a:lnTo>
                      <a:pt x="227" y="93"/>
                    </a:lnTo>
                    <a:lnTo>
                      <a:pt x="212" y="97"/>
                    </a:lnTo>
                    <a:lnTo>
                      <a:pt x="196" y="104"/>
                    </a:lnTo>
                    <a:lnTo>
                      <a:pt x="182" y="112"/>
                    </a:lnTo>
                    <a:lnTo>
                      <a:pt x="168" y="120"/>
                    </a:lnTo>
                    <a:lnTo>
                      <a:pt x="156" y="130"/>
                    </a:lnTo>
                    <a:lnTo>
                      <a:pt x="144" y="142"/>
                    </a:lnTo>
                    <a:lnTo>
                      <a:pt x="133" y="154"/>
                    </a:lnTo>
                    <a:lnTo>
                      <a:pt x="124" y="169"/>
                    </a:lnTo>
                    <a:lnTo>
                      <a:pt x="115" y="183"/>
                    </a:lnTo>
                    <a:lnTo>
                      <a:pt x="109" y="198"/>
                    </a:lnTo>
                    <a:lnTo>
                      <a:pt x="103" y="214"/>
                    </a:lnTo>
                    <a:lnTo>
                      <a:pt x="99" y="230"/>
                    </a:lnTo>
                    <a:lnTo>
                      <a:pt x="97" y="247"/>
                    </a:lnTo>
                    <a:lnTo>
                      <a:pt x="96" y="264"/>
                    </a:lnTo>
                    <a:lnTo>
                      <a:pt x="97" y="283"/>
                    </a:lnTo>
                    <a:lnTo>
                      <a:pt x="99" y="300"/>
                    </a:lnTo>
                    <a:lnTo>
                      <a:pt x="103" y="318"/>
                    </a:lnTo>
                    <a:lnTo>
                      <a:pt x="109" y="334"/>
                    </a:lnTo>
                    <a:lnTo>
                      <a:pt x="115" y="350"/>
                    </a:lnTo>
                    <a:lnTo>
                      <a:pt x="124" y="364"/>
                    </a:lnTo>
                    <a:lnTo>
                      <a:pt x="133" y="378"/>
                    </a:lnTo>
                    <a:lnTo>
                      <a:pt x="144" y="390"/>
                    </a:lnTo>
                    <a:lnTo>
                      <a:pt x="156" y="401"/>
                    </a:lnTo>
                    <a:lnTo>
                      <a:pt x="169" y="411"/>
                    </a:lnTo>
                    <a:lnTo>
                      <a:pt x="183" y="420"/>
                    </a:lnTo>
                    <a:lnTo>
                      <a:pt x="199" y="427"/>
                    </a:lnTo>
                    <a:lnTo>
                      <a:pt x="215" y="432"/>
                    </a:lnTo>
                    <a:lnTo>
                      <a:pt x="232" y="437"/>
                    </a:lnTo>
                    <a:lnTo>
                      <a:pt x="249" y="439"/>
                    </a:lnTo>
                    <a:lnTo>
                      <a:pt x="268" y="440"/>
                    </a:lnTo>
                    <a:lnTo>
                      <a:pt x="289" y="439"/>
                    </a:lnTo>
                    <a:lnTo>
                      <a:pt x="307" y="435"/>
                    </a:lnTo>
                    <a:lnTo>
                      <a:pt x="326" y="430"/>
                    </a:lnTo>
                    <a:lnTo>
                      <a:pt x="343" y="422"/>
                    </a:lnTo>
                    <a:lnTo>
                      <a:pt x="360" y="412"/>
                    </a:lnTo>
                    <a:lnTo>
                      <a:pt x="375" y="401"/>
                    </a:lnTo>
                    <a:lnTo>
                      <a:pt x="389" y="388"/>
                    </a:lnTo>
                    <a:lnTo>
                      <a:pt x="404" y="374"/>
                    </a:lnTo>
                    <a:lnTo>
                      <a:pt x="404" y="497"/>
                    </a:lnTo>
                    <a:lnTo>
                      <a:pt x="371" y="511"/>
                    </a:lnTo>
                    <a:lnTo>
                      <a:pt x="338" y="522"/>
                    </a:lnTo>
                    <a:lnTo>
                      <a:pt x="303" y="528"/>
                    </a:lnTo>
                    <a:lnTo>
                      <a:pt x="267" y="530"/>
                    </a:lnTo>
                    <a:lnTo>
                      <a:pt x="239" y="528"/>
                    </a:lnTo>
                    <a:lnTo>
                      <a:pt x="213" y="524"/>
                    </a:lnTo>
                    <a:lnTo>
                      <a:pt x="188" y="518"/>
                    </a:lnTo>
                    <a:lnTo>
                      <a:pt x="164" y="509"/>
                    </a:lnTo>
                    <a:lnTo>
                      <a:pt x="140" y="499"/>
                    </a:lnTo>
                    <a:lnTo>
                      <a:pt x="119" y="486"/>
                    </a:lnTo>
                    <a:lnTo>
                      <a:pt x="98" y="472"/>
                    </a:lnTo>
                    <a:lnTo>
                      <a:pt x="79" y="454"/>
                    </a:lnTo>
                    <a:lnTo>
                      <a:pt x="62" y="437"/>
                    </a:lnTo>
                    <a:lnTo>
                      <a:pt x="46" y="416"/>
                    </a:lnTo>
                    <a:lnTo>
                      <a:pt x="33" y="395"/>
                    </a:lnTo>
                    <a:lnTo>
                      <a:pt x="21" y="372"/>
                    </a:lnTo>
                    <a:lnTo>
                      <a:pt x="12" y="348"/>
                    </a:lnTo>
                    <a:lnTo>
                      <a:pt x="6" y="322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6" y="213"/>
                    </a:lnTo>
                    <a:lnTo>
                      <a:pt x="12" y="186"/>
                    </a:lnTo>
                    <a:lnTo>
                      <a:pt x="21" y="161"/>
                    </a:lnTo>
                    <a:lnTo>
                      <a:pt x="33" y="138"/>
                    </a:lnTo>
                    <a:lnTo>
                      <a:pt x="46" y="115"/>
                    </a:lnTo>
                    <a:lnTo>
                      <a:pt x="62" y="95"/>
                    </a:lnTo>
                    <a:lnTo>
                      <a:pt x="79" y="76"/>
                    </a:lnTo>
                    <a:lnTo>
                      <a:pt x="98" y="59"/>
                    </a:lnTo>
                    <a:lnTo>
                      <a:pt x="119" y="45"/>
                    </a:lnTo>
                    <a:lnTo>
                      <a:pt x="142" y="31"/>
                    </a:lnTo>
                    <a:lnTo>
                      <a:pt x="165" y="20"/>
                    </a:lnTo>
                    <a:lnTo>
                      <a:pt x="190" y="12"/>
                    </a:lnTo>
                    <a:lnTo>
                      <a:pt x="216" y="5"/>
                    </a:lnTo>
                    <a:lnTo>
                      <a:pt x="244" y="2"/>
                    </a:lnTo>
                    <a:lnTo>
                      <a:pt x="272" y="0"/>
                    </a:lnTo>
                    <a:lnTo>
                      <a:pt x="306" y="2"/>
                    </a:lnTo>
                    <a:lnTo>
                      <a:pt x="340" y="8"/>
                    </a:lnTo>
                    <a:lnTo>
                      <a:pt x="373" y="18"/>
                    </a:lnTo>
                    <a:lnTo>
                      <a:pt x="404" y="32"/>
                    </a:lnTo>
                    <a:lnTo>
                      <a:pt x="404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1423440" y="882720"/>
                <a:ext cx="111600" cy="101520"/>
              </a:xfrm>
              <a:custGeom>
                <a:avLst/>
                <a:gdLst/>
                <a:ahLst/>
                <a:rect l="l" t="t" r="r" b="b"/>
                <a:pathLst>
                  <a:path w="532" h="530">
                    <a:moveTo>
                      <a:pt x="532" y="264"/>
                    </a:moveTo>
                    <a:lnTo>
                      <a:pt x="530" y="293"/>
                    </a:lnTo>
                    <a:lnTo>
                      <a:pt x="527" y="319"/>
                    </a:lnTo>
                    <a:lnTo>
                      <a:pt x="520" y="344"/>
                    </a:lnTo>
                    <a:lnTo>
                      <a:pt x="511" y="370"/>
                    </a:lnTo>
                    <a:lnTo>
                      <a:pt x="501" y="393"/>
                    </a:lnTo>
                    <a:lnTo>
                      <a:pt x="487" y="415"/>
                    </a:lnTo>
                    <a:lnTo>
                      <a:pt x="472" y="434"/>
                    </a:lnTo>
                    <a:lnTo>
                      <a:pt x="454" y="453"/>
                    </a:lnTo>
                    <a:lnTo>
                      <a:pt x="436" y="471"/>
                    </a:lnTo>
                    <a:lnTo>
                      <a:pt x="416" y="485"/>
                    </a:lnTo>
                    <a:lnTo>
                      <a:pt x="394" y="498"/>
                    </a:lnTo>
                    <a:lnTo>
                      <a:pt x="370" y="509"/>
                    </a:lnTo>
                    <a:lnTo>
                      <a:pt x="346" y="518"/>
                    </a:lnTo>
                    <a:lnTo>
                      <a:pt x="321" y="524"/>
                    </a:lnTo>
                    <a:lnTo>
                      <a:pt x="293" y="528"/>
                    </a:lnTo>
                    <a:lnTo>
                      <a:pt x="266" y="530"/>
                    </a:lnTo>
                    <a:lnTo>
                      <a:pt x="238" y="528"/>
                    </a:lnTo>
                    <a:lnTo>
                      <a:pt x="212" y="524"/>
                    </a:lnTo>
                    <a:lnTo>
                      <a:pt x="187" y="518"/>
                    </a:lnTo>
                    <a:lnTo>
                      <a:pt x="162" y="509"/>
                    </a:lnTo>
                    <a:lnTo>
                      <a:pt x="139" y="498"/>
                    </a:lnTo>
                    <a:lnTo>
                      <a:pt x="117" y="485"/>
                    </a:lnTo>
                    <a:lnTo>
                      <a:pt x="97" y="471"/>
                    </a:lnTo>
                    <a:lnTo>
                      <a:pt x="78" y="453"/>
                    </a:lnTo>
                    <a:lnTo>
                      <a:pt x="61" y="434"/>
                    </a:lnTo>
                    <a:lnTo>
                      <a:pt x="45" y="415"/>
                    </a:lnTo>
                    <a:lnTo>
                      <a:pt x="32" y="393"/>
                    </a:lnTo>
                    <a:lnTo>
                      <a:pt x="21" y="370"/>
                    </a:lnTo>
                    <a:lnTo>
                      <a:pt x="12" y="344"/>
                    </a:lnTo>
                    <a:lnTo>
                      <a:pt x="6" y="319"/>
                    </a:lnTo>
                    <a:lnTo>
                      <a:pt x="3" y="293"/>
                    </a:lnTo>
                    <a:lnTo>
                      <a:pt x="0" y="264"/>
                    </a:lnTo>
                    <a:lnTo>
                      <a:pt x="3" y="237"/>
                    </a:lnTo>
                    <a:lnTo>
                      <a:pt x="6" y="210"/>
                    </a:lnTo>
                    <a:lnTo>
                      <a:pt x="12" y="185"/>
                    </a:lnTo>
                    <a:lnTo>
                      <a:pt x="21" y="160"/>
                    </a:lnTo>
                    <a:lnTo>
                      <a:pt x="32" y="137"/>
                    </a:lnTo>
                    <a:lnTo>
                      <a:pt x="45" y="115"/>
                    </a:lnTo>
                    <a:lnTo>
                      <a:pt x="61" y="95"/>
                    </a:lnTo>
                    <a:lnTo>
                      <a:pt x="78" y="76"/>
                    </a:lnTo>
                    <a:lnTo>
                      <a:pt x="97" y="59"/>
                    </a:lnTo>
                    <a:lnTo>
                      <a:pt x="117" y="45"/>
                    </a:lnTo>
                    <a:lnTo>
                      <a:pt x="139" y="31"/>
                    </a:lnTo>
                    <a:lnTo>
                      <a:pt x="162" y="20"/>
                    </a:lnTo>
                    <a:lnTo>
                      <a:pt x="187" y="12"/>
                    </a:lnTo>
                    <a:lnTo>
                      <a:pt x="212" y="5"/>
                    </a:lnTo>
                    <a:lnTo>
                      <a:pt x="238" y="2"/>
                    </a:lnTo>
                    <a:lnTo>
                      <a:pt x="266" y="0"/>
                    </a:lnTo>
                    <a:lnTo>
                      <a:pt x="293" y="2"/>
                    </a:lnTo>
                    <a:lnTo>
                      <a:pt x="321" y="5"/>
                    </a:lnTo>
                    <a:lnTo>
                      <a:pt x="346" y="12"/>
                    </a:lnTo>
                    <a:lnTo>
                      <a:pt x="370" y="20"/>
                    </a:lnTo>
                    <a:lnTo>
                      <a:pt x="394" y="31"/>
                    </a:lnTo>
                    <a:lnTo>
                      <a:pt x="416" y="45"/>
                    </a:lnTo>
                    <a:lnTo>
                      <a:pt x="436" y="59"/>
                    </a:lnTo>
                    <a:lnTo>
                      <a:pt x="454" y="76"/>
                    </a:lnTo>
                    <a:lnTo>
                      <a:pt x="472" y="95"/>
                    </a:lnTo>
                    <a:lnTo>
                      <a:pt x="487" y="115"/>
                    </a:lnTo>
                    <a:lnTo>
                      <a:pt x="501" y="137"/>
                    </a:lnTo>
                    <a:lnTo>
                      <a:pt x="511" y="160"/>
                    </a:lnTo>
                    <a:lnTo>
                      <a:pt x="520" y="185"/>
                    </a:lnTo>
                    <a:lnTo>
                      <a:pt x="527" y="210"/>
                    </a:lnTo>
                    <a:lnTo>
                      <a:pt x="530" y="237"/>
                    </a:lnTo>
                    <a:lnTo>
                      <a:pt x="532" y="264"/>
                    </a:lnTo>
                    <a:close/>
                    <a:moveTo>
                      <a:pt x="96" y="264"/>
                    </a:moveTo>
                    <a:lnTo>
                      <a:pt x="97" y="282"/>
                    </a:lnTo>
                    <a:lnTo>
                      <a:pt x="100" y="299"/>
                    </a:lnTo>
                    <a:lnTo>
                      <a:pt x="103" y="316"/>
                    </a:lnTo>
                    <a:lnTo>
                      <a:pt x="110" y="331"/>
                    </a:lnTo>
                    <a:lnTo>
                      <a:pt x="117" y="346"/>
                    </a:lnTo>
                    <a:lnTo>
                      <a:pt x="125" y="361"/>
                    </a:lnTo>
                    <a:lnTo>
                      <a:pt x="135" y="374"/>
                    </a:lnTo>
                    <a:lnTo>
                      <a:pt x="146" y="386"/>
                    </a:lnTo>
                    <a:lnTo>
                      <a:pt x="158" y="398"/>
                    </a:lnTo>
                    <a:lnTo>
                      <a:pt x="171" y="408"/>
                    </a:lnTo>
                    <a:lnTo>
                      <a:pt x="185" y="417"/>
                    </a:lnTo>
                    <a:lnTo>
                      <a:pt x="200" y="424"/>
                    </a:lnTo>
                    <a:lnTo>
                      <a:pt x="215" y="430"/>
                    </a:lnTo>
                    <a:lnTo>
                      <a:pt x="232" y="434"/>
                    </a:lnTo>
                    <a:lnTo>
                      <a:pt x="248" y="437"/>
                    </a:lnTo>
                    <a:lnTo>
                      <a:pt x="266" y="438"/>
                    </a:lnTo>
                    <a:lnTo>
                      <a:pt x="283" y="437"/>
                    </a:lnTo>
                    <a:lnTo>
                      <a:pt x="301" y="434"/>
                    </a:lnTo>
                    <a:lnTo>
                      <a:pt x="317" y="430"/>
                    </a:lnTo>
                    <a:lnTo>
                      <a:pt x="333" y="424"/>
                    </a:lnTo>
                    <a:lnTo>
                      <a:pt x="348" y="417"/>
                    </a:lnTo>
                    <a:lnTo>
                      <a:pt x="361" y="408"/>
                    </a:lnTo>
                    <a:lnTo>
                      <a:pt x="374" y="398"/>
                    </a:lnTo>
                    <a:lnTo>
                      <a:pt x="386" y="386"/>
                    </a:lnTo>
                    <a:lnTo>
                      <a:pt x="397" y="374"/>
                    </a:lnTo>
                    <a:lnTo>
                      <a:pt x="407" y="361"/>
                    </a:lnTo>
                    <a:lnTo>
                      <a:pt x="416" y="346"/>
                    </a:lnTo>
                    <a:lnTo>
                      <a:pt x="423" y="331"/>
                    </a:lnTo>
                    <a:lnTo>
                      <a:pt x="428" y="316"/>
                    </a:lnTo>
                    <a:lnTo>
                      <a:pt x="433" y="299"/>
                    </a:lnTo>
                    <a:lnTo>
                      <a:pt x="436" y="282"/>
                    </a:lnTo>
                    <a:lnTo>
                      <a:pt x="436" y="264"/>
                    </a:lnTo>
                    <a:lnTo>
                      <a:pt x="436" y="248"/>
                    </a:lnTo>
                    <a:lnTo>
                      <a:pt x="433" y="230"/>
                    </a:lnTo>
                    <a:lnTo>
                      <a:pt x="428" y="214"/>
                    </a:lnTo>
                    <a:lnTo>
                      <a:pt x="423" y="197"/>
                    </a:lnTo>
                    <a:lnTo>
                      <a:pt x="416" y="183"/>
                    </a:lnTo>
                    <a:lnTo>
                      <a:pt x="407" y="169"/>
                    </a:lnTo>
                    <a:lnTo>
                      <a:pt x="397" y="154"/>
                    </a:lnTo>
                    <a:lnTo>
                      <a:pt x="386" y="142"/>
                    </a:lnTo>
                    <a:lnTo>
                      <a:pt x="374" y="131"/>
                    </a:lnTo>
                    <a:lnTo>
                      <a:pt x="361" y="121"/>
                    </a:lnTo>
                    <a:lnTo>
                      <a:pt x="348" y="113"/>
                    </a:lnTo>
                    <a:lnTo>
                      <a:pt x="333" y="105"/>
                    </a:lnTo>
                    <a:lnTo>
                      <a:pt x="317" y="99"/>
                    </a:lnTo>
                    <a:lnTo>
                      <a:pt x="301" y="95"/>
                    </a:lnTo>
                    <a:lnTo>
                      <a:pt x="283" y="92"/>
                    </a:lnTo>
                    <a:lnTo>
                      <a:pt x="266" y="92"/>
                    </a:lnTo>
                    <a:lnTo>
                      <a:pt x="248" y="92"/>
                    </a:lnTo>
                    <a:lnTo>
                      <a:pt x="232" y="95"/>
                    </a:lnTo>
                    <a:lnTo>
                      <a:pt x="215" y="99"/>
                    </a:lnTo>
                    <a:lnTo>
                      <a:pt x="200" y="105"/>
                    </a:lnTo>
                    <a:lnTo>
                      <a:pt x="185" y="113"/>
                    </a:lnTo>
                    <a:lnTo>
                      <a:pt x="171" y="121"/>
                    </a:lnTo>
                    <a:lnTo>
                      <a:pt x="158" y="131"/>
                    </a:lnTo>
                    <a:lnTo>
                      <a:pt x="146" y="142"/>
                    </a:lnTo>
                    <a:lnTo>
                      <a:pt x="135" y="154"/>
                    </a:lnTo>
                    <a:lnTo>
                      <a:pt x="125" y="169"/>
                    </a:lnTo>
                    <a:lnTo>
                      <a:pt x="117" y="183"/>
                    </a:lnTo>
                    <a:lnTo>
                      <a:pt x="110" y="197"/>
                    </a:lnTo>
                    <a:lnTo>
                      <a:pt x="103" y="214"/>
                    </a:lnTo>
                    <a:lnTo>
                      <a:pt x="100" y="230"/>
                    </a:lnTo>
                    <a:lnTo>
                      <a:pt x="97" y="248"/>
                    </a:lnTo>
                    <a:lnTo>
                      <a:pt x="96" y="2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1549440" y="882720"/>
                <a:ext cx="144360" cy="98280"/>
              </a:xfrm>
              <a:custGeom>
                <a:avLst/>
                <a:gdLst/>
                <a:ahLst/>
                <a:rect l="l" t="t" r="r" b="b"/>
                <a:pathLst>
                  <a:path w="690" h="512">
                    <a:moveTo>
                      <a:pt x="96" y="77"/>
                    </a:moveTo>
                    <a:lnTo>
                      <a:pt x="98" y="77"/>
                    </a:lnTo>
                    <a:lnTo>
                      <a:pt x="109" y="62"/>
                    </a:lnTo>
                    <a:lnTo>
                      <a:pt x="122" y="47"/>
                    </a:lnTo>
                    <a:lnTo>
                      <a:pt x="137" y="34"/>
                    </a:lnTo>
                    <a:lnTo>
                      <a:pt x="154" y="23"/>
                    </a:lnTo>
                    <a:lnTo>
                      <a:pt x="171" y="13"/>
                    </a:lnTo>
                    <a:lnTo>
                      <a:pt x="190" y="6"/>
                    </a:lnTo>
                    <a:lnTo>
                      <a:pt x="210" y="2"/>
                    </a:lnTo>
                    <a:lnTo>
                      <a:pt x="229" y="0"/>
                    </a:lnTo>
                    <a:lnTo>
                      <a:pt x="253" y="2"/>
                    </a:lnTo>
                    <a:lnTo>
                      <a:pt x="274" y="6"/>
                    </a:lnTo>
                    <a:lnTo>
                      <a:pt x="295" y="13"/>
                    </a:lnTo>
                    <a:lnTo>
                      <a:pt x="314" y="24"/>
                    </a:lnTo>
                    <a:lnTo>
                      <a:pt x="330" y="36"/>
                    </a:lnTo>
                    <a:lnTo>
                      <a:pt x="346" y="51"/>
                    </a:lnTo>
                    <a:lnTo>
                      <a:pt x="360" y="69"/>
                    </a:lnTo>
                    <a:lnTo>
                      <a:pt x="373" y="88"/>
                    </a:lnTo>
                    <a:lnTo>
                      <a:pt x="385" y="69"/>
                    </a:lnTo>
                    <a:lnTo>
                      <a:pt x="401" y="52"/>
                    </a:lnTo>
                    <a:lnTo>
                      <a:pt x="418" y="37"/>
                    </a:lnTo>
                    <a:lnTo>
                      <a:pt x="438" y="24"/>
                    </a:lnTo>
                    <a:lnTo>
                      <a:pt x="458" y="14"/>
                    </a:lnTo>
                    <a:lnTo>
                      <a:pt x="480" y="6"/>
                    </a:lnTo>
                    <a:lnTo>
                      <a:pt x="503" y="2"/>
                    </a:lnTo>
                    <a:lnTo>
                      <a:pt x="526" y="0"/>
                    </a:lnTo>
                    <a:lnTo>
                      <a:pt x="550" y="1"/>
                    </a:lnTo>
                    <a:lnTo>
                      <a:pt x="571" y="5"/>
                    </a:lnTo>
                    <a:lnTo>
                      <a:pt x="589" y="11"/>
                    </a:lnTo>
                    <a:lnTo>
                      <a:pt x="607" y="17"/>
                    </a:lnTo>
                    <a:lnTo>
                      <a:pt x="622" y="27"/>
                    </a:lnTo>
                    <a:lnTo>
                      <a:pt x="635" y="38"/>
                    </a:lnTo>
                    <a:lnTo>
                      <a:pt x="647" y="51"/>
                    </a:lnTo>
                    <a:lnTo>
                      <a:pt x="657" y="65"/>
                    </a:lnTo>
                    <a:lnTo>
                      <a:pt x="666" y="81"/>
                    </a:lnTo>
                    <a:lnTo>
                      <a:pt x="673" y="97"/>
                    </a:lnTo>
                    <a:lnTo>
                      <a:pt x="678" y="115"/>
                    </a:lnTo>
                    <a:lnTo>
                      <a:pt x="684" y="133"/>
                    </a:lnTo>
                    <a:lnTo>
                      <a:pt x="689" y="173"/>
                    </a:lnTo>
                    <a:lnTo>
                      <a:pt x="690" y="215"/>
                    </a:lnTo>
                    <a:lnTo>
                      <a:pt x="690" y="512"/>
                    </a:lnTo>
                    <a:lnTo>
                      <a:pt x="595" y="512"/>
                    </a:lnTo>
                    <a:lnTo>
                      <a:pt x="595" y="230"/>
                    </a:lnTo>
                    <a:lnTo>
                      <a:pt x="595" y="206"/>
                    </a:lnTo>
                    <a:lnTo>
                      <a:pt x="593" y="181"/>
                    </a:lnTo>
                    <a:lnTo>
                      <a:pt x="588" y="157"/>
                    </a:lnTo>
                    <a:lnTo>
                      <a:pt x="580" y="133"/>
                    </a:lnTo>
                    <a:lnTo>
                      <a:pt x="568" y="114"/>
                    </a:lnTo>
                    <a:lnTo>
                      <a:pt x="561" y="106"/>
                    </a:lnTo>
                    <a:lnTo>
                      <a:pt x="552" y="98"/>
                    </a:lnTo>
                    <a:lnTo>
                      <a:pt x="542" y="93"/>
                    </a:lnTo>
                    <a:lnTo>
                      <a:pt x="531" y="88"/>
                    </a:lnTo>
                    <a:lnTo>
                      <a:pt x="517" y="86"/>
                    </a:lnTo>
                    <a:lnTo>
                      <a:pt x="503" y="85"/>
                    </a:lnTo>
                    <a:lnTo>
                      <a:pt x="484" y="86"/>
                    </a:lnTo>
                    <a:lnTo>
                      <a:pt x="469" y="90"/>
                    </a:lnTo>
                    <a:lnTo>
                      <a:pt x="454" y="95"/>
                    </a:lnTo>
                    <a:lnTo>
                      <a:pt x="442" y="103"/>
                    </a:lnTo>
                    <a:lnTo>
                      <a:pt x="432" y="112"/>
                    </a:lnTo>
                    <a:lnTo>
                      <a:pt x="423" y="123"/>
                    </a:lnTo>
                    <a:lnTo>
                      <a:pt x="416" y="135"/>
                    </a:lnTo>
                    <a:lnTo>
                      <a:pt x="409" y="148"/>
                    </a:lnTo>
                    <a:lnTo>
                      <a:pt x="401" y="176"/>
                    </a:lnTo>
                    <a:lnTo>
                      <a:pt x="396" y="207"/>
                    </a:lnTo>
                    <a:lnTo>
                      <a:pt x="394" y="238"/>
                    </a:lnTo>
                    <a:lnTo>
                      <a:pt x="393" y="267"/>
                    </a:lnTo>
                    <a:lnTo>
                      <a:pt x="393" y="512"/>
                    </a:lnTo>
                    <a:lnTo>
                      <a:pt x="297" y="512"/>
                    </a:lnTo>
                    <a:lnTo>
                      <a:pt x="297" y="249"/>
                    </a:lnTo>
                    <a:lnTo>
                      <a:pt x="297" y="224"/>
                    </a:lnTo>
                    <a:lnTo>
                      <a:pt x="295" y="196"/>
                    </a:lnTo>
                    <a:lnTo>
                      <a:pt x="292" y="169"/>
                    </a:lnTo>
                    <a:lnTo>
                      <a:pt x="285" y="142"/>
                    </a:lnTo>
                    <a:lnTo>
                      <a:pt x="280" y="130"/>
                    </a:lnTo>
                    <a:lnTo>
                      <a:pt x="273" y="119"/>
                    </a:lnTo>
                    <a:lnTo>
                      <a:pt x="267" y="110"/>
                    </a:lnTo>
                    <a:lnTo>
                      <a:pt x="258" y="102"/>
                    </a:lnTo>
                    <a:lnTo>
                      <a:pt x="247" y="95"/>
                    </a:lnTo>
                    <a:lnTo>
                      <a:pt x="235" y="90"/>
                    </a:lnTo>
                    <a:lnTo>
                      <a:pt x="222" y="86"/>
                    </a:lnTo>
                    <a:lnTo>
                      <a:pt x="206" y="85"/>
                    </a:lnTo>
                    <a:lnTo>
                      <a:pt x="188" y="86"/>
                    </a:lnTo>
                    <a:lnTo>
                      <a:pt x="172" y="90"/>
                    </a:lnTo>
                    <a:lnTo>
                      <a:pt x="158" y="95"/>
                    </a:lnTo>
                    <a:lnTo>
                      <a:pt x="146" y="103"/>
                    </a:lnTo>
                    <a:lnTo>
                      <a:pt x="135" y="112"/>
                    </a:lnTo>
                    <a:lnTo>
                      <a:pt x="126" y="123"/>
                    </a:lnTo>
                    <a:lnTo>
                      <a:pt x="119" y="135"/>
                    </a:lnTo>
                    <a:lnTo>
                      <a:pt x="113" y="148"/>
                    </a:lnTo>
                    <a:lnTo>
                      <a:pt x="103" y="176"/>
                    </a:lnTo>
                    <a:lnTo>
                      <a:pt x="99" y="207"/>
                    </a:lnTo>
                    <a:lnTo>
                      <a:pt x="97" y="238"/>
                    </a:lnTo>
                    <a:lnTo>
                      <a:pt x="96" y="267"/>
                    </a:lnTo>
                    <a:lnTo>
                      <a:pt x="96" y="512"/>
                    </a:lnTo>
                    <a:lnTo>
                      <a:pt x="0" y="512"/>
                    </a:lnTo>
                    <a:lnTo>
                      <a:pt x="0" y="15"/>
                    </a:lnTo>
                    <a:lnTo>
                      <a:pt x="96" y="15"/>
                    </a:lnTo>
                    <a:lnTo>
                      <a:pt x="96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908640" y="1022400"/>
                <a:ext cx="9082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a-DK" sz="600" spc="-1" strike="noStrike">
                    <a:solidFill>
                      <a:srgbClr val="ffffff"/>
                    </a:solidFill>
                    <a:latin typeface="Futura Bk BT"/>
                  </a:rPr>
                  <a:t>www.kirktelecom.dk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3" name=""/>
          <p:cNvSpPr/>
          <p:nvPr/>
        </p:nvSpPr>
        <p:spPr>
          <a:xfrm>
            <a:off x="4784760" y="3046320"/>
            <a:ext cx="1380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1337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бильная трубка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P-1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895480" y="1689120"/>
            <a:ext cx="701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ная книжка на 10 номер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различных мелодий звон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лючение микрофо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ключение гарниту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я разговора/ожидания</a:t>
            </a: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 &gt;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/12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ов</a:t>
            </a: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 135 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PP%201500%20color%20-%201" descr=""/>
          <p:cNvPicPr/>
          <p:nvPr/>
        </p:nvPicPr>
        <p:blipFill>
          <a:blip r:embed="rId2"/>
          <a:stretch/>
        </p:blipFill>
        <p:spPr>
          <a:xfrm>
            <a:off x="7620120" y="1676520"/>
            <a:ext cx="1912680" cy="457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A476-84A9-4042-B865-058ED49DDF53}" type="slidenum">
              <a:t>36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37920" y="637920"/>
            <a:ext cx="7086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азмещение в здан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0"/>
            <a:ext cx="5657760" cy="6858000"/>
            <a:chOff x="0" y="0"/>
            <a:chExt cx="5657760" cy="6858000"/>
          </a:xfrm>
        </p:grpSpPr>
        <p:sp>
          <p:nvSpPr>
            <p:cNvPr id="139" name=""/>
            <p:cNvSpPr/>
            <p:nvPr/>
          </p:nvSpPr>
          <p:spPr>
            <a:xfrm>
              <a:off x="0" y="0"/>
              <a:ext cx="2057400" cy="3429000"/>
            </a:xfrm>
            <a:prstGeom prst="rect">
              <a:avLst/>
            </a:prstGeom>
            <a:solidFill>
              <a:srgbClr val="000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3429000"/>
              <a:ext cx="2057400" cy="3429000"/>
            </a:xfrm>
            <a:prstGeom prst="rect">
              <a:avLst/>
            </a:pr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7800" y="6324480"/>
              <a:ext cx="3045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53200" y="6324480"/>
              <a:ext cx="3045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185760" y="2055960"/>
              <a:ext cx="1574640" cy="271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"/>
            <p:cNvGrpSpPr/>
            <p:nvPr/>
          </p:nvGrpSpPr>
          <p:grpSpPr>
            <a:xfrm>
              <a:off x="195120" y="380880"/>
              <a:ext cx="1517400" cy="821880"/>
              <a:chOff x="195120" y="380880"/>
              <a:chExt cx="1517400" cy="8218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2960" y="380880"/>
                <a:ext cx="313200" cy="387360"/>
              </a:xfrm>
              <a:custGeom>
                <a:avLst/>
                <a:gdLst/>
                <a:ahLst/>
                <a:rect l="l" t="t" r="r" b="b"/>
                <a:pathLst>
                  <a:path w="1606" h="1987">
                    <a:moveTo>
                      <a:pt x="29" y="1655"/>
                    </a:moveTo>
                    <a:lnTo>
                      <a:pt x="79" y="1682"/>
                    </a:lnTo>
                    <a:lnTo>
                      <a:pt x="623" y="1957"/>
                    </a:lnTo>
                    <a:lnTo>
                      <a:pt x="684" y="1987"/>
                    </a:lnTo>
                    <a:lnTo>
                      <a:pt x="687" y="1916"/>
                    </a:lnTo>
                    <a:lnTo>
                      <a:pt x="691" y="1864"/>
                    </a:lnTo>
                    <a:lnTo>
                      <a:pt x="697" y="1814"/>
                    </a:lnTo>
                    <a:lnTo>
                      <a:pt x="704" y="1763"/>
                    </a:lnTo>
                    <a:lnTo>
                      <a:pt x="713" y="1714"/>
                    </a:lnTo>
                    <a:lnTo>
                      <a:pt x="724" y="1665"/>
                    </a:lnTo>
                    <a:lnTo>
                      <a:pt x="737" y="1616"/>
                    </a:lnTo>
                    <a:lnTo>
                      <a:pt x="751" y="1569"/>
                    </a:lnTo>
                    <a:lnTo>
                      <a:pt x="767" y="1522"/>
                    </a:lnTo>
                    <a:lnTo>
                      <a:pt x="784" y="1476"/>
                    </a:lnTo>
                    <a:lnTo>
                      <a:pt x="803" y="1431"/>
                    </a:lnTo>
                    <a:lnTo>
                      <a:pt x="824" y="1386"/>
                    </a:lnTo>
                    <a:lnTo>
                      <a:pt x="846" y="1343"/>
                    </a:lnTo>
                    <a:lnTo>
                      <a:pt x="869" y="1300"/>
                    </a:lnTo>
                    <a:lnTo>
                      <a:pt x="894" y="1257"/>
                    </a:lnTo>
                    <a:lnTo>
                      <a:pt x="920" y="1217"/>
                    </a:lnTo>
                    <a:lnTo>
                      <a:pt x="948" y="1177"/>
                    </a:lnTo>
                    <a:lnTo>
                      <a:pt x="976" y="1137"/>
                    </a:lnTo>
                    <a:lnTo>
                      <a:pt x="1007" y="1100"/>
                    </a:lnTo>
                    <a:lnTo>
                      <a:pt x="1038" y="1063"/>
                    </a:lnTo>
                    <a:lnTo>
                      <a:pt x="1071" y="1027"/>
                    </a:lnTo>
                    <a:lnTo>
                      <a:pt x="1105" y="993"/>
                    </a:lnTo>
                    <a:lnTo>
                      <a:pt x="1140" y="959"/>
                    </a:lnTo>
                    <a:lnTo>
                      <a:pt x="1176" y="927"/>
                    </a:lnTo>
                    <a:lnTo>
                      <a:pt x="1213" y="896"/>
                    </a:lnTo>
                    <a:lnTo>
                      <a:pt x="1250" y="866"/>
                    </a:lnTo>
                    <a:lnTo>
                      <a:pt x="1290" y="838"/>
                    </a:lnTo>
                    <a:lnTo>
                      <a:pt x="1331" y="810"/>
                    </a:lnTo>
                    <a:lnTo>
                      <a:pt x="1372" y="785"/>
                    </a:lnTo>
                    <a:lnTo>
                      <a:pt x="1414" y="760"/>
                    </a:lnTo>
                    <a:lnTo>
                      <a:pt x="1457" y="737"/>
                    </a:lnTo>
                    <a:lnTo>
                      <a:pt x="1501" y="716"/>
                    </a:lnTo>
                    <a:lnTo>
                      <a:pt x="1546" y="696"/>
                    </a:lnTo>
                    <a:lnTo>
                      <a:pt x="1584" y="680"/>
                    </a:lnTo>
                    <a:lnTo>
                      <a:pt x="1594" y="673"/>
                    </a:lnTo>
                    <a:lnTo>
                      <a:pt x="1600" y="665"/>
                    </a:lnTo>
                    <a:lnTo>
                      <a:pt x="1604" y="658"/>
                    </a:lnTo>
                    <a:lnTo>
                      <a:pt x="1606" y="650"/>
                    </a:lnTo>
                    <a:lnTo>
                      <a:pt x="1605" y="638"/>
                    </a:lnTo>
                    <a:lnTo>
                      <a:pt x="1603" y="632"/>
                    </a:lnTo>
                    <a:lnTo>
                      <a:pt x="1586" y="586"/>
                    </a:lnTo>
                    <a:lnTo>
                      <a:pt x="1385" y="31"/>
                    </a:lnTo>
                    <a:lnTo>
                      <a:pt x="1381" y="18"/>
                    </a:lnTo>
                    <a:lnTo>
                      <a:pt x="1380" y="13"/>
                    </a:lnTo>
                    <a:lnTo>
                      <a:pt x="1372" y="5"/>
                    </a:lnTo>
                    <a:lnTo>
                      <a:pt x="1367" y="2"/>
                    </a:lnTo>
                    <a:lnTo>
                      <a:pt x="1359" y="0"/>
                    </a:lnTo>
                    <a:lnTo>
                      <a:pt x="1349" y="0"/>
                    </a:lnTo>
                    <a:lnTo>
                      <a:pt x="1337" y="3"/>
                    </a:lnTo>
                    <a:lnTo>
                      <a:pt x="1307" y="14"/>
                    </a:lnTo>
                    <a:lnTo>
                      <a:pt x="1248" y="37"/>
                    </a:lnTo>
                    <a:lnTo>
                      <a:pt x="1190" y="63"/>
                    </a:lnTo>
                    <a:lnTo>
                      <a:pt x="1133" y="89"/>
                    </a:lnTo>
                    <a:lnTo>
                      <a:pt x="1076" y="119"/>
                    </a:lnTo>
                    <a:lnTo>
                      <a:pt x="1021" y="149"/>
                    </a:lnTo>
                    <a:lnTo>
                      <a:pt x="966" y="181"/>
                    </a:lnTo>
                    <a:lnTo>
                      <a:pt x="913" y="215"/>
                    </a:lnTo>
                    <a:lnTo>
                      <a:pt x="861" y="251"/>
                    </a:lnTo>
                    <a:lnTo>
                      <a:pt x="810" y="289"/>
                    </a:lnTo>
                    <a:lnTo>
                      <a:pt x="759" y="328"/>
                    </a:lnTo>
                    <a:lnTo>
                      <a:pt x="711" y="369"/>
                    </a:lnTo>
                    <a:lnTo>
                      <a:pt x="663" y="411"/>
                    </a:lnTo>
                    <a:lnTo>
                      <a:pt x="616" y="455"/>
                    </a:lnTo>
                    <a:lnTo>
                      <a:pt x="572" y="501"/>
                    </a:lnTo>
                    <a:lnTo>
                      <a:pt x="528" y="547"/>
                    </a:lnTo>
                    <a:lnTo>
                      <a:pt x="485" y="595"/>
                    </a:lnTo>
                    <a:lnTo>
                      <a:pt x="443" y="645"/>
                    </a:lnTo>
                    <a:lnTo>
                      <a:pt x="404" y="695"/>
                    </a:lnTo>
                    <a:lnTo>
                      <a:pt x="365" y="747"/>
                    </a:lnTo>
                    <a:lnTo>
                      <a:pt x="329" y="800"/>
                    </a:lnTo>
                    <a:lnTo>
                      <a:pt x="294" y="854"/>
                    </a:lnTo>
                    <a:lnTo>
                      <a:pt x="260" y="910"/>
                    </a:lnTo>
                    <a:lnTo>
                      <a:pt x="228" y="967"/>
                    </a:lnTo>
                    <a:lnTo>
                      <a:pt x="197" y="1024"/>
                    </a:lnTo>
                    <a:lnTo>
                      <a:pt x="169" y="1084"/>
                    </a:lnTo>
                    <a:lnTo>
                      <a:pt x="142" y="1144"/>
                    </a:lnTo>
                    <a:lnTo>
                      <a:pt x="116" y="1204"/>
                    </a:lnTo>
                    <a:lnTo>
                      <a:pt x="93" y="1266"/>
                    </a:lnTo>
                    <a:lnTo>
                      <a:pt x="71" y="1329"/>
                    </a:lnTo>
                    <a:lnTo>
                      <a:pt x="52" y="1392"/>
                    </a:lnTo>
                    <a:lnTo>
                      <a:pt x="34" y="1457"/>
                    </a:lnTo>
                    <a:lnTo>
                      <a:pt x="18" y="1522"/>
                    </a:lnTo>
                    <a:lnTo>
                      <a:pt x="2" y="1593"/>
                    </a:lnTo>
                    <a:lnTo>
                      <a:pt x="0" y="1610"/>
                    </a:lnTo>
                    <a:lnTo>
                      <a:pt x="1" y="1623"/>
                    </a:lnTo>
                    <a:lnTo>
                      <a:pt x="6" y="1634"/>
                    </a:lnTo>
                    <a:lnTo>
                      <a:pt x="11" y="1643"/>
                    </a:lnTo>
                    <a:lnTo>
                      <a:pt x="17" y="1648"/>
                    </a:lnTo>
                    <a:lnTo>
                      <a:pt x="23" y="1652"/>
                    </a:lnTo>
                    <a:lnTo>
                      <a:pt x="29" y="1655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72960" y="770040"/>
                <a:ext cx="313200" cy="387360"/>
              </a:xfrm>
              <a:custGeom>
                <a:avLst/>
                <a:gdLst/>
                <a:ahLst/>
                <a:rect l="l" t="t" r="r" b="b"/>
                <a:pathLst>
                  <a:path w="1606" h="1985">
                    <a:moveTo>
                      <a:pt x="29" y="333"/>
                    </a:moveTo>
                    <a:lnTo>
                      <a:pt x="79" y="306"/>
                    </a:lnTo>
                    <a:lnTo>
                      <a:pt x="623" y="31"/>
                    </a:lnTo>
                    <a:lnTo>
                      <a:pt x="684" y="0"/>
                    </a:lnTo>
                    <a:lnTo>
                      <a:pt x="687" y="72"/>
                    </a:lnTo>
                    <a:lnTo>
                      <a:pt x="691" y="123"/>
                    </a:lnTo>
                    <a:lnTo>
                      <a:pt x="697" y="174"/>
                    </a:lnTo>
                    <a:lnTo>
                      <a:pt x="704" y="224"/>
                    </a:lnTo>
                    <a:lnTo>
                      <a:pt x="713" y="273"/>
                    </a:lnTo>
                    <a:lnTo>
                      <a:pt x="724" y="323"/>
                    </a:lnTo>
                    <a:lnTo>
                      <a:pt x="737" y="371"/>
                    </a:lnTo>
                    <a:lnTo>
                      <a:pt x="751" y="418"/>
                    </a:lnTo>
                    <a:lnTo>
                      <a:pt x="767" y="465"/>
                    </a:lnTo>
                    <a:lnTo>
                      <a:pt x="784" y="512"/>
                    </a:lnTo>
                    <a:lnTo>
                      <a:pt x="803" y="557"/>
                    </a:lnTo>
                    <a:lnTo>
                      <a:pt x="824" y="602"/>
                    </a:lnTo>
                    <a:lnTo>
                      <a:pt x="846" y="645"/>
                    </a:lnTo>
                    <a:lnTo>
                      <a:pt x="869" y="688"/>
                    </a:lnTo>
                    <a:lnTo>
                      <a:pt x="894" y="730"/>
                    </a:lnTo>
                    <a:lnTo>
                      <a:pt x="920" y="771"/>
                    </a:lnTo>
                    <a:lnTo>
                      <a:pt x="948" y="811"/>
                    </a:lnTo>
                    <a:lnTo>
                      <a:pt x="976" y="850"/>
                    </a:lnTo>
                    <a:lnTo>
                      <a:pt x="1007" y="888"/>
                    </a:lnTo>
                    <a:lnTo>
                      <a:pt x="1038" y="924"/>
                    </a:lnTo>
                    <a:lnTo>
                      <a:pt x="1071" y="961"/>
                    </a:lnTo>
                    <a:lnTo>
                      <a:pt x="1105" y="995"/>
                    </a:lnTo>
                    <a:lnTo>
                      <a:pt x="1140" y="1029"/>
                    </a:lnTo>
                    <a:lnTo>
                      <a:pt x="1176" y="1061"/>
                    </a:lnTo>
                    <a:lnTo>
                      <a:pt x="1213" y="1092"/>
                    </a:lnTo>
                    <a:lnTo>
                      <a:pt x="1252" y="1122"/>
                    </a:lnTo>
                    <a:lnTo>
                      <a:pt x="1290" y="1151"/>
                    </a:lnTo>
                    <a:lnTo>
                      <a:pt x="1331" y="1177"/>
                    </a:lnTo>
                    <a:lnTo>
                      <a:pt x="1372" y="1203"/>
                    </a:lnTo>
                    <a:lnTo>
                      <a:pt x="1414" y="1227"/>
                    </a:lnTo>
                    <a:lnTo>
                      <a:pt x="1457" y="1250"/>
                    </a:lnTo>
                    <a:lnTo>
                      <a:pt x="1501" y="1271"/>
                    </a:lnTo>
                    <a:lnTo>
                      <a:pt x="1546" y="1292"/>
                    </a:lnTo>
                    <a:lnTo>
                      <a:pt x="1584" y="1308"/>
                    </a:lnTo>
                    <a:lnTo>
                      <a:pt x="1594" y="1315"/>
                    </a:lnTo>
                    <a:lnTo>
                      <a:pt x="1600" y="1323"/>
                    </a:lnTo>
                    <a:lnTo>
                      <a:pt x="1605" y="1331"/>
                    </a:lnTo>
                    <a:lnTo>
                      <a:pt x="1606" y="1337"/>
                    </a:lnTo>
                    <a:lnTo>
                      <a:pt x="1605" y="1349"/>
                    </a:lnTo>
                    <a:lnTo>
                      <a:pt x="1603" y="1355"/>
                    </a:lnTo>
                    <a:lnTo>
                      <a:pt x="1586" y="1401"/>
                    </a:lnTo>
                    <a:lnTo>
                      <a:pt x="1388" y="1950"/>
                    </a:lnTo>
                    <a:lnTo>
                      <a:pt x="1381" y="1965"/>
                    </a:lnTo>
                    <a:lnTo>
                      <a:pt x="1379" y="1970"/>
                    </a:lnTo>
                    <a:lnTo>
                      <a:pt x="1371" y="1978"/>
                    </a:lnTo>
                    <a:lnTo>
                      <a:pt x="1366" y="1983"/>
                    </a:lnTo>
                    <a:lnTo>
                      <a:pt x="1358" y="1985"/>
                    </a:lnTo>
                    <a:lnTo>
                      <a:pt x="1348" y="1985"/>
                    </a:lnTo>
                    <a:lnTo>
                      <a:pt x="1338" y="1983"/>
                    </a:lnTo>
                    <a:lnTo>
                      <a:pt x="1302" y="1969"/>
                    </a:lnTo>
                    <a:lnTo>
                      <a:pt x="1242" y="1942"/>
                    </a:lnTo>
                    <a:lnTo>
                      <a:pt x="1181" y="1915"/>
                    </a:lnTo>
                    <a:lnTo>
                      <a:pt x="1123" y="1886"/>
                    </a:lnTo>
                    <a:lnTo>
                      <a:pt x="1066" y="1857"/>
                    </a:lnTo>
                    <a:lnTo>
                      <a:pt x="1009" y="1824"/>
                    </a:lnTo>
                    <a:lnTo>
                      <a:pt x="954" y="1791"/>
                    </a:lnTo>
                    <a:lnTo>
                      <a:pt x="901" y="1756"/>
                    </a:lnTo>
                    <a:lnTo>
                      <a:pt x="848" y="1719"/>
                    </a:lnTo>
                    <a:lnTo>
                      <a:pt x="796" y="1682"/>
                    </a:lnTo>
                    <a:lnTo>
                      <a:pt x="747" y="1642"/>
                    </a:lnTo>
                    <a:lnTo>
                      <a:pt x="698" y="1602"/>
                    </a:lnTo>
                    <a:lnTo>
                      <a:pt x="650" y="1560"/>
                    </a:lnTo>
                    <a:lnTo>
                      <a:pt x="604" y="1517"/>
                    </a:lnTo>
                    <a:lnTo>
                      <a:pt x="559" y="1472"/>
                    </a:lnTo>
                    <a:lnTo>
                      <a:pt x="517" y="1426"/>
                    </a:lnTo>
                    <a:lnTo>
                      <a:pt x="475" y="1379"/>
                    </a:lnTo>
                    <a:lnTo>
                      <a:pt x="434" y="1331"/>
                    </a:lnTo>
                    <a:lnTo>
                      <a:pt x="395" y="1281"/>
                    </a:lnTo>
                    <a:lnTo>
                      <a:pt x="358" y="1230"/>
                    </a:lnTo>
                    <a:lnTo>
                      <a:pt x="323" y="1178"/>
                    </a:lnTo>
                    <a:lnTo>
                      <a:pt x="287" y="1124"/>
                    </a:lnTo>
                    <a:lnTo>
                      <a:pt x="255" y="1070"/>
                    </a:lnTo>
                    <a:lnTo>
                      <a:pt x="224" y="1014"/>
                    </a:lnTo>
                    <a:lnTo>
                      <a:pt x="194" y="957"/>
                    </a:lnTo>
                    <a:lnTo>
                      <a:pt x="166" y="900"/>
                    </a:lnTo>
                    <a:lnTo>
                      <a:pt x="139" y="841"/>
                    </a:lnTo>
                    <a:lnTo>
                      <a:pt x="115" y="781"/>
                    </a:lnTo>
                    <a:lnTo>
                      <a:pt x="92" y="720"/>
                    </a:lnTo>
                    <a:lnTo>
                      <a:pt x="71" y="658"/>
                    </a:lnTo>
                    <a:lnTo>
                      <a:pt x="52" y="595"/>
                    </a:lnTo>
                    <a:lnTo>
                      <a:pt x="34" y="530"/>
                    </a:lnTo>
                    <a:lnTo>
                      <a:pt x="18" y="465"/>
                    </a:lnTo>
                    <a:lnTo>
                      <a:pt x="3" y="394"/>
                    </a:lnTo>
                    <a:lnTo>
                      <a:pt x="0" y="378"/>
                    </a:lnTo>
                    <a:lnTo>
                      <a:pt x="1" y="364"/>
                    </a:lnTo>
                    <a:lnTo>
                      <a:pt x="6" y="353"/>
                    </a:lnTo>
                    <a:lnTo>
                      <a:pt x="11" y="346"/>
                    </a:lnTo>
                    <a:lnTo>
                      <a:pt x="17" y="339"/>
                    </a:lnTo>
                    <a:lnTo>
                      <a:pt x="23" y="336"/>
                    </a:lnTo>
                    <a:lnTo>
                      <a:pt x="29" y="333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16320" y="698400"/>
                <a:ext cx="137880" cy="147600"/>
              </a:xfrm>
              <a:custGeom>
                <a:avLst/>
                <a:gdLst/>
                <a:ahLst/>
                <a:rect l="l" t="t" r="r" b="b"/>
                <a:pathLst>
                  <a:path w="714" h="759">
                    <a:moveTo>
                      <a:pt x="699" y="379"/>
                    </a:moveTo>
                    <a:lnTo>
                      <a:pt x="706" y="375"/>
                    </a:lnTo>
                    <a:lnTo>
                      <a:pt x="710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09" y="351"/>
                    </a:lnTo>
                    <a:lnTo>
                      <a:pt x="705" y="346"/>
                    </a:lnTo>
                    <a:lnTo>
                      <a:pt x="699" y="342"/>
                    </a:lnTo>
                    <a:lnTo>
                      <a:pt x="35" y="4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3" y="11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735"/>
                    </a:lnTo>
                    <a:lnTo>
                      <a:pt x="1" y="743"/>
                    </a:lnTo>
                    <a:lnTo>
                      <a:pt x="3" y="748"/>
                    </a:lnTo>
                    <a:lnTo>
                      <a:pt x="5" y="753"/>
                    </a:lnTo>
                    <a:lnTo>
                      <a:pt x="10" y="757"/>
                    </a:lnTo>
                    <a:lnTo>
                      <a:pt x="15" y="759"/>
                    </a:lnTo>
                    <a:lnTo>
                      <a:pt x="21" y="759"/>
                    </a:lnTo>
                    <a:lnTo>
                      <a:pt x="27" y="758"/>
                    </a:lnTo>
                    <a:lnTo>
                      <a:pt x="34" y="755"/>
                    </a:lnTo>
                    <a:lnTo>
                      <a:pt x="699" y="379"/>
                    </a:lnTo>
                    <a:close/>
                  </a:path>
                </a:pathLst>
              </a:custGeom>
              <a:solidFill>
                <a:srgbClr val="00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95120" y="701640"/>
                <a:ext cx="138240" cy="146160"/>
              </a:xfrm>
              <a:custGeom>
                <a:avLst/>
                <a:gdLst/>
                <a:ahLst/>
                <a:rect l="l" t="t" r="r" b="b"/>
                <a:pathLst>
                  <a:path w="714" h="758">
                    <a:moveTo>
                      <a:pt x="701" y="379"/>
                    </a:moveTo>
                    <a:lnTo>
                      <a:pt x="706" y="374"/>
                    </a:lnTo>
                    <a:lnTo>
                      <a:pt x="711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11" y="350"/>
                    </a:lnTo>
                    <a:lnTo>
                      <a:pt x="706" y="346"/>
                    </a:lnTo>
                    <a:lnTo>
                      <a:pt x="700" y="342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0" y="734"/>
                    </a:lnTo>
                    <a:lnTo>
                      <a:pt x="1" y="742"/>
                    </a:lnTo>
                    <a:lnTo>
                      <a:pt x="3" y="749"/>
                    </a:lnTo>
                    <a:lnTo>
                      <a:pt x="7" y="753"/>
                    </a:lnTo>
                    <a:lnTo>
                      <a:pt x="10" y="756"/>
                    </a:lnTo>
                    <a:lnTo>
                      <a:pt x="15" y="758"/>
                    </a:lnTo>
                    <a:lnTo>
                      <a:pt x="21" y="758"/>
                    </a:lnTo>
                    <a:lnTo>
                      <a:pt x="27" y="757"/>
                    </a:lnTo>
                    <a:lnTo>
                      <a:pt x="34" y="754"/>
                    </a:lnTo>
                    <a:lnTo>
                      <a:pt x="701" y="379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34200" y="517680"/>
                <a:ext cx="180720" cy="250560"/>
              </a:xfrm>
              <a:custGeom>
                <a:avLst/>
                <a:gdLst/>
                <a:ahLst/>
                <a:rect l="l" t="t" r="r" b="b"/>
                <a:pathLst>
                  <a:path w="930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30" y="1293"/>
                    </a:lnTo>
                    <a:lnTo>
                      <a:pt x="713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136160" y="517680"/>
                <a:ext cx="31680" cy="25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15360" y="517680"/>
                <a:ext cx="155520" cy="250560"/>
              </a:xfrm>
              <a:custGeom>
                <a:avLst/>
                <a:gdLst/>
                <a:ahLst/>
                <a:rect l="l" t="t" r="r" b="b"/>
                <a:pathLst>
                  <a:path w="803" h="1293">
                    <a:moveTo>
                      <a:pt x="803" y="1293"/>
                    </a:moveTo>
                    <a:lnTo>
                      <a:pt x="607" y="1293"/>
                    </a:lnTo>
                    <a:lnTo>
                      <a:pt x="228" y="746"/>
                    </a:lnTo>
                    <a:lnTo>
                      <a:pt x="161" y="746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283" y="1"/>
                    </a:lnTo>
                    <a:lnTo>
                      <a:pt x="327" y="4"/>
                    </a:lnTo>
                    <a:lnTo>
                      <a:pt x="370" y="8"/>
                    </a:lnTo>
                    <a:lnTo>
                      <a:pt x="413" y="16"/>
                    </a:lnTo>
                    <a:lnTo>
                      <a:pt x="456" y="27"/>
                    </a:lnTo>
                    <a:lnTo>
                      <a:pt x="497" y="41"/>
                    </a:lnTo>
                    <a:lnTo>
                      <a:pt x="536" y="61"/>
                    </a:lnTo>
                    <a:lnTo>
                      <a:pt x="556" y="73"/>
                    </a:lnTo>
                    <a:lnTo>
                      <a:pt x="574" y="87"/>
                    </a:lnTo>
                    <a:lnTo>
                      <a:pt x="592" y="101"/>
                    </a:lnTo>
                    <a:lnTo>
                      <a:pt x="608" y="118"/>
                    </a:lnTo>
                    <a:lnTo>
                      <a:pt x="623" y="135"/>
                    </a:lnTo>
                    <a:lnTo>
                      <a:pt x="637" y="153"/>
                    </a:lnTo>
                    <a:lnTo>
                      <a:pt x="650" y="173"/>
                    </a:lnTo>
                    <a:lnTo>
                      <a:pt x="661" y="192"/>
                    </a:lnTo>
                    <a:lnTo>
                      <a:pt x="671" y="212"/>
                    </a:lnTo>
                    <a:lnTo>
                      <a:pt x="680" y="233"/>
                    </a:lnTo>
                    <a:lnTo>
                      <a:pt x="694" y="277"/>
                    </a:lnTo>
                    <a:lnTo>
                      <a:pt x="700" y="300"/>
                    </a:lnTo>
                    <a:lnTo>
                      <a:pt x="703" y="323"/>
                    </a:lnTo>
                    <a:lnTo>
                      <a:pt x="705" y="346"/>
                    </a:lnTo>
                    <a:lnTo>
                      <a:pt x="705" y="369"/>
                    </a:lnTo>
                    <a:lnTo>
                      <a:pt x="704" y="403"/>
                    </a:lnTo>
                    <a:lnTo>
                      <a:pt x="700" y="436"/>
                    </a:lnTo>
                    <a:lnTo>
                      <a:pt x="693" y="469"/>
                    </a:lnTo>
                    <a:lnTo>
                      <a:pt x="683" y="500"/>
                    </a:lnTo>
                    <a:lnTo>
                      <a:pt x="671" y="531"/>
                    </a:lnTo>
                    <a:lnTo>
                      <a:pt x="657" y="558"/>
                    </a:lnTo>
                    <a:lnTo>
                      <a:pt x="639" y="585"/>
                    </a:lnTo>
                    <a:lnTo>
                      <a:pt x="621" y="611"/>
                    </a:lnTo>
                    <a:lnTo>
                      <a:pt x="599" y="634"/>
                    </a:lnTo>
                    <a:lnTo>
                      <a:pt x="576" y="655"/>
                    </a:lnTo>
                    <a:lnTo>
                      <a:pt x="550" y="673"/>
                    </a:lnTo>
                    <a:lnTo>
                      <a:pt x="523" y="691"/>
                    </a:lnTo>
                    <a:lnTo>
                      <a:pt x="493" y="704"/>
                    </a:lnTo>
                    <a:lnTo>
                      <a:pt x="463" y="716"/>
                    </a:lnTo>
                    <a:lnTo>
                      <a:pt x="430" y="725"/>
                    </a:lnTo>
                    <a:lnTo>
                      <a:pt x="396" y="730"/>
                    </a:lnTo>
                    <a:lnTo>
                      <a:pt x="803" y="1293"/>
                    </a:lnTo>
                    <a:close/>
                    <a:moveTo>
                      <a:pt x="161" y="612"/>
                    </a:moveTo>
                    <a:lnTo>
                      <a:pt x="213" y="612"/>
                    </a:lnTo>
                    <a:lnTo>
                      <a:pt x="274" y="611"/>
                    </a:lnTo>
                    <a:lnTo>
                      <a:pt x="335" y="604"/>
                    </a:lnTo>
                    <a:lnTo>
                      <a:pt x="365" y="599"/>
                    </a:lnTo>
                    <a:lnTo>
                      <a:pt x="393" y="591"/>
                    </a:lnTo>
                    <a:lnTo>
                      <a:pt x="420" y="582"/>
                    </a:lnTo>
                    <a:lnTo>
                      <a:pt x="445" y="571"/>
                    </a:lnTo>
                    <a:lnTo>
                      <a:pt x="469" y="557"/>
                    </a:lnTo>
                    <a:lnTo>
                      <a:pt x="490" y="540"/>
                    </a:lnTo>
                    <a:lnTo>
                      <a:pt x="509" y="522"/>
                    </a:lnTo>
                    <a:lnTo>
                      <a:pt x="524" y="499"/>
                    </a:lnTo>
                    <a:lnTo>
                      <a:pt x="537" y="473"/>
                    </a:lnTo>
                    <a:lnTo>
                      <a:pt x="547" y="445"/>
                    </a:lnTo>
                    <a:lnTo>
                      <a:pt x="553" y="412"/>
                    </a:lnTo>
                    <a:lnTo>
                      <a:pt x="555" y="376"/>
                    </a:lnTo>
                    <a:lnTo>
                      <a:pt x="553" y="339"/>
                    </a:lnTo>
                    <a:lnTo>
                      <a:pt x="546" y="308"/>
                    </a:lnTo>
                    <a:lnTo>
                      <a:pt x="536" y="279"/>
                    </a:lnTo>
                    <a:lnTo>
                      <a:pt x="523" y="254"/>
                    </a:lnTo>
                    <a:lnTo>
                      <a:pt x="505" y="232"/>
                    </a:lnTo>
                    <a:lnTo>
                      <a:pt x="486" y="213"/>
                    </a:lnTo>
                    <a:lnTo>
                      <a:pt x="464" y="198"/>
                    </a:lnTo>
                    <a:lnTo>
                      <a:pt x="440" y="184"/>
                    </a:lnTo>
                    <a:lnTo>
                      <a:pt x="413" y="173"/>
                    </a:lnTo>
                    <a:lnTo>
                      <a:pt x="385" y="164"/>
                    </a:lnTo>
                    <a:lnTo>
                      <a:pt x="356" y="157"/>
                    </a:lnTo>
                    <a:lnTo>
                      <a:pt x="325" y="152"/>
                    </a:lnTo>
                    <a:lnTo>
                      <a:pt x="296" y="148"/>
                    </a:lnTo>
                    <a:lnTo>
                      <a:pt x="265" y="146"/>
                    </a:lnTo>
                    <a:lnTo>
                      <a:pt x="204" y="144"/>
                    </a:lnTo>
                    <a:lnTo>
                      <a:pt x="161" y="144"/>
                    </a:lnTo>
                    <a:lnTo>
                      <a:pt x="161" y="6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387080" y="5176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929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29" y="1293"/>
                    </a:lnTo>
                    <a:lnTo>
                      <a:pt x="712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923040" y="847800"/>
                <a:ext cx="50760" cy="133200"/>
              </a:xfrm>
              <a:custGeom>
                <a:avLst/>
                <a:gdLst/>
                <a:ahLst/>
                <a:rect l="l" t="t" r="r" b="b"/>
                <a:pathLst>
                  <a:path w="264" h="687">
                    <a:moveTo>
                      <a:pt x="169" y="687"/>
                    </a:moveTo>
                    <a:lnTo>
                      <a:pt x="74" y="687"/>
                    </a:lnTo>
                    <a:lnTo>
                      <a:pt x="74" y="279"/>
                    </a:lnTo>
                    <a:lnTo>
                      <a:pt x="0" y="279"/>
                    </a:lnTo>
                    <a:lnTo>
                      <a:pt x="0" y="190"/>
                    </a:lnTo>
                    <a:lnTo>
                      <a:pt x="74" y="190"/>
                    </a:lnTo>
                    <a:lnTo>
                      <a:pt x="74" y="0"/>
                    </a:lnTo>
                    <a:lnTo>
                      <a:pt x="169" y="0"/>
                    </a:lnTo>
                    <a:lnTo>
                      <a:pt x="169" y="190"/>
                    </a:lnTo>
                    <a:lnTo>
                      <a:pt x="264" y="190"/>
                    </a:lnTo>
                    <a:lnTo>
                      <a:pt x="264" y="279"/>
                    </a:lnTo>
                    <a:lnTo>
                      <a:pt x="169" y="279"/>
                    </a:lnTo>
                    <a:lnTo>
                      <a:pt x="169" y="6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77040" y="882720"/>
                <a:ext cx="9180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5" y="280"/>
                    </a:moveTo>
                    <a:lnTo>
                      <a:pt x="98" y="311"/>
                    </a:lnTo>
                    <a:lnTo>
                      <a:pt x="106" y="341"/>
                    </a:lnTo>
                    <a:lnTo>
                      <a:pt x="119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8" y="415"/>
                    </a:lnTo>
                    <a:lnTo>
                      <a:pt x="170" y="423"/>
                    </a:lnTo>
                    <a:lnTo>
                      <a:pt x="184" y="431"/>
                    </a:lnTo>
                    <a:lnTo>
                      <a:pt x="197" y="437"/>
                    </a:lnTo>
                    <a:lnTo>
                      <a:pt x="213" y="441"/>
                    </a:lnTo>
                    <a:lnTo>
                      <a:pt x="229" y="443"/>
                    </a:lnTo>
                    <a:lnTo>
                      <a:pt x="245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5" y="430"/>
                    </a:lnTo>
                    <a:lnTo>
                      <a:pt x="333" y="418"/>
                    </a:lnTo>
                    <a:lnTo>
                      <a:pt x="351" y="405"/>
                    </a:lnTo>
                    <a:lnTo>
                      <a:pt x="366" y="388"/>
                    </a:lnTo>
                    <a:lnTo>
                      <a:pt x="380" y="368"/>
                    </a:lnTo>
                    <a:lnTo>
                      <a:pt x="394" y="348"/>
                    </a:lnTo>
                    <a:lnTo>
                      <a:pt x="475" y="394"/>
                    </a:lnTo>
                    <a:lnTo>
                      <a:pt x="455" y="424"/>
                    </a:lnTo>
                    <a:lnTo>
                      <a:pt x="433" y="451"/>
                    </a:lnTo>
                    <a:lnTo>
                      <a:pt x="407" y="474"/>
                    </a:lnTo>
                    <a:lnTo>
                      <a:pt x="378" y="494"/>
                    </a:lnTo>
                    <a:lnTo>
                      <a:pt x="347" y="509"/>
                    </a:lnTo>
                    <a:lnTo>
                      <a:pt x="315" y="520"/>
                    </a:lnTo>
                    <a:lnTo>
                      <a:pt x="279" y="528"/>
                    </a:lnTo>
                    <a:lnTo>
                      <a:pt x="244" y="530"/>
                    </a:lnTo>
                    <a:lnTo>
                      <a:pt x="217" y="528"/>
                    </a:lnTo>
                    <a:lnTo>
                      <a:pt x="191" y="524"/>
                    </a:lnTo>
                    <a:lnTo>
                      <a:pt x="165" y="518"/>
                    </a:lnTo>
                    <a:lnTo>
                      <a:pt x="142" y="509"/>
                    </a:lnTo>
                    <a:lnTo>
                      <a:pt x="120" y="498"/>
                    </a:lnTo>
                    <a:lnTo>
                      <a:pt x="101" y="485"/>
                    </a:lnTo>
                    <a:lnTo>
                      <a:pt x="82" y="471"/>
                    </a:lnTo>
                    <a:lnTo>
                      <a:pt x="66" y="454"/>
                    </a:lnTo>
                    <a:lnTo>
                      <a:pt x="50" y="435"/>
                    </a:lnTo>
                    <a:lnTo>
                      <a:pt x="37" y="416"/>
                    </a:lnTo>
                    <a:lnTo>
                      <a:pt x="26" y="394"/>
                    </a:lnTo>
                    <a:lnTo>
                      <a:pt x="16" y="371"/>
                    </a:lnTo>
                    <a:lnTo>
                      <a:pt x="10" y="346"/>
                    </a:lnTo>
                    <a:lnTo>
                      <a:pt x="4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4" y="213"/>
                    </a:lnTo>
                    <a:lnTo>
                      <a:pt x="9" y="186"/>
                    </a:lnTo>
                    <a:lnTo>
                      <a:pt x="15" y="161"/>
                    </a:lnTo>
                    <a:lnTo>
                      <a:pt x="24" y="138"/>
                    </a:lnTo>
                    <a:lnTo>
                      <a:pt x="34" y="116"/>
                    </a:lnTo>
                    <a:lnTo>
                      <a:pt x="47" y="95"/>
                    </a:lnTo>
                    <a:lnTo>
                      <a:pt x="61" y="76"/>
                    </a:lnTo>
                    <a:lnTo>
                      <a:pt x="77" y="60"/>
                    </a:lnTo>
                    <a:lnTo>
                      <a:pt x="95" y="45"/>
                    </a:lnTo>
                    <a:lnTo>
                      <a:pt x="115" y="31"/>
                    </a:lnTo>
                    <a:lnTo>
                      <a:pt x="137" y="20"/>
                    </a:lnTo>
                    <a:lnTo>
                      <a:pt x="160" y="12"/>
                    </a:lnTo>
                    <a:lnTo>
                      <a:pt x="185" y="5"/>
                    </a:lnTo>
                    <a:lnTo>
                      <a:pt x="213" y="2"/>
                    </a:lnTo>
                    <a:lnTo>
                      <a:pt x="242" y="0"/>
                    </a:lnTo>
                    <a:lnTo>
                      <a:pt x="271" y="2"/>
                    </a:lnTo>
                    <a:lnTo>
                      <a:pt x="297" y="5"/>
                    </a:lnTo>
                    <a:lnTo>
                      <a:pt x="322" y="12"/>
                    </a:lnTo>
                    <a:lnTo>
                      <a:pt x="345" y="20"/>
                    </a:lnTo>
                    <a:lnTo>
                      <a:pt x="366" y="31"/>
                    </a:lnTo>
                    <a:lnTo>
                      <a:pt x="385" y="45"/>
                    </a:lnTo>
                    <a:lnTo>
                      <a:pt x="402" y="60"/>
                    </a:lnTo>
                    <a:lnTo>
                      <a:pt x="418" y="76"/>
                    </a:lnTo>
                    <a:lnTo>
                      <a:pt x="431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0" y="161"/>
                    </a:lnTo>
                    <a:lnTo>
                      <a:pt x="467" y="185"/>
                    </a:lnTo>
                    <a:lnTo>
                      <a:pt x="471" y="210"/>
                    </a:lnTo>
                    <a:lnTo>
                      <a:pt x="474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5" y="280"/>
                    </a:lnTo>
                    <a:close/>
                    <a:moveTo>
                      <a:pt x="379" y="207"/>
                    </a:moveTo>
                    <a:lnTo>
                      <a:pt x="373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5" y="117"/>
                    </a:lnTo>
                    <a:lnTo>
                      <a:pt x="316" y="103"/>
                    </a:lnTo>
                    <a:lnTo>
                      <a:pt x="294" y="92"/>
                    </a:lnTo>
                    <a:lnTo>
                      <a:pt x="270" y="85"/>
                    </a:lnTo>
                    <a:lnTo>
                      <a:pt x="242" y="83"/>
                    </a:lnTo>
                    <a:lnTo>
                      <a:pt x="215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1" y="137"/>
                    </a:lnTo>
                    <a:lnTo>
                      <a:pt x="117" y="158"/>
                    </a:lnTo>
                    <a:lnTo>
                      <a:pt x="107" y="182"/>
                    </a:lnTo>
                    <a:lnTo>
                      <a:pt x="101" y="207"/>
                    </a:lnTo>
                    <a:lnTo>
                      <a:pt x="379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086480" y="846000"/>
                <a:ext cx="1908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118520" y="882720"/>
                <a:ext cx="9216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7" y="280"/>
                    </a:moveTo>
                    <a:lnTo>
                      <a:pt x="99" y="311"/>
                    </a:lnTo>
                    <a:lnTo>
                      <a:pt x="108" y="341"/>
                    </a:lnTo>
                    <a:lnTo>
                      <a:pt x="120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9" y="415"/>
                    </a:lnTo>
                    <a:lnTo>
                      <a:pt x="171" y="423"/>
                    </a:lnTo>
                    <a:lnTo>
                      <a:pt x="185" y="431"/>
                    </a:lnTo>
                    <a:lnTo>
                      <a:pt x="199" y="437"/>
                    </a:lnTo>
                    <a:lnTo>
                      <a:pt x="213" y="441"/>
                    </a:lnTo>
                    <a:lnTo>
                      <a:pt x="230" y="443"/>
                    </a:lnTo>
                    <a:lnTo>
                      <a:pt x="246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6" y="430"/>
                    </a:lnTo>
                    <a:lnTo>
                      <a:pt x="335" y="418"/>
                    </a:lnTo>
                    <a:lnTo>
                      <a:pt x="351" y="405"/>
                    </a:lnTo>
                    <a:lnTo>
                      <a:pt x="367" y="388"/>
                    </a:lnTo>
                    <a:lnTo>
                      <a:pt x="381" y="368"/>
                    </a:lnTo>
                    <a:lnTo>
                      <a:pt x="395" y="348"/>
                    </a:lnTo>
                    <a:lnTo>
                      <a:pt x="475" y="394"/>
                    </a:lnTo>
                    <a:lnTo>
                      <a:pt x="457" y="424"/>
                    </a:lnTo>
                    <a:lnTo>
                      <a:pt x="434" y="451"/>
                    </a:lnTo>
                    <a:lnTo>
                      <a:pt x="407" y="474"/>
                    </a:lnTo>
                    <a:lnTo>
                      <a:pt x="379" y="494"/>
                    </a:lnTo>
                    <a:lnTo>
                      <a:pt x="348" y="509"/>
                    </a:lnTo>
                    <a:lnTo>
                      <a:pt x="315" y="520"/>
                    </a:lnTo>
                    <a:lnTo>
                      <a:pt x="281" y="528"/>
                    </a:lnTo>
                    <a:lnTo>
                      <a:pt x="245" y="530"/>
                    </a:lnTo>
                    <a:lnTo>
                      <a:pt x="218" y="528"/>
                    </a:lnTo>
                    <a:lnTo>
                      <a:pt x="191" y="524"/>
                    </a:lnTo>
                    <a:lnTo>
                      <a:pt x="166" y="518"/>
                    </a:lnTo>
                    <a:lnTo>
                      <a:pt x="143" y="509"/>
                    </a:lnTo>
                    <a:lnTo>
                      <a:pt x="121" y="498"/>
                    </a:lnTo>
                    <a:lnTo>
                      <a:pt x="101" y="485"/>
                    </a:lnTo>
                    <a:lnTo>
                      <a:pt x="83" y="471"/>
                    </a:lnTo>
                    <a:lnTo>
                      <a:pt x="66" y="454"/>
                    </a:lnTo>
                    <a:lnTo>
                      <a:pt x="51" y="435"/>
                    </a:lnTo>
                    <a:lnTo>
                      <a:pt x="38" y="416"/>
                    </a:lnTo>
                    <a:lnTo>
                      <a:pt x="27" y="394"/>
                    </a:lnTo>
                    <a:lnTo>
                      <a:pt x="18" y="371"/>
                    </a:lnTo>
                    <a:lnTo>
                      <a:pt x="10" y="346"/>
                    </a:lnTo>
                    <a:lnTo>
                      <a:pt x="5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5" y="213"/>
                    </a:lnTo>
                    <a:lnTo>
                      <a:pt x="9" y="186"/>
                    </a:lnTo>
                    <a:lnTo>
                      <a:pt x="16" y="161"/>
                    </a:lnTo>
                    <a:lnTo>
                      <a:pt x="24" y="138"/>
                    </a:lnTo>
                    <a:lnTo>
                      <a:pt x="35" y="116"/>
                    </a:lnTo>
                    <a:lnTo>
                      <a:pt x="48" y="95"/>
                    </a:lnTo>
                    <a:lnTo>
                      <a:pt x="62" y="76"/>
                    </a:lnTo>
                    <a:lnTo>
                      <a:pt x="78" y="60"/>
                    </a:lnTo>
                    <a:lnTo>
                      <a:pt x="96" y="45"/>
                    </a:lnTo>
                    <a:lnTo>
                      <a:pt x="116" y="31"/>
                    </a:lnTo>
                    <a:lnTo>
                      <a:pt x="137" y="20"/>
                    </a:lnTo>
                    <a:lnTo>
                      <a:pt x="162" y="12"/>
                    </a:lnTo>
                    <a:lnTo>
                      <a:pt x="187" y="5"/>
                    </a:lnTo>
                    <a:lnTo>
                      <a:pt x="214" y="2"/>
                    </a:lnTo>
                    <a:lnTo>
                      <a:pt x="243" y="0"/>
                    </a:lnTo>
                    <a:lnTo>
                      <a:pt x="271" y="2"/>
                    </a:lnTo>
                    <a:lnTo>
                      <a:pt x="299" y="5"/>
                    </a:lnTo>
                    <a:lnTo>
                      <a:pt x="323" y="12"/>
                    </a:lnTo>
                    <a:lnTo>
                      <a:pt x="346" y="20"/>
                    </a:lnTo>
                    <a:lnTo>
                      <a:pt x="367" y="31"/>
                    </a:lnTo>
                    <a:lnTo>
                      <a:pt x="386" y="45"/>
                    </a:lnTo>
                    <a:lnTo>
                      <a:pt x="403" y="60"/>
                    </a:lnTo>
                    <a:lnTo>
                      <a:pt x="418" y="76"/>
                    </a:lnTo>
                    <a:lnTo>
                      <a:pt x="432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1" y="161"/>
                    </a:lnTo>
                    <a:lnTo>
                      <a:pt x="468" y="185"/>
                    </a:lnTo>
                    <a:lnTo>
                      <a:pt x="472" y="210"/>
                    </a:lnTo>
                    <a:lnTo>
                      <a:pt x="475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7" y="280"/>
                    </a:lnTo>
                    <a:close/>
                    <a:moveTo>
                      <a:pt x="380" y="207"/>
                    </a:moveTo>
                    <a:lnTo>
                      <a:pt x="374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6" y="117"/>
                    </a:lnTo>
                    <a:lnTo>
                      <a:pt x="317" y="103"/>
                    </a:lnTo>
                    <a:lnTo>
                      <a:pt x="295" y="92"/>
                    </a:lnTo>
                    <a:lnTo>
                      <a:pt x="270" y="85"/>
                    </a:lnTo>
                    <a:lnTo>
                      <a:pt x="243" y="83"/>
                    </a:lnTo>
                    <a:lnTo>
                      <a:pt x="216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2" y="137"/>
                    </a:lnTo>
                    <a:lnTo>
                      <a:pt x="119" y="158"/>
                    </a:lnTo>
                    <a:lnTo>
                      <a:pt x="108" y="182"/>
                    </a:lnTo>
                    <a:lnTo>
                      <a:pt x="101" y="207"/>
                    </a:lnTo>
                    <a:lnTo>
                      <a:pt x="380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225080" y="882720"/>
                <a:ext cx="77760" cy="101520"/>
              </a:xfrm>
              <a:custGeom>
                <a:avLst/>
                <a:gdLst/>
                <a:ahLst/>
                <a:rect l="l" t="t" r="r" b="b"/>
                <a:pathLst>
                  <a:path w="404" h="530">
                    <a:moveTo>
                      <a:pt x="404" y="157"/>
                    </a:moveTo>
                    <a:lnTo>
                      <a:pt x="389" y="141"/>
                    </a:lnTo>
                    <a:lnTo>
                      <a:pt x="373" y="127"/>
                    </a:lnTo>
                    <a:lnTo>
                      <a:pt x="358" y="116"/>
                    </a:lnTo>
                    <a:lnTo>
                      <a:pt x="340" y="106"/>
                    </a:lnTo>
                    <a:lnTo>
                      <a:pt x="321" y="99"/>
                    </a:lnTo>
                    <a:lnTo>
                      <a:pt x="303" y="94"/>
                    </a:lnTo>
                    <a:lnTo>
                      <a:pt x="283" y="91"/>
                    </a:lnTo>
                    <a:lnTo>
                      <a:pt x="261" y="90"/>
                    </a:lnTo>
                    <a:lnTo>
                      <a:pt x="245" y="91"/>
                    </a:lnTo>
                    <a:lnTo>
                      <a:pt x="227" y="93"/>
                    </a:lnTo>
                    <a:lnTo>
                      <a:pt x="212" y="97"/>
                    </a:lnTo>
                    <a:lnTo>
                      <a:pt x="196" y="104"/>
                    </a:lnTo>
                    <a:lnTo>
                      <a:pt x="182" y="112"/>
                    </a:lnTo>
                    <a:lnTo>
                      <a:pt x="168" y="120"/>
                    </a:lnTo>
                    <a:lnTo>
                      <a:pt x="156" y="130"/>
                    </a:lnTo>
                    <a:lnTo>
                      <a:pt x="144" y="142"/>
                    </a:lnTo>
                    <a:lnTo>
                      <a:pt x="133" y="154"/>
                    </a:lnTo>
                    <a:lnTo>
                      <a:pt x="124" y="169"/>
                    </a:lnTo>
                    <a:lnTo>
                      <a:pt x="115" y="183"/>
                    </a:lnTo>
                    <a:lnTo>
                      <a:pt x="109" y="198"/>
                    </a:lnTo>
                    <a:lnTo>
                      <a:pt x="103" y="214"/>
                    </a:lnTo>
                    <a:lnTo>
                      <a:pt x="99" y="230"/>
                    </a:lnTo>
                    <a:lnTo>
                      <a:pt x="97" y="247"/>
                    </a:lnTo>
                    <a:lnTo>
                      <a:pt x="96" y="264"/>
                    </a:lnTo>
                    <a:lnTo>
                      <a:pt x="97" y="283"/>
                    </a:lnTo>
                    <a:lnTo>
                      <a:pt x="99" y="300"/>
                    </a:lnTo>
                    <a:lnTo>
                      <a:pt x="103" y="318"/>
                    </a:lnTo>
                    <a:lnTo>
                      <a:pt x="109" y="334"/>
                    </a:lnTo>
                    <a:lnTo>
                      <a:pt x="115" y="350"/>
                    </a:lnTo>
                    <a:lnTo>
                      <a:pt x="124" y="364"/>
                    </a:lnTo>
                    <a:lnTo>
                      <a:pt x="133" y="378"/>
                    </a:lnTo>
                    <a:lnTo>
                      <a:pt x="144" y="390"/>
                    </a:lnTo>
                    <a:lnTo>
                      <a:pt x="156" y="401"/>
                    </a:lnTo>
                    <a:lnTo>
                      <a:pt x="169" y="411"/>
                    </a:lnTo>
                    <a:lnTo>
                      <a:pt x="183" y="420"/>
                    </a:lnTo>
                    <a:lnTo>
                      <a:pt x="199" y="427"/>
                    </a:lnTo>
                    <a:lnTo>
                      <a:pt x="215" y="432"/>
                    </a:lnTo>
                    <a:lnTo>
                      <a:pt x="232" y="437"/>
                    </a:lnTo>
                    <a:lnTo>
                      <a:pt x="249" y="439"/>
                    </a:lnTo>
                    <a:lnTo>
                      <a:pt x="268" y="440"/>
                    </a:lnTo>
                    <a:lnTo>
                      <a:pt x="289" y="439"/>
                    </a:lnTo>
                    <a:lnTo>
                      <a:pt x="307" y="435"/>
                    </a:lnTo>
                    <a:lnTo>
                      <a:pt x="326" y="430"/>
                    </a:lnTo>
                    <a:lnTo>
                      <a:pt x="343" y="422"/>
                    </a:lnTo>
                    <a:lnTo>
                      <a:pt x="360" y="412"/>
                    </a:lnTo>
                    <a:lnTo>
                      <a:pt x="375" y="401"/>
                    </a:lnTo>
                    <a:lnTo>
                      <a:pt x="389" y="388"/>
                    </a:lnTo>
                    <a:lnTo>
                      <a:pt x="404" y="374"/>
                    </a:lnTo>
                    <a:lnTo>
                      <a:pt x="404" y="497"/>
                    </a:lnTo>
                    <a:lnTo>
                      <a:pt x="371" y="511"/>
                    </a:lnTo>
                    <a:lnTo>
                      <a:pt x="338" y="522"/>
                    </a:lnTo>
                    <a:lnTo>
                      <a:pt x="303" y="528"/>
                    </a:lnTo>
                    <a:lnTo>
                      <a:pt x="267" y="530"/>
                    </a:lnTo>
                    <a:lnTo>
                      <a:pt x="239" y="528"/>
                    </a:lnTo>
                    <a:lnTo>
                      <a:pt x="213" y="524"/>
                    </a:lnTo>
                    <a:lnTo>
                      <a:pt x="188" y="518"/>
                    </a:lnTo>
                    <a:lnTo>
                      <a:pt x="164" y="509"/>
                    </a:lnTo>
                    <a:lnTo>
                      <a:pt x="140" y="499"/>
                    </a:lnTo>
                    <a:lnTo>
                      <a:pt x="119" y="486"/>
                    </a:lnTo>
                    <a:lnTo>
                      <a:pt x="98" y="472"/>
                    </a:lnTo>
                    <a:lnTo>
                      <a:pt x="79" y="454"/>
                    </a:lnTo>
                    <a:lnTo>
                      <a:pt x="62" y="437"/>
                    </a:lnTo>
                    <a:lnTo>
                      <a:pt x="46" y="416"/>
                    </a:lnTo>
                    <a:lnTo>
                      <a:pt x="33" y="395"/>
                    </a:lnTo>
                    <a:lnTo>
                      <a:pt x="21" y="372"/>
                    </a:lnTo>
                    <a:lnTo>
                      <a:pt x="12" y="348"/>
                    </a:lnTo>
                    <a:lnTo>
                      <a:pt x="6" y="322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6" y="213"/>
                    </a:lnTo>
                    <a:lnTo>
                      <a:pt x="12" y="186"/>
                    </a:lnTo>
                    <a:lnTo>
                      <a:pt x="21" y="161"/>
                    </a:lnTo>
                    <a:lnTo>
                      <a:pt x="33" y="138"/>
                    </a:lnTo>
                    <a:lnTo>
                      <a:pt x="46" y="115"/>
                    </a:lnTo>
                    <a:lnTo>
                      <a:pt x="62" y="95"/>
                    </a:lnTo>
                    <a:lnTo>
                      <a:pt x="79" y="76"/>
                    </a:lnTo>
                    <a:lnTo>
                      <a:pt x="98" y="59"/>
                    </a:lnTo>
                    <a:lnTo>
                      <a:pt x="119" y="45"/>
                    </a:lnTo>
                    <a:lnTo>
                      <a:pt x="142" y="31"/>
                    </a:lnTo>
                    <a:lnTo>
                      <a:pt x="165" y="20"/>
                    </a:lnTo>
                    <a:lnTo>
                      <a:pt x="190" y="12"/>
                    </a:lnTo>
                    <a:lnTo>
                      <a:pt x="216" y="5"/>
                    </a:lnTo>
                    <a:lnTo>
                      <a:pt x="244" y="2"/>
                    </a:lnTo>
                    <a:lnTo>
                      <a:pt x="272" y="0"/>
                    </a:lnTo>
                    <a:lnTo>
                      <a:pt x="306" y="2"/>
                    </a:lnTo>
                    <a:lnTo>
                      <a:pt x="340" y="8"/>
                    </a:lnTo>
                    <a:lnTo>
                      <a:pt x="373" y="18"/>
                    </a:lnTo>
                    <a:lnTo>
                      <a:pt x="404" y="32"/>
                    </a:lnTo>
                    <a:lnTo>
                      <a:pt x="404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314000" y="882720"/>
                <a:ext cx="102960" cy="101520"/>
              </a:xfrm>
              <a:custGeom>
                <a:avLst/>
                <a:gdLst/>
                <a:ahLst/>
                <a:rect l="l" t="t" r="r" b="b"/>
                <a:pathLst>
                  <a:path w="532" h="530">
                    <a:moveTo>
                      <a:pt x="532" y="264"/>
                    </a:moveTo>
                    <a:lnTo>
                      <a:pt x="530" y="293"/>
                    </a:lnTo>
                    <a:lnTo>
                      <a:pt x="527" y="319"/>
                    </a:lnTo>
                    <a:lnTo>
                      <a:pt x="520" y="344"/>
                    </a:lnTo>
                    <a:lnTo>
                      <a:pt x="511" y="370"/>
                    </a:lnTo>
                    <a:lnTo>
                      <a:pt x="501" y="393"/>
                    </a:lnTo>
                    <a:lnTo>
                      <a:pt x="487" y="415"/>
                    </a:lnTo>
                    <a:lnTo>
                      <a:pt x="472" y="434"/>
                    </a:lnTo>
                    <a:lnTo>
                      <a:pt x="454" y="453"/>
                    </a:lnTo>
                    <a:lnTo>
                      <a:pt x="436" y="471"/>
                    </a:lnTo>
                    <a:lnTo>
                      <a:pt x="416" y="485"/>
                    </a:lnTo>
                    <a:lnTo>
                      <a:pt x="394" y="498"/>
                    </a:lnTo>
                    <a:lnTo>
                      <a:pt x="370" y="509"/>
                    </a:lnTo>
                    <a:lnTo>
                      <a:pt x="346" y="518"/>
                    </a:lnTo>
                    <a:lnTo>
                      <a:pt x="321" y="524"/>
                    </a:lnTo>
                    <a:lnTo>
                      <a:pt x="293" y="528"/>
                    </a:lnTo>
                    <a:lnTo>
                      <a:pt x="266" y="530"/>
                    </a:lnTo>
                    <a:lnTo>
                      <a:pt x="238" y="528"/>
                    </a:lnTo>
                    <a:lnTo>
                      <a:pt x="212" y="524"/>
                    </a:lnTo>
                    <a:lnTo>
                      <a:pt x="187" y="518"/>
                    </a:lnTo>
                    <a:lnTo>
                      <a:pt x="162" y="509"/>
                    </a:lnTo>
                    <a:lnTo>
                      <a:pt x="139" y="498"/>
                    </a:lnTo>
                    <a:lnTo>
                      <a:pt x="117" y="485"/>
                    </a:lnTo>
                    <a:lnTo>
                      <a:pt x="97" y="471"/>
                    </a:lnTo>
                    <a:lnTo>
                      <a:pt x="78" y="453"/>
                    </a:lnTo>
                    <a:lnTo>
                      <a:pt x="61" y="434"/>
                    </a:lnTo>
                    <a:lnTo>
                      <a:pt x="45" y="415"/>
                    </a:lnTo>
                    <a:lnTo>
                      <a:pt x="32" y="393"/>
                    </a:lnTo>
                    <a:lnTo>
                      <a:pt x="21" y="370"/>
                    </a:lnTo>
                    <a:lnTo>
                      <a:pt x="12" y="344"/>
                    </a:lnTo>
                    <a:lnTo>
                      <a:pt x="6" y="319"/>
                    </a:lnTo>
                    <a:lnTo>
                      <a:pt x="3" y="293"/>
                    </a:lnTo>
                    <a:lnTo>
                      <a:pt x="0" y="264"/>
                    </a:lnTo>
                    <a:lnTo>
                      <a:pt x="3" y="237"/>
                    </a:lnTo>
                    <a:lnTo>
                      <a:pt x="6" y="210"/>
                    </a:lnTo>
                    <a:lnTo>
                      <a:pt x="12" y="185"/>
                    </a:lnTo>
                    <a:lnTo>
                      <a:pt x="21" y="160"/>
                    </a:lnTo>
                    <a:lnTo>
                      <a:pt x="32" y="137"/>
                    </a:lnTo>
                    <a:lnTo>
                      <a:pt x="45" y="115"/>
                    </a:lnTo>
                    <a:lnTo>
                      <a:pt x="61" y="95"/>
                    </a:lnTo>
                    <a:lnTo>
                      <a:pt x="78" y="76"/>
                    </a:lnTo>
                    <a:lnTo>
                      <a:pt x="97" y="59"/>
                    </a:lnTo>
                    <a:lnTo>
                      <a:pt x="117" y="45"/>
                    </a:lnTo>
                    <a:lnTo>
                      <a:pt x="139" y="31"/>
                    </a:lnTo>
                    <a:lnTo>
                      <a:pt x="162" y="20"/>
                    </a:lnTo>
                    <a:lnTo>
                      <a:pt x="187" y="12"/>
                    </a:lnTo>
                    <a:lnTo>
                      <a:pt x="212" y="5"/>
                    </a:lnTo>
                    <a:lnTo>
                      <a:pt x="238" y="2"/>
                    </a:lnTo>
                    <a:lnTo>
                      <a:pt x="266" y="0"/>
                    </a:lnTo>
                    <a:lnTo>
                      <a:pt x="293" y="2"/>
                    </a:lnTo>
                    <a:lnTo>
                      <a:pt x="321" y="5"/>
                    </a:lnTo>
                    <a:lnTo>
                      <a:pt x="346" y="12"/>
                    </a:lnTo>
                    <a:lnTo>
                      <a:pt x="370" y="20"/>
                    </a:lnTo>
                    <a:lnTo>
                      <a:pt x="394" y="31"/>
                    </a:lnTo>
                    <a:lnTo>
                      <a:pt x="416" y="45"/>
                    </a:lnTo>
                    <a:lnTo>
                      <a:pt x="436" y="59"/>
                    </a:lnTo>
                    <a:lnTo>
                      <a:pt x="454" y="76"/>
                    </a:lnTo>
                    <a:lnTo>
                      <a:pt x="472" y="95"/>
                    </a:lnTo>
                    <a:lnTo>
                      <a:pt x="487" y="115"/>
                    </a:lnTo>
                    <a:lnTo>
                      <a:pt x="501" y="137"/>
                    </a:lnTo>
                    <a:lnTo>
                      <a:pt x="511" y="160"/>
                    </a:lnTo>
                    <a:lnTo>
                      <a:pt x="520" y="185"/>
                    </a:lnTo>
                    <a:lnTo>
                      <a:pt x="527" y="210"/>
                    </a:lnTo>
                    <a:lnTo>
                      <a:pt x="530" y="237"/>
                    </a:lnTo>
                    <a:lnTo>
                      <a:pt x="532" y="264"/>
                    </a:lnTo>
                    <a:close/>
                    <a:moveTo>
                      <a:pt x="96" y="264"/>
                    </a:moveTo>
                    <a:lnTo>
                      <a:pt x="97" y="282"/>
                    </a:lnTo>
                    <a:lnTo>
                      <a:pt x="100" y="299"/>
                    </a:lnTo>
                    <a:lnTo>
                      <a:pt x="103" y="316"/>
                    </a:lnTo>
                    <a:lnTo>
                      <a:pt x="110" y="331"/>
                    </a:lnTo>
                    <a:lnTo>
                      <a:pt x="117" y="346"/>
                    </a:lnTo>
                    <a:lnTo>
                      <a:pt x="125" y="361"/>
                    </a:lnTo>
                    <a:lnTo>
                      <a:pt x="135" y="374"/>
                    </a:lnTo>
                    <a:lnTo>
                      <a:pt x="146" y="386"/>
                    </a:lnTo>
                    <a:lnTo>
                      <a:pt x="158" y="398"/>
                    </a:lnTo>
                    <a:lnTo>
                      <a:pt x="171" y="408"/>
                    </a:lnTo>
                    <a:lnTo>
                      <a:pt x="185" y="417"/>
                    </a:lnTo>
                    <a:lnTo>
                      <a:pt x="200" y="424"/>
                    </a:lnTo>
                    <a:lnTo>
                      <a:pt x="215" y="430"/>
                    </a:lnTo>
                    <a:lnTo>
                      <a:pt x="232" y="434"/>
                    </a:lnTo>
                    <a:lnTo>
                      <a:pt x="248" y="437"/>
                    </a:lnTo>
                    <a:lnTo>
                      <a:pt x="266" y="438"/>
                    </a:lnTo>
                    <a:lnTo>
                      <a:pt x="283" y="437"/>
                    </a:lnTo>
                    <a:lnTo>
                      <a:pt x="301" y="434"/>
                    </a:lnTo>
                    <a:lnTo>
                      <a:pt x="317" y="430"/>
                    </a:lnTo>
                    <a:lnTo>
                      <a:pt x="333" y="424"/>
                    </a:lnTo>
                    <a:lnTo>
                      <a:pt x="348" y="417"/>
                    </a:lnTo>
                    <a:lnTo>
                      <a:pt x="361" y="408"/>
                    </a:lnTo>
                    <a:lnTo>
                      <a:pt x="374" y="398"/>
                    </a:lnTo>
                    <a:lnTo>
                      <a:pt x="386" y="386"/>
                    </a:lnTo>
                    <a:lnTo>
                      <a:pt x="397" y="374"/>
                    </a:lnTo>
                    <a:lnTo>
                      <a:pt x="407" y="361"/>
                    </a:lnTo>
                    <a:lnTo>
                      <a:pt x="416" y="346"/>
                    </a:lnTo>
                    <a:lnTo>
                      <a:pt x="423" y="331"/>
                    </a:lnTo>
                    <a:lnTo>
                      <a:pt x="428" y="316"/>
                    </a:lnTo>
                    <a:lnTo>
                      <a:pt x="433" y="299"/>
                    </a:lnTo>
                    <a:lnTo>
                      <a:pt x="436" y="282"/>
                    </a:lnTo>
                    <a:lnTo>
                      <a:pt x="436" y="264"/>
                    </a:lnTo>
                    <a:lnTo>
                      <a:pt x="436" y="248"/>
                    </a:lnTo>
                    <a:lnTo>
                      <a:pt x="433" y="230"/>
                    </a:lnTo>
                    <a:lnTo>
                      <a:pt x="428" y="214"/>
                    </a:lnTo>
                    <a:lnTo>
                      <a:pt x="423" y="197"/>
                    </a:lnTo>
                    <a:lnTo>
                      <a:pt x="416" y="183"/>
                    </a:lnTo>
                    <a:lnTo>
                      <a:pt x="407" y="169"/>
                    </a:lnTo>
                    <a:lnTo>
                      <a:pt x="397" y="154"/>
                    </a:lnTo>
                    <a:lnTo>
                      <a:pt x="386" y="142"/>
                    </a:lnTo>
                    <a:lnTo>
                      <a:pt x="374" y="131"/>
                    </a:lnTo>
                    <a:lnTo>
                      <a:pt x="361" y="121"/>
                    </a:lnTo>
                    <a:lnTo>
                      <a:pt x="348" y="113"/>
                    </a:lnTo>
                    <a:lnTo>
                      <a:pt x="333" y="105"/>
                    </a:lnTo>
                    <a:lnTo>
                      <a:pt x="317" y="99"/>
                    </a:lnTo>
                    <a:lnTo>
                      <a:pt x="301" y="95"/>
                    </a:lnTo>
                    <a:lnTo>
                      <a:pt x="283" y="92"/>
                    </a:lnTo>
                    <a:lnTo>
                      <a:pt x="266" y="92"/>
                    </a:lnTo>
                    <a:lnTo>
                      <a:pt x="248" y="92"/>
                    </a:lnTo>
                    <a:lnTo>
                      <a:pt x="232" y="95"/>
                    </a:lnTo>
                    <a:lnTo>
                      <a:pt x="215" y="99"/>
                    </a:lnTo>
                    <a:lnTo>
                      <a:pt x="200" y="105"/>
                    </a:lnTo>
                    <a:lnTo>
                      <a:pt x="185" y="113"/>
                    </a:lnTo>
                    <a:lnTo>
                      <a:pt x="171" y="121"/>
                    </a:lnTo>
                    <a:lnTo>
                      <a:pt x="158" y="131"/>
                    </a:lnTo>
                    <a:lnTo>
                      <a:pt x="146" y="142"/>
                    </a:lnTo>
                    <a:lnTo>
                      <a:pt x="135" y="154"/>
                    </a:lnTo>
                    <a:lnTo>
                      <a:pt x="125" y="169"/>
                    </a:lnTo>
                    <a:lnTo>
                      <a:pt x="117" y="183"/>
                    </a:lnTo>
                    <a:lnTo>
                      <a:pt x="110" y="197"/>
                    </a:lnTo>
                    <a:lnTo>
                      <a:pt x="103" y="214"/>
                    </a:lnTo>
                    <a:lnTo>
                      <a:pt x="100" y="230"/>
                    </a:lnTo>
                    <a:lnTo>
                      <a:pt x="97" y="248"/>
                    </a:lnTo>
                    <a:lnTo>
                      <a:pt x="96" y="2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430280" y="882720"/>
                <a:ext cx="133200" cy="98280"/>
              </a:xfrm>
              <a:custGeom>
                <a:avLst/>
                <a:gdLst/>
                <a:ahLst/>
                <a:rect l="l" t="t" r="r" b="b"/>
                <a:pathLst>
                  <a:path w="690" h="512">
                    <a:moveTo>
                      <a:pt x="96" y="77"/>
                    </a:moveTo>
                    <a:lnTo>
                      <a:pt x="98" y="77"/>
                    </a:lnTo>
                    <a:lnTo>
                      <a:pt x="109" y="62"/>
                    </a:lnTo>
                    <a:lnTo>
                      <a:pt x="122" y="47"/>
                    </a:lnTo>
                    <a:lnTo>
                      <a:pt x="137" y="34"/>
                    </a:lnTo>
                    <a:lnTo>
                      <a:pt x="154" y="23"/>
                    </a:lnTo>
                    <a:lnTo>
                      <a:pt x="171" y="13"/>
                    </a:lnTo>
                    <a:lnTo>
                      <a:pt x="190" y="6"/>
                    </a:lnTo>
                    <a:lnTo>
                      <a:pt x="210" y="2"/>
                    </a:lnTo>
                    <a:lnTo>
                      <a:pt x="229" y="0"/>
                    </a:lnTo>
                    <a:lnTo>
                      <a:pt x="253" y="2"/>
                    </a:lnTo>
                    <a:lnTo>
                      <a:pt x="274" y="6"/>
                    </a:lnTo>
                    <a:lnTo>
                      <a:pt x="295" y="13"/>
                    </a:lnTo>
                    <a:lnTo>
                      <a:pt x="314" y="24"/>
                    </a:lnTo>
                    <a:lnTo>
                      <a:pt x="330" y="36"/>
                    </a:lnTo>
                    <a:lnTo>
                      <a:pt x="346" y="51"/>
                    </a:lnTo>
                    <a:lnTo>
                      <a:pt x="360" y="69"/>
                    </a:lnTo>
                    <a:lnTo>
                      <a:pt x="373" y="88"/>
                    </a:lnTo>
                    <a:lnTo>
                      <a:pt x="385" y="69"/>
                    </a:lnTo>
                    <a:lnTo>
                      <a:pt x="401" y="52"/>
                    </a:lnTo>
                    <a:lnTo>
                      <a:pt x="418" y="37"/>
                    </a:lnTo>
                    <a:lnTo>
                      <a:pt x="438" y="24"/>
                    </a:lnTo>
                    <a:lnTo>
                      <a:pt x="458" y="14"/>
                    </a:lnTo>
                    <a:lnTo>
                      <a:pt x="480" y="6"/>
                    </a:lnTo>
                    <a:lnTo>
                      <a:pt x="503" y="2"/>
                    </a:lnTo>
                    <a:lnTo>
                      <a:pt x="526" y="0"/>
                    </a:lnTo>
                    <a:lnTo>
                      <a:pt x="550" y="1"/>
                    </a:lnTo>
                    <a:lnTo>
                      <a:pt x="571" y="5"/>
                    </a:lnTo>
                    <a:lnTo>
                      <a:pt x="589" y="11"/>
                    </a:lnTo>
                    <a:lnTo>
                      <a:pt x="607" y="17"/>
                    </a:lnTo>
                    <a:lnTo>
                      <a:pt x="622" y="27"/>
                    </a:lnTo>
                    <a:lnTo>
                      <a:pt x="635" y="38"/>
                    </a:lnTo>
                    <a:lnTo>
                      <a:pt x="647" y="51"/>
                    </a:lnTo>
                    <a:lnTo>
                      <a:pt x="657" y="65"/>
                    </a:lnTo>
                    <a:lnTo>
                      <a:pt x="666" y="81"/>
                    </a:lnTo>
                    <a:lnTo>
                      <a:pt x="673" y="97"/>
                    </a:lnTo>
                    <a:lnTo>
                      <a:pt x="678" y="115"/>
                    </a:lnTo>
                    <a:lnTo>
                      <a:pt x="684" y="133"/>
                    </a:lnTo>
                    <a:lnTo>
                      <a:pt x="689" y="173"/>
                    </a:lnTo>
                    <a:lnTo>
                      <a:pt x="690" y="215"/>
                    </a:lnTo>
                    <a:lnTo>
                      <a:pt x="690" y="512"/>
                    </a:lnTo>
                    <a:lnTo>
                      <a:pt x="595" y="512"/>
                    </a:lnTo>
                    <a:lnTo>
                      <a:pt x="595" y="230"/>
                    </a:lnTo>
                    <a:lnTo>
                      <a:pt x="595" y="206"/>
                    </a:lnTo>
                    <a:lnTo>
                      <a:pt x="593" y="181"/>
                    </a:lnTo>
                    <a:lnTo>
                      <a:pt x="588" y="157"/>
                    </a:lnTo>
                    <a:lnTo>
                      <a:pt x="580" y="133"/>
                    </a:lnTo>
                    <a:lnTo>
                      <a:pt x="568" y="114"/>
                    </a:lnTo>
                    <a:lnTo>
                      <a:pt x="561" y="106"/>
                    </a:lnTo>
                    <a:lnTo>
                      <a:pt x="552" y="98"/>
                    </a:lnTo>
                    <a:lnTo>
                      <a:pt x="542" y="93"/>
                    </a:lnTo>
                    <a:lnTo>
                      <a:pt x="531" y="88"/>
                    </a:lnTo>
                    <a:lnTo>
                      <a:pt x="517" y="86"/>
                    </a:lnTo>
                    <a:lnTo>
                      <a:pt x="503" y="85"/>
                    </a:lnTo>
                    <a:lnTo>
                      <a:pt x="484" y="86"/>
                    </a:lnTo>
                    <a:lnTo>
                      <a:pt x="469" y="90"/>
                    </a:lnTo>
                    <a:lnTo>
                      <a:pt x="454" y="95"/>
                    </a:lnTo>
                    <a:lnTo>
                      <a:pt x="442" y="103"/>
                    </a:lnTo>
                    <a:lnTo>
                      <a:pt x="432" y="112"/>
                    </a:lnTo>
                    <a:lnTo>
                      <a:pt x="423" y="123"/>
                    </a:lnTo>
                    <a:lnTo>
                      <a:pt x="416" y="135"/>
                    </a:lnTo>
                    <a:lnTo>
                      <a:pt x="409" y="148"/>
                    </a:lnTo>
                    <a:lnTo>
                      <a:pt x="401" y="176"/>
                    </a:lnTo>
                    <a:lnTo>
                      <a:pt x="396" y="207"/>
                    </a:lnTo>
                    <a:lnTo>
                      <a:pt x="394" y="238"/>
                    </a:lnTo>
                    <a:lnTo>
                      <a:pt x="393" y="267"/>
                    </a:lnTo>
                    <a:lnTo>
                      <a:pt x="393" y="512"/>
                    </a:lnTo>
                    <a:lnTo>
                      <a:pt x="297" y="512"/>
                    </a:lnTo>
                    <a:lnTo>
                      <a:pt x="297" y="249"/>
                    </a:lnTo>
                    <a:lnTo>
                      <a:pt x="297" y="224"/>
                    </a:lnTo>
                    <a:lnTo>
                      <a:pt x="295" y="196"/>
                    </a:lnTo>
                    <a:lnTo>
                      <a:pt x="292" y="169"/>
                    </a:lnTo>
                    <a:lnTo>
                      <a:pt x="285" y="142"/>
                    </a:lnTo>
                    <a:lnTo>
                      <a:pt x="280" y="130"/>
                    </a:lnTo>
                    <a:lnTo>
                      <a:pt x="273" y="119"/>
                    </a:lnTo>
                    <a:lnTo>
                      <a:pt x="267" y="110"/>
                    </a:lnTo>
                    <a:lnTo>
                      <a:pt x="258" y="102"/>
                    </a:lnTo>
                    <a:lnTo>
                      <a:pt x="247" y="95"/>
                    </a:lnTo>
                    <a:lnTo>
                      <a:pt x="235" y="90"/>
                    </a:lnTo>
                    <a:lnTo>
                      <a:pt x="222" y="86"/>
                    </a:lnTo>
                    <a:lnTo>
                      <a:pt x="206" y="85"/>
                    </a:lnTo>
                    <a:lnTo>
                      <a:pt x="188" y="86"/>
                    </a:lnTo>
                    <a:lnTo>
                      <a:pt x="172" y="90"/>
                    </a:lnTo>
                    <a:lnTo>
                      <a:pt x="158" y="95"/>
                    </a:lnTo>
                    <a:lnTo>
                      <a:pt x="146" y="103"/>
                    </a:lnTo>
                    <a:lnTo>
                      <a:pt x="135" y="112"/>
                    </a:lnTo>
                    <a:lnTo>
                      <a:pt x="126" y="123"/>
                    </a:lnTo>
                    <a:lnTo>
                      <a:pt x="119" y="135"/>
                    </a:lnTo>
                    <a:lnTo>
                      <a:pt x="113" y="148"/>
                    </a:lnTo>
                    <a:lnTo>
                      <a:pt x="103" y="176"/>
                    </a:lnTo>
                    <a:lnTo>
                      <a:pt x="99" y="207"/>
                    </a:lnTo>
                    <a:lnTo>
                      <a:pt x="97" y="238"/>
                    </a:lnTo>
                    <a:lnTo>
                      <a:pt x="96" y="267"/>
                    </a:lnTo>
                    <a:lnTo>
                      <a:pt x="96" y="512"/>
                    </a:lnTo>
                    <a:lnTo>
                      <a:pt x="0" y="512"/>
                    </a:lnTo>
                    <a:lnTo>
                      <a:pt x="0" y="15"/>
                    </a:lnTo>
                    <a:lnTo>
                      <a:pt x="96" y="15"/>
                    </a:lnTo>
                    <a:lnTo>
                      <a:pt x="96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04240" y="1022400"/>
                <a:ext cx="9082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a-DK" sz="600" spc="-1" strike="noStrike">
                    <a:solidFill>
                      <a:srgbClr val="ffffff"/>
                    </a:solidFill>
                    <a:latin typeface="Futura Bk BT"/>
                  </a:rPr>
                  <a:t>www.kirktelecom.dk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61" name=""/>
          <p:cNvGraphicFramePr/>
          <p:nvPr/>
        </p:nvGraphicFramePr>
        <p:xfrm>
          <a:off x="3409920" y="1219320"/>
          <a:ext cx="4495680" cy="5333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09920" y="1219320"/>
                    <a:ext cx="449568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2289240" y="517680"/>
            <a:ext cx="7235640" cy="2880"/>
          </a:xfrm>
          <a:prstGeom prst="line">
            <a:avLst/>
          </a:prstGeom>
          <a:ln cap="sq"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414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мещение базовых стан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D135-0919-4835-B88B-E5177E8E14F6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057400" y="-1684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0000"/>
                </a:solidFill>
                <a:latin typeface="Garamond"/>
              </a:rPr>
              <a:t>DECT 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- репитер</a:t>
            </a:r>
            <a:r>
              <a:rPr b="1" lang="da-DK" sz="36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0"/>
            <a:ext cx="5657760" cy="6858000"/>
            <a:chOff x="0" y="0"/>
            <a:chExt cx="5657760" cy="6858000"/>
          </a:xfrm>
        </p:grpSpPr>
        <p:sp>
          <p:nvSpPr>
            <p:cNvPr id="167" name=""/>
            <p:cNvSpPr/>
            <p:nvPr/>
          </p:nvSpPr>
          <p:spPr>
            <a:xfrm>
              <a:off x="0" y="0"/>
              <a:ext cx="2057400" cy="3429000"/>
            </a:xfrm>
            <a:prstGeom prst="rect">
              <a:avLst/>
            </a:prstGeom>
            <a:solidFill>
              <a:srgbClr val="000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3429000"/>
              <a:ext cx="2057400" cy="3429000"/>
            </a:xfrm>
            <a:prstGeom prst="rect">
              <a:avLst/>
            </a:pr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47800" y="6324480"/>
              <a:ext cx="3045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53200" y="6324480"/>
              <a:ext cx="3045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185760" y="2055960"/>
              <a:ext cx="1574640" cy="271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2" name=""/>
            <p:cNvGrpSpPr/>
            <p:nvPr/>
          </p:nvGrpSpPr>
          <p:grpSpPr>
            <a:xfrm>
              <a:off x="195120" y="380880"/>
              <a:ext cx="1517400" cy="821880"/>
              <a:chOff x="195120" y="380880"/>
              <a:chExt cx="1517400" cy="821880"/>
            </a:xfrm>
          </p:grpSpPr>
          <p:sp>
            <p:nvSpPr>
              <p:cNvPr id="173" name=""/>
              <p:cNvSpPr/>
              <p:nvPr/>
            </p:nvSpPr>
            <p:spPr>
              <a:xfrm>
                <a:off x="372960" y="380880"/>
                <a:ext cx="313200" cy="387360"/>
              </a:xfrm>
              <a:custGeom>
                <a:avLst/>
                <a:gdLst/>
                <a:ahLst/>
                <a:rect l="l" t="t" r="r" b="b"/>
                <a:pathLst>
                  <a:path w="1606" h="1987">
                    <a:moveTo>
                      <a:pt x="29" y="1655"/>
                    </a:moveTo>
                    <a:lnTo>
                      <a:pt x="79" y="1682"/>
                    </a:lnTo>
                    <a:lnTo>
                      <a:pt x="623" y="1957"/>
                    </a:lnTo>
                    <a:lnTo>
                      <a:pt x="684" y="1987"/>
                    </a:lnTo>
                    <a:lnTo>
                      <a:pt x="687" y="1916"/>
                    </a:lnTo>
                    <a:lnTo>
                      <a:pt x="691" y="1864"/>
                    </a:lnTo>
                    <a:lnTo>
                      <a:pt x="697" y="1814"/>
                    </a:lnTo>
                    <a:lnTo>
                      <a:pt x="704" y="1763"/>
                    </a:lnTo>
                    <a:lnTo>
                      <a:pt x="713" y="1714"/>
                    </a:lnTo>
                    <a:lnTo>
                      <a:pt x="724" y="1665"/>
                    </a:lnTo>
                    <a:lnTo>
                      <a:pt x="737" y="1616"/>
                    </a:lnTo>
                    <a:lnTo>
                      <a:pt x="751" y="1569"/>
                    </a:lnTo>
                    <a:lnTo>
                      <a:pt x="767" y="1522"/>
                    </a:lnTo>
                    <a:lnTo>
                      <a:pt x="784" y="1476"/>
                    </a:lnTo>
                    <a:lnTo>
                      <a:pt x="803" y="1431"/>
                    </a:lnTo>
                    <a:lnTo>
                      <a:pt x="824" y="1386"/>
                    </a:lnTo>
                    <a:lnTo>
                      <a:pt x="846" y="1343"/>
                    </a:lnTo>
                    <a:lnTo>
                      <a:pt x="869" y="1300"/>
                    </a:lnTo>
                    <a:lnTo>
                      <a:pt x="894" y="1257"/>
                    </a:lnTo>
                    <a:lnTo>
                      <a:pt x="920" y="1217"/>
                    </a:lnTo>
                    <a:lnTo>
                      <a:pt x="948" y="1177"/>
                    </a:lnTo>
                    <a:lnTo>
                      <a:pt x="976" y="1137"/>
                    </a:lnTo>
                    <a:lnTo>
                      <a:pt x="1007" y="1100"/>
                    </a:lnTo>
                    <a:lnTo>
                      <a:pt x="1038" y="1063"/>
                    </a:lnTo>
                    <a:lnTo>
                      <a:pt x="1071" y="1027"/>
                    </a:lnTo>
                    <a:lnTo>
                      <a:pt x="1105" y="993"/>
                    </a:lnTo>
                    <a:lnTo>
                      <a:pt x="1140" y="959"/>
                    </a:lnTo>
                    <a:lnTo>
                      <a:pt x="1176" y="927"/>
                    </a:lnTo>
                    <a:lnTo>
                      <a:pt x="1213" y="896"/>
                    </a:lnTo>
                    <a:lnTo>
                      <a:pt x="1250" y="866"/>
                    </a:lnTo>
                    <a:lnTo>
                      <a:pt x="1290" y="838"/>
                    </a:lnTo>
                    <a:lnTo>
                      <a:pt x="1331" y="810"/>
                    </a:lnTo>
                    <a:lnTo>
                      <a:pt x="1372" y="785"/>
                    </a:lnTo>
                    <a:lnTo>
                      <a:pt x="1414" y="760"/>
                    </a:lnTo>
                    <a:lnTo>
                      <a:pt x="1457" y="737"/>
                    </a:lnTo>
                    <a:lnTo>
                      <a:pt x="1501" y="716"/>
                    </a:lnTo>
                    <a:lnTo>
                      <a:pt x="1546" y="696"/>
                    </a:lnTo>
                    <a:lnTo>
                      <a:pt x="1584" y="680"/>
                    </a:lnTo>
                    <a:lnTo>
                      <a:pt x="1594" y="673"/>
                    </a:lnTo>
                    <a:lnTo>
                      <a:pt x="1600" y="665"/>
                    </a:lnTo>
                    <a:lnTo>
                      <a:pt x="1604" y="658"/>
                    </a:lnTo>
                    <a:lnTo>
                      <a:pt x="1606" y="650"/>
                    </a:lnTo>
                    <a:lnTo>
                      <a:pt x="1605" y="638"/>
                    </a:lnTo>
                    <a:lnTo>
                      <a:pt x="1603" y="632"/>
                    </a:lnTo>
                    <a:lnTo>
                      <a:pt x="1586" y="586"/>
                    </a:lnTo>
                    <a:lnTo>
                      <a:pt x="1385" y="31"/>
                    </a:lnTo>
                    <a:lnTo>
                      <a:pt x="1381" y="18"/>
                    </a:lnTo>
                    <a:lnTo>
                      <a:pt x="1380" y="13"/>
                    </a:lnTo>
                    <a:lnTo>
                      <a:pt x="1372" y="5"/>
                    </a:lnTo>
                    <a:lnTo>
                      <a:pt x="1367" y="2"/>
                    </a:lnTo>
                    <a:lnTo>
                      <a:pt x="1359" y="0"/>
                    </a:lnTo>
                    <a:lnTo>
                      <a:pt x="1349" y="0"/>
                    </a:lnTo>
                    <a:lnTo>
                      <a:pt x="1337" y="3"/>
                    </a:lnTo>
                    <a:lnTo>
                      <a:pt x="1307" y="14"/>
                    </a:lnTo>
                    <a:lnTo>
                      <a:pt x="1248" y="37"/>
                    </a:lnTo>
                    <a:lnTo>
                      <a:pt x="1190" y="63"/>
                    </a:lnTo>
                    <a:lnTo>
                      <a:pt x="1133" y="89"/>
                    </a:lnTo>
                    <a:lnTo>
                      <a:pt x="1076" y="119"/>
                    </a:lnTo>
                    <a:lnTo>
                      <a:pt x="1021" y="149"/>
                    </a:lnTo>
                    <a:lnTo>
                      <a:pt x="966" y="181"/>
                    </a:lnTo>
                    <a:lnTo>
                      <a:pt x="913" y="215"/>
                    </a:lnTo>
                    <a:lnTo>
                      <a:pt x="861" y="251"/>
                    </a:lnTo>
                    <a:lnTo>
                      <a:pt x="810" y="289"/>
                    </a:lnTo>
                    <a:lnTo>
                      <a:pt x="759" y="328"/>
                    </a:lnTo>
                    <a:lnTo>
                      <a:pt x="711" y="369"/>
                    </a:lnTo>
                    <a:lnTo>
                      <a:pt x="663" y="411"/>
                    </a:lnTo>
                    <a:lnTo>
                      <a:pt x="616" y="455"/>
                    </a:lnTo>
                    <a:lnTo>
                      <a:pt x="572" y="501"/>
                    </a:lnTo>
                    <a:lnTo>
                      <a:pt x="528" y="547"/>
                    </a:lnTo>
                    <a:lnTo>
                      <a:pt x="485" y="595"/>
                    </a:lnTo>
                    <a:lnTo>
                      <a:pt x="443" y="645"/>
                    </a:lnTo>
                    <a:lnTo>
                      <a:pt x="404" y="695"/>
                    </a:lnTo>
                    <a:lnTo>
                      <a:pt x="365" y="747"/>
                    </a:lnTo>
                    <a:lnTo>
                      <a:pt x="329" y="800"/>
                    </a:lnTo>
                    <a:lnTo>
                      <a:pt x="294" y="854"/>
                    </a:lnTo>
                    <a:lnTo>
                      <a:pt x="260" y="910"/>
                    </a:lnTo>
                    <a:lnTo>
                      <a:pt x="228" y="967"/>
                    </a:lnTo>
                    <a:lnTo>
                      <a:pt x="197" y="1024"/>
                    </a:lnTo>
                    <a:lnTo>
                      <a:pt x="169" y="1084"/>
                    </a:lnTo>
                    <a:lnTo>
                      <a:pt x="142" y="1144"/>
                    </a:lnTo>
                    <a:lnTo>
                      <a:pt x="116" y="1204"/>
                    </a:lnTo>
                    <a:lnTo>
                      <a:pt x="93" y="1266"/>
                    </a:lnTo>
                    <a:lnTo>
                      <a:pt x="71" y="1329"/>
                    </a:lnTo>
                    <a:lnTo>
                      <a:pt x="52" y="1392"/>
                    </a:lnTo>
                    <a:lnTo>
                      <a:pt x="34" y="1457"/>
                    </a:lnTo>
                    <a:lnTo>
                      <a:pt x="18" y="1522"/>
                    </a:lnTo>
                    <a:lnTo>
                      <a:pt x="2" y="1593"/>
                    </a:lnTo>
                    <a:lnTo>
                      <a:pt x="0" y="1610"/>
                    </a:lnTo>
                    <a:lnTo>
                      <a:pt x="1" y="1623"/>
                    </a:lnTo>
                    <a:lnTo>
                      <a:pt x="6" y="1634"/>
                    </a:lnTo>
                    <a:lnTo>
                      <a:pt x="11" y="1643"/>
                    </a:lnTo>
                    <a:lnTo>
                      <a:pt x="17" y="1648"/>
                    </a:lnTo>
                    <a:lnTo>
                      <a:pt x="23" y="1652"/>
                    </a:lnTo>
                    <a:lnTo>
                      <a:pt x="29" y="1655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72960" y="770040"/>
                <a:ext cx="313200" cy="387360"/>
              </a:xfrm>
              <a:custGeom>
                <a:avLst/>
                <a:gdLst/>
                <a:ahLst/>
                <a:rect l="l" t="t" r="r" b="b"/>
                <a:pathLst>
                  <a:path w="1606" h="1985">
                    <a:moveTo>
                      <a:pt x="29" y="333"/>
                    </a:moveTo>
                    <a:lnTo>
                      <a:pt x="79" y="306"/>
                    </a:lnTo>
                    <a:lnTo>
                      <a:pt x="623" y="31"/>
                    </a:lnTo>
                    <a:lnTo>
                      <a:pt x="684" y="0"/>
                    </a:lnTo>
                    <a:lnTo>
                      <a:pt x="687" y="72"/>
                    </a:lnTo>
                    <a:lnTo>
                      <a:pt x="691" y="123"/>
                    </a:lnTo>
                    <a:lnTo>
                      <a:pt x="697" y="174"/>
                    </a:lnTo>
                    <a:lnTo>
                      <a:pt x="704" y="224"/>
                    </a:lnTo>
                    <a:lnTo>
                      <a:pt x="713" y="273"/>
                    </a:lnTo>
                    <a:lnTo>
                      <a:pt x="724" y="323"/>
                    </a:lnTo>
                    <a:lnTo>
                      <a:pt x="737" y="371"/>
                    </a:lnTo>
                    <a:lnTo>
                      <a:pt x="751" y="418"/>
                    </a:lnTo>
                    <a:lnTo>
                      <a:pt x="767" y="465"/>
                    </a:lnTo>
                    <a:lnTo>
                      <a:pt x="784" y="512"/>
                    </a:lnTo>
                    <a:lnTo>
                      <a:pt x="803" y="557"/>
                    </a:lnTo>
                    <a:lnTo>
                      <a:pt x="824" y="602"/>
                    </a:lnTo>
                    <a:lnTo>
                      <a:pt x="846" y="645"/>
                    </a:lnTo>
                    <a:lnTo>
                      <a:pt x="869" y="688"/>
                    </a:lnTo>
                    <a:lnTo>
                      <a:pt x="894" y="730"/>
                    </a:lnTo>
                    <a:lnTo>
                      <a:pt x="920" y="771"/>
                    </a:lnTo>
                    <a:lnTo>
                      <a:pt x="948" y="811"/>
                    </a:lnTo>
                    <a:lnTo>
                      <a:pt x="976" y="850"/>
                    </a:lnTo>
                    <a:lnTo>
                      <a:pt x="1007" y="888"/>
                    </a:lnTo>
                    <a:lnTo>
                      <a:pt x="1038" y="924"/>
                    </a:lnTo>
                    <a:lnTo>
                      <a:pt x="1071" y="961"/>
                    </a:lnTo>
                    <a:lnTo>
                      <a:pt x="1105" y="995"/>
                    </a:lnTo>
                    <a:lnTo>
                      <a:pt x="1140" y="1029"/>
                    </a:lnTo>
                    <a:lnTo>
                      <a:pt x="1176" y="1061"/>
                    </a:lnTo>
                    <a:lnTo>
                      <a:pt x="1213" y="1092"/>
                    </a:lnTo>
                    <a:lnTo>
                      <a:pt x="1252" y="1122"/>
                    </a:lnTo>
                    <a:lnTo>
                      <a:pt x="1290" y="1151"/>
                    </a:lnTo>
                    <a:lnTo>
                      <a:pt x="1331" y="1177"/>
                    </a:lnTo>
                    <a:lnTo>
                      <a:pt x="1372" y="1203"/>
                    </a:lnTo>
                    <a:lnTo>
                      <a:pt x="1414" y="1227"/>
                    </a:lnTo>
                    <a:lnTo>
                      <a:pt x="1457" y="1250"/>
                    </a:lnTo>
                    <a:lnTo>
                      <a:pt x="1501" y="1271"/>
                    </a:lnTo>
                    <a:lnTo>
                      <a:pt x="1546" y="1292"/>
                    </a:lnTo>
                    <a:lnTo>
                      <a:pt x="1584" y="1308"/>
                    </a:lnTo>
                    <a:lnTo>
                      <a:pt x="1594" y="1315"/>
                    </a:lnTo>
                    <a:lnTo>
                      <a:pt x="1600" y="1323"/>
                    </a:lnTo>
                    <a:lnTo>
                      <a:pt x="1605" y="1331"/>
                    </a:lnTo>
                    <a:lnTo>
                      <a:pt x="1606" y="1337"/>
                    </a:lnTo>
                    <a:lnTo>
                      <a:pt x="1605" y="1349"/>
                    </a:lnTo>
                    <a:lnTo>
                      <a:pt x="1603" y="1355"/>
                    </a:lnTo>
                    <a:lnTo>
                      <a:pt x="1586" y="1401"/>
                    </a:lnTo>
                    <a:lnTo>
                      <a:pt x="1388" y="1950"/>
                    </a:lnTo>
                    <a:lnTo>
                      <a:pt x="1381" y="1965"/>
                    </a:lnTo>
                    <a:lnTo>
                      <a:pt x="1379" y="1970"/>
                    </a:lnTo>
                    <a:lnTo>
                      <a:pt x="1371" y="1978"/>
                    </a:lnTo>
                    <a:lnTo>
                      <a:pt x="1366" y="1983"/>
                    </a:lnTo>
                    <a:lnTo>
                      <a:pt x="1358" y="1985"/>
                    </a:lnTo>
                    <a:lnTo>
                      <a:pt x="1348" y="1985"/>
                    </a:lnTo>
                    <a:lnTo>
                      <a:pt x="1338" y="1983"/>
                    </a:lnTo>
                    <a:lnTo>
                      <a:pt x="1302" y="1969"/>
                    </a:lnTo>
                    <a:lnTo>
                      <a:pt x="1242" y="1942"/>
                    </a:lnTo>
                    <a:lnTo>
                      <a:pt x="1181" y="1915"/>
                    </a:lnTo>
                    <a:lnTo>
                      <a:pt x="1123" y="1886"/>
                    </a:lnTo>
                    <a:lnTo>
                      <a:pt x="1066" y="1857"/>
                    </a:lnTo>
                    <a:lnTo>
                      <a:pt x="1009" y="1824"/>
                    </a:lnTo>
                    <a:lnTo>
                      <a:pt x="954" y="1791"/>
                    </a:lnTo>
                    <a:lnTo>
                      <a:pt x="901" y="1756"/>
                    </a:lnTo>
                    <a:lnTo>
                      <a:pt x="848" y="1719"/>
                    </a:lnTo>
                    <a:lnTo>
                      <a:pt x="796" y="1682"/>
                    </a:lnTo>
                    <a:lnTo>
                      <a:pt x="747" y="1642"/>
                    </a:lnTo>
                    <a:lnTo>
                      <a:pt x="698" y="1602"/>
                    </a:lnTo>
                    <a:lnTo>
                      <a:pt x="650" y="1560"/>
                    </a:lnTo>
                    <a:lnTo>
                      <a:pt x="604" y="1517"/>
                    </a:lnTo>
                    <a:lnTo>
                      <a:pt x="559" y="1472"/>
                    </a:lnTo>
                    <a:lnTo>
                      <a:pt x="517" y="1426"/>
                    </a:lnTo>
                    <a:lnTo>
                      <a:pt x="475" y="1379"/>
                    </a:lnTo>
                    <a:lnTo>
                      <a:pt x="434" y="1331"/>
                    </a:lnTo>
                    <a:lnTo>
                      <a:pt x="395" y="1281"/>
                    </a:lnTo>
                    <a:lnTo>
                      <a:pt x="358" y="1230"/>
                    </a:lnTo>
                    <a:lnTo>
                      <a:pt x="323" y="1178"/>
                    </a:lnTo>
                    <a:lnTo>
                      <a:pt x="287" y="1124"/>
                    </a:lnTo>
                    <a:lnTo>
                      <a:pt x="255" y="1070"/>
                    </a:lnTo>
                    <a:lnTo>
                      <a:pt x="224" y="1014"/>
                    </a:lnTo>
                    <a:lnTo>
                      <a:pt x="194" y="957"/>
                    </a:lnTo>
                    <a:lnTo>
                      <a:pt x="166" y="900"/>
                    </a:lnTo>
                    <a:lnTo>
                      <a:pt x="139" y="841"/>
                    </a:lnTo>
                    <a:lnTo>
                      <a:pt x="115" y="781"/>
                    </a:lnTo>
                    <a:lnTo>
                      <a:pt x="92" y="720"/>
                    </a:lnTo>
                    <a:lnTo>
                      <a:pt x="71" y="658"/>
                    </a:lnTo>
                    <a:lnTo>
                      <a:pt x="52" y="595"/>
                    </a:lnTo>
                    <a:lnTo>
                      <a:pt x="34" y="530"/>
                    </a:lnTo>
                    <a:lnTo>
                      <a:pt x="18" y="465"/>
                    </a:lnTo>
                    <a:lnTo>
                      <a:pt x="3" y="394"/>
                    </a:lnTo>
                    <a:lnTo>
                      <a:pt x="0" y="378"/>
                    </a:lnTo>
                    <a:lnTo>
                      <a:pt x="1" y="364"/>
                    </a:lnTo>
                    <a:lnTo>
                      <a:pt x="6" y="353"/>
                    </a:lnTo>
                    <a:lnTo>
                      <a:pt x="11" y="346"/>
                    </a:lnTo>
                    <a:lnTo>
                      <a:pt x="17" y="339"/>
                    </a:lnTo>
                    <a:lnTo>
                      <a:pt x="23" y="336"/>
                    </a:lnTo>
                    <a:lnTo>
                      <a:pt x="29" y="333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16320" y="698400"/>
                <a:ext cx="137880" cy="147600"/>
              </a:xfrm>
              <a:custGeom>
                <a:avLst/>
                <a:gdLst/>
                <a:ahLst/>
                <a:rect l="l" t="t" r="r" b="b"/>
                <a:pathLst>
                  <a:path w="714" h="759">
                    <a:moveTo>
                      <a:pt x="699" y="379"/>
                    </a:moveTo>
                    <a:lnTo>
                      <a:pt x="706" y="375"/>
                    </a:lnTo>
                    <a:lnTo>
                      <a:pt x="710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09" y="351"/>
                    </a:lnTo>
                    <a:lnTo>
                      <a:pt x="705" y="346"/>
                    </a:lnTo>
                    <a:lnTo>
                      <a:pt x="699" y="342"/>
                    </a:lnTo>
                    <a:lnTo>
                      <a:pt x="35" y="4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3" y="11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735"/>
                    </a:lnTo>
                    <a:lnTo>
                      <a:pt x="1" y="743"/>
                    </a:lnTo>
                    <a:lnTo>
                      <a:pt x="3" y="748"/>
                    </a:lnTo>
                    <a:lnTo>
                      <a:pt x="5" y="753"/>
                    </a:lnTo>
                    <a:lnTo>
                      <a:pt x="10" y="757"/>
                    </a:lnTo>
                    <a:lnTo>
                      <a:pt x="15" y="759"/>
                    </a:lnTo>
                    <a:lnTo>
                      <a:pt x="21" y="759"/>
                    </a:lnTo>
                    <a:lnTo>
                      <a:pt x="27" y="758"/>
                    </a:lnTo>
                    <a:lnTo>
                      <a:pt x="34" y="755"/>
                    </a:lnTo>
                    <a:lnTo>
                      <a:pt x="699" y="379"/>
                    </a:lnTo>
                    <a:close/>
                  </a:path>
                </a:pathLst>
              </a:custGeom>
              <a:solidFill>
                <a:srgbClr val="00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5120" y="701640"/>
                <a:ext cx="138240" cy="146160"/>
              </a:xfrm>
              <a:custGeom>
                <a:avLst/>
                <a:gdLst/>
                <a:ahLst/>
                <a:rect l="l" t="t" r="r" b="b"/>
                <a:pathLst>
                  <a:path w="714" h="758">
                    <a:moveTo>
                      <a:pt x="701" y="379"/>
                    </a:moveTo>
                    <a:lnTo>
                      <a:pt x="706" y="374"/>
                    </a:lnTo>
                    <a:lnTo>
                      <a:pt x="711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11" y="350"/>
                    </a:lnTo>
                    <a:lnTo>
                      <a:pt x="706" y="346"/>
                    </a:lnTo>
                    <a:lnTo>
                      <a:pt x="700" y="342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0" y="734"/>
                    </a:lnTo>
                    <a:lnTo>
                      <a:pt x="1" y="742"/>
                    </a:lnTo>
                    <a:lnTo>
                      <a:pt x="3" y="749"/>
                    </a:lnTo>
                    <a:lnTo>
                      <a:pt x="7" y="753"/>
                    </a:lnTo>
                    <a:lnTo>
                      <a:pt x="10" y="756"/>
                    </a:lnTo>
                    <a:lnTo>
                      <a:pt x="15" y="758"/>
                    </a:lnTo>
                    <a:lnTo>
                      <a:pt x="21" y="758"/>
                    </a:lnTo>
                    <a:lnTo>
                      <a:pt x="27" y="757"/>
                    </a:lnTo>
                    <a:lnTo>
                      <a:pt x="34" y="754"/>
                    </a:lnTo>
                    <a:lnTo>
                      <a:pt x="701" y="379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934200" y="517680"/>
                <a:ext cx="180720" cy="250560"/>
              </a:xfrm>
              <a:custGeom>
                <a:avLst/>
                <a:gdLst/>
                <a:ahLst/>
                <a:rect l="l" t="t" r="r" b="b"/>
                <a:pathLst>
                  <a:path w="930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30" y="1293"/>
                    </a:lnTo>
                    <a:lnTo>
                      <a:pt x="713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136160" y="517680"/>
                <a:ext cx="31680" cy="25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215360" y="517680"/>
                <a:ext cx="155520" cy="250560"/>
              </a:xfrm>
              <a:custGeom>
                <a:avLst/>
                <a:gdLst/>
                <a:ahLst/>
                <a:rect l="l" t="t" r="r" b="b"/>
                <a:pathLst>
                  <a:path w="803" h="1293">
                    <a:moveTo>
                      <a:pt x="803" y="1293"/>
                    </a:moveTo>
                    <a:lnTo>
                      <a:pt x="607" y="1293"/>
                    </a:lnTo>
                    <a:lnTo>
                      <a:pt x="228" y="746"/>
                    </a:lnTo>
                    <a:lnTo>
                      <a:pt x="161" y="746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283" y="1"/>
                    </a:lnTo>
                    <a:lnTo>
                      <a:pt x="327" y="4"/>
                    </a:lnTo>
                    <a:lnTo>
                      <a:pt x="370" y="8"/>
                    </a:lnTo>
                    <a:lnTo>
                      <a:pt x="413" y="16"/>
                    </a:lnTo>
                    <a:lnTo>
                      <a:pt x="456" y="27"/>
                    </a:lnTo>
                    <a:lnTo>
                      <a:pt x="497" y="41"/>
                    </a:lnTo>
                    <a:lnTo>
                      <a:pt x="536" y="61"/>
                    </a:lnTo>
                    <a:lnTo>
                      <a:pt x="556" y="73"/>
                    </a:lnTo>
                    <a:lnTo>
                      <a:pt x="574" y="87"/>
                    </a:lnTo>
                    <a:lnTo>
                      <a:pt x="592" y="101"/>
                    </a:lnTo>
                    <a:lnTo>
                      <a:pt x="608" y="118"/>
                    </a:lnTo>
                    <a:lnTo>
                      <a:pt x="623" y="135"/>
                    </a:lnTo>
                    <a:lnTo>
                      <a:pt x="637" y="153"/>
                    </a:lnTo>
                    <a:lnTo>
                      <a:pt x="650" y="173"/>
                    </a:lnTo>
                    <a:lnTo>
                      <a:pt x="661" y="192"/>
                    </a:lnTo>
                    <a:lnTo>
                      <a:pt x="671" y="212"/>
                    </a:lnTo>
                    <a:lnTo>
                      <a:pt x="680" y="233"/>
                    </a:lnTo>
                    <a:lnTo>
                      <a:pt x="694" y="277"/>
                    </a:lnTo>
                    <a:lnTo>
                      <a:pt x="700" y="300"/>
                    </a:lnTo>
                    <a:lnTo>
                      <a:pt x="703" y="323"/>
                    </a:lnTo>
                    <a:lnTo>
                      <a:pt x="705" y="346"/>
                    </a:lnTo>
                    <a:lnTo>
                      <a:pt x="705" y="369"/>
                    </a:lnTo>
                    <a:lnTo>
                      <a:pt x="704" y="403"/>
                    </a:lnTo>
                    <a:lnTo>
                      <a:pt x="700" y="436"/>
                    </a:lnTo>
                    <a:lnTo>
                      <a:pt x="693" y="469"/>
                    </a:lnTo>
                    <a:lnTo>
                      <a:pt x="683" y="500"/>
                    </a:lnTo>
                    <a:lnTo>
                      <a:pt x="671" y="531"/>
                    </a:lnTo>
                    <a:lnTo>
                      <a:pt x="657" y="558"/>
                    </a:lnTo>
                    <a:lnTo>
                      <a:pt x="639" y="585"/>
                    </a:lnTo>
                    <a:lnTo>
                      <a:pt x="621" y="611"/>
                    </a:lnTo>
                    <a:lnTo>
                      <a:pt x="599" y="634"/>
                    </a:lnTo>
                    <a:lnTo>
                      <a:pt x="576" y="655"/>
                    </a:lnTo>
                    <a:lnTo>
                      <a:pt x="550" y="673"/>
                    </a:lnTo>
                    <a:lnTo>
                      <a:pt x="523" y="691"/>
                    </a:lnTo>
                    <a:lnTo>
                      <a:pt x="493" y="704"/>
                    </a:lnTo>
                    <a:lnTo>
                      <a:pt x="463" y="716"/>
                    </a:lnTo>
                    <a:lnTo>
                      <a:pt x="430" y="725"/>
                    </a:lnTo>
                    <a:lnTo>
                      <a:pt x="396" y="730"/>
                    </a:lnTo>
                    <a:lnTo>
                      <a:pt x="803" y="1293"/>
                    </a:lnTo>
                    <a:close/>
                    <a:moveTo>
                      <a:pt x="161" y="612"/>
                    </a:moveTo>
                    <a:lnTo>
                      <a:pt x="213" y="612"/>
                    </a:lnTo>
                    <a:lnTo>
                      <a:pt x="274" y="611"/>
                    </a:lnTo>
                    <a:lnTo>
                      <a:pt x="335" y="604"/>
                    </a:lnTo>
                    <a:lnTo>
                      <a:pt x="365" y="599"/>
                    </a:lnTo>
                    <a:lnTo>
                      <a:pt x="393" y="591"/>
                    </a:lnTo>
                    <a:lnTo>
                      <a:pt x="420" y="582"/>
                    </a:lnTo>
                    <a:lnTo>
                      <a:pt x="445" y="571"/>
                    </a:lnTo>
                    <a:lnTo>
                      <a:pt x="469" y="557"/>
                    </a:lnTo>
                    <a:lnTo>
                      <a:pt x="490" y="540"/>
                    </a:lnTo>
                    <a:lnTo>
                      <a:pt x="509" y="522"/>
                    </a:lnTo>
                    <a:lnTo>
                      <a:pt x="524" y="499"/>
                    </a:lnTo>
                    <a:lnTo>
                      <a:pt x="537" y="473"/>
                    </a:lnTo>
                    <a:lnTo>
                      <a:pt x="547" y="445"/>
                    </a:lnTo>
                    <a:lnTo>
                      <a:pt x="553" y="412"/>
                    </a:lnTo>
                    <a:lnTo>
                      <a:pt x="555" y="376"/>
                    </a:lnTo>
                    <a:lnTo>
                      <a:pt x="553" y="339"/>
                    </a:lnTo>
                    <a:lnTo>
                      <a:pt x="546" y="308"/>
                    </a:lnTo>
                    <a:lnTo>
                      <a:pt x="536" y="279"/>
                    </a:lnTo>
                    <a:lnTo>
                      <a:pt x="523" y="254"/>
                    </a:lnTo>
                    <a:lnTo>
                      <a:pt x="505" y="232"/>
                    </a:lnTo>
                    <a:lnTo>
                      <a:pt x="486" y="213"/>
                    </a:lnTo>
                    <a:lnTo>
                      <a:pt x="464" y="198"/>
                    </a:lnTo>
                    <a:lnTo>
                      <a:pt x="440" y="184"/>
                    </a:lnTo>
                    <a:lnTo>
                      <a:pt x="413" y="173"/>
                    </a:lnTo>
                    <a:lnTo>
                      <a:pt x="385" y="164"/>
                    </a:lnTo>
                    <a:lnTo>
                      <a:pt x="356" y="157"/>
                    </a:lnTo>
                    <a:lnTo>
                      <a:pt x="325" y="152"/>
                    </a:lnTo>
                    <a:lnTo>
                      <a:pt x="296" y="148"/>
                    </a:lnTo>
                    <a:lnTo>
                      <a:pt x="265" y="146"/>
                    </a:lnTo>
                    <a:lnTo>
                      <a:pt x="204" y="144"/>
                    </a:lnTo>
                    <a:lnTo>
                      <a:pt x="161" y="144"/>
                    </a:lnTo>
                    <a:lnTo>
                      <a:pt x="161" y="6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387080" y="5176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929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29" y="1293"/>
                    </a:lnTo>
                    <a:lnTo>
                      <a:pt x="712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923040" y="847800"/>
                <a:ext cx="50760" cy="133200"/>
              </a:xfrm>
              <a:custGeom>
                <a:avLst/>
                <a:gdLst/>
                <a:ahLst/>
                <a:rect l="l" t="t" r="r" b="b"/>
                <a:pathLst>
                  <a:path w="264" h="687">
                    <a:moveTo>
                      <a:pt x="169" y="687"/>
                    </a:moveTo>
                    <a:lnTo>
                      <a:pt x="74" y="687"/>
                    </a:lnTo>
                    <a:lnTo>
                      <a:pt x="74" y="279"/>
                    </a:lnTo>
                    <a:lnTo>
                      <a:pt x="0" y="279"/>
                    </a:lnTo>
                    <a:lnTo>
                      <a:pt x="0" y="190"/>
                    </a:lnTo>
                    <a:lnTo>
                      <a:pt x="74" y="190"/>
                    </a:lnTo>
                    <a:lnTo>
                      <a:pt x="74" y="0"/>
                    </a:lnTo>
                    <a:lnTo>
                      <a:pt x="169" y="0"/>
                    </a:lnTo>
                    <a:lnTo>
                      <a:pt x="169" y="190"/>
                    </a:lnTo>
                    <a:lnTo>
                      <a:pt x="264" y="190"/>
                    </a:lnTo>
                    <a:lnTo>
                      <a:pt x="264" y="279"/>
                    </a:lnTo>
                    <a:lnTo>
                      <a:pt x="169" y="279"/>
                    </a:lnTo>
                    <a:lnTo>
                      <a:pt x="169" y="6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977040" y="882720"/>
                <a:ext cx="9180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5" y="280"/>
                    </a:moveTo>
                    <a:lnTo>
                      <a:pt x="98" y="311"/>
                    </a:lnTo>
                    <a:lnTo>
                      <a:pt x="106" y="341"/>
                    </a:lnTo>
                    <a:lnTo>
                      <a:pt x="119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8" y="415"/>
                    </a:lnTo>
                    <a:lnTo>
                      <a:pt x="170" y="423"/>
                    </a:lnTo>
                    <a:lnTo>
                      <a:pt x="184" y="431"/>
                    </a:lnTo>
                    <a:lnTo>
                      <a:pt x="197" y="437"/>
                    </a:lnTo>
                    <a:lnTo>
                      <a:pt x="213" y="441"/>
                    </a:lnTo>
                    <a:lnTo>
                      <a:pt x="229" y="443"/>
                    </a:lnTo>
                    <a:lnTo>
                      <a:pt x="245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5" y="430"/>
                    </a:lnTo>
                    <a:lnTo>
                      <a:pt x="333" y="418"/>
                    </a:lnTo>
                    <a:lnTo>
                      <a:pt x="351" y="405"/>
                    </a:lnTo>
                    <a:lnTo>
                      <a:pt x="366" y="388"/>
                    </a:lnTo>
                    <a:lnTo>
                      <a:pt x="380" y="368"/>
                    </a:lnTo>
                    <a:lnTo>
                      <a:pt x="394" y="348"/>
                    </a:lnTo>
                    <a:lnTo>
                      <a:pt x="475" y="394"/>
                    </a:lnTo>
                    <a:lnTo>
                      <a:pt x="455" y="424"/>
                    </a:lnTo>
                    <a:lnTo>
                      <a:pt x="433" y="451"/>
                    </a:lnTo>
                    <a:lnTo>
                      <a:pt x="407" y="474"/>
                    </a:lnTo>
                    <a:lnTo>
                      <a:pt x="378" y="494"/>
                    </a:lnTo>
                    <a:lnTo>
                      <a:pt x="347" y="509"/>
                    </a:lnTo>
                    <a:lnTo>
                      <a:pt x="315" y="520"/>
                    </a:lnTo>
                    <a:lnTo>
                      <a:pt x="279" y="528"/>
                    </a:lnTo>
                    <a:lnTo>
                      <a:pt x="244" y="530"/>
                    </a:lnTo>
                    <a:lnTo>
                      <a:pt x="217" y="528"/>
                    </a:lnTo>
                    <a:lnTo>
                      <a:pt x="191" y="524"/>
                    </a:lnTo>
                    <a:lnTo>
                      <a:pt x="165" y="518"/>
                    </a:lnTo>
                    <a:lnTo>
                      <a:pt x="142" y="509"/>
                    </a:lnTo>
                    <a:lnTo>
                      <a:pt x="120" y="498"/>
                    </a:lnTo>
                    <a:lnTo>
                      <a:pt x="101" y="485"/>
                    </a:lnTo>
                    <a:lnTo>
                      <a:pt x="82" y="471"/>
                    </a:lnTo>
                    <a:lnTo>
                      <a:pt x="66" y="454"/>
                    </a:lnTo>
                    <a:lnTo>
                      <a:pt x="50" y="435"/>
                    </a:lnTo>
                    <a:lnTo>
                      <a:pt x="37" y="416"/>
                    </a:lnTo>
                    <a:lnTo>
                      <a:pt x="26" y="394"/>
                    </a:lnTo>
                    <a:lnTo>
                      <a:pt x="16" y="371"/>
                    </a:lnTo>
                    <a:lnTo>
                      <a:pt x="10" y="346"/>
                    </a:lnTo>
                    <a:lnTo>
                      <a:pt x="4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4" y="213"/>
                    </a:lnTo>
                    <a:lnTo>
                      <a:pt x="9" y="186"/>
                    </a:lnTo>
                    <a:lnTo>
                      <a:pt x="15" y="161"/>
                    </a:lnTo>
                    <a:lnTo>
                      <a:pt x="24" y="138"/>
                    </a:lnTo>
                    <a:lnTo>
                      <a:pt x="34" y="116"/>
                    </a:lnTo>
                    <a:lnTo>
                      <a:pt x="47" y="95"/>
                    </a:lnTo>
                    <a:lnTo>
                      <a:pt x="61" y="76"/>
                    </a:lnTo>
                    <a:lnTo>
                      <a:pt x="77" y="60"/>
                    </a:lnTo>
                    <a:lnTo>
                      <a:pt x="95" y="45"/>
                    </a:lnTo>
                    <a:lnTo>
                      <a:pt x="115" y="31"/>
                    </a:lnTo>
                    <a:lnTo>
                      <a:pt x="137" y="20"/>
                    </a:lnTo>
                    <a:lnTo>
                      <a:pt x="160" y="12"/>
                    </a:lnTo>
                    <a:lnTo>
                      <a:pt x="185" y="5"/>
                    </a:lnTo>
                    <a:lnTo>
                      <a:pt x="213" y="2"/>
                    </a:lnTo>
                    <a:lnTo>
                      <a:pt x="242" y="0"/>
                    </a:lnTo>
                    <a:lnTo>
                      <a:pt x="271" y="2"/>
                    </a:lnTo>
                    <a:lnTo>
                      <a:pt x="297" y="5"/>
                    </a:lnTo>
                    <a:lnTo>
                      <a:pt x="322" y="12"/>
                    </a:lnTo>
                    <a:lnTo>
                      <a:pt x="345" y="20"/>
                    </a:lnTo>
                    <a:lnTo>
                      <a:pt x="366" y="31"/>
                    </a:lnTo>
                    <a:lnTo>
                      <a:pt x="385" y="45"/>
                    </a:lnTo>
                    <a:lnTo>
                      <a:pt x="402" y="60"/>
                    </a:lnTo>
                    <a:lnTo>
                      <a:pt x="418" y="76"/>
                    </a:lnTo>
                    <a:lnTo>
                      <a:pt x="431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0" y="161"/>
                    </a:lnTo>
                    <a:lnTo>
                      <a:pt x="467" y="185"/>
                    </a:lnTo>
                    <a:lnTo>
                      <a:pt x="471" y="210"/>
                    </a:lnTo>
                    <a:lnTo>
                      <a:pt x="474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5" y="280"/>
                    </a:lnTo>
                    <a:close/>
                    <a:moveTo>
                      <a:pt x="379" y="207"/>
                    </a:moveTo>
                    <a:lnTo>
                      <a:pt x="373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5" y="117"/>
                    </a:lnTo>
                    <a:lnTo>
                      <a:pt x="316" y="103"/>
                    </a:lnTo>
                    <a:lnTo>
                      <a:pt x="294" y="92"/>
                    </a:lnTo>
                    <a:lnTo>
                      <a:pt x="270" y="85"/>
                    </a:lnTo>
                    <a:lnTo>
                      <a:pt x="242" y="83"/>
                    </a:lnTo>
                    <a:lnTo>
                      <a:pt x="215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1" y="137"/>
                    </a:lnTo>
                    <a:lnTo>
                      <a:pt x="117" y="158"/>
                    </a:lnTo>
                    <a:lnTo>
                      <a:pt x="107" y="182"/>
                    </a:lnTo>
                    <a:lnTo>
                      <a:pt x="101" y="207"/>
                    </a:lnTo>
                    <a:lnTo>
                      <a:pt x="379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86480" y="846000"/>
                <a:ext cx="1908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18520" y="882720"/>
                <a:ext cx="9216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7" y="280"/>
                    </a:moveTo>
                    <a:lnTo>
                      <a:pt x="99" y="311"/>
                    </a:lnTo>
                    <a:lnTo>
                      <a:pt x="108" y="341"/>
                    </a:lnTo>
                    <a:lnTo>
                      <a:pt x="120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9" y="415"/>
                    </a:lnTo>
                    <a:lnTo>
                      <a:pt x="171" y="423"/>
                    </a:lnTo>
                    <a:lnTo>
                      <a:pt x="185" y="431"/>
                    </a:lnTo>
                    <a:lnTo>
                      <a:pt x="199" y="437"/>
                    </a:lnTo>
                    <a:lnTo>
                      <a:pt x="213" y="441"/>
                    </a:lnTo>
                    <a:lnTo>
                      <a:pt x="230" y="443"/>
                    </a:lnTo>
                    <a:lnTo>
                      <a:pt x="246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6" y="430"/>
                    </a:lnTo>
                    <a:lnTo>
                      <a:pt x="335" y="418"/>
                    </a:lnTo>
                    <a:lnTo>
                      <a:pt x="351" y="405"/>
                    </a:lnTo>
                    <a:lnTo>
                      <a:pt x="367" y="388"/>
                    </a:lnTo>
                    <a:lnTo>
                      <a:pt x="381" y="368"/>
                    </a:lnTo>
                    <a:lnTo>
                      <a:pt x="395" y="348"/>
                    </a:lnTo>
                    <a:lnTo>
                      <a:pt x="475" y="394"/>
                    </a:lnTo>
                    <a:lnTo>
                      <a:pt x="457" y="424"/>
                    </a:lnTo>
                    <a:lnTo>
                      <a:pt x="434" y="451"/>
                    </a:lnTo>
                    <a:lnTo>
                      <a:pt x="407" y="474"/>
                    </a:lnTo>
                    <a:lnTo>
                      <a:pt x="379" y="494"/>
                    </a:lnTo>
                    <a:lnTo>
                      <a:pt x="348" y="509"/>
                    </a:lnTo>
                    <a:lnTo>
                      <a:pt x="315" y="520"/>
                    </a:lnTo>
                    <a:lnTo>
                      <a:pt x="281" y="528"/>
                    </a:lnTo>
                    <a:lnTo>
                      <a:pt x="245" y="530"/>
                    </a:lnTo>
                    <a:lnTo>
                      <a:pt x="218" y="528"/>
                    </a:lnTo>
                    <a:lnTo>
                      <a:pt x="191" y="524"/>
                    </a:lnTo>
                    <a:lnTo>
                      <a:pt x="166" y="518"/>
                    </a:lnTo>
                    <a:lnTo>
                      <a:pt x="143" y="509"/>
                    </a:lnTo>
                    <a:lnTo>
                      <a:pt x="121" y="498"/>
                    </a:lnTo>
                    <a:lnTo>
                      <a:pt x="101" y="485"/>
                    </a:lnTo>
                    <a:lnTo>
                      <a:pt x="83" y="471"/>
                    </a:lnTo>
                    <a:lnTo>
                      <a:pt x="66" y="454"/>
                    </a:lnTo>
                    <a:lnTo>
                      <a:pt x="51" y="435"/>
                    </a:lnTo>
                    <a:lnTo>
                      <a:pt x="38" y="416"/>
                    </a:lnTo>
                    <a:lnTo>
                      <a:pt x="27" y="394"/>
                    </a:lnTo>
                    <a:lnTo>
                      <a:pt x="18" y="371"/>
                    </a:lnTo>
                    <a:lnTo>
                      <a:pt x="10" y="346"/>
                    </a:lnTo>
                    <a:lnTo>
                      <a:pt x="5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5" y="213"/>
                    </a:lnTo>
                    <a:lnTo>
                      <a:pt x="9" y="186"/>
                    </a:lnTo>
                    <a:lnTo>
                      <a:pt x="16" y="161"/>
                    </a:lnTo>
                    <a:lnTo>
                      <a:pt x="24" y="138"/>
                    </a:lnTo>
                    <a:lnTo>
                      <a:pt x="35" y="116"/>
                    </a:lnTo>
                    <a:lnTo>
                      <a:pt x="48" y="95"/>
                    </a:lnTo>
                    <a:lnTo>
                      <a:pt x="62" y="76"/>
                    </a:lnTo>
                    <a:lnTo>
                      <a:pt x="78" y="60"/>
                    </a:lnTo>
                    <a:lnTo>
                      <a:pt x="96" y="45"/>
                    </a:lnTo>
                    <a:lnTo>
                      <a:pt x="116" y="31"/>
                    </a:lnTo>
                    <a:lnTo>
                      <a:pt x="137" y="20"/>
                    </a:lnTo>
                    <a:lnTo>
                      <a:pt x="162" y="12"/>
                    </a:lnTo>
                    <a:lnTo>
                      <a:pt x="187" y="5"/>
                    </a:lnTo>
                    <a:lnTo>
                      <a:pt x="214" y="2"/>
                    </a:lnTo>
                    <a:lnTo>
                      <a:pt x="243" y="0"/>
                    </a:lnTo>
                    <a:lnTo>
                      <a:pt x="271" y="2"/>
                    </a:lnTo>
                    <a:lnTo>
                      <a:pt x="299" y="5"/>
                    </a:lnTo>
                    <a:lnTo>
                      <a:pt x="323" y="12"/>
                    </a:lnTo>
                    <a:lnTo>
                      <a:pt x="346" y="20"/>
                    </a:lnTo>
                    <a:lnTo>
                      <a:pt x="367" y="31"/>
                    </a:lnTo>
                    <a:lnTo>
                      <a:pt x="386" y="45"/>
                    </a:lnTo>
                    <a:lnTo>
                      <a:pt x="403" y="60"/>
                    </a:lnTo>
                    <a:lnTo>
                      <a:pt x="418" y="76"/>
                    </a:lnTo>
                    <a:lnTo>
                      <a:pt x="432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1" y="161"/>
                    </a:lnTo>
                    <a:lnTo>
                      <a:pt x="468" y="185"/>
                    </a:lnTo>
                    <a:lnTo>
                      <a:pt x="472" y="210"/>
                    </a:lnTo>
                    <a:lnTo>
                      <a:pt x="475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7" y="280"/>
                    </a:lnTo>
                    <a:close/>
                    <a:moveTo>
                      <a:pt x="380" y="207"/>
                    </a:moveTo>
                    <a:lnTo>
                      <a:pt x="374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6" y="117"/>
                    </a:lnTo>
                    <a:lnTo>
                      <a:pt x="317" y="103"/>
                    </a:lnTo>
                    <a:lnTo>
                      <a:pt x="295" y="92"/>
                    </a:lnTo>
                    <a:lnTo>
                      <a:pt x="270" y="85"/>
                    </a:lnTo>
                    <a:lnTo>
                      <a:pt x="243" y="83"/>
                    </a:lnTo>
                    <a:lnTo>
                      <a:pt x="216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2" y="137"/>
                    </a:lnTo>
                    <a:lnTo>
                      <a:pt x="119" y="158"/>
                    </a:lnTo>
                    <a:lnTo>
                      <a:pt x="108" y="182"/>
                    </a:lnTo>
                    <a:lnTo>
                      <a:pt x="101" y="207"/>
                    </a:lnTo>
                    <a:lnTo>
                      <a:pt x="380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225080" y="882720"/>
                <a:ext cx="77760" cy="101520"/>
              </a:xfrm>
              <a:custGeom>
                <a:avLst/>
                <a:gdLst/>
                <a:ahLst/>
                <a:rect l="l" t="t" r="r" b="b"/>
                <a:pathLst>
                  <a:path w="404" h="530">
                    <a:moveTo>
                      <a:pt x="404" y="157"/>
                    </a:moveTo>
                    <a:lnTo>
                      <a:pt x="389" y="141"/>
                    </a:lnTo>
                    <a:lnTo>
                      <a:pt x="373" y="127"/>
                    </a:lnTo>
                    <a:lnTo>
                      <a:pt x="358" y="116"/>
                    </a:lnTo>
                    <a:lnTo>
                      <a:pt x="340" y="106"/>
                    </a:lnTo>
                    <a:lnTo>
                      <a:pt x="321" y="99"/>
                    </a:lnTo>
                    <a:lnTo>
                      <a:pt x="303" y="94"/>
                    </a:lnTo>
                    <a:lnTo>
                      <a:pt x="283" y="91"/>
                    </a:lnTo>
                    <a:lnTo>
                      <a:pt x="261" y="90"/>
                    </a:lnTo>
                    <a:lnTo>
                      <a:pt x="245" y="91"/>
                    </a:lnTo>
                    <a:lnTo>
                      <a:pt x="227" y="93"/>
                    </a:lnTo>
                    <a:lnTo>
                      <a:pt x="212" y="97"/>
                    </a:lnTo>
                    <a:lnTo>
                      <a:pt x="196" y="104"/>
                    </a:lnTo>
                    <a:lnTo>
                      <a:pt x="182" y="112"/>
                    </a:lnTo>
                    <a:lnTo>
                      <a:pt x="168" y="120"/>
                    </a:lnTo>
                    <a:lnTo>
                      <a:pt x="156" y="130"/>
                    </a:lnTo>
                    <a:lnTo>
                      <a:pt x="144" y="142"/>
                    </a:lnTo>
                    <a:lnTo>
                      <a:pt x="133" y="154"/>
                    </a:lnTo>
                    <a:lnTo>
                      <a:pt x="124" y="169"/>
                    </a:lnTo>
                    <a:lnTo>
                      <a:pt x="115" y="183"/>
                    </a:lnTo>
                    <a:lnTo>
                      <a:pt x="109" y="198"/>
                    </a:lnTo>
                    <a:lnTo>
                      <a:pt x="103" y="214"/>
                    </a:lnTo>
                    <a:lnTo>
                      <a:pt x="99" y="230"/>
                    </a:lnTo>
                    <a:lnTo>
                      <a:pt x="97" y="247"/>
                    </a:lnTo>
                    <a:lnTo>
                      <a:pt x="96" y="264"/>
                    </a:lnTo>
                    <a:lnTo>
                      <a:pt x="97" y="283"/>
                    </a:lnTo>
                    <a:lnTo>
                      <a:pt x="99" y="300"/>
                    </a:lnTo>
                    <a:lnTo>
                      <a:pt x="103" y="318"/>
                    </a:lnTo>
                    <a:lnTo>
                      <a:pt x="109" y="334"/>
                    </a:lnTo>
                    <a:lnTo>
                      <a:pt x="115" y="350"/>
                    </a:lnTo>
                    <a:lnTo>
                      <a:pt x="124" y="364"/>
                    </a:lnTo>
                    <a:lnTo>
                      <a:pt x="133" y="378"/>
                    </a:lnTo>
                    <a:lnTo>
                      <a:pt x="144" y="390"/>
                    </a:lnTo>
                    <a:lnTo>
                      <a:pt x="156" y="401"/>
                    </a:lnTo>
                    <a:lnTo>
                      <a:pt x="169" y="411"/>
                    </a:lnTo>
                    <a:lnTo>
                      <a:pt x="183" y="420"/>
                    </a:lnTo>
                    <a:lnTo>
                      <a:pt x="199" y="427"/>
                    </a:lnTo>
                    <a:lnTo>
                      <a:pt x="215" y="432"/>
                    </a:lnTo>
                    <a:lnTo>
                      <a:pt x="232" y="437"/>
                    </a:lnTo>
                    <a:lnTo>
                      <a:pt x="249" y="439"/>
                    </a:lnTo>
                    <a:lnTo>
                      <a:pt x="268" y="440"/>
                    </a:lnTo>
                    <a:lnTo>
                      <a:pt x="289" y="439"/>
                    </a:lnTo>
                    <a:lnTo>
                      <a:pt x="307" y="435"/>
                    </a:lnTo>
                    <a:lnTo>
                      <a:pt x="326" y="430"/>
                    </a:lnTo>
                    <a:lnTo>
                      <a:pt x="343" y="422"/>
                    </a:lnTo>
                    <a:lnTo>
                      <a:pt x="360" y="412"/>
                    </a:lnTo>
                    <a:lnTo>
                      <a:pt x="375" y="401"/>
                    </a:lnTo>
                    <a:lnTo>
                      <a:pt x="389" y="388"/>
                    </a:lnTo>
                    <a:lnTo>
                      <a:pt x="404" y="374"/>
                    </a:lnTo>
                    <a:lnTo>
                      <a:pt x="404" y="497"/>
                    </a:lnTo>
                    <a:lnTo>
                      <a:pt x="371" y="511"/>
                    </a:lnTo>
                    <a:lnTo>
                      <a:pt x="338" y="522"/>
                    </a:lnTo>
                    <a:lnTo>
                      <a:pt x="303" y="528"/>
                    </a:lnTo>
                    <a:lnTo>
                      <a:pt x="267" y="530"/>
                    </a:lnTo>
                    <a:lnTo>
                      <a:pt x="239" y="528"/>
                    </a:lnTo>
                    <a:lnTo>
                      <a:pt x="213" y="524"/>
                    </a:lnTo>
                    <a:lnTo>
                      <a:pt x="188" y="518"/>
                    </a:lnTo>
                    <a:lnTo>
                      <a:pt x="164" y="509"/>
                    </a:lnTo>
                    <a:lnTo>
                      <a:pt x="140" y="499"/>
                    </a:lnTo>
                    <a:lnTo>
                      <a:pt x="119" y="486"/>
                    </a:lnTo>
                    <a:lnTo>
                      <a:pt x="98" y="472"/>
                    </a:lnTo>
                    <a:lnTo>
                      <a:pt x="79" y="454"/>
                    </a:lnTo>
                    <a:lnTo>
                      <a:pt x="62" y="437"/>
                    </a:lnTo>
                    <a:lnTo>
                      <a:pt x="46" y="416"/>
                    </a:lnTo>
                    <a:lnTo>
                      <a:pt x="33" y="395"/>
                    </a:lnTo>
                    <a:lnTo>
                      <a:pt x="21" y="372"/>
                    </a:lnTo>
                    <a:lnTo>
                      <a:pt x="12" y="348"/>
                    </a:lnTo>
                    <a:lnTo>
                      <a:pt x="6" y="322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6" y="213"/>
                    </a:lnTo>
                    <a:lnTo>
                      <a:pt x="12" y="186"/>
                    </a:lnTo>
                    <a:lnTo>
                      <a:pt x="21" y="161"/>
                    </a:lnTo>
                    <a:lnTo>
                      <a:pt x="33" y="138"/>
                    </a:lnTo>
                    <a:lnTo>
                      <a:pt x="46" y="115"/>
                    </a:lnTo>
                    <a:lnTo>
                      <a:pt x="62" y="95"/>
                    </a:lnTo>
                    <a:lnTo>
                      <a:pt x="79" y="76"/>
                    </a:lnTo>
                    <a:lnTo>
                      <a:pt x="98" y="59"/>
                    </a:lnTo>
                    <a:lnTo>
                      <a:pt x="119" y="45"/>
                    </a:lnTo>
                    <a:lnTo>
                      <a:pt x="142" y="31"/>
                    </a:lnTo>
                    <a:lnTo>
                      <a:pt x="165" y="20"/>
                    </a:lnTo>
                    <a:lnTo>
                      <a:pt x="190" y="12"/>
                    </a:lnTo>
                    <a:lnTo>
                      <a:pt x="216" y="5"/>
                    </a:lnTo>
                    <a:lnTo>
                      <a:pt x="244" y="2"/>
                    </a:lnTo>
                    <a:lnTo>
                      <a:pt x="272" y="0"/>
                    </a:lnTo>
                    <a:lnTo>
                      <a:pt x="306" y="2"/>
                    </a:lnTo>
                    <a:lnTo>
                      <a:pt x="340" y="8"/>
                    </a:lnTo>
                    <a:lnTo>
                      <a:pt x="373" y="18"/>
                    </a:lnTo>
                    <a:lnTo>
                      <a:pt x="404" y="32"/>
                    </a:lnTo>
                    <a:lnTo>
                      <a:pt x="404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314000" y="882720"/>
                <a:ext cx="102960" cy="101520"/>
              </a:xfrm>
              <a:custGeom>
                <a:avLst/>
                <a:gdLst/>
                <a:ahLst/>
                <a:rect l="l" t="t" r="r" b="b"/>
                <a:pathLst>
                  <a:path w="532" h="530">
                    <a:moveTo>
                      <a:pt x="532" y="264"/>
                    </a:moveTo>
                    <a:lnTo>
                      <a:pt x="530" y="293"/>
                    </a:lnTo>
                    <a:lnTo>
                      <a:pt x="527" y="319"/>
                    </a:lnTo>
                    <a:lnTo>
                      <a:pt x="520" y="344"/>
                    </a:lnTo>
                    <a:lnTo>
                      <a:pt x="511" y="370"/>
                    </a:lnTo>
                    <a:lnTo>
                      <a:pt x="501" y="393"/>
                    </a:lnTo>
                    <a:lnTo>
                      <a:pt x="487" y="415"/>
                    </a:lnTo>
                    <a:lnTo>
                      <a:pt x="472" y="434"/>
                    </a:lnTo>
                    <a:lnTo>
                      <a:pt x="454" y="453"/>
                    </a:lnTo>
                    <a:lnTo>
                      <a:pt x="436" y="471"/>
                    </a:lnTo>
                    <a:lnTo>
                      <a:pt x="416" y="485"/>
                    </a:lnTo>
                    <a:lnTo>
                      <a:pt x="394" y="498"/>
                    </a:lnTo>
                    <a:lnTo>
                      <a:pt x="370" y="509"/>
                    </a:lnTo>
                    <a:lnTo>
                      <a:pt x="346" y="518"/>
                    </a:lnTo>
                    <a:lnTo>
                      <a:pt x="321" y="524"/>
                    </a:lnTo>
                    <a:lnTo>
                      <a:pt x="293" y="528"/>
                    </a:lnTo>
                    <a:lnTo>
                      <a:pt x="266" y="530"/>
                    </a:lnTo>
                    <a:lnTo>
                      <a:pt x="238" y="528"/>
                    </a:lnTo>
                    <a:lnTo>
                      <a:pt x="212" y="524"/>
                    </a:lnTo>
                    <a:lnTo>
                      <a:pt x="187" y="518"/>
                    </a:lnTo>
                    <a:lnTo>
                      <a:pt x="162" y="509"/>
                    </a:lnTo>
                    <a:lnTo>
                      <a:pt x="139" y="498"/>
                    </a:lnTo>
                    <a:lnTo>
                      <a:pt x="117" y="485"/>
                    </a:lnTo>
                    <a:lnTo>
                      <a:pt x="97" y="471"/>
                    </a:lnTo>
                    <a:lnTo>
                      <a:pt x="78" y="453"/>
                    </a:lnTo>
                    <a:lnTo>
                      <a:pt x="61" y="434"/>
                    </a:lnTo>
                    <a:lnTo>
                      <a:pt x="45" y="415"/>
                    </a:lnTo>
                    <a:lnTo>
                      <a:pt x="32" y="393"/>
                    </a:lnTo>
                    <a:lnTo>
                      <a:pt x="21" y="370"/>
                    </a:lnTo>
                    <a:lnTo>
                      <a:pt x="12" y="344"/>
                    </a:lnTo>
                    <a:lnTo>
                      <a:pt x="6" y="319"/>
                    </a:lnTo>
                    <a:lnTo>
                      <a:pt x="3" y="293"/>
                    </a:lnTo>
                    <a:lnTo>
                      <a:pt x="0" y="264"/>
                    </a:lnTo>
                    <a:lnTo>
                      <a:pt x="3" y="237"/>
                    </a:lnTo>
                    <a:lnTo>
                      <a:pt x="6" y="210"/>
                    </a:lnTo>
                    <a:lnTo>
                      <a:pt x="12" y="185"/>
                    </a:lnTo>
                    <a:lnTo>
                      <a:pt x="21" y="160"/>
                    </a:lnTo>
                    <a:lnTo>
                      <a:pt x="32" y="137"/>
                    </a:lnTo>
                    <a:lnTo>
                      <a:pt x="45" y="115"/>
                    </a:lnTo>
                    <a:lnTo>
                      <a:pt x="61" y="95"/>
                    </a:lnTo>
                    <a:lnTo>
                      <a:pt x="78" y="76"/>
                    </a:lnTo>
                    <a:lnTo>
                      <a:pt x="97" y="59"/>
                    </a:lnTo>
                    <a:lnTo>
                      <a:pt x="117" y="45"/>
                    </a:lnTo>
                    <a:lnTo>
                      <a:pt x="139" y="31"/>
                    </a:lnTo>
                    <a:lnTo>
                      <a:pt x="162" y="20"/>
                    </a:lnTo>
                    <a:lnTo>
                      <a:pt x="187" y="12"/>
                    </a:lnTo>
                    <a:lnTo>
                      <a:pt x="212" y="5"/>
                    </a:lnTo>
                    <a:lnTo>
                      <a:pt x="238" y="2"/>
                    </a:lnTo>
                    <a:lnTo>
                      <a:pt x="266" y="0"/>
                    </a:lnTo>
                    <a:lnTo>
                      <a:pt x="293" y="2"/>
                    </a:lnTo>
                    <a:lnTo>
                      <a:pt x="321" y="5"/>
                    </a:lnTo>
                    <a:lnTo>
                      <a:pt x="346" y="12"/>
                    </a:lnTo>
                    <a:lnTo>
                      <a:pt x="370" y="20"/>
                    </a:lnTo>
                    <a:lnTo>
                      <a:pt x="394" y="31"/>
                    </a:lnTo>
                    <a:lnTo>
                      <a:pt x="416" y="45"/>
                    </a:lnTo>
                    <a:lnTo>
                      <a:pt x="436" y="59"/>
                    </a:lnTo>
                    <a:lnTo>
                      <a:pt x="454" y="76"/>
                    </a:lnTo>
                    <a:lnTo>
                      <a:pt x="472" y="95"/>
                    </a:lnTo>
                    <a:lnTo>
                      <a:pt x="487" y="115"/>
                    </a:lnTo>
                    <a:lnTo>
                      <a:pt x="501" y="137"/>
                    </a:lnTo>
                    <a:lnTo>
                      <a:pt x="511" y="160"/>
                    </a:lnTo>
                    <a:lnTo>
                      <a:pt x="520" y="185"/>
                    </a:lnTo>
                    <a:lnTo>
                      <a:pt x="527" y="210"/>
                    </a:lnTo>
                    <a:lnTo>
                      <a:pt x="530" y="237"/>
                    </a:lnTo>
                    <a:lnTo>
                      <a:pt x="532" y="264"/>
                    </a:lnTo>
                    <a:close/>
                    <a:moveTo>
                      <a:pt x="96" y="264"/>
                    </a:moveTo>
                    <a:lnTo>
                      <a:pt x="97" y="282"/>
                    </a:lnTo>
                    <a:lnTo>
                      <a:pt x="100" y="299"/>
                    </a:lnTo>
                    <a:lnTo>
                      <a:pt x="103" y="316"/>
                    </a:lnTo>
                    <a:lnTo>
                      <a:pt x="110" y="331"/>
                    </a:lnTo>
                    <a:lnTo>
                      <a:pt x="117" y="346"/>
                    </a:lnTo>
                    <a:lnTo>
                      <a:pt x="125" y="361"/>
                    </a:lnTo>
                    <a:lnTo>
                      <a:pt x="135" y="374"/>
                    </a:lnTo>
                    <a:lnTo>
                      <a:pt x="146" y="386"/>
                    </a:lnTo>
                    <a:lnTo>
                      <a:pt x="158" y="398"/>
                    </a:lnTo>
                    <a:lnTo>
                      <a:pt x="171" y="408"/>
                    </a:lnTo>
                    <a:lnTo>
                      <a:pt x="185" y="417"/>
                    </a:lnTo>
                    <a:lnTo>
                      <a:pt x="200" y="424"/>
                    </a:lnTo>
                    <a:lnTo>
                      <a:pt x="215" y="430"/>
                    </a:lnTo>
                    <a:lnTo>
                      <a:pt x="232" y="434"/>
                    </a:lnTo>
                    <a:lnTo>
                      <a:pt x="248" y="437"/>
                    </a:lnTo>
                    <a:lnTo>
                      <a:pt x="266" y="438"/>
                    </a:lnTo>
                    <a:lnTo>
                      <a:pt x="283" y="437"/>
                    </a:lnTo>
                    <a:lnTo>
                      <a:pt x="301" y="434"/>
                    </a:lnTo>
                    <a:lnTo>
                      <a:pt x="317" y="430"/>
                    </a:lnTo>
                    <a:lnTo>
                      <a:pt x="333" y="424"/>
                    </a:lnTo>
                    <a:lnTo>
                      <a:pt x="348" y="417"/>
                    </a:lnTo>
                    <a:lnTo>
                      <a:pt x="361" y="408"/>
                    </a:lnTo>
                    <a:lnTo>
                      <a:pt x="374" y="398"/>
                    </a:lnTo>
                    <a:lnTo>
                      <a:pt x="386" y="386"/>
                    </a:lnTo>
                    <a:lnTo>
                      <a:pt x="397" y="374"/>
                    </a:lnTo>
                    <a:lnTo>
                      <a:pt x="407" y="361"/>
                    </a:lnTo>
                    <a:lnTo>
                      <a:pt x="416" y="346"/>
                    </a:lnTo>
                    <a:lnTo>
                      <a:pt x="423" y="331"/>
                    </a:lnTo>
                    <a:lnTo>
                      <a:pt x="428" y="316"/>
                    </a:lnTo>
                    <a:lnTo>
                      <a:pt x="433" y="299"/>
                    </a:lnTo>
                    <a:lnTo>
                      <a:pt x="436" y="282"/>
                    </a:lnTo>
                    <a:lnTo>
                      <a:pt x="436" y="264"/>
                    </a:lnTo>
                    <a:lnTo>
                      <a:pt x="436" y="248"/>
                    </a:lnTo>
                    <a:lnTo>
                      <a:pt x="433" y="230"/>
                    </a:lnTo>
                    <a:lnTo>
                      <a:pt x="428" y="214"/>
                    </a:lnTo>
                    <a:lnTo>
                      <a:pt x="423" y="197"/>
                    </a:lnTo>
                    <a:lnTo>
                      <a:pt x="416" y="183"/>
                    </a:lnTo>
                    <a:lnTo>
                      <a:pt x="407" y="169"/>
                    </a:lnTo>
                    <a:lnTo>
                      <a:pt x="397" y="154"/>
                    </a:lnTo>
                    <a:lnTo>
                      <a:pt x="386" y="142"/>
                    </a:lnTo>
                    <a:lnTo>
                      <a:pt x="374" y="131"/>
                    </a:lnTo>
                    <a:lnTo>
                      <a:pt x="361" y="121"/>
                    </a:lnTo>
                    <a:lnTo>
                      <a:pt x="348" y="113"/>
                    </a:lnTo>
                    <a:lnTo>
                      <a:pt x="333" y="105"/>
                    </a:lnTo>
                    <a:lnTo>
                      <a:pt x="317" y="99"/>
                    </a:lnTo>
                    <a:lnTo>
                      <a:pt x="301" y="95"/>
                    </a:lnTo>
                    <a:lnTo>
                      <a:pt x="283" y="92"/>
                    </a:lnTo>
                    <a:lnTo>
                      <a:pt x="266" y="92"/>
                    </a:lnTo>
                    <a:lnTo>
                      <a:pt x="248" y="92"/>
                    </a:lnTo>
                    <a:lnTo>
                      <a:pt x="232" y="95"/>
                    </a:lnTo>
                    <a:lnTo>
                      <a:pt x="215" y="99"/>
                    </a:lnTo>
                    <a:lnTo>
                      <a:pt x="200" y="105"/>
                    </a:lnTo>
                    <a:lnTo>
                      <a:pt x="185" y="113"/>
                    </a:lnTo>
                    <a:lnTo>
                      <a:pt x="171" y="121"/>
                    </a:lnTo>
                    <a:lnTo>
                      <a:pt x="158" y="131"/>
                    </a:lnTo>
                    <a:lnTo>
                      <a:pt x="146" y="142"/>
                    </a:lnTo>
                    <a:lnTo>
                      <a:pt x="135" y="154"/>
                    </a:lnTo>
                    <a:lnTo>
                      <a:pt x="125" y="169"/>
                    </a:lnTo>
                    <a:lnTo>
                      <a:pt x="117" y="183"/>
                    </a:lnTo>
                    <a:lnTo>
                      <a:pt x="110" y="197"/>
                    </a:lnTo>
                    <a:lnTo>
                      <a:pt x="103" y="214"/>
                    </a:lnTo>
                    <a:lnTo>
                      <a:pt x="100" y="230"/>
                    </a:lnTo>
                    <a:lnTo>
                      <a:pt x="97" y="248"/>
                    </a:lnTo>
                    <a:lnTo>
                      <a:pt x="96" y="2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430280" y="882720"/>
                <a:ext cx="133200" cy="98280"/>
              </a:xfrm>
              <a:custGeom>
                <a:avLst/>
                <a:gdLst/>
                <a:ahLst/>
                <a:rect l="l" t="t" r="r" b="b"/>
                <a:pathLst>
                  <a:path w="690" h="512">
                    <a:moveTo>
                      <a:pt x="96" y="77"/>
                    </a:moveTo>
                    <a:lnTo>
                      <a:pt x="98" y="77"/>
                    </a:lnTo>
                    <a:lnTo>
                      <a:pt x="109" y="62"/>
                    </a:lnTo>
                    <a:lnTo>
                      <a:pt x="122" y="47"/>
                    </a:lnTo>
                    <a:lnTo>
                      <a:pt x="137" y="34"/>
                    </a:lnTo>
                    <a:lnTo>
                      <a:pt x="154" y="23"/>
                    </a:lnTo>
                    <a:lnTo>
                      <a:pt x="171" y="13"/>
                    </a:lnTo>
                    <a:lnTo>
                      <a:pt x="190" y="6"/>
                    </a:lnTo>
                    <a:lnTo>
                      <a:pt x="210" y="2"/>
                    </a:lnTo>
                    <a:lnTo>
                      <a:pt x="229" y="0"/>
                    </a:lnTo>
                    <a:lnTo>
                      <a:pt x="253" y="2"/>
                    </a:lnTo>
                    <a:lnTo>
                      <a:pt x="274" y="6"/>
                    </a:lnTo>
                    <a:lnTo>
                      <a:pt x="295" y="13"/>
                    </a:lnTo>
                    <a:lnTo>
                      <a:pt x="314" y="24"/>
                    </a:lnTo>
                    <a:lnTo>
                      <a:pt x="330" y="36"/>
                    </a:lnTo>
                    <a:lnTo>
                      <a:pt x="346" y="51"/>
                    </a:lnTo>
                    <a:lnTo>
                      <a:pt x="360" y="69"/>
                    </a:lnTo>
                    <a:lnTo>
                      <a:pt x="373" y="88"/>
                    </a:lnTo>
                    <a:lnTo>
                      <a:pt x="385" y="69"/>
                    </a:lnTo>
                    <a:lnTo>
                      <a:pt x="401" y="52"/>
                    </a:lnTo>
                    <a:lnTo>
                      <a:pt x="418" y="37"/>
                    </a:lnTo>
                    <a:lnTo>
                      <a:pt x="438" y="24"/>
                    </a:lnTo>
                    <a:lnTo>
                      <a:pt x="458" y="14"/>
                    </a:lnTo>
                    <a:lnTo>
                      <a:pt x="480" y="6"/>
                    </a:lnTo>
                    <a:lnTo>
                      <a:pt x="503" y="2"/>
                    </a:lnTo>
                    <a:lnTo>
                      <a:pt x="526" y="0"/>
                    </a:lnTo>
                    <a:lnTo>
                      <a:pt x="550" y="1"/>
                    </a:lnTo>
                    <a:lnTo>
                      <a:pt x="571" y="5"/>
                    </a:lnTo>
                    <a:lnTo>
                      <a:pt x="589" y="11"/>
                    </a:lnTo>
                    <a:lnTo>
                      <a:pt x="607" y="17"/>
                    </a:lnTo>
                    <a:lnTo>
                      <a:pt x="622" y="27"/>
                    </a:lnTo>
                    <a:lnTo>
                      <a:pt x="635" y="38"/>
                    </a:lnTo>
                    <a:lnTo>
                      <a:pt x="647" y="51"/>
                    </a:lnTo>
                    <a:lnTo>
                      <a:pt x="657" y="65"/>
                    </a:lnTo>
                    <a:lnTo>
                      <a:pt x="666" y="81"/>
                    </a:lnTo>
                    <a:lnTo>
                      <a:pt x="673" y="97"/>
                    </a:lnTo>
                    <a:lnTo>
                      <a:pt x="678" y="115"/>
                    </a:lnTo>
                    <a:lnTo>
                      <a:pt x="684" y="133"/>
                    </a:lnTo>
                    <a:lnTo>
                      <a:pt x="689" y="173"/>
                    </a:lnTo>
                    <a:lnTo>
                      <a:pt x="690" y="215"/>
                    </a:lnTo>
                    <a:lnTo>
                      <a:pt x="690" y="512"/>
                    </a:lnTo>
                    <a:lnTo>
                      <a:pt x="595" y="512"/>
                    </a:lnTo>
                    <a:lnTo>
                      <a:pt x="595" y="230"/>
                    </a:lnTo>
                    <a:lnTo>
                      <a:pt x="595" y="206"/>
                    </a:lnTo>
                    <a:lnTo>
                      <a:pt x="593" y="181"/>
                    </a:lnTo>
                    <a:lnTo>
                      <a:pt x="588" y="157"/>
                    </a:lnTo>
                    <a:lnTo>
                      <a:pt x="580" y="133"/>
                    </a:lnTo>
                    <a:lnTo>
                      <a:pt x="568" y="114"/>
                    </a:lnTo>
                    <a:lnTo>
                      <a:pt x="561" y="106"/>
                    </a:lnTo>
                    <a:lnTo>
                      <a:pt x="552" y="98"/>
                    </a:lnTo>
                    <a:lnTo>
                      <a:pt x="542" y="93"/>
                    </a:lnTo>
                    <a:lnTo>
                      <a:pt x="531" y="88"/>
                    </a:lnTo>
                    <a:lnTo>
                      <a:pt x="517" y="86"/>
                    </a:lnTo>
                    <a:lnTo>
                      <a:pt x="503" y="85"/>
                    </a:lnTo>
                    <a:lnTo>
                      <a:pt x="484" y="86"/>
                    </a:lnTo>
                    <a:lnTo>
                      <a:pt x="469" y="90"/>
                    </a:lnTo>
                    <a:lnTo>
                      <a:pt x="454" y="95"/>
                    </a:lnTo>
                    <a:lnTo>
                      <a:pt x="442" y="103"/>
                    </a:lnTo>
                    <a:lnTo>
                      <a:pt x="432" y="112"/>
                    </a:lnTo>
                    <a:lnTo>
                      <a:pt x="423" y="123"/>
                    </a:lnTo>
                    <a:lnTo>
                      <a:pt x="416" y="135"/>
                    </a:lnTo>
                    <a:lnTo>
                      <a:pt x="409" y="148"/>
                    </a:lnTo>
                    <a:lnTo>
                      <a:pt x="401" y="176"/>
                    </a:lnTo>
                    <a:lnTo>
                      <a:pt x="396" y="207"/>
                    </a:lnTo>
                    <a:lnTo>
                      <a:pt x="394" y="238"/>
                    </a:lnTo>
                    <a:lnTo>
                      <a:pt x="393" y="267"/>
                    </a:lnTo>
                    <a:lnTo>
                      <a:pt x="393" y="512"/>
                    </a:lnTo>
                    <a:lnTo>
                      <a:pt x="297" y="512"/>
                    </a:lnTo>
                    <a:lnTo>
                      <a:pt x="297" y="249"/>
                    </a:lnTo>
                    <a:lnTo>
                      <a:pt x="297" y="224"/>
                    </a:lnTo>
                    <a:lnTo>
                      <a:pt x="295" y="196"/>
                    </a:lnTo>
                    <a:lnTo>
                      <a:pt x="292" y="169"/>
                    </a:lnTo>
                    <a:lnTo>
                      <a:pt x="285" y="142"/>
                    </a:lnTo>
                    <a:lnTo>
                      <a:pt x="280" y="130"/>
                    </a:lnTo>
                    <a:lnTo>
                      <a:pt x="273" y="119"/>
                    </a:lnTo>
                    <a:lnTo>
                      <a:pt x="267" y="110"/>
                    </a:lnTo>
                    <a:lnTo>
                      <a:pt x="258" y="102"/>
                    </a:lnTo>
                    <a:lnTo>
                      <a:pt x="247" y="95"/>
                    </a:lnTo>
                    <a:lnTo>
                      <a:pt x="235" y="90"/>
                    </a:lnTo>
                    <a:lnTo>
                      <a:pt x="222" y="86"/>
                    </a:lnTo>
                    <a:lnTo>
                      <a:pt x="206" y="85"/>
                    </a:lnTo>
                    <a:lnTo>
                      <a:pt x="188" y="86"/>
                    </a:lnTo>
                    <a:lnTo>
                      <a:pt x="172" y="90"/>
                    </a:lnTo>
                    <a:lnTo>
                      <a:pt x="158" y="95"/>
                    </a:lnTo>
                    <a:lnTo>
                      <a:pt x="146" y="103"/>
                    </a:lnTo>
                    <a:lnTo>
                      <a:pt x="135" y="112"/>
                    </a:lnTo>
                    <a:lnTo>
                      <a:pt x="126" y="123"/>
                    </a:lnTo>
                    <a:lnTo>
                      <a:pt x="119" y="135"/>
                    </a:lnTo>
                    <a:lnTo>
                      <a:pt x="113" y="148"/>
                    </a:lnTo>
                    <a:lnTo>
                      <a:pt x="103" y="176"/>
                    </a:lnTo>
                    <a:lnTo>
                      <a:pt x="99" y="207"/>
                    </a:lnTo>
                    <a:lnTo>
                      <a:pt x="97" y="238"/>
                    </a:lnTo>
                    <a:lnTo>
                      <a:pt x="96" y="267"/>
                    </a:lnTo>
                    <a:lnTo>
                      <a:pt x="96" y="512"/>
                    </a:lnTo>
                    <a:lnTo>
                      <a:pt x="0" y="512"/>
                    </a:lnTo>
                    <a:lnTo>
                      <a:pt x="0" y="15"/>
                    </a:lnTo>
                    <a:lnTo>
                      <a:pt x="96" y="15"/>
                    </a:lnTo>
                    <a:lnTo>
                      <a:pt x="96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04240" y="1022400"/>
                <a:ext cx="9082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a-DK" sz="600" spc="-1" strike="noStrike">
                    <a:solidFill>
                      <a:srgbClr val="ffffff"/>
                    </a:solidFill>
                    <a:latin typeface="Futura Bk BT"/>
                  </a:rPr>
                  <a:t>www.kirktelecom.dk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4851360" y="3517920"/>
            <a:ext cx="512640" cy="444240"/>
            <a:chOff x="4851360" y="3517920"/>
            <a:chExt cx="512640" cy="444240"/>
          </a:xfrm>
        </p:grpSpPr>
        <p:sp>
          <p:nvSpPr>
            <p:cNvPr id="190" name=""/>
            <p:cNvSpPr/>
            <p:nvPr/>
          </p:nvSpPr>
          <p:spPr>
            <a:xfrm>
              <a:off x="4994640" y="351792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20000" y="351792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51360" y="3670200"/>
              <a:ext cx="512640" cy="29196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5657760" y="3657600"/>
            <a:ext cx="51444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24440" y="2755800"/>
            <a:ext cx="2092320" cy="212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51360" y="2755800"/>
            <a:ext cx="2092320" cy="212112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33720" y="1905120"/>
            <a:ext cx="2895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wis721 BT"/>
              </a:rPr>
              <a:t>Базовая станция, соединенная с контроллер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67480" y="2041560"/>
            <a:ext cx="2438640" cy="15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Swis721 BT"/>
              </a:rPr>
              <a:t>DECT </a:t>
            </a:r>
            <a:r>
              <a:rPr b="0" lang="ru-RU" sz="1800" spc="-1" strike="noStrike">
                <a:solidFill>
                  <a:srgbClr val="000000"/>
                </a:solidFill>
                <a:latin typeface="Swis721 BT"/>
              </a:rPr>
              <a:t>- репите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Swis721 BT"/>
              </a:rPr>
              <a:t>50% </a:t>
            </a:r>
            <a:r>
              <a:rPr b="0" lang="ru-RU" sz="1600" spc="-1" strike="noStrike">
                <a:solidFill>
                  <a:srgbClr val="000000"/>
                </a:solidFill>
                <a:latin typeface="Swis721 BT"/>
              </a:rPr>
              <a:t>перекрыт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Swis721 BT"/>
              </a:rPr>
              <a:t>50% </a:t>
            </a:r>
            <a:r>
              <a:rPr b="0" lang="ru-RU" sz="1600" spc="-1" strike="noStrike">
                <a:solidFill>
                  <a:srgbClr val="000000"/>
                </a:solidFill>
                <a:latin typeface="Swis721 BT"/>
              </a:rPr>
              <a:t>увеличение зоны действия базовой стан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33720" y="5257800"/>
            <a:ext cx="320040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wis721 BT"/>
              </a:rPr>
              <a:t>4 канала </a:t>
            </a:r>
            <a:r>
              <a:rPr b="0" lang="en-US" sz="1800" spc="-1" strike="noStrike">
                <a:solidFill>
                  <a:srgbClr val="000000"/>
                </a:solidFill>
                <a:latin typeface="Swis721 BT"/>
              </a:rPr>
              <a:t>D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wis721 BT"/>
              </a:rPr>
              <a:t>Зона</a:t>
            </a:r>
            <a:r>
              <a:rPr b="0" lang="da-DK" sz="1800" spc="-1" strike="noStrike">
                <a:solidFill>
                  <a:srgbClr val="000000"/>
                </a:solidFill>
                <a:latin typeface="Swis721 BT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20040" y="5257800"/>
            <a:ext cx="32860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Swis721 BT"/>
              </a:rPr>
              <a:t>2 канал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Swis721 BT"/>
              </a:rPr>
              <a:t> D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wis721 BT"/>
              </a:rPr>
              <a:t>Зона</a:t>
            </a:r>
            <a:r>
              <a:rPr b="0" lang="da-DK" sz="1800" spc="-1" strike="noStrike">
                <a:solidFill>
                  <a:srgbClr val="000000"/>
                </a:solidFill>
                <a:latin typeface="Swis721 BT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2666880"/>
            <a:ext cx="1371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90920" y="83808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wis721 BT"/>
              </a:rPr>
              <a:t>Функционирование репите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7238880" y="464796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62320" y="384120"/>
            <a:ext cx="7235640" cy="3240"/>
          </a:xfrm>
          <a:prstGeom prst="line">
            <a:avLst/>
          </a:prstGeom>
          <a:ln cap="sq"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157C-7A2B-4AB2-A8CC-38C12DC13E8A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09680" y="1203480"/>
            <a:ext cx="7696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09680" y="1446120"/>
            <a:ext cx="742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wis721 BT"/>
              </a:rPr>
              <a:t>Репитеры применяются  в зонах с не высоким трафик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324160" y="1812960"/>
            <a:ext cx="7086600" cy="4952880"/>
            <a:chOff x="2324160" y="1812960"/>
            <a:chExt cx="7086600" cy="4952880"/>
          </a:xfrm>
        </p:grpSpPr>
        <p:grpSp>
          <p:nvGrpSpPr>
            <p:cNvPr id="207" name=""/>
            <p:cNvGrpSpPr/>
            <p:nvPr/>
          </p:nvGrpSpPr>
          <p:grpSpPr>
            <a:xfrm>
              <a:off x="3619800" y="1812960"/>
              <a:ext cx="5790960" cy="1905120"/>
              <a:chOff x="3619800" y="1812960"/>
              <a:chExt cx="5790960" cy="1905120"/>
            </a:xfrm>
          </p:grpSpPr>
          <p:sp>
            <p:nvSpPr>
              <p:cNvPr id="208" name=""/>
              <p:cNvSpPr/>
              <p:nvPr/>
            </p:nvSpPr>
            <p:spPr>
              <a:xfrm>
                <a:off x="3619800" y="1812960"/>
                <a:ext cx="1904760" cy="1905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915080" y="1812960"/>
                <a:ext cx="1905120" cy="1905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210360" y="1812960"/>
                <a:ext cx="1905120" cy="1905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506000" y="1812960"/>
                <a:ext cx="1904760" cy="1905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3924360" y="2117880"/>
              <a:ext cx="518184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19800" y="2651040"/>
              <a:ext cx="1904760" cy="1905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2324160" y="4251240"/>
              <a:ext cx="3810240" cy="2514600"/>
              <a:chOff x="2324160" y="4251240"/>
              <a:chExt cx="3810240" cy="25146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2324160" y="4251240"/>
                <a:ext cx="3124440" cy="1905120"/>
                <a:chOff x="2324160" y="4251240"/>
                <a:chExt cx="3124440" cy="190512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3543480" y="4251240"/>
                  <a:ext cx="1905120" cy="1905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324160" y="4251240"/>
                  <a:ext cx="1905120" cy="1905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2629080" y="4556160"/>
                <a:ext cx="2590920" cy="1295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29280" y="4861080"/>
                <a:ext cx="1905120" cy="1904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009960" y="4861080"/>
                <a:ext cx="1905120" cy="1904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4457880" y="34131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686480" y="34131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sp>
          <p:nvSpPr>
            <p:cNvPr id="224" name=""/>
            <p:cNvSpPr/>
            <p:nvPr/>
          </p:nvSpPr>
          <p:spPr>
            <a:xfrm>
              <a:off x="2133720" y="457200"/>
              <a:ext cx="7772400" cy="0"/>
            </a:xfrm>
            <a:prstGeom prst="line">
              <a:avLst/>
            </a:prstGeom>
            <a:ln cap="sq"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0" y="0"/>
              <a:ext cx="5657760" cy="6858000"/>
              <a:chOff x="0" y="0"/>
              <a:chExt cx="5657760" cy="6858000"/>
            </a:xfrm>
          </p:grpSpPr>
          <p:sp>
            <p:nvSpPr>
              <p:cNvPr id="226" name=""/>
              <p:cNvSpPr/>
              <p:nvPr/>
            </p:nvSpPr>
            <p:spPr>
              <a:xfrm>
                <a:off x="0" y="0"/>
                <a:ext cx="2057400" cy="3429000"/>
              </a:xfrm>
              <a:prstGeom prst="rect">
                <a:avLst/>
              </a:prstGeom>
              <a:solidFill>
                <a:srgbClr val="0000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3429000"/>
                <a:ext cx="2057400" cy="3429000"/>
              </a:xfrm>
              <a:prstGeom prst="rect">
                <a:avLst/>
              </a:prstGeom>
              <a:solidFill>
                <a:srgbClr val="0000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47800" y="6324480"/>
                <a:ext cx="304560" cy="228600"/>
              </a:xfrm>
              <a:prstGeom prst="triangle">
                <a:avLst>
                  <a:gd name="adj" fmla="val 49995"/>
                </a:avLst>
              </a:prstGeom>
              <a:solidFill>
                <a:srgbClr val="0059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353200" y="6324480"/>
                <a:ext cx="304560" cy="228600"/>
              </a:xfrm>
              <a:prstGeom prst="triangle">
                <a:avLst>
                  <a:gd name="adj" fmla="val 49995"/>
                </a:avLst>
              </a:prstGeom>
              <a:solidFill>
                <a:srgbClr val="0059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3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85760" y="2055960"/>
                <a:ext cx="1574640" cy="2717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31" name=""/>
              <p:cNvGrpSpPr/>
              <p:nvPr/>
            </p:nvGrpSpPr>
            <p:grpSpPr>
              <a:xfrm>
                <a:off x="195120" y="380880"/>
                <a:ext cx="1517400" cy="821880"/>
                <a:chOff x="195120" y="380880"/>
                <a:chExt cx="1517400" cy="82188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72960" y="380880"/>
                  <a:ext cx="313200" cy="387360"/>
                </a:xfrm>
                <a:custGeom>
                  <a:avLst/>
                  <a:gdLst/>
                  <a:ahLst/>
                  <a:rect l="l" t="t" r="r" b="b"/>
                  <a:pathLst>
                    <a:path w="1606" h="1987">
                      <a:moveTo>
                        <a:pt x="29" y="1655"/>
                      </a:moveTo>
                      <a:lnTo>
                        <a:pt x="79" y="1682"/>
                      </a:lnTo>
                      <a:lnTo>
                        <a:pt x="623" y="1957"/>
                      </a:lnTo>
                      <a:lnTo>
                        <a:pt x="684" y="1987"/>
                      </a:lnTo>
                      <a:lnTo>
                        <a:pt x="687" y="1916"/>
                      </a:lnTo>
                      <a:lnTo>
                        <a:pt x="691" y="1864"/>
                      </a:lnTo>
                      <a:lnTo>
                        <a:pt x="697" y="1814"/>
                      </a:lnTo>
                      <a:lnTo>
                        <a:pt x="704" y="1763"/>
                      </a:lnTo>
                      <a:lnTo>
                        <a:pt x="713" y="1714"/>
                      </a:lnTo>
                      <a:lnTo>
                        <a:pt x="724" y="1665"/>
                      </a:lnTo>
                      <a:lnTo>
                        <a:pt x="737" y="1616"/>
                      </a:lnTo>
                      <a:lnTo>
                        <a:pt x="751" y="1569"/>
                      </a:lnTo>
                      <a:lnTo>
                        <a:pt x="767" y="1522"/>
                      </a:lnTo>
                      <a:lnTo>
                        <a:pt x="784" y="1476"/>
                      </a:lnTo>
                      <a:lnTo>
                        <a:pt x="803" y="1431"/>
                      </a:lnTo>
                      <a:lnTo>
                        <a:pt x="824" y="1386"/>
                      </a:lnTo>
                      <a:lnTo>
                        <a:pt x="846" y="1343"/>
                      </a:lnTo>
                      <a:lnTo>
                        <a:pt x="869" y="1300"/>
                      </a:lnTo>
                      <a:lnTo>
                        <a:pt x="894" y="1257"/>
                      </a:lnTo>
                      <a:lnTo>
                        <a:pt x="920" y="1217"/>
                      </a:lnTo>
                      <a:lnTo>
                        <a:pt x="948" y="1177"/>
                      </a:lnTo>
                      <a:lnTo>
                        <a:pt x="976" y="1137"/>
                      </a:lnTo>
                      <a:lnTo>
                        <a:pt x="1007" y="1100"/>
                      </a:lnTo>
                      <a:lnTo>
                        <a:pt x="1038" y="1063"/>
                      </a:lnTo>
                      <a:lnTo>
                        <a:pt x="1071" y="1027"/>
                      </a:lnTo>
                      <a:lnTo>
                        <a:pt x="1105" y="993"/>
                      </a:lnTo>
                      <a:lnTo>
                        <a:pt x="1140" y="959"/>
                      </a:lnTo>
                      <a:lnTo>
                        <a:pt x="1176" y="927"/>
                      </a:lnTo>
                      <a:lnTo>
                        <a:pt x="1213" y="896"/>
                      </a:lnTo>
                      <a:lnTo>
                        <a:pt x="1250" y="866"/>
                      </a:lnTo>
                      <a:lnTo>
                        <a:pt x="1290" y="838"/>
                      </a:lnTo>
                      <a:lnTo>
                        <a:pt x="1331" y="810"/>
                      </a:lnTo>
                      <a:lnTo>
                        <a:pt x="1372" y="785"/>
                      </a:lnTo>
                      <a:lnTo>
                        <a:pt x="1414" y="760"/>
                      </a:lnTo>
                      <a:lnTo>
                        <a:pt x="1457" y="737"/>
                      </a:lnTo>
                      <a:lnTo>
                        <a:pt x="1501" y="716"/>
                      </a:lnTo>
                      <a:lnTo>
                        <a:pt x="1546" y="696"/>
                      </a:lnTo>
                      <a:lnTo>
                        <a:pt x="1584" y="680"/>
                      </a:lnTo>
                      <a:lnTo>
                        <a:pt x="1594" y="673"/>
                      </a:lnTo>
                      <a:lnTo>
                        <a:pt x="1600" y="665"/>
                      </a:lnTo>
                      <a:lnTo>
                        <a:pt x="1604" y="658"/>
                      </a:lnTo>
                      <a:lnTo>
                        <a:pt x="1606" y="650"/>
                      </a:lnTo>
                      <a:lnTo>
                        <a:pt x="1605" y="638"/>
                      </a:lnTo>
                      <a:lnTo>
                        <a:pt x="1603" y="632"/>
                      </a:lnTo>
                      <a:lnTo>
                        <a:pt x="1586" y="586"/>
                      </a:lnTo>
                      <a:lnTo>
                        <a:pt x="1385" y="31"/>
                      </a:lnTo>
                      <a:lnTo>
                        <a:pt x="1381" y="18"/>
                      </a:lnTo>
                      <a:lnTo>
                        <a:pt x="1380" y="13"/>
                      </a:lnTo>
                      <a:lnTo>
                        <a:pt x="1372" y="5"/>
                      </a:lnTo>
                      <a:lnTo>
                        <a:pt x="1367" y="2"/>
                      </a:lnTo>
                      <a:lnTo>
                        <a:pt x="1359" y="0"/>
                      </a:lnTo>
                      <a:lnTo>
                        <a:pt x="1349" y="0"/>
                      </a:lnTo>
                      <a:lnTo>
                        <a:pt x="1337" y="3"/>
                      </a:lnTo>
                      <a:lnTo>
                        <a:pt x="1307" y="14"/>
                      </a:lnTo>
                      <a:lnTo>
                        <a:pt x="1248" y="37"/>
                      </a:lnTo>
                      <a:lnTo>
                        <a:pt x="1190" y="63"/>
                      </a:lnTo>
                      <a:lnTo>
                        <a:pt x="1133" y="89"/>
                      </a:lnTo>
                      <a:lnTo>
                        <a:pt x="1076" y="119"/>
                      </a:lnTo>
                      <a:lnTo>
                        <a:pt x="1021" y="149"/>
                      </a:lnTo>
                      <a:lnTo>
                        <a:pt x="966" y="181"/>
                      </a:lnTo>
                      <a:lnTo>
                        <a:pt x="913" y="215"/>
                      </a:lnTo>
                      <a:lnTo>
                        <a:pt x="861" y="251"/>
                      </a:lnTo>
                      <a:lnTo>
                        <a:pt x="810" y="289"/>
                      </a:lnTo>
                      <a:lnTo>
                        <a:pt x="759" y="328"/>
                      </a:lnTo>
                      <a:lnTo>
                        <a:pt x="711" y="369"/>
                      </a:lnTo>
                      <a:lnTo>
                        <a:pt x="663" y="411"/>
                      </a:lnTo>
                      <a:lnTo>
                        <a:pt x="616" y="455"/>
                      </a:lnTo>
                      <a:lnTo>
                        <a:pt x="572" y="501"/>
                      </a:lnTo>
                      <a:lnTo>
                        <a:pt x="528" y="547"/>
                      </a:lnTo>
                      <a:lnTo>
                        <a:pt x="485" y="595"/>
                      </a:lnTo>
                      <a:lnTo>
                        <a:pt x="443" y="645"/>
                      </a:lnTo>
                      <a:lnTo>
                        <a:pt x="404" y="695"/>
                      </a:lnTo>
                      <a:lnTo>
                        <a:pt x="365" y="747"/>
                      </a:lnTo>
                      <a:lnTo>
                        <a:pt x="329" y="800"/>
                      </a:lnTo>
                      <a:lnTo>
                        <a:pt x="294" y="854"/>
                      </a:lnTo>
                      <a:lnTo>
                        <a:pt x="260" y="910"/>
                      </a:lnTo>
                      <a:lnTo>
                        <a:pt x="228" y="967"/>
                      </a:lnTo>
                      <a:lnTo>
                        <a:pt x="197" y="1024"/>
                      </a:lnTo>
                      <a:lnTo>
                        <a:pt x="169" y="1084"/>
                      </a:lnTo>
                      <a:lnTo>
                        <a:pt x="142" y="1144"/>
                      </a:lnTo>
                      <a:lnTo>
                        <a:pt x="116" y="1204"/>
                      </a:lnTo>
                      <a:lnTo>
                        <a:pt x="93" y="1266"/>
                      </a:lnTo>
                      <a:lnTo>
                        <a:pt x="71" y="1329"/>
                      </a:lnTo>
                      <a:lnTo>
                        <a:pt x="52" y="1392"/>
                      </a:lnTo>
                      <a:lnTo>
                        <a:pt x="34" y="1457"/>
                      </a:lnTo>
                      <a:lnTo>
                        <a:pt x="18" y="1522"/>
                      </a:lnTo>
                      <a:lnTo>
                        <a:pt x="2" y="1593"/>
                      </a:lnTo>
                      <a:lnTo>
                        <a:pt x="0" y="1610"/>
                      </a:lnTo>
                      <a:lnTo>
                        <a:pt x="1" y="1623"/>
                      </a:lnTo>
                      <a:lnTo>
                        <a:pt x="6" y="1634"/>
                      </a:lnTo>
                      <a:lnTo>
                        <a:pt x="11" y="1643"/>
                      </a:lnTo>
                      <a:lnTo>
                        <a:pt x="17" y="1648"/>
                      </a:lnTo>
                      <a:lnTo>
                        <a:pt x="23" y="1652"/>
                      </a:lnTo>
                      <a:lnTo>
                        <a:pt x="29" y="1655"/>
                      </a:lnTo>
                      <a:close/>
                    </a:path>
                  </a:pathLst>
                </a:custGeom>
                <a:solidFill>
                  <a:srgbClr val="0000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72960" y="770040"/>
                  <a:ext cx="313200" cy="387360"/>
                </a:xfrm>
                <a:custGeom>
                  <a:avLst/>
                  <a:gdLst/>
                  <a:ahLst/>
                  <a:rect l="l" t="t" r="r" b="b"/>
                  <a:pathLst>
                    <a:path w="1606" h="1985">
                      <a:moveTo>
                        <a:pt x="29" y="333"/>
                      </a:moveTo>
                      <a:lnTo>
                        <a:pt x="79" y="306"/>
                      </a:lnTo>
                      <a:lnTo>
                        <a:pt x="623" y="31"/>
                      </a:lnTo>
                      <a:lnTo>
                        <a:pt x="684" y="0"/>
                      </a:lnTo>
                      <a:lnTo>
                        <a:pt x="687" y="72"/>
                      </a:lnTo>
                      <a:lnTo>
                        <a:pt x="691" y="123"/>
                      </a:lnTo>
                      <a:lnTo>
                        <a:pt x="697" y="174"/>
                      </a:lnTo>
                      <a:lnTo>
                        <a:pt x="704" y="224"/>
                      </a:lnTo>
                      <a:lnTo>
                        <a:pt x="713" y="273"/>
                      </a:lnTo>
                      <a:lnTo>
                        <a:pt x="724" y="323"/>
                      </a:lnTo>
                      <a:lnTo>
                        <a:pt x="737" y="371"/>
                      </a:lnTo>
                      <a:lnTo>
                        <a:pt x="751" y="418"/>
                      </a:lnTo>
                      <a:lnTo>
                        <a:pt x="767" y="465"/>
                      </a:lnTo>
                      <a:lnTo>
                        <a:pt x="784" y="512"/>
                      </a:lnTo>
                      <a:lnTo>
                        <a:pt x="803" y="557"/>
                      </a:lnTo>
                      <a:lnTo>
                        <a:pt x="824" y="602"/>
                      </a:lnTo>
                      <a:lnTo>
                        <a:pt x="846" y="645"/>
                      </a:lnTo>
                      <a:lnTo>
                        <a:pt x="869" y="688"/>
                      </a:lnTo>
                      <a:lnTo>
                        <a:pt x="894" y="730"/>
                      </a:lnTo>
                      <a:lnTo>
                        <a:pt x="920" y="771"/>
                      </a:lnTo>
                      <a:lnTo>
                        <a:pt x="948" y="811"/>
                      </a:lnTo>
                      <a:lnTo>
                        <a:pt x="976" y="850"/>
                      </a:lnTo>
                      <a:lnTo>
                        <a:pt x="1007" y="888"/>
                      </a:lnTo>
                      <a:lnTo>
                        <a:pt x="1038" y="924"/>
                      </a:lnTo>
                      <a:lnTo>
                        <a:pt x="1071" y="961"/>
                      </a:lnTo>
                      <a:lnTo>
                        <a:pt x="1105" y="995"/>
                      </a:lnTo>
                      <a:lnTo>
                        <a:pt x="1140" y="1029"/>
                      </a:lnTo>
                      <a:lnTo>
                        <a:pt x="1176" y="1061"/>
                      </a:lnTo>
                      <a:lnTo>
                        <a:pt x="1213" y="1092"/>
                      </a:lnTo>
                      <a:lnTo>
                        <a:pt x="1252" y="1122"/>
                      </a:lnTo>
                      <a:lnTo>
                        <a:pt x="1290" y="1151"/>
                      </a:lnTo>
                      <a:lnTo>
                        <a:pt x="1331" y="1177"/>
                      </a:lnTo>
                      <a:lnTo>
                        <a:pt x="1372" y="1203"/>
                      </a:lnTo>
                      <a:lnTo>
                        <a:pt x="1414" y="1227"/>
                      </a:lnTo>
                      <a:lnTo>
                        <a:pt x="1457" y="1250"/>
                      </a:lnTo>
                      <a:lnTo>
                        <a:pt x="1501" y="1271"/>
                      </a:lnTo>
                      <a:lnTo>
                        <a:pt x="1546" y="1292"/>
                      </a:lnTo>
                      <a:lnTo>
                        <a:pt x="1584" y="1308"/>
                      </a:lnTo>
                      <a:lnTo>
                        <a:pt x="1594" y="1315"/>
                      </a:lnTo>
                      <a:lnTo>
                        <a:pt x="1600" y="1323"/>
                      </a:lnTo>
                      <a:lnTo>
                        <a:pt x="1605" y="1331"/>
                      </a:lnTo>
                      <a:lnTo>
                        <a:pt x="1606" y="1337"/>
                      </a:lnTo>
                      <a:lnTo>
                        <a:pt x="1605" y="1349"/>
                      </a:lnTo>
                      <a:lnTo>
                        <a:pt x="1603" y="1355"/>
                      </a:lnTo>
                      <a:lnTo>
                        <a:pt x="1586" y="1401"/>
                      </a:lnTo>
                      <a:lnTo>
                        <a:pt x="1388" y="1950"/>
                      </a:lnTo>
                      <a:lnTo>
                        <a:pt x="1381" y="1965"/>
                      </a:lnTo>
                      <a:lnTo>
                        <a:pt x="1379" y="1970"/>
                      </a:lnTo>
                      <a:lnTo>
                        <a:pt x="1371" y="1978"/>
                      </a:lnTo>
                      <a:lnTo>
                        <a:pt x="1366" y="1983"/>
                      </a:lnTo>
                      <a:lnTo>
                        <a:pt x="1358" y="1985"/>
                      </a:lnTo>
                      <a:lnTo>
                        <a:pt x="1348" y="1985"/>
                      </a:lnTo>
                      <a:lnTo>
                        <a:pt x="1338" y="1983"/>
                      </a:lnTo>
                      <a:lnTo>
                        <a:pt x="1302" y="1969"/>
                      </a:lnTo>
                      <a:lnTo>
                        <a:pt x="1242" y="1942"/>
                      </a:lnTo>
                      <a:lnTo>
                        <a:pt x="1181" y="1915"/>
                      </a:lnTo>
                      <a:lnTo>
                        <a:pt x="1123" y="1886"/>
                      </a:lnTo>
                      <a:lnTo>
                        <a:pt x="1066" y="1857"/>
                      </a:lnTo>
                      <a:lnTo>
                        <a:pt x="1009" y="1824"/>
                      </a:lnTo>
                      <a:lnTo>
                        <a:pt x="954" y="1791"/>
                      </a:lnTo>
                      <a:lnTo>
                        <a:pt x="901" y="1756"/>
                      </a:lnTo>
                      <a:lnTo>
                        <a:pt x="848" y="1719"/>
                      </a:lnTo>
                      <a:lnTo>
                        <a:pt x="796" y="1682"/>
                      </a:lnTo>
                      <a:lnTo>
                        <a:pt x="747" y="1642"/>
                      </a:lnTo>
                      <a:lnTo>
                        <a:pt x="698" y="1602"/>
                      </a:lnTo>
                      <a:lnTo>
                        <a:pt x="650" y="1560"/>
                      </a:lnTo>
                      <a:lnTo>
                        <a:pt x="604" y="1517"/>
                      </a:lnTo>
                      <a:lnTo>
                        <a:pt x="559" y="1472"/>
                      </a:lnTo>
                      <a:lnTo>
                        <a:pt x="517" y="1426"/>
                      </a:lnTo>
                      <a:lnTo>
                        <a:pt x="475" y="1379"/>
                      </a:lnTo>
                      <a:lnTo>
                        <a:pt x="434" y="1331"/>
                      </a:lnTo>
                      <a:lnTo>
                        <a:pt x="395" y="1281"/>
                      </a:lnTo>
                      <a:lnTo>
                        <a:pt x="358" y="1230"/>
                      </a:lnTo>
                      <a:lnTo>
                        <a:pt x="323" y="1178"/>
                      </a:lnTo>
                      <a:lnTo>
                        <a:pt x="287" y="1124"/>
                      </a:lnTo>
                      <a:lnTo>
                        <a:pt x="255" y="1070"/>
                      </a:lnTo>
                      <a:lnTo>
                        <a:pt x="224" y="1014"/>
                      </a:lnTo>
                      <a:lnTo>
                        <a:pt x="194" y="957"/>
                      </a:lnTo>
                      <a:lnTo>
                        <a:pt x="166" y="900"/>
                      </a:lnTo>
                      <a:lnTo>
                        <a:pt x="139" y="841"/>
                      </a:lnTo>
                      <a:lnTo>
                        <a:pt x="115" y="781"/>
                      </a:lnTo>
                      <a:lnTo>
                        <a:pt x="92" y="720"/>
                      </a:lnTo>
                      <a:lnTo>
                        <a:pt x="71" y="658"/>
                      </a:lnTo>
                      <a:lnTo>
                        <a:pt x="52" y="595"/>
                      </a:lnTo>
                      <a:lnTo>
                        <a:pt x="34" y="530"/>
                      </a:lnTo>
                      <a:lnTo>
                        <a:pt x="18" y="465"/>
                      </a:lnTo>
                      <a:lnTo>
                        <a:pt x="3" y="394"/>
                      </a:lnTo>
                      <a:lnTo>
                        <a:pt x="0" y="378"/>
                      </a:lnTo>
                      <a:lnTo>
                        <a:pt x="1" y="364"/>
                      </a:lnTo>
                      <a:lnTo>
                        <a:pt x="6" y="353"/>
                      </a:lnTo>
                      <a:lnTo>
                        <a:pt x="11" y="346"/>
                      </a:lnTo>
                      <a:lnTo>
                        <a:pt x="17" y="339"/>
                      </a:lnTo>
                      <a:lnTo>
                        <a:pt x="23" y="336"/>
                      </a:lnTo>
                      <a:lnTo>
                        <a:pt x="29" y="333"/>
                      </a:lnTo>
                      <a:close/>
                    </a:path>
                  </a:pathLst>
                </a:custGeom>
                <a:solidFill>
                  <a:srgbClr val="0000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16320" y="698400"/>
                  <a:ext cx="137880" cy="147600"/>
                </a:xfrm>
                <a:custGeom>
                  <a:avLst/>
                  <a:gdLst/>
                  <a:ahLst/>
                  <a:rect l="l" t="t" r="r" b="b"/>
                  <a:pathLst>
                    <a:path w="714" h="759">
                      <a:moveTo>
                        <a:pt x="699" y="379"/>
                      </a:moveTo>
                      <a:lnTo>
                        <a:pt x="706" y="375"/>
                      </a:lnTo>
                      <a:lnTo>
                        <a:pt x="710" y="370"/>
                      </a:lnTo>
                      <a:lnTo>
                        <a:pt x="713" y="365"/>
                      </a:lnTo>
                      <a:lnTo>
                        <a:pt x="714" y="360"/>
                      </a:lnTo>
                      <a:lnTo>
                        <a:pt x="713" y="355"/>
                      </a:lnTo>
                      <a:lnTo>
                        <a:pt x="709" y="351"/>
                      </a:lnTo>
                      <a:lnTo>
                        <a:pt x="705" y="346"/>
                      </a:lnTo>
                      <a:lnTo>
                        <a:pt x="699" y="342"/>
                      </a:lnTo>
                      <a:lnTo>
                        <a:pt x="35" y="4"/>
                      </a:lnTo>
                      <a:lnTo>
                        <a:pt x="27" y="0"/>
                      </a:lnTo>
                      <a:lnTo>
                        <a:pt x="21" y="0"/>
                      </a:lnTo>
                      <a:lnTo>
                        <a:pt x="15" y="0"/>
                      </a:lnTo>
                      <a:lnTo>
                        <a:pt x="10" y="2"/>
                      </a:lnTo>
                      <a:lnTo>
                        <a:pt x="6" y="6"/>
                      </a:lnTo>
                      <a:lnTo>
                        <a:pt x="3" y="11"/>
                      </a:lnTo>
                      <a:lnTo>
                        <a:pt x="1" y="18"/>
                      </a:lnTo>
                      <a:lnTo>
                        <a:pt x="0" y="24"/>
                      </a:lnTo>
                      <a:lnTo>
                        <a:pt x="0" y="735"/>
                      </a:lnTo>
                      <a:lnTo>
                        <a:pt x="1" y="743"/>
                      </a:lnTo>
                      <a:lnTo>
                        <a:pt x="3" y="748"/>
                      </a:lnTo>
                      <a:lnTo>
                        <a:pt x="5" y="753"/>
                      </a:lnTo>
                      <a:lnTo>
                        <a:pt x="10" y="757"/>
                      </a:lnTo>
                      <a:lnTo>
                        <a:pt x="15" y="759"/>
                      </a:lnTo>
                      <a:lnTo>
                        <a:pt x="21" y="759"/>
                      </a:lnTo>
                      <a:lnTo>
                        <a:pt x="27" y="758"/>
                      </a:lnTo>
                      <a:lnTo>
                        <a:pt x="34" y="755"/>
                      </a:lnTo>
                      <a:lnTo>
                        <a:pt x="699" y="379"/>
                      </a:lnTo>
                      <a:close/>
                    </a:path>
                  </a:pathLst>
                </a:custGeom>
                <a:solidFill>
                  <a:srgbClr val="009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95120" y="701640"/>
                  <a:ext cx="138240" cy="146160"/>
                </a:xfrm>
                <a:custGeom>
                  <a:avLst/>
                  <a:gdLst/>
                  <a:ahLst/>
                  <a:rect l="l" t="t" r="r" b="b"/>
                  <a:pathLst>
                    <a:path w="714" h="758">
                      <a:moveTo>
                        <a:pt x="701" y="379"/>
                      </a:moveTo>
                      <a:lnTo>
                        <a:pt x="706" y="374"/>
                      </a:lnTo>
                      <a:lnTo>
                        <a:pt x="711" y="370"/>
                      </a:lnTo>
                      <a:lnTo>
                        <a:pt x="713" y="365"/>
                      </a:lnTo>
                      <a:lnTo>
                        <a:pt x="714" y="360"/>
                      </a:lnTo>
                      <a:lnTo>
                        <a:pt x="713" y="355"/>
                      </a:lnTo>
                      <a:lnTo>
                        <a:pt x="711" y="350"/>
                      </a:lnTo>
                      <a:lnTo>
                        <a:pt x="706" y="346"/>
                      </a:lnTo>
                      <a:lnTo>
                        <a:pt x="700" y="342"/>
                      </a:lnTo>
                      <a:lnTo>
                        <a:pt x="35" y="4"/>
                      </a:lnTo>
                      <a:lnTo>
                        <a:pt x="29" y="1"/>
                      </a:lnTo>
                      <a:lnTo>
                        <a:pt x="22" y="0"/>
                      </a:lnTo>
                      <a:lnTo>
                        <a:pt x="15" y="1"/>
                      </a:lnTo>
                      <a:lnTo>
                        <a:pt x="11" y="3"/>
                      </a:lnTo>
                      <a:lnTo>
                        <a:pt x="7" y="6"/>
                      </a:lnTo>
                      <a:lnTo>
                        <a:pt x="3" y="11"/>
                      </a:lnTo>
                      <a:lnTo>
                        <a:pt x="1" y="17"/>
                      </a:lnTo>
                      <a:lnTo>
                        <a:pt x="0" y="25"/>
                      </a:lnTo>
                      <a:lnTo>
                        <a:pt x="0" y="734"/>
                      </a:lnTo>
                      <a:lnTo>
                        <a:pt x="1" y="742"/>
                      </a:lnTo>
                      <a:lnTo>
                        <a:pt x="3" y="749"/>
                      </a:lnTo>
                      <a:lnTo>
                        <a:pt x="7" y="753"/>
                      </a:lnTo>
                      <a:lnTo>
                        <a:pt x="10" y="756"/>
                      </a:lnTo>
                      <a:lnTo>
                        <a:pt x="15" y="758"/>
                      </a:lnTo>
                      <a:lnTo>
                        <a:pt x="21" y="758"/>
                      </a:lnTo>
                      <a:lnTo>
                        <a:pt x="27" y="757"/>
                      </a:lnTo>
                      <a:lnTo>
                        <a:pt x="34" y="754"/>
                      </a:lnTo>
                      <a:lnTo>
                        <a:pt x="701" y="379"/>
                      </a:lnTo>
                      <a:close/>
                    </a:path>
                  </a:pathLst>
                </a:custGeom>
                <a:solidFill>
                  <a:srgbClr val="0000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934200" y="517680"/>
                  <a:ext cx="180720" cy="250560"/>
                </a:xfrm>
                <a:custGeom>
                  <a:avLst/>
                  <a:gdLst/>
                  <a:ahLst/>
                  <a:rect l="l" t="t" r="r" b="b"/>
                  <a:pathLst>
                    <a:path w="930" h="1293">
                      <a:moveTo>
                        <a:pt x="709" y="0"/>
                      </a:moveTo>
                      <a:lnTo>
                        <a:pt x="919" y="0"/>
                      </a:lnTo>
                      <a:lnTo>
                        <a:pt x="339" y="581"/>
                      </a:lnTo>
                      <a:lnTo>
                        <a:pt x="930" y="1293"/>
                      </a:lnTo>
                      <a:lnTo>
                        <a:pt x="713" y="1293"/>
                      </a:lnTo>
                      <a:lnTo>
                        <a:pt x="226" y="691"/>
                      </a:lnTo>
                      <a:lnTo>
                        <a:pt x="161" y="752"/>
                      </a:lnTo>
                      <a:lnTo>
                        <a:pt x="161" y="1293"/>
                      </a:lnTo>
                      <a:lnTo>
                        <a:pt x="0" y="1293"/>
                      </a:lnTo>
                      <a:lnTo>
                        <a:pt x="0" y="0"/>
                      </a:lnTo>
                      <a:lnTo>
                        <a:pt x="161" y="0"/>
                      </a:lnTo>
                      <a:lnTo>
                        <a:pt x="161" y="560"/>
                      </a:lnTo>
                      <a:lnTo>
                        <a:pt x="70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136160" y="517680"/>
                  <a:ext cx="31680" cy="250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215360" y="517680"/>
                  <a:ext cx="155520" cy="250560"/>
                </a:xfrm>
                <a:custGeom>
                  <a:avLst/>
                  <a:gdLst/>
                  <a:ahLst/>
                  <a:rect l="l" t="t" r="r" b="b"/>
                  <a:pathLst>
                    <a:path w="803" h="1293">
                      <a:moveTo>
                        <a:pt x="803" y="1293"/>
                      </a:moveTo>
                      <a:lnTo>
                        <a:pt x="607" y="1293"/>
                      </a:lnTo>
                      <a:lnTo>
                        <a:pt x="228" y="746"/>
                      </a:lnTo>
                      <a:lnTo>
                        <a:pt x="161" y="746"/>
                      </a:lnTo>
                      <a:lnTo>
                        <a:pt x="161" y="1293"/>
                      </a:lnTo>
                      <a:lnTo>
                        <a:pt x="0" y="1293"/>
                      </a:lnTo>
                      <a:lnTo>
                        <a:pt x="0" y="0"/>
                      </a:lnTo>
                      <a:lnTo>
                        <a:pt x="195" y="0"/>
                      </a:lnTo>
                      <a:lnTo>
                        <a:pt x="283" y="1"/>
                      </a:lnTo>
                      <a:lnTo>
                        <a:pt x="327" y="4"/>
                      </a:lnTo>
                      <a:lnTo>
                        <a:pt x="370" y="8"/>
                      </a:lnTo>
                      <a:lnTo>
                        <a:pt x="413" y="16"/>
                      </a:lnTo>
                      <a:lnTo>
                        <a:pt x="456" y="27"/>
                      </a:lnTo>
                      <a:lnTo>
                        <a:pt x="497" y="41"/>
                      </a:lnTo>
                      <a:lnTo>
                        <a:pt x="536" y="61"/>
                      </a:lnTo>
                      <a:lnTo>
                        <a:pt x="556" y="73"/>
                      </a:lnTo>
                      <a:lnTo>
                        <a:pt x="574" y="87"/>
                      </a:lnTo>
                      <a:lnTo>
                        <a:pt x="592" y="101"/>
                      </a:lnTo>
                      <a:lnTo>
                        <a:pt x="608" y="118"/>
                      </a:lnTo>
                      <a:lnTo>
                        <a:pt x="623" y="135"/>
                      </a:lnTo>
                      <a:lnTo>
                        <a:pt x="637" y="153"/>
                      </a:lnTo>
                      <a:lnTo>
                        <a:pt x="650" y="173"/>
                      </a:lnTo>
                      <a:lnTo>
                        <a:pt x="661" y="192"/>
                      </a:lnTo>
                      <a:lnTo>
                        <a:pt x="671" y="212"/>
                      </a:lnTo>
                      <a:lnTo>
                        <a:pt x="680" y="233"/>
                      </a:lnTo>
                      <a:lnTo>
                        <a:pt x="694" y="277"/>
                      </a:lnTo>
                      <a:lnTo>
                        <a:pt x="700" y="300"/>
                      </a:lnTo>
                      <a:lnTo>
                        <a:pt x="703" y="323"/>
                      </a:lnTo>
                      <a:lnTo>
                        <a:pt x="705" y="346"/>
                      </a:lnTo>
                      <a:lnTo>
                        <a:pt x="705" y="369"/>
                      </a:lnTo>
                      <a:lnTo>
                        <a:pt x="704" y="403"/>
                      </a:lnTo>
                      <a:lnTo>
                        <a:pt x="700" y="436"/>
                      </a:lnTo>
                      <a:lnTo>
                        <a:pt x="693" y="469"/>
                      </a:lnTo>
                      <a:lnTo>
                        <a:pt x="683" y="500"/>
                      </a:lnTo>
                      <a:lnTo>
                        <a:pt x="671" y="531"/>
                      </a:lnTo>
                      <a:lnTo>
                        <a:pt x="657" y="558"/>
                      </a:lnTo>
                      <a:lnTo>
                        <a:pt x="639" y="585"/>
                      </a:lnTo>
                      <a:lnTo>
                        <a:pt x="621" y="611"/>
                      </a:lnTo>
                      <a:lnTo>
                        <a:pt x="599" y="634"/>
                      </a:lnTo>
                      <a:lnTo>
                        <a:pt x="576" y="655"/>
                      </a:lnTo>
                      <a:lnTo>
                        <a:pt x="550" y="673"/>
                      </a:lnTo>
                      <a:lnTo>
                        <a:pt x="523" y="691"/>
                      </a:lnTo>
                      <a:lnTo>
                        <a:pt x="493" y="704"/>
                      </a:lnTo>
                      <a:lnTo>
                        <a:pt x="463" y="716"/>
                      </a:lnTo>
                      <a:lnTo>
                        <a:pt x="430" y="725"/>
                      </a:lnTo>
                      <a:lnTo>
                        <a:pt x="396" y="730"/>
                      </a:lnTo>
                      <a:lnTo>
                        <a:pt x="803" y="1293"/>
                      </a:lnTo>
                      <a:close/>
                      <a:moveTo>
                        <a:pt x="161" y="612"/>
                      </a:moveTo>
                      <a:lnTo>
                        <a:pt x="213" y="612"/>
                      </a:lnTo>
                      <a:lnTo>
                        <a:pt x="274" y="611"/>
                      </a:lnTo>
                      <a:lnTo>
                        <a:pt x="335" y="604"/>
                      </a:lnTo>
                      <a:lnTo>
                        <a:pt x="365" y="599"/>
                      </a:lnTo>
                      <a:lnTo>
                        <a:pt x="393" y="591"/>
                      </a:lnTo>
                      <a:lnTo>
                        <a:pt x="420" y="582"/>
                      </a:lnTo>
                      <a:lnTo>
                        <a:pt x="445" y="571"/>
                      </a:lnTo>
                      <a:lnTo>
                        <a:pt x="469" y="557"/>
                      </a:lnTo>
                      <a:lnTo>
                        <a:pt x="490" y="540"/>
                      </a:lnTo>
                      <a:lnTo>
                        <a:pt x="509" y="522"/>
                      </a:lnTo>
                      <a:lnTo>
                        <a:pt x="524" y="499"/>
                      </a:lnTo>
                      <a:lnTo>
                        <a:pt x="537" y="473"/>
                      </a:lnTo>
                      <a:lnTo>
                        <a:pt x="547" y="445"/>
                      </a:lnTo>
                      <a:lnTo>
                        <a:pt x="553" y="412"/>
                      </a:lnTo>
                      <a:lnTo>
                        <a:pt x="555" y="376"/>
                      </a:lnTo>
                      <a:lnTo>
                        <a:pt x="553" y="339"/>
                      </a:lnTo>
                      <a:lnTo>
                        <a:pt x="546" y="308"/>
                      </a:lnTo>
                      <a:lnTo>
                        <a:pt x="536" y="279"/>
                      </a:lnTo>
                      <a:lnTo>
                        <a:pt x="523" y="254"/>
                      </a:lnTo>
                      <a:lnTo>
                        <a:pt x="505" y="232"/>
                      </a:lnTo>
                      <a:lnTo>
                        <a:pt x="486" y="213"/>
                      </a:lnTo>
                      <a:lnTo>
                        <a:pt x="464" y="198"/>
                      </a:lnTo>
                      <a:lnTo>
                        <a:pt x="440" y="184"/>
                      </a:lnTo>
                      <a:lnTo>
                        <a:pt x="413" y="173"/>
                      </a:lnTo>
                      <a:lnTo>
                        <a:pt x="385" y="164"/>
                      </a:lnTo>
                      <a:lnTo>
                        <a:pt x="356" y="157"/>
                      </a:lnTo>
                      <a:lnTo>
                        <a:pt x="325" y="152"/>
                      </a:lnTo>
                      <a:lnTo>
                        <a:pt x="296" y="148"/>
                      </a:lnTo>
                      <a:lnTo>
                        <a:pt x="265" y="146"/>
                      </a:lnTo>
                      <a:lnTo>
                        <a:pt x="204" y="144"/>
                      </a:lnTo>
                      <a:lnTo>
                        <a:pt x="161" y="144"/>
                      </a:lnTo>
                      <a:lnTo>
                        <a:pt x="161" y="6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387080" y="517680"/>
                  <a:ext cx="181080" cy="250560"/>
                </a:xfrm>
                <a:custGeom>
                  <a:avLst/>
                  <a:gdLst/>
                  <a:ahLst/>
                  <a:rect l="l" t="t" r="r" b="b"/>
                  <a:pathLst>
                    <a:path w="929" h="1293">
                      <a:moveTo>
                        <a:pt x="709" y="0"/>
                      </a:moveTo>
                      <a:lnTo>
                        <a:pt x="919" y="0"/>
                      </a:lnTo>
                      <a:lnTo>
                        <a:pt x="339" y="581"/>
                      </a:lnTo>
                      <a:lnTo>
                        <a:pt x="929" y="1293"/>
                      </a:lnTo>
                      <a:lnTo>
                        <a:pt x="712" y="1293"/>
                      </a:lnTo>
                      <a:lnTo>
                        <a:pt x="226" y="691"/>
                      </a:lnTo>
                      <a:lnTo>
                        <a:pt x="161" y="752"/>
                      </a:lnTo>
                      <a:lnTo>
                        <a:pt x="161" y="1293"/>
                      </a:lnTo>
                      <a:lnTo>
                        <a:pt x="0" y="1293"/>
                      </a:lnTo>
                      <a:lnTo>
                        <a:pt x="0" y="0"/>
                      </a:lnTo>
                      <a:lnTo>
                        <a:pt x="161" y="0"/>
                      </a:lnTo>
                      <a:lnTo>
                        <a:pt x="161" y="560"/>
                      </a:lnTo>
                      <a:lnTo>
                        <a:pt x="70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923040" y="847800"/>
                  <a:ext cx="50760" cy="133200"/>
                </a:xfrm>
                <a:custGeom>
                  <a:avLst/>
                  <a:gdLst/>
                  <a:ahLst/>
                  <a:rect l="l" t="t" r="r" b="b"/>
                  <a:pathLst>
                    <a:path w="264" h="687">
                      <a:moveTo>
                        <a:pt x="169" y="687"/>
                      </a:moveTo>
                      <a:lnTo>
                        <a:pt x="74" y="687"/>
                      </a:lnTo>
                      <a:lnTo>
                        <a:pt x="74" y="279"/>
                      </a:lnTo>
                      <a:lnTo>
                        <a:pt x="0" y="279"/>
                      </a:lnTo>
                      <a:lnTo>
                        <a:pt x="0" y="190"/>
                      </a:lnTo>
                      <a:lnTo>
                        <a:pt x="74" y="190"/>
                      </a:lnTo>
                      <a:lnTo>
                        <a:pt x="74" y="0"/>
                      </a:lnTo>
                      <a:lnTo>
                        <a:pt x="169" y="0"/>
                      </a:lnTo>
                      <a:lnTo>
                        <a:pt x="169" y="190"/>
                      </a:lnTo>
                      <a:lnTo>
                        <a:pt x="264" y="190"/>
                      </a:lnTo>
                      <a:lnTo>
                        <a:pt x="264" y="279"/>
                      </a:lnTo>
                      <a:lnTo>
                        <a:pt x="169" y="279"/>
                      </a:lnTo>
                      <a:lnTo>
                        <a:pt x="169" y="6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977040" y="882720"/>
                  <a:ext cx="91800" cy="101520"/>
                </a:xfrm>
                <a:custGeom>
                  <a:avLst/>
                  <a:gdLst/>
                  <a:ahLst/>
                  <a:rect l="l" t="t" r="r" b="b"/>
                  <a:pathLst>
                    <a:path w="475" h="530">
                      <a:moveTo>
                        <a:pt x="95" y="280"/>
                      </a:moveTo>
                      <a:lnTo>
                        <a:pt x="98" y="311"/>
                      </a:lnTo>
                      <a:lnTo>
                        <a:pt x="106" y="341"/>
                      </a:lnTo>
                      <a:lnTo>
                        <a:pt x="119" y="370"/>
                      </a:lnTo>
                      <a:lnTo>
                        <a:pt x="137" y="394"/>
                      </a:lnTo>
                      <a:lnTo>
                        <a:pt x="147" y="405"/>
                      </a:lnTo>
                      <a:lnTo>
                        <a:pt x="158" y="415"/>
                      </a:lnTo>
                      <a:lnTo>
                        <a:pt x="170" y="423"/>
                      </a:lnTo>
                      <a:lnTo>
                        <a:pt x="184" y="431"/>
                      </a:lnTo>
                      <a:lnTo>
                        <a:pt x="197" y="437"/>
                      </a:lnTo>
                      <a:lnTo>
                        <a:pt x="213" y="441"/>
                      </a:lnTo>
                      <a:lnTo>
                        <a:pt x="229" y="443"/>
                      </a:lnTo>
                      <a:lnTo>
                        <a:pt x="245" y="444"/>
                      </a:lnTo>
                      <a:lnTo>
                        <a:pt x="272" y="443"/>
                      </a:lnTo>
                      <a:lnTo>
                        <a:pt x="295" y="438"/>
                      </a:lnTo>
                      <a:lnTo>
                        <a:pt x="315" y="430"/>
                      </a:lnTo>
                      <a:lnTo>
                        <a:pt x="333" y="418"/>
                      </a:lnTo>
                      <a:lnTo>
                        <a:pt x="351" y="405"/>
                      </a:lnTo>
                      <a:lnTo>
                        <a:pt x="366" y="388"/>
                      </a:lnTo>
                      <a:lnTo>
                        <a:pt x="380" y="368"/>
                      </a:lnTo>
                      <a:lnTo>
                        <a:pt x="394" y="348"/>
                      </a:lnTo>
                      <a:lnTo>
                        <a:pt x="475" y="394"/>
                      </a:lnTo>
                      <a:lnTo>
                        <a:pt x="455" y="424"/>
                      </a:lnTo>
                      <a:lnTo>
                        <a:pt x="433" y="451"/>
                      </a:lnTo>
                      <a:lnTo>
                        <a:pt x="407" y="474"/>
                      </a:lnTo>
                      <a:lnTo>
                        <a:pt x="378" y="494"/>
                      </a:lnTo>
                      <a:lnTo>
                        <a:pt x="347" y="509"/>
                      </a:lnTo>
                      <a:lnTo>
                        <a:pt x="315" y="520"/>
                      </a:lnTo>
                      <a:lnTo>
                        <a:pt x="279" y="528"/>
                      </a:lnTo>
                      <a:lnTo>
                        <a:pt x="244" y="530"/>
                      </a:lnTo>
                      <a:lnTo>
                        <a:pt x="217" y="528"/>
                      </a:lnTo>
                      <a:lnTo>
                        <a:pt x="191" y="524"/>
                      </a:lnTo>
                      <a:lnTo>
                        <a:pt x="165" y="518"/>
                      </a:lnTo>
                      <a:lnTo>
                        <a:pt x="142" y="509"/>
                      </a:lnTo>
                      <a:lnTo>
                        <a:pt x="120" y="498"/>
                      </a:lnTo>
                      <a:lnTo>
                        <a:pt x="101" y="485"/>
                      </a:lnTo>
                      <a:lnTo>
                        <a:pt x="82" y="471"/>
                      </a:lnTo>
                      <a:lnTo>
                        <a:pt x="66" y="454"/>
                      </a:lnTo>
                      <a:lnTo>
                        <a:pt x="50" y="435"/>
                      </a:lnTo>
                      <a:lnTo>
                        <a:pt x="37" y="416"/>
                      </a:lnTo>
                      <a:lnTo>
                        <a:pt x="26" y="394"/>
                      </a:lnTo>
                      <a:lnTo>
                        <a:pt x="16" y="371"/>
                      </a:lnTo>
                      <a:lnTo>
                        <a:pt x="10" y="346"/>
                      </a:lnTo>
                      <a:lnTo>
                        <a:pt x="4" y="321"/>
                      </a:lnTo>
                      <a:lnTo>
                        <a:pt x="1" y="295"/>
                      </a:lnTo>
                      <a:lnTo>
                        <a:pt x="0" y="267"/>
                      </a:lnTo>
                      <a:lnTo>
                        <a:pt x="1" y="240"/>
                      </a:lnTo>
                      <a:lnTo>
                        <a:pt x="4" y="213"/>
                      </a:lnTo>
                      <a:lnTo>
                        <a:pt x="9" y="186"/>
                      </a:lnTo>
                      <a:lnTo>
                        <a:pt x="15" y="161"/>
                      </a:lnTo>
                      <a:lnTo>
                        <a:pt x="24" y="138"/>
                      </a:lnTo>
                      <a:lnTo>
                        <a:pt x="34" y="116"/>
                      </a:lnTo>
                      <a:lnTo>
                        <a:pt x="47" y="95"/>
                      </a:lnTo>
                      <a:lnTo>
                        <a:pt x="61" y="76"/>
                      </a:lnTo>
                      <a:lnTo>
                        <a:pt x="77" y="60"/>
                      </a:lnTo>
                      <a:lnTo>
                        <a:pt x="95" y="45"/>
                      </a:lnTo>
                      <a:lnTo>
                        <a:pt x="115" y="31"/>
                      </a:lnTo>
                      <a:lnTo>
                        <a:pt x="137" y="20"/>
                      </a:lnTo>
                      <a:lnTo>
                        <a:pt x="160" y="12"/>
                      </a:lnTo>
                      <a:lnTo>
                        <a:pt x="185" y="5"/>
                      </a:lnTo>
                      <a:lnTo>
                        <a:pt x="213" y="2"/>
                      </a:lnTo>
                      <a:lnTo>
                        <a:pt x="242" y="0"/>
                      </a:lnTo>
                      <a:lnTo>
                        <a:pt x="271" y="2"/>
                      </a:lnTo>
                      <a:lnTo>
                        <a:pt x="297" y="5"/>
                      </a:lnTo>
                      <a:lnTo>
                        <a:pt x="322" y="12"/>
                      </a:lnTo>
                      <a:lnTo>
                        <a:pt x="345" y="20"/>
                      </a:lnTo>
                      <a:lnTo>
                        <a:pt x="366" y="31"/>
                      </a:lnTo>
                      <a:lnTo>
                        <a:pt x="385" y="45"/>
                      </a:lnTo>
                      <a:lnTo>
                        <a:pt x="402" y="60"/>
                      </a:lnTo>
                      <a:lnTo>
                        <a:pt x="418" y="76"/>
                      </a:lnTo>
                      <a:lnTo>
                        <a:pt x="431" y="96"/>
                      </a:lnTo>
                      <a:lnTo>
                        <a:pt x="443" y="116"/>
                      </a:lnTo>
                      <a:lnTo>
                        <a:pt x="453" y="138"/>
                      </a:lnTo>
                      <a:lnTo>
                        <a:pt x="460" y="161"/>
                      </a:lnTo>
                      <a:lnTo>
                        <a:pt x="467" y="185"/>
                      </a:lnTo>
                      <a:lnTo>
                        <a:pt x="471" y="210"/>
                      </a:lnTo>
                      <a:lnTo>
                        <a:pt x="474" y="238"/>
                      </a:lnTo>
                      <a:lnTo>
                        <a:pt x="475" y="264"/>
                      </a:lnTo>
                      <a:lnTo>
                        <a:pt x="475" y="280"/>
                      </a:lnTo>
                      <a:lnTo>
                        <a:pt x="95" y="280"/>
                      </a:lnTo>
                      <a:close/>
                      <a:moveTo>
                        <a:pt x="379" y="207"/>
                      </a:moveTo>
                      <a:lnTo>
                        <a:pt x="373" y="181"/>
                      </a:lnTo>
                      <a:lnTo>
                        <a:pt x="364" y="157"/>
                      </a:lnTo>
                      <a:lnTo>
                        <a:pt x="351" y="136"/>
                      </a:lnTo>
                      <a:lnTo>
                        <a:pt x="335" y="117"/>
                      </a:lnTo>
                      <a:lnTo>
                        <a:pt x="316" y="103"/>
                      </a:lnTo>
                      <a:lnTo>
                        <a:pt x="294" y="92"/>
                      </a:lnTo>
                      <a:lnTo>
                        <a:pt x="270" y="85"/>
                      </a:lnTo>
                      <a:lnTo>
                        <a:pt x="242" y="83"/>
                      </a:lnTo>
                      <a:lnTo>
                        <a:pt x="215" y="85"/>
                      </a:lnTo>
                      <a:lnTo>
                        <a:pt x="191" y="92"/>
                      </a:lnTo>
                      <a:lnTo>
                        <a:pt x="168" y="104"/>
                      </a:lnTo>
                      <a:lnTo>
                        <a:pt x="148" y="118"/>
                      </a:lnTo>
                      <a:lnTo>
                        <a:pt x="131" y="137"/>
                      </a:lnTo>
                      <a:lnTo>
                        <a:pt x="117" y="158"/>
                      </a:lnTo>
                      <a:lnTo>
                        <a:pt x="107" y="182"/>
                      </a:lnTo>
                      <a:lnTo>
                        <a:pt x="101" y="207"/>
                      </a:lnTo>
                      <a:lnTo>
                        <a:pt x="379" y="20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086480" y="846000"/>
                  <a:ext cx="19080" cy="135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118520" y="882720"/>
                  <a:ext cx="92160" cy="101520"/>
                </a:xfrm>
                <a:custGeom>
                  <a:avLst/>
                  <a:gdLst/>
                  <a:ahLst/>
                  <a:rect l="l" t="t" r="r" b="b"/>
                  <a:pathLst>
                    <a:path w="475" h="530">
                      <a:moveTo>
                        <a:pt x="97" y="280"/>
                      </a:moveTo>
                      <a:lnTo>
                        <a:pt x="99" y="311"/>
                      </a:lnTo>
                      <a:lnTo>
                        <a:pt x="108" y="341"/>
                      </a:lnTo>
                      <a:lnTo>
                        <a:pt x="120" y="370"/>
                      </a:lnTo>
                      <a:lnTo>
                        <a:pt x="137" y="394"/>
                      </a:lnTo>
                      <a:lnTo>
                        <a:pt x="147" y="405"/>
                      </a:lnTo>
                      <a:lnTo>
                        <a:pt x="159" y="415"/>
                      </a:lnTo>
                      <a:lnTo>
                        <a:pt x="171" y="423"/>
                      </a:lnTo>
                      <a:lnTo>
                        <a:pt x="185" y="431"/>
                      </a:lnTo>
                      <a:lnTo>
                        <a:pt x="199" y="437"/>
                      </a:lnTo>
                      <a:lnTo>
                        <a:pt x="213" y="441"/>
                      </a:lnTo>
                      <a:lnTo>
                        <a:pt x="230" y="443"/>
                      </a:lnTo>
                      <a:lnTo>
                        <a:pt x="246" y="444"/>
                      </a:lnTo>
                      <a:lnTo>
                        <a:pt x="272" y="443"/>
                      </a:lnTo>
                      <a:lnTo>
                        <a:pt x="295" y="438"/>
                      </a:lnTo>
                      <a:lnTo>
                        <a:pt x="316" y="430"/>
                      </a:lnTo>
                      <a:lnTo>
                        <a:pt x="335" y="418"/>
                      </a:lnTo>
                      <a:lnTo>
                        <a:pt x="351" y="405"/>
                      </a:lnTo>
                      <a:lnTo>
                        <a:pt x="367" y="388"/>
                      </a:lnTo>
                      <a:lnTo>
                        <a:pt x="381" y="368"/>
                      </a:lnTo>
                      <a:lnTo>
                        <a:pt x="395" y="348"/>
                      </a:lnTo>
                      <a:lnTo>
                        <a:pt x="475" y="394"/>
                      </a:lnTo>
                      <a:lnTo>
                        <a:pt x="457" y="424"/>
                      </a:lnTo>
                      <a:lnTo>
                        <a:pt x="434" y="451"/>
                      </a:lnTo>
                      <a:lnTo>
                        <a:pt x="407" y="474"/>
                      </a:lnTo>
                      <a:lnTo>
                        <a:pt x="379" y="494"/>
                      </a:lnTo>
                      <a:lnTo>
                        <a:pt x="348" y="509"/>
                      </a:lnTo>
                      <a:lnTo>
                        <a:pt x="315" y="520"/>
                      </a:lnTo>
                      <a:lnTo>
                        <a:pt x="281" y="528"/>
                      </a:lnTo>
                      <a:lnTo>
                        <a:pt x="245" y="530"/>
                      </a:lnTo>
                      <a:lnTo>
                        <a:pt x="218" y="528"/>
                      </a:lnTo>
                      <a:lnTo>
                        <a:pt x="191" y="524"/>
                      </a:lnTo>
                      <a:lnTo>
                        <a:pt x="166" y="518"/>
                      </a:lnTo>
                      <a:lnTo>
                        <a:pt x="143" y="509"/>
                      </a:lnTo>
                      <a:lnTo>
                        <a:pt x="121" y="498"/>
                      </a:lnTo>
                      <a:lnTo>
                        <a:pt x="101" y="485"/>
                      </a:lnTo>
                      <a:lnTo>
                        <a:pt x="83" y="471"/>
                      </a:lnTo>
                      <a:lnTo>
                        <a:pt x="66" y="454"/>
                      </a:lnTo>
                      <a:lnTo>
                        <a:pt x="51" y="435"/>
                      </a:lnTo>
                      <a:lnTo>
                        <a:pt x="38" y="416"/>
                      </a:lnTo>
                      <a:lnTo>
                        <a:pt x="27" y="394"/>
                      </a:lnTo>
                      <a:lnTo>
                        <a:pt x="18" y="371"/>
                      </a:lnTo>
                      <a:lnTo>
                        <a:pt x="10" y="346"/>
                      </a:lnTo>
                      <a:lnTo>
                        <a:pt x="5" y="321"/>
                      </a:lnTo>
                      <a:lnTo>
                        <a:pt x="1" y="295"/>
                      </a:lnTo>
                      <a:lnTo>
                        <a:pt x="0" y="267"/>
                      </a:lnTo>
                      <a:lnTo>
                        <a:pt x="1" y="240"/>
                      </a:lnTo>
                      <a:lnTo>
                        <a:pt x="5" y="213"/>
                      </a:lnTo>
                      <a:lnTo>
                        <a:pt x="9" y="186"/>
                      </a:lnTo>
                      <a:lnTo>
                        <a:pt x="16" y="161"/>
                      </a:lnTo>
                      <a:lnTo>
                        <a:pt x="24" y="138"/>
                      </a:lnTo>
                      <a:lnTo>
                        <a:pt x="35" y="116"/>
                      </a:lnTo>
                      <a:lnTo>
                        <a:pt x="48" y="95"/>
                      </a:lnTo>
                      <a:lnTo>
                        <a:pt x="62" y="76"/>
                      </a:lnTo>
                      <a:lnTo>
                        <a:pt x="78" y="60"/>
                      </a:lnTo>
                      <a:lnTo>
                        <a:pt x="96" y="45"/>
                      </a:lnTo>
                      <a:lnTo>
                        <a:pt x="116" y="31"/>
                      </a:lnTo>
                      <a:lnTo>
                        <a:pt x="137" y="20"/>
                      </a:lnTo>
                      <a:lnTo>
                        <a:pt x="162" y="12"/>
                      </a:lnTo>
                      <a:lnTo>
                        <a:pt x="187" y="5"/>
                      </a:lnTo>
                      <a:lnTo>
                        <a:pt x="214" y="2"/>
                      </a:lnTo>
                      <a:lnTo>
                        <a:pt x="243" y="0"/>
                      </a:lnTo>
                      <a:lnTo>
                        <a:pt x="271" y="2"/>
                      </a:lnTo>
                      <a:lnTo>
                        <a:pt x="299" y="5"/>
                      </a:lnTo>
                      <a:lnTo>
                        <a:pt x="323" y="12"/>
                      </a:lnTo>
                      <a:lnTo>
                        <a:pt x="346" y="20"/>
                      </a:lnTo>
                      <a:lnTo>
                        <a:pt x="367" y="31"/>
                      </a:lnTo>
                      <a:lnTo>
                        <a:pt x="386" y="45"/>
                      </a:lnTo>
                      <a:lnTo>
                        <a:pt x="403" y="60"/>
                      </a:lnTo>
                      <a:lnTo>
                        <a:pt x="418" y="76"/>
                      </a:lnTo>
                      <a:lnTo>
                        <a:pt x="432" y="96"/>
                      </a:lnTo>
                      <a:lnTo>
                        <a:pt x="443" y="116"/>
                      </a:lnTo>
                      <a:lnTo>
                        <a:pt x="453" y="138"/>
                      </a:lnTo>
                      <a:lnTo>
                        <a:pt x="461" y="161"/>
                      </a:lnTo>
                      <a:lnTo>
                        <a:pt x="468" y="185"/>
                      </a:lnTo>
                      <a:lnTo>
                        <a:pt x="472" y="210"/>
                      </a:lnTo>
                      <a:lnTo>
                        <a:pt x="475" y="238"/>
                      </a:lnTo>
                      <a:lnTo>
                        <a:pt x="475" y="264"/>
                      </a:lnTo>
                      <a:lnTo>
                        <a:pt x="475" y="280"/>
                      </a:lnTo>
                      <a:lnTo>
                        <a:pt x="97" y="280"/>
                      </a:lnTo>
                      <a:close/>
                      <a:moveTo>
                        <a:pt x="380" y="207"/>
                      </a:moveTo>
                      <a:lnTo>
                        <a:pt x="374" y="181"/>
                      </a:lnTo>
                      <a:lnTo>
                        <a:pt x="364" y="157"/>
                      </a:lnTo>
                      <a:lnTo>
                        <a:pt x="351" y="136"/>
                      </a:lnTo>
                      <a:lnTo>
                        <a:pt x="336" y="117"/>
                      </a:lnTo>
                      <a:lnTo>
                        <a:pt x="317" y="103"/>
                      </a:lnTo>
                      <a:lnTo>
                        <a:pt x="295" y="92"/>
                      </a:lnTo>
                      <a:lnTo>
                        <a:pt x="270" y="85"/>
                      </a:lnTo>
                      <a:lnTo>
                        <a:pt x="243" y="83"/>
                      </a:lnTo>
                      <a:lnTo>
                        <a:pt x="216" y="85"/>
                      </a:lnTo>
                      <a:lnTo>
                        <a:pt x="191" y="92"/>
                      </a:lnTo>
                      <a:lnTo>
                        <a:pt x="168" y="104"/>
                      </a:lnTo>
                      <a:lnTo>
                        <a:pt x="148" y="118"/>
                      </a:lnTo>
                      <a:lnTo>
                        <a:pt x="132" y="137"/>
                      </a:lnTo>
                      <a:lnTo>
                        <a:pt x="119" y="158"/>
                      </a:lnTo>
                      <a:lnTo>
                        <a:pt x="108" y="182"/>
                      </a:lnTo>
                      <a:lnTo>
                        <a:pt x="101" y="207"/>
                      </a:lnTo>
                      <a:lnTo>
                        <a:pt x="380" y="20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225080" y="882720"/>
                  <a:ext cx="77760" cy="101520"/>
                </a:xfrm>
                <a:custGeom>
                  <a:avLst/>
                  <a:gdLst/>
                  <a:ahLst/>
                  <a:rect l="l" t="t" r="r" b="b"/>
                  <a:pathLst>
                    <a:path w="404" h="530">
                      <a:moveTo>
                        <a:pt x="404" y="157"/>
                      </a:moveTo>
                      <a:lnTo>
                        <a:pt x="389" y="141"/>
                      </a:lnTo>
                      <a:lnTo>
                        <a:pt x="373" y="127"/>
                      </a:lnTo>
                      <a:lnTo>
                        <a:pt x="358" y="116"/>
                      </a:lnTo>
                      <a:lnTo>
                        <a:pt x="340" y="106"/>
                      </a:lnTo>
                      <a:lnTo>
                        <a:pt x="321" y="99"/>
                      </a:lnTo>
                      <a:lnTo>
                        <a:pt x="303" y="94"/>
                      </a:lnTo>
                      <a:lnTo>
                        <a:pt x="283" y="91"/>
                      </a:lnTo>
                      <a:lnTo>
                        <a:pt x="261" y="90"/>
                      </a:lnTo>
                      <a:lnTo>
                        <a:pt x="245" y="91"/>
                      </a:lnTo>
                      <a:lnTo>
                        <a:pt x="227" y="93"/>
                      </a:lnTo>
                      <a:lnTo>
                        <a:pt x="212" y="97"/>
                      </a:lnTo>
                      <a:lnTo>
                        <a:pt x="196" y="104"/>
                      </a:lnTo>
                      <a:lnTo>
                        <a:pt x="182" y="112"/>
                      </a:lnTo>
                      <a:lnTo>
                        <a:pt x="168" y="120"/>
                      </a:lnTo>
                      <a:lnTo>
                        <a:pt x="156" y="130"/>
                      </a:lnTo>
                      <a:lnTo>
                        <a:pt x="144" y="142"/>
                      </a:lnTo>
                      <a:lnTo>
                        <a:pt x="133" y="154"/>
                      </a:lnTo>
                      <a:lnTo>
                        <a:pt x="124" y="169"/>
                      </a:lnTo>
                      <a:lnTo>
                        <a:pt x="115" y="183"/>
                      </a:lnTo>
                      <a:lnTo>
                        <a:pt x="109" y="198"/>
                      </a:lnTo>
                      <a:lnTo>
                        <a:pt x="103" y="214"/>
                      </a:lnTo>
                      <a:lnTo>
                        <a:pt x="99" y="230"/>
                      </a:lnTo>
                      <a:lnTo>
                        <a:pt x="97" y="247"/>
                      </a:lnTo>
                      <a:lnTo>
                        <a:pt x="96" y="264"/>
                      </a:lnTo>
                      <a:lnTo>
                        <a:pt x="97" y="283"/>
                      </a:lnTo>
                      <a:lnTo>
                        <a:pt x="99" y="300"/>
                      </a:lnTo>
                      <a:lnTo>
                        <a:pt x="103" y="318"/>
                      </a:lnTo>
                      <a:lnTo>
                        <a:pt x="109" y="334"/>
                      </a:lnTo>
                      <a:lnTo>
                        <a:pt x="115" y="350"/>
                      </a:lnTo>
                      <a:lnTo>
                        <a:pt x="124" y="364"/>
                      </a:lnTo>
                      <a:lnTo>
                        <a:pt x="133" y="378"/>
                      </a:lnTo>
                      <a:lnTo>
                        <a:pt x="144" y="390"/>
                      </a:lnTo>
                      <a:lnTo>
                        <a:pt x="156" y="401"/>
                      </a:lnTo>
                      <a:lnTo>
                        <a:pt x="169" y="411"/>
                      </a:lnTo>
                      <a:lnTo>
                        <a:pt x="183" y="420"/>
                      </a:lnTo>
                      <a:lnTo>
                        <a:pt x="199" y="427"/>
                      </a:lnTo>
                      <a:lnTo>
                        <a:pt x="215" y="432"/>
                      </a:lnTo>
                      <a:lnTo>
                        <a:pt x="232" y="437"/>
                      </a:lnTo>
                      <a:lnTo>
                        <a:pt x="249" y="439"/>
                      </a:lnTo>
                      <a:lnTo>
                        <a:pt x="268" y="440"/>
                      </a:lnTo>
                      <a:lnTo>
                        <a:pt x="289" y="439"/>
                      </a:lnTo>
                      <a:lnTo>
                        <a:pt x="307" y="435"/>
                      </a:lnTo>
                      <a:lnTo>
                        <a:pt x="326" y="430"/>
                      </a:lnTo>
                      <a:lnTo>
                        <a:pt x="343" y="422"/>
                      </a:lnTo>
                      <a:lnTo>
                        <a:pt x="360" y="412"/>
                      </a:lnTo>
                      <a:lnTo>
                        <a:pt x="375" y="401"/>
                      </a:lnTo>
                      <a:lnTo>
                        <a:pt x="389" y="388"/>
                      </a:lnTo>
                      <a:lnTo>
                        <a:pt x="404" y="374"/>
                      </a:lnTo>
                      <a:lnTo>
                        <a:pt x="404" y="497"/>
                      </a:lnTo>
                      <a:lnTo>
                        <a:pt x="371" y="511"/>
                      </a:lnTo>
                      <a:lnTo>
                        <a:pt x="338" y="522"/>
                      </a:lnTo>
                      <a:lnTo>
                        <a:pt x="303" y="528"/>
                      </a:lnTo>
                      <a:lnTo>
                        <a:pt x="267" y="530"/>
                      </a:lnTo>
                      <a:lnTo>
                        <a:pt x="239" y="528"/>
                      </a:lnTo>
                      <a:lnTo>
                        <a:pt x="213" y="524"/>
                      </a:lnTo>
                      <a:lnTo>
                        <a:pt x="188" y="518"/>
                      </a:lnTo>
                      <a:lnTo>
                        <a:pt x="164" y="509"/>
                      </a:lnTo>
                      <a:lnTo>
                        <a:pt x="140" y="499"/>
                      </a:lnTo>
                      <a:lnTo>
                        <a:pt x="119" y="486"/>
                      </a:lnTo>
                      <a:lnTo>
                        <a:pt x="98" y="472"/>
                      </a:lnTo>
                      <a:lnTo>
                        <a:pt x="79" y="454"/>
                      </a:lnTo>
                      <a:lnTo>
                        <a:pt x="62" y="437"/>
                      </a:lnTo>
                      <a:lnTo>
                        <a:pt x="46" y="416"/>
                      </a:lnTo>
                      <a:lnTo>
                        <a:pt x="33" y="395"/>
                      </a:lnTo>
                      <a:lnTo>
                        <a:pt x="21" y="372"/>
                      </a:lnTo>
                      <a:lnTo>
                        <a:pt x="12" y="348"/>
                      </a:lnTo>
                      <a:lnTo>
                        <a:pt x="6" y="322"/>
                      </a:lnTo>
                      <a:lnTo>
                        <a:pt x="1" y="295"/>
                      </a:lnTo>
                      <a:lnTo>
                        <a:pt x="0" y="267"/>
                      </a:lnTo>
                      <a:lnTo>
                        <a:pt x="1" y="240"/>
                      </a:lnTo>
                      <a:lnTo>
                        <a:pt x="6" y="213"/>
                      </a:lnTo>
                      <a:lnTo>
                        <a:pt x="12" y="186"/>
                      </a:lnTo>
                      <a:lnTo>
                        <a:pt x="21" y="161"/>
                      </a:lnTo>
                      <a:lnTo>
                        <a:pt x="33" y="138"/>
                      </a:lnTo>
                      <a:lnTo>
                        <a:pt x="46" y="115"/>
                      </a:lnTo>
                      <a:lnTo>
                        <a:pt x="62" y="95"/>
                      </a:lnTo>
                      <a:lnTo>
                        <a:pt x="79" y="76"/>
                      </a:lnTo>
                      <a:lnTo>
                        <a:pt x="98" y="59"/>
                      </a:lnTo>
                      <a:lnTo>
                        <a:pt x="119" y="45"/>
                      </a:lnTo>
                      <a:lnTo>
                        <a:pt x="142" y="31"/>
                      </a:lnTo>
                      <a:lnTo>
                        <a:pt x="165" y="20"/>
                      </a:lnTo>
                      <a:lnTo>
                        <a:pt x="190" y="12"/>
                      </a:lnTo>
                      <a:lnTo>
                        <a:pt x="216" y="5"/>
                      </a:lnTo>
                      <a:lnTo>
                        <a:pt x="244" y="2"/>
                      </a:lnTo>
                      <a:lnTo>
                        <a:pt x="272" y="0"/>
                      </a:lnTo>
                      <a:lnTo>
                        <a:pt x="306" y="2"/>
                      </a:lnTo>
                      <a:lnTo>
                        <a:pt x="340" y="8"/>
                      </a:lnTo>
                      <a:lnTo>
                        <a:pt x="373" y="18"/>
                      </a:lnTo>
                      <a:lnTo>
                        <a:pt x="404" y="32"/>
                      </a:lnTo>
                      <a:lnTo>
                        <a:pt x="404" y="1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314000" y="882720"/>
                  <a:ext cx="102960" cy="101520"/>
                </a:xfrm>
                <a:custGeom>
                  <a:avLst/>
                  <a:gdLst/>
                  <a:ahLst/>
                  <a:rect l="l" t="t" r="r" b="b"/>
                  <a:pathLst>
                    <a:path w="532" h="530">
                      <a:moveTo>
                        <a:pt x="532" y="264"/>
                      </a:moveTo>
                      <a:lnTo>
                        <a:pt x="530" y="293"/>
                      </a:lnTo>
                      <a:lnTo>
                        <a:pt x="527" y="319"/>
                      </a:lnTo>
                      <a:lnTo>
                        <a:pt x="520" y="344"/>
                      </a:lnTo>
                      <a:lnTo>
                        <a:pt x="511" y="370"/>
                      </a:lnTo>
                      <a:lnTo>
                        <a:pt x="501" y="393"/>
                      </a:lnTo>
                      <a:lnTo>
                        <a:pt x="487" y="415"/>
                      </a:lnTo>
                      <a:lnTo>
                        <a:pt x="472" y="434"/>
                      </a:lnTo>
                      <a:lnTo>
                        <a:pt x="454" y="453"/>
                      </a:lnTo>
                      <a:lnTo>
                        <a:pt x="436" y="471"/>
                      </a:lnTo>
                      <a:lnTo>
                        <a:pt x="416" y="485"/>
                      </a:lnTo>
                      <a:lnTo>
                        <a:pt x="394" y="498"/>
                      </a:lnTo>
                      <a:lnTo>
                        <a:pt x="370" y="509"/>
                      </a:lnTo>
                      <a:lnTo>
                        <a:pt x="346" y="518"/>
                      </a:lnTo>
                      <a:lnTo>
                        <a:pt x="321" y="524"/>
                      </a:lnTo>
                      <a:lnTo>
                        <a:pt x="293" y="528"/>
                      </a:lnTo>
                      <a:lnTo>
                        <a:pt x="266" y="530"/>
                      </a:lnTo>
                      <a:lnTo>
                        <a:pt x="238" y="528"/>
                      </a:lnTo>
                      <a:lnTo>
                        <a:pt x="212" y="524"/>
                      </a:lnTo>
                      <a:lnTo>
                        <a:pt x="187" y="518"/>
                      </a:lnTo>
                      <a:lnTo>
                        <a:pt x="162" y="509"/>
                      </a:lnTo>
                      <a:lnTo>
                        <a:pt x="139" y="498"/>
                      </a:lnTo>
                      <a:lnTo>
                        <a:pt x="117" y="485"/>
                      </a:lnTo>
                      <a:lnTo>
                        <a:pt x="97" y="471"/>
                      </a:lnTo>
                      <a:lnTo>
                        <a:pt x="78" y="453"/>
                      </a:lnTo>
                      <a:lnTo>
                        <a:pt x="61" y="434"/>
                      </a:lnTo>
                      <a:lnTo>
                        <a:pt x="45" y="415"/>
                      </a:lnTo>
                      <a:lnTo>
                        <a:pt x="32" y="393"/>
                      </a:lnTo>
                      <a:lnTo>
                        <a:pt x="21" y="370"/>
                      </a:lnTo>
                      <a:lnTo>
                        <a:pt x="12" y="344"/>
                      </a:lnTo>
                      <a:lnTo>
                        <a:pt x="6" y="319"/>
                      </a:lnTo>
                      <a:lnTo>
                        <a:pt x="3" y="293"/>
                      </a:lnTo>
                      <a:lnTo>
                        <a:pt x="0" y="264"/>
                      </a:lnTo>
                      <a:lnTo>
                        <a:pt x="3" y="237"/>
                      </a:lnTo>
                      <a:lnTo>
                        <a:pt x="6" y="210"/>
                      </a:lnTo>
                      <a:lnTo>
                        <a:pt x="12" y="185"/>
                      </a:lnTo>
                      <a:lnTo>
                        <a:pt x="21" y="160"/>
                      </a:lnTo>
                      <a:lnTo>
                        <a:pt x="32" y="137"/>
                      </a:lnTo>
                      <a:lnTo>
                        <a:pt x="45" y="115"/>
                      </a:lnTo>
                      <a:lnTo>
                        <a:pt x="61" y="95"/>
                      </a:lnTo>
                      <a:lnTo>
                        <a:pt x="78" y="76"/>
                      </a:lnTo>
                      <a:lnTo>
                        <a:pt x="97" y="59"/>
                      </a:lnTo>
                      <a:lnTo>
                        <a:pt x="117" y="45"/>
                      </a:lnTo>
                      <a:lnTo>
                        <a:pt x="139" y="31"/>
                      </a:lnTo>
                      <a:lnTo>
                        <a:pt x="162" y="20"/>
                      </a:lnTo>
                      <a:lnTo>
                        <a:pt x="187" y="12"/>
                      </a:lnTo>
                      <a:lnTo>
                        <a:pt x="212" y="5"/>
                      </a:lnTo>
                      <a:lnTo>
                        <a:pt x="238" y="2"/>
                      </a:lnTo>
                      <a:lnTo>
                        <a:pt x="266" y="0"/>
                      </a:lnTo>
                      <a:lnTo>
                        <a:pt x="293" y="2"/>
                      </a:lnTo>
                      <a:lnTo>
                        <a:pt x="321" y="5"/>
                      </a:lnTo>
                      <a:lnTo>
                        <a:pt x="346" y="12"/>
                      </a:lnTo>
                      <a:lnTo>
                        <a:pt x="370" y="20"/>
                      </a:lnTo>
                      <a:lnTo>
                        <a:pt x="394" y="31"/>
                      </a:lnTo>
                      <a:lnTo>
                        <a:pt x="416" y="45"/>
                      </a:lnTo>
                      <a:lnTo>
                        <a:pt x="436" y="59"/>
                      </a:lnTo>
                      <a:lnTo>
                        <a:pt x="454" y="76"/>
                      </a:lnTo>
                      <a:lnTo>
                        <a:pt x="472" y="95"/>
                      </a:lnTo>
                      <a:lnTo>
                        <a:pt x="487" y="115"/>
                      </a:lnTo>
                      <a:lnTo>
                        <a:pt x="501" y="137"/>
                      </a:lnTo>
                      <a:lnTo>
                        <a:pt x="511" y="160"/>
                      </a:lnTo>
                      <a:lnTo>
                        <a:pt x="520" y="185"/>
                      </a:lnTo>
                      <a:lnTo>
                        <a:pt x="527" y="210"/>
                      </a:lnTo>
                      <a:lnTo>
                        <a:pt x="530" y="237"/>
                      </a:lnTo>
                      <a:lnTo>
                        <a:pt x="532" y="264"/>
                      </a:lnTo>
                      <a:close/>
                      <a:moveTo>
                        <a:pt x="96" y="264"/>
                      </a:moveTo>
                      <a:lnTo>
                        <a:pt x="97" y="282"/>
                      </a:lnTo>
                      <a:lnTo>
                        <a:pt x="100" y="299"/>
                      </a:lnTo>
                      <a:lnTo>
                        <a:pt x="103" y="316"/>
                      </a:lnTo>
                      <a:lnTo>
                        <a:pt x="110" y="331"/>
                      </a:lnTo>
                      <a:lnTo>
                        <a:pt x="117" y="346"/>
                      </a:lnTo>
                      <a:lnTo>
                        <a:pt x="125" y="361"/>
                      </a:lnTo>
                      <a:lnTo>
                        <a:pt x="135" y="374"/>
                      </a:lnTo>
                      <a:lnTo>
                        <a:pt x="146" y="386"/>
                      </a:lnTo>
                      <a:lnTo>
                        <a:pt x="158" y="398"/>
                      </a:lnTo>
                      <a:lnTo>
                        <a:pt x="171" y="408"/>
                      </a:lnTo>
                      <a:lnTo>
                        <a:pt x="185" y="417"/>
                      </a:lnTo>
                      <a:lnTo>
                        <a:pt x="200" y="424"/>
                      </a:lnTo>
                      <a:lnTo>
                        <a:pt x="215" y="430"/>
                      </a:lnTo>
                      <a:lnTo>
                        <a:pt x="232" y="434"/>
                      </a:lnTo>
                      <a:lnTo>
                        <a:pt x="248" y="437"/>
                      </a:lnTo>
                      <a:lnTo>
                        <a:pt x="266" y="438"/>
                      </a:lnTo>
                      <a:lnTo>
                        <a:pt x="283" y="437"/>
                      </a:lnTo>
                      <a:lnTo>
                        <a:pt x="301" y="434"/>
                      </a:lnTo>
                      <a:lnTo>
                        <a:pt x="317" y="430"/>
                      </a:lnTo>
                      <a:lnTo>
                        <a:pt x="333" y="424"/>
                      </a:lnTo>
                      <a:lnTo>
                        <a:pt x="348" y="417"/>
                      </a:lnTo>
                      <a:lnTo>
                        <a:pt x="361" y="408"/>
                      </a:lnTo>
                      <a:lnTo>
                        <a:pt x="374" y="398"/>
                      </a:lnTo>
                      <a:lnTo>
                        <a:pt x="386" y="386"/>
                      </a:lnTo>
                      <a:lnTo>
                        <a:pt x="397" y="374"/>
                      </a:lnTo>
                      <a:lnTo>
                        <a:pt x="407" y="361"/>
                      </a:lnTo>
                      <a:lnTo>
                        <a:pt x="416" y="346"/>
                      </a:lnTo>
                      <a:lnTo>
                        <a:pt x="423" y="331"/>
                      </a:lnTo>
                      <a:lnTo>
                        <a:pt x="428" y="316"/>
                      </a:lnTo>
                      <a:lnTo>
                        <a:pt x="433" y="299"/>
                      </a:lnTo>
                      <a:lnTo>
                        <a:pt x="436" y="282"/>
                      </a:lnTo>
                      <a:lnTo>
                        <a:pt x="436" y="264"/>
                      </a:lnTo>
                      <a:lnTo>
                        <a:pt x="436" y="248"/>
                      </a:lnTo>
                      <a:lnTo>
                        <a:pt x="433" y="230"/>
                      </a:lnTo>
                      <a:lnTo>
                        <a:pt x="428" y="214"/>
                      </a:lnTo>
                      <a:lnTo>
                        <a:pt x="423" y="197"/>
                      </a:lnTo>
                      <a:lnTo>
                        <a:pt x="416" y="183"/>
                      </a:lnTo>
                      <a:lnTo>
                        <a:pt x="407" y="169"/>
                      </a:lnTo>
                      <a:lnTo>
                        <a:pt x="397" y="154"/>
                      </a:lnTo>
                      <a:lnTo>
                        <a:pt x="386" y="142"/>
                      </a:lnTo>
                      <a:lnTo>
                        <a:pt x="374" y="131"/>
                      </a:lnTo>
                      <a:lnTo>
                        <a:pt x="361" y="121"/>
                      </a:lnTo>
                      <a:lnTo>
                        <a:pt x="348" y="113"/>
                      </a:lnTo>
                      <a:lnTo>
                        <a:pt x="333" y="105"/>
                      </a:lnTo>
                      <a:lnTo>
                        <a:pt x="317" y="99"/>
                      </a:lnTo>
                      <a:lnTo>
                        <a:pt x="301" y="95"/>
                      </a:lnTo>
                      <a:lnTo>
                        <a:pt x="283" y="92"/>
                      </a:lnTo>
                      <a:lnTo>
                        <a:pt x="266" y="92"/>
                      </a:lnTo>
                      <a:lnTo>
                        <a:pt x="248" y="92"/>
                      </a:lnTo>
                      <a:lnTo>
                        <a:pt x="232" y="95"/>
                      </a:lnTo>
                      <a:lnTo>
                        <a:pt x="215" y="99"/>
                      </a:lnTo>
                      <a:lnTo>
                        <a:pt x="200" y="105"/>
                      </a:lnTo>
                      <a:lnTo>
                        <a:pt x="185" y="113"/>
                      </a:lnTo>
                      <a:lnTo>
                        <a:pt x="171" y="121"/>
                      </a:lnTo>
                      <a:lnTo>
                        <a:pt x="158" y="131"/>
                      </a:lnTo>
                      <a:lnTo>
                        <a:pt x="146" y="142"/>
                      </a:lnTo>
                      <a:lnTo>
                        <a:pt x="135" y="154"/>
                      </a:lnTo>
                      <a:lnTo>
                        <a:pt x="125" y="169"/>
                      </a:lnTo>
                      <a:lnTo>
                        <a:pt x="117" y="183"/>
                      </a:lnTo>
                      <a:lnTo>
                        <a:pt x="110" y="197"/>
                      </a:lnTo>
                      <a:lnTo>
                        <a:pt x="103" y="214"/>
                      </a:lnTo>
                      <a:lnTo>
                        <a:pt x="100" y="230"/>
                      </a:lnTo>
                      <a:lnTo>
                        <a:pt x="97" y="248"/>
                      </a:lnTo>
                      <a:lnTo>
                        <a:pt x="96" y="2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430280" y="882720"/>
                  <a:ext cx="133200" cy="98280"/>
                </a:xfrm>
                <a:custGeom>
                  <a:avLst/>
                  <a:gdLst/>
                  <a:ahLst/>
                  <a:rect l="l" t="t" r="r" b="b"/>
                  <a:pathLst>
                    <a:path w="690" h="512">
                      <a:moveTo>
                        <a:pt x="96" y="77"/>
                      </a:moveTo>
                      <a:lnTo>
                        <a:pt x="98" y="77"/>
                      </a:lnTo>
                      <a:lnTo>
                        <a:pt x="109" y="62"/>
                      </a:lnTo>
                      <a:lnTo>
                        <a:pt x="122" y="47"/>
                      </a:lnTo>
                      <a:lnTo>
                        <a:pt x="137" y="34"/>
                      </a:lnTo>
                      <a:lnTo>
                        <a:pt x="154" y="23"/>
                      </a:lnTo>
                      <a:lnTo>
                        <a:pt x="171" y="13"/>
                      </a:lnTo>
                      <a:lnTo>
                        <a:pt x="190" y="6"/>
                      </a:lnTo>
                      <a:lnTo>
                        <a:pt x="210" y="2"/>
                      </a:lnTo>
                      <a:lnTo>
                        <a:pt x="229" y="0"/>
                      </a:lnTo>
                      <a:lnTo>
                        <a:pt x="253" y="2"/>
                      </a:lnTo>
                      <a:lnTo>
                        <a:pt x="274" y="6"/>
                      </a:lnTo>
                      <a:lnTo>
                        <a:pt x="295" y="13"/>
                      </a:lnTo>
                      <a:lnTo>
                        <a:pt x="314" y="24"/>
                      </a:lnTo>
                      <a:lnTo>
                        <a:pt x="330" y="36"/>
                      </a:lnTo>
                      <a:lnTo>
                        <a:pt x="346" y="51"/>
                      </a:lnTo>
                      <a:lnTo>
                        <a:pt x="360" y="69"/>
                      </a:lnTo>
                      <a:lnTo>
                        <a:pt x="373" y="88"/>
                      </a:lnTo>
                      <a:lnTo>
                        <a:pt x="385" y="69"/>
                      </a:lnTo>
                      <a:lnTo>
                        <a:pt x="401" y="52"/>
                      </a:lnTo>
                      <a:lnTo>
                        <a:pt x="418" y="37"/>
                      </a:lnTo>
                      <a:lnTo>
                        <a:pt x="438" y="24"/>
                      </a:lnTo>
                      <a:lnTo>
                        <a:pt x="458" y="14"/>
                      </a:lnTo>
                      <a:lnTo>
                        <a:pt x="480" y="6"/>
                      </a:lnTo>
                      <a:lnTo>
                        <a:pt x="503" y="2"/>
                      </a:lnTo>
                      <a:lnTo>
                        <a:pt x="526" y="0"/>
                      </a:lnTo>
                      <a:lnTo>
                        <a:pt x="550" y="1"/>
                      </a:lnTo>
                      <a:lnTo>
                        <a:pt x="571" y="5"/>
                      </a:lnTo>
                      <a:lnTo>
                        <a:pt x="589" y="11"/>
                      </a:lnTo>
                      <a:lnTo>
                        <a:pt x="607" y="17"/>
                      </a:lnTo>
                      <a:lnTo>
                        <a:pt x="622" y="27"/>
                      </a:lnTo>
                      <a:lnTo>
                        <a:pt x="635" y="38"/>
                      </a:lnTo>
                      <a:lnTo>
                        <a:pt x="647" y="51"/>
                      </a:lnTo>
                      <a:lnTo>
                        <a:pt x="657" y="65"/>
                      </a:lnTo>
                      <a:lnTo>
                        <a:pt x="666" y="81"/>
                      </a:lnTo>
                      <a:lnTo>
                        <a:pt x="673" y="97"/>
                      </a:lnTo>
                      <a:lnTo>
                        <a:pt x="678" y="115"/>
                      </a:lnTo>
                      <a:lnTo>
                        <a:pt x="684" y="133"/>
                      </a:lnTo>
                      <a:lnTo>
                        <a:pt x="689" y="173"/>
                      </a:lnTo>
                      <a:lnTo>
                        <a:pt x="690" y="215"/>
                      </a:lnTo>
                      <a:lnTo>
                        <a:pt x="690" y="512"/>
                      </a:lnTo>
                      <a:lnTo>
                        <a:pt x="595" y="512"/>
                      </a:lnTo>
                      <a:lnTo>
                        <a:pt x="595" y="230"/>
                      </a:lnTo>
                      <a:lnTo>
                        <a:pt x="595" y="206"/>
                      </a:lnTo>
                      <a:lnTo>
                        <a:pt x="593" y="181"/>
                      </a:lnTo>
                      <a:lnTo>
                        <a:pt x="588" y="157"/>
                      </a:lnTo>
                      <a:lnTo>
                        <a:pt x="580" y="133"/>
                      </a:lnTo>
                      <a:lnTo>
                        <a:pt x="568" y="114"/>
                      </a:lnTo>
                      <a:lnTo>
                        <a:pt x="561" y="106"/>
                      </a:lnTo>
                      <a:lnTo>
                        <a:pt x="552" y="98"/>
                      </a:lnTo>
                      <a:lnTo>
                        <a:pt x="542" y="93"/>
                      </a:lnTo>
                      <a:lnTo>
                        <a:pt x="531" y="88"/>
                      </a:lnTo>
                      <a:lnTo>
                        <a:pt x="517" y="86"/>
                      </a:lnTo>
                      <a:lnTo>
                        <a:pt x="503" y="85"/>
                      </a:lnTo>
                      <a:lnTo>
                        <a:pt x="484" y="86"/>
                      </a:lnTo>
                      <a:lnTo>
                        <a:pt x="469" y="90"/>
                      </a:lnTo>
                      <a:lnTo>
                        <a:pt x="454" y="95"/>
                      </a:lnTo>
                      <a:lnTo>
                        <a:pt x="442" y="103"/>
                      </a:lnTo>
                      <a:lnTo>
                        <a:pt x="432" y="112"/>
                      </a:lnTo>
                      <a:lnTo>
                        <a:pt x="423" y="123"/>
                      </a:lnTo>
                      <a:lnTo>
                        <a:pt x="416" y="135"/>
                      </a:lnTo>
                      <a:lnTo>
                        <a:pt x="409" y="148"/>
                      </a:lnTo>
                      <a:lnTo>
                        <a:pt x="401" y="176"/>
                      </a:lnTo>
                      <a:lnTo>
                        <a:pt x="396" y="207"/>
                      </a:lnTo>
                      <a:lnTo>
                        <a:pt x="394" y="238"/>
                      </a:lnTo>
                      <a:lnTo>
                        <a:pt x="393" y="267"/>
                      </a:lnTo>
                      <a:lnTo>
                        <a:pt x="393" y="512"/>
                      </a:lnTo>
                      <a:lnTo>
                        <a:pt x="297" y="512"/>
                      </a:lnTo>
                      <a:lnTo>
                        <a:pt x="297" y="249"/>
                      </a:lnTo>
                      <a:lnTo>
                        <a:pt x="297" y="224"/>
                      </a:lnTo>
                      <a:lnTo>
                        <a:pt x="295" y="196"/>
                      </a:lnTo>
                      <a:lnTo>
                        <a:pt x="292" y="169"/>
                      </a:lnTo>
                      <a:lnTo>
                        <a:pt x="285" y="142"/>
                      </a:lnTo>
                      <a:lnTo>
                        <a:pt x="280" y="130"/>
                      </a:lnTo>
                      <a:lnTo>
                        <a:pt x="273" y="119"/>
                      </a:lnTo>
                      <a:lnTo>
                        <a:pt x="267" y="110"/>
                      </a:lnTo>
                      <a:lnTo>
                        <a:pt x="258" y="102"/>
                      </a:lnTo>
                      <a:lnTo>
                        <a:pt x="247" y="95"/>
                      </a:lnTo>
                      <a:lnTo>
                        <a:pt x="235" y="90"/>
                      </a:lnTo>
                      <a:lnTo>
                        <a:pt x="222" y="86"/>
                      </a:lnTo>
                      <a:lnTo>
                        <a:pt x="206" y="85"/>
                      </a:lnTo>
                      <a:lnTo>
                        <a:pt x="188" y="86"/>
                      </a:lnTo>
                      <a:lnTo>
                        <a:pt x="172" y="90"/>
                      </a:lnTo>
                      <a:lnTo>
                        <a:pt x="158" y="95"/>
                      </a:lnTo>
                      <a:lnTo>
                        <a:pt x="146" y="103"/>
                      </a:lnTo>
                      <a:lnTo>
                        <a:pt x="135" y="112"/>
                      </a:lnTo>
                      <a:lnTo>
                        <a:pt x="126" y="123"/>
                      </a:lnTo>
                      <a:lnTo>
                        <a:pt x="119" y="135"/>
                      </a:lnTo>
                      <a:lnTo>
                        <a:pt x="113" y="148"/>
                      </a:lnTo>
                      <a:lnTo>
                        <a:pt x="103" y="176"/>
                      </a:lnTo>
                      <a:lnTo>
                        <a:pt x="99" y="207"/>
                      </a:lnTo>
                      <a:lnTo>
                        <a:pt x="97" y="238"/>
                      </a:lnTo>
                      <a:lnTo>
                        <a:pt x="96" y="267"/>
                      </a:lnTo>
                      <a:lnTo>
                        <a:pt x="96" y="512"/>
                      </a:lnTo>
                      <a:lnTo>
                        <a:pt x="0" y="512"/>
                      </a:lnTo>
                      <a:lnTo>
                        <a:pt x="0" y="15"/>
                      </a:lnTo>
                      <a:lnTo>
                        <a:pt x="96" y="15"/>
                      </a:lnTo>
                      <a:lnTo>
                        <a:pt x="96" y="7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804240" y="1022400"/>
                  <a:ext cx="908280" cy="18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a-DK" sz="600" spc="-1" strike="noStrike">
                      <a:solidFill>
                        <a:srgbClr val="ffffff"/>
                      </a:solidFill>
                      <a:latin typeface="Futura Bk BT"/>
                    </a:rPr>
                    <a:t>www.kirktelecom.dk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48" name=""/>
          <p:cNvSpPr/>
          <p:nvPr/>
        </p:nvSpPr>
        <p:spPr>
          <a:xfrm>
            <a:off x="6834240" y="425124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Swis721 BT"/>
              </a:rPr>
              <a:t>DECT Repe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4991040" y="387000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457520" y="4556160"/>
            <a:ext cx="2361960" cy="100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5695920" y="4556160"/>
            <a:ext cx="1123920" cy="100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020000" y="5214960"/>
            <a:ext cx="2390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 Переход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 За пределами зд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319480" y="457200"/>
            <a:ext cx="73152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Garamond"/>
              </a:rPr>
              <a:t>DECT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– репитер в многозоновой системе</a:t>
            </a:r>
            <a:r>
              <a:rPr b="1" lang="da-DK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8781-CCC9-47EA-8CAF-06F669020FA4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209680" y="762120"/>
            <a:ext cx="7696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38320" y="73080"/>
            <a:ext cx="78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Garamond"/>
              </a:rPr>
              <a:t>DECT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- Репит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08120" y="2209680"/>
            <a:ext cx="2536920" cy="3811680"/>
          </a:xfrm>
          <a:custGeom>
            <a:avLst/>
            <a:gdLst/>
            <a:ahLst/>
            <a:rect l="l" t="t" r="r" b="b"/>
            <a:pathLst>
              <a:path w="1598" h="2401">
                <a:moveTo>
                  <a:pt x="104" y="259"/>
                </a:moveTo>
                <a:lnTo>
                  <a:pt x="78" y="590"/>
                </a:lnTo>
                <a:lnTo>
                  <a:pt x="78" y="629"/>
                </a:lnTo>
                <a:lnTo>
                  <a:pt x="78" y="687"/>
                </a:lnTo>
                <a:lnTo>
                  <a:pt x="78" y="745"/>
                </a:lnTo>
                <a:lnTo>
                  <a:pt x="78" y="793"/>
                </a:lnTo>
                <a:lnTo>
                  <a:pt x="78" y="851"/>
                </a:lnTo>
                <a:lnTo>
                  <a:pt x="78" y="890"/>
                </a:lnTo>
                <a:lnTo>
                  <a:pt x="78" y="938"/>
                </a:lnTo>
                <a:lnTo>
                  <a:pt x="78" y="977"/>
                </a:lnTo>
                <a:lnTo>
                  <a:pt x="78" y="1006"/>
                </a:lnTo>
                <a:lnTo>
                  <a:pt x="58" y="1064"/>
                </a:lnTo>
                <a:lnTo>
                  <a:pt x="39" y="1113"/>
                </a:lnTo>
                <a:lnTo>
                  <a:pt x="29" y="1142"/>
                </a:lnTo>
                <a:lnTo>
                  <a:pt x="20" y="1190"/>
                </a:lnTo>
                <a:lnTo>
                  <a:pt x="10" y="1219"/>
                </a:lnTo>
                <a:lnTo>
                  <a:pt x="10" y="1258"/>
                </a:lnTo>
                <a:lnTo>
                  <a:pt x="10" y="1296"/>
                </a:lnTo>
                <a:lnTo>
                  <a:pt x="10" y="1325"/>
                </a:lnTo>
                <a:lnTo>
                  <a:pt x="10" y="1354"/>
                </a:lnTo>
                <a:lnTo>
                  <a:pt x="20" y="1393"/>
                </a:lnTo>
                <a:lnTo>
                  <a:pt x="29" y="1432"/>
                </a:lnTo>
                <a:lnTo>
                  <a:pt x="29" y="1471"/>
                </a:lnTo>
                <a:lnTo>
                  <a:pt x="10" y="1509"/>
                </a:lnTo>
                <a:lnTo>
                  <a:pt x="10" y="1538"/>
                </a:lnTo>
                <a:lnTo>
                  <a:pt x="0" y="1577"/>
                </a:lnTo>
                <a:lnTo>
                  <a:pt x="0" y="1625"/>
                </a:lnTo>
                <a:lnTo>
                  <a:pt x="10" y="1674"/>
                </a:lnTo>
                <a:lnTo>
                  <a:pt x="20" y="1713"/>
                </a:lnTo>
                <a:lnTo>
                  <a:pt x="29" y="1742"/>
                </a:lnTo>
                <a:lnTo>
                  <a:pt x="58" y="1761"/>
                </a:lnTo>
                <a:lnTo>
                  <a:pt x="97" y="1800"/>
                </a:lnTo>
                <a:lnTo>
                  <a:pt x="126" y="1829"/>
                </a:lnTo>
                <a:lnTo>
                  <a:pt x="165" y="1867"/>
                </a:lnTo>
                <a:lnTo>
                  <a:pt x="203" y="1916"/>
                </a:lnTo>
                <a:lnTo>
                  <a:pt x="233" y="1954"/>
                </a:lnTo>
                <a:lnTo>
                  <a:pt x="252" y="1993"/>
                </a:lnTo>
                <a:lnTo>
                  <a:pt x="281" y="2042"/>
                </a:lnTo>
                <a:lnTo>
                  <a:pt x="310" y="2080"/>
                </a:lnTo>
                <a:lnTo>
                  <a:pt x="358" y="2138"/>
                </a:lnTo>
                <a:lnTo>
                  <a:pt x="426" y="2196"/>
                </a:lnTo>
                <a:lnTo>
                  <a:pt x="494" y="2254"/>
                </a:lnTo>
                <a:lnTo>
                  <a:pt x="523" y="2274"/>
                </a:lnTo>
                <a:lnTo>
                  <a:pt x="562" y="2293"/>
                </a:lnTo>
                <a:lnTo>
                  <a:pt x="591" y="2303"/>
                </a:lnTo>
                <a:lnTo>
                  <a:pt x="620" y="2313"/>
                </a:lnTo>
                <a:lnTo>
                  <a:pt x="658" y="2332"/>
                </a:lnTo>
                <a:lnTo>
                  <a:pt x="736" y="2351"/>
                </a:lnTo>
                <a:lnTo>
                  <a:pt x="813" y="2371"/>
                </a:lnTo>
                <a:lnTo>
                  <a:pt x="862" y="2390"/>
                </a:lnTo>
                <a:lnTo>
                  <a:pt x="891" y="2390"/>
                </a:lnTo>
                <a:lnTo>
                  <a:pt x="929" y="2400"/>
                </a:lnTo>
                <a:lnTo>
                  <a:pt x="968" y="2400"/>
                </a:lnTo>
                <a:lnTo>
                  <a:pt x="1007" y="2400"/>
                </a:lnTo>
                <a:lnTo>
                  <a:pt x="1036" y="2390"/>
                </a:lnTo>
                <a:lnTo>
                  <a:pt x="1065" y="2351"/>
                </a:lnTo>
                <a:lnTo>
                  <a:pt x="1074" y="2313"/>
                </a:lnTo>
                <a:lnTo>
                  <a:pt x="1084" y="2284"/>
                </a:lnTo>
                <a:lnTo>
                  <a:pt x="1094" y="2254"/>
                </a:lnTo>
                <a:lnTo>
                  <a:pt x="1103" y="2225"/>
                </a:lnTo>
                <a:lnTo>
                  <a:pt x="1142" y="2187"/>
                </a:lnTo>
                <a:lnTo>
                  <a:pt x="1171" y="2158"/>
                </a:lnTo>
                <a:lnTo>
                  <a:pt x="1210" y="2148"/>
                </a:lnTo>
                <a:lnTo>
                  <a:pt x="1239" y="2148"/>
                </a:lnTo>
                <a:lnTo>
                  <a:pt x="1268" y="2148"/>
                </a:lnTo>
                <a:lnTo>
                  <a:pt x="1297" y="2148"/>
                </a:lnTo>
                <a:lnTo>
                  <a:pt x="1326" y="2148"/>
                </a:lnTo>
                <a:lnTo>
                  <a:pt x="1365" y="2148"/>
                </a:lnTo>
                <a:lnTo>
                  <a:pt x="1394" y="2138"/>
                </a:lnTo>
                <a:lnTo>
                  <a:pt x="1423" y="2100"/>
                </a:lnTo>
                <a:lnTo>
                  <a:pt x="1442" y="2051"/>
                </a:lnTo>
                <a:lnTo>
                  <a:pt x="1471" y="2013"/>
                </a:lnTo>
                <a:lnTo>
                  <a:pt x="1481" y="1974"/>
                </a:lnTo>
                <a:lnTo>
                  <a:pt x="1491" y="1925"/>
                </a:lnTo>
                <a:lnTo>
                  <a:pt x="1500" y="1887"/>
                </a:lnTo>
                <a:lnTo>
                  <a:pt x="1500" y="1848"/>
                </a:lnTo>
                <a:lnTo>
                  <a:pt x="1510" y="1809"/>
                </a:lnTo>
                <a:lnTo>
                  <a:pt x="1510" y="1780"/>
                </a:lnTo>
                <a:lnTo>
                  <a:pt x="1520" y="1751"/>
                </a:lnTo>
                <a:lnTo>
                  <a:pt x="1520" y="1713"/>
                </a:lnTo>
                <a:lnTo>
                  <a:pt x="1520" y="1674"/>
                </a:lnTo>
                <a:lnTo>
                  <a:pt x="1520" y="1635"/>
                </a:lnTo>
                <a:lnTo>
                  <a:pt x="1520" y="1587"/>
                </a:lnTo>
                <a:lnTo>
                  <a:pt x="1520" y="1548"/>
                </a:lnTo>
                <a:lnTo>
                  <a:pt x="1520" y="1519"/>
                </a:lnTo>
                <a:lnTo>
                  <a:pt x="1520" y="1490"/>
                </a:lnTo>
                <a:lnTo>
                  <a:pt x="1520" y="1451"/>
                </a:lnTo>
                <a:lnTo>
                  <a:pt x="1520" y="1403"/>
                </a:lnTo>
                <a:lnTo>
                  <a:pt x="1529" y="1374"/>
                </a:lnTo>
                <a:lnTo>
                  <a:pt x="1539" y="1335"/>
                </a:lnTo>
                <a:lnTo>
                  <a:pt x="1558" y="1287"/>
                </a:lnTo>
                <a:lnTo>
                  <a:pt x="1568" y="1248"/>
                </a:lnTo>
                <a:lnTo>
                  <a:pt x="1578" y="1219"/>
                </a:lnTo>
                <a:lnTo>
                  <a:pt x="1578" y="1190"/>
                </a:lnTo>
                <a:lnTo>
                  <a:pt x="1578" y="1161"/>
                </a:lnTo>
                <a:lnTo>
                  <a:pt x="1587" y="1132"/>
                </a:lnTo>
                <a:lnTo>
                  <a:pt x="1587" y="1093"/>
                </a:lnTo>
                <a:lnTo>
                  <a:pt x="1597" y="1025"/>
                </a:lnTo>
                <a:lnTo>
                  <a:pt x="1597" y="977"/>
                </a:lnTo>
                <a:lnTo>
                  <a:pt x="1597" y="919"/>
                </a:lnTo>
                <a:lnTo>
                  <a:pt x="1597" y="871"/>
                </a:lnTo>
                <a:lnTo>
                  <a:pt x="1597" y="822"/>
                </a:lnTo>
                <a:lnTo>
                  <a:pt x="1597" y="784"/>
                </a:lnTo>
                <a:lnTo>
                  <a:pt x="1597" y="745"/>
                </a:lnTo>
                <a:lnTo>
                  <a:pt x="1587" y="706"/>
                </a:lnTo>
                <a:lnTo>
                  <a:pt x="1587" y="658"/>
                </a:lnTo>
                <a:lnTo>
                  <a:pt x="1568" y="609"/>
                </a:lnTo>
                <a:lnTo>
                  <a:pt x="1558" y="561"/>
                </a:lnTo>
                <a:lnTo>
                  <a:pt x="1539" y="513"/>
                </a:lnTo>
                <a:lnTo>
                  <a:pt x="1520" y="464"/>
                </a:lnTo>
                <a:lnTo>
                  <a:pt x="1500" y="425"/>
                </a:lnTo>
                <a:lnTo>
                  <a:pt x="1471" y="387"/>
                </a:lnTo>
                <a:lnTo>
                  <a:pt x="1442" y="348"/>
                </a:lnTo>
                <a:lnTo>
                  <a:pt x="1413" y="309"/>
                </a:lnTo>
                <a:lnTo>
                  <a:pt x="1374" y="280"/>
                </a:lnTo>
                <a:lnTo>
                  <a:pt x="1345" y="261"/>
                </a:lnTo>
                <a:lnTo>
                  <a:pt x="1316" y="242"/>
                </a:lnTo>
                <a:lnTo>
                  <a:pt x="1268" y="213"/>
                </a:lnTo>
                <a:lnTo>
                  <a:pt x="1210" y="174"/>
                </a:lnTo>
                <a:lnTo>
                  <a:pt x="1162" y="135"/>
                </a:lnTo>
                <a:lnTo>
                  <a:pt x="1113" y="96"/>
                </a:lnTo>
                <a:lnTo>
                  <a:pt x="1065" y="67"/>
                </a:lnTo>
                <a:lnTo>
                  <a:pt x="1026" y="38"/>
                </a:lnTo>
                <a:lnTo>
                  <a:pt x="997" y="19"/>
                </a:lnTo>
                <a:lnTo>
                  <a:pt x="939" y="9"/>
                </a:lnTo>
                <a:lnTo>
                  <a:pt x="891" y="9"/>
                </a:lnTo>
                <a:lnTo>
                  <a:pt x="862" y="0"/>
                </a:lnTo>
                <a:lnTo>
                  <a:pt x="833" y="0"/>
                </a:lnTo>
                <a:lnTo>
                  <a:pt x="784" y="0"/>
                </a:lnTo>
                <a:lnTo>
                  <a:pt x="745" y="0"/>
                </a:lnTo>
                <a:lnTo>
                  <a:pt x="697" y="0"/>
                </a:lnTo>
                <a:lnTo>
                  <a:pt x="668" y="0"/>
                </a:lnTo>
                <a:lnTo>
                  <a:pt x="620" y="0"/>
                </a:lnTo>
                <a:lnTo>
                  <a:pt x="591" y="0"/>
                </a:lnTo>
                <a:lnTo>
                  <a:pt x="552" y="0"/>
                </a:lnTo>
                <a:lnTo>
                  <a:pt x="523" y="0"/>
                </a:lnTo>
                <a:lnTo>
                  <a:pt x="484" y="19"/>
                </a:lnTo>
                <a:lnTo>
                  <a:pt x="445" y="29"/>
                </a:lnTo>
                <a:lnTo>
                  <a:pt x="416" y="38"/>
                </a:lnTo>
                <a:lnTo>
                  <a:pt x="378" y="58"/>
                </a:lnTo>
                <a:lnTo>
                  <a:pt x="349" y="77"/>
                </a:lnTo>
                <a:lnTo>
                  <a:pt x="310" y="116"/>
                </a:lnTo>
                <a:lnTo>
                  <a:pt x="281" y="145"/>
                </a:lnTo>
                <a:lnTo>
                  <a:pt x="242" y="184"/>
                </a:lnTo>
                <a:lnTo>
                  <a:pt x="203" y="213"/>
                </a:lnTo>
                <a:lnTo>
                  <a:pt x="165" y="242"/>
                </a:lnTo>
                <a:lnTo>
                  <a:pt x="136" y="261"/>
                </a:lnTo>
                <a:lnTo>
                  <a:pt x="107" y="271"/>
                </a:lnTo>
                <a:lnTo>
                  <a:pt x="104" y="25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089920" y="3389400"/>
            <a:ext cx="901800" cy="8254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3137040" y="2862360"/>
            <a:ext cx="749160" cy="2197080"/>
            <a:chOff x="3137040" y="2862360"/>
            <a:chExt cx="749160" cy="2197080"/>
          </a:xfrm>
        </p:grpSpPr>
        <p:sp>
          <p:nvSpPr>
            <p:cNvPr id="259" name=""/>
            <p:cNvSpPr/>
            <p:nvPr/>
          </p:nvSpPr>
          <p:spPr>
            <a:xfrm>
              <a:off x="3441960" y="3167280"/>
              <a:ext cx="444240" cy="1892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37040" y="2862360"/>
              <a:ext cx="291960" cy="82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4952880" y="281952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15240" y="4495680"/>
            <a:ext cx="29145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Swis721 BT"/>
              </a:rPr>
              <a:t>DECT </a:t>
            </a:r>
            <a:r>
              <a:rPr b="0" lang="ru-RU" sz="1800" spc="-1" strike="noStrike">
                <a:solidFill>
                  <a:srgbClr val="000000"/>
                </a:solidFill>
                <a:latin typeface="Swis721 BT"/>
              </a:rPr>
              <a:t>–репитер с внешней направленной антенн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5961240"/>
            <a:ext cx="4038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wis721 BT"/>
              </a:rPr>
              <a:t>Микросотовая сист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2362320"/>
            <a:ext cx="3048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wis721 BT"/>
              </a:rPr>
              <a:t>Расстояние 1000 метр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sp>
          <p:nvSpPr>
            <p:cNvPr id="266" name=""/>
            <p:cNvSpPr/>
            <p:nvPr/>
          </p:nvSpPr>
          <p:spPr>
            <a:xfrm>
              <a:off x="2133720" y="457200"/>
              <a:ext cx="7772400" cy="0"/>
            </a:xfrm>
            <a:prstGeom prst="line">
              <a:avLst/>
            </a:prstGeom>
            <a:ln cap="sq"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0" y="0"/>
              <a:ext cx="5657760" cy="6858000"/>
              <a:chOff x="0" y="0"/>
              <a:chExt cx="5657760" cy="6858000"/>
            </a:xfrm>
          </p:grpSpPr>
          <p:sp>
            <p:nvSpPr>
              <p:cNvPr id="268" name=""/>
              <p:cNvSpPr/>
              <p:nvPr/>
            </p:nvSpPr>
            <p:spPr>
              <a:xfrm>
                <a:off x="0" y="0"/>
                <a:ext cx="2057400" cy="3429000"/>
              </a:xfrm>
              <a:prstGeom prst="rect">
                <a:avLst/>
              </a:prstGeom>
              <a:solidFill>
                <a:srgbClr val="0000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3429000"/>
                <a:ext cx="2057400" cy="3429000"/>
              </a:xfrm>
              <a:prstGeom prst="rect">
                <a:avLst/>
              </a:prstGeom>
              <a:solidFill>
                <a:srgbClr val="0000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47800" y="6324480"/>
                <a:ext cx="304560" cy="228600"/>
              </a:xfrm>
              <a:prstGeom prst="triangle">
                <a:avLst>
                  <a:gd name="adj" fmla="val 49995"/>
                </a:avLst>
              </a:prstGeom>
              <a:solidFill>
                <a:srgbClr val="0059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353200" y="6324480"/>
                <a:ext cx="304560" cy="228600"/>
              </a:xfrm>
              <a:prstGeom prst="triangle">
                <a:avLst>
                  <a:gd name="adj" fmla="val 49995"/>
                </a:avLst>
              </a:prstGeom>
              <a:solidFill>
                <a:srgbClr val="0059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7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85760" y="2055960"/>
                <a:ext cx="1574640" cy="2717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3" name=""/>
              <p:cNvGrpSpPr/>
              <p:nvPr/>
            </p:nvGrpSpPr>
            <p:grpSpPr>
              <a:xfrm>
                <a:off x="195120" y="380880"/>
                <a:ext cx="1517400" cy="821880"/>
                <a:chOff x="195120" y="380880"/>
                <a:chExt cx="1517400" cy="8218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372960" y="380880"/>
                  <a:ext cx="313200" cy="387360"/>
                </a:xfrm>
                <a:custGeom>
                  <a:avLst/>
                  <a:gdLst/>
                  <a:ahLst/>
                  <a:rect l="l" t="t" r="r" b="b"/>
                  <a:pathLst>
                    <a:path w="1606" h="1987">
                      <a:moveTo>
                        <a:pt x="29" y="1655"/>
                      </a:moveTo>
                      <a:lnTo>
                        <a:pt x="79" y="1682"/>
                      </a:lnTo>
                      <a:lnTo>
                        <a:pt x="623" y="1957"/>
                      </a:lnTo>
                      <a:lnTo>
                        <a:pt x="684" y="1987"/>
                      </a:lnTo>
                      <a:lnTo>
                        <a:pt x="687" y="1916"/>
                      </a:lnTo>
                      <a:lnTo>
                        <a:pt x="691" y="1864"/>
                      </a:lnTo>
                      <a:lnTo>
                        <a:pt x="697" y="1814"/>
                      </a:lnTo>
                      <a:lnTo>
                        <a:pt x="704" y="1763"/>
                      </a:lnTo>
                      <a:lnTo>
                        <a:pt x="713" y="1714"/>
                      </a:lnTo>
                      <a:lnTo>
                        <a:pt x="724" y="1665"/>
                      </a:lnTo>
                      <a:lnTo>
                        <a:pt x="737" y="1616"/>
                      </a:lnTo>
                      <a:lnTo>
                        <a:pt x="751" y="1569"/>
                      </a:lnTo>
                      <a:lnTo>
                        <a:pt x="767" y="1522"/>
                      </a:lnTo>
                      <a:lnTo>
                        <a:pt x="784" y="1476"/>
                      </a:lnTo>
                      <a:lnTo>
                        <a:pt x="803" y="1431"/>
                      </a:lnTo>
                      <a:lnTo>
                        <a:pt x="824" y="1386"/>
                      </a:lnTo>
                      <a:lnTo>
                        <a:pt x="846" y="1343"/>
                      </a:lnTo>
                      <a:lnTo>
                        <a:pt x="869" y="1300"/>
                      </a:lnTo>
                      <a:lnTo>
                        <a:pt x="894" y="1257"/>
                      </a:lnTo>
                      <a:lnTo>
                        <a:pt x="920" y="1217"/>
                      </a:lnTo>
                      <a:lnTo>
                        <a:pt x="948" y="1177"/>
                      </a:lnTo>
                      <a:lnTo>
                        <a:pt x="976" y="1137"/>
                      </a:lnTo>
                      <a:lnTo>
                        <a:pt x="1007" y="1100"/>
                      </a:lnTo>
                      <a:lnTo>
                        <a:pt x="1038" y="1063"/>
                      </a:lnTo>
                      <a:lnTo>
                        <a:pt x="1071" y="1027"/>
                      </a:lnTo>
                      <a:lnTo>
                        <a:pt x="1105" y="993"/>
                      </a:lnTo>
                      <a:lnTo>
                        <a:pt x="1140" y="959"/>
                      </a:lnTo>
                      <a:lnTo>
                        <a:pt x="1176" y="927"/>
                      </a:lnTo>
                      <a:lnTo>
                        <a:pt x="1213" y="896"/>
                      </a:lnTo>
                      <a:lnTo>
                        <a:pt x="1250" y="866"/>
                      </a:lnTo>
                      <a:lnTo>
                        <a:pt x="1290" y="838"/>
                      </a:lnTo>
                      <a:lnTo>
                        <a:pt x="1331" y="810"/>
                      </a:lnTo>
                      <a:lnTo>
                        <a:pt x="1372" y="785"/>
                      </a:lnTo>
                      <a:lnTo>
                        <a:pt x="1414" y="760"/>
                      </a:lnTo>
                      <a:lnTo>
                        <a:pt x="1457" y="737"/>
                      </a:lnTo>
                      <a:lnTo>
                        <a:pt x="1501" y="716"/>
                      </a:lnTo>
                      <a:lnTo>
                        <a:pt x="1546" y="696"/>
                      </a:lnTo>
                      <a:lnTo>
                        <a:pt x="1584" y="680"/>
                      </a:lnTo>
                      <a:lnTo>
                        <a:pt x="1594" y="673"/>
                      </a:lnTo>
                      <a:lnTo>
                        <a:pt x="1600" y="665"/>
                      </a:lnTo>
                      <a:lnTo>
                        <a:pt x="1604" y="658"/>
                      </a:lnTo>
                      <a:lnTo>
                        <a:pt x="1606" y="650"/>
                      </a:lnTo>
                      <a:lnTo>
                        <a:pt x="1605" y="638"/>
                      </a:lnTo>
                      <a:lnTo>
                        <a:pt x="1603" y="632"/>
                      </a:lnTo>
                      <a:lnTo>
                        <a:pt x="1586" y="586"/>
                      </a:lnTo>
                      <a:lnTo>
                        <a:pt x="1385" y="31"/>
                      </a:lnTo>
                      <a:lnTo>
                        <a:pt x="1381" y="18"/>
                      </a:lnTo>
                      <a:lnTo>
                        <a:pt x="1380" y="13"/>
                      </a:lnTo>
                      <a:lnTo>
                        <a:pt x="1372" y="5"/>
                      </a:lnTo>
                      <a:lnTo>
                        <a:pt x="1367" y="2"/>
                      </a:lnTo>
                      <a:lnTo>
                        <a:pt x="1359" y="0"/>
                      </a:lnTo>
                      <a:lnTo>
                        <a:pt x="1349" y="0"/>
                      </a:lnTo>
                      <a:lnTo>
                        <a:pt x="1337" y="3"/>
                      </a:lnTo>
                      <a:lnTo>
                        <a:pt x="1307" y="14"/>
                      </a:lnTo>
                      <a:lnTo>
                        <a:pt x="1248" y="37"/>
                      </a:lnTo>
                      <a:lnTo>
                        <a:pt x="1190" y="63"/>
                      </a:lnTo>
                      <a:lnTo>
                        <a:pt x="1133" y="89"/>
                      </a:lnTo>
                      <a:lnTo>
                        <a:pt x="1076" y="119"/>
                      </a:lnTo>
                      <a:lnTo>
                        <a:pt x="1021" y="149"/>
                      </a:lnTo>
                      <a:lnTo>
                        <a:pt x="966" y="181"/>
                      </a:lnTo>
                      <a:lnTo>
                        <a:pt x="913" y="215"/>
                      </a:lnTo>
                      <a:lnTo>
                        <a:pt x="861" y="251"/>
                      </a:lnTo>
                      <a:lnTo>
                        <a:pt x="810" y="289"/>
                      </a:lnTo>
                      <a:lnTo>
                        <a:pt x="759" y="328"/>
                      </a:lnTo>
                      <a:lnTo>
                        <a:pt x="711" y="369"/>
                      </a:lnTo>
                      <a:lnTo>
                        <a:pt x="663" y="411"/>
                      </a:lnTo>
                      <a:lnTo>
                        <a:pt x="616" y="455"/>
                      </a:lnTo>
                      <a:lnTo>
                        <a:pt x="572" y="501"/>
                      </a:lnTo>
                      <a:lnTo>
                        <a:pt x="528" y="547"/>
                      </a:lnTo>
                      <a:lnTo>
                        <a:pt x="485" y="595"/>
                      </a:lnTo>
                      <a:lnTo>
                        <a:pt x="443" y="645"/>
                      </a:lnTo>
                      <a:lnTo>
                        <a:pt x="404" y="695"/>
                      </a:lnTo>
                      <a:lnTo>
                        <a:pt x="365" y="747"/>
                      </a:lnTo>
                      <a:lnTo>
                        <a:pt x="329" y="800"/>
                      </a:lnTo>
                      <a:lnTo>
                        <a:pt x="294" y="854"/>
                      </a:lnTo>
                      <a:lnTo>
                        <a:pt x="260" y="910"/>
                      </a:lnTo>
                      <a:lnTo>
                        <a:pt x="228" y="967"/>
                      </a:lnTo>
                      <a:lnTo>
                        <a:pt x="197" y="1024"/>
                      </a:lnTo>
                      <a:lnTo>
                        <a:pt x="169" y="1084"/>
                      </a:lnTo>
                      <a:lnTo>
                        <a:pt x="142" y="1144"/>
                      </a:lnTo>
                      <a:lnTo>
                        <a:pt x="116" y="1204"/>
                      </a:lnTo>
                      <a:lnTo>
                        <a:pt x="93" y="1266"/>
                      </a:lnTo>
                      <a:lnTo>
                        <a:pt x="71" y="1329"/>
                      </a:lnTo>
                      <a:lnTo>
                        <a:pt x="52" y="1392"/>
                      </a:lnTo>
                      <a:lnTo>
                        <a:pt x="34" y="1457"/>
                      </a:lnTo>
                      <a:lnTo>
                        <a:pt x="18" y="1522"/>
                      </a:lnTo>
                      <a:lnTo>
                        <a:pt x="2" y="1593"/>
                      </a:lnTo>
                      <a:lnTo>
                        <a:pt x="0" y="1610"/>
                      </a:lnTo>
                      <a:lnTo>
                        <a:pt x="1" y="1623"/>
                      </a:lnTo>
                      <a:lnTo>
                        <a:pt x="6" y="1634"/>
                      </a:lnTo>
                      <a:lnTo>
                        <a:pt x="11" y="1643"/>
                      </a:lnTo>
                      <a:lnTo>
                        <a:pt x="17" y="1648"/>
                      </a:lnTo>
                      <a:lnTo>
                        <a:pt x="23" y="1652"/>
                      </a:lnTo>
                      <a:lnTo>
                        <a:pt x="29" y="1655"/>
                      </a:lnTo>
                      <a:close/>
                    </a:path>
                  </a:pathLst>
                </a:custGeom>
                <a:solidFill>
                  <a:srgbClr val="0000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72960" y="770040"/>
                  <a:ext cx="313200" cy="387360"/>
                </a:xfrm>
                <a:custGeom>
                  <a:avLst/>
                  <a:gdLst/>
                  <a:ahLst/>
                  <a:rect l="l" t="t" r="r" b="b"/>
                  <a:pathLst>
                    <a:path w="1606" h="1985">
                      <a:moveTo>
                        <a:pt x="29" y="333"/>
                      </a:moveTo>
                      <a:lnTo>
                        <a:pt x="79" y="306"/>
                      </a:lnTo>
                      <a:lnTo>
                        <a:pt x="623" y="31"/>
                      </a:lnTo>
                      <a:lnTo>
                        <a:pt x="684" y="0"/>
                      </a:lnTo>
                      <a:lnTo>
                        <a:pt x="687" y="72"/>
                      </a:lnTo>
                      <a:lnTo>
                        <a:pt x="691" y="123"/>
                      </a:lnTo>
                      <a:lnTo>
                        <a:pt x="697" y="174"/>
                      </a:lnTo>
                      <a:lnTo>
                        <a:pt x="704" y="224"/>
                      </a:lnTo>
                      <a:lnTo>
                        <a:pt x="713" y="273"/>
                      </a:lnTo>
                      <a:lnTo>
                        <a:pt x="724" y="323"/>
                      </a:lnTo>
                      <a:lnTo>
                        <a:pt x="737" y="371"/>
                      </a:lnTo>
                      <a:lnTo>
                        <a:pt x="751" y="418"/>
                      </a:lnTo>
                      <a:lnTo>
                        <a:pt x="767" y="465"/>
                      </a:lnTo>
                      <a:lnTo>
                        <a:pt x="784" y="512"/>
                      </a:lnTo>
                      <a:lnTo>
                        <a:pt x="803" y="557"/>
                      </a:lnTo>
                      <a:lnTo>
                        <a:pt x="824" y="602"/>
                      </a:lnTo>
                      <a:lnTo>
                        <a:pt x="846" y="645"/>
                      </a:lnTo>
                      <a:lnTo>
                        <a:pt x="869" y="688"/>
                      </a:lnTo>
                      <a:lnTo>
                        <a:pt x="894" y="730"/>
                      </a:lnTo>
                      <a:lnTo>
                        <a:pt x="920" y="771"/>
                      </a:lnTo>
                      <a:lnTo>
                        <a:pt x="948" y="811"/>
                      </a:lnTo>
                      <a:lnTo>
                        <a:pt x="976" y="850"/>
                      </a:lnTo>
                      <a:lnTo>
                        <a:pt x="1007" y="888"/>
                      </a:lnTo>
                      <a:lnTo>
                        <a:pt x="1038" y="924"/>
                      </a:lnTo>
                      <a:lnTo>
                        <a:pt x="1071" y="961"/>
                      </a:lnTo>
                      <a:lnTo>
                        <a:pt x="1105" y="995"/>
                      </a:lnTo>
                      <a:lnTo>
                        <a:pt x="1140" y="1029"/>
                      </a:lnTo>
                      <a:lnTo>
                        <a:pt x="1176" y="1061"/>
                      </a:lnTo>
                      <a:lnTo>
                        <a:pt x="1213" y="1092"/>
                      </a:lnTo>
                      <a:lnTo>
                        <a:pt x="1252" y="1122"/>
                      </a:lnTo>
                      <a:lnTo>
                        <a:pt x="1290" y="1151"/>
                      </a:lnTo>
                      <a:lnTo>
                        <a:pt x="1331" y="1177"/>
                      </a:lnTo>
                      <a:lnTo>
                        <a:pt x="1372" y="1203"/>
                      </a:lnTo>
                      <a:lnTo>
                        <a:pt x="1414" y="1227"/>
                      </a:lnTo>
                      <a:lnTo>
                        <a:pt x="1457" y="1250"/>
                      </a:lnTo>
                      <a:lnTo>
                        <a:pt x="1501" y="1271"/>
                      </a:lnTo>
                      <a:lnTo>
                        <a:pt x="1546" y="1292"/>
                      </a:lnTo>
                      <a:lnTo>
                        <a:pt x="1584" y="1308"/>
                      </a:lnTo>
                      <a:lnTo>
                        <a:pt x="1594" y="1315"/>
                      </a:lnTo>
                      <a:lnTo>
                        <a:pt x="1600" y="1323"/>
                      </a:lnTo>
                      <a:lnTo>
                        <a:pt x="1605" y="1331"/>
                      </a:lnTo>
                      <a:lnTo>
                        <a:pt x="1606" y="1337"/>
                      </a:lnTo>
                      <a:lnTo>
                        <a:pt x="1605" y="1349"/>
                      </a:lnTo>
                      <a:lnTo>
                        <a:pt x="1603" y="1355"/>
                      </a:lnTo>
                      <a:lnTo>
                        <a:pt x="1586" y="1401"/>
                      </a:lnTo>
                      <a:lnTo>
                        <a:pt x="1388" y="1950"/>
                      </a:lnTo>
                      <a:lnTo>
                        <a:pt x="1381" y="1965"/>
                      </a:lnTo>
                      <a:lnTo>
                        <a:pt x="1379" y="1970"/>
                      </a:lnTo>
                      <a:lnTo>
                        <a:pt x="1371" y="1978"/>
                      </a:lnTo>
                      <a:lnTo>
                        <a:pt x="1366" y="1983"/>
                      </a:lnTo>
                      <a:lnTo>
                        <a:pt x="1358" y="1985"/>
                      </a:lnTo>
                      <a:lnTo>
                        <a:pt x="1348" y="1985"/>
                      </a:lnTo>
                      <a:lnTo>
                        <a:pt x="1338" y="1983"/>
                      </a:lnTo>
                      <a:lnTo>
                        <a:pt x="1302" y="1969"/>
                      </a:lnTo>
                      <a:lnTo>
                        <a:pt x="1242" y="1942"/>
                      </a:lnTo>
                      <a:lnTo>
                        <a:pt x="1181" y="1915"/>
                      </a:lnTo>
                      <a:lnTo>
                        <a:pt x="1123" y="1886"/>
                      </a:lnTo>
                      <a:lnTo>
                        <a:pt x="1066" y="1857"/>
                      </a:lnTo>
                      <a:lnTo>
                        <a:pt x="1009" y="1824"/>
                      </a:lnTo>
                      <a:lnTo>
                        <a:pt x="954" y="1791"/>
                      </a:lnTo>
                      <a:lnTo>
                        <a:pt x="901" y="1756"/>
                      </a:lnTo>
                      <a:lnTo>
                        <a:pt x="848" y="1719"/>
                      </a:lnTo>
                      <a:lnTo>
                        <a:pt x="796" y="1682"/>
                      </a:lnTo>
                      <a:lnTo>
                        <a:pt x="747" y="1642"/>
                      </a:lnTo>
                      <a:lnTo>
                        <a:pt x="698" y="1602"/>
                      </a:lnTo>
                      <a:lnTo>
                        <a:pt x="650" y="1560"/>
                      </a:lnTo>
                      <a:lnTo>
                        <a:pt x="604" y="1517"/>
                      </a:lnTo>
                      <a:lnTo>
                        <a:pt x="559" y="1472"/>
                      </a:lnTo>
                      <a:lnTo>
                        <a:pt x="517" y="1426"/>
                      </a:lnTo>
                      <a:lnTo>
                        <a:pt x="475" y="1379"/>
                      </a:lnTo>
                      <a:lnTo>
                        <a:pt x="434" y="1331"/>
                      </a:lnTo>
                      <a:lnTo>
                        <a:pt x="395" y="1281"/>
                      </a:lnTo>
                      <a:lnTo>
                        <a:pt x="358" y="1230"/>
                      </a:lnTo>
                      <a:lnTo>
                        <a:pt x="323" y="1178"/>
                      </a:lnTo>
                      <a:lnTo>
                        <a:pt x="287" y="1124"/>
                      </a:lnTo>
                      <a:lnTo>
                        <a:pt x="255" y="1070"/>
                      </a:lnTo>
                      <a:lnTo>
                        <a:pt x="224" y="1014"/>
                      </a:lnTo>
                      <a:lnTo>
                        <a:pt x="194" y="957"/>
                      </a:lnTo>
                      <a:lnTo>
                        <a:pt x="166" y="900"/>
                      </a:lnTo>
                      <a:lnTo>
                        <a:pt x="139" y="841"/>
                      </a:lnTo>
                      <a:lnTo>
                        <a:pt x="115" y="781"/>
                      </a:lnTo>
                      <a:lnTo>
                        <a:pt x="92" y="720"/>
                      </a:lnTo>
                      <a:lnTo>
                        <a:pt x="71" y="658"/>
                      </a:lnTo>
                      <a:lnTo>
                        <a:pt x="52" y="595"/>
                      </a:lnTo>
                      <a:lnTo>
                        <a:pt x="34" y="530"/>
                      </a:lnTo>
                      <a:lnTo>
                        <a:pt x="18" y="465"/>
                      </a:lnTo>
                      <a:lnTo>
                        <a:pt x="3" y="394"/>
                      </a:lnTo>
                      <a:lnTo>
                        <a:pt x="0" y="378"/>
                      </a:lnTo>
                      <a:lnTo>
                        <a:pt x="1" y="364"/>
                      </a:lnTo>
                      <a:lnTo>
                        <a:pt x="6" y="353"/>
                      </a:lnTo>
                      <a:lnTo>
                        <a:pt x="11" y="346"/>
                      </a:lnTo>
                      <a:lnTo>
                        <a:pt x="17" y="339"/>
                      </a:lnTo>
                      <a:lnTo>
                        <a:pt x="23" y="336"/>
                      </a:lnTo>
                      <a:lnTo>
                        <a:pt x="29" y="333"/>
                      </a:lnTo>
                      <a:close/>
                    </a:path>
                  </a:pathLst>
                </a:custGeom>
                <a:solidFill>
                  <a:srgbClr val="0000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16320" y="698400"/>
                  <a:ext cx="137880" cy="147600"/>
                </a:xfrm>
                <a:custGeom>
                  <a:avLst/>
                  <a:gdLst/>
                  <a:ahLst/>
                  <a:rect l="l" t="t" r="r" b="b"/>
                  <a:pathLst>
                    <a:path w="714" h="759">
                      <a:moveTo>
                        <a:pt x="699" y="379"/>
                      </a:moveTo>
                      <a:lnTo>
                        <a:pt x="706" y="375"/>
                      </a:lnTo>
                      <a:lnTo>
                        <a:pt x="710" y="370"/>
                      </a:lnTo>
                      <a:lnTo>
                        <a:pt x="713" y="365"/>
                      </a:lnTo>
                      <a:lnTo>
                        <a:pt x="714" y="360"/>
                      </a:lnTo>
                      <a:lnTo>
                        <a:pt x="713" y="355"/>
                      </a:lnTo>
                      <a:lnTo>
                        <a:pt x="709" y="351"/>
                      </a:lnTo>
                      <a:lnTo>
                        <a:pt x="705" y="346"/>
                      </a:lnTo>
                      <a:lnTo>
                        <a:pt x="699" y="342"/>
                      </a:lnTo>
                      <a:lnTo>
                        <a:pt x="35" y="4"/>
                      </a:lnTo>
                      <a:lnTo>
                        <a:pt x="27" y="0"/>
                      </a:lnTo>
                      <a:lnTo>
                        <a:pt x="21" y="0"/>
                      </a:lnTo>
                      <a:lnTo>
                        <a:pt x="15" y="0"/>
                      </a:lnTo>
                      <a:lnTo>
                        <a:pt x="10" y="2"/>
                      </a:lnTo>
                      <a:lnTo>
                        <a:pt x="6" y="6"/>
                      </a:lnTo>
                      <a:lnTo>
                        <a:pt x="3" y="11"/>
                      </a:lnTo>
                      <a:lnTo>
                        <a:pt x="1" y="18"/>
                      </a:lnTo>
                      <a:lnTo>
                        <a:pt x="0" y="24"/>
                      </a:lnTo>
                      <a:lnTo>
                        <a:pt x="0" y="735"/>
                      </a:lnTo>
                      <a:lnTo>
                        <a:pt x="1" y="743"/>
                      </a:lnTo>
                      <a:lnTo>
                        <a:pt x="3" y="748"/>
                      </a:lnTo>
                      <a:lnTo>
                        <a:pt x="5" y="753"/>
                      </a:lnTo>
                      <a:lnTo>
                        <a:pt x="10" y="757"/>
                      </a:lnTo>
                      <a:lnTo>
                        <a:pt x="15" y="759"/>
                      </a:lnTo>
                      <a:lnTo>
                        <a:pt x="21" y="759"/>
                      </a:lnTo>
                      <a:lnTo>
                        <a:pt x="27" y="758"/>
                      </a:lnTo>
                      <a:lnTo>
                        <a:pt x="34" y="755"/>
                      </a:lnTo>
                      <a:lnTo>
                        <a:pt x="699" y="379"/>
                      </a:lnTo>
                      <a:close/>
                    </a:path>
                  </a:pathLst>
                </a:custGeom>
                <a:solidFill>
                  <a:srgbClr val="009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95120" y="701640"/>
                  <a:ext cx="138240" cy="146160"/>
                </a:xfrm>
                <a:custGeom>
                  <a:avLst/>
                  <a:gdLst/>
                  <a:ahLst/>
                  <a:rect l="l" t="t" r="r" b="b"/>
                  <a:pathLst>
                    <a:path w="714" h="758">
                      <a:moveTo>
                        <a:pt x="701" y="379"/>
                      </a:moveTo>
                      <a:lnTo>
                        <a:pt x="706" y="374"/>
                      </a:lnTo>
                      <a:lnTo>
                        <a:pt x="711" y="370"/>
                      </a:lnTo>
                      <a:lnTo>
                        <a:pt x="713" y="365"/>
                      </a:lnTo>
                      <a:lnTo>
                        <a:pt x="714" y="360"/>
                      </a:lnTo>
                      <a:lnTo>
                        <a:pt x="713" y="355"/>
                      </a:lnTo>
                      <a:lnTo>
                        <a:pt x="711" y="350"/>
                      </a:lnTo>
                      <a:lnTo>
                        <a:pt x="706" y="346"/>
                      </a:lnTo>
                      <a:lnTo>
                        <a:pt x="700" y="342"/>
                      </a:lnTo>
                      <a:lnTo>
                        <a:pt x="35" y="4"/>
                      </a:lnTo>
                      <a:lnTo>
                        <a:pt x="29" y="1"/>
                      </a:lnTo>
                      <a:lnTo>
                        <a:pt x="22" y="0"/>
                      </a:lnTo>
                      <a:lnTo>
                        <a:pt x="15" y="1"/>
                      </a:lnTo>
                      <a:lnTo>
                        <a:pt x="11" y="3"/>
                      </a:lnTo>
                      <a:lnTo>
                        <a:pt x="7" y="6"/>
                      </a:lnTo>
                      <a:lnTo>
                        <a:pt x="3" y="11"/>
                      </a:lnTo>
                      <a:lnTo>
                        <a:pt x="1" y="17"/>
                      </a:lnTo>
                      <a:lnTo>
                        <a:pt x="0" y="25"/>
                      </a:lnTo>
                      <a:lnTo>
                        <a:pt x="0" y="734"/>
                      </a:lnTo>
                      <a:lnTo>
                        <a:pt x="1" y="742"/>
                      </a:lnTo>
                      <a:lnTo>
                        <a:pt x="3" y="749"/>
                      </a:lnTo>
                      <a:lnTo>
                        <a:pt x="7" y="753"/>
                      </a:lnTo>
                      <a:lnTo>
                        <a:pt x="10" y="756"/>
                      </a:lnTo>
                      <a:lnTo>
                        <a:pt x="15" y="758"/>
                      </a:lnTo>
                      <a:lnTo>
                        <a:pt x="21" y="758"/>
                      </a:lnTo>
                      <a:lnTo>
                        <a:pt x="27" y="757"/>
                      </a:lnTo>
                      <a:lnTo>
                        <a:pt x="34" y="754"/>
                      </a:lnTo>
                      <a:lnTo>
                        <a:pt x="701" y="379"/>
                      </a:lnTo>
                      <a:close/>
                    </a:path>
                  </a:pathLst>
                </a:custGeom>
                <a:solidFill>
                  <a:srgbClr val="0000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934200" y="517680"/>
                  <a:ext cx="180720" cy="250560"/>
                </a:xfrm>
                <a:custGeom>
                  <a:avLst/>
                  <a:gdLst/>
                  <a:ahLst/>
                  <a:rect l="l" t="t" r="r" b="b"/>
                  <a:pathLst>
                    <a:path w="930" h="1293">
                      <a:moveTo>
                        <a:pt x="709" y="0"/>
                      </a:moveTo>
                      <a:lnTo>
                        <a:pt x="919" y="0"/>
                      </a:lnTo>
                      <a:lnTo>
                        <a:pt x="339" y="581"/>
                      </a:lnTo>
                      <a:lnTo>
                        <a:pt x="930" y="1293"/>
                      </a:lnTo>
                      <a:lnTo>
                        <a:pt x="713" y="1293"/>
                      </a:lnTo>
                      <a:lnTo>
                        <a:pt x="226" y="691"/>
                      </a:lnTo>
                      <a:lnTo>
                        <a:pt x="161" y="752"/>
                      </a:lnTo>
                      <a:lnTo>
                        <a:pt x="161" y="1293"/>
                      </a:lnTo>
                      <a:lnTo>
                        <a:pt x="0" y="1293"/>
                      </a:lnTo>
                      <a:lnTo>
                        <a:pt x="0" y="0"/>
                      </a:lnTo>
                      <a:lnTo>
                        <a:pt x="161" y="0"/>
                      </a:lnTo>
                      <a:lnTo>
                        <a:pt x="161" y="560"/>
                      </a:lnTo>
                      <a:lnTo>
                        <a:pt x="70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136160" y="517680"/>
                  <a:ext cx="31680" cy="250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1215360" y="517680"/>
                  <a:ext cx="155520" cy="250560"/>
                </a:xfrm>
                <a:custGeom>
                  <a:avLst/>
                  <a:gdLst/>
                  <a:ahLst/>
                  <a:rect l="l" t="t" r="r" b="b"/>
                  <a:pathLst>
                    <a:path w="803" h="1293">
                      <a:moveTo>
                        <a:pt x="803" y="1293"/>
                      </a:moveTo>
                      <a:lnTo>
                        <a:pt x="607" y="1293"/>
                      </a:lnTo>
                      <a:lnTo>
                        <a:pt x="228" y="746"/>
                      </a:lnTo>
                      <a:lnTo>
                        <a:pt x="161" y="746"/>
                      </a:lnTo>
                      <a:lnTo>
                        <a:pt x="161" y="1293"/>
                      </a:lnTo>
                      <a:lnTo>
                        <a:pt x="0" y="1293"/>
                      </a:lnTo>
                      <a:lnTo>
                        <a:pt x="0" y="0"/>
                      </a:lnTo>
                      <a:lnTo>
                        <a:pt x="195" y="0"/>
                      </a:lnTo>
                      <a:lnTo>
                        <a:pt x="283" y="1"/>
                      </a:lnTo>
                      <a:lnTo>
                        <a:pt x="327" y="4"/>
                      </a:lnTo>
                      <a:lnTo>
                        <a:pt x="370" y="8"/>
                      </a:lnTo>
                      <a:lnTo>
                        <a:pt x="413" y="16"/>
                      </a:lnTo>
                      <a:lnTo>
                        <a:pt x="456" y="27"/>
                      </a:lnTo>
                      <a:lnTo>
                        <a:pt x="497" y="41"/>
                      </a:lnTo>
                      <a:lnTo>
                        <a:pt x="536" y="61"/>
                      </a:lnTo>
                      <a:lnTo>
                        <a:pt x="556" y="73"/>
                      </a:lnTo>
                      <a:lnTo>
                        <a:pt x="574" y="87"/>
                      </a:lnTo>
                      <a:lnTo>
                        <a:pt x="592" y="101"/>
                      </a:lnTo>
                      <a:lnTo>
                        <a:pt x="608" y="118"/>
                      </a:lnTo>
                      <a:lnTo>
                        <a:pt x="623" y="135"/>
                      </a:lnTo>
                      <a:lnTo>
                        <a:pt x="637" y="153"/>
                      </a:lnTo>
                      <a:lnTo>
                        <a:pt x="650" y="173"/>
                      </a:lnTo>
                      <a:lnTo>
                        <a:pt x="661" y="192"/>
                      </a:lnTo>
                      <a:lnTo>
                        <a:pt x="671" y="212"/>
                      </a:lnTo>
                      <a:lnTo>
                        <a:pt x="680" y="233"/>
                      </a:lnTo>
                      <a:lnTo>
                        <a:pt x="694" y="277"/>
                      </a:lnTo>
                      <a:lnTo>
                        <a:pt x="700" y="300"/>
                      </a:lnTo>
                      <a:lnTo>
                        <a:pt x="703" y="323"/>
                      </a:lnTo>
                      <a:lnTo>
                        <a:pt x="705" y="346"/>
                      </a:lnTo>
                      <a:lnTo>
                        <a:pt x="705" y="369"/>
                      </a:lnTo>
                      <a:lnTo>
                        <a:pt x="704" y="403"/>
                      </a:lnTo>
                      <a:lnTo>
                        <a:pt x="700" y="436"/>
                      </a:lnTo>
                      <a:lnTo>
                        <a:pt x="693" y="469"/>
                      </a:lnTo>
                      <a:lnTo>
                        <a:pt x="683" y="500"/>
                      </a:lnTo>
                      <a:lnTo>
                        <a:pt x="671" y="531"/>
                      </a:lnTo>
                      <a:lnTo>
                        <a:pt x="657" y="558"/>
                      </a:lnTo>
                      <a:lnTo>
                        <a:pt x="639" y="585"/>
                      </a:lnTo>
                      <a:lnTo>
                        <a:pt x="621" y="611"/>
                      </a:lnTo>
                      <a:lnTo>
                        <a:pt x="599" y="634"/>
                      </a:lnTo>
                      <a:lnTo>
                        <a:pt x="576" y="655"/>
                      </a:lnTo>
                      <a:lnTo>
                        <a:pt x="550" y="673"/>
                      </a:lnTo>
                      <a:lnTo>
                        <a:pt x="523" y="691"/>
                      </a:lnTo>
                      <a:lnTo>
                        <a:pt x="493" y="704"/>
                      </a:lnTo>
                      <a:lnTo>
                        <a:pt x="463" y="716"/>
                      </a:lnTo>
                      <a:lnTo>
                        <a:pt x="430" y="725"/>
                      </a:lnTo>
                      <a:lnTo>
                        <a:pt x="396" y="730"/>
                      </a:lnTo>
                      <a:lnTo>
                        <a:pt x="803" y="1293"/>
                      </a:lnTo>
                      <a:close/>
                      <a:moveTo>
                        <a:pt x="161" y="612"/>
                      </a:moveTo>
                      <a:lnTo>
                        <a:pt x="213" y="612"/>
                      </a:lnTo>
                      <a:lnTo>
                        <a:pt x="274" y="611"/>
                      </a:lnTo>
                      <a:lnTo>
                        <a:pt x="335" y="604"/>
                      </a:lnTo>
                      <a:lnTo>
                        <a:pt x="365" y="599"/>
                      </a:lnTo>
                      <a:lnTo>
                        <a:pt x="393" y="591"/>
                      </a:lnTo>
                      <a:lnTo>
                        <a:pt x="420" y="582"/>
                      </a:lnTo>
                      <a:lnTo>
                        <a:pt x="445" y="571"/>
                      </a:lnTo>
                      <a:lnTo>
                        <a:pt x="469" y="557"/>
                      </a:lnTo>
                      <a:lnTo>
                        <a:pt x="490" y="540"/>
                      </a:lnTo>
                      <a:lnTo>
                        <a:pt x="509" y="522"/>
                      </a:lnTo>
                      <a:lnTo>
                        <a:pt x="524" y="499"/>
                      </a:lnTo>
                      <a:lnTo>
                        <a:pt x="537" y="473"/>
                      </a:lnTo>
                      <a:lnTo>
                        <a:pt x="547" y="445"/>
                      </a:lnTo>
                      <a:lnTo>
                        <a:pt x="553" y="412"/>
                      </a:lnTo>
                      <a:lnTo>
                        <a:pt x="555" y="376"/>
                      </a:lnTo>
                      <a:lnTo>
                        <a:pt x="553" y="339"/>
                      </a:lnTo>
                      <a:lnTo>
                        <a:pt x="546" y="308"/>
                      </a:lnTo>
                      <a:lnTo>
                        <a:pt x="536" y="279"/>
                      </a:lnTo>
                      <a:lnTo>
                        <a:pt x="523" y="254"/>
                      </a:lnTo>
                      <a:lnTo>
                        <a:pt x="505" y="232"/>
                      </a:lnTo>
                      <a:lnTo>
                        <a:pt x="486" y="213"/>
                      </a:lnTo>
                      <a:lnTo>
                        <a:pt x="464" y="198"/>
                      </a:lnTo>
                      <a:lnTo>
                        <a:pt x="440" y="184"/>
                      </a:lnTo>
                      <a:lnTo>
                        <a:pt x="413" y="173"/>
                      </a:lnTo>
                      <a:lnTo>
                        <a:pt x="385" y="164"/>
                      </a:lnTo>
                      <a:lnTo>
                        <a:pt x="356" y="157"/>
                      </a:lnTo>
                      <a:lnTo>
                        <a:pt x="325" y="152"/>
                      </a:lnTo>
                      <a:lnTo>
                        <a:pt x="296" y="148"/>
                      </a:lnTo>
                      <a:lnTo>
                        <a:pt x="265" y="146"/>
                      </a:lnTo>
                      <a:lnTo>
                        <a:pt x="204" y="144"/>
                      </a:lnTo>
                      <a:lnTo>
                        <a:pt x="161" y="144"/>
                      </a:lnTo>
                      <a:lnTo>
                        <a:pt x="161" y="6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1387080" y="517680"/>
                  <a:ext cx="181080" cy="250560"/>
                </a:xfrm>
                <a:custGeom>
                  <a:avLst/>
                  <a:gdLst/>
                  <a:ahLst/>
                  <a:rect l="l" t="t" r="r" b="b"/>
                  <a:pathLst>
                    <a:path w="929" h="1293">
                      <a:moveTo>
                        <a:pt x="709" y="0"/>
                      </a:moveTo>
                      <a:lnTo>
                        <a:pt x="919" y="0"/>
                      </a:lnTo>
                      <a:lnTo>
                        <a:pt x="339" y="581"/>
                      </a:lnTo>
                      <a:lnTo>
                        <a:pt x="929" y="1293"/>
                      </a:lnTo>
                      <a:lnTo>
                        <a:pt x="712" y="1293"/>
                      </a:lnTo>
                      <a:lnTo>
                        <a:pt x="226" y="691"/>
                      </a:lnTo>
                      <a:lnTo>
                        <a:pt x="161" y="752"/>
                      </a:lnTo>
                      <a:lnTo>
                        <a:pt x="161" y="1293"/>
                      </a:lnTo>
                      <a:lnTo>
                        <a:pt x="0" y="1293"/>
                      </a:lnTo>
                      <a:lnTo>
                        <a:pt x="0" y="0"/>
                      </a:lnTo>
                      <a:lnTo>
                        <a:pt x="161" y="0"/>
                      </a:lnTo>
                      <a:lnTo>
                        <a:pt x="161" y="560"/>
                      </a:lnTo>
                      <a:lnTo>
                        <a:pt x="70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923040" y="847800"/>
                  <a:ext cx="50760" cy="133200"/>
                </a:xfrm>
                <a:custGeom>
                  <a:avLst/>
                  <a:gdLst/>
                  <a:ahLst/>
                  <a:rect l="l" t="t" r="r" b="b"/>
                  <a:pathLst>
                    <a:path w="264" h="687">
                      <a:moveTo>
                        <a:pt x="169" y="687"/>
                      </a:moveTo>
                      <a:lnTo>
                        <a:pt x="74" y="687"/>
                      </a:lnTo>
                      <a:lnTo>
                        <a:pt x="74" y="279"/>
                      </a:lnTo>
                      <a:lnTo>
                        <a:pt x="0" y="279"/>
                      </a:lnTo>
                      <a:lnTo>
                        <a:pt x="0" y="190"/>
                      </a:lnTo>
                      <a:lnTo>
                        <a:pt x="74" y="190"/>
                      </a:lnTo>
                      <a:lnTo>
                        <a:pt x="74" y="0"/>
                      </a:lnTo>
                      <a:lnTo>
                        <a:pt x="169" y="0"/>
                      </a:lnTo>
                      <a:lnTo>
                        <a:pt x="169" y="190"/>
                      </a:lnTo>
                      <a:lnTo>
                        <a:pt x="264" y="190"/>
                      </a:lnTo>
                      <a:lnTo>
                        <a:pt x="264" y="279"/>
                      </a:lnTo>
                      <a:lnTo>
                        <a:pt x="169" y="279"/>
                      </a:lnTo>
                      <a:lnTo>
                        <a:pt x="169" y="6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977040" y="882720"/>
                  <a:ext cx="91800" cy="101520"/>
                </a:xfrm>
                <a:custGeom>
                  <a:avLst/>
                  <a:gdLst/>
                  <a:ahLst/>
                  <a:rect l="l" t="t" r="r" b="b"/>
                  <a:pathLst>
                    <a:path w="475" h="530">
                      <a:moveTo>
                        <a:pt x="95" y="280"/>
                      </a:moveTo>
                      <a:lnTo>
                        <a:pt x="98" y="311"/>
                      </a:lnTo>
                      <a:lnTo>
                        <a:pt x="106" y="341"/>
                      </a:lnTo>
                      <a:lnTo>
                        <a:pt x="119" y="370"/>
                      </a:lnTo>
                      <a:lnTo>
                        <a:pt x="137" y="394"/>
                      </a:lnTo>
                      <a:lnTo>
                        <a:pt x="147" y="405"/>
                      </a:lnTo>
                      <a:lnTo>
                        <a:pt x="158" y="415"/>
                      </a:lnTo>
                      <a:lnTo>
                        <a:pt x="170" y="423"/>
                      </a:lnTo>
                      <a:lnTo>
                        <a:pt x="184" y="431"/>
                      </a:lnTo>
                      <a:lnTo>
                        <a:pt x="197" y="437"/>
                      </a:lnTo>
                      <a:lnTo>
                        <a:pt x="213" y="441"/>
                      </a:lnTo>
                      <a:lnTo>
                        <a:pt x="229" y="443"/>
                      </a:lnTo>
                      <a:lnTo>
                        <a:pt x="245" y="444"/>
                      </a:lnTo>
                      <a:lnTo>
                        <a:pt x="272" y="443"/>
                      </a:lnTo>
                      <a:lnTo>
                        <a:pt x="295" y="438"/>
                      </a:lnTo>
                      <a:lnTo>
                        <a:pt x="315" y="430"/>
                      </a:lnTo>
                      <a:lnTo>
                        <a:pt x="333" y="418"/>
                      </a:lnTo>
                      <a:lnTo>
                        <a:pt x="351" y="405"/>
                      </a:lnTo>
                      <a:lnTo>
                        <a:pt x="366" y="388"/>
                      </a:lnTo>
                      <a:lnTo>
                        <a:pt x="380" y="368"/>
                      </a:lnTo>
                      <a:lnTo>
                        <a:pt x="394" y="348"/>
                      </a:lnTo>
                      <a:lnTo>
                        <a:pt x="475" y="394"/>
                      </a:lnTo>
                      <a:lnTo>
                        <a:pt x="455" y="424"/>
                      </a:lnTo>
                      <a:lnTo>
                        <a:pt x="433" y="451"/>
                      </a:lnTo>
                      <a:lnTo>
                        <a:pt x="407" y="474"/>
                      </a:lnTo>
                      <a:lnTo>
                        <a:pt x="378" y="494"/>
                      </a:lnTo>
                      <a:lnTo>
                        <a:pt x="347" y="509"/>
                      </a:lnTo>
                      <a:lnTo>
                        <a:pt x="315" y="520"/>
                      </a:lnTo>
                      <a:lnTo>
                        <a:pt x="279" y="528"/>
                      </a:lnTo>
                      <a:lnTo>
                        <a:pt x="244" y="530"/>
                      </a:lnTo>
                      <a:lnTo>
                        <a:pt x="217" y="528"/>
                      </a:lnTo>
                      <a:lnTo>
                        <a:pt x="191" y="524"/>
                      </a:lnTo>
                      <a:lnTo>
                        <a:pt x="165" y="518"/>
                      </a:lnTo>
                      <a:lnTo>
                        <a:pt x="142" y="509"/>
                      </a:lnTo>
                      <a:lnTo>
                        <a:pt x="120" y="498"/>
                      </a:lnTo>
                      <a:lnTo>
                        <a:pt x="101" y="485"/>
                      </a:lnTo>
                      <a:lnTo>
                        <a:pt x="82" y="471"/>
                      </a:lnTo>
                      <a:lnTo>
                        <a:pt x="66" y="454"/>
                      </a:lnTo>
                      <a:lnTo>
                        <a:pt x="50" y="435"/>
                      </a:lnTo>
                      <a:lnTo>
                        <a:pt x="37" y="416"/>
                      </a:lnTo>
                      <a:lnTo>
                        <a:pt x="26" y="394"/>
                      </a:lnTo>
                      <a:lnTo>
                        <a:pt x="16" y="371"/>
                      </a:lnTo>
                      <a:lnTo>
                        <a:pt x="10" y="346"/>
                      </a:lnTo>
                      <a:lnTo>
                        <a:pt x="4" y="321"/>
                      </a:lnTo>
                      <a:lnTo>
                        <a:pt x="1" y="295"/>
                      </a:lnTo>
                      <a:lnTo>
                        <a:pt x="0" y="267"/>
                      </a:lnTo>
                      <a:lnTo>
                        <a:pt x="1" y="240"/>
                      </a:lnTo>
                      <a:lnTo>
                        <a:pt x="4" y="213"/>
                      </a:lnTo>
                      <a:lnTo>
                        <a:pt x="9" y="186"/>
                      </a:lnTo>
                      <a:lnTo>
                        <a:pt x="15" y="161"/>
                      </a:lnTo>
                      <a:lnTo>
                        <a:pt x="24" y="138"/>
                      </a:lnTo>
                      <a:lnTo>
                        <a:pt x="34" y="116"/>
                      </a:lnTo>
                      <a:lnTo>
                        <a:pt x="47" y="95"/>
                      </a:lnTo>
                      <a:lnTo>
                        <a:pt x="61" y="76"/>
                      </a:lnTo>
                      <a:lnTo>
                        <a:pt x="77" y="60"/>
                      </a:lnTo>
                      <a:lnTo>
                        <a:pt x="95" y="45"/>
                      </a:lnTo>
                      <a:lnTo>
                        <a:pt x="115" y="31"/>
                      </a:lnTo>
                      <a:lnTo>
                        <a:pt x="137" y="20"/>
                      </a:lnTo>
                      <a:lnTo>
                        <a:pt x="160" y="12"/>
                      </a:lnTo>
                      <a:lnTo>
                        <a:pt x="185" y="5"/>
                      </a:lnTo>
                      <a:lnTo>
                        <a:pt x="213" y="2"/>
                      </a:lnTo>
                      <a:lnTo>
                        <a:pt x="242" y="0"/>
                      </a:lnTo>
                      <a:lnTo>
                        <a:pt x="271" y="2"/>
                      </a:lnTo>
                      <a:lnTo>
                        <a:pt x="297" y="5"/>
                      </a:lnTo>
                      <a:lnTo>
                        <a:pt x="322" y="12"/>
                      </a:lnTo>
                      <a:lnTo>
                        <a:pt x="345" y="20"/>
                      </a:lnTo>
                      <a:lnTo>
                        <a:pt x="366" y="31"/>
                      </a:lnTo>
                      <a:lnTo>
                        <a:pt x="385" y="45"/>
                      </a:lnTo>
                      <a:lnTo>
                        <a:pt x="402" y="60"/>
                      </a:lnTo>
                      <a:lnTo>
                        <a:pt x="418" y="76"/>
                      </a:lnTo>
                      <a:lnTo>
                        <a:pt x="431" y="96"/>
                      </a:lnTo>
                      <a:lnTo>
                        <a:pt x="443" y="116"/>
                      </a:lnTo>
                      <a:lnTo>
                        <a:pt x="453" y="138"/>
                      </a:lnTo>
                      <a:lnTo>
                        <a:pt x="460" y="161"/>
                      </a:lnTo>
                      <a:lnTo>
                        <a:pt x="467" y="185"/>
                      </a:lnTo>
                      <a:lnTo>
                        <a:pt x="471" y="210"/>
                      </a:lnTo>
                      <a:lnTo>
                        <a:pt x="474" y="238"/>
                      </a:lnTo>
                      <a:lnTo>
                        <a:pt x="475" y="264"/>
                      </a:lnTo>
                      <a:lnTo>
                        <a:pt x="475" y="280"/>
                      </a:lnTo>
                      <a:lnTo>
                        <a:pt x="95" y="280"/>
                      </a:lnTo>
                      <a:close/>
                      <a:moveTo>
                        <a:pt x="379" y="207"/>
                      </a:moveTo>
                      <a:lnTo>
                        <a:pt x="373" y="181"/>
                      </a:lnTo>
                      <a:lnTo>
                        <a:pt x="364" y="157"/>
                      </a:lnTo>
                      <a:lnTo>
                        <a:pt x="351" y="136"/>
                      </a:lnTo>
                      <a:lnTo>
                        <a:pt x="335" y="117"/>
                      </a:lnTo>
                      <a:lnTo>
                        <a:pt x="316" y="103"/>
                      </a:lnTo>
                      <a:lnTo>
                        <a:pt x="294" y="92"/>
                      </a:lnTo>
                      <a:lnTo>
                        <a:pt x="270" y="85"/>
                      </a:lnTo>
                      <a:lnTo>
                        <a:pt x="242" y="83"/>
                      </a:lnTo>
                      <a:lnTo>
                        <a:pt x="215" y="85"/>
                      </a:lnTo>
                      <a:lnTo>
                        <a:pt x="191" y="92"/>
                      </a:lnTo>
                      <a:lnTo>
                        <a:pt x="168" y="104"/>
                      </a:lnTo>
                      <a:lnTo>
                        <a:pt x="148" y="118"/>
                      </a:lnTo>
                      <a:lnTo>
                        <a:pt x="131" y="137"/>
                      </a:lnTo>
                      <a:lnTo>
                        <a:pt x="117" y="158"/>
                      </a:lnTo>
                      <a:lnTo>
                        <a:pt x="107" y="182"/>
                      </a:lnTo>
                      <a:lnTo>
                        <a:pt x="101" y="207"/>
                      </a:lnTo>
                      <a:lnTo>
                        <a:pt x="379" y="20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086480" y="846000"/>
                  <a:ext cx="19080" cy="135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1118520" y="882720"/>
                  <a:ext cx="92160" cy="101520"/>
                </a:xfrm>
                <a:custGeom>
                  <a:avLst/>
                  <a:gdLst/>
                  <a:ahLst/>
                  <a:rect l="l" t="t" r="r" b="b"/>
                  <a:pathLst>
                    <a:path w="475" h="530">
                      <a:moveTo>
                        <a:pt x="97" y="280"/>
                      </a:moveTo>
                      <a:lnTo>
                        <a:pt x="99" y="311"/>
                      </a:lnTo>
                      <a:lnTo>
                        <a:pt x="108" y="341"/>
                      </a:lnTo>
                      <a:lnTo>
                        <a:pt x="120" y="370"/>
                      </a:lnTo>
                      <a:lnTo>
                        <a:pt x="137" y="394"/>
                      </a:lnTo>
                      <a:lnTo>
                        <a:pt x="147" y="405"/>
                      </a:lnTo>
                      <a:lnTo>
                        <a:pt x="159" y="415"/>
                      </a:lnTo>
                      <a:lnTo>
                        <a:pt x="171" y="423"/>
                      </a:lnTo>
                      <a:lnTo>
                        <a:pt x="185" y="431"/>
                      </a:lnTo>
                      <a:lnTo>
                        <a:pt x="199" y="437"/>
                      </a:lnTo>
                      <a:lnTo>
                        <a:pt x="213" y="441"/>
                      </a:lnTo>
                      <a:lnTo>
                        <a:pt x="230" y="443"/>
                      </a:lnTo>
                      <a:lnTo>
                        <a:pt x="246" y="444"/>
                      </a:lnTo>
                      <a:lnTo>
                        <a:pt x="272" y="443"/>
                      </a:lnTo>
                      <a:lnTo>
                        <a:pt x="295" y="438"/>
                      </a:lnTo>
                      <a:lnTo>
                        <a:pt x="316" y="430"/>
                      </a:lnTo>
                      <a:lnTo>
                        <a:pt x="335" y="418"/>
                      </a:lnTo>
                      <a:lnTo>
                        <a:pt x="351" y="405"/>
                      </a:lnTo>
                      <a:lnTo>
                        <a:pt x="367" y="388"/>
                      </a:lnTo>
                      <a:lnTo>
                        <a:pt x="381" y="368"/>
                      </a:lnTo>
                      <a:lnTo>
                        <a:pt x="395" y="348"/>
                      </a:lnTo>
                      <a:lnTo>
                        <a:pt x="475" y="394"/>
                      </a:lnTo>
                      <a:lnTo>
                        <a:pt x="457" y="424"/>
                      </a:lnTo>
                      <a:lnTo>
                        <a:pt x="434" y="451"/>
                      </a:lnTo>
                      <a:lnTo>
                        <a:pt x="407" y="474"/>
                      </a:lnTo>
                      <a:lnTo>
                        <a:pt x="379" y="494"/>
                      </a:lnTo>
                      <a:lnTo>
                        <a:pt x="348" y="509"/>
                      </a:lnTo>
                      <a:lnTo>
                        <a:pt x="315" y="520"/>
                      </a:lnTo>
                      <a:lnTo>
                        <a:pt x="281" y="528"/>
                      </a:lnTo>
                      <a:lnTo>
                        <a:pt x="245" y="530"/>
                      </a:lnTo>
                      <a:lnTo>
                        <a:pt x="218" y="528"/>
                      </a:lnTo>
                      <a:lnTo>
                        <a:pt x="191" y="524"/>
                      </a:lnTo>
                      <a:lnTo>
                        <a:pt x="166" y="518"/>
                      </a:lnTo>
                      <a:lnTo>
                        <a:pt x="143" y="509"/>
                      </a:lnTo>
                      <a:lnTo>
                        <a:pt x="121" y="498"/>
                      </a:lnTo>
                      <a:lnTo>
                        <a:pt x="101" y="485"/>
                      </a:lnTo>
                      <a:lnTo>
                        <a:pt x="83" y="471"/>
                      </a:lnTo>
                      <a:lnTo>
                        <a:pt x="66" y="454"/>
                      </a:lnTo>
                      <a:lnTo>
                        <a:pt x="51" y="435"/>
                      </a:lnTo>
                      <a:lnTo>
                        <a:pt x="38" y="416"/>
                      </a:lnTo>
                      <a:lnTo>
                        <a:pt x="27" y="394"/>
                      </a:lnTo>
                      <a:lnTo>
                        <a:pt x="18" y="371"/>
                      </a:lnTo>
                      <a:lnTo>
                        <a:pt x="10" y="346"/>
                      </a:lnTo>
                      <a:lnTo>
                        <a:pt x="5" y="321"/>
                      </a:lnTo>
                      <a:lnTo>
                        <a:pt x="1" y="295"/>
                      </a:lnTo>
                      <a:lnTo>
                        <a:pt x="0" y="267"/>
                      </a:lnTo>
                      <a:lnTo>
                        <a:pt x="1" y="240"/>
                      </a:lnTo>
                      <a:lnTo>
                        <a:pt x="5" y="213"/>
                      </a:lnTo>
                      <a:lnTo>
                        <a:pt x="9" y="186"/>
                      </a:lnTo>
                      <a:lnTo>
                        <a:pt x="16" y="161"/>
                      </a:lnTo>
                      <a:lnTo>
                        <a:pt x="24" y="138"/>
                      </a:lnTo>
                      <a:lnTo>
                        <a:pt x="35" y="116"/>
                      </a:lnTo>
                      <a:lnTo>
                        <a:pt x="48" y="95"/>
                      </a:lnTo>
                      <a:lnTo>
                        <a:pt x="62" y="76"/>
                      </a:lnTo>
                      <a:lnTo>
                        <a:pt x="78" y="60"/>
                      </a:lnTo>
                      <a:lnTo>
                        <a:pt x="96" y="45"/>
                      </a:lnTo>
                      <a:lnTo>
                        <a:pt x="116" y="31"/>
                      </a:lnTo>
                      <a:lnTo>
                        <a:pt x="137" y="20"/>
                      </a:lnTo>
                      <a:lnTo>
                        <a:pt x="162" y="12"/>
                      </a:lnTo>
                      <a:lnTo>
                        <a:pt x="187" y="5"/>
                      </a:lnTo>
                      <a:lnTo>
                        <a:pt x="214" y="2"/>
                      </a:lnTo>
                      <a:lnTo>
                        <a:pt x="243" y="0"/>
                      </a:lnTo>
                      <a:lnTo>
                        <a:pt x="271" y="2"/>
                      </a:lnTo>
                      <a:lnTo>
                        <a:pt x="299" y="5"/>
                      </a:lnTo>
                      <a:lnTo>
                        <a:pt x="323" y="12"/>
                      </a:lnTo>
                      <a:lnTo>
                        <a:pt x="346" y="20"/>
                      </a:lnTo>
                      <a:lnTo>
                        <a:pt x="367" y="31"/>
                      </a:lnTo>
                      <a:lnTo>
                        <a:pt x="386" y="45"/>
                      </a:lnTo>
                      <a:lnTo>
                        <a:pt x="403" y="60"/>
                      </a:lnTo>
                      <a:lnTo>
                        <a:pt x="418" y="76"/>
                      </a:lnTo>
                      <a:lnTo>
                        <a:pt x="432" y="96"/>
                      </a:lnTo>
                      <a:lnTo>
                        <a:pt x="443" y="116"/>
                      </a:lnTo>
                      <a:lnTo>
                        <a:pt x="453" y="138"/>
                      </a:lnTo>
                      <a:lnTo>
                        <a:pt x="461" y="161"/>
                      </a:lnTo>
                      <a:lnTo>
                        <a:pt x="468" y="185"/>
                      </a:lnTo>
                      <a:lnTo>
                        <a:pt x="472" y="210"/>
                      </a:lnTo>
                      <a:lnTo>
                        <a:pt x="475" y="238"/>
                      </a:lnTo>
                      <a:lnTo>
                        <a:pt x="475" y="264"/>
                      </a:lnTo>
                      <a:lnTo>
                        <a:pt x="475" y="280"/>
                      </a:lnTo>
                      <a:lnTo>
                        <a:pt x="97" y="280"/>
                      </a:lnTo>
                      <a:close/>
                      <a:moveTo>
                        <a:pt x="380" y="207"/>
                      </a:moveTo>
                      <a:lnTo>
                        <a:pt x="374" y="181"/>
                      </a:lnTo>
                      <a:lnTo>
                        <a:pt x="364" y="157"/>
                      </a:lnTo>
                      <a:lnTo>
                        <a:pt x="351" y="136"/>
                      </a:lnTo>
                      <a:lnTo>
                        <a:pt x="336" y="117"/>
                      </a:lnTo>
                      <a:lnTo>
                        <a:pt x="317" y="103"/>
                      </a:lnTo>
                      <a:lnTo>
                        <a:pt x="295" y="92"/>
                      </a:lnTo>
                      <a:lnTo>
                        <a:pt x="270" y="85"/>
                      </a:lnTo>
                      <a:lnTo>
                        <a:pt x="243" y="83"/>
                      </a:lnTo>
                      <a:lnTo>
                        <a:pt x="216" y="85"/>
                      </a:lnTo>
                      <a:lnTo>
                        <a:pt x="191" y="92"/>
                      </a:lnTo>
                      <a:lnTo>
                        <a:pt x="168" y="104"/>
                      </a:lnTo>
                      <a:lnTo>
                        <a:pt x="148" y="118"/>
                      </a:lnTo>
                      <a:lnTo>
                        <a:pt x="132" y="137"/>
                      </a:lnTo>
                      <a:lnTo>
                        <a:pt x="119" y="158"/>
                      </a:lnTo>
                      <a:lnTo>
                        <a:pt x="108" y="182"/>
                      </a:lnTo>
                      <a:lnTo>
                        <a:pt x="101" y="207"/>
                      </a:lnTo>
                      <a:lnTo>
                        <a:pt x="380" y="20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225080" y="882720"/>
                  <a:ext cx="77760" cy="101520"/>
                </a:xfrm>
                <a:custGeom>
                  <a:avLst/>
                  <a:gdLst/>
                  <a:ahLst/>
                  <a:rect l="l" t="t" r="r" b="b"/>
                  <a:pathLst>
                    <a:path w="404" h="530">
                      <a:moveTo>
                        <a:pt x="404" y="157"/>
                      </a:moveTo>
                      <a:lnTo>
                        <a:pt x="389" y="141"/>
                      </a:lnTo>
                      <a:lnTo>
                        <a:pt x="373" y="127"/>
                      </a:lnTo>
                      <a:lnTo>
                        <a:pt x="358" y="116"/>
                      </a:lnTo>
                      <a:lnTo>
                        <a:pt x="340" y="106"/>
                      </a:lnTo>
                      <a:lnTo>
                        <a:pt x="321" y="99"/>
                      </a:lnTo>
                      <a:lnTo>
                        <a:pt x="303" y="94"/>
                      </a:lnTo>
                      <a:lnTo>
                        <a:pt x="283" y="91"/>
                      </a:lnTo>
                      <a:lnTo>
                        <a:pt x="261" y="90"/>
                      </a:lnTo>
                      <a:lnTo>
                        <a:pt x="245" y="91"/>
                      </a:lnTo>
                      <a:lnTo>
                        <a:pt x="227" y="93"/>
                      </a:lnTo>
                      <a:lnTo>
                        <a:pt x="212" y="97"/>
                      </a:lnTo>
                      <a:lnTo>
                        <a:pt x="196" y="104"/>
                      </a:lnTo>
                      <a:lnTo>
                        <a:pt x="182" y="112"/>
                      </a:lnTo>
                      <a:lnTo>
                        <a:pt x="168" y="120"/>
                      </a:lnTo>
                      <a:lnTo>
                        <a:pt x="156" y="130"/>
                      </a:lnTo>
                      <a:lnTo>
                        <a:pt x="144" y="142"/>
                      </a:lnTo>
                      <a:lnTo>
                        <a:pt x="133" y="154"/>
                      </a:lnTo>
                      <a:lnTo>
                        <a:pt x="124" y="169"/>
                      </a:lnTo>
                      <a:lnTo>
                        <a:pt x="115" y="183"/>
                      </a:lnTo>
                      <a:lnTo>
                        <a:pt x="109" y="198"/>
                      </a:lnTo>
                      <a:lnTo>
                        <a:pt x="103" y="214"/>
                      </a:lnTo>
                      <a:lnTo>
                        <a:pt x="99" y="230"/>
                      </a:lnTo>
                      <a:lnTo>
                        <a:pt x="97" y="247"/>
                      </a:lnTo>
                      <a:lnTo>
                        <a:pt x="96" y="264"/>
                      </a:lnTo>
                      <a:lnTo>
                        <a:pt x="97" y="283"/>
                      </a:lnTo>
                      <a:lnTo>
                        <a:pt x="99" y="300"/>
                      </a:lnTo>
                      <a:lnTo>
                        <a:pt x="103" y="318"/>
                      </a:lnTo>
                      <a:lnTo>
                        <a:pt x="109" y="334"/>
                      </a:lnTo>
                      <a:lnTo>
                        <a:pt x="115" y="350"/>
                      </a:lnTo>
                      <a:lnTo>
                        <a:pt x="124" y="364"/>
                      </a:lnTo>
                      <a:lnTo>
                        <a:pt x="133" y="378"/>
                      </a:lnTo>
                      <a:lnTo>
                        <a:pt x="144" y="390"/>
                      </a:lnTo>
                      <a:lnTo>
                        <a:pt x="156" y="401"/>
                      </a:lnTo>
                      <a:lnTo>
                        <a:pt x="169" y="411"/>
                      </a:lnTo>
                      <a:lnTo>
                        <a:pt x="183" y="420"/>
                      </a:lnTo>
                      <a:lnTo>
                        <a:pt x="199" y="427"/>
                      </a:lnTo>
                      <a:lnTo>
                        <a:pt x="215" y="432"/>
                      </a:lnTo>
                      <a:lnTo>
                        <a:pt x="232" y="437"/>
                      </a:lnTo>
                      <a:lnTo>
                        <a:pt x="249" y="439"/>
                      </a:lnTo>
                      <a:lnTo>
                        <a:pt x="268" y="440"/>
                      </a:lnTo>
                      <a:lnTo>
                        <a:pt x="289" y="439"/>
                      </a:lnTo>
                      <a:lnTo>
                        <a:pt x="307" y="435"/>
                      </a:lnTo>
                      <a:lnTo>
                        <a:pt x="326" y="430"/>
                      </a:lnTo>
                      <a:lnTo>
                        <a:pt x="343" y="422"/>
                      </a:lnTo>
                      <a:lnTo>
                        <a:pt x="360" y="412"/>
                      </a:lnTo>
                      <a:lnTo>
                        <a:pt x="375" y="401"/>
                      </a:lnTo>
                      <a:lnTo>
                        <a:pt x="389" y="388"/>
                      </a:lnTo>
                      <a:lnTo>
                        <a:pt x="404" y="374"/>
                      </a:lnTo>
                      <a:lnTo>
                        <a:pt x="404" y="497"/>
                      </a:lnTo>
                      <a:lnTo>
                        <a:pt x="371" y="511"/>
                      </a:lnTo>
                      <a:lnTo>
                        <a:pt x="338" y="522"/>
                      </a:lnTo>
                      <a:lnTo>
                        <a:pt x="303" y="528"/>
                      </a:lnTo>
                      <a:lnTo>
                        <a:pt x="267" y="530"/>
                      </a:lnTo>
                      <a:lnTo>
                        <a:pt x="239" y="528"/>
                      </a:lnTo>
                      <a:lnTo>
                        <a:pt x="213" y="524"/>
                      </a:lnTo>
                      <a:lnTo>
                        <a:pt x="188" y="518"/>
                      </a:lnTo>
                      <a:lnTo>
                        <a:pt x="164" y="509"/>
                      </a:lnTo>
                      <a:lnTo>
                        <a:pt x="140" y="499"/>
                      </a:lnTo>
                      <a:lnTo>
                        <a:pt x="119" y="486"/>
                      </a:lnTo>
                      <a:lnTo>
                        <a:pt x="98" y="472"/>
                      </a:lnTo>
                      <a:lnTo>
                        <a:pt x="79" y="454"/>
                      </a:lnTo>
                      <a:lnTo>
                        <a:pt x="62" y="437"/>
                      </a:lnTo>
                      <a:lnTo>
                        <a:pt x="46" y="416"/>
                      </a:lnTo>
                      <a:lnTo>
                        <a:pt x="33" y="395"/>
                      </a:lnTo>
                      <a:lnTo>
                        <a:pt x="21" y="372"/>
                      </a:lnTo>
                      <a:lnTo>
                        <a:pt x="12" y="348"/>
                      </a:lnTo>
                      <a:lnTo>
                        <a:pt x="6" y="322"/>
                      </a:lnTo>
                      <a:lnTo>
                        <a:pt x="1" y="295"/>
                      </a:lnTo>
                      <a:lnTo>
                        <a:pt x="0" y="267"/>
                      </a:lnTo>
                      <a:lnTo>
                        <a:pt x="1" y="240"/>
                      </a:lnTo>
                      <a:lnTo>
                        <a:pt x="6" y="213"/>
                      </a:lnTo>
                      <a:lnTo>
                        <a:pt x="12" y="186"/>
                      </a:lnTo>
                      <a:lnTo>
                        <a:pt x="21" y="161"/>
                      </a:lnTo>
                      <a:lnTo>
                        <a:pt x="33" y="138"/>
                      </a:lnTo>
                      <a:lnTo>
                        <a:pt x="46" y="115"/>
                      </a:lnTo>
                      <a:lnTo>
                        <a:pt x="62" y="95"/>
                      </a:lnTo>
                      <a:lnTo>
                        <a:pt x="79" y="76"/>
                      </a:lnTo>
                      <a:lnTo>
                        <a:pt x="98" y="59"/>
                      </a:lnTo>
                      <a:lnTo>
                        <a:pt x="119" y="45"/>
                      </a:lnTo>
                      <a:lnTo>
                        <a:pt x="142" y="31"/>
                      </a:lnTo>
                      <a:lnTo>
                        <a:pt x="165" y="20"/>
                      </a:lnTo>
                      <a:lnTo>
                        <a:pt x="190" y="12"/>
                      </a:lnTo>
                      <a:lnTo>
                        <a:pt x="216" y="5"/>
                      </a:lnTo>
                      <a:lnTo>
                        <a:pt x="244" y="2"/>
                      </a:lnTo>
                      <a:lnTo>
                        <a:pt x="272" y="0"/>
                      </a:lnTo>
                      <a:lnTo>
                        <a:pt x="306" y="2"/>
                      </a:lnTo>
                      <a:lnTo>
                        <a:pt x="340" y="8"/>
                      </a:lnTo>
                      <a:lnTo>
                        <a:pt x="373" y="18"/>
                      </a:lnTo>
                      <a:lnTo>
                        <a:pt x="404" y="32"/>
                      </a:lnTo>
                      <a:lnTo>
                        <a:pt x="404" y="1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1314000" y="882720"/>
                  <a:ext cx="102960" cy="101520"/>
                </a:xfrm>
                <a:custGeom>
                  <a:avLst/>
                  <a:gdLst/>
                  <a:ahLst/>
                  <a:rect l="l" t="t" r="r" b="b"/>
                  <a:pathLst>
                    <a:path w="532" h="530">
                      <a:moveTo>
                        <a:pt x="532" y="264"/>
                      </a:moveTo>
                      <a:lnTo>
                        <a:pt x="530" y="293"/>
                      </a:lnTo>
                      <a:lnTo>
                        <a:pt x="527" y="319"/>
                      </a:lnTo>
                      <a:lnTo>
                        <a:pt x="520" y="344"/>
                      </a:lnTo>
                      <a:lnTo>
                        <a:pt x="511" y="370"/>
                      </a:lnTo>
                      <a:lnTo>
                        <a:pt x="501" y="393"/>
                      </a:lnTo>
                      <a:lnTo>
                        <a:pt x="487" y="415"/>
                      </a:lnTo>
                      <a:lnTo>
                        <a:pt x="472" y="434"/>
                      </a:lnTo>
                      <a:lnTo>
                        <a:pt x="454" y="453"/>
                      </a:lnTo>
                      <a:lnTo>
                        <a:pt x="436" y="471"/>
                      </a:lnTo>
                      <a:lnTo>
                        <a:pt x="416" y="485"/>
                      </a:lnTo>
                      <a:lnTo>
                        <a:pt x="394" y="498"/>
                      </a:lnTo>
                      <a:lnTo>
                        <a:pt x="370" y="509"/>
                      </a:lnTo>
                      <a:lnTo>
                        <a:pt x="346" y="518"/>
                      </a:lnTo>
                      <a:lnTo>
                        <a:pt x="321" y="524"/>
                      </a:lnTo>
                      <a:lnTo>
                        <a:pt x="293" y="528"/>
                      </a:lnTo>
                      <a:lnTo>
                        <a:pt x="266" y="530"/>
                      </a:lnTo>
                      <a:lnTo>
                        <a:pt x="238" y="528"/>
                      </a:lnTo>
                      <a:lnTo>
                        <a:pt x="212" y="524"/>
                      </a:lnTo>
                      <a:lnTo>
                        <a:pt x="187" y="518"/>
                      </a:lnTo>
                      <a:lnTo>
                        <a:pt x="162" y="509"/>
                      </a:lnTo>
                      <a:lnTo>
                        <a:pt x="139" y="498"/>
                      </a:lnTo>
                      <a:lnTo>
                        <a:pt x="117" y="485"/>
                      </a:lnTo>
                      <a:lnTo>
                        <a:pt x="97" y="471"/>
                      </a:lnTo>
                      <a:lnTo>
                        <a:pt x="78" y="453"/>
                      </a:lnTo>
                      <a:lnTo>
                        <a:pt x="61" y="434"/>
                      </a:lnTo>
                      <a:lnTo>
                        <a:pt x="45" y="415"/>
                      </a:lnTo>
                      <a:lnTo>
                        <a:pt x="32" y="393"/>
                      </a:lnTo>
                      <a:lnTo>
                        <a:pt x="21" y="370"/>
                      </a:lnTo>
                      <a:lnTo>
                        <a:pt x="12" y="344"/>
                      </a:lnTo>
                      <a:lnTo>
                        <a:pt x="6" y="319"/>
                      </a:lnTo>
                      <a:lnTo>
                        <a:pt x="3" y="293"/>
                      </a:lnTo>
                      <a:lnTo>
                        <a:pt x="0" y="264"/>
                      </a:lnTo>
                      <a:lnTo>
                        <a:pt x="3" y="237"/>
                      </a:lnTo>
                      <a:lnTo>
                        <a:pt x="6" y="210"/>
                      </a:lnTo>
                      <a:lnTo>
                        <a:pt x="12" y="185"/>
                      </a:lnTo>
                      <a:lnTo>
                        <a:pt x="21" y="160"/>
                      </a:lnTo>
                      <a:lnTo>
                        <a:pt x="32" y="137"/>
                      </a:lnTo>
                      <a:lnTo>
                        <a:pt x="45" y="115"/>
                      </a:lnTo>
                      <a:lnTo>
                        <a:pt x="61" y="95"/>
                      </a:lnTo>
                      <a:lnTo>
                        <a:pt x="78" y="76"/>
                      </a:lnTo>
                      <a:lnTo>
                        <a:pt x="97" y="59"/>
                      </a:lnTo>
                      <a:lnTo>
                        <a:pt x="117" y="45"/>
                      </a:lnTo>
                      <a:lnTo>
                        <a:pt x="139" y="31"/>
                      </a:lnTo>
                      <a:lnTo>
                        <a:pt x="162" y="20"/>
                      </a:lnTo>
                      <a:lnTo>
                        <a:pt x="187" y="12"/>
                      </a:lnTo>
                      <a:lnTo>
                        <a:pt x="212" y="5"/>
                      </a:lnTo>
                      <a:lnTo>
                        <a:pt x="238" y="2"/>
                      </a:lnTo>
                      <a:lnTo>
                        <a:pt x="266" y="0"/>
                      </a:lnTo>
                      <a:lnTo>
                        <a:pt x="293" y="2"/>
                      </a:lnTo>
                      <a:lnTo>
                        <a:pt x="321" y="5"/>
                      </a:lnTo>
                      <a:lnTo>
                        <a:pt x="346" y="12"/>
                      </a:lnTo>
                      <a:lnTo>
                        <a:pt x="370" y="20"/>
                      </a:lnTo>
                      <a:lnTo>
                        <a:pt x="394" y="31"/>
                      </a:lnTo>
                      <a:lnTo>
                        <a:pt x="416" y="45"/>
                      </a:lnTo>
                      <a:lnTo>
                        <a:pt x="436" y="59"/>
                      </a:lnTo>
                      <a:lnTo>
                        <a:pt x="454" y="76"/>
                      </a:lnTo>
                      <a:lnTo>
                        <a:pt x="472" y="95"/>
                      </a:lnTo>
                      <a:lnTo>
                        <a:pt x="487" y="115"/>
                      </a:lnTo>
                      <a:lnTo>
                        <a:pt x="501" y="137"/>
                      </a:lnTo>
                      <a:lnTo>
                        <a:pt x="511" y="160"/>
                      </a:lnTo>
                      <a:lnTo>
                        <a:pt x="520" y="185"/>
                      </a:lnTo>
                      <a:lnTo>
                        <a:pt x="527" y="210"/>
                      </a:lnTo>
                      <a:lnTo>
                        <a:pt x="530" y="237"/>
                      </a:lnTo>
                      <a:lnTo>
                        <a:pt x="532" y="264"/>
                      </a:lnTo>
                      <a:close/>
                      <a:moveTo>
                        <a:pt x="96" y="264"/>
                      </a:moveTo>
                      <a:lnTo>
                        <a:pt x="97" y="282"/>
                      </a:lnTo>
                      <a:lnTo>
                        <a:pt x="100" y="299"/>
                      </a:lnTo>
                      <a:lnTo>
                        <a:pt x="103" y="316"/>
                      </a:lnTo>
                      <a:lnTo>
                        <a:pt x="110" y="331"/>
                      </a:lnTo>
                      <a:lnTo>
                        <a:pt x="117" y="346"/>
                      </a:lnTo>
                      <a:lnTo>
                        <a:pt x="125" y="361"/>
                      </a:lnTo>
                      <a:lnTo>
                        <a:pt x="135" y="374"/>
                      </a:lnTo>
                      <a:lnTo>
                        <a:pt x="146" y="386"/>
                      </a:lnTo>
                      <a:lnTo>
                        <a:pt x="158" y="398"/>
                      </a:lnTo>
                      <a:lnTo>
                        <a:pt x="171" y="408"/>
                      </a:lnTo>
                      <a:lnTo>
                        <a:pt x="185" y="417"/>
                      </a:lnTo>
                      <a:lnTo>
                        <a:pt x="200" y="424"/>
                      </a:lnTo>
                      <a:lnTo>
                        <a:pt x="215" y="430"/>
                      </a:lnTo>
                      <a:lnTo>
                        <a:pt x="232" y="434"/>
                      </a:lnTo>
                      <a:lnTo>
                        <a:pt x="248" y="437"/>
                      </a:lnTo>
                      <a:lnTo>
                        <a:pt x="266" y="438"/>
                      </a:lnTo>
                      <a:lnTo>
                        <a:pt x="283" y="437"/>
                      </a:lnTo>
                      <a:lnTo>
                        <a:pt x="301" y="434"/>
                      </a:lnTo>
                      <a:lnTo>
                        <a:pt x="317" y="430"/>
                      </a:lnTo>
                      <a:lnTo>
                        <a:pt x="333" y="424"/>
                      </a:lnTo>
                      <a:lnTo>
                        <a:pt x="348" y="417"/>
                      </a:lnTo>
                      <a:lnTo>
                        <a:pt x="361" y="408"/>
                      </a:lnTo>
                      <a:lnTo>
                        <a:pt x="374" y="398"/>
                      </a:lnTo>
                      <a:lnTo>
                        <a:pt x="386" y="386"/>
                      </a:lnTo>
                      <a:lnTo>
                        <a:pt x="397" y="374"/>
                      </a:lnTo>
                      <a:lnTo>
                        <a:pt x="407" y="361"/>
                      </a:lnTo>
                      <a:lnTo>
                        <a:pt x="416" y="346"/>
                      </a:lnTo>
                      <a:lnTo>
                        <a:pt x="423" y="331"/>
                      </a:lnTo>
                      <a:lnTo>
                        <a:pt x="428" y="316"/>
                      </a:lnTo>
                      <a:lnTo>
                        <a:pt x="433" y="299"/>
                      </a:lnTo>
                      <a:lnTo>
                        <a:pt x="436" y="282"/>
                      </a:lnTo>
                      <a:lnTo>
                        <a:pt x="436" y="264"/>
                      </a:lnTo>
                      <a:lnTo>
                        <a:pt x="436" y="248"/>
                      </a:lnTo>
                      <a:lnTo>
                        <a:pt x="433" y="230"/>
                      </a:lnTo>
                      <a:lnTo>
                        <a:pt x="428" y="214"/>
                      </a:lnTo>
                      <a:lnTo>
                        <a:pt x="423" y="197"/>
                      </a:lnTo>
                      <a:lnTo>
                        <a:pt x="416" y="183"/>
                      </a:lnTo>
                      <a:lnTo>
                        <a:pt x="407" y="169"/>
                      </a:lnTo>
                      <a:lnTo>
                        <a:pt x="397" y="154"/>
                      </a:lnTo>
                      <a:lnTo>
                        <a:pt x="386" y="142"/>
                      </a:lnTo>
                      <a:lnTo>
                        <a:pt x="374" y="131"/>
                      </a:lnTo>
                      <a:lnTo>
                        <a:pt x="361" y="121"/>
                      </a:lnTo>
                      <a:lnTo>
                        <a:pt x="348" y="113"/>
                      </a:lnTo>
                      <a:lnTo>
                        <a:pt x="333" y="105"/>
                      </a:lnTo>
                      <a:lnTo>
                        <a:pt x="317" y="99"/>
                      </a:lnTo>
                      <a:lnTo>
                        <a:pt x="301" y="95"/>
                      </a:lnTo>
                      <a:lnTo>
                        <a:pt x="283" y="92"/>
                      </a:lnTo>
                      <a:lnTo>
                        <a:pt x="266" y="92"/>
                      </a:lnTo>
                      <a:lnTo>
                        <a:pt x="248" y="92"/>
                      </a:lnTo>
                      <a:lnTo>
                        <a:pt x="232" y="95"/>
                      </a:lnTo>
                      <a:lnTo>
                        <a:pt x="215" y="99"/>
                      </a:lnTo>
                      <a:lnTo>
                        <a:pt x="200" y="105"/>
                      </a:lnTo>
                      <a:lnTo>
                        <a:pt x="185" y="113"/>
                      </a:lnTo>
                      <a:lnTo>
                        <a:pt x="171" y="121"/>
                      </a:lnTo>
                      <a:lnTo>
                        <a:pt x="158" y="131"/>
                      </a:lnTo>
                      <a:lnTo>
                        <a:pt x="146" y="142"/>
                      </a:lnTo>
                      <a:lnTo>
                        <a:pt x="135" y="154"/>
                      </a:lnTo>
                      <a:lnTo>
                        <a:pt x="125" y="169"/>
                      </a:lnTo>
                      <a:lnTo>
                        <a:pt x="117" y="183"/>
                      </a:lnTo>
                      <a:lnTo>
                        <a:pt x="110" y="197"/>
                      </a:lnTo>
                      <a:lnTo>
                        <a:pt x="103" y="214"/>
                      </a:lnTo>
                      <a:lnTo>
                        <a:pt x="100" y="230"/>
                      </a:lnTo>
                      <a:lnTo>
                        <a:pt x="97" y="248"/>
                      </a:lnTo>
                      <a:lnTo>
                        <a:pt x="96" y="2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430280" y="882720"/>
                  <a:ext cx="133200" cy="98280"/>
                </a:xfrm>
                <a:custGeom>
                  <a:avLst/>
                  <a:gdLst/>
                  <a:ahLst/>
                  <a:rect l="l" t="t" r="r" b="b"/>
                  <a:pathLst>
                    <a:path w="690" h="512">
                      <a:moveTo>
                        <a:pt x="96" y="77"/>
                      </a:moveTo>
                      <a:lnTo>
                        <a:pt x="98" y="77"/>
                      </a:lnTo>
                      <a:lnTo>
                        <a:pt x="109" y="62"/>
                      </a:lnTo>
                      <a:lnTo>
                        <a:pt x="122" y="47"/>
                      </a:lnTo>
                      <a:lnTo>
                        <a:pt x="137" y="34"/>
                      </a:lnTo>
                      <a:lnTo>
                        <a:pt x="154" y="23"/>
                      </a:lnTo>
                      <a:lnTo>
                        <a:pt x="171" y="13"/>
                      </a:lnTo>
                      <a:lnTo>
                        <a:pt x="190" y="6"/>
                      </a:lnTo>
                      <a:lnTo>
                        <a:pt x="210" y="2"/>
                      </a:lnTo>
                      <a:lnTo>
                        <a:pt x="229" y="0"/>
                      </a:lnTo>
                      <a:lnTo>
                        <a:pt x="253" y="2"/>
                      </a:lnTo>
                      <a:lnTo>
                        <a:pt x="274" y="6"/>
                      </a:lnTo>
                      <a:lnTo>
                        <a:pt x="295" y="13"/>
                      </a:lnTo>
                      <a:lnTo>
                        <a:pt x="314" y="24"/>
                      </a:lnTo>
                      <a:lnTo>
                        <a:pt x="330" y="36"/>
                      </a:lnTo>
                      <a:lnTo>
                        <a:pt x="346" y="51"/>
                      </a:lnTo>
                      <a:lnTo>
                        <a:pt x="360" y="69"/>
                      </a:lnTo>
                      <a:lnTo>
                        <a:pt x="373" y="88"/>
                      </a:lnTo>
                      <a:lnTo>
                        <a:pt x="385" y="69"/>
                      </a:lnTo>
                      <a:lnTo>
                        <a:pt x="401" y="52"/>
                      </a:lnTo>
                      <a:lnTo>
                        <a:pt x="418" y="37"/>
                      </a:lnTo>
                      <a:lnTo>
                        <a:pt x="438" y="24"/>
                      </a:lnTo>
                      <a:lnTo>
                        <a:pt x="458" y="14"/>
                      </a:lnTo>
                      <a:lnTo>
                        <a:pt x="480" y="6"/>
                      </a:lnTo>
                      <a:lnTo>
                        <a:pt x="503" y="2"/>
                      </a:lnTo>
                      <a:lnTo>
                        <a:pt x="526" y="0"/>
                      </a:lnTo>
                      <a:lnTo>
                        <a:pt x="550" y="1"/>
                      </a:lnTo>
                      <a:lnTo>
                        <a:pt x="571" y="5"/>
                      </a:lnTo>
                      <a:lnTo>
                        <a:pt x="589" y="11"/>
                      </a:lnTo>
                      <a:lnTo>
                        <a:pt x="607" y="17"/>
                      </a:lnTo>
                      <a:lnTo>
                        <a:pt x="622" y="27"/>
                      </a:lnTo>
                      <a:lnTo>
                        <a:pt x="635" y="38"/>
                      </a:lnTo>
                      <a:lnTo>
                        <a:pt x="647" y="51"/>
                      </a:lnTo>
                      <a:lnTo>
                        <a:pt x="657" y="65"/>
                      </a:lnTo>
                      <a:lnTo>
                        <a:pt x="666" y="81"/>
                      </a:lnTo>
                      <a:lnTo>
                        <a:pt x="673" y="97"/>
                      </a:lnTo>
                      <a:lnTo>
                        <a:pt x="678" y="115"/>
                      </a:lnTo>
                      <a:lnTo>
                        <a:pt x="684" y="133"/>
                      </a:lnTo>
                      <a:lnTo>
                        <a:pt x="689" y="173"/>
                      </a:lnTo>
                      <a:lnTo>
                        <a:pt x="690" y="215"/>
                      </a:lnTo>
                      <a:lnTo>
                        <a:pt x="690" y="512"/>
                      </a:lnTo>
                      <a:lnTo>
                        <a:pt x="595" y="512"/>
                      </a:lnTo>
                      <a:lnTo>
                        <a:pt x="595" y="230"/>
                      </a:lnTo>
                      <a:lnTo>
                        <a:pt x="595" y="206"/>
                      </a:lnTo>
                      <a:lnTo>
                        <a:pt x="593" y="181"/>
                      </a:lnTo>
                      <a:lnTo>
                        <a:pt x="588" y="157"/>
                      </a:lnTo>
                      <a:lnTo>
                        <a:pt x="580" y="133"/>
                      </a:lnTo>
                      <a:lnTo>
                        <a:pt x="568" y="114"/>
                      </a:lnTo>
                      <a:lnTo>
                        <a:pt x="561" y="106"/>
                      </a:lnTo>
                      <a:lnTo>
                        <a:pt x="552" y="98"/>
                      </a:lnTo>
                      <a:lnTo>
                        <a:pt x="542" y="93"/>
                      </a:lnTo>
                      <a:lnTo>
                        <a:pt x="531" y="88"/>
                      </a:lnTo>
                      <a:lnTo>
                        <a:pt x="517" y="86"/>
                      </a:lnTo>
                      <a:lnTo>
                        <a:pt x="503" y="85"/>
                      </a:lnTo>
                      <a:lnTo>
                        <a:pt x="484" y="86"/>
                      </a:lnTo>
                      <a:lnTo>
                        <a:pt x="469" y="90"/>
                      </a:lnTo>
                      <a:lnTo>
                        <a:pt x="454" y="95"/>
                      </a:lnTo>
                      <a:lnTo>
                        <a:pt x="442" y="103"/>
                      </a:lnTo>
                      <a:lnTo>
                        <a:pt x="432" y="112"/>
                      </a:lnTo>
                      <a:lnTo>
                        <a:pt x="423" y="123"/>
                      </a:lnTo>
                      <a:lnTo>
                        <a:pt x="416" y="135"/>
                      </a:lnTo>
                      <a:lnTo>
                        <a:pt x="409" y="148"/>
                      </a:lnTo>
                      <a:lnTo>
                        <a:pt x="401" y="176"/>
                      </a:lnTo>
                      <a:lnTo>
                        <a:pt x="396" y="207"/>
                      </a:lnTo>
                      <a:lnTo>
                        <a:pt x="394" y="238"/>
                      </a:lnTo>
                      <a:lnTo>
                        <a:pt x="393" y="267"/>
                      </a:lnTo>
                      <a:lnTo>
                        <a:pt x="393" y="512"/>
                      </a:lnTo>
                      <a:lnTo>
                        <a:pt x="297" y="512"/>
                      </a:lnTo>
                      <a:lnTo>
                        <a:pt x="297" y="249"/>
                      </a:lnTo>
                      <a:lnTo>
                        <a:pt x="297" y="224"/>
                      </a:lnTo>
                      <a:lnTo>
                        <a:pt x="295" y="196"/>
                      </a:lnTo>
                      <a:lnTo>
                        <a:pt x="292" y="169"/>
                      </a:lnTo>
                      <a:lnTo>
                        <a:pt x="285" y="142"/>
                      </a:lnTo>
                      <a:lnTo>
                        <a:pt x="280" y="130"/>
                      </a:lnTo>
                      <a:lnTo>
                        <a:pt x="273" y="119"/>
                      </a:lnTo>
                      <a:lnTo>
                        <a:pt x="267" y="110"/>
                      </a:lnTo>
                      <a:lnTo>
                        <a:pt x="258" y="102"/>
                      </a:lnTo>
                      <a:lnTo>
                        <a:pt x="247" y="95"/>
                      </a:lnTo>
                      <a:lnTo>
                        <a:pt x="235" y="90"/>
                      </a:lnTo>
                      <a:lnTo>
                        <a:pt x="222" y="86"/>
                      </a:lnTo>
                      <a:lnTo>
                        <a:pt x="206" y="85"/>
                      </a:lnTo>
                      <a:lnTo>
                        <a:pt x="188" y="86"/>
                      </a:lnTo>
                      <a:lnTo>
                        <a:pt x="172" y="90"/>
                      </a:lnTo>
                      <a:lnTo>
                        <a:pt x="158" y="95"/>
                      </a:lnTo>
                      <a:lnTo>
                        <a:pt x="146" y="103"/>
                      </a:lnTo>
                      <a:lnTo>
                        <a:pt x="135" y="112"/>
                      </a:lnTo>
                      <a:lnTo>
                        <a:pt x="126" y="123"/>
                      </a:lnTo>
                      <a:lnTo>
                        <a:pt x="119" y="135"/>
                      </a:lnTo>
                      <a:lnTo>
                        <a:pt x="113" y="148"/>
                      </a:lnTo>
                      <a:lnTo>
                        <a:pt x="103" y="176"/>
                      </a:lnTo>
                      <a:lnTo>
                        <a:pt x="99" y="207"/>
                      </a:lnTo>
                      <a:lnTo>
                        <a:pt x="97" y="238"/>
                      </a:lnTo>
                      <a:lnTo>
                        <a:pt x="96" y="267"/>
                      </a:lnTo>
                      <a:lnTo>
                        <a:pt x="96" y="512"/>
                      </a:lnTo>
                      <a:lnTo>
                        <a:pt x="0" y="512"/>
                      </a:lnTo>
                      <a:lnTo>
                        <a:pt x="0" y="15"/>
                      </a:lnTo>
                      <a:lnTo>
                        <a:pt x="96" y="15"/>
                      </a:lnTo>
                      <a:lnTo>
                        <a:pt x="96" y="7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804240" y="1022400"/>
                  <a:ext cx="908280" cy="18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a-DK" sz="600" spc="-1" strike="noStrike">
                      <a:solidFill>
                        <a:srgbClr val="ffffff"/>
                      </a:solidFill>
                      <a:latin typeface="Futura Bk BT"/>
                    </a:rPr>
                    <a:t>www.kirktelecom.dk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90" name=""/>
          <p:cNvSpPr/>
          <p:nvPr/>
        </p:nvSpPr>
        <p:spPr>
          <a:xfrm flipH="1" flipV="1">
            <a:off x="4210200" y="4773600"/>
            <a:ext cx="1752480" cy="12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14760" y="3613320"/>
            <a:ext cx="4019760" cy="372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760400" y="529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wis721 BT"/>
              </a:rPr>
              <a:t>Внешняя направленная антен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6596-797C-4842-AF77-241BBDB50D8C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95640" y="129960"/>
            <a:ext cx="332424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змер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0" y="0"/>
            <a:ext cx="5657760" cy="6858000"/>
            <a:chOff x="0" y="0"/>
            <a:chExt cx="5657760" cy="6858000"/>
          </a:xfrm>
        </p:grpSpPr>
        <p:sp>
          <p:nvSpPr>
            <p:cNvPr id="295" name=""/>
            <p:cNvSpPr/>
            <p:nvPr/>
          </p:nvSpPr>
          <p:spPr>
            <a:xfrm>
              <a:off x="0" y="0"/>
              <a:ext cx="2057400" cy="3429000"/>
            </a:xfrm>
            <a:prstGeom prst="rect">
              <a:avLst/>
            </a:prstGeom>
            <a:solidFill>
              <a:srgbClr val="000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3429000"/>
              <a:ext cx="2057400" cy="3429000"/>
            </a:xfrm>
            <a:prstGeom prst="rect">
              <a:avLst/>
            </a:pr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7800" y="6324480"/>
              <a:ext cx="3045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53200" y="6324480"/>
              <a:ext cx="3045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9" name="" descr=""/>
            <p:cNvPicPr/>
            <p:nvPr/>
          </p:nvPicPr>
          <p:blipFill>
            <a:blip r:embed="rId1"/>
            <a:stretch/>
          </p:blipFill>
          <p:spPr>
            <a:xfrm>
              <a:off x="185760" y="2055960"/>
              <a:ext cx="1574640" cy="271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0" name=""/>
            <p:cNvGrpSpPr/>
            <p:nvPr/>
          </p:nvGrpSpPr>
          <p:grpSpPr>
            <a:xfrm>
              <a:off x="195120" y="380880"/>
              <a:ext cx="1517400" cy="821880"/>
              <a:chOff x="195120" y="380880"/>
              <a:chExt cx="1517400" cy="821880"/>
            </a:xfrm>
          </p:grpSpPr>
          <p:sp>
            <p:nvSpPr>
              <p:cNvPr id="301" name=""/>
              <p:cNvSpPr/>
              <p:nvPr/>
            </p:nvSpPr>
            <p:spPr>
              <a:xfrm>
                <a:off x="372960" y="380880"/>
                <a:ext cx="313200" cy="387360"/>
              </a:xfrm>
              <a:custGeom>
                <a:avLst/>
                <a:gdLst/>
                <a:ahLst/>
                <a:rect l="l" t="t" r="r" b="b"/>
                <a:pathLst>
                  <a:path w="1606" h="1987">
                    <a:moveTo>
                      <a:pt x="29" y="1655"/>
                    </a:moveTo>
                    <a:lnTo>
                      <a:pt x="79" y="1682"/>
                    </a:lnTo>
                    <a:lnTo>
                      <a:pt x="623" y="1957"/>
                    </a:lnTo>
                    <a:lnTo>
                      <a:pt x="684" y="1987"/>
                    </a:lnTo>
                    <a:lnTo>
                      <a:pt x="687" y="1916"/>
                    </a:lnTo>
                    <a:lnTo>
                      <a:pt x="691" y="1864"/>
                    </a:lnTo>
                    <a:lnTo>
                      <a:pt x="697" y="1814"/>
                    </a:lnTo>
                    <a:lnTo>
                      <a:pt x="704" y="1763"/>
                    </a:lnTo>
                    <a:lnTo>
                      <a:pt x="713" y="1714"/>
                    </a:lnTo>
                    <a:lnTo>
                      <a:pt x="724" y="1665"/>
                    </a:lnTo>
                    <a:lnTo>
                      <a:pt x="737" y="1616"/>
                    </a:lnTo>
                    <a:lnTo>
                      <a:pt x="751" y="1569"/>
                    </a:lnTo>
                    <a:lnTo>
                      <a:pt x="767" y="1522"/>
                    </a:lnTo>
                    <a:lnTo>
                      <a:pt x="784" y="1476"/>
                    </a:lnTo>
                    <a:lnTo>
                      <a:pt x="803" y="1431"/>
                    </a:lnTo>
                    <a:lnTo>
                      <a:pt x="824" y="1386"/>
                    </a:lnTo>
                    <a:lnTo>
                      <a:pt x="846" y="1343"/>
                    </a:lnTo>
                    <a:lnTo>
                      <a:pt x="869" y="1300"/>
                    </a:lnTo>
                    <a:lnTo>
                      <a:pt x="894" y="1257"/>
                    </a:lnTo>
                    <a:lnTo>
                      <a:pt x="920" y="1217"/>
                    </a:lnTo>
                    <a:lnTo>
                      <a:pt x="948" y="1177"/>
                    </a:lnTo>
                    <a:lnTo>
                      <a:pt x="976" y="1137"/>
                    </a:lnTo>
                    <a:lnTo>
                      <a:pt x="1007" y="1100"/>
                    </a:lnTo>
                    <a:lnTo>
                      <a:pt x="1038" y="1063"/>
                    </a:lnTo>
                    <a:lnTo>
                      <a:pt x="1071" y="1027"/>
                    </a:lnTo>
                    <a:lnTo>
                      <a:pt x="1105" y="993"/>
                    </a:lnTo>
                    <a:lnTo>
                      <a:pt x="1140" y="959"/>
                    </a:lnTo>
                    <a:lnTo>
                      <a:pt x="1176" y="927"/>
                    </a:lnTo>
                    <a:lnTo>
                      <a:pt x="1213" y="896"/>
                    </a:lnTo>
                    <a:lnTo>
                      <a:pt x="1250" y="866"/>
                    </a:lnTo>
                    <a:lnTo>
                      <a:pt x="1290" y="838"/>
                    </a:lnTo>
                    <a:lnTo>
                      <a:pt x="1331" y="810"/>
                    </a:lnTo>
                    <a:lnTo>
                      <a:pt x="1372" y="785"/>
                    </a:lnTo>
                    <a:lnTo>
                      <a:pt x="1414" y="760"/>
                    </a:lnTo>
                    <a:lnTo>
                      <a:pt x="1457" y="737"/>
                    </a:lnTo>
                    <a:lnTo>
                      <a:pt x="1501" y="716"/>
                    </a:lnTo>
                    <a:lnTo>
                      <a:pt x="1546" y="696"/>
                    </a:lnTo>
                    <a:lnTo>
                      <a:pt x="1584" y="680"/>
                    </a:lnTo>
                    <a:lnTo>
                      <a:pt x="1594" y="673"/>
                    </a:lnTo>
                    <a:lnTo>
                      <a:pt x="1600" y="665"/>
                    </a:lnTo>
                    <a:lnTo>
                      <a:pt x="1604" y="658"/>
                    </a:lnTo>
                    <a:lnTo>
                      <a:pt x="1606" y="650"/>
                    </a:lnTo>
                    <a:lnTo>
                      <a:pt x="1605" y="638"/>
                    </a:lnTo>
                    <a:lnTo>
                      <a:pt x="1603" y="632"/>
                    </a:lnTo>
                    <a:lnTo>
                      <a:pt x="1586" y="586"/>
                    </a:lnTo>
                    <a:lnTo>
                      <a:pt x="1385" y="31"/>
                    </a:lnTo>
                    <a:lnTo>
                      <a:pt x="1381" y="18"/>
                    </a:lnTo>
                    <a:lnTo>
                      <a:pt x="1380" y="13"/>
                    </a:lnTo>
                    <a:lnTo>
                      <a:pt x="1372" y="5"/>
                    </a:lnTo>
                    <a:lnTo>
                      <a:pt x="1367" y="2"/>
                    </a:lnTo>
                    <a:lnTo>
                      <a:pt x="1359" y="0"/>
                    </a:lnTo>
                    <a:lnTo>
                      <a:pt x="1349" y="0"/>
                    </a:lnTo>
                    <a:lnTo>
                      <a:pt x="1337" y="3"/>
                    </a:lnTo>
                    <a:lnTo>
                      <a:pt x="1307" y="14"/>
                    </a:lnTo>
                    <a:lnTo>
                      <a:pt x="1248" y="37"/>
                    </a:lnTo>
                    <a:lnTo>
                      <a:pt x="1190" y="63"/>
                    </a:lnTo>
                    <a:lnTo>
                      <a:pt x="1133" y="89"/>
                    </a:lnTo>
                    <a:lnTo>
                      <a:pt x="1076" y="119"/>
                    </a:lnTo>
                    <a:lnTo>
                      <a:pt x="1021" y="149"/>
                    </a:lnTo>
                    <a:lnTo>
                      <a:pt x="966" y="181"/>
                    </a:lnTo>
                    <a:lnTo>
                      <a:pt x="913" y="215"/>
                    </a:lnTo>
                    <a:lnTo>
                      <a:pt x="861" y="251"/>
                    </a:lnTo>
                    <a:lnTo>
                      <a:pt x="810" y="289"/>
                    </a:lnTo>
                    <a:lnTo>
                      <a:pt x="759" y="328"/>
                    </a:lnTo>
                    <a:lnTo>
                      <a:pt x="711" y="369"/>
                    </a:lnTo>
                    <a:lnTo>
                      <a:pt x="663" y="411"/>
                    </a:lnTo>
                    <a:lnTo>
                      <a:pt x="616" y="455"/>
                    </a:lnTo>
                    <a:lnTo>
                      <a:pt x="572" y="501"/>
                    </a:lnTo>
                    <a:lnTo>
                      <a:pt x="528" y="547"/>
                    </a:lnTo>
                    <a:lnTo>
                      <a:pt x="485" y="595"/>
                    </a:lnTo>
                    <a:lnTo>
                      <a:pt x="443" y="645"/>
                    </a:lnTo>
                    <a:lnTo>
                      <a:pt x="404" y="695"/>
                    </a:lnTo>
                    <a:lnTo>
                      <a:pt x="365" y="747"/>
                    </a:lnTo>
                    <a:lnTo>
                      <a:pt x="329" y="800"/>
                    </a:lnTo>
                    <a:lnTo>
                      <a:pt x="294" y="854"/>
                    </a:lnTo>
                    <a:lnTo>
                      <a:pt x="260" y="910"/>
                    </a:lnTo>
                    <a:lnTo>
                      <a:pt x="228" y="967"/>
                    </a:lnTo>
                    <a:lnTo>
                      <a:pt x="197" y="1024"/>
                    </a:lnTo>
                    <a:lnTo>
                      <a:pt x="169" y="1084"/>
                    </a:lnTo>
                    <a:lnTo>
                      <a:pt x="142" y="1144"/>
                    </a:lnTo>
                    <a:lnTo>
                      <a:pt x="116" y="1204"/>
                    </a:lnTo>
                    <a:lnTo>
                      <a:pt x="93" y="1266"/>
                    </a:lnTo>
                    <a:lnTo>
                      <a:pt x="71" y="1329"/>
                    </a:lnTo>
                    <a:lnTo>
                      <a:pt x="52" y="1392"/>
                    </a:lnTo>
                    <a:lnTo>
                      <a:pt x="34" y="1457"/>
                    </a:lnTo>
                    <a:lnTo>
                      <a:pt x="18" y="1522"/>
                    </a:lnTo>
                    <a:lnTo>
                      <a:pt x="2" y="1593"/>
                    </a:lnTo>
                    <a:lnTo>
                      <a:pt x="0" y="1610"/>
                    </a:lnTo>
                    <a:lnTo>
                      <a:pt x="1" y="1623"/>
                    </a:lnTo>
                    <a:lnTo>
                      <a:pt x="6" y="1634"/>
                    </a:lnTo>
                    <a:lnTo>
                      <a:pt x="11" y="1643"/>
                    </a:lnTo>
                    <a:lnTo>
                      <a:pt x="17" y="1648"/>
                    </a:lnTo>
                    <a:lnTo>
                      <a:pt x="23" y="1652"/>
                    </a:lnTo>
                    <a:lnTo>
                      <a:pt x="29" y="1655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2960" y="770040"/>
                <a:ext cx="313200" cy="387360"/>
              </a:xfrm>
              <a:custGeom>
                <a:avLst/>
                <a:gdLst/>
                <a:ahLst/>
                <a:rect l="l" t="t" r="r" b="b"/>
                <a:pathLst>
                  <a:path w="1606" h="1985">
                    <a:moveTo>
                      <a:pt x="29" y="333"/>
                    </a:moveTo>
                    <a:lnTo>
                      <a:pt x="79" y="306"/>
                    </a:lnTo>
                    <a:lnTo>
                      <a:pt x="623" y="31"/>
                    </a:lnTo>
                    <a:lnTo>
                      <a:pt x="684" y="0"/>
                    </a:lnTo>
                    <a:lnTo>
                      <a:pt x="687" y="72"/>
                    </a:lnTo>
                    <a:lnTo>
                      <a:pt x="691" y="123"/>
                    </a:lnTo>
                    <a:lnTo>
                      <a:pt x="697" y="174"/>
                    </a:lnTo>
                    <a:lnTo>
                      <a:pt x="704" y="224"/>
                    </a:lnTo>
                    <a:lnTo>
                      <a:pt x="713" y="273"/>
                    </a:lnTo>
                    <a:lnTo>
                      <a:pt x="724" y="323"/>
                    </a:lnTo>
                    <a:lnTo>
                      <a:pt x="737" y="371"/>
                    </a:lnTo>
                    <a:lnTo>
                      <a:pt x="751" y="418"/>
                    </a:lnTo>
                    <a:lnTo>
                      <a:pt x="767" y="465"/>
                    </a:lnTo>
                    <a:lnTo>
                      <a:pt x="784" y="512"/>
                    </a:lnTo>
                    <a:lnTo>
                      <a:pt x="803" y="557"/>
                    </a:lnTo>
                    <a:lnTo>
                      <a:pt x="824" y="602"/>
                    </a:lnTo>
                    <a:lnTo>
                      <a:pt x="846" y="645"/>
                    </a:lnTo>
                    <a:lnTo>
                      <a:pt x="869" y="688"/>
                    </a:lnTo>
                    <a:lnTo>
                      <a:pt x="894" y="730"/>
                    </a:lnTo>
                    <a:lnTo>
                      <a:pt x="920" y="771"/>
                    </a:lnTo>
                    <a:lnTo>
                      <a:pt x="948" y="811"/>
                    </a:lnTo>
                    <a:lnTo>
                      <a:pt x="976" y="850"/>
                    </a:lnTo>
                    <a:lnTo>
                      <a:pt x="1007" y="888"/>
                    </a:lnTo>
                    <a:lnTo>
                      <a:pt x="1038" y="924"/>
                    </a:lnTo>
                    <a:lnTo>
                      <a:pt x="1071" y="961"/>
                    </a:lnTo>
                    <a:lnTo>
                      <a:pt x="1105" y="995"/>
                    </a:lnTo>
                    <a:lnTo>
                      <a:pt x="1140" y="1029"/>
                    </a:lnTo>
                    <a:lnTo>
                      <a:pt x="1176" y="1061"/>
                    </a:lnTo>
                    <a:lnTo>
                      <a:pt x="1213" y="1092"/>
                    </a:lnTo>
                    <a:lnTo>
                      <a:pt x="1252" y="1122"/>
                    </a:lnTo>
                    <a:lnTo>
                      <a:pt x="1290" y="1151"/>
                    </a:lnTo>
                    <a:lnTo>
                      <a:pt x="1331" y="1177"/>
                    </a:lnTo>
                    <a:lnTo>
                      <a:pt x="1372" y="1203"/>
                    </a:lnTo>
                    <a:lnTo>
                      <a:pt x="1414" y="1227"/>
                    </a:lnTo>
                    <a:lnTo>
                      <a:pt x="1457" y="1250"/>
                    </a:lnTo>
                    <a:lnTo>
                      <a:pt x="1501" y="1271"/>
                    </a:lnTo>
                    <a:lnTo>
                      <a:pt x="1546" y="1292"/>
                    </a:lnTo>
                    <a:lnTo>
                      <a:pt x="1584" y="1308"/>
                    </a:lnTo>
                    <a:lnTo>
                      <a:pt x="1594" y="1315"/>
                    </a:lnTo>
                    <a:lnTo>
                      <a:pt x="1600" y="1323"/>
                    </a:lnTo>
                    <a:lnTo>
                      <a:pt x="1605" y="1331"/>
                    </a:lnTo>
                    <a:lnTo>
                      <a:pt x="1606" y="1337"/>
                    </a:lnTo>
                    <a:lnTo>
                      <a:pt x="1605" y="1349"/>
                    </a:lnTo>
                    <a:lnTo>
                      <a:pt x="1603" y="1355"/>
                    </a:lnTo>
                    <a:lnTo>
                      <a:pt x="1586" y="1401"/>
                    </a:lnTo>
                    <a:lnTo>
                      <a:pt x="1388" y="1950"/>
                    </a:lnTo>
                    <a:lnTo>
                      <a:pt x="1381" y="1965"/>
                    </a:lnTo>
                    <a:lnTo>
                      <a:pt x="1379" y="1970"/>
                    </a:lnTo>
                    <a:lnTo>
                      <a:pt x="1371" y="1978"/>
                    </a:lnTo>
                    <a:lnTo>
                      <a:pt x="1366" y="1983"/>
                    </a:lnTo>
                    <a:lnTo>
                      <a:pt x="1358" y="1985"/>
                    </a:lnTo>
                    <a:lnTo>
                      <a:pt x="1348" y="1985"/>
                    </a:lnTo>
                    <a:lnTo>
                      <a:pt x="1338" y="1983"/>
                    </a:lnTo>
                    <a:lnTo>
                      <a:pt x="1302" y="1969"/>
                    </a:lnTo>
                    <a:lnTo>
                      <a:pt x="1242" y="1942"/>
                    </a:lnTo>
                    <a:lnTo>
                      <a:pt x="1181" y="1915"/>
                    </a:lnTo>
                    <a:lnTo>
                      <a:pt x="1123" y="1886"/>
                    </a:lnTo>
                    <a:lnTo>
                      <a:pt x="1066" y="1857"/>
                    </a:lnTo>
                    <a:lnTo>
                      <a:pt x="1009" y="1824"/>
                    </a:lnTo>
                    <a:lnTo>
                      <a:pt x="954" y="1791"/>
                    </a:lnTo>
                    <a:lnTo>
                      <a:pt x="901" y="1756"/>
                    </a:lnTo>
                    <a:lnTo>
                      <a:pt x="848" y="1719"/>
                    </a:lnTo>
                    <a:lnTo>
                      <a:pt x="796" y="1682"/>
                    </a:lnTo>
                    <a:lnTo>
                      <a:pt x="747" y="1642"/>
                    </a:lnTo>
                    <a:lnTo>
                      <a:pt x="698" y="1602"/>
                    </a:lnTo>
                    <a:lnTo>
                      <a:pt x="650" y="1560"/>
                    </a:lnTo>
                    <a:lnTo>
                      <a:pt x="604" y="1517"/>
                    </a:lnTo>
                    <a:lnTo>
                      <a:pt x="559" y="1472"/>
                    </a:lnTo>
                    <a:lnTo>
                      <a:pt x="517" y="1426"/>
                    </a:lnTo>
                    <a:lnTo>
                      <a:pt x="475" y="1379"/>
                    </a:lnTo>
                    <a:lnTo>
                      <a:pt x="434" y="1331"/>
                    </a:lnTo>
                    <a:lnTo>
                      <a:pt x="395" y="1281"/>
                    </a:lnTo>
                    <a:lnTo>
                      <a:pt x="358" y="1230"/>
                    </a:lnTo>
                    <a:lnTo>
                      <a:pt x="323" y="1178"/>
                    </a:lnTo>
                    <a:lnTo>
                      <a:pt x="287" y="1124"/>
                    </a:lnTo>
                    <a:lnTo>
                      <a:pt x="255" y="1070"/>
                    </a:lnTo>
                    <a:lnTo>
                      <a:pt x="224" y="1014"/>
                    </a:lnTo>
                    <a:lnTo>
                      <a:pt x="194" y="957"/>
                    </a:lnTo>
                    <a:lnTo>
                      <a:pt x="166" y="900"/>
                    </a:lnTo>
                    <a:lnTo>
                      <a:pt x="139" y="841"/>
                    </a:lnTo>
                    <a:lnTo>
                      <a:pt x="115" y="781"/>
                    </a:lnTo>
                    <a:lnTo>
                      <a:pt x="92" y="720"/>
                    </a:lnTo>
                    <a:lnTo>
                      <a:pt x="71" y="658"/>
                    </a:lnTo>
                    <a:lnTo>
                      <a:pt x="52" y="595"/>
                    </a:lnTo>
                    <a:lnTo>
                      <a:pt x="34" y="530"/>
                    </a:lnTo>
                    <a:lnTo>
                      <a:pt x="18" y="465"/>
                    </a:lnTo>
                    <a:lnTo>
                      <a:pt x="3" y="394"/>
                    </a:lnTo>
                    <a:lnTo>
                      <a:pt x="0" y="378"/>
                    </a:lnTo>
                    <a:lnTo>
                      <a:pt x="1" y="364"/>
                    </a:lnTo>
                    <a:lnTo>
                      <a:pt x="6" y="353"/>
                    </a:lnTo>
                    <a:lnTo>
                      <a:pt x="11" y="346"/>
                    </a:lnTo>
                    <a:lnTo>
                      <a:pt x="17" y="339"/>
                    </a:lnTo>
                    <a:lnTo>
                      <a:pt x="23" y="336"/>
                    </a:lnTo>
                    <a:lnTo>
                      <a:pt x="29" y="333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16320" y="698400"/>
                <a:ext cx="137880" cy="147600"/>
              </a:xfrm>
              <a:custGeom>
                <a:avLst/>
                <a:gdLst/>
                <a:ahLst/>
                <a:rect l="l" t="t" r="r" b="b"/>
                <a:pathLst>
                  <a:path w="714" h="759">
                    <a:moveTo>
                      <a:pt x="699" y="379"/>
                    </a:moveTo>
                    <a:lnTo>
                      <a:pt x="706" y="375"/>
                    </a:lnTo>
                    <a:lnTo>
                      <a:pt x="710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09" y="351"/>
                    </a:lnTo>
                    <a:lnTo>
                      <a:pt x="705" y="346"/>
                    </a:lnTo>
                    <a:lnTo>
                      <a:pt x="699" y="342"/>
                    </a:lnTo>
                    <a:lnTo>
                      <a:pt x="35" y="4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3" y="11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735"/>
                    </a:lnTo>
                    <a:lnTo>
                      <a:pt x="1" y="743"/>
                    </a:lnTo>
                    <a:lnTo>
                      <a:pt x="3" y="748"/>
                    </a:lnTo>
                    <a:lnTo>
                      <a:pt x="5" y="753"/>
                    </a:lnTo>
                    <a:lnTo>
                      <a:pt x="10" y="757"/>
                    </a:lnTo>
                    <a:lnTo>
                      <a:pt x="15" y="759"/>
                    </a:lnTo>
                    <a:lnTo>
                      <a:pt x="21" y="759"/>
                    </a:lnTo>
                    <a:lnTo>
                      <a:pt x="27" y="758"/>
                    </a:lnTo>
                    <a:lnTo>
                      <a:pt x="34" y="755"/>
                    </a:lnTo>
                    <a:lnTo>
                      <a:pt x="699" y="379"/>
                    </a:lnTo>
                    <a:close/>
                  </a:path>
                </a:pathLst>
              </a:custGeom>
              <a:solidFill>
                <a:srgbClr val="00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95120" y="701640"/>
                <a:ext cx="138240" cy="146160"/>
              </a:xfrm>
              <a:custGeom>
                <a:avLst/>
                <a:gdLst/>
                <a:ahLst/>
                <a:rect l="l" t="t" r="r" b="b"/>
                <a:pathLst>
                  <a:path w="714" h="758">
                    <a:moveTo>
                      <a:pt x="701" y="379"/>
                    </a:moveTo>
                    <a:lnTo>
                      <a:pt x="706" y="374"/>
                    </a:lnTo>
                    <a:lnTo>
                      <a:pt x="711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11" y="350"/>
                    </a:lnTo>
                    <a:lnTo>
                      <a:pt x="706" y="346"/>
                    </a:lnTo>
                    <a:lnTo>
                      <a:pt x="700" y="342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0" y="734"/>
                    </a:lnTo>
                    <a:lnTo>
                      <a:pt x="1" y="742"/>
                    </a:lnTo>
                    <a:lnTo>
                      <a:pt x="3" y="749"/>
                    </a:lnTo>
                    <a:lnTo>
                      <a:pt x="7" y="753"/>
                    </a:lnTo>
                    <a:lnTo>
                      <a:pt x="10" y="756"/>
                    </a:lnTo>
                    <a:lnTo>
                      <a:pt x="15" y="758"/>
                    </a:lnTo>
                    <a:lnTo>
                      <a:pt x="21" y="758"/>
                    </a:lnTo>
                    <a:lnTo>
                      <a:pt x="27" y="757"/>
                    </a:lnTo>
                    <a:lnTo>
                      <a:pt x="34" y="754"/>
                    </a:lnTo>
                    <a:lnTo>
                      <a:pt x="701" y="379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934200" y="517680"/>
                <a:ext cx="180720" cy="250560"/>
              </a:xfrm>
              <a:custGeom>
                <a:avLst/>
                <a:gdLst/>
                <a:ahLst/>
                <a:rect l="l" t="t" r="r" b="b"/>
                <a:pathLst>
                  <a:path w="930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30" y="1293"/>
                    </a:lnTo>
                    <a:lnTo>
                      <a:pt x="713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136160" y="517680"/>
                <a:ext cx="31680" cy="25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215360" y="517680"/>
                <a:ext cx="155520" cy="250560"/>
              </a:xfrm>
              <a:custGeom>
                <a:avLst/>
                <a:gdLst/>
                <a:ahLst/>
                <a:rect l="l" t="t" r="r" b="b"/>
                <a:pathLst>
                  <a:path w="803" h="1293">
                    <a:moveTo>
                      <a:pt x="803" y="1293"/>
                    </a:moveTo>
                    <a:lnTo>
                      <a:pt x="607" y="1293"/>
                    </a:lnTo>
                    <a:lnTo>
                      <a:pt x="228" y="746"/>
                    </a:lnTo>
                    <a:lnTo>
                      <a:pt x="161" y="746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283" y="1"/>
                    </a:lnTo>
                    <a:lnTo>
                      <a:pt x="327" y="4"/>
                    </a:lnTo>
                    <a:lnTo>
                      <a:pt x="370" y="8"/>
                    </a:lnTo>
                    <a:lnTo>
                      <a:pt x="413" y="16"/>
                    </a:lnTo>
                    <a:lnTo>
                      <a:pt x="456" y="27"/>
                    </a:lnTo>
                    <a:lnTo>
                      <a:pt x="497" y="41"/>
                    </a:lnTo>
                    <a:lnTo>
                      <a:pt x="536" y="61"/>
                    </a:lnTo>
                    <a:lnTo>
                      <a:pt x="556" y="73"/>
                    </a:lnTo>
                    <a:lnTo>
                      <a:pt x="574" y="87"/>
                    </a:lnTo>
                    <a:lnTo>
                      <a:pt x="592" y="101"/>
                    </a:lnTo>
                    <a:lnTo>
                      <a:pt x="608" y="118"/>
                    </a:lnTo>
                    <a:lnTo>
                      <a:pt x="623" y="135"/>
                    </a:lnTo>
                    <a:lnTo>
                      <a:pt x="637" y="153"/>
                    </a:lnTo>
                    <a:lnTo>
                      <a:pt x="650" y="173"/>
                    </a:lnTo>
                    <a:lnTo>
                      <a:pt x="661" y="192"/>
                    </a:lnTo>
                    <a:lnTo>
                      <a:pt x="671" y="212"/>
                    </a:lnTo>
                    <a:lnTo>
                      <a:pt x="680" y="233"/>
                    </a:lnTo>
                    <a:lnTo>
                      <a:pt x="694" y="277"/>
                    </a:lnTo>
                    <a:lnTo>
                      <a:pt x="700" y="300"/>
                    </a:lnTo>
                    <a:lnTo>
                      <a:pt x="703" y="323"/>
                    </a:lnTo>
                    <a:lnTo>
                      <a:pt x="705" y="346"/>
                    </a:lnTo>
                    <a:lnTo>
                      <a:pt x="705" y="369"/>
                    </a:lnTo>
                    <a:lnTo>
                      <a:pt x="704" y="403"/>
                    </a:lnTo>
                    <a:lnTo>
                      <a:pt x="700" y="436"/>
                    </a:lnTo>
                    <a:lnTo>
                      <a:pt x="693" y="469"/>
                    </a:lnTo>
                    <a:lnTo>
                      <a:pt x="683" y="500"/>
                    </a:lnTo>
                    <a:lnTo>
                      <a:pt x="671" y="531"/>
                    </a:lnTo>
                    <a:lnTo>
                      <a:pt x="657" y="558"/>
                    </a:lnTo>
                    <a:lnTo>
                      <a:pt x="639" y="585"/>
                    </a:lnTo>
                    <a:lnTo>
                      <a:pt x="621" y="611"/>
                    </a:lnTo>
                    <a:lnTo>
                      <a:pt x="599" y="634"/>
                    </a:lnTo>
                    <a:lnTo>
                      <a:pt x="576" y="655"/>
                    </a:lnTo>
                    <a:lnTo>
                      <a:pt x="550" y="673"/>
                    </a:lnTo>
                    <a:lnTo>
                      <a:pt x="523" y="691"/>
                    </a:lnTo>
                    <a:lnTo>
                      <a:pt x="493" y="704"/>
                    </a:lnTo>
                    <a:lnTo>
                      <a:pt x="463" y="716"/>
                    </a:lnTo>
                    <a:lnTo>
                      <a:pt x="430" y="725"/>
                    </a:lnTo>
                    <a:lnTo>
                      <a:pt x="396" y="730"/>
                    </a:lnTo>
                    <a:lnTo>
                      <a:pt x="803" y="1293"/>
                    </a:lnTo>
                    <a:close/>
                    <a:moveTo>
                      <a:pt x="161" y="612"/>
                    </a:moveTo>
                    <a:lnTo>
                      <a:pt x="213" y="612"/>
                    </a:lnTo>
                    <a:lnTo>
                      <a:pt x="274" y="611"/>
                    </a:lnTo>
                    <a:lnTo>
                      <a:pt x="335" y="604"/>
                    </a:lnTo>
                    <a:lnTo>
                      <a:pt x="365" y="599"/>
                    </a:lnTo>
                    <a:lnTo>
                      <a:pt x="393" y="591"/>
                    </a:lnTo>
                    <a:lnTo>
                      <a:pt x="420" y="582"/>
                    </a:lnTo>
                    <a:lnTo>
                      <a:pt x="445" y="571"/>
                    </a:lnTo>
                    <a:lnTo>
                      <a:pt x="469" y="557"/>
                    </a:lnTo>
                    <a:lnTo>
                      <a:pt x="490" y="540"/>
                    </a:lnTo>
                    <a:lnTo>
                      <a:pt x="509" y="522"/>
                    </a:lnTo>
                    <a:lnTo>
                      <a:pt x="524" y="499"/>
                    </a:lnTo>
                    <a:lnTo>
                      <a:pt x="537" y="473"/>
                    </a:lnTo>
                    <a:lnTo>
                      <a:pt x="547" y="445"/>
                    </a:lnTo>
                    <a:lnTo>
                      <a:pt x="553" y="412"/>
                    </a:lnTo>
                    <a:lnTo>
                      <a:pt x="555" y="376"/>
                    </a:lnTo>
                    <a:lnTo>
                      <a:pt x="553" y="339"/>
                    </a:lnTo>
                    <a:lnTo>
                      <a:pt x="546" y="308"/>
                    </a:lnTo>
                    <a:lnTo>
                      <a:pt x="536" y="279"/>
                    </a:lnTo>
                    <a:lnTo>
                      <a:pt x="523" y="254"/>
                    </a:lnTo>
                    <a:lnTo>
                      <a:pt x="505" y="232"/>
                    </a:lnTo>
                    <a:lnTo>
                      <a:pt x="486" y="213"/>
                    </a:lnTo>
                    <a:lnTo>
                      <a:pt x="464" y="198"/>
                    </a:lnTo>
                    <a:lnTo>
                      <a:pt x="440" y="184"/>
                    </a:lnTo>
                    <a:lnTo>
                      <a:pt x="413" y="173"/>
                    </a:lnTo>
                    <a:lnTo>
                      <a:pt x="385" y="164"/>
                    </a:lnTo>
                    <a:lnTo>
                      <a:pt x="356" y="157"/>
                    </a:lnTo>
                    <a:lnTo>
                      <a:pt x="325" y="152"/>
                    </a:lnTo>
                    <a:lnTo>
                      <a:pt x="296" y="148"/>
                    </a:lnTo>
                    <a:lnTo>
                      <a:pt x="265" y="146"/>
                    </a:lnTo>
                    <a:lnTo>
                      <a:pt x="204" y="144"/>
                    </a:lnTo>
                    <a:lnTo>
                      <a:pt x="161" y="144"/>
                    </a:lnTo>
                    <a:lnTo>
                      <a:pt x="161" y="6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387080" y="5176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929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29" y="1293"/>
                    </a:lnTo>
                    <a:lnTo>
                      <a:pt x="712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923040" y="847800"/>
                <a:ext cx="50760" cy="133200"/>
              </a:xfrm>
              <a:custGeom>
                <a:avLst/>
                <a:gdLst/>
                <a:ahLst/>
                <a:rect l="l" t="t" r="r" b="b"/>
                <a:pathLst>
                  <a:path w="264" h="687">
                    <a:moveTo>
                      <a:pt x="169" y="687"/>
                    </a:moveTo>
                    <a:lnTo>
                      <a:pt x="74" y="687"/>
                    </a:lnTo>
                    <a:lnTo>
                      <a:pt x="74" y="279"/>
                    </a:lnTo>
                    <a:lnTo>
                      <a:pt x="0" y="279"/>
                    </a:lnTo>
                    <a:lnTo>
                      <a:pt x="0" y="190"/>
                    </a:lnTo>
                    <a:lnTo>
                      <a:pt x="74" y="190"/>
                    </a:lnTo>
                    <a:lnTo>
                      <a:pt x="74" y="0"/>
                    </a:lnTo>
                    <a:lnTo>
                      <a:pt x="169" y="0"/>
                    </a:lnTo>
                    <a:lnTo>
                      <a:pt x="169" y="190"/>
                    </a:lnTo>
                    <a:lnTo>
                      <a:pt x="264" y="190"/>
                    </a:lnTo>
                    <a:lnTo>
                      <a:pt x="264" y="279"/>
                    </a:lnTo>
                    <a:lnTo>
                      <a:pt x="169" y="279"/>
                    </a:lnTo>
                    <a:lnTo>
                      <a:pt x="169" y="6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977040" y="882720"/>
                <a:ext cx="9180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5" y="280"/>
                    </a:moveTo>
                    <a:lnTo>
                      <a:pt x="98" y="311"/>
                    </a:lnTo>
                    <a:lnTo>
                      <a:pt x="106" y="341"/>
                    </a:lnTo>
                    <a:lnTo>
                      <a:pt x="119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8" y="415"/>
                    </a:lnTo>
                    <a:lnTo>
                      <a:pt x="170" y="423"/>
                    </a:lnTo>
                    <a:lnTo>
                      <a:pt x="184" y="431"/>
                    </a:lnTo>
                    <a:lnTo>
                      <a:pt x="197" y="437"/>
                    </a:lnTo>
                    <a:lnTo>
                      <a:pt x="213" y="441"/>
                    </a:lnTo>
                    <a:lnTo>
                      <a:pt x="229" y="443"/>
                    </a:lnTo>
                    <a:lnTo>
                      <a:pt x="245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5" y="430"/>
                    </a:lnTo>
                    <a:lnTo>
                      <a:pt x="333" y="418"/>
                    </a:lnTo>
                    <a:lnTo>
                      <a:pt x="351" y="405"/>
                    </a:lnTo>
                    <a:lnTo>
                      <a:pt x="366" y="388"/>
                    </a:lnTo>
                    <a:lnTo>
                      <a:pt x="380" y="368"/>
                    </a:lnTo>
                    <a:lnTo>
                      <a:pt x="394" y="348"/>
                    </a:lnTo>
                    <a:lnTo>
                      <a:pt x="475" y="394"/>
                    </a:lnTo>
                    <a:lnTo>
                      <a:pt x="455" y="424"/>
                    </a:lnTo>
                    <a:lnTo>
                      <a:pt x="433" y="451"/>
                    </a:lnTo>
                    <a:lnTo>
                      <a:pt x="407" y="474"/>
                    </a:lnTo>
                    <a:lnTo>
                      <a:pt x="378" y="494"/>
                    </a:lnTo>
                    <a:lnTo>
                      <a:pt x="347" y="509"/>
                    </a:lnTo>
                    <a:lnTo>
                      <a:pt x="315" y="520"/>
                    </a:lnTo>
                    <a:lnTo>
                      <a:pt x="279" y="528"/>
                    </a:lnTo>
                    <a:lnTo>
                      <a:pt x="244" y="530"/>
                    </a:lnTo>
                    <a:lnTo>
                      <a:pt x="217" y="528"/>
                    </a:lnTo>
                    <a:lnTo>
                      <a:pt x="191" y="524"/>
                    </a:lnTo>
                    <a:lnTo>
                      <a:pt x="165" y="518"/>
                    </a:lnTo>
                    <a:lnTo>
                      <a:pt x="142" y="509"/>
                    </a:lnTo>
                    <a:lnTo>
                      <a:pt x="120" y="498"/>
                    </a:lnTo>
                    <a:lnTo>
                      <a:pt x="101" y="485"/>
                    </a:lnTo>
                    <a:lnTo>
                      <a:pt x="82" y="471"/>
                    </a:lnTo>
                    <a:lnTo>
                      <a:pt x="66" y="454"/>
                    </a:lnTo>
                    <a:lnTo>
                      <a:pt x="50" y="435"/>
                    </a:lnTo>
                    <a:lnTo>
                      <a:pt x="37" y="416"/>
                    </a:lnTo>
                    <a:lnTo>
                      <a:pt x="26" y="394"/>
                    </a:lnTo>
                    <a:lnTo>
                      <a:pt x="16" y="371"/>
                    </a:lnTo>
                    <a:lnTo>
                      <a:pt x="10" y="346"/>
                    </a:lnTo>
                    <a:lnTo>
                      <a:pt x="4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4" y="213"/>
                    </a:lnTo>
                    <a:lnTo>
                      <a:pt x="9" y="186"/>
                    </a:lnTo>
                    <a:lnTo>
                      <a:pt x="15" y="161"/>
                    </a:lnTo>
                    <a:lnTo>
                      <a:pt x="24" y="138"/>
                    </a:lnTo>
                    <a:lnTo>
                      <a:pt x="34" y="116"/>
                    </a:lnTo>
                    <a:lnTo>
                      <a:pt x="47" y="95"/>
                    </a:lnTo>
                    <a:lnTo>
                      <a:pt x="61" y="76"/>
                    </a:lnTo>
                    <a:lnTo>
                      <a:pt x="77" y="60"/>
                    </a:lnTo>
                    <a:lnTo>
                      <a:pt x="95" y="45"/>
                    </a:lnTo>
                    <a:lnTo>
                      <a:pt x="115" y="31"/>
                    </a:lnTo>
                    <a:lnTo>
                      <a:pt x="137" y="20"/>
                    </a:lnTo>
                    <a:lnTo>
                      <a:pt x="160" y="12"/>
                    </a:lnTo>
                    <a:lnTo>
                      <a:pt x="185" y="5"/>
                    </a:lnTo>
                    <a:lnTo>
                      <a:pt x="213" y="2"/>
                    </a:lnTo>
                    <a:lnTo>
                      <a:pt x="242" y="0"/>
                    </a:lnTo>
                    <a:lnTo>
                      <a:pt x="271" y="2"/>
                    </a:lnTo>
                    <a:lnTo>
                      <a:pt x="297" y="5"/>
                    </a:lnTo>
                    <a:lnTo>
                      <a:pt x="322" y="12"/>
                    </a:lnTo>
                    <a:lnTo>
                      <a:pt x="345" y="20"/>
                    </a:lnTo>
                    <a:lnTo>
                      <a:pt x="366" y="31"/>
                    </a:lnTo>
                    <a:lnTo>
                      <a:pt x="385" y="45"/>
                    </a:lnTo>
                    <a:lnTo>
                      <a:pt x="402" y="60"/>
                    </a:lnTo>
                    <a:lnTo>
                      <a:pt x="418" y="76"/>
                    </a:lnTo>
                    <a:lnTo>
                      <a:pt x="431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0" y="161"/>
                    </a:lnTo>
                    <a:lnTo>
                      <a:pt x="467" y="185"/>
                    </a:lnTo>
                    <a:lnTo>
                      <a:pt x="471" y="210"/>
                    </a:lnTo>
                    <a:lnTo>
                      <a:pt x="474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5" y="280"/>
                    </a:lnTo>
                    <a:close/>
                    <a:moveTo>
                      <a:pt x="379" y="207"/>
                    </a:moveTo>
                    <a:lnTo>
                      <a:pt x="373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5" y="117"/>
                    </a:lnTo>
                    <a:lnTo>
                      <a:pt x="316" y="103"/>
                    </a:lnTo>
                    <a:lnTo>
                      <a:pt x="294" y="92"/>
                    </a:lnTo>
                    <a:lnTo>
                      <a:pt x="270" y="85"/>
                    </a:lnTo>
                    <a:lnTo>
                      <a:pt x="242" y="83"/>
                    </a:lnTo>
                    <a:lnTo>
                      <a:pt x="215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1" y="137"/>
                    </a:lnTo>
                    <a:lnTo>
                      <a:pt x="117" y="158"/>
                    </a:lnTo>
                    <a:lnTo>
                      <a:pt x="107" y="182"/>
                    </a:lnTo>
                    <a:lnTo>
                      <a:pt x="101" y="207"/>
                    </a:lnTo>
                    <a:lnTo>
                      <a:pt x="379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086480" y="846000"/>
                <a:ext cx="1908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118520" y="882720"/>
                <a:ext cx="9216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7" y="280"/>
                    </a:moveTo>
                    <a:lnTo>
                      <a:pt x="99" y="311"/>
                    </a:lnTo>
                    <a:lnTo>
                      <a:pt x="108" y="341"/>
                    </a:lnTo>
                    <a:lnTo>
                      <a:pt x="120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9" y="415"/>
                    </a:lnTo>
                    <a:lnTo>
                      <a:pt x="171" y="423"/>
                    </a:lnTo>
                    <a:lnTo>
                      <a:pt x="185" y="431"/>
                    </a:lnTo>
                    <a:lnTo>
                      <a:pt x="199" y="437"/>
                    </a:lnTo>
                    <a:lnTo>
                      <a:pt x="213" y="441"/>
                    </a:lnTo>
                    <a:lnTo>
                      <a:pt x="230" y="443"/>
                    </a:lnTo>
                    <a:lnTo>
                      <a:pt x="246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6" y="430"/>
                    </a:lnTo>
                    <a:lnTo>
                      <a:pt x="335" y="418"/>
                    </a:lnTo>
                    <a:lnTo>
                      <a:pt x="351" y="405"/>
                    </a:lnTo>
                    <a:lnTo>
                      <a:pt x="367" y="388"/>
                    </a:lnTo>
                    <a:lnTo>
                      <a:pt x="381" y="368"/>
                    </a:lnTo>
                    <a:lnTo>
                      <a:pt x="395" y="348"/>
                    </a:lnTo>
                    <a:lnTo>
                      <a:pt x="475" y="394"/>
                    </a:lnTo>
                    <a:lnTo>
                      <a:pt x="457" y="424"/>
                    </a:lnTo>
                    <a:lnTo>
                      <a:pt x="434" y="451"/>
                    </a:lnTo>
                    <a:lnTo>
                      <a:pt x="407" y="474"/>
                    </a:lnTo>
                    <a:lnTo>
                      <a:pt x="379" y="494"/>
                    </a:lnTo>
                    <a:lnTo>
                      <a:pt x="348" y="509"/>
                    </a:lnTo>
                    <a:lnTo>
                      <a:pt x="315" y="520"/>
                    </a:lnTo>
                    <a:lnTo>
                      <a:pt x="281" y="528"/>
                    </a:lnTo>
                    <a:lnTo>
                      <a:pt x="245" y="530"/>
                    </a:lnTo>
                    <a:lnTo>
                      <a:pt x="218" y="528"/>
                    </a:lnTo>
                    <a:lnTo>
                      <a:pt x="191" y="524"/>
                    </a:lnTo>
                    <a:lnTo>
                      <a:pt x="166" y="518"/>
                    </a:lnTo>
                    <a:lnTo>
                      <a:pt x="143" y="509"/>
                    </a:lnTo>
                    <a:lnTo>
                      <a:pt x="121" y="498"/>
                    </a:lnTo>
                    <a:lnTo>
                      <a:pt x="101" y="485"/>
                    </a:lnTo>
                    <a:lnTo>
                      <a:pt x="83" y="471"/>
                    </a:lnTo>
                    <a:lnTo>
                      <a:pt x="66" y="454"/>
                    </a:lnTo>
                    <a:lnTo>
                      <a:pt x="51" y="435"/>
                    </a:lnTo>
                    <a:lnTo>
                      <a:pt x="38" y="416"/>
                    </a:lnTo>
                    <a:lnTo>
                      <a:pt x="27" y="394"/>
                    </a:lnTo>
                    <a:lnTo>
                      <a:pt x="18" y="371"/>
                    </a:lnTo>
                    <a:lnTo>
                      <a:pt x="10" y="346"/>
                    </a:lnTo>
                    <a:lnTo>
                      <a:pt x="5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5" y="213"/>
                    </a:lnTo>
                    <a:lnTo>
                      <a:pt x="9" y="186"/>
                    </a:lnTo>
                    <a:lnTo>
                      <a:pt x="16" y="161"/>
                    </a:lnTo>
                    <a:lnTo>
                      <a:pt x="24" y="138"/>
                    </a:lnTo>
                    <a:lnTo>
                      <a:pt x="35" y="116"/>
                    </a:lnTo>
                    <a:lnTo>
                      <a:pt x="48" y="95"/>
                    </a:lnTo>
                    <a:lnTo>
                      <a:pt x="62" y="76"/>
                    </a:lnTo>
                    <a:lnTo>
                      <a:pt x="78" y="60"/>
                    </a:lnTo>
                    <a:lnTo>
                      <a:pt x="96" y="45"/>
                    </a:lnTo>
                    <a:lnTo>
                      <a:pt x="116" y="31"/>
                    </a:lnTo>
                    <a:lnTo>
                      <a:pt x="137" y="20"/>
                    </a:lnTo>
                    <a:lnTo>
                      <a:pt x="162" y="12"/>
                    </a:lnTo>
                    <a:lnTo>
                      <a:pt x="187" y="5"/>
                    </a:lnTo>
                    <a:lnTo>
                      <a:pt x="214" y="2"/>
                    </a:lnTo>
                    <a:lnTo>
                      <a:pt x="243" y="0"/>
                    </a:lnTo>
                    <a:lnTo>
                      <a:pt x="271" y="2"/>
                    </a:lnTo>
                    <a:lnTo>
                      <a:pt x="299" y="5"/>
                    </a:lnTo>
                    <a:lnTo>
                      <a:pt x="323" y="12"/>
                    </a:lnTo>
                    <a:lnTo>
                      <a:pt x="346" y="20"/>
                    </a:lnTo>
                    <a:lnTo>
                      <a:pt x="367" y="31"/>
                    </a:lnTo>
                    <a:lnTo>
                      <a:pt x="386" y="45"/>
                    </a:lnTo>
                    <a:lnTo>
                      <a:pt x="403" y="60"/>
                    </a:lnTo>
                    <a:lnTo>
                      <a:pt x="418" y="76"/>
                    </a:lnTo>
                    <a:lnTo>
                      <a:pt x="432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1" y="161"/>
                    </a:lnTo>
                    <a:lnTo>
                      <a:pt x="468" y="185"/>
                    </a:lnTo>
                    <a:lnTo>
                      <a:pt x="472" y="210"/>
                    </a:lnTo>
                    <a:lnTo>
                      <a:pt x="475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7" y="280"/>
                    </a:lnTo>
                    <a:close/>
                    <a:moveTo>
                      <a:pt x="380" y="207"/>
                    </a:moveTo>
                    <a:lnTo>
                      <a:pt x="374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6" y="117"/>
                    </a:lnTo>
                    <a:lnTo>
                      <a:pt x="317" y="103"/>
                    </a:lnTo>
                    <a:lnTo>
                      <a:pt x="295" y="92"/>
                    </a:lnTo>
                    <a:lnTo>
                      <a:pt x="270" y="85"/>
                    </a:lnTo>
                    <a:lnTo>
                      <a:pt x="243" y="83"/>
                    </a:lnTo>
                    <a:lnTo>
                      <a:pt x="216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2" y="137"/>
                    </a:lnTo>
                    <a:lnTo>
                      <a:pt x="119" y="158"/>
                    </a:lnTo>
                    <a:lnTo>
                      <a:pt x="108" y="182"/>
                    </a:lnTo>
                    <a:lnTo>
                      <a:pt x="101" y="207"/>
                    </a:lnTo>
                    <a:lnTo>
                      <a:pt x="380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225080" y="882720"/>
                <a:ext cx="77760" cy="101520"/>
              </a:xfrm>
              <a:custGeom>
                <a:avLst/>
                <a:gdLst/>
                <a:ahLst/>
                <a:rect l="l" t="t" r="r" b="b"/>
                <a:pathLst>
                  <a:path w="404" h="530">
                    <a:moveTo>
                      <a:pt x="404" y="157"/>
                    </a:moveTo>
                    <a:lnTo>
                      <a:pt x="389" y="141"/>
                    </a:lnTo>
                    <a:lnTo>
                      <a:pt x="373" y="127"/>
                    </a:lnTo>
                    <a:lnTo>
                      <a:pt x="358" y="116"/>
                    </a:lnTo>
                    <a:lnTo>
                      <a:pt x="340" y="106"/>
                    </a:lnTo>
                    <a:lnTo>
                      <a:pt x="321" y="99"/>
                    </a:lnTo>
                    <a:lnTo>
                      <a:pt x="303" y="94"/>
                    </a:lnTo>
                    <a:lnTo>
                      <a:pt x="283" y="91"/>
                    </a:lnTo>
                    <a:lnTo>
                      <a:pt x="261" y="90"/>
                    </a:lnTo>
                    <a:lnTo>
                      <a:pt x="245" y="91"/>
                    </a:lnTo>
                    <a:lnTo>
                      <a:pt x="227" y="93"/>
                    </a:lnTo>
                    <a:lnTo>
                      <a:pt x="212" y="97"/>
                    </a:lnTo>
                    <a:lnTo>
                      <a:pt x="196" y="104"/>
                    </a:lnTo>
                    <a:lnTo>
                      <a:pt x="182" y="112"/>
                    </a:lnTo>
                    <a:lnTo>
                      <a:pt x="168" y="120"/>
                    </a:lnTo>
                    <a:lnTo>
                      <a:pt x="156" y="130"/>
                    </a:lnTo>
                    <a:lnTo>
                      <a:pt x="144" y="142"/>
                    </a:lnTo>
                    <a:lnTo>
                      <a:pt x="133" y="154"/>
                    </a:lnTo>
                    <a:lnTo>
                      <a:pt x="124" y="169"/>
                    </a:lnTo>
                    <a:lnTo>
                      <a:pt x="115" y="183"/>
                    </a:lnTo>
                    <a:lnTo>
                      <a:pt x="109" y="198"/>
                    </a:lnTo>
                    <a:lnTo>
                      <a:pt x="103" y="214"/>
                    </a:lnTo>
                    <a:lnTo>
                      <a:pt x="99" y="230"/>
                    </a:lnTo>
                    <a:lnTo>
                      <a:pt x="97" y="247"/>
                    </a:lnTo>
                    <a:lnTo>
                      <a:pt x="96" y="264"/>
                    </a:lnTo>
                    <a:lnTo>
                      <a:pt x="97" y="283"/>
                    </a:lnTo>
                    <a:lnTo>
                      <a:pt x="99" y="300"/>
                    </a:lnTo>
                    <a:lnTo>
                      <a:pt x="103" y="318"/>
                    </a:lnTo>
                    <a:lnTo>
                      <a:pt x="109" y="334"/>
                    </a:lnTo>
                    <a:lnTo>
                      <a:pt x="115" y="350"/>
                    </a:lnTo>
                    <a:lnTo>
                      <a:pt x="124" y="364"/>
                    </a:lnTo>
                    <a:lnTo>
                      <a:pt x="133" y="378"/>
                    </a:lnTo>
                    <a:lnTo>
                      <a:pt x="144" y="390"/>
                    </a:lnTo>
                    <a:lnTo>
                      <a:pt x="156" y="401"/>
                    </a:lnTo>
                    <a:lnTo>
                      <a:pt x="169" y="411"/>
                    </a:lnTo>
                    <a:lnTo>
                      <a:pt x="183" y="420"/>
                    </a:lnTo>
                    <a:lnTo>
                      <a:pt x="199" y="427"/>
                    </a:lnTo>
                    <a:lnTo>
                      <a:pt x="215" y="432"/>
                    </a:lnTo>
                    <a:lnTo>
                      <a:pt x="232" y="437"/>
                    </a:lnTo>
                    <a:lnTo>
                      <a:pt x="249" y="439"/>
                    </a:lnTo>
                    <a:lnTo>
                      <a:pt x="268" y="440"/>
                    </a:lnTo>
                    <a:lnTo>
                      <a:pt x="289" y="439"/>
                    </a:lnTo>
                    <a:lnTo>
                      <a:pt x="307" y="435"/>
                    </a:lnTo>
                    <a:lnTo>
                      <a:pt x="326" y="430"/>
                    </a:lnTo>
                    <a:lnTo>
                      <a:pt x="343" y="422"/>
                    </a:lnTo>
                    <a:lnTo>
                      <a:pt x="360" y="412"/>
                    </a:lnTo>
                    <a:lnTo>
                      <a:pt x="375" y="401"/>
                    </a:lnTo>
                    <a:lnTo>
                      <a:pt x="389" y="388"/>
                    </a:lnTo>
                    <a:lnTo>
                      <a:pt x="404" y="374"/>
                    </a:lnTo>
                    <a:lnTo>
                      <a:pt x="404" y="497"/>
                    </a:lnTo>
                    <a:lnTo>
                      <a:pt x="371" y="511"/>
                    </a:lnTo>
                    <a:lnTo>
                      <a:pt x="338" y="522"/>
                    </a:lnTo>
                    <a:lnTo>
                      <a:pt x="303" y="528"/>
                    </a:lnTo>
                    <a:lnTo>
                      <a:pt x="267" y="530"/>
                    </a:lnTo>
                    <a:lnTo>
                      <a:pt x="239" y="528"/>
                    </a:lnTo>
                    <a:lnTo>
                      <a:pt x="213" y="524"/>
                    </a:lnTo>
                    <a:lnTo>
                      <a:pt x="188" y="518"/>
                    </a:lnTo>
                    <a:lnTo>
                      <a:pt x="164" y="509"/>
                    </a:lnTo>
                    <a:lnTo>
                      <a:pt x="140" y="499"/>
                    </a:lnTo>
                    <a:lnTo>
                      <a:pt x="119" y="486"/>
                    </a:lnTo>
                    <a:lnTo>
                      <a:pt x="98" y="472"/>
                    </a:lnTo>
                    <a:lnTo>
                      <a:pt x="79" y="454"/>
                    </a:lnTo>
                    <a:lnTo>
                      <a:pt x="62" y="437"/>
                    </a:lnTo>
                    <a:lnTo>
                      <a:pt x="46" y="416"/>
                    </a:lnTo>
                    <a:lnTo>
                      <a:pt x="33" y="395"/>
                    </a:lnTo>
                    <a:lnTo>
                      <a:pt x="21" y="372"/>
                    </a:lnTo>
                    <a:lnTo>
                      <a:pt x="12" y="348"/>
                    </a:lnTo>
                    <a:lnTo>
                      <a:pt x="6" y="322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6" y="213"/>
                    </a:lnTo>
                    <a:lnTo>
                      <a:pt x="12" y="186"/>
                    </a:lnTo>
                    <a:lnTo>
                      <a:pt x="21" y="161"/>
                    </a:lnTo>
                    <a:lnTo>
                      <a:pt x="33" y="138"/>
                    </a:lnTo>
                    <a:lnTo>
                      <a:pt x="46" y="115"/>
                    </a:lnTo>
                    <a:lnTo>
                      <a:pt x="62" y="95"/>
                    </a:lnTo>
                    <a:lnTo>
                      <a:pt x="79" y="76"/>
                    </a:lnTo>
                    <a:lnTo>
                      <a:pt x="98" y="59"/>
                    </a:lnTo>
                    <a:lnTo>
                      <a:pt x="119" y="45"/>
                    </a:lnTo>
                    <a:lnTo>
                      <a:pt x="142" y="31"/>
                    </a:lnTo>
                    <a:lnTo>
                      <a:pt x="165" y="20"/>
                    </a:lnTo>
                    <a:lnTo>
                      <a:pt x="190" y="12"/>
                    </a:lnTo>
                    <a:lnTo>
                      <a:pt x="216" y="5"/>
                    </a:lnTo>
                    <a:lnTo>
                      <a:pt x="244" y="2"/>
                    </a:lnTo>
                    <a:lnTo>
                      <a:pt x="272" y="0"/>
                    </a:lnTo>
                    <a:lnTo>
                      <a:pt x="306" y="2"/>
                    </a:lnTo>
                    <a:lnTo>
                      <a:pt x="340" y="8"/>
                    </a:lnTo>
                    <a:lnTo>
                      <a:pt x="373" y="18"/>
                    </a:lnTo>
                    <a:lnTo>
                      <a:pt x="404" y="32"/>
                    </a:lnTo>
                    <a:lnTo>
                      <a:pt x="404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314000" y="882720"/>
                <a:ext cx="102960" cy="101520"/>
              </a:xfrm>
              <a:custGeom>
                <a:avLst/>
                <a:gdLst/>
                <a:ahLst/>
                <a:rect l="l" t="t" r="r" b="b"/>
                <a:pathLst>
                  <a:path w="532" h="530">
                    <a:moveTo>
                      <a:pt x="532" y="264"/>
                    </a:moveTo>
                    <a:lnTo>
                      <a:pt x="530" y="293"/>
                    </a:lnTo>
                    <a:lnTo>
                      <a:pt x="527" y="319"/>
                    </a:lnTo>
                    <a:lnTo>
                      <a:pt x="520" y="344"/>
                    </a:lnTo>
                    <a:lnTo>
                      <a:pt x="511" y="370"/>
                    </a:lnTo>
                    <a:lnTo>
                      <a:pt x="501" y="393"/>
                    </a:lnTo>
                    <a:lnTo>
                      <a:pt x="487" y="415"/>
                    </a:lnTo>
                    <a:lnTo>
                      <a:pt x="472" y="434"/>
                    </a:lnTo>
                    <a:lnTo>
                      <a:pt x="454" y="453"/>
                    </a:lnTo>
                    <a:lnTo>
                      <a:pt x="436" y="471"/>
                    </a:lnTo>
                    <a:lnTo>
                      <a:pt x="416" y="485"/>
                    </a:lnTo>
                    <a:lnTo>
                      <a:pt x="394" y="498"/>
                    </a:lnTo>
                    <a:lnTo>
                      <a:pt x="370" y="509"/>
                    </a:lnTo>
                    <a:lnTo>
                      <a:pt x="346" y="518"/>
                    </a:lnTo>
                    <a:lnTo>
                      <a:pt x="321" y="524"/>
                    </a:lnTo>
                    <a:lnTo>
                      <a:pt x="293" y="528"/>
                    </a:lnTo>
                    <a:lnTo>
                      <a:pt x="266" y="530"/>
                    </a:lnTo>
                    <a:lnTo>
                      <a:pt x="238" y="528"/>
                    </a:lnTo>
                    <a:lnTo>
                      <a:pt x="212" y="524"/>
                    </a:lnTo>
                    <a:lnTo>
                      <a:pt x="187" y="518"/>
                    </a:lnTo>
                    <a:lnTo>
                      <a:pt x="162" y="509"/>
                    </a:lnTo>
                    <a:lnTo>
                      <a:pt x="139" y="498"/>
                    </a:lnTo>
                    <a:lnTo>
                      <a:pt x="117" y="485"/>
                    </a:lnTo>
                    <a:lnTo>
                      <a:pt x="97" y="471"/>
                    </a:lnTo>
                    <a:lnTo>
                      <a:pt x="78" y="453"/>
                    </a:lnTo>
                    <a:lnTo>
                      <a:pt x="61" y="434"/>
                    </a:lnTo>
                    <a:lnTo>
                      <a:pt x="45" y="415"/>
                    </a:lnTo>
                    <a:lnTo>
                      <a:pt x="32" y="393"/>
                    </a:lnTo>
                    <a:lnTo>
                      <a:pt x="21" y="370"/>
                    </a:lnTo>
                    <a:lnTo>
                      <a:pt x="12" y="344"/>
                    </a:lnTo>
                    <a:lnTo>
                      <a:pt x="6" y="319"/>
                    </a:lnTo>
                    <a:lnTo>
                      <a:pt x="3" y="293"/>
                    </a:lnTo>
                    <a:lnTo>
                      <a:pt x="0" y="264"/>
                    </a:lnTo>
                    <a:lnTo>
                      <a:pt x="3" y="237"/>
                    </a:lnTo>
                    <a:lnTo>
                      <a:pt x="6" y="210"/>
                    </a:lnTo>
                    <a:lnTo>
                      <a:pt x="12" y="185"/>
                    </a:lnTo>
                    <a:lnTo>
                      <a:pt x="21" y="160"/>
                    </a:lnTo>
                    <a:lnTo>
                      <a:pt x="32" y="137"/>
                    </a:lnTo>
                    <a:lnTo>
                      <a:pt x="45" y="115"/>
                    </a:lnTo>
                    <a:lnTo>
                      <a:pt x="61" y="95"/>
                    </a:lnTo>
                    <a:lnTo>
                      <a:pt x="78" y="76"/>
                    </a:lnTo>
                    <a:lnTo>
                      <a:pt x="97" y="59"/>
                    </a:lnTo>
                    <a:lnTo>
                      <a:pt x="117" y="45"/>
                    </a:lnTo>
                    <a:lnTo>
                      <a:pt x="139" y="31"/>
                    </a:lnTo>
                    <a:lnTo>
                      <a:pt x="162" y="20"/>
                    </a:lnTo>
                    <a:lnTo>
                      <a:pt x="187" y="12"/>
                    </a:lnTo>
                    <a:lnTo>
                      <a:pt x="212" y="5"/>
                    </a:lnTo>
                    <a:lnTo>
                      <a:pt x="238" y="2"/>
                    </a:lnTo>
                    <a:lnTo>
                      <a:pt x="266" y="0"/>
                    </a:lnTo>
                    <a:lnTo>
                      <a:pt x="293" y="2"/>
                    </a:lnTo>
                    <a:lnTo>
                      <a:pt x="321" y="5"/>
                    </a:lnTo>
                    <a:lnTo>
                      <a:pt x="346" y="12"/>
                    </a:lnTo>
                    <a:lnTo>
                      <a:pt x="370" y="20"/>
                    </a:lnTo>
                    <a:lnTo>
                      <a:pt x="394" y="31"/>
                    </a:lnTo>
                    <a:lnTo>
                      <a:pt x="416" y="45"/>
                    </a:lnTo>
                    <a:lnTo>
                      <a:pt x="436" y="59"/>
                    </a:lnTo>
                    <a:lnTo>
                      <a:pt x="454" y="76"/>
                    </a:lnTo>
                    <a:lnTo>
                      <a:pt x="472" y="95"/>
                    </a:lnTo>
                    <a:lnTo>
                      <a:pt x="487" y="115"/>
                    </a:lnTo>
                    <a:lnTo>
                      <a:pt x="501" y="137"/>
                    </a:lnTo>
                    <a:lnTo>
                      <a:pt x="511" y="160"/>
                    </a:lnTo>
                    <a:lnTo>
                      <a:pt x="520" y="185"/>
                    </a:lnTo>
                    <a:lnTo>
                      <a:pt x="527" y="210"/>
                    </a:lnTo>
                    <a:lnTo>
                      <a:pt x="530" y="237"/>
                    </a:lnTo>
                    <a:lnTo>
                      <a:pt x="532" y="264"/>
                    </a:lnTo>
                    <a:close/>
                    <a:moveTo>
                      <a:pt x="96" y="264"/>
                    </a:moveTo>
                    <a:lnTo>
                      <a:pt x="97" y="282"/>
                    </a:lnTo>
                    <a:lnTo>
                      <a:pt x="100" y="299"/>
                    </a:lnTo>
                    <a:lnTo>
                      <a:pt x="103" y="316"/>
                    </a:lnTo>
                    <a:lnTo>
                      <a:pt x="110" y="331"/>
                    </a:lnTo>
                    <a:lnTo>
                      <a:pt x="117" y="346"/>
                    </a:lnTo>
                    <a:lnTo>
                      <a:pt x="125" y="361"/>
                    </a:lnTo>
                    <a:lnTo>
                      <a:pt x="135" y="374"/>
                    </a:lnTo>
                    <a:lnTo>
                      <a:pt x="146" y="386"/>
                    </a:lnTo>
                    <a:lnTo>
                      <a:pt x="158" y="398"/>
                    </a:lnTo>
                    <a:lnTo>
                      <a:pt x="171" y="408"/>
                    </a:lnTo>
                    <a:lnTo>
                      <a:pt x="185" y="417"/>
                    </a:lnTo>
                    <a:lnTo>
                      <a:pt x="200" y="424"/>
                    </a:lnTo>
                    <a:lnTo>
                      <a:pt x="215" y="430"/>
                    </a:lnTo>
                    <a:lnTo>
                      <a:pt x="232" y="434"/>
                    </a:lnTo>
                    <a:lnTo>
                      <a:pt x="248" y="437"/>
                    </a:lnTo>
                    <a:lnTo>
                      <a:pt x="266" y="438"/>
                    </a:lnTo>
                    <a:lnTo>
                      <a:pt x="283" y="437"/>
                    </a:lnTo>
                    <a:lnTo>
                      <a:pt x="301" y="434"/>
                    </a:lnTo>
                    <a:lnTo>
                      <a:pt x="317" y="430"/>
                    </a:lnTo>
                    <a:lnTo>
                      <a:pt x="333" y="424"/>
                    </a:lnTo>
                    <a:lnTo>
                      <a:pt x="348" y="417"/>
                    </a:lnTo>
                    <a:lnTo>
                      <a:pt x="361" y="408"/>
                    </a:lnTo>
                    <a:lnTo>
                      <a:pt x="374" y="398"/>
                    </a:lnTo>
                    <a:lnTo>
                      <a:pt x="386" y="386"/>
                    </a:lnTo>
                    <a:lnTo>
                      <a:pt x="397" y="374"/>
                    </a:lnTo>
                    <a:lnTo>
                      <a:pt x="407" y="361"/>
                    </a:lnTo>
                    <a:lnTo>
                      <a:pt x="416" y="346"/>
                    </a:lnTo>
                    <a:lnTo>
                      <a:pt x="423" y="331"/>
                    </a:lnTo>
                    <a:lnTo>
                      <a:pt x="428" y="316"/>
                    </a:lnTo>
                    <a:lnTo>
                      <a:pt x="433" y="299"/>
                    </a:lnTo>
                    <a:lnTo>
                      <a:pt x="436" y="282"/>
                    </a:lnTo>
                    <a:lnTo>
                      <a:pt x="436" y="264"/>
                    </a:lnTo>
                    <a:lnTo>
                      <a:pt x="436" y="248"/>
                    </a:lnTo>
                    <a:lnTo>
                      <a:pt x="433" y="230"/>
                    </a:lnTo>
                    <a:lnTo>
                      <a:pt x="428" y="214"/>
                    </a:lnTo>
                    <a:lnTo>
                      <a:pt x="423" y="197"/>
                    </a:lnTo>
                    <a:lnTo>
                      <a:pt x="416" y="183"/>
                    </a:lnTo>
                    <a:lnTo>
                      <a:pt x="407" y="169"/>
                    </a:lnTo>
                    <a:lnTo>
                      <a:pt x="397" y="154"/>
                    </a:lnTo>
                    <a:lnTo>
                      <a:pt x="386" y="142"/>
                    </a:lnTo>
                    <a:lnTo>
                      <a:pt x="374" y="131"/>
                    </a:lnTo>
                    <a:lnTo>
                      <a:pt x="361" y="121"/>
                    </a:lnTo>
                    <a:lnTo>
                      <a:pt x="348" y="113"/>
                    </a:lnTo>
                    <a:lnTo>
                      <a:pt x="333" y="105"/>
                    </a:lnTo>
                    <a:lnTo>
                      <a:pt x="317" y="99"/>
                    </a:lnTo>
                    <a:lnTo>
                      <a:pt x="301" y="95"/>
                    </a:lnTo>
                    <a:lnTo>
                      <a:pt x="283" y="92"/>
                    </a:lnTo>
                    <a:lnTo>
                      <a:pt x="266" y="92"/>
                    </a:lnTo>
                    <a:lnTo>
                      <a:pt x="248" y="92"/>
                    </a:lnTo>
                    <a:lnTo>
                      <a:pt x="232" y="95"/>
                    </a:lnTo>
                    <a:lnTo>
                      <a:pt x="215" y="99"/>
                    </a:lnTo>
                    <a:lnTo>
                      <a:pt x="200" y="105"/>
                    </a:lnTo>
                    <a:lnTo>
                      <a:pt x="185" y="113"/>
                    </a:lnTo>
                    <a:lnTo>
                      <a:pt x="171" y="121"/>
                    </a:lnTo>
                    <a:lnTo>
                      <a:pt x="158" y="131"/>
                    </a:lnTo>
                    <a:lnTo>
                      <a:pt x="146" y="142"/>
                    </a:lnTo>
                    <a:lnTo>
                      <a:pt x="135" y="154"/>
                    </a:lnTo>
                    <a:lnTo>
                      <a:pt x="125" y="169"/>
                    </a:lnTo>
                    <a:lnTo>
                      <a:pt x="117" y="183"/>
                    </a:lnTo>
                    <a:lnTo>
                      <a:pt x="110" y="197"/>
                    </a:lnTo>
                    <a:lnTo>
                      <a:pt x="103" y="214"/>
                    </a:lnTo>
                    <a:lnTo>
                      <a:pt x="100" y="230"/>
                    </a:lnTo>
                    <a:lnTo>
                      <a:pt x="97" y="248"/>
                    </a:lnTo>
                    <a:lnTo>
                      <a:pt x="96" y="2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430280" y="882720"/>
                <a:ext cx="133200" cy="98280"/>
              </a:xfrm>
              <a:custGeom>
                <a:avLst/>
                <a:gdLst/>
                <a:ahLst/>
                <a:rect l="l" t="t" r="r" b="b"/>
                <a:pathLst>
                  <a:path w="690" h="512">
                    <a:moveTo>
                      <a:pt x="96" y="77"/>
                    </a:moveTo>
                    <a:lnTo>
                      <a:pt x="98" y="77"/>
                    </a:lnTo>
                    <a:lnTo>
                      <a:pt x="109" y="62"/>
                    </a:lnTo>
                    <a:lnTo>
                      <a:pt x="122" y="47"/>
                    </a:lnTo>
                    <a:lnTo>
                      <a:pt x="137" y="34"/>
                    </a:lnTo>
                    <a:lnTo>
                      <a:pt x="154" y="23"/>
                    </a:lnTo>
                    <a:lnTo>
                      <a:pt x="171" y="13"/>
                    </a:lnTo>
                    <a:lnTo>
                      <a:pt x="190" y="6"/>
                    </a:lnTo>
                    <a:lnTo>
                      <a:pt x="210" y="2"/>
                    </a:lnTo>
                    <a:lnTo>
                      <a:pt x="229" y="0"/>
                    </a:lnTo>
                    <a:lnTo>
                      <a:pt x="253" y="2"/>
                    </a:lnTo>
                    <a:lnTo>
                      <a:pt x="274" y="6"/>
                    </a:lnTo>
                    <a:lnTo>
                      <a:pt x="295" y="13"/>
                    </a:lnTo>
                    <a:lnTo>
                      <a:pt x="314" y="24"/>
                    </a:lnTo>
                    <a:lnTo>
                      <a:pt x="330" y="36"/>
                    </a:lnTo>
                    <a:lnTo>
                      <a:pt x="346" y="51"/>
                    </a:lnTo>
                    <a:lnTo>
                      <a:pt x="360" y="69"/>
                    </a:lnTo>
                    <a:lnTo>
                      <a:pt x="373" y="88"/>
                    </a:lnTo>
                    <a:lnTo>
                      <a:pt x="385" y="69"/>
                    </a:lnTo>
                    <a:lnTo>
                      <a:pt x="401" y="52"/>
                    </a:lnTo>
                    <a:lnTo>
                      <a:pt x="418" y="37"/>
                    </a:lnTo>
                    <a:lnTo>
                      <a:pt x="438" y="24"/>
                    </a:lnTo>
                    <a:lnTo>
                      <a:pt x="458" y="14"/>
                    </a:lnTo>
                    <a:lnTo>
                      <a:pt x="480" y="6"/>
                    </a:lnTo>
                    <a:lnTo>
                      <a:pt x="503" y="2"/>
                    </a:lnTo>
                    <a:lnTo>
                      <a:pt x="526" y="0"/>
                    </a:lnTo>
                    <a:lnTo>
                      <a:pt x="550" y="1"/>
                    </a:lnTo>
                    <a:lnTo>
                      <a:pt x="571" y="5"/>
                    </a:lnTo>
                    <a:lnTo>
                      <a:pt x="589" y="11"/>
                    </a:lnTo>
                    <a:lnTo>
                      <a:pt x="607" y="17"/>
                    </a:lnTo>
                    <a:lnTo>
                      <a:pt x="622" y="27"/>
                    </a:lnTo>
                    <a:lnTo>
                      <a:pt x="635" y="38"/>
                    </a:lnTo>
                    <a:lnTo>
                      <a:pt x="647" y="51"/>
                    </a:lnTo>
                    <a:lnTo>
                      <a:pt x="657" y="65"/>
                    </a:lnTo>
                    <a:lnTo>
                      <a:pt x="666" y="81"/>
                    </a:lnTo>
                    <a:lnTo>
                      <a:pt x="673" y="97"/>
                    </a:lnTo>
                    <a:lnTo>
                      <a:pt x="678" y="115"/>
                    </a:lnTo>
                    <a:lnTo>
                      <a:pt x="684" y="133"/>
                    </a:lnTo>
                    <a:lnTo>
                      <a:pt x="689" y="173"/>
                    </a:lnTo>
                    <a:lnTo>
                      <a:pt x="690" y="215"/>
                    </a:lnTo>
                    <a:lnTo>
                      <a:pt x="690" y="512"/>
                    </a:lnTo>
                    <a:lnTo>
                      <a:pt x="595" y="512"/>
                    </a:lnTo>
                    <a:lnTo>
                      <a:pt x="595" y="230"/>
                    </a:lnTo>
                    <a:lnTo>
                      <a:pt x="595" y="206"/>
                    </a:lnTo>
                    <a:lnTo>
                      <a:pt x="593" y="181"/>
                    </a:lnTo>
                    <a:lnTo>
                      <a:pt x="588" y="157"/>
                    </a:lnTo>
                    <a:lnTo>
                      <a:pt x="580" y="133"/>
                    </a:lnTo>
                    <a:lnTo>
                      <a:pt x="568" y="114"/>
                    </a:lnTo>
                    <a:lnTo>
                      <a:pt x="561" y="106"/>
                    </a:lnTo>
                    <a:lnTo>
                      <a:pt x="552" y="98"/>
                    </a:lnTo>
                    <a:lnTo>
                      <a:pt x="542" y="93"/>
                    </a:lnTo>
                    <a:lnTo>
                      <a:pt x="531" y="88"/>
                    </a:lnTo>
                    <a:lnTo>
                      <a:pt x="517" y="86"/>
                    </a:lnTo>
                    <a:lnTo>
                      <a:pt x="503" y="85"/>
                    </a:lnTo>
                    <a:lnTo>
                      <a:pt x="484" y="86"/>
                    </a:lnTo>
                    <a:lnTo>
                      <a:pt x="469" y="90"/>
                    </a:lnTo>
                    <a:lnTo>
                      <a:pt x="454" y="95"/>
                    </a:lnTo>
                    <a:lnTo>
                      <a:pt x="442" y="103"/>
                    </a:lnTo>
                    <a:lnTo>
                      <a:pt x="432" y="112"/>
                    </a:lnTo>
                    <a:lnTo>
                      <a:pt x="423" y="123"/>
                    </a:lnTo>
                    <a:lnTo>
                      <a:pt x="416" y="135"/>
                    </a:lnTo>
                    <a:lnTo>
                      <a:pt x="409" y="148"/>
                    </a:lnTo>
                    <a:lnTo>
                      <a:pt x="401" y="176"/>
                    </a:lnTo>
                    <a:lnTo>
                      <a:pt x="396" y="207"/>
                    </a:lnTo>
                    <a:lnTo>
                      <a:pt x="394" y="238"/>
                    </a:lnTo>
                    <a:lnTo>
                      <a:pt x="393" y="267"/>
                    </a:lnTo>
                    <a:lnTo>
                      <a:pt x="393" y="512"/>
                    </a:lnTo>
                    <a:lnTo>
                      <a:pt x="297" y="512"/>
                    </a:lnTo>
                    <a:lnTo>
                      <a:pt x="297" y="249"/>
                    </a:lnTo>
                    <a:lnTo>
                      <a:pt x="297" y="224"/>
                    </a:lnTo>
                    <a:lnTo>
                      <a:pt x="295" y="196"/>
                    </a:lnTo>
                    <a:lnTo>
                      <a:pt x="292" y="169"/>
                    </a:lnTo>
                    <a:lnTo>
                      <a:pt x="285" y="142"/>
                    </a:lnTo>
                    <a:lnTo>
                      <a:pt x="280" y="130"/>
                    </a:lnTo>
                    <a:lnTo>
                      <a:pt x="273" y="119"/>
                    </a:lnTo>
                    <a:lnTo>
                      <a:pt x="267" y="110"/>
                    </a:lnTo>
                    <a:lnTo>
                      <a:pt x="258" y="102"/>
                    </a:lnTo>
                    <a:lnTo>
                      <a:pt x="247" y="95"/>
                    </a:lnTo>
                    <a:lnTo>
                      <a:pt x="235" y="90"/>
                    </a:lnTo>
                    <a:lnTo>
                      <a:pt x="222" y="86"/>
                    </a:lnTo>
                    <a:lnTo>
                      <a:pt x="206" y="85"/>
                    </a:lnTo>
                    <a:lnTo>
                      <a:pt x="188" y="86"/>
                    </a:lnTo>
                    <a:lnTo>
                      <a:pt x="172" y="90"/>
                    </a:lnTo>
                    <a:lnTo>
                      <a:pt x="158" y="95"/>
                    </a:lnTo>
                    <a:lnTo>
                      <a:pt x="146" y="103"/>
                    </a:lnTo>
                    <a:lnTo>
                      <a:pt x="135" y="112"/>
                    </a:lnTo>
                    <a:lnTo>
                      <a:pt x="126" y="123"/>
                    </a:lnTo>
                    <a:lnTo>
                      <a:pt x="119" y="135"/>
                    </a:lnTo>
                    <a:lnTo>
                      <a:pt x="113" y="148"/>
                    </a:lnTo>
                    <a:lnTo>
                      <a:pt x="103" y="176"/>
                    </a:lnTo>
                    <a:lnTo>
                      <a:pt x="99" y="207"/>
                    </a:lnTo>
                    <a:lnTo>
                      <a:pt x="97" y="238"/>
                    </a:lnTo>
                    <a:lnTo>
                      <a:pt x="96" y="267"/>
                    </a:lnTo>
                    <a:lnTo>
                      <a:pt x="96" y="512"/>
                    </a:lnTo>
                    <a:lnTo>
                      <a:pt x="0" y="512"/>
                    </a:lnTo>
                    <a:lnTo>
                      <a:pt x="0" y="15"/>
                    </a:lnTo>
                    <a:lnTo>
                      <a:pt x="96" y="15"/>
                    </a:lnTo>
                    <a:lnTo>
                      <a:pt x="96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04240" y="1022400"/>
                <a:ext cx="9082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a-DK" sz="600" spc="-1" strike="noStrike">
                    <a:solidFill>
                      <a:srgbClr val="ffffff"/>
                    </a:solidFill>
                    <a:latin typeface="Futura Bk BT"/>
                  </a:rPr>
                  <a:t>www.kirktelecom.dk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7" name=""/>
          <p:cNvSpPr/>
          <p:nvPr/>
        </p:nvSpPr>
        <p:spPr>
          <a:xfrm>
            <a:off x="2881440" y="136224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57760" y="311472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2503440" y="2136600"/>
          <a:ext cx="6307200" cy="4416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3440" y="2136600"/>
                    <a:ext cx="630720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2362320" y="765000"/>
            <a:ext cx="7235640" cy="3240"/>
          </a:xfrm>
          <a:prstGeom prst="line">
            <a:avLst/>
          </a:prstGeom>
          <a:ln cap="sq"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03440" y="3222720"/>
            <a:ext cx="239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Handse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PP1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62320" y="770040"/>
            <a:ext cx="723564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ля осуществления измерений необходимо установить трубку в тестовый режим *99981*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ля возврата в нормальный режим нажмите и подержите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34D9-A73C-4B13-B4BF-AB60F4810804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33360" y="76824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Измерения с </a:t>
            </a:r>
            <a:r>
              <a:rPr b="1" lang="da-DK" sz="3600" spc="-1" strike="noStrike" u="sng">
                <a:solidFill>
                  <a:srgbClr val="000000"/>
                </a:solidFill>
                <a:uFillTx/>
                <a:latin typeface="Times New Roman"/>
              </a:rPr>
              <a:t>Z-30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0" y="0"/>
            <a:ext cx="5657760" cy="6858000"/>
            <a:chOff x="0" y="0"/>
            <a:chExt cx="5657760" cy="6858000"/>
          </a:xfrm>
        </p:grpSpPr>
        <p:sp>
          <p:nvSpPr>
            <p:cNvPr id="326" name=""/>
            <p:cNvSpPr/>
            <p:nvPr/>
          </p:nvSpPr>
          <p:spPr>
            <a:xfrm>
              <a:off x="0" y="0"/>
              <a:ext cx="2057400" cy="3429000"/>
            </a:xfrm>
            <a:prstGeom prst="rect">
              <a:avLst/>
            </a:prstGeom>
            <a:solidFill>
              <a:srgbClr val="000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0" y="3429000"/>
              <a:ext cx="2057400" cy="3429000"/>
            </a:xfrm>
            <a:prstGeom prst="rect">
              <a:avLst/>
            </a:pr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47800" y="6324480"/>
              <a:ext cx="3045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53200" y="6324480"/>
              <a:ext cx="304560" cy="228600"/>
            </a:xfrm>
            <a:prstGeom prst="triangle">
              <a:avLst>
                <a:gd name="adj" fmla="val 49995"/>
              </a:avLst>
            </a:prstGeom>
            <a:solidFill>
              <a:srgbClr val="00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0" name="" descr=""/>
            <p:cNvPicPr/>
            <p:nvPr/>
          </p:nvPicPr>
          <p:blipFill>
            <a:blip r:embed="rId1"/>
            <a:stretch/>
          </p:blipFill>
          <p:spPr>
            <a:xfrm>
              <a:off x="185760" y="2055960"/>
              <a:ext cx="1574640" cy="271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1" name=""/>
            <p:cNvGrpSpPr/>
            <p:nvPr/>
          </p:nvGrpSpPr>
          <p:grpSpPr>
            <a:xfrm>
              <a:off x="195120" y="380880"/>
              <a:ext cx="1517400" cy="821880"/>
              <a:chOff x="195120" y="380880"/>
              <a:chExt cx="1517400" cy="821880"/>
            </a:xfrm>
          </p:grpSpPr>
          <p:sp>
            <p:nvSpPr>
              <p:cNvPr id="332" name=""/>
              <p:cNvSpPr/>
              <p:nvPr/>
            </p:nvSpPr>
            <p:spPr>
              <a:xfrm>
                <a:off x="372960" y="380880"/>
                <a:ext cx="313200" cy="387360"/>
              </a:xfrm>
              <a:custGeom>
                <a:avLst/>
                <a:gdLst/>
                <a:ahLst/>
                <a:rect l="l" t="t" r="r" b="b"/>
                <a:pathLst>
                  <a:path w="1606" h="1987">
                    <a:moveTo>
                      <a:pt x="29" y="1655"/>
                    </a:moveTo>
                    <a:lnTo>
                      <a:pt x="79" y="1682"/>
                    </a:lnTo>
                    <a:lnTo>
                      <a:pt x="623" y="1957"/>
                    </a:lnTo>
                    <a:lnTo>
                      <a:pt x="684" y="1987"/>
                    </a:lnTo>
                    <a:lnTo>
                      <a:pt x="687" y="1916"/>
                    </a:lnTo>
                    <a:lnTo>
                      <a:pt x="691" y="1864"/>
                    </a:lnTo>
                    <a:lnTo>
                      <a:pt x="697" y="1814"/>
                    </a:lnTo>
                    <a:lnTo>
                      <a:pt x="704" y="1763"/>
                    </a:lnTo>
                    <a:lnTo>
                      <a:pt x="713" y="1714"/>
                    </a:lnTo>
                    <a:lnTo>
                      <a:pt x="724" y="1665"/>
                    </a:lnTo>
                    <a:lnTo>
                      <a:pt x="737" y="1616"/>
                    </a:lnTo>
                    <a:lnTo>
                      <a:pt x="751" y="1569"/>
                    </a:lnTo>
                    <a:lnTo>
                      <a:pt x="767" y="1522"/>
                    </a:lnTo>
                    <a:lnTo>
                      <a:pt x="784" y="1476"/>
                    </a:lnTo>
                    <a:lnTo>
                      <a:pt x="803" y="1431"/>
                    </a:lnTo>
                    <a:lnTo>
                      <a:pt x="824" y="1386"/>
                    </a:lnTo>
                    <a:lnTo>
                      <a:pt x="846" y="1343"/>
                    </a:lnTo>
                    <a:lnTo>
                      <a:pt x="869" y="1300"/>
                    </a:lnTo>
                    <a:lnTo>
                      <a:pt x="894" y="1257"/>
                    </a:lnTo>
                    <a:lnTo>
                      <a:pt x="920" y="1217"/>
                    </a:lnTo>
                    <a:lnTo>
                      <a:pt x="948" y="1177"/>
                    </a:lnTo>
                    <a:lnTo>
                      <a:pt x="976" y="1137"/>
                    </a:lnTo>
                    <a:lnTo>
                      <a:pt x="1007" y="1100"/>
                    </a:lnTo>
                    <a:lnTo>
                      <a:pt x="1038" y="1063"/>
                    </a:lnTo>
                    <a:lnTo>
                      <a:pt x="1071" y="1027"/>
                    </a:lnTo>
                    <a:lnTo>
                      <a:pt x="1105" y="993"/>
                    </a:lnTo>
                    <a:lnTo>
                      <a:pt x="1140" y="959"/>
                    </a:lnTo>
                    <a:lnTo>
                      <a:pt x="1176" y="927"/>
                    </a:lnTo>
                    <a:lnTo>
                      <a:pt x="1213" y="896"/>
                    </a:lnTo>
                    <a:lnTo>
                      <a:pt x="1250" y="866"/>
                    </a:lnTo>
                    <a:lnTo>
                      <a:pt x="1290" y="838"/>
                    </a:lnTo>
                    <a:lnTo>
                      <a:pt x="1331" y="810"/>
                    </a:lnTo>
                    <a:lnTo>
                      <a:pt x="1372" y="785"/>
                    </a:lnTo>
                    <a:lnTo>
                      <a:pt x="1414" y="760"/>
                    </a:lnTo>
                    <a:lnTo>
                      <a:pt x="1457" y="737"/>
                    </a:lnTo>
                    <a:lnTo>
                      <a:pt x="1501" y="716"/>
                    </a:lnTo>
                    <a:lnTo>
                      <a:pt x="1546" y="696"/>
                    </a:lnTo>
                    <a:lnTo>
                      <a:pt x="1584" y="680"/>
                    </a:lnTo>
                    <a:lnTo>
                      <a:pt x="1594" y="673"/>
                    </a:lnTo>
                    <a:lnTo>
                      <a:pt x="1600" y="665"/>
                    </a:lnTo>
                    <a:lnTo>
                      <a:pt x="1604" y="658"/>
                    </a:lnTo>
                    <a:lnTo>
                      <a:pt x="1606" y="650"/>
                    </a:lnTo>
                    <a:lnTo>
                      <a:pt x="1605" y="638"/>
                    </a:lnTo>
                    <a:lnTo>
                      <a:pt x="1603" y="632"/>
                    </a:lnTo>
                    <a:lnTo>
                      <a:pt x="1586" y="586"/>
                    </a:lnTo>
                    <a:lnTo>
                      <a:pt x="1385" y="31"/>
                    </a:lnTo>
                    <a:lnTo>
                      <a:pt x="1381" y="18"/>
                    </a:lnTo>
                    <a:lnTo>
                      <a:pt x="1380" y="13"/>
                    </a:lnTo>
                    <a:lnTo>
                      <a:pt x="1372" y="5"/>
                    </a:lnTo>
                    <a:lnTo>
                      <a:pt x="1367" y="2"/>
                    </a:lnTo>
                    <a:lnTo>
                      <a:pt x="1359" y="0"/>
                    </a:lnTo>
                    <a:lnTo>
                      <a:pt x="1349" y="0"/>
                    </a:lnTo>
                    <a:lnTo>
                      <a:pt x="1337" y="3"/>
                    </a:lnTo>
                    <a:lnTo>
                      <a:pt x="1307" y="14"/>
                    </a:lnTo>
                    <a:lnTo>
                      <a:pt x="1248" y="37"/>
                    </a:lnTo>
                    <a:lnTo>
                      <a:pt x="1190" y="63"/>
                    </a:lnTo>
                    <a:lnTo>
                      <a:pt x="1133" y="89"/>
                    </a:lnTo>
                    <a:lnTo>
                      <a:pt x="1076" y="119"/>
                    </a:lnTo>
                    <a:lnTo>
                      <a:pt x="1021" y="149"/>
                    </a:lnTo>
                    <a:lnTo>
                      <a:pt x="966" y="181"/>
                    </a:lnTo>
                    <a:lnTo>
                      <a:pt x="913" y="215"/>
                    </a:lnTo>
                    <a:lnTo>
                      <a:pt x="861" y="251"/>
                    </a:lnTo>
                    <a:lnTo>
                      <a:pt x="810" y="289"/>
                    </a:lnTo>
                    <a:lnTo>
                      <a:pt x="759" y="328"/>
                    </a:lnTo>
                    <a:lnTo>
                      <a:pt x="711" y="369"/>
                    </a:lnTo>
                    <a:lnTo>
                      <a:pt x="663" y="411"/>
                    </a:lnTo>
                    <a:lnTo>
                      <a:pt x="616" y="455"/>
                    </a:lnTo>
                    <a:lnTo>
                      <a:pt x="572" y="501"/>
                    </a:lnTo>
                    <a:lnTo>
                      <a:pt x="528" y="547"/>
                    </a:lnTo>
                    <a:lnTo>
                      <a:pt x="485" y="595"/>
                    </a:lnTo>
                    <a:lnTo>
                      <a:pt x="443" y="645"/>
                    </a:lnTo>
                    <a:lnTo>
                      <a:pt x="404" y="695"/>
                    </a:lnTo>
                    <a:lnTo>
                      <a:pt x="365" y="747"/>
                    </a:lnTo>
                    <a:lnTo>
                      <a:pt x="329" y="800"/>
                    </a:lnTo>
                    <a:lnTo>
                      <a:pt x="294" y="854"/>
                    </a:lnTo>
                    <a:lnTo>
                      <a:pt x="260" y="910"/>
                    </a:lnTo>
                    <a:lnTo>
                      <a:pt x="228" y="967"/>
                    </a:lnTo>
                    <a:lnTo>
                      <a:pt x="197" y="1024"/>
                    </a:lnTo>
                    <a:lnTo>
                      <a:pt x="169" y="1084"/>
                    </a:lnTo>
                    <a:lnTo>
                      <a:pt x="142" y="1144"/>
                    </a:lnTo>
                    <a:lnTo>
                      <a:pt x="116" y="1204"/>
                    </a:lnTo>
                    <a:lnTo>
                      <a:pt x="93" y="1266"/>
                    </a:lnTo>
                    <a:lnTo>
                      <a:pt x="71" y="1329"/>
                    </a:lnTo>
                    <a:lnTo>
                      <a:pt x="52" y="1392"/>
                    </a:lnTo>
                    <a:lnTo>
                      <a:pt x="34" y="1457"/>
                    </a:lnTo>
                    <a:lnTo>
                      <a:pt x="18" y="1522"/>
                    </a:lnTo>
                    <a:lnTo>
                      <a:pt x="2" y="1593"/>
                    </a:lnTo>
                    <a:lnTo>
                      <a:pt x="0" y="1610"/>
                    </a:lnTo>
                    <a:lnTo>
                      <a:pt x="1" y="1623"/>
                    </a:lnTo>
                    <a:lnTo>
                      <a:pt x="6" y="1634"/>
                    </a:lnTo>
                    <a:lnTo>
                      <a:pt x="11" y="1643"/>
                    </a:lnTo>
                    <a:lnTo>
                      <a:pt x="17" y="1648"/>
                    </a:lnTo>
                    <a:lnTo>
                      <a:pt x="23" y="1652"/>
                    </a:lnTo>
                    <a:lnTo>
                      <a:pt x="29" y="1655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72960" y="770040"/>
                <a:ext cx="313200" cy="387360"/>
              </a:xfrm>
              <a:custGeom>
                <a:avLst/>
                <a:gdLst/>
                <a:ahLst/>
                <a:rect l="l" t="t" r="r" b="b"/>
                <a:pathLst>
                  <a:path w="1606" h="1985">
                    <a:moveTo>
                      <a:pt x="29" y="333"/>
                    </a:moveTo>
                    <a:lnTo>
                      <a:pt x="79" y="306"/>
                    </a:lnTo>
                    <a:lnTo>
                      <a:pt x="623" y="31"/>
                    </a:lnTo>
                    <a:lnTo>
                      <a:pt x="684" y="0"/>
                    </a:lnTo>
                    <a:lnTo>
                      <a:pt x="687" y="72"/>
                    </a:lnTo>
                    <a:lnTo>
                      <a:pt x="691" y="123"/>
                    </a:lnTo>
                    <a:lnTo>
                      <a:pt x="697" y="174"/>
                    </a:lnTo>
                    <a:lnTo>
                      <a:pt x="704" y="224"/>
                    </a:lnTo>
                    <a:lnTo>
                      <a:pt x="713" y="273"/>
                    </a:lnTo>
                    <a:lnTo>
                      <a:pt x="724" y="323"/>
                    </a:lnTo>
                    <a:lnTo>
                      <a:pt x="737" y="371"/>
                    </a:lnTo>
                    <a:lnTo>
                      <a:pt x="751" y="418"/>
                    </a:lnTo>
                    <a:lnTo>
                      <a:pt x="767" y="465"/>
                    </a:lnTo>
                    <a:lnTo>
                      <a:pt x="784" y="512"/>
                    </a:lnTo>
                    <a:lnTo>
                      <a:pt x="803" y="557"/>
                    </a:lnTo>
                    <a:lnTo>
                      <a:pt x="824" y="602"/>
                    </a:lnTo>
                    <a:lnTo>
                      <a:pt x="846" y="645"/>
                    </a:lnTo>
                    <a:lnTo>
                      <a:pt x="869" y="688"/>
                    </a:lnTo>
                    <a:lnTo>
                      <a:pt x="894" y="730"/>
                    </a:lnTo>
                    <a:lnTo>
                      <a:pt x="920" y="771"/>
                    </a:lnTo>
                    <a:lnTo>
                      <a:pt x="948" y="811"/>
                    </a:lnTo>
                    <a:lnTo>
                      <a:pt x="976" y="850"/>
                    </a:lnTo>
                    <a:lnTo>
                      <a:pt x="1007" y="888"/>
                    </a:lnTo>
                    <a:lnTo>
                      <a:pt x="1038" y="924"/>
                    </a:lnTo>
                    <a:lnTo>
                      <a:pt x="1071" y="961"/>
                    </a:lnTo>
                    <a:lnTo>
                      <a:pt x="1105" y="995"/>
                    </a:lnTo>
                    <a:lnTo>
                      <a:pt x="1140" y="1029"/>
                    </a:lnTo>
                    <a:lnTo>
                      <a:pt x="1176" y="1061"/>
                    </a:lnTo>
                    <a:lnTo>
                      <a:pt x="1213" y="1092"/>
                    </a:lnTo>
                    <a:lnTo>
                      <a:pt x="1252" y="1122"/>
                    </a:lnTo>
                    <a:lnTo>
                      <a:pt x="1290" y="1151"/>
                    </a:lnTo>
                    <a:lnTo>
                      <a:pt x="1331" y="1177"/>
                    </a:lnTo>
                    <a:lnTo>
                      <a:pt x="1372" y="1203"/>
                    </a:lnTo>
                    <a:lnTo>
                      <a:pt x="1414" y="1227"/>
                    </a:lnTo>
                    <a:lnTo>
                      <a:pt x="1457" y="1250"/>
                    </a:lnTo>
                    <a:lnTo>
                      <a:pt x="1501" y="1271"/>
                    </a:lnTo>
                    <a:lnTo>
                      <a:pt x="1546" y="1292"/>
                    </a:lnTo>
                    <a:lnTo>
                      <a:pt x="1584" y="1308"/>
                    </a:lnTo>
                    <a:lnTo>
                      <a:pt x="1594" y="1315"/>
                    </a:lnTo>
                    <a:lnTo>
                      <a:pt x="1600" y="1323"/>
                    </a:lnTo>
                    <a:lnTo>
                      <a:pt x="1605" y="1331"/>
                    </a:lnTo>
                    <a:lnTo>
                      <a:pt x="1606" y="1337"/>
                    </a:lnTo>
                    <a:lnTo>
                      <a:pt x="1605" y="1349"/>
                    </a:lnTo>
                    <a:lnTo>
                      <a:pt x="1603" y="1355"/>
                    </a:lnTo>
                    <a:lnTo>
                      <a:pt x="1586" y="1401"/>
                    </a:lnTo>
                    <a:lnTo>
                      <a:pt x="1388" y="1950"/>
                    </a:lnTo>
                    <a:lnTo>
                      <a:pt x="1381" y="1965"/>
                    </a:lnTo>
                    <a:lnTo>
                      <a:pt x="1379" y="1970"/>
                    </a:lnTo>
                    <a:lnTo>
                      <a:pt x="1371" y="1978"/>
                    </a:lnTo>
                    <a:lnTo>
                      <a:pt x="1366" y="1983"/>
                    </a:lnTo>
                    <a:lnTo>
                      <a:pt x="1358" y="1985"/>
                    </a:lnTo>
                    <a:lnTo>
                      <a:pt x="1348" y="1985"/>
                    </a:lnTo>
                    <a:lnTo>
                      <a:pt x="1338" y="1983"/>
                    </a:lnTo>
                    <a:lnTo>
                      <a:pt x="1302" y="1969"/>
                    </a:lnTo>
                    <a:lnTo>
                      <a:pt x="1242" y="1942"/>
                    </a:lnTo>
                    <a:lnTo>
                      <a:pt x="1181" y="1915"/>
                    </a:lnTo>
                    <a:lnTo>
                      <a:pt x="1123" y="1886"/>
                    </a:lnTo>
                    <a:lnTo>
                      <a:pt x="1066" y="1857"/>
                    </a:lnTo>
                    <a:lnTo>
                      <a:pt x="1009" y="1824"/>
                    </a:lnTo>
                    <a:lnTo>
                      <a:pt x="954" y="1791"/>
                    </a:lnTo>
                    <a:lnTo>
                      <a:pt x="901" y="1756"/>
                    </a:lnTo>
                    <a:lnTo>
                      <a:pt x="848" y="1719"/>
                    </a:lnTo>
                    <a:lnTo>
                      <a:pt x="796" y="1682"/>
                    </a:lnTo>
                    <a:lnTo>
                      <a:pt x="747" y="1642"/>
                    </a:lnTo>
                    <a:lnTo>
                      <a:pt x="698" y="1602"/>
                    </a:lnTo>
                    <a:lnTo>
                      <a:pt x="650" y="1560"/>
                    </a:lnTo>
                    <a:lnTo>
                      <a:pt x="604" y="1517"/>
                    </a:lnTo>
                    <a:lnTo>
                      <a:pt x="559" y="1472"/>
                    </a:lnTo>
                    <a:lnTo>
                      <a:pt x="517" y="1426"/>
                    </a:lnTo>
                    <a:lnTo>
                      <a:pt x="475" y="1379"/>
                    </a:lnTo>
                    <a:lnTo>
                      <a:pt x="434" y="1331"/>
                    </a:lnTo>
                    <a:lnTo>
                      <a:pt x="395" y="1281"/>
                    </a:lnTo>
                    <a:lnTo>
                      <a:pt x="358" y="1230"/>
                    </a:lnTo>
                    <a:lnTo>
                      <a:pt x="323" y="1178"/>
                    </a:lnTo>
                    <a:lnTo>
                      <a:pt x="287" y="1124"/>
                    </a:lnTo>
                    <a:lnTo>
                      <a:pt x="255" y="1070"/>
                    </a:lnTo>
                    <a:lnTo>
                      <a:pt x="224" y="1014"/>
                    </a:lnTo>
                    <a:lnTo>
                      <a:pt x="194" y="957"/>
                    </a:lnTo>
                    <a:lnTo>
                      <a:pt x="166" y="900"/>
                    </a:lnTo>
                    <a:lnTo>
                      <a:pt x="139" y="841"/>
                    </a:lnTo>
                    <a:lnTo>
                      <a:pt x="115" y="781"/>
                    </a:lnTo>
                    <a:lnTo>
                      <a:pt x="92" y="720"/>
                    </a:lnTo>
                    <a:lnTo>
                      <a:pt x="71" y="658"/>
                    </a:lnTo>
                    <a:lnTo>
                      <a:pt x="52" y="595"/>
                    </a:lnTo>
                    <a:lnTo>
                      <a:pt x="34" y="530"/>
                    </a:lnTo>
                    <a:lnTo>
                      <a:pt x="18" y="465"/>
                    </a:lnTo>
                    <a:lnTo>
                      <a:pt x="3" y="394"/>
                    </a:lnTo>
                    <a:lnTo>
                      <a:pt x="0" y="378"/>
                    </a:lnTo>
                    <a:lnTo>
                      <a:pt x="1" y="364"/>
                    </a:lnTo>
                    <a:lnTo>
                      <a:pt x="6" y="353"/>
                    </a:lnTo>
                    <a:lnTo>
                      <a:pt x="11" y="346"/>
                    </a:lnTo>
                    <a:lnTo>
                      <a:pt x="17" y="339"/>
                    </a:lnTo>
                    <a:lnTo>
                      <a:pt x="23" y="336"/>
                    </a:lnTo>
                    <a:lnTo>
                      <a:pt x="29" y="333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16320" y="698400"/>
                <a:ext cx="137880" cy="147600"/>
              </a:xfrm>
              <a:custGeom>
                <a:avLst/>
                <a:gdLst/>
                <a:ahLst/>
                <a:rect l="l" t="t" r="r" b="b"/>
                <a:pathLst>
                  <a:path w="714" h="759">
                    <a:moveTo>
                      <a:pt x="699" y="379"/>
                    </a:moveTo>
                    <a:lnTo>
                      <a:pt x="706" y="375"/>
                    </a:lnTo>
                    <a:lnTo>
                      <a:pt x="710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09" y="351"/>
                    </a:lnTo>
                    <a:lnTo>
                      <a:pt x="705" y="346"/>
                    </a:lnTo>
                    <a:lnTo>
                      <a:pt x="699" y="342"/>
                    </a:lnTo>
                    <a:lnTo>
                      <a:pt x="35" y="4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3" y="11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735"/>
                    </a:lnTo>
                    <a:lnTo>
                      <a:pt x="1" y="743"/>
                    </a:lnTo>
                    <a:lnTo>
                      <a:pt x="3" y="748"/>
                    </a:lnTo>
                    <a:lnTo>
                      <a:pt x="5" y="753"/>
                    </a:lnTo>
                    <a:lnTo>
                      <a:pt x="10" y="757"/>
                    </a:lnTo>
                    <a:lnTo>
                      <a:pt x="15" y="759"/>
                    </a:lnTo>
                    <a:lnTo>
                      <a:pt x="21" y="759"/>
                    </a:lnTo>
                    <a:lnTo>
                      <a:pt x="27" y="758"/>
                    </a:lnTo>
                    <a:lnTo>
                      <a:pt x="34" y="755"/>
                    </a:lnTo>
                    <a:lnTo>
                      <a:pt x="699" y="379"/>
                    </a:lnTo>
                    <a:close/>
                  </a:path>
                </a:pathLst>
              </a:custGeom>
              <a:solidFill>
                <a:srgbClr val="00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95120" y="701640"/>
                <a:ext cx="138240" cy="146160"/>
              </a:xfrm>
              <a:custGeom>
                <a:avLst/>
                <a:gdLst/>
                <a:ahLst/>
                <a:rect l="l" t="t" r="r" b="b"/>
                <a:pathLst>
                  <a:path w="714" h="758">
                    <a:moveTo>
                      <a:pt x="701" y="379"/>
                    </a:moveTo>
                    <a:lnTo>
                      <a:pt x="706" y="374"/>
                    </a:lnTo>
                    <a:lnTo>
                      <a:pt x="711" y="370"/>
                    </a:lnTo>
                    <a:lnTo>
                      <a:pt x="713" y="365"/>
                    </a:lnTo>
                    <a:lnTo>
                      <a:pt x="714" y="360"/>
                    </a:lnTo>
                    <a:lnTo>
                      <a:pt x="713" y="355"/>
                    </a:lnTo>
                    <a:lnTo>
                      <a:pt x="711" y="350"/>
                    </a:lnTo>
                    <a:lnTo>
                      <a:pt x="706" y="346"/>
                    </a:lnTo>
                    <a:lnTo>
                      <a:pt x="700" y="342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0" y="734"/>
                    </a:lnTo>
                    <a:lnTo>
                      <a:pt x="1" y="742"/>
                    </a:lnTo>
                    <a:lnTo>
                      <a:pt x="3" y="749"/>
                    </a:lnTo>
                    <a:lnTo>
                      <a:pt x="7" y="753"/>
                    </a:lnTo>
                    <a:lnTo>
                      <a:pt x="10" y="756"/>
                    </a:lnTo>
                    <a:lnTo>
                      <a:pt x="15" y="758"/>
                    </a:lnTo>
                    <a:lnTo>
                      <a:pt x="21" y="758"/>
                    </a:lnTo>
                    <a:lnTo>
                      <a:pt x="27" y="757"/>
                    </a:lnTo>
                    <a:lnTo>
                      <a:pt x="34" y="754"/>
                    </a:lnTo>
                    <a:lnTo>
                      <a:pt x="701" y="379"/>
                    </a:lnTo>
                    <a:close/>
                  </a:path>
                </a:pathLst>
              </a:custGeom>
              <a:solidFill>
                <a:srgbClr val="0000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934200" y="517680"/>
                <a:ext cx="180720" cy="250560"/>
              </a:xfrm>
              <a:custGeom>
                <a:avLst/>
                <a:gdLst/>
                <a:ahLst/>
                <a:rect l="l" t="t" r="r" b="b"/>
                <a:pathLst>
                  <a:path w="930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30" y="1293"/>
                    </a:lnTo>
                    <a:lnTo>
                      <a:pt x="713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136160" y="517680"/>
                <a:ext cx="31680" cy="25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215360" y="517680"/>
                <a:ext cx="155520" cy="250560"/>
              </a:xfrm>
              <a:custGeom>
                <a:avLst/>
                <a:gdLst/>
                <a:ahLst/>
                <a:rect l="l" t="t" r="r" b="b"/>
                <a:pathLst>
                  <a:path w="803" h="1293">
                    <a:moveTo>
                      <a:pt x="803" y="1293"/>
                    </a:moveTo>
                    <a:lnTo>
                      <a:pt x="607" y="1293"/>
                    </a:lnTo>
                    <a:lnTo>
                      <a:pt x="228" y="746"/>
                    </a:lnTo>
                    <a:lnTo>
                      <a:pt x="161" y="746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283" y="1"/>
                    </a:lnTo>
                    <a:lnTo>
                      <a:pt x="327" y="4"/>
                    </a:lnTo>
                    <a:lnTo>
                      <a:pt x="370" y="8"/>
                    </a:lnTo>
                    <a:lnTo>
                      <a:pt x="413" y="16"/>
                    </a:lnTo>
                    <a:lnTo>
                      <a:pt x="456" y="27"/>
                    </a:lnTo>
                    <a:lnTo>
                      <a:pt x="497" y="41"/>
                    </a:lnTo>
                    <a:lnTo>
                      <a:pt x="536" y="61"/>
                    </a:lnTo>
                    <a:lnTo>
                      <a:pt x="556" y="73"/>
                    </a:lnTo>
                    <a:lnTo>
                      <a:pt x="574" y="87"/>
                    </a:lnTo>
                    <a:lnTo>
                      <a:pt x="592" y="101"/>
                    </a:lnTo>
                    <a:lnTo>
                      <a:pt x="608" y="118"/>
                    </a:lnTo>
                    <a:lnTo>
                      <a:pt x="623" y="135"/>
                    </a:lnTo>
                    <a:lnTo>
                      <a:pt x="637" y="153"/>
                    </a:lnTo>
                    <a:lnTo>
                      <a:pt x="650" y="173"/>
                    </a:lnTo>
                    <a:lnTo>
                      <a:pt x="661" y="192"/>
                    </a:lnTo>
                    <a:lnTo>
                      <a:pt x="671" y="212"/>
                    </a:lnTo>
                    <a:lnTo>
                      <a:pt x="680" y="233"/>
                    </a:lnTo>
                    <a:lnTo>
                      <a:pt x="694" y="277"/>
                    </a:lnTo>
                    <a:lnTo>
                      <a:pt x="700" y="300"/>
                    </a:lnTo>
                    <a:lnTo>
                      <a:pt x="703" y="323"/>
                    </a:lnTo>
                    <a:lnTo>
                      <a:pt x="705" y="346"/>
                    </a:lnTo>
                    <a:lnTo>
                      <a:pt x="705" y="369"/>
                    </a:lnTo>
                    <a:lnTo>
                      <a:pt x="704" y="403"/>
                    </a:lnTo>
                    <a:lnTo>
                      <a:pt x="700" y="436"/>
                    </a:lnTo>
                    <a:lnTo>
                      <a:pt x="693" y="469"/>
                    </a:lnTo>
                    <a:lnTo>
                      <a:pt x="683" y="500"/>
                    </a:lnTo>
                    <a:lnTo>
                      <a:pt x="671" y="531"/>
                    </a:lnTo>
                    <a:lnTo>
                      <a:pt x="657" y="558"/>
                    </a:lnTo>
                    <a:lnTo>
                      <a:pt x="639" y="585"/>
                    </a:lnTo>
                    <a:lnTo>
                      <a:pt x="621" y="611"/>
                    </a:lnTo>
                    <a:lnTo>
                      <a:pt x="599" y="634"/>
                    </a:lnTo>
                    <a:lnTo>
                      <a:pt x="576" y="655"/>
                    </a:lnTo>
                    <a:lnTo>
                      <a:pt x="550" y="673"/>
                    </a:lnTo>
                    <a:lnTo>
                      <a:pt x="523" y="691"/>
                    </a:lnTo>
                    <a:lnTo>
                      <a:pt x="493" y="704"/>
                    </a:lnTo>
                    <a:lnTo>
                      <a:pt x="463" y="716"/>
                    </a:lnTo>
                    <a:lnTo>
                      <a:pt x="430" y="725"/>
                    </a:lnTo>
                    <a:lnTo>
                      <a:pt x="396" y="730"/>
                    </a:lnTo>
                    <a:lnTo>
                      <a:pt x="803" y="1293"/>
                    </a:lnTo>
                    <a:close/>
                    <a:moveTo>
                      <a:pt x="161" y="612"/>
                    </a:moveTo>
                    <a:lnTo>
                      <a:pt x="213" y="612"/>
                    </a:lnTo>
                    <a:lnTo>
                      <a:pt x="274" y="611"/>
                    </a:lnTo>
                    <a:lnTo>
                      <a:pt x="335" y="604"/>
                    </a:lnTo>
                    <a:lnTo>
                      <a:pt x="365" y="599"/>
                    </a:lnTo>
                    <a:lnTo>
                      <a:pt x="393" y="591"/>
                    </a:lnTo>
                    <a:lnTo>
                      <a:pt x="420" y="582"/>
                    </a:lnTo>
                    <a:lnTo>
                      <a:pt x="445" y="571"/>
                    </a:lnTo>
                    <a:lnTo>
                      <a:pt x="469" y="557"/>
                    </a:lnTo>
                    <a:lnTo>
                      <a:pt x="490" y="540"/>
                    </a:lnTo>
                    <a:lnTo>
                      <a:pt x="509" y="522"/>
                    </a:lnTo>
                    <a:lnTo>
                      <a:pt x="524" y="499"/>
                    </a:lnTo>
                    <a:lnTo>
                      <a:pt x="537" y="473"/>
                    </a:lnTo>
                    <a:lnTo>
                      <a:pt x="547" y="445"/>
                    </a:lnTo>
                    <a:lnTo>
                      <a:pt x="553" y="412"/>
                    </a:lnTo>
                    <a:lnTo>
                      <a:pt x="555" y="376"/>
                    </a:lnTo>
                    <a:lnTo>
                      <a:pt x="553" y="339"/>
                    </a:lnTo>
                    <a:lnTo>
                      <a:pt x="546" y="308"/>
                    </a:lnTo>
                    <a:lnTo>
                      <a:pt x="536" y="279"/>
                    </a:lnTo>
                    <a:lnTo>
                      <a:pt x="523" y="254"/>
                    </a:lnTo>
                    <a:lnTo>
                      <a:pt x="505" y="232"/>
                    </a:lnTo>
                    <a:lnTo>
                      <a:pt x="486" y="213"/>
                    </a:lnTo>
                    <a:lnTo>
                      <a:pt x="464" y="198"/>
                    </a:lnTo>
                    <a:lnTo>
                      <a:pt x="440" y="184"/>
                    </a:lnTo>
                    <a:lnTo>
                      <a:pt x="413" y="173"/>
                    </a:lnTo>
                    <a:lnTo>
                      <a:pt x="385" y="164"/>
                    </a:lnTo>
                    <a:lnTo>
                      <a:pt x="356" y="157"/>
                    </a:lnTo>
                    <a:lnTo>
                      <a:pt x="325" y="152"/>
                    </a:lnTo>
                    <a:lnTo>
                      <a:pt x="296" y="148"/>
                    </a:lnTo>
                    <a:lnTo>
                      <a:pt x="265" y="146"/>
                    </a:lnTo>
                    <a:lnTo>
                      <a:pt x="204" y="144"/>
                    </a:lnTo>
                    <a:lnTo>
                      <a:pt x="161" y="144"/>
                    </a:lnTo>
                    <a:lnTo>
                      <a:pt x="161" y="6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387080" y="5176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929" h="1293">
                    <a:moveTo>
                      <a:pt x="709" y="0"/>
                    </a:moveTo>
                    <a:lnTo>
                      <a:pt x="919" y="0"/>
                    </a:lnTo>
                    <a:lnTo>
                      <a:pt x="339" y="581"/>
                    </a:lnTo>
                    <a:lnTo>
                      <a:pt x="929" y="1293"/>
                    </a:lnTo>
                    <a:lnTo>
                      <a:pt x="712" y="1293"/>
                    </a:lnTo>
                    <a:lnTo>
                      <a:pt x="226" y="691"/>
                    </a:lnTo>
                    <a:lnTo>
                      <a:pt x="161" y="752"/>
                    </a:lnTo>
                    <a:lnTo>
                      <a:pt x="161" y="1293"/>
                    </a:lnTo>
                    <a:lnTo>
                      <a:pt x="0" y="1293"/>
                    </a:lnTo>
                    <a:lnTo>
                      <a:pt x="0" y="0"/>
                    </a:lnTo>
                    <a:lnTo>
                      <a:pt x="161" y="0"/>
                    </a:lnTo>
                    <a:lnTo>
                      <a:pt x="161" y="56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923040" y="847800"/>
                <a:ext cx="50760" cy="133200"/>
              </a:xfrm>
              <a:custGeom>
                <a:avLst/>
                <a:gdLst/>
                <a:ahLst/>
                <a:rect l="l" t="t" r="r" b="b"/>
                <a:pathLst>
                  <a:path w="264" h="687">
                    <a:moveTo>
                      <a:pt x="169" y="687"/>
                    </a:moveTo>
                    <a:lnTo>
                      <a:pt x="74" y="687"/>
                    </a:lnTo>
                    <a:lnTo>
                      <a:pt x="74" y="279"/>
                    </a:lnTo>
                    <a:lnTo>
                      <a:pt x="0" y="279"/>
                    </a:lnTo>
                    <a:lnTo>
                      <a:pt x="0" y="190"/>
                    </a:lnTo>
                    <a:lnTo>
                      <a:pt x="74" y="190"/>
                    </a:lnTo>
                    <a:lnTo>
                      <a:pt x="74" y="0"/>
                    </a:lnTo>
                    <a:lnTo>
                      <a:pt x="169" y="0"/>
                    </a:lnTo>
                    <a:lnTo>
                      <a:pt x="169" y="190"/>
                    </a:lnTo>
                    <a:lnTo>
                      <a:pt x="264" y="190"/>
                    </a:lnTo>
                    <a:lnTo>
                      <a:pt x="264" y="279"/>
                    </a:lnTo>
                    <a:lnTo>
                      <a:pt x="169" y="279"/>
                    </a:lnTo>
                    <a:lnTo>
                      <a:pt x="169" y="6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977040" y="882720"/>
                <a:ext cx="9180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5" y="280"/>
                    </a:moveTo>
                    <a:lnTo>
                      <a:pt x="98" y="311"/>
                    </a:lnTo>
                    <a:lnTo>
                      <a:pt x="106" y="341"/>
                    </a:lnTo>
                    <a:lnTo>
                      <a:pt x="119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8" y="415"/>
                    </a:lnTo>
                    <a:lnTo>
                      <a:pt x="170" y="423"/>
                    </a:lnTo>
                    <a:lnTo>
                      <a:pt x="184" y="431"/>
                    </a:lnTo>
                    <a:lnTo>
                      <a:pt x="197" y="437"/>
                    </a:lnTo>
                    <a:lnTo>
                      <a:pt x="213" y="441"/>
                    </a:lnTo>
                    <a:lnTo>
                      <a:pt x="229" y="443"/>
                    </a:lnTo>
                    <a:lnTo>
                      <a:pt x="245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5" y="430"/>
                    </a:lnTo>
                    <a:lnTo>
                      <a:pt x="333" y="418"/>
                    </a:lnTo>
                    <a:lnTo>
                      <a:pt x="351" y="405"/>
                    </a:lnTo>
                    <a:lnTo>
                      <a:pt x="366" y="388"/>
                    </a:lnTo>
                    <a:lnTo>
                      <a:pt x="380" y="368"/>
                    </a:lnTo>
                    <a:lnTo>
                      <a:pt x="394" y="348"/>
                    </a:lnTo>
                    <a:lnTo>
                      <a:pt x="475" y="394"/>
                    </a:lnTo>
                    <a:lnTo>
                      <a:pt x="455" y="424"/>
                    </a:lnTo>
                    <a:lnTo>
                      <a:pt x="433" y="451"/>
                    </a:lnTo>
                    <a:lnTo>
                      <a:pt x="407" y="474"/>
                    </a:lnTo>
                    <a:lnTo>
                      <a:pt x="378" y="494"/>
                    </a:lnTo>
                    <a:lnTo>
                      <a:pt x="347" y="509"/>
                    </a:lnTo>
                    <a:lnTo>
                      <a:pt x="315" y="520"/>
                    </a:lnTo>
                    <a:lnTo>
                      <a:pt x="279" y="528"/>
                    </a:lnTo>
                    <a:lnTo>
                      <a:pt x="244" y="530"/>
                    </a:lnTo>
                    <a:lnTo>
                      <a:pt x="217" y="528"/>
                    </a:lnTo>
                    <a:lnTo>
                      <a:pt x="191" y="524"/>
                    </a:lnTo>
                    <a:lnTo>
                      <a:pt x="165" y="518"/>
                    </a:lnTo>
                    <a:lnTo>
                      <a:pt x="142" y="509"/>
                    </a:lnTo>
                    <a:lnTo>
                      <a:pt x="120" y="498"/>
                    </a:lnTo>
                    <a:lnTo>
                      <a:pt x="101" y="485"/>
                    </a:lnTo>
                    <a:lnTo>
                      <a:pt x="82" y="471"/>
                    </a:lnTo>
                    <a:lnTo>
                      <a:pt x="66" y="454"/>
                    </a:lnTo>
                    <a:lnTo>
                      <a:pt x="50" y="435"/>
                    </a:lnTo>
                    <a:lnTo>
                      <a:pt x="37" y="416"/>
                    </a:lnTo>
                    <a:lnTo>
                      <a:pt x="26" y="394"/>
                    </a:lnTo>
                    <a:lnTo>
                      <a:pt x="16" y="371"/>
                    </a:lnTo>
                    <a:lnTo>
                      <a:pt x="10" y="346"/>
                    </a:lnTo>
                    <a:lnTo>
                      <a:pt x="4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4" y="213"/>
                    </a:lnTo>
                    <a:lnTo>
                      <a:pt x="9" y="186"/>
                    </a:lnTo>
                    <a:lnTo>
                      <a:pt x="15" y="161"/>
                    </a:lnTo>
                    <a:lnTo>
                      <a:pt x="24" y="138"/>
                    </a:lnTo>
                    <a:lnTo>
                      <a:pt x="34" y="116"/>
                    </a:lnTo>
                    <a:lnTo>
                      <a:pt x="47" y="95"/>
                    </a:lnTo>
                    <a:lnTo>
                      <a:pt x="61" y="76"/>
                    </a:lnTo>
                    <a:lnTo>
                      <a:pt x="77" y="60"/>
                    </a:lnTo>
                    <a:lnTo>
                      <a:pt x="95" y="45"/>
                    </a:lnTo>
                    <a:lnTo>
                      <a:pt x="115" y="31"/>
                    </a:lnTo>
                    <a:lnTo>
                      <a:pt x="137" y="20"/>
                    </a:lnTo>
                    <a:lnTo>
                      <a:pt x="160" y="12"/>
                    </a:lnTo>
                    <a:lnTo>
                      <a:pt x="185" y="5"/>
                    </a:lnTo>
                    <a:lnTo>
                      <a:pt x="213" y="2"/>
                    </a:lnTo>
                    <a:lnTo>
                      <a:pt x="242" y="0"/>
                    </a:lnTo>
                    <a:lnTo>
                      <a:pt x="271" y="2"/>
                    </a:lnTo>
                    <a:lnTo>
                      <a:pt x="297" y="5"/>
                    </a:lnTo>
                    <a:lnTo>
                      <a:pt x="322" y="12"/>
                    </a:lnTo>
                    <a:lnTo>
                      <a:pt x="345" y="20"/>
                    </a:lnTo>
                    <a:lnTo>
                      <a:pt x="366" y="31"/>
                    </a:lnTo>
                    <a:lnTo>
                      <a:pt x="385" y="45"/>
                    </a:lnTo>
                    <a:lnTo>
                      <a:pt x="402" y="60"/>
                    </a:lnTo>
                    <a:lnTo>
                      <a:pt x="418" y="76"/>
                    </a:lnTo>
                    <a:lnTo>
                      <a:pt x="431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0" y="161"/>
                    </a:lnTo>
                    <a:lnTo>
                      <a:pt x="467" y="185"/>
                    </a:lnTo>
                    <a:lnTo>
                      <a:pt x="471" y="210"/>
                    </a:lnTo>
                    <a:lnTo>
                      <a:pt x="474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5" y="280"/>
                    </a:lnTo>
                    <a:close/>
                    <a:moveTo>
                      <a:pt x="379" y="207"/>
                    </a:moveTo>
                    <a:lnTo>
                      <a:pt x="373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5" y="117"/>
                    </a:lnTo>
                    <a:lnTo>
                      <a:pt x="316" y="103"/>
                    </a:lnTo>
                    <a:lnTo>
                      <a:pt x="294" y="92"/>
                    </a:lnTo>
                    <a:lnTo>
                      <a:pt x="270" y="85"/>
                    </a:lnTo>
                    <a:lnTo>
                      <a:pt x="242" y="83"/>
                    </a:lnTo>
                    <a:lnTo>
                      <a:pt x="215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1" y="137"/>
                    </a:lnTo>
                    <a:lnTo>
                      <a:pt x="117" y="158"/>
                    </a:lnTo>
                    <a:lnTo>
                      <a:pt x="107" y="182"/>
                    </a:lnTo>
                    <a:lnTo>
                      <a:pt x="101" y="207"/>
                    </a:lnTo>
                    <a:lnTo>
                      <a:pt x="379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086480" y="846000"/>
                <a:ext cx="1908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118520" y="882720"/>
                <a:ext cx="92160" cy="101520"/>
              </a:xfrm>
              <a:custGeom>
                <a:avLst/>
                <a:gdLst/>
                <a:ahLst/>
                <a:rect l="l" t="t" r="r" b="b"/>
                <a:pathLst>
                  <a:path w="475" h="530">
                    <a:moveTo>
                      <a:pt x="97" y="280"/>
                    </a:moveTo>
                    <a:lnTo>
                      <a:pt x="99" y="311"/>
                    </a:lnTo>
                    <a:lnTo>
                      <a:pt x="108" y="341"/>
                    </a:lnTo>
                    <a:lnTo>
                      <a:pt x="120" y="370"/>
                    </a:lnTo>
                    <a:lnTo>
                      <a:pt x="137" y="394"/>
                    </a:lnTo>
                    <a:lnTo>
                      <a:pt x="147" y="405"/>
                    </a:lnTo>
                    <a:lnTo>
                      <a:pt x="159" y="415"/>
                    </a:lnTo>
                    <a:lnTo>
                      <a:pt x="171" y="423"/>
                    </a:lnTo>
                    <a:lnTo>
                      <a:pt x="185" y="431"/>
                    </a:lnTo>
                    <a:lnTo>
                      <a:pt x="199" y="437"/>
                    </a:lnTo>
                    <a:lnTo>
                      <a:pt x="213" y="441"/>
                    </a:lnTo>
                    <a:lnTo>
                      <a:pt x="230" y="443"/>
                    </a:lnTo>
                    <a:lnTo>
                      <a:pt x="246" y="444"/>
                    </a:lnTo>
                    <a:lnTo>
                      <a:pt x="272" y="443"/>
                    </a:lnTo>
                    <a:lnTo>
                      <a:pt x="295" y="438"/>
                    </a:lnTo>
                    <a:lnTo>
                      <a:pt x="316" y="430"/>
                    </a:lnTo>
                    <a:lnTo>
                      <a:pt x="335" y="418"/>
                    </a:lnTo>
                    <a:lnTo>
                      <a:pt x="351" y="405"/>
                    </a:lnTo>
                    <a:lnTo>
                      <a:pt x="367" y="388"/>
                    </a:lnTo>
                    <a:lnTo>
                      <a:pt x="381" y="368"/>
                    </a:lnTo>
                    <a:lnTo>
                      <a:pt x="395" y="348"/>
                    </a:lnTo>
                    <a:lnTo>
                      <a:pt x="475" y="394"/>
                    </a:lnTo>
                    <a:lnTo>
                      <a:pt x="457" y="424"/>
                    </a:lnTo>
                    <a:lnTo>
                      <a:pt x="434" y="451"/>
                    </a:lnTo>
                    <a:lnTo>
                      <a:pt x="407" y="474"/>
                    </a:lnTo>
                    <a:lnTo>
                      <a:pt x="379" y="494"/>
                    </a:lnTo>
                    <a:lnTo>
                      <a:pt x="348" y="509"/>
                    </a:lnTo>
                    <a:lnTo>
                      <a:pt x="315" y="520"/>
                    </a:lnTo>
                    <a:lnTo>
                      <a:pt x="281" y="528"/>
                    </a:lnTo>
                    <a:lnTo>
                      <a:pt x="245" y="530"/>
                    </a:lnTo>
                    <a:lnTo>
                      <a:pt x="218" y="528"/>
                    </a:lnTo>
                    <a:lnTo>
                      <a:pt x="191" y="524"/>
                    </a:lnTo>
                    <a:lnTo>
                      <a:pt x="166" y="518"/>
                    </a:lnTo>
                    <a:lnTo>
                      <a:pt x="143" y="509"/>
                    </a:lnTo>
                    <a:lnTo>
                      <a:pt x="121" y="498"/>
                    </a:lnTo>
                    <a:lnTo>
                      <a:pt x="101" y="485"/>
                    </a:lnTo>
                    <a:lnTo>
                      <a:pt x="83" y="471"/>
                    </a:lnTo>
                    <a:lnTo>
                      <a:pt x="66" y="454"/>
                    </a:lnTo>
                    <a:lnTo>
                      <a:pt x="51" y="435"/>
                    </a:lnTo>
                    <a:lnTo>
                      <a:pt x="38" y="416"/>
                    </a:lnTo>
                    <a:lnTo>
                      <a:pt x="27" y="394"/>
                    </a:lnTo>
                    <a:lnTo>
                      <a:pt x="18" y="371"/>
                    </a:lnTo>
                    <a:lnTo>
                      <a:pt x="10" y="346"/>
                    </a:lnTo>
                    <a:lnTo>
                      <a:pt x="5" y="321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5" y="213"/>
                    </a:lnTo>
                    <a:lnTo>
                      <a:pt x="9" y="186"/>
                    </a:lnTo>
                    <a:lnTo>
                      <a:pt x="16" y="161"/>
                    </a:lnTo>
                    <a:lnTo>
                      <a:pt x="24" y="138"/>
                    </a:lnTo>
                    <a:lnTo>
                      <a:pt x="35" y="116"/>
                    </a:lnTo>
                    <a:lnTo>
                      <a:pt x="48" y="95"/>
                    </a:lnTo>
                    <a:lnTo>
                      <a:pt x="62" y="76"/>
                    </a:lnTo>
                    <a:lnTo>
                      <a:pt x="78" y="60"/>
                    </a:lnTo>
                    <a:lnTo>
                      <a:pt x="96" y="45"/>
                    </a:lnTo>
                    <a:lnTo>
                      <a:pt x="116" y="31"/>
                    </a:lnTo>
                    <a:lnTo>
                      <a:pt x="137" y="20"/>
                    </a:lnTo>
                    <a:lnTo>
                      <a:pt x="162" y="12"/>
                    </a:lnTo>
                    <a:lnTo>
                      <a:pt x="187" y="5"/>
                    </a:lnTo>
                    <a:lnTo>
                      <a:pt x="214" y="2"/>
                    </a:lnTo>
                    <a:lnTo>
                      <a:pt x="243" y="0"/>
                    </a:lnTo>
                    <a:lnTo>
                      <a:pt x="271" y="2"/>
                    </a:lnTo>
                    <a:lnTo>
                      <a:pt x="299" y="5"/>
                    </a:lnTo>
                    <a:lnTo>
                      <a:pt x="323" y="12"/>
                    </a:lnTo>
                    <a:lnTo>
                      <a:pt x="346" y="20"/>
                    </a:lnTo>
                    <a:lnTo>
                      <a:pt x="367" y="31"/>
                    </a:lnTo>
                    <a:lnTo>
                      <a:pt x="386" y="45"/>
                    </a:lnTo>
                    <a:lnTo>
                      <a:pt x="403" y="60"/>
                    </a:lnTo>
                    <a:lnTo>
                      <a:pt x="418" y="76"/>
                    </a:lnTo>
                    <a:lnTo>
                      <a:pt x="432" y="96"/>
                    </a:lnTo>
                    <a:lnTo>
                      <a:pt x="443" y="116"/>
                    </a:lnTo>
                    <a:lnTo>
                      <a:pt x="453" y="138"/>
                    </a:lnTo>
                    <a:lnTo>
                      <a:pt x="461" y="161"/>
                    </a:lnTo>
                    <a:lnTo>
                      <a:pt x="468" y="185"/>
                    </a:lnTo>
                    <a:lnTo>
                      <a:pt x="472" y="210"/>
                    </a:lnTo>
                    <a:lnTo>
                      <a:pt x="475" y="238"/>
                    </a:lnTo>
                    <a:lnTo>
                      <a:pt x="475" y="264"/>
                    </a:lnTo>
                    <a:lnTo>
                      <a:pt x="475" y="280"/>
                    </a:lnTo>
                    <a:lnTo>
                      <a:pt x="97" y="280"/>
                    </a:lnTo>
                    <a:close/>
                    <a:moveTo>
                      <a:pt x="380" y="207"/>
                    </a:moveTo>
                    <a:lnTo>
                      <a:pt x="374" y="181"/>
                    </a:lnTo>
                    <a:lnTo>
                      <a:pt x="364" y="157"/>
                    </a:lnTo>
                    <a:lnTo>
                      <a:pt x="351" y="136"/>
                    </a:lnTo>
                    <a:lnTo>
                      <a:pt x="336" y="117"/>
                    </a:lnTo>
                    <a:lnTo>
                      <a:pt x="317" y="103"/>
                    </a:lnTo>
                    <a:lnTo>
                      <a:pt x="295" y="92"/>
                    </a:lnTo>
                    <a:lnTo>
                      <a:pt x="270" y="85"/>
                    </a:lnTo>
                    <a:lnTo>
                      <a:pt x="243" y="83"/>
                    </a:lnTo>
                    <a:lnTo>
                      <a:pt x="216" y="85"/>
                    </a:lnTo>
                    <a:lnTo>
                      <a:pt x="191" y="92"/>
                    </a:lnTo>
                    <a:lnTo>
                      <a:pt x="168" y="104"/>
                    </a:lnTo>
                    <a:lnTo>
                      <a:pt x="148" y="118"/>
                    </a:lnTo>
                    <a:lnTo>
                      <a:pt x="132" y="137"/>
                    </a:lnTo>
                    <a:lnTo>
                      <a:pt x="119" y="158"/>
                    </a:lnTo>
                    <a:lnTo>
                      <a:pt x="108" y="182"/>
                    </a:lnTo>
                    <a:lnTo>
                      <a:pt x="101" y="207"/>
                    </a:lnTo>
                    <a:lnTo>
                      <a:pt x="380" y="2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225080" y="882720"/>
                <a:ext cx="77760" cy="101520"/>
              </a:xfrm>
              <a:custGeom>
                <a:avLst/>
                <a:gdLst/>
                <a:ahLst/>
                <a:rect l="l" t="t" r="r" b="b"/>
                <a:pathLst>
                  <a:path w="404" h="530">
                    <a:moveTo>
                      <a:pt x="404" y="157"/>
                    </a:moveTo>
                    <a:lnTo>
                      <a:pt x="389" y="141"/>
                    </a:lnTo>
                    <a:lnTo>
                      <a:pt x="373" y="127"/>
                    </a:lnTo>
                    <a:lnTo>
                      <a:pt x="358" y="116"/>
                    </a:lnTo>
                    <a:lnTo>
                      <a:pt x="340" y="106"/>
                    </a:lnTo>
                    <a:lnTo>
                      <a:pt x="321" y="99"/>
                    </a:lnTo>
                    <a:lnTo>
                      <a:pt x="303" y="94"/>
                    </a:lnTo>
                    <a:lnTo>
                      <a:pt x="283" y="91"/>
                    </a:lnTo>
                    <a:lnTo>
                      <a:pt x="261" y="90"/>
                    </a:lnTo>
                    <a:lnTo>
                      <a:pt x="245" y="91"/>
                    </a:lnTo>
                    <a:lnTo>
                      <a:pt x="227" y="93"/>
                    </a:lnTo>
                    <a:lnTo>
                      <a:pt x="212" y="97"/>
                    </a:lnTo>
                    <a:lnTo>
                      <a:pt x="196" y="104"/>
                    </a:lnTo>
                    <a:lnTo>
                      <a:pt x="182" y="112"/>
                    </a:lnTo>
                    <a:lnTo>
                      <a:pt x="168" y="120"/>
                    </a:lnTo>
                    <a:lnTo>
                      <a:pt x="156" y="130"/>
                    </a:lnTo>
                    <a:lnTo>
                      <a:pt x="144" y="142"/>
                    </a:lnTo>
                    <a:lnTo>
                      <a:pt x="133" y="154"/>
                    </a:lnTo>
                    <a:lnTo>
                      <a:pt x="124" y="169"/>
                    </a:lnTo>
                    <a:lnTo>
                      <a:pt x="115" y="183"/>
                    </a:lnTo>
                    <a:lnTo>
                      <a:pt x="109" y="198"/>
                    </a:lnTo>
                    <a:lnTo>
                      <a:pt x="103" y="214"/>
                    </a:lnTo>
                    <a:lnTo>
                      <a:pt x="99" y="230"/>
                    </a:lnTo>
                    <a:lnTo>
                      <a:pt x="97" y="247"/>
                    </a:lnTo>
                    <a:lnTo>
                      <a:pt x="96" y="264"/>
                    </a:lnTo>
                    <a:lnTo>
                      <a:pt x="97" y="283"/>
                    </a:lnTo>
                    <a:lnTo>
                      <a:pt x="99" y="300"/>
                    </a:lnTo>
                    <a:lnTo>
                      <a:pt x="103" y="318"/>
                    </a:lnTo>
                    <a:lnTo>
                      <a:pt x="109" y="334"/>
                    </a:lnTo>
                    <a:lnTo>
                      <a:pt x="115" y="350"/>
                    </a:lnTo>
                    <a:lnTo>
                      <a:pt x="124" y="364"/>
                    </a:lnTo>
                    <a:lnTo>
                      <a:pt x="133" y="378"/>
                    </a:lnTo>
                    <a:lnTo>
                      <a:pt x="144" y="390"/>
                    </a:lnTo>
                    <a:lnTo>
                      <a:pt x="156" y="401"/>
                    </a:lnTo>
                    <a:lnTo>
                      <a:pt x="169" y="411"/>
                    </a:lnTo>
                    <a:lnTo>
                      <a:pt x="183" y="420"/>
                    </a:lnTo>
                    <a:lnTo>
                      <a:pt x="199" y="427"/>
                    </a:lnTo>
                    <a:lnTo>
                      <a:pt x="215" y="432"/>
                    </a:lnTo>
                    <a:lnTo>
                      <a:pt x="232" y="437"/>
                    </a:lnTo>
                    <a:lnTo>
                      <a:pt x="249" y="439"/>
                    </a:lnTo>
                    <a:lnTo>
                      <a:pt x="268" y="440"/>
                    </a:lnTo>
                    <a:lnTo>
                      <a:pt x="289" y="439"/>
                    </a:lnTo>
                    <a:lnTo>
                      <a:pt x="307" y="435"/>
                    </a:lnTo>
                    <a:lnTo>
                      <a:pt x="326" y="430"/>
                    </a:lnTo>
                    <a:lnTo>
                      <a:pt x="343" y="422"/>
                    </a:lnTo>
                    <a:lnTo>
                      <a:pt x="360" y="412"/>
                    </a:lnTo>
                    <a:lnTo>
                      <a:pt x="375" y="401"/>
                    </a:lnTo>
                    <a:lnTo>
                      <a:pt x="389" y="388"/>
                    </a:lnTo>
                    <a:lnTo>
                      <a:pt x="404" y="374"/>
                    </a:lnTo>
                    <a:lnTo>
                      <a:pt x="404" y="497"/>
                    </a:lnTo>
                    <a:lnTo>
                      <a:pt x="371" y="511"/>
                    </a:lnTo>
                    <a:lnTo>
                      <a:pt x="338" y="522"/>
                    </a:lnTo>
                    <a:lnTo>
                      <a:pt x="303" y="528"/>
                    </a:lnTo>
                    <a:lnTo>
                      <a:pt x="267" y="530"/>
                    </a:lnTo>
                    <a:lnTo>
                      <a:pt x="239" y="528"/>
                    </a:lnTo>
                    <a:lnTo>
                      <a:pt x="213" y="524"/>
                    </a:lnTo>
                    <a:lnTo>
                      <a:pt x="188" y="518"/>
                    </a:lnTo>
                    <a:lnTo>
                      <a:pt x="164" y="509"/>
                    </a:lnTo>
                    <a:lnTo>
                      <a:pt x="140" y="499"/>
                    </a:lnTo>
                    <a:lnTo>
                      <a:pt x="119" y="486"/>
                    </a:lnTo>
                    <a:lnTo>
                      <a:pt x="98" y="472"/>
                    </a:lnTo>
                    <a:lnTo>
                      <a:pt x="79" y="454"/>
                    </a:lnTo>
                    <a:lnTo>
                      <a:pt x="62" y="437"/>
                    </a:lnTo>
                    <a:lnTo>
                      <a:pt x="46" y="416"/>
                    </a:lnTo>
                    <a:lnTo>
                      <a:pt x="33" y="395"/>
                    </a:lnTo>
                    <a:lnTo>
                      <a:pt x="21" y="372"/>
                    </a:lnTo>
                    <a:lnTo>
                      <a:pt x="12" y="348"/>
                    </a:lnTo>
                    <a:lnTo>
                      <a:pt x="6" y="322"/>
                    </a:lnTo>
                    <a:lnTo>
                      <a:pt x="1" y="295"/>
                    </a:lnTo>
                    <a:lnTo>
                      <a:pt x="0" y="267"/>
                    </a:lnTo>
                    <a:lnTo>
                      <a:pt x="1" y="240"/>
                    </a:lnTo>
                    <a:lnTo>
                      <a:pt x="6" y="213"/>
                    </a:lnTo>
                    <a:lnTo>
                      <a:pt x="12" y="186"/>
                    </a:lnTo>
                    <a:lnTo>
                      <a:pt x="21" y="161"/>
                    </a:lnTo>
                    <a:lnTo>
                      <a:pt x="33" y="138"/>
                    </a:lnTo>
                    <a:lnTo>
                      <a:pt x="46" y="115"/>
                    </a:lnTo>
                    <a:lnTo>
                      <a:pt x="62" y="95"/>
                    </a:lnTo>
                    <a:lnTo>
                      <a:pt x="79" y="76"/>
                    </a:lnTo>
                    <a:lnTo>
                      <a:pt x="98" y="59"/>
                    </a:lnTo>
                    <a:lnTo>
                      <a:pt x="119" y="45"/>
                    </a:lnTo>
                    <a:lnTo>
                      <a:pt x="142" y="31"/>
                    </a:lnTo>
                    <a:lnTo>
                      <a:pt x="165" y="20"/>
                    </a:lnTo>
                    <a:lnTo>
                      <a:pt x="190" y="12"/>
                    </a:lnTo>
                    <a:lnTo>
                      <a:pt x="216" y="5"/>
                    </a:lnTo>
                    <a:lnTo>
                      <a:pt x="244" y="2"/>
                    </a:lnTo>
                    <a:lnTo>
                      <a:pt x="272" y="0"/>
                    </a:lnTo>
                    <a:lnTo>
                      <a:pt x="306" y="2"/>
                    </a:lnTo>
                    <a:lnTo>
                      <a:pt x="340" y="8"/>
                    </a:lnTo>
                    <a:lnTo>
                      <a:pt x="373" y="18"/>
                    </a:lnTo>
                    <a:lnTo>
                      <a:pt x="404" y="32"/>
                    </a:lnTo>
                    <a:lnTo>
                      <a:pt x="404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314000" y="882720"/>
                <a:ext cx="102960" cy="101520"/>
              </a:xfrm>
              <a:custGeom>
                <a:avLst/>
                <a:gdLst/>
                <a:ahLst/>
                <a:rect l="l" t="t" r="r" b="b"/>
                <a:pathLst>
                  <a:path w="532" h="530">
                    <a:moveTo>
                      <a:pt x="532" y="264"/>
                    </a:moveTo>
                    <a:lnTo>
                      <a:pt x="530" y="293"/>
                    </a:lnTo>
                    <a:lnTo>
                      <a:pt x="527" y="319"/>
                    </a:lnTo>
                    <a:lnTo>
                      <a:pt x="520" y="344"/>
                    </a:lnTo>
                    <a:lnTo>
                      <a:pt x="511" y="370"/>
                    </a:lnTo>
                    <a:lnTo>
                      <a:pt x="501" y="393"/>
                    </a:lnTo>
                    <a:lnTo>
                      <a:pt x="487" y="415"/>
                    </a:lnTo>
                    <a:lnTo>
                      <a:pt x="472" y="434"/>
                    </a:lnTo>
                    <a:lnTo>
                      <a:pt x="454" y="453"/>
                    </a:lnTo>
                    <a:lnTo>
                      <a:pt x="436" y="471"/>
                    </a:lnTo>
                    <a:lnTo>
                      <a:pt x="416" y="485"/>
                    </a:lnTo>
                    <a:lnTo>
                      <a:pt x="394" y="498"/>
                    </a:lnTo>
                    <a:lnTo>
                      <a:pt x="370" y="509"/>
                    </a:lnTo>
                    <a:lnTo>
                      <a:pt x="346" y="518"/>
                    </a:lnTo>
                    <a:lnTo>
                      <a:pt x="321" y="524"/>
                    </a:lnTo>
                    <a:lnTo>
                      <a:pt x="293" y="528"/>
                    </a:lnTo>
                    <a:lnTo>
                      <a:pt x="266" y="530"/>
                    </a:lnTo>
                    <a:lnTo>
                      <a:pt x="238" y="528"/>
                    </a:lnTo>
                    <a:lnTo>
                      <a:pt x="212" y="524"/>
                    </a:lnTo>
                    <a:lnTo>
                      <a:pt x="187" y="518"/>
                    </a:lnTo>
                    <a:lnTo>
                      <a:pt x="162" y="509"/>
                    </a:lnTo>
                    <a:lnTo>
                      <a:pt x="139" y="498"/>
                    </a:lnTo>
                    <a:lnTo>
                      <a:pt x="117" y="485"/>
                    </a:lnTo>
                    <a:lnTo>
                      <a:pt x="97" y="471"/>
                    </a:lnTo>
                    <a:lnTo>
                      <a:pt x="78" y="453"/>
                    </a:lnTo>
                    <a:lnTo>
                      <a:pt x="61" y="434"/>
                    </a:lnTo>
                    <a:lnTo>
                      <a:pt x="45" y="415"/>
                    </a:lnTo>
                    <a:lnTo>
                      <a:pt x="32" y="393"/>
                    </a:lnTo>
                    <a:lnTo>
                      <a:pt x="21" y="370"/>
                    </a:lnTo>
                    <a:lnTo>
                      <a:pt x="12" y="344"/>
                    </a:lnTo>
                    <a:lnTo>
                      <a:pt x="6" y="319"/>
                    </a:lnTo>
                    <a:lnTo>
                      <a:pt x="3" y="293"/>
                    </a:lnTo>
                    <a:lnTo>
                      <a:pt x="0" y="264"/>
                    </a:lnTo>
                    <a:lnTo>
                      <a:pt x="3" y="237"/>
                    </a:lnTo>
                    <a:lnTo>
                      <a:pt x="6" y="210"/>
                    </a:lnTo>
                    <a:lnTo>
                      <a:pt x="12" y="185"/>
                    </a:lnTo>
                    <a:lnTo>
                      <a:pt x="21" y="160"/>
                    </a:lnTo>
                    <a:lnTo>
                      <a:pt x="32" y="137"/>
                    </a:lnTo>
                    <a:lnTo>
                      <a:pt x="45" y="115"/>
                    </a:lnTo>
                    <a:lnTo>
                      <a:pt x="61" y="95"/>
                    </a:lnTo>
                    <a:lnTo>
                      <a:pt x="78" y="76"/>
                    </a:lnTo>
                    <a:lnTo>
                      <a:pt x="97" y="59"/>
                    </a:lnTo>
                    <a:lnTo>
                      <a:pt x="117" y="45"/>
                    </a:lnTo>
                    <a:lnTo>
                      <a:pt x="139" y="31"/>
                    </a:lnTo>
                    <a:lnTo>
                      <a:pt x="162" y="20"/>
                    </a:lnTo>
                    <a:lnTo>
                      <a:pt x="187" y="12"/>
                    </a:lnTo>
                    <a:lnTo>
                      <a:pt x="212" y="5"/>
                    </a:lnTo>
                    <a:lnTo>
                      <a:pt x="238" y="2"/>
                    </a:lnTo>
                    <a:lnTo>
                      <a:pt x="266" y="0"/>
                    </a:lnTo>
                    <a:lnTo>
                      <a:pt x="293" y="2"/>
                    </a:lnTo>
                    <a:lnTo>
                      <a:pt x="321" y="5"/>
                    </a:lnTo>
                    <a:lnTo>
                      <a:pt x="346" y="12"/>
                    </a:lnTo>
                    <a:lnTo>
                      <a:pt x="370" y="20"/>
                    </a:lnTo>
                    <a:lnTo>
                      <a:pt x="394" y="31"/>
                    </a:lnTo>
                    <a:lnTo>
                      <a:pt x="416" y="45"/>
                    </a:lnTo>
                    <a:lnTo>
                      <a:pt x="436" y="59"/>
                    </a:lnTo>
                    <a:lnTo>
                      <a:pt x="454" y="76"/>
                    </a:lnTo>
                    <a:lnTo>
                      <a:pt x="472" y="95"/>
                    </a:lnTo>
                    <a:lnTo>
                      <a:pt x="487" y="115"/>
                    </a:lnTo>
                    <a:lnTo>
                      <a:pt x="501" y="137"/>
                    </a:lnTo>
                    <a:lnTo>
                      <a:pt x="511" y="160"/>
                    </a:lnTo>
                    <a:lnTo>
                      <a:pt x="520" y="185"/>
                    </a:lnTo>
                    <a:lnTo>
                      <a:pt x="527" y="210"/>
                    </a:lnTo>
                    <a:lnTo>
                      <a:pt x="530" y="237"/>
                    </a:lnTo>
                    <a:lnTo>
                      <a:pt x="532" y="264"/>
                    </a:lnTo>
                    <a:close/>
                    <a:moveTo>
                      <a:pt x="96" y="264"/>
                    </a:moveTo>
                    <a:lnTo>
                      <a:pt x="97" y="282"/>
                    </a:lnTo>
                    <a:lnTo>
                      <a:pt x="100" y="299"/>
                    </a:lnTo>
                    <a:lnTo>
                      <a:pt x="103" y="316"/>
                    </a:lnTo>
                    <a:lnTo>
                      <a:pt x="110" y="331"/>
                    </a:lnTo>
                    <a:lnTo>
                      <a:pt x="117" y="346"/>
                    </a:lnTo>
                    <a:lnTo>
                      <a:pt x="125" y="361"/>
                    </a:lnTo>
                    <a:lnTo>
                      <a:pt x="135" y="374"/>
                    </a:lnTo>
                    <a:lnTo>
                      <a:pt x="146" y="386"/>
                    </a:lnTo>
                    <a:lnTo>
                      <a:pt x="158" y="398"/>
                    </a:lnTo>
                    <a:lnTo>
                      <a:pt x="171" y="408"/>
                    </a:lnTo>
                    <a:lnTo>
                      <a:pt x="185" y="417"/>
                    </a:lnTo>
                    <a:lnTo>
                      <a:pt x="200" y="424"/>
                    </a:lnTo>
                    <a:lnTo>
                      <a:pt x="215" y="430"/>
                    </a:lnTo>
                    <a:lnTo>
                      <a:pt x="232" y="434"/>
                    </a:lnTo>
                    <a:lnTo>
                      <a:pt x="248" y="437"/>
                    </a:lnTo>
                    <a:lnTo>
                      <a:pt x="266" y="438"/>
                    </a:lnTo>
                    <a:lnTo>
                      <a:pt x="283" y="437"/>
                    </a:lnTo>
                    <a:lnTo>
                      <a:pt x="301" y="434"/>
                    </a:lnTo>
                    <a:lnTo>
                      <a:pt x="317" y="430"/>
                    </a:lnTo>
                    <a:lnTo>
                      <a:pt x="333" y="424"/>
                    </a:lnTo>
                    <a:lnTo>
                      <a:pt x="348" y="417"/>
                    </a:lnTo>
                    <a:lnTo>
                      <a:pt x="361" y="408"/>
                    </a:lnTo>
                    <a:lnTo>
                      <a:pt x="374" y="398"/>
                    </a:lnTo>
                    <a:lnTo>
                      <a:pt x="386" y="386"/>
                    </a:lnTo>
                    <a:lnTo>
                      <a:pt x="397" y="374"/>
                    </a:lnTo>
                    <a:lnTo>
                      <a:pt x="407" y="361"/>
                    </a:lnTo>
                    <a:lnTo>
                      <a:pt x="416" y="346"/>
                    </a:lnTo>
                    <a:lnTo>
                      <a:pt x="423" y="331"/>
                    </a:lnTo>
                    <a:lnTo>
                      <a:pt x="428" y="316"/>
                    </a:lnTo>
                    <a:lnTo>
                      <a:pt x="433" y="299"/>
                    </a:lnTo>
                    <a:lnTo>
                      <a:pt x="436" y="282"/>
                    </a:lnTo>
                    <a:lnTo>
                      <a:pt x="436" y="264"/>
                    </a:lnTo>
                    <a:lnTo>
                      <a:pt x="436" y="248"/>
                    </a:lnTo>
                    <a:lnTo>
                      <a:pt x="433" y="230"/>
                    </a:lnTo>
                    <a:lnTo>
                      <a:pt x="428" y="214"/>
                    </a:lnTo>
                    <a:lnTo>
                      <a:pt x="423" y="197"/>
                    </a:lnTo>
                    <a:lnTo>
                      <a:pt x="416" y="183"/>
                    </a:lnTo>
                    <a:lnTo>
                      <a:pt x="407" y="169"/>
                    </a:lnTo>
                    <a:lnTo>
                      <a:pt x="397" y="154"/>
                    </a:lnTo>
                    <a:lnTo>
                      <a:pt x="386" y="142"/>
                    </a:lnTo>
                    <a:lnTo>
                      <a:pt x="374" y="131"/>
                    </a:lnTo>
                    <a:lnTo>
                      <a:pt x="361" y="121"/>
                    </a:lnTo>
                    <a:lnTo>
                      <a:pt x="348" y="113"/>
                    </a:lnTo>
                    <a:lnTo>
                      <a:pt x="333" y="105"/>
                    </a:lnTo>
                    <a:lnTo>
                      <a:pt x="317" y="99"/>
                    </a:lnTo>
                    <a:lnTo>
                      <a:pt x="301" y="95"/>
                    </a:lnTo>
                    <a:lnTo>
                      <a:pt x="283" y="92"/>
                    </a:lnTo>
                    <a:lnTo>
                      <a:pt x="266" y="92"/>
                    </a:lnTo>
                    <a:lnTo>
                      <a:pt x="248" y="92"/>
                    </a:lnTo>
                    <a:lnTo>
                      <a:pt x="232" y="95"/>
                    </a:lnTo>
                    <a:lnTo>
                      <a:pt x="215" y="99"/>
                    </a:lnTo>
                    <a:lnTo>
                      <a:pt x="200" y="105"/>
                    </a:lnTo>
                    <a:lnTo>
                      <a:pt x="185" y="113"/>
                    </a:lnTo>
                    <a:lnTo>
                      <a:pt x="171" y="121"/>
                    </a:lnTo>
                    <a:lnTo>
                      <a:pt x="158" y="131"/>
                    </a:lnTo>
                    <a:lnTo>
                      <a:pt x="146" y="142"/>
                    </a:lnTo>
                    <a:lnTo>
                      <a:pt x="135" y="154"/>
                    </a:lnTo>
                    <a:lnTo>
                      <a:pt x="125" y="169"/>
                    </a:lnTo>
                    <a:lnTo>
                      <a:pt x="117" y="183"/>
                    </a:lnTo>
                    <a:lnTo>
                      <a:pt x="110" y="197"/>
                    </a:lnTo>
                    <a:lnTo>
                      <a:pt x="103" y="214"/>
                    </a:lnTo>
                    <a:lnTo>
                      <a:pt x="100" y="230"/>
                    </a:lnTo>
                    <a:lnTo>
                      <a:pt x="97" y="248"/>
                    </a:lnTo>
                    <a:lnTo>
                      <a:pt x="96" y="2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430280" y="882720"/>
                <a:ext cx="133200" cy="98280"/>
              </a:xfrm>
              <a:custGeom>
                <a:avLst/>
                <a:gdLst/>
                <a:ahLst/>
                <a:rect l="l" t="t" r="r" b="b"/>
                <a:pathLst>
                  <a:path w="690" h="512">
                    <a:moveTo>
                      <a:pt x="96" y="77"/>
                    </a:moveTo>
                    <a:lnTo>
                      <a:pt x="98" y="77"/>
                    </a:lnTo>
                    <a:lnTo>
                      <a:pt x="109" y="62"/>
                    </a:lnTo>
                    <a:lnTo>
                      <a:pt x="122" y="47"/>
                    </a:lnTo>
                    <a:lnTo>
                      <a:pt x="137" y="34"/>
                    </a:lnTo>
                    <a:lnTo>
                      <a:pt x="154" y="23"/>
                    </a:lnTo>
                    <a:lnTo>
                      <a:pt x="171" y="13"/>
                    </a:lnTo>
                    <a:lnTo>
                      <a:pt x="190" y="6"/>
                    </a:lnTo>
                    <a:lnTo>
                      <a:pt x="210" y="2"/>
                    </a:lnTo>
                    <a:lnTo>
                      <a:pt x="229" y="0"/>
                    </a:lnTo>
                    <a:lnTo>
                      <a:pt x="253" y="2"/>
                    </a:lnTo>
                    <a:lnTo>
                      <a:pt x="274" y="6"/>
                    </a:lnTo>
                    <a:lnTo>
                      <a:pt x="295" y="13"/>
                    </a:lnTo>
                    <a:lnTo>
                      <a:pt x="314" y="24"/>
                    </a:lnTo>
                    <a:lnTo>
                      <a:pt x="330" y="36"/>
                    </a:lnTo>
                    <a:lnTo>
                      <a:pt x="346" y="51"/>
                    </a:lnTo>
                    <a:lnTo>
                      <a:pt x="360" y="69"/>
                    </a:lnTo>
                    <a:lnTo>
                      <a:pt x="373" y="88"/>
                    </a:lnTo>
                    <a:lnTo>
                      <a:pt x="385" y="69"/>
                    </a:lnTo>
                    <a:lnTo>
                      <a:pt x="401" y="52"/>
                    </a:lnTo>
                    <a:lnTo>
                      <a:pt x="418" y="37"/>
                    </a:lnTo>
                    <a:lnTo>
                      <a:pt x="438" y="24"/>
                    </a:lnTo>
                    <a:lnTo>
                      <a:pt x="458" y="14"/>
                    </a:lnTo>
                    <a:lnTo>
                      <a:pt x="480" y="6"/>
                    </a:lnTo>
                    <a:lnTo>
                      <a:pt x="503" y="2"/>
                    </a:lnTo>
                    <a:lnTo>
                      <a:pt x="526" y="0"/>
                    </a:lnTo>
                    <a:lnTo>
                      <a:pt x="550" y="1"/>
                    </a:lnTo>
                    <a:lnTo>
                      <a:pt x="571" y="5"/>
                    </a:lnTo>
                    <a:lnTo>
                      <a:pt x="589" y="11"/>
                    </a:lnTo>
                    <a:lnTo>
                      <a:pt x="607" y="17"/>
                    </a:lnTo>
                    <a:lnTo>
                      <a:pt x="622" y="27"/>
                    </a:lnTo>
                    <a:lnTo>
                      <a:pt x="635" y="38"/>
                    </a:lnTo>
                    <a:lnTo>
                      <a:pt x="647" y="51"/>
                    </a:lnTo>
                    <a:lnTo>
                      <a:pt x="657" y="65"/>
                    </a:lnTo>
                    <a:lnTo>
                      <a:pt x="666" y="81"/>
                    </a:lnTo>
                    <a:lnTo>
                      <a:pt x="673" y="97"/>
                    </a:lnTo>
                    <a:lnTo>
                      <a:pt x="678" y="115"/>
                    </a:lnTo>
                    <a:lnTo>
                      <a:pt x="684" y="133"/>
                    </a:lnTo>
                    <a:lnTo>
                      <a:pt x="689" y="173"/>
                    </a:lnTo>
                    <a:lnTo>
                      <a:pt x="690" y="215"/>
                    </a:lnTo>
                    <a:lnTo>
                      <a:pt x="690" y="512"/>
                    </a:lnTo>
                    <a:lnTo>
                      <a:pt x="595" y="512"/>
                    </a:lnTo>
                    <a:lnTo>
                      <a:pt x="595" y="230"/>
                    </a:lnTo>
                    <a:lnTo>
                      <a:pt x="595" y="206"/>
                    </a:lnTo>
                    <a:lnTo>
                      <a:pt x="593" y="181"/>
                    </a:lnTo>
                    <a:lnTo>
                      <a:pt x="588" y="157"/>
                    </a:lnTo>
                    <a:lnTo>
                      <a:pt x="580" y="133"/>
                    </a:lnTo>
                    <a:lnTo>
                      <a:pt x="568" y="114"/>
                    </a:lnTo>
                    <a:lnTo>
                      <a:pt x="561" y="106"/>
                    </a:lnTo>
                    <a:lnTo>
                      <a:pt x="552" y="98"/>
                    </a:lnTo>
                    <a:lnTo>
                      <a:pt x="542" y="93"/>
                    </a:lnTo>
                    <a:lnTo>
                      <a:pt x="531" y="88"/>
                    </a:lnTo>
                    <a:lnTo>
                      <a:pt x="517" y="86"/>
                    </a:lnTo>
                    <a:lnTo>
                      <a:pt x="503" y="85"/>
                    </a:lnTo>
                    <a:lnTo>
                      <a:pt x="484" y="86"/>
                    </a:lnTo>
                    <a:lnTo>
                      <a:pt x="469" y="90"/>
                    </a:lnTo>
                    <a:lnTo>
                      <a:pt x="454" y="95"/>
                    </a:lnTo>
                    <a:lnTo>
                      <a:pt x="442" y="103"/>
                    </a:lnTo>
                    <a:lnTo>
                      <a:pt x="432" y="112"/>
                    </a:lnTo>
                    <a:lnTo>
                      <a:pt x="423" y="123"/>
                    </a:lnTo>
                    <a:lnTo>
                      <a:pt x="416" y="135"/>
                    </a:lnTo>
                    <a:lnTo>
                      <a:pt x="409" y="148"/>
                    </a:lnTo>
                    <a:lnTo>
                      <a:pt x="401" y="176"/>
                    </a:lnTo>
                    <a:lnTo>
                      <a:pt x="396" y="207"/>
                    </a:lnTo>
                    <a:lnTo>
                      <a:pt x="394" y="238"/>
                    </a:lnTo>
                    <a:lnTo>
                      <a:pt x="393" y="267"/>
                    </a:lnTo>
                    <a:lnTo>
                      <a:pt x="393" y="512"/>
                    </a:lnTo>
                    <a:lnTo>
                      <a:pt x="297" y="512"/>
                    </a:lnTo>
                    <a:lnTo>
                      <a:pt x="297" y="249"/>
                    </a:lnTo>
                    <a:lnTo>
                      <a:pt x="297" y="224"/>
                    </a:lnTo>
                    <a:lnTo>
                      <a:pt x="295" y="196"/>
                    </a:lnTo>
                    <a:lnTo>
                      <a:pt x="292" y="169"/>
                    </a:lnTo>
                    <a:lnTo>
                      <a:pt x="285" y="142"/>
                    </a:lnTo>
                    <a:lnTo>
                      <a:pt x="280" y="130"/>
                    </a:lnTo>
                    <a:lnTo>
                      <a:pt x="273" y="119"/>
                    </a:lnTo>
                    <a:lnTo>
                      <a:pt x="267" y="110"/>
                    </a:lnTo>
                    <a:lnTo>
                      <a:pt x="258" y="102"/>
                    </a:lnTo>
                    <a:lnTo>
                      <a:pt x="247" y="95"/>
                    </a:lnTo>
                    <a:lnTo>
                      <a:pt x="235" y="90"/>
                    </a:lnTo>
                    <a:lnTo>
                      <a:pt x="222" y="86"/>
                    </a:lnTo>
                    <a:lnTo>
                      <a:pt x="206" y="85"/>
                    </a:lnTo>
                    <a:lnTo>
                      <a:pt x="188" y="86"/>
                    </a:lnTo>
                    <a:lnTo>
                      <a:pt x="172" y="90"/>
                    </a:lnTo>
                    <a:lnTo>
                      <a:pt x="158" y="95"/>
                    </a:lnTo>
                    <a:lnTo>
                      <a:pt x="146" y="103"/>
                    </a:lnTo>
                    <a:lnTo>
                      <a:pt x="135" y="112"/>
                    </a:lnTo>
                    <a:lnTo>
                      <a:pt x="126" y="123"/>
                    </a:lnTo>
                    <a:lnTo>
                      <a:pt x="119" y="135"/>
                    </a:lnTo>
                    <a:lnTo>
                      <a:pt x="113" y="148"/>
                    </a:lnTo>
                    <a:lnTo>
                      <a:pt x="103" y="176"/>
                    </a:lnTo>
                    <a:lnTo>
                      <a:pt x="99" y="207"/>
                    </a:lnTo>
                    <a:lnTo>
                      <a:pt x="97" y="238"/>
                    </a:lnTo>
                    <a:lnTo>
                      <a:pt x="96" y="267"/>
                    </a:lnTo>
                    <a:lnTo>
                      <a:pt x="96" y="512"/>
                    </a:lnTo>
                    <a:lnTo>
                      <a:pt x="0" y="512"/>
                    </a:lnTo>
                    <a:lnTo>
                      <a:pt x="0" y="15"/>
                    </a:lnTo>
                    <a:lnTo>
                      <a:pt x="96" y="15"/>
                    </a:lnTo>
                    <a:lnTo>
                      <a:pt x="96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804240" y="1022400"/>
                <a:ext cx="9082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a-DK" sz="600" spc="-1" strike="noStrike">
                    <a:solidFill>
                      <a:srgbClr val="ffffff"/>
                    </a:solidFill>
                    <a:latin typeface="Futura Bk BT"/>
                  </a:rPr>
                  <a:t>www.kirktelecom.dk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8" name=""/>
          <p:cNvSpPr/>
          <p:nvPr/>
        </p:nvSpPr>
        <p:spPr>
          <a:xfrm>
            <a:off x="2209680" y="514440"/>
            <a:ext cx="7236000" cy="3240"/>
          </a:xfrm>
          <a:prstGeom prst="line">
            <a:avLst/>
          </a:prstGeom>
          <a:ln cap="sq"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63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стирование террит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57360" y="1504800"/>
            <a:ext cx="720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ход в тестовый режим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: *99989* 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N: 04  11  02               N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мер базовой станции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- H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R: 52  48  38               R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S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A  64   96   6 9 C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ктивная базовая стан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RFP number-------HEX A=10d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Q-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RSSI-value---------dB 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Freq----------------- 0 -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Time slot----------- 0 -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Type of handover--B - Bear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C -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D - Id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76600" y="278136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00440" y="3619440"/>
            <a:ext cx="1923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3886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505320" y="41529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48040" y="4457880"/>
            <a:ext cx="87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19400" y="4716360"/>
            <a:ext cx="704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191120" y="5010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191120" y="306684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4019400" y="3066840"/>
            <a:ext cx="0" cy="164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48040" y="3067200"/>
            <a:ext cx="0" cy="139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05320" y="3067200"/>
            <a:ext cx="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24080" y="3067200"/>
            <a:ext cx="0" cy="81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800440" y="3067200"/>
            <a:ext cx="0" cy="59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666880" y="2055960"/>
            <a:ext cx="1676520" cy="101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76600" y="251460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76600" y="226692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57360" y="5224320"/>
            <a:ext cx="22669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914560" y="5376960"/>
            <a:ext cx="2438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1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2      RRSI </a:t>
            </a:r>
            <a:r>
              <a:rPr b="1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663C-8B9F-4AB2-B088-6A482C125C95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3T10:07:32Z</dcterms:created>
  <dc:creator>KIRK telecom A/S</dc:creator>
  <dc:description/>
  <dc:language>en-US</dc:language>
  <cp:lastModifiedBy>Маслов</cp:lastModifiedBy>
  <dcterms:modified xsi:type="dcterms:W3CDTF">2001-08-07T06:00:27Z</dcterms:modified>
  <cp:revision>31</cp:revision>
  <dc:subject/>
  <dc:title>Ingen diastitel</dc:title>
</cp:coreProperties>
</file>